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jpeg" ContentType="image/jpeg"/>
  <Override PartName="/ppt/media/image9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A48A3-0BCE-48EC-96C0-81753D09776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BB56-1F15-4136-B31F-BDD3C8AFC8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DDE8-418E-47EC-9186-D309B7022ED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5743-7E8A-4FFD-9B68-3E30394F513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4F17-A5E9-4B29-933C-FE190C0466C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FBC8B-04F0-4454-AD46-5068CAAF32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C60F-7A4B-416F-A531-0270E5CFA5C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61E8-826C-4464-8424-66D39E37555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0C3B2-4BD2-42D7-A184-2B135F9B7C29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9AC8A-3A62-4733-BC75-3C8380D8C3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Times New Roman"/>
              <a:ea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B471-5ABA-4B7F-9399-14A6C90F8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C99D-5D33-4A9A-B608-4E22FA49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4DA4A-DAEE-42AE-B806-F6B409B85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D618-14CE-4E6F-BE13-63FB10F5C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0810-1867-4BD6-823F-136021B41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3488-4538-4770-8D49-42A8F5071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34768-BD51-4D37-9DB0-98D2AA554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C593-A19F-4749-A9A5-2B87F558F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E249-7996-4A88-80B4-F5952D1CC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3558-9E22-4466-A614-AD933FD26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E5FE7-8E68-4C71-A649-20E86F260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5F8C-73D8-4266-A462-4FE127CB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DBB96-5925-4F1C-8FD4-93BF7F17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9AF90-CDD9-4B0F-A956-2E9C839C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6A74-BD1A-4DDB-8E12-5F7DEA7FD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FA7F-79FF-4820-933B-D14E9348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FA8AD-8702-4493-8979-41181814E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0EF8-4B57-4F05-BB5B-43F0CE61F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43CE9-EFF2-45C3-AF3E-8335B996C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1BB9-2D27-400F-9980-EA624CAB6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AFC6-406E-4406-AE4B-51F742681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D921-E3C6-4E5E-BD32-1C66FBFD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DFE-11D2-4387-9048-B077D5577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A159-8411-4EC0-8D49-C6ED1A41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1EA23-0A04-4137-AFD9-583F670698C5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paint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paint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5e574e"/>
                </a:solidFill>
                <a:latin typeface="Arial"/>
                <a:ea typeface="굴림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A10A-050F-494F-8F80-6F984F0ECDDA}" type="slidenum">
              <a:rPr b="0" lang="ko-KR" sz="1400" spc="-1" strike="noStrike">
                <a:solidFill>
                  <a:srgbClr val="5e574e"/>
                </a:solidFill>
                <a:latin typeface="Arial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0280" y="404280"/>
            <a:ext cx="7696440" cy="1441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Ion Chromatography</a:t>
            </a: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의</a:t>
            </a:r>
            <a:br>
              <a:rPr sz="4000"/>
            </a:br>
            <a:r>
              <a:rPr b="1" lang="ko-KR" sz="4000" spc="-1" strike="noStrike">
                <a:solidFill>
                  <a:srgbClr val="000000"/>
                </a:solidFill>
                <a:latin typeface="Arial Rounded MT Bold"/>
                <a:ea typeface="HY중고딕"/>
              </a:rPr>
              <a:t>원리와 응용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3496680" y="5270400"/>
            <a:ext cx="20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 Rounded MT Bold"/>
                <a:ea typeface="굴림"/>
              </a:rPr>
              <a:t>대구대학교 환경공학과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3" name="Picture 8" descr="Dionex logo"/>
          <p:cNvPicPr/>
          <p:nvPr/>
        </p:nvPicPr>
        <p:blipFill>
          <a:blip r:embed="rId1"/>
          <a:stretch/>
        </p:blipFill>
        <p:spPr>
          <a:xfrm>
            <a:off x="2627280" y="2462040"/>
            <a:ext cx="380988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42"/>
          <p:cNvSpPr/>
          <p:nvPr/>
        </p:nvSpPr>
        <p:spPr>
          <a:xfrm>
            <a:off x="1965240" y="2867040"/>
            <a:ext cx="31608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" name="Rectangle 43"/>
          <p:cNvSpPr/>
          <p:nvPr/>
        </p:nvSpPr>
        <p:spPr>
          <a:xfrm>
            <a:off x="2400480" y="2863800"/>
            <a:ext cx="31572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Rectangle 44"/>
          <p:cNvSpPr/>
          <p:nvPr/>
        </p:nvSpPr>
        <p:spPr>
          <a:xfrm>
            <a:off x="2828880" y="2863800"/>
            <a:ext cx="316080" cy="43200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1533600" y="2867040"/>
            <a:ext cx="315720" cy="431640"/>
          </a:xfrm>
          <a:prstGeom prst="rect">
            <a:avLst/>
          </a:prstGeom>
          <a:solidFill>
            <a:srgbClr val="c0c0c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Rectangle 34"/>
          <p:cNvSpPr/>
          <p:nvPr/>
        </p:nvSpPr>
        <p:spPr>
          <a:xfrm>
            <a:off x="1481040" y="4245120"/>
            <a:ext cx="719280" cy="86328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Rectangle 39"/>
          <p:cNvSpPr/>
          <p:nvPr/>
        </p:nvSpPr>
        <p:spPr>
          <a:xfrm>
            <a:off x="1697040" y="4451400"/>
            <a:ext cx="287280" cy="531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시스템의 구성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417" name="Group 15"/>
          <p:cNvGrpSpPr/>
          <p:nvPr/>
        </p:nvGrpSpPr>
        <p:grpSpPr>
          <a:xfrm>
            <a:off x="1481040" y="2587680"/>
            <a:ext cx="403200" cy="705960"/>
            <a:chOff x="1481040" y="2587680"/>
            <a:chExt cx="403200" cy="705960"/>
          </a:xfrm>
        </p:grpSpPr>
        <p:sp>
          <p:nvSpPr>
            <p:cNvPr id="418" name="Rectangle 8"/>
            <p:cNvSpPr/>
            <p:nvPr/>
          </p:nvSpPr>
          <p:spPr>
            <a:xfrm>
              <a:off x="1515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" name="Rectangle 10"/>
            <p:cNvSpPr/>
            <p:nvPr/>
          </p:nvSpPr>
          <p:spPr>
            <a:xfrm>
              <a:off x="1481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" name="Line 11"/>
            <p:cNvSpPr/>
            <p:nvPr/>
          </p:nvSpPr>
          <p:spPr>
            <a:xfrm flipV="1">
              <a:off x="1511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" name="Line 12"/>
            <p:cNvSpPr/>
            <p:nvPr/>
          </p:nvSpPr>
          <p:spPr>
            <a:xfrm flipH="1" flipV="1">
              <a:off x="1746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" name="Rectangle 14"/>
            <p:cNvSpPr/>
            <p:nvPr/>
          </p:nvSpPr>
          <p:spPr>
            <a:xfrm>
              <a:off x="1581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" name="Group 16"/>
          <p:cNvGrpSpPr/>
          <p:nvPr/>
        </p:nvGrpSpPr>
        <p:grpSpPr>
          <a:xfrm>
            <a:off x="1913040" y="2587680"/>
            <a:ext cx="403200" cy="705960"/>
            <a:chOff x="1913040" y="2587680"/>
            <a:chExt cx="403200" cy="705960"/>
          </a:xfrm>
        </p:grpSpPr>
        <p:sp>
          <p:nvSpPr>
            <p:cNvPr id="424" name="Rectangle 17"/>
            <p:cNvSpPr/>
            <p:nvPr/>
          </p:nvSpPr>
          <p:spPr>
            <a:xfrm>
              <a:off x="194796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" name="Rectangle 18"/>
            <p:cNvSpPr/>
            <p:nvPr/>
          </p:nvSpPr>
          <p:spPr>
            <a:xfrm>
              <a:off x="191304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" name="Line 19"/>
            <p:cNvSpPr/>
            <p:nvPr/>
          </p:nvSpPr>
          <p:spPr>
            <a:xfrm flipV="1">
              <a:off x="194328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" name="Line 20"/>
            <p:cNvSpPr/>
            <p:nvPr/>
          </p:nvSpPr>
          <p:spPr>
            <a:xfrm flipH="1" flipV="1">
              <a:off x="217836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" name="Rectangle 21"/>
            <p:cNvSpPr/>
            <p:nvPr/>
          </p:nvSpPr>
          <p:spPr>
            <a:xfrm>
              <a:off x="201312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" name="Group 22"/>
          <p:cNvGrpSpPr/>
          <p:nvPr/>
        </p:nvGrpSpPr>
        <p:grpSpPr>
          <a:xfrm>
            <a:off x="2344680" y="2587680"/>
            <a:ext cx="403200" cy="705960"/>
            <a:chOff x="2344680" y="2587680"/>
            <a:chExt cx="403200" cy="705960"/>
          </a:xfrm>
        </p:grpSpPr>
        <p:sp>
          <p:nvSpPr>
            <p:cNvPr id="430" name="Rectangle 23"/>
            <p:cNvSpPr/>
            <p:nvPr/>
          </p:nvSpPr>
          <p:spPr>
            <a:xfrm>
              <a:off x="2379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1" name="Rectangle 24"/>
            <p:cNvSpPr/>
            <p:nvPr/>
          </p:nvSpPr>
          <p:spPr>
            <a:xfrm>
              <a:off x="2344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" name="Line 25"/>
            <p:cNvSpPr/>
            <p:nvPr/>
          </p:nvSpPr>
          <p:spPr>
            <a:xfrm flipV="1">
              <a:off x="2374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" name="Line 26"/>
            <p:cNvSpPr/>
            <p:nvPr/>
          </p:nvSpPr>
          <p:spPr>
            <a:xfrm flipH="1" flipV="1">
              <a:off x="2610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" name="Rectangle 27"/>
            <p:cNvSpPr/>
            <p:nvPr/>
          </p:nvSpPr>
          <p:spPr>
            <a:xfrm>
              <a:off x="2444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5" name="Group 28"/>
          <p:cNvGrpSpPr/>
          <p:nvPr/>
        </p:nvGrpSpPr>
        <p:grpSpPr>
          <a:xfrm>
            <a:off x="2776680" y="2587680"/>
            <a:ext cx="403200" cy="705960"/>
            <a:chOff x="2776680" y="2587680"/>
            <a:chExt cx="403200" cy="705960"/>
          </a:xfrm>
        </p:grpSpPr>
        <p:sp>
          <p:nvSpPr>
            <p:cNvPr id="436" name="Rectangle 29"/>
            <p:cNvSpPr/>
            <p:nvPr/>
          </p:nvSpPr>
          <p:spPr>
            <a:xfrm>
              <a:off x="2811600" y="2766960"/>
              <a:ext cx="346320" cy="5266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" name="Rectangle 30"/>
            <p:cNvSpPr/>
            <p:nvPr/>
          </p:nvSpPr>
          <p:spPr>
            <a:xfrm>
              <a:off x="2776680" y="2725560"/>
              <a:ext cx="403200" cy="56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080" bIns="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" name="Line 31"/>
            <p:cNvSpPr/>
            <p:nvPr/>
          </p:nvSpPr>
          <p:spPr>
            <a:xfrm flipV="1">
              <a:off x="2806920" y="2674440"/>
              <a:ext cx="12384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" name="Line 32"/>
            <p:cNvSpPr/>
            <p:nvPr/>
          </p:nvSpPr>
          <p:spPr>
            <a:xfrm flipH="1" flipV="1">
              <a:off x="3042000" y="2674440"/>
              <a:ext cx="115920" cy="115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" name="Rectangle 33"/>
            <p:cNvSpPr/>
            <p:nvPr/>
          </p:nvSpPr>
          <p:spPr>
            <a:xfrm>
              <a:off x="2876760" y="2587680"/>
              <a:ext cx="216000" cy="144360"/>
            </a:xfrm>
            <a:prstGeom prst="rect">
              <a:avLst/>
            </a:prstGeom>
            <a:solidFill>
              <a:srgbClr val="c0c0c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1" name="Oval 35"/>
          <p:cNvSpPr/>
          <p:nvPr/>
        </p:nvSpPr>
        <p:spPr>
          <a:xfrm>
            <a:off x="1768320" y="4378320"/>
            <a:ext cx="144720" cy="144360"/>
          </a:xfrm>
          <a:prstGeom prst="ellipse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" name="Oval 36"/>
          <p:cNvSpPr/>
          <p:nvPr/>
        </p:nvSpPr>
        <p:spPr>
          <a:xfrm>
            <a:off x="1647720" y="4748040"/>
            <a:ext cx="14472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Oval 37"/>
          <p:cNvSpPr/>
          <p:nvPr/>
        </p:nvSpPr>
        <p:spPr>
          <a:xfrm>
            <a:off x="1889280" y="4748040"/>
            <a:ext cx="144360" cy="144720"/>
          </a:xfrm>
          <a:prstGeom prst="ellipse">
            <a:avLst/>
          </a:prstGeom>
          <a:solidFill>
            <a:srgbClr val="ff66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Line 40"/>
          <p:cNvSpPr/>
          <p:nvPr/>
        </p:nvSpPr>
        <p:spPr>
          <a:xfrm>
            <a:off x="1768320" y="4964040"/>
            <a:ext cx="144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5" name="Line 45"/>
          <p:cNvSpPr/>
          <p:nvPr/>
        </p:nvSpPr>
        <p:spPr>
          <a:xfrm flipV="1">
            <a:off x="168768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" name="Line 46"/>
          <p:cNvSpPr/>
          <p:nvPr/>
        </p:nvSpPr>
        <p:spPr>
          <a:xfrm flipV="1">
            <a:off x="2119320" y="237132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Line 47"/>
          <p:cNvSpPr/>
          <p:nvPr/>
        </p:nvSpPr>
        <p:spPr>
          <a:xfrm flipV="1">
            <a:off x="256068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Line 48"/>
          <p:cNvSpPr/>
          <p:nvPr/>
        </p:nvSpPr>
        <p:spPr>
          <a:xfrm flipV="1">
            <a:off x="2992320" y="236808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" name="Line 49"/>
          <p:cNvSpPr/>
          <p:nvPr/>
        </p:nvSpPr>
        <p:spPr>
          <a:xfrm>
            <a:off x="981000" y="2376360"/>
            <a:ext cx="201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0" name="Line 50"/>
          <p:cNvSpPr/>
          <p:nvPr/>
        </p:nvSpPr>
        <p:spPr>
          <a:xfrm flipV="1">
            <a:off x="976320" y="2381400"/>
            <a:ext cx="9360" cy="301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Line 51"/>
          <p:cNvSpPr/>
          <p:nvPr/>
        </p:nvSpPr>
        <p:spPr>
          <a:xfrm>
            <a:off x="971640" y="5391000"/>
            <a:ext cx="863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2" name="Line 52"/>
          <p:cNvSpPr/>
          <p:nvPr/>
        </p:nvSpPr>
        <p:spPr>
          <a:xfrm flipV="1">
            <a:off x="1836720" y="4954680"/>
            <a:ext cx="4680" cy="444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3" name="Oval 53"/>
          <p:cNvSpPr/>
          <p:nvPr/>
        </p:nvSpPr>
        <p:spPr>
          <a:xfrm>
            <a:off x="2847960" y="4316400"/>
            <a:ext cx="360360" cy="3603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Line 54"/>
          <p:cNvSpPr/>
          <p:nvPr/>
        </p:nvSpPr>
        <p:spPr>
          <a:xfrm>
            <a:off x="1839960" y="4387680"/>
            <a:ext cx="1152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Line 55"/>
          <p:cNvSpPr/>
          <p:nvPr/>
        </p:nvSpPr>
        <p:spPr>
          <a:xfrm>
            <a:off x="3063960" y="4603680"/>
            <a:ext cx="4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AutoShape 56"/>
          <p:cNvSpPr/>
          <p:nvPr/>
        </p:nvSpPr>
        <p:spPr>
          <a:xfrm>
            <a:off x="3497400" y="4532400"/>
            <a:ext cx="43164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" name="AutoShape 58"/>
          <p:cNvSpPr/>
          <p:nvPr/>
        </p:nvSpPr>
        <p:spPr>
          <a:xfrm>
            <a:off x="355752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" name="AutoShape 59"/>
          <p:cNvSpPr/>
          <p:nvPr/>
        </p:nvSpPr>
        <p:spPr>
          <a:xfrm>
            <a:off x="3814920" y="4479840"/>
            <a:ext cx="56880" cy="241560"/>
          </a:xfrm>
          <a:custGeom>
            <a:avLst/>
            <a:gdLst>
              <a:gd name="textAreaLeft" fmla="*/ 2520 w 56880"/>
              <a:gd name="textAreaRight" fmla="*/ 54360 w 56880"/>
              <a:gd name="textAreaTop" fmla="*/ 2520 h 241560"/>
              <a:gd name="textAreaBottom" fmla="*/ 239040 h 241560"/>
            </a:gdLst>
            <a:ahLst/>
            <a:rect l="textAreaLeft" t="textAreaTop" r="textAreaRight" b="textAreaBottom"/>
            <a:pathLst>
              <a:path w="21600" h="91291">
                <a:moveTo>
                  <a:pt x="3600" y="0"/>
                </a:moveTo>
                <a:arcTo wR="3600" hR="3600" stAng="16200000" swAng="-5400000"/>
                <a:lnTo>
                  <a:pt x="0" y="87691"/>
                </a:lnTo>
                <a:arcTo wR="3600" hR="3600" stAng="10800000" swAng="-5400000"/>
                <a:lnTo>
                  <a:pt x="18000" y="9129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AutoShape 60"/>
          <p:cNvSpPr/>
          <p:nvPr/>
        </p:nvSpPr>
        <p:spPr>
          <a:xfrm>
            <a:off x="4289400" y="4532400"/>
            <a:ext cx="1295280" cy="144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AutoShape 61"/>
          <p:cNvSpPr/>
          <p:nvPr/>
        </p:nvSpPr>
        <p:spPr>
          <a:xfrm>
            <a:off x="4363920" y="448164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AutoShape 62"/>
          <p:cNvSpPr/>
          <p:nvPr/>
        </p:nvSpPr>
        <p:spPr>
          <a:xfrm>
            <a:off x="5456160" y="4478400"/>
            <a:ext cx="57240" cy="241200"/>
          </a:xfrm>
          <a:custGeom>
            <a:avLst/>
            <a:gdLst>
              <a:gd name="textAreaLeft" fmla="*/ 2520 w 57240"/>
              <a:gd name="textAreaRight" fmla="*/ 54720 w 57240"/>
              <a:gd name="textAreaTop" fmla="*/ 2520 h 241200"/>
              <a:gd name="textAreaBottom" fmla="*/ 238680 h 241200"/>
            </a:gdLst>
            <a:ahLst/>
            <a:rect l="textAreaLeft" t="textAreaTop" r="textAreaRight" b="textAreaBottom"/>
            <a:pathLst>
              <a:path w="21600" h="90585">
                <a:moveTo>
                  <a:pt x="3600" y="0"/>
                </a:moveTo>
                <a:arcTo wR="3600" hR="3600" stAng="16200000" swAng="-5400000"/>
                <a:lnTo>
                  <a:pt x="0" y="86985"/>
                </a:lnTo>
                <a:arcTo wR="3600" hR="3600" stAng="10800000" swAng="-5400000"/>
                <a:lnTo>
                  <a:pt x="18000" y="9058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6666ff"/>
              </a:gs>
              <a:gs pos="50000">
                <a:srgbClr val="ffffff"/>
              </a:gs>
              <a:gs pos="100000">
                <a:srgbClr val="6666ff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Line 63"/>
          <p:cNvSpPr/>
          <p:nvPr/>
        </p:nvSpPr>
        <p:spPr>
          <a:xfrm>
            <a:off x="39290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Line 64"/>
          <p:cNvSpPr/>
          <p:nvPr/>
        </p:nvSpPr>
        <p:spPr>
          <a:xfrm>
            <a:off x="558468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" name="Line 65"/>
          <p:cNvSpPr/>
          <p:nvPr/>
        </p:nvSpPr>
        <p:spPr>
          <a:xfrm>
            <a:off x="5938920" y="4597560"/>
            <a:ext cx="1440" cy="95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5" name="Rectangle 66"/>
          <p:cNvSpPr/>
          <p:nvPr/>
        </p:nvSpPr>
        <p:spPr>
          <a:xfrm>
            <a:off x="5580000" y="5540400"/>
            <a:ext cx="1224000" cy="360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cc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" name="Line 68"/>
          <p:cNvSpPr/>
          <p:nvPr/>
        </p:nvSpPr>
        <p:spPr>
          <a:xfrm>
            <a:off x="6448320" y="4599000"/>
            <a:ext cx="1800" cy="952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7" name="Line 69"/>
          <p:cNvSpPr/>
          <p:nvPr/>
        </p:nvSpPr>
        <p:spPr>
          <a:xfrm>
            <a:off x="6443640" y="4603680"/>
            <a:ext cx="360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8" name="Oval 70"/>
          <p:cNvSpPr/>
          <p:nvPr/>
        </p:nvSpPr>
        <p:spPr>
          <a:xfrm>
            <a:off x="6789600" y="4456080"/>
            <a:ext cx="289080" cy="287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c0c0c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9" name="Line 71"/>
          <p:cNvSpPr/>
          <p:nvPr/>
        </p:nvSpPr>
        <p:spPr>
          <a:xfrm>
            <a:off x="6808680" y="453240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Line 72"/>
          <p:cNvSpPr/>
          <p:nvPr/>
        </p:nvSpPr>
        <p:spPr>
          <a:xfrm>
            <a:off x="6815160" y="4657680"/>
            <a:ext cx="255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1" name="Line 73"/>
          <p:cNvSpPr/>
          <p:nvPr/>
        </p:nvSpPr>
        <p:spPr>
          <a:xfrm>
            <a:off x="7078680" y="460368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2" name="Rectangle 74"/>
          <p:cNvSpPr/>
          <p:nvPr/>
        </p:nvSpPr>
        <p:spPr>
          <a:xfrm>
            <a:off x="7745400" y="4416480"/>
            <a:ext cx="431640" cy="360360"/>
          </a:xfrm>
          <a:prstGeom prst="rect">
            <a:avLst/>
          </a:prstGeom>
          <a:solidFill>
            <a:srgbClr val="99cc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AutoShape 81"/>
          <p:cNvSpPr/>
          <p:nvPr/>
        </p:nvSpPr>
        <p:spPr>
          <a:xfrm>
            <a:off x="8399520" y="4159080"/>
            <a:ext cx="287280" cy="432000"/>
          </a:xfrm>
          <a:prstGeom prst="upArrow">
            <a:avLst>
              <a:gd name="adj1" fmla="val 50278"/>
              <a:gd name="adj2" fmla="val 54177"/>
            </a:avLst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" name="Rectangle 85"/>
          <p:cNvSpPr/>
          <p:nvPr/>
        </p:nvSpPr>
        <p:spPr>
          <a:xfrm>
            <a:off x="8255160" y="4532400"/>
            <a:ext cx="360360" cy="131760"/>
          </a:xfrm>
          <a:prstGeom prst="rect">
            <a:avLst/>
          </a:pr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" name="Text Box 86"/>
          <p:cNvSpPr/>
          <p:nvPr/>
        </p:nvSpPr>
        <p:spPr>
          <a:xfrm>
            <a:off x="1766880" y="1989000"/>
            <a:ext cx="82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" name="Text Box 87"/>
          <p:cNvSpPr/>
          <p:nvPr/>
        </p:nvSpPr>
        <p:spPr>
          <a:xfrm>
            <a:off x="1476720" y="5397480"/>
            <a:ext cx="76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" name="Text Box 88"/>
          <p:cNvSpPr/>
          <p:nvPr/>
        </p:nvSpPr>
        <p:spPr>
          <a:xfrm>
            <a:off x="2434680" y="4672080"/>
            <a:ext cx="107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8" name="Line 89"/>
          <p:cNvSpPr/>
          <p:nvPr/>
        </p:nvSpPr>
        <p:spPr>
          <a:xfrm flipV="1">
            <a:off x="2787480" y="4544640"/>
            <a:ext cx="17640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Line 90"/>
          <p:cNvSpPr/>
          <p:nvPr/>
        </p:nvSpPr>
        <p:spPr>
          <a:xfrm flipV="1">
            <a:off x="3079800" y="4303440"/>
            <a:ext cx="176040" cy="14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" name="Line 91"/>
          <p:cNvSpPr/>
          <p:nvPr/>
        </p:nvSpPr>
        <p:spPr>
          <a:xfrm>
            <a:off x="2685960" y="456264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Line 92"/>
          <p:cNvSpPr/>
          <p:nvPr/>
        </p:nvSpPr>
        <p:spPr>
          <a:xfrm>
            <a:off x="3146400" y="4187880"/>
            <a:ext cx="112680" cy="1252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Line 93"/>
          <p:cNvSpPr/>
          <p:nvPr/>
        </p:nvSpPr>
        <p:spPr>
          <a:xfrm>
            <a:off x="2651040" y="4321080"/>
            <a:ext cx="36720" cy="246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Line 94"/>
          <p:cNvSpPr/>
          <p:nvPr/>
        </p:nvSpPr>
        <p:spPr>
          <a:xfrm flipH="1" flipV="1">
            <a:off x="2911320" y="4113360"/>
            <a:ext cx="239760" cy="777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" name="Line 95"/>
          <p:cNvSpPr/>
          <p:nvPr/>
        </p:nvSpPr>
        <p:spPr>
          <a:xfrm flipV="1">
            <a:off x="2647800" y="4113000"/>
            <a:ext cx="273240" cy="2142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5" name="Text Box 96"/>
          <p:cNvSpPr/>
          <p:nvPr/>
        </p:nvSpPr>
        <p:spPr>
          <a:xfrm>
            <a:off x="3258000" y="3821040"/>
            <a:ext cx="96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6" name="Text Box 97"/>
          <p:cNvSpPr/>
          <p:nvPr/>
        </p:nvSpPr>
        <p:spPr>
          <a:xfrm>
            <a:off x="4314960" y="4703760"/>
            <a:ext cx="128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Text Box 100"/>
          <p:cNvSpPr/>
          <p:nvPr/>
        </p:nvSpPr>
        <p:spPr>
          <a:xfrm>
            <a:off x="6411240" y="4726080"/>
            <a:ext cx="106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Text Box 101"/>
          <p:cNvSpPr/>
          <p:nvPr/>
        </p:nvSpPr>
        <p:spPr>
          <a:xfrm>
            <a:off x="7525800" y="4748040"/>
            <a:ext cx="106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Rectangle 103"/>
          <p:cNvSpPr/>
          <p:nvPr/>
        </p:nvSpPr>
        <p:spPr>
          <a:xfrm>
            <a:off x="4788000" y="1724040"/>
            <a:ext cx="3882960" cy="23367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0" name="Freeform 104"/>
          <p:cNvSpPr/>
          <p:nvPr/>
        </p:nvSpPr>
        <p:spPr>
          <a:xfrm>
            <a:off x="4932360" y="2549520"/>
            <a:ext cx="3679920" cy="1414440"/>
          </a:xfrm>
          <a:custGeom>
            <a:avLst/>
            <a:gdLst>
              <a:gd name="textAreaLeft" fmla="*/ 0 w 3679920"/>
              <a:gd name="textAreaRight" fmla="*/ 3680280 w 3679920"/>
              <a:gd name="textAreaTop" fmla="*/ 0 h 1414440"/>
              <a:gd name="textAreaBottom" fmla="*/ 1414800 h 1414440"/>
            </a:gdLst>
            <a:ahLst/>
            <a:rect l="textAreaLeft" t="textAreaTop" r="textAreaRight" b="textAreaBottom"/>
            <a:pathLst>
              <a:path w="2733" h="1395">
                <a:moveTo>
                  <a:pt x="0" y="1364"/>
                </a:moveTo>
                <a:lnTo>
                  <a:pt x="0" y="1364"/>
                </a:lnTo>
                <a:lnTo>
                  <a:pt x="3" y="1364"/>
                </a:lnTo>
                <a:lnTo>
                  <a:pt x="5" y="1364"/>
                </a:lnTo>
                <a:lnTo>
                  <a:pt x="8" y="1364"/>
                </a:lnTo>
                <a:lnTo>
                  <a:pt x="11" y="1364"/>
                </a:lnTo>
                <a:lnTo>
                  <a:pt x="13" y="1364"/>
                </a:lnTo>
                <a:lnTo>
                  <a:pt x="16" y="1364"/>
                </a:lnTo>
                <a:lnTo>
                  <a:pt x="18" y="1364"/>
                </a:lnTo>
                <a:lnTo>
                  <a:pt x="21" y="1364"/>
                </a:lnTo>
                <a:lnTo>
                  <a:pt x="23" y="1364"/>
                </a:lnTo>
                <a:lnTo>
                  <a:pt x="27" y="1364"/>
                </a:lnTo>
                <a:lnTo>
                  <a:pt x="29" y="1364"/>
                </a:lnTo>
                <a:lnTo>
                  <a:pt x="31" y="1364"/>
                </a:lnTo>
                <a:lnTo>
                  <a:pt x="35" y="1364"/>
                </a:lnTo>
                <a:lnTo>
                  <a:pt x="36" y="1366"/>
                </a:lnTo>
                <a:lnTo>
                  <a:pt x="39" y="1366"/>
                </a:lnTo>
                <a:lnTo>
                  <a:pt x="41" y="1366"/>
                </a:lnTo>
                <a:lnTo>
                  <a:pt x="45" y="1366"/>
                </a:lnTo>
                <a:lnTo>
                  <a:pt x="46" y="1366"/>
                </a:lnTo>
                <a:lnTo>
                  <a:pt x="49" y="1366"/>
                </a:lnTo>
                <a:lnTo>
                  <a:pt x="53" y="1366"/>
                </a:lnTo>
                <a:lnTo>
                  <a:pt x="54" y="1366"/>
                </a:lnTo>
                <a:lnTo>
                  <a:pt x="58" y="1366"/>
                </a:lnTo>
                <a:lnTo>
                  <a:pt x="59" y="1366"/>
                </a:lnTo>
                <a:lnTo>
                  <a:pt x="63" y="1366"/>
                </a:lnTo>
                <a:lnTo>
                  <a:pt x="64" y="1366"/>
                </a:lnTo>
                <a:lnTo>
                  <a:pt x="68" y="1366"/>
                </a:lnTo>
                <a:lnTo>
                  <a:pt x="71" y="1366"/>
                </a:lnTo>
                <a:lnTo>
                  <a:pt x="72" y="1366"/>
                </a:lnTo>
                <a:lnTo>
                  <a:pt x="76" y="1366"/>
                </a:lnTo>
                <a:lnTo>
                  <a:pt x="78" y="1366"/>
                </a:lnTo>
                <a:lnTo>
                  <a:pt x="81" y="1366"/>
                </a:lnTo>
                <a:lnTo>
                  <a:pt x="82" y="1366"/>
                </a:lnTo>
                <a:lnTo>
                  <a:pt x="86" y="1366"/>
                </a:lnTo>
                <a:lnTo>
                  <a:pt x="90" y="1366"/>
                </a:lnTo>
                <a:lnTo>
                  <a:pt x="91" y="1366"/>
                </a:lnTo>
                <a:lnTo>
                  <a:pt x="94" y="1366"/>
                </a:lnTo>
                <a:lnTo>
                  <a:pt x="96" y="1366"/>
                </a:lnTo>
                <a:lnTo>
                  <a:pt x="99" y="1366"/>
                </a:lnTo>
                <a:lnTo>
                  <a:pt x="101" y="1366"/>
                </a:lnTo>
                <a:lnTo>
                  <a:pt x="104" y="1366"/>
                </a:lnTo>
                <a:lnTo>
                  <a:pt x="108" y="1366"/>
                </a:lnTo>
                <a:lnTo>
                  <a:pt x="109" y="1366"/>
                </a:lnTo>
                <a:lnTo>
                  <a:pt x="112" y="1366"/>
                </a:lnTo>
                <a:lnTo>
                  <a:pt x="114" y="1366"/>
                </a:lnTo>
                <a:lnTo>
                  <a:pt x="117" y="1366"/>
                </a:lnTo>
                <a:lnTo>
                  <a:pt x="119" y="1366"/>
                </a:lnTo>
                <a:lnTo>
                  <a:pt x="123" y="1366"/>
                </a:lnTo>
                <a:lnTo>
                  <a:pt x="124" y="1366"/>
                </a:lnTo>
                <a:lnTo>
                  <a:pt x="127" y="1366"/>
                </a:lnTo>
                <a:lnTo>
                  <a:pt x="131" y="1366"/>
                </a:lnTo>
                <a:lnTo>
                  <a:pt x="133" y="1366"/>
                </a:lnTo>
                <a:lnTo>
                  <a:pt x="135" y="1366"/>
                </a:lnTo>
                <a:lnTo>
                  <a:pt x="137" y="1366"/>
                </a:lnTo>
                <a:lnTo>
                  <a:pt x="141" y="1366"/>
                </a:lnTo>
                <a:lnTo>
                  <a:pt x="143" y="1364"/>
                </a:lnTo>
                <a:lnTo>
                  <a:pt x="145" y="1364"/>
                </a:lnTo>
                <a:lnTo>
                  <a:pt x="149" y="1364"/>
                </a:lnTo>
                <a:lnTo>
                  <a:pt x="151" y="1364"/>
                </a:lnTo>
                <a:lnTo>
                  <a:pt x="154" y="1364"/>
                </a:lnTo>
                <a:lnTo>
                  <a:pt x="155" y="1364"/>
                </a:lnTo>
                <a:lnTo>
                  <a:pt x="159" y="1364"/>
                </a:lnTo>
                <a:lnTo>
                  <a:pt x="161" y="1364"/>
                </a:lnTo>
                <a:lnTo>
                  <a:pt x="164" y="1364"/>
                </a:lnTo>
                <a:lnTo>
                  <a:pt x="167" y="1364"/>
                </a:lnTo>
                <a:lnTo>
                  <a:pt x="169" y="1364"/>
                </a:lnTo>
                <a:lnTo>
                  <a:pt x="172" y="1364"/>
                </a:lnTo>
                <a:lnTo>
                  <a:pt x="174" y="1364"/>
                </a:lnTo>
                <a:lnTo>
                  <a:pt x="177" y="1364"/>
                </a:lnTo>
                <a:lnTo>
                  <a:pt x="179" y="1364"/>
                </a:lnTo>
                <a:lnTo>
                  <a:pt x="182" y="1364"/>
                </a:lnTo>
                <a:lnTo>
                  <a:pt x="186" y="1364"/>
                </a:lnTo>
                <a:lnTo>
                  <a:pt x="188" y="1364"/>
                </a:lnTo>
                <a:lnTo>
                  <a:pt x="190" y="1364"/>
                </a:lnTo>
                <a:lnTo>
                  <a:pt x="192" y="1364"/>
                </a:lnTo>
                <a:lnTo>
                  <a:pt x="196" y="1364"/>
                </a:lnTo>
                <a:lnTo>
                  <a:pt x="198" y="1366"/>
                </a:lnTo>
                <a:lnTo>
                  <a:pt x="200" y="1366"/>
                </a:lnTo>
                <a:lnTo>
                  <a:pt x="202" y="1366"/>
                </a:lnTo>
                <a:lnTo>
                  <a:pt x="206" y="1366"/>
                </a:lnTo>
                <a:lnTo>
                  <a:pt x="209" y="1366"/>
                </a:lnTo>
                <a:lnTo>
                  <a:pt x="210" y="1366"/>
                </a:lnTo>
                <a:lnTo>
                  <a:pt x="214" y="1366"/>
                </a:lnTo>
                <a:lnTo>
                  <a:pt x="216" y="1364"/>
                </a:lnTo>
                <a:lnTo>
                  <a:pt x="219" y="1364"/>
                </a:lnTo>
                <a:lnTo>
                  <a:pt x="220" y="1364"/>
                </a:lnTo>
                <a:lnTo>
                  <a:pt x="224" y="1364"/>
                </a:lnTo>
                <a:lnTo>
                  <a:pt x="227" y="1364"/>
                </a:lnTo>
                <a:lnTo>
                  <a:pt x="229" y="1364"/>
                </a:lnTo>
                <a:lnTo>
                  <a:pt x="232" y="1364"/>
                </a:lnTo>
                <a:lnTo>
                  <a:pt x="234" y="1364"/>
                </a:lnTo>
                <a:lnTo>
                  <a:pt x="237" y="1364"/>
                </a:lnTo>
                <a:lnTo>
                  <a:pt x="239" y="1364"/>
                </a:lnTo>
                <a:lnTo>
                  <a:pt x="242" y="1364"/>
                </a:lnTo>
                <a:lnTo>
                  <a:pt x="245" y="1364"/>
                </a:lnTo>
                <a:lnTo>
                  <a:pt x="247" y="1364"/>
                </a:lnTo>
                <a:lnTo>
                  <a:pt x="251" y="1364"/>
                </a:lnTo>
                <a:lnTo>
                  <a:pt x="253" y="1366"/>
                </a:lnTo>
                <a:lnTo>
                  <a:pt x="255" y="1366"/>
                </a:lnTo>
                <a:lnTo>
                  <a:pt x="257" y="1366"/>
                </a:lnTo>
                <a:lnTo>
                  <a:pt x="261" y="1366"/>
                </a:lnTo>
                <a:lnTo>
                  <a:pt x="263" y="1366"/>
                </a:lnTo>
                <a:lnTo>
                  <a:pt x="265" y="1366"/>
                </a:lnTo>
                <a:lnTo>
                  <a:pt x="269" y="1366"/>
                </a:lnTo>
                <a:lnTo>
                  <a:pt x="271" y="1366"/>
                </a:lnTo>
                <a:lnTo>
                  <a:pt x="274" y="1366"/>
                </a:lnTo>
                <a:lnTo>
                  <a:pt x="275" y="1366"/>
                </a:lnTo>
                <a:lnTo>
                  <a:pt x="279" y="1364"/>
                </a:lnTo>
                <a:lnTo>
                  <a:pt x="280" y="1364"/>
                </a:lnTo>
                <a:lnTo>
                  <a:pt x="284" y="1364"/>
                </a:lnTo>
                <a:lnTo>
                  <a:pt x="287" y="1366"/>
                </a:lnTo>
                <a:lnTo>
                  <a:pt x="289" y="1366"/>
                </a:lnTo>
                <a:lnTo>
                  <a:pt x="292" y="1370"/>
                </a:lnTo>
                <a:lnTo>
                  <a:pt x="294" y="1377"/>
                </a:lnTo>
                <a:lnTo>
                  <a:pt x="297" y="1385"/>
                </a:lnTo>
                <a:lnTo>
                  <a:pt x="298" y="1392"/>
                </a:lnTo>
                <a:lnTo>
                  <a:pt x="302" y="1394"/>
                </a:lnTo>
                <a:lnTo>
                  <a:pt x="306" y="1394"/>
                </a:lnTo>
                <a:lnTo>
                  <a:pt x="307" y="1392"/>
                </a:lnTo>
                <a:lnTo>
                  <a:pt x="310" y="1390"/>
                </a:lnTo>
                <a:lnTo>
                  <a:pt x="312" y="1387"/>
                </a:lnTo>
                <a:lnTo>
                  <a:pt x="316" y="1384"/>
                </a:lnTo>
                <a:lnTo>
                  <a:pt x="316" y="1382"/>
                </a:lnTo>
                <a:lnTo>
                  <a:pt x="320" y="1380"/>
                </a:lnTo>
                <a:lnTo>
                  <a:pt x="324" y="1378"/>
                </a:lnTo>
                <a:lnTo>
                  <a:pt x="325" y="1377"/>
                </a:lnTo>
                <a:lnTo>
                  <a:pt x="328" y="1375"/>
                </a:lnTo>
                <a:lnTo>
                  <a:pt x="330" y="1374"/>
                </a:lnTo>
                <a:lnTo>
                  <a:pt x="334" y="1374"/>
                </a:lnTo>
                <a:lnTo>
                  <a:pt x="335" y="1372"/>
                </a:lnTo>
                <a:lnTo>
                  <a:pt x="338" y="1372"/>
                </a:lnTo>
                <a:lnTo>
                  <a:pt x="342" y="1370"/>
                </a:lnTo>
                <a:lnTo>
                  <a:pt x="343" y="1370"/>
                </a:lnTo>
                <a:lnTo>
                  <a:pt x="347" y="1370"/>
                </a:lnTo>
                <a:lnTo>
                  <a:pt x="349" y="1370"/>
                </a:lnTo>
                <a:lnTo>
                  <a:pt x="352" y="1368"/>
                </a:lnTo>
                <a:lnTo>
                  <a:pt x="353" y="1368"/>
                </a:lnTo>
                <a:lnTo>
                  <a:pt x="357" y="1368"/>
                </a:lnTo>
                <a:lnTo>
                  <a:pt x="359" y="1368"/>
                </a:lnTo>
                <a:lnTo>
                  <a:pt x="361" y="1368"/>
                </a:lnTo>
                <a:lnTo>
                  <a:pt x="365" y="1368"/>
                </a:lnTo>
                <a:lnTo>
                  <a:pt x="367" y="1366"/>
                </a:lnTo>
                <a:lnTo>
                  <a:pt x="370" y="1366"/>
                </a:lnTo>
                <a:lnTo>
                  <a:pt x="371" y="1366"/>
                </a:lnTo>
                <a:lnTo>
                  <a:pt x="375" y="1366"/>
                </a:lnTo>
                <a:lnTo>
                  <a:pt x="377" y="1366"/>
                </a:lnTo>
                <a:lnTo>
                  <a:pt x="380" y="1366"/>
                </a:lnTo>
                <a:lnTo>
                  <a:pt x="383" y="1366"/>
                </a:lnTo>
                <a:lnTo>
                  <a:pt x="385" y="1366"/>
                </a:lnTo>
                <a:lnTo>
                  <a:pt x="388" y="1366"/>
                </a:lnTo>
                <a:lnTo>
                  <a:pt x="390" y="1366"/>
                </a:lnTo>
                <a:lnTo>
                  <a:pt x="393" y="1364"/>
                </a:lnTo>
                <a:lnTo>
                  <a:pt x="395" y="1345"/>
                </a:lnTo>
                <a:lnTo>
                  <a:pt x="398" y="1285"/>
                </a:lnTo>
                <a:lnTo>
                  <a:pt x="402" y="1128"/>
                </a:lnTo>
                <a:lnTo>
                  <a:pt x="403" y="822"/>
                </a:lnTo>
                <a:lnTo>
                  <a:pt x="407" y="402"/>
                </a:lnTo>
                <a:lnTo>
                  <a:pt x="408" y="51"/>
                </a:lnTo>
                <a:lnTo>
                  <a:pt x="412" y="0"/>
                </a:lnTo>
                <a:lnTo>
                  <a:pt x="414" y="267"/>
                </a:lnTo>
                <a:lnTo>
                  <a:pt x="416" y="644"/>
                </a:lnTo>
                <a:lnTo>
                  <a:pt x="420" y="935"/>
                </a:lnTo>
                <a:lnTo>
                  <a:pt x="422" y="1111"/>
                </a:lnTo>
                <a:lnTo>
                  <a:pt x="425" y="1211"/>
                </a:lnTo>
                <a:lnTo>
                  <a:pt x="426" y="1266"/>
                </a:lnTo>
                <a:lnTo>
                  <a:pt x="430" y="1299"/>
                </a:lnTo>
                <a:lnTo>
                  <a:pt x="432" y="1317"/>
                </a:lnTo>
                <a:lnTo>
                  <a:pt x="435" y="1330"/>
                </a:lnTo>
                <a:lnTo>
                  <a:pt x="438" y="1339"/>
                </a:lnTo>
                <a:lnTo>
                  <a:pt x="440" y="1344"/>
                </a:lnTo>
                <a:lnTo>
                  <a:pt x="443" y="1347"/>
                </a:lnTo>
                <a:lnTo>
                  <a:pt x="445" y="1350"/>
                </a:lnTo>
                <a:lnTo>
                  <a:pt x="448" y="1352"/>
                </a:lnTo>
                <a:lnTo>
                  <a:pt x="450" y="1354"/>
                </a:lnTo>
                <a:lnTo>
                  <a:pt x="453" y="1356"/>
                </a:lnTo>
                <a:lnTo>
                  <a:pt x="455" y="1356"/>
                </a:lnTo>
                <a:lnTo>
                  <a:pt x="458" y="1356"/>
                </a:lnTo>
                <a:lnTo>
                  <a:pt x="461" y="1356"/>
                </a:lnTo>
                <a:lnTo>
                  <a:pt x="463" y="1356"/>
                </a:lnTo>
                <a:lnTo>
                  <a:pt x="467" y="1356"/>
                </a:lnTo>
                <a:lnTo>
                  <a:pt x="468" y="1357"/>
                </a:lnTo>
                <a:lnTo>
                  <a:pt x="471" y="1357"/>
                </a:lnTo>
                <a:lnTo>
                  <a:pt x="473" y="1357"/>
                </a:lnTo>
                <a:lnTo>
                  <a:pt x="477" y="1358"/>
                </a:lnTo>
                <a:lnTo>
                  <a:pt x="479" y="1358"/>
                </a:lnTo>
                <a:lnTo>
                  <a:pt x="481" y="1358"/>
                </a:lnTo>
                <a:lnTo>
                  <a:pt x="485" y="1360"/>
                </a:lnTo>
                <a:lnTo>
                  <a:pt x="487" y="1360"/>
                </a:lnTo>
                <a:lnTo>
                  <a:pt x="489" y="1360"/>
                </a:lnTo>
                <a:lnTo>
                  <a:pt x="491" y="1360"/>
                </a:lnTo>
                <a:lnTo>
                  <a:pt x="495" y="1362"/>
                </a:lnTo>
                <a:lnTo>
                  <a:pt x="498" y="1362"/>
                </a:lnTo>
                <a:lnTo>
                  <a:pt x="499" y="1362"/>
                </a:lnTo>
                <a:lnTo>
                  <a:pt x="503" y="1362"/>
                </a:lnTo>
                <a:lnTo>
                  <a:pt x="505" y="1360"/>
                </a:lnTo>
                <a:lnTo>
                  <a:pt x="508" y="1364"/>
                </a:lnTo>
                <a:lnTo>
                  <a:pt x="510" y="1364"/>
                </a:lnTo>
                <a:lnTo>
                  <a:pt x="513" y="1364"/>
                </a:lnTo>
                <a:lnTo>
                  <a:pt x="516" y="1364"/>
                </a:lnTo>
                <a:lnTo>
                  <a:pt x="518" y="1364"/>
                </a:lnTo>
                <a:lnTo>
                  <a:pt x="521" y="1364"/>
                </a:lnTo>
                <a:lnTo>
                  <a:pt x="523" y="1364"/>
                </a:lnTo>
                <a:lnTo>
                  <a:pt x="526" y="1364"/>
                </a:lnTo>
                <a:lnTo>
                  <a:pt x="528" y="1364"/>
                </a:lnTo>
                <a:lnTo>
                  <a:pt x="532" y="1364"/>
                </a:lnTo>
                <a:lnTo>
                  <a:pt x="533" y="1364"/>
                </a:lnTo>
                <a:lnTo>
                  <a:pt x="536" y="1364"/>
                </a:lnTo>
                <a:lnTo>
                  <a:pt x="540" y="1364"/>
                </a:lnTo>
                <a:lnTo>
                  <a:pt x="542" y="1364"/>
                </a:lnTo>
                <a:lnTo>
                  <a:pt x="544" y="1364"/>
                </a:lnTo>
                <a:lnTo>
                  <a:pt x="546" y="1364"/>
                </a:lnTo>
                <a:lnTo>
                  <a:pt x="550" y="1364"/>
                </a:lnTo>
                <a:lnTo>
                  <a:pt x="551" y="1364"/>
                </a:lnTo>
                <a:lnTo>
                  <a:pt x="554" y="1364"/>
                </a:lnTo>
                <a:lnTo>
                  <a:pt x="558" y="1364"/>
                </a:lnTo>
                <a:lnTo>
                  <a:pt x="560" y="1364"/>
                </a:lnTo>
                <a:lnTo>
                  <a:pt x="563" y="1364"/>
                </a:lnTo>
                <a:lnTo>
                  <a:pt x="564" y="1364"/>
                </a:lnTo>
                <a:lnTo>
                  <a:pt x="568" y="1364"/>
                </a:lnTo>
                <a:lnTo>
                  <a:pt x="569" y="1364"/>
                </a:lnTo>
                <a:lnTo>
                  <a:pt x="573" y="1364"/>
                </a:lnTo>
                <a:lnTo>
                  <a:pt x="576" y="1364"/>
                </a:lnTo>
                <a:lnTo>
                  <a:pt x="578" y="1364"/>
                </a:lnTo>
                <a:lnTo>
                  <a:pt x="581" y="1364"/>
                </a:lnTo>
                <a:lnTo>
                  <a:pt x="583" y="1364"/>
                </a:lnTo>
                <a:lnTo>
                  <a:pt x="586" y="1364"/>
                </a:lnTo>
                <a:lnTo>
                  <a:pt x="588" y="1364"/>
                </a:lnTo>
                <a:lnTo>
                  <a:pt x="591" y="1366"/>
                </a:lnTo>
                <a:lnTo>
                  <a:pt x="595" y="1366"/>
                </a:lnTo>
                <a:lnTo>
                  <a:pt x="597" y="1366"/>
                </a:lnTo>
                <a:lnTo>
                  <a:pt x="599" y="1366"/>
                </a:lnTo>
                <a:lnTo>
                  <a:pt x="601" y="1366"/>
                </a:lnTo>
                <a:lnTo>
                  <a:pt x="605" y="1366"/>
                </a:lnTo>
                <a:lnTo>
                  <a:pt x="606" y="1366"/>
                </a:lnTo>
                <a:lnTo>
                  <a:pt x="609" y="1366"/>
                </a:lnTo>
                <a:lnTo>
                  <a:pt x="611" y="1366"/>
                </a:lnTo>
                <a:lnTo>
                  <a:pt x="615" y="1366"/>
                </a:lnTo>
                <a:lnTo>
                  <a:pt x="618" y="1366"/>
                </a:lnTo>
                <a:lnTo>
                  <a:pt x="619" y="1366"/>
                </a:lnTo>
                <a:lnTo>
                  <a:pt x="623" y="1366"/>
                </a:lnTo>
                <a:lnTo>
                  <a:pt x="624" y="1364"/>
                </a:lnTo>
                <a:lnTo>
                  <a:pt x="628" y="1364"/>
                </a:lnTo>
                <a:lnTo>
                  <a:pt x="629" y="1364"/>
                </a:lnTo>
                <a:lnTo>
                  <a:pt x="633" y="1364"/>
                </a:lnTo>
                <a:lnTo>
                  <a:pt x="636" y="1366"/>
                </a:lnTo>
                <a:lnTo>
                  <a:pt x="638" y="1366"/>
                </a:lnTo>
                <a:lnTo>
                  <a:pt x="641" y="1366"/>
                </a:lnTo>
                <a:lnTo>
                  <a:pt x="642" y="1366"/>
                </a:lnTo>
                <a:lnTo>
                  <a:pt x="646" y="1366"/>
                </a:lnTo>
                <a:lnTo>
                  <a:pt x="648" y="1364"/>
                </a:lnTo>
                <a:lnTo>
                  <a:pt x="651" y="1364"/>
                </a:lnTo>
                <a:lnTo>
                  <a:pt x="654" y="1364"/>
                </a:lnTo>
                <a:lnTo>
                  <a:pt x="656" y="1362"/>
                </a:lnTo>
                <a:lnTo>
                  <a:pt x="660" y="1357"/>
                </a:lnTo>
                <a:lnTo>
                  <a:pt x="661" y="1345"/>
                </a:lnTo>
                <a:lnTo>
                  <a:pt x="664" y="1317"/>
                </a:lnTo>
                <a:lnTo>
                  <a:pt x="666" y="1267"/>
                </a:lnTo>
                <a:lnTo>
                  <a:pt x="669" y="1176"/>
                </a:lnTo>
                <a:lnTo>
                  <a:pt x="672" y="1030"/>
                </a:lnTo>
                <a:lnTo>
                  <a:pt x="674" y="825"/>
                </a:lnTo>
                <a:lnTo>
                  <a:pt x="678" y="571"/>
                </a:lnTo>
                <a:lnTo>
                  <a:pt x="679" y="312"/>
                </a:lnTo>
                <a:lnTo>
                  <a:pt x="683" y="116"/>
                </a:lnTo>
                <a:lnTo>
                  <a:pt x="684" y="54"/>
                </a:lnTo>
                <a:lnTo>
                  <a:pt x="687" y="143"/>
                </a:lnTo>
                <a:lnTo>
                  <a:pt x="689" y="357"/>
                </a:lnTo>
                <a:lnTo>
                  <a:pt x="693" y="623"/>
                </a:lnTo>
                <a:lnTo>
                  <a:pt x="696" y="865"/>
                </a:lnTo>
                <a:lnTo>
                  <a:pt x="697" y="1048"/>
                </a:lnTo>
                <a:lnTo>
                  <a:pt x="701" y="1173"/>
                </a:lnTo>
                <a:lnTo>
                  <a:pt x="703" y="1249"/>
                </a:lnTo>
                <a:lnTo>
                  <a:pt x="705" y="1295"/>
                </a:lnTo>
                <a:lnTo>
                  <a:pt x="707" y="1321"/>
                </a:lnTo>
                <a:lnTo>
                  <a:pt x="711" y="1337"/>
                </a:lnTo>
                <a:lnTo>
                  <a:pt x="714" y="1345"/>
                </a:lnTo>
                <a:lnTo>
                  <a:pt x="715" y="1350"/>
                </a:lnTo>
                <a:lnTo>
                  <a:pt x="719" y="1354"/>
                </a:lnTo>
                <a:lnTo>
                  <a:pt x="721" y="1357"/>
                </a:lnTo>
                <a:lnTo>
                  <a:pt x="724" y="1358"/>
                </a:lnTo>
                <a:lnTo>
                  <a:pt x="725" y="1360"/>
                </a:lnTo>
                <a:lnTo>
                  <a:pt x="729" y="1360"/>
                </a:lnTo>
                <a:lnTo>
                  <a:pt x="732" y="1362"/>
                </a:lnTo>
                <a:lnTo>
                  <a:pt x="734" y="1362"/>
                </a:lnTo>
                <a:lnTo>
                  <a:pt x="737" y="1362"/>
                </a:lnTo>
                <a:lnTo>
                  <a:pt x="739" y="1364"/>
                </a:lnTo>
                <a:lnTo>
                  <a:pt x="742" y="1364"/>
                </a:lnTo>
                <a:lnTo>
                  <a:pt x="744" y="1364"/>
                </a:lnTo>
                <a:lnTo>
                  <a:pt x="747" y="1364"/>
                </a:lnTo>
                <a:lnTo>
                  <a:pt x="750" y="1364"/>
                </a:lnTo>
                <a:lnTo>
                  <a:pt x="752" y="1364"/>
                </a:lnTo>
                <a:lnTo>
                  <a:pt x="756" y="1364"/>
                </a:lnTo>
                <a:lnTo>
                  <a:pt x="758" y="1364"/>
                </a:lnTo>
                <a:lnTo>
                  <a:pt x="760" y="1364"/>
                </a:lnTo>
                <a:lnTo>
                  <a:pt x="762" y="1364"/>
                </a:lnTo>
                <a:lnTo>
                  <a:pt x="766" y="1364"/>
                </a:lnTo>
                <a:lnTo>
                  <a:pt x="768" y="1364"/>
                </a:lnTo>
                <a:lnTo>
                  <a:pt x="770" y="1364"/>
                </a:lnTo>
                <a:lnTo>
                  <a:pt x="774" y="1364"/>
                </a:lnTo>
                <a:lnTo>
                  <a:pt x="776" y="1364"/>
                </a:lnTo>
                <a:lnTo>
                  <a:pt x="779" y="1364"/>
                </a:lnTo>
                <a:lnTo>
                  <a:pt x="780" y="1364"/>
                </a:lnTo>
                <a:lnTo>
                  <a:pt x="784" y="1364"/>
                </a:lnTo>
                <a:lnTo>
                  <a:pt x="786" y="1364"/>
                </a:lnTo>
                <a:lnTo>
                  <a:pt x="789" y="1364"/>
                </a:lnTo>
                <a:lnTo>
                  <a:pt x="792" y="1364"/>
                </a:lnTo>
                <a:lnTo>
                  <a:pt x="794" y="1364"/>
                </a:lnTo>
                <a:lnTo>
                  <a:pt x="797" y="1364"/>
                </a:lnTo>
                <a:lnTo>
                  <a:pt x="799" y="1364"/>
                </a:lnTo>
                <a:lnTo>
                  <a:pt x="802" y="1364"/>
                </a:lnTo>
                <a:lnTo>
                  <a:pt x="804" y="1364"/>
                </a:lnTo>
                <a:lnTo>
                  <a:pt x="807" y="1364"/>
                </a:lnTo>
                <a:lnTo>
                  <a:pt x="811" y="1364"/>
                </a:lnTo>
                <a:lnTo>
                  <a:pt x="812" y="1362"/>
                </a:lnTo>
                <a:lnTo>
                  <a:pt x="815" y="1360"/>
                </a:lnTo>
                <a:lnTo>
                  <a:pt x="817" y="1357"/>
                </a:lnTo>
                <a:lnTo>
                  <a:pt x="821" y="1347"/>
                </a:lnTo>
                <a:lnTo>
                  <a:pt x="823" y="1332"/>
                </a:lnTo>
                <a:lnTo>
                  <a:pt x="825" y="1307"/>
                </a:lnTo>
                <a:lnTo>
                  <a:pt x="829" y="1266"/>
                </a:lnTo>
                <a:lnTo>
                  <a:pt x="831" y="1201"/>
                </a:lnTo>
                <a:lnTo>
                  <a:pt x="833" y="1111"/>
                </a:lnTo>
                <a:lnTo>
                  <a:pt x="835" y="1000"/>
                </a:lnTo>
                <a:lnTo>
                  <a:pt x="839" y="865"/>
                </a:lnTo>
                <a:lnTo>
                  <a:pt x="841" y="725"/>
                </a:lnTo>
                <a:lnTo>
                  <a:pt x="844" y="601"/>
                </a:lnTo>
                <a:lnTo>
                  <a:pt x="847" y="511"/>
                </a:lnTo>
                <a:lnTo>
                  <a:pt x="849" y="475"/>
                </a:lnTo>
                <a:lnTo>
                  <a:pt x="852" y="499"/>
                </a:lnTo>
                <a:lnTo>
                  <a:pt x="854" y="573"/>
                </a:lnTo>
                <a:lnTo>
                  <a:pt x="857" y="682"/>
                </a:lnTo>
                <a:lnTo>
                  <a:pt x="859" y="809"/>
                </a:lnTo>
                <a:lnTo>
                  <a:pt x="862" y="932"/>
                </a:lnTo>
                <a:lnTo>
                  <a:pt x="864" y="1038"/>
                </a:lnTo>
                <a:lnTo>
                  <a:pt x="867" y="1126"/>
                </a:lnTo>
                <a:lnTo>
                  <a:pt x="870" y="1191"/>
                </a:lnTo>
                <a:lnTo>
                  <a:pt x="872" y="1238"/>
                </a:lnTo>
                <a:lnTo>
                  <a:pt x="876" y="1272"/>
                </a:lnTo>
                <a:lnTo>
                  <a:pt x="877" y="1295"/>
                </a:lnTo>
                <a:lnTo>
                  <a:pt x="880" y="1312"/>
                </a:lnTo>
                <a:lnTo>
                  <a:pt x="882" y="1324"/>
                </a:lnTo>
                <a:lnTo>
                  <a:pt x="886" y="1330"/>
                </a:lnTo>
                <a:lnTo>
                  <a:pt x="888" y="1337"/>
                </a:lnTo>
                <a:lnTo>
                  <a:pt x="890" y="1340"/>
                </a:lnTo>
                <a:lnTo>
                  <a:pt x="894" y="1344"/>
                </a:lnTo>
                <a:lnTo>
                  <a:pt x="895" y="1347"/>
                </a:lnTo>
                <a:lnTo>
                  <a:pt x="898" y="1348"/>
                </a:lnTo>
                <a:lnTo>
                  <a:pt x="900" y="1350"/>
                </a:lnTo>
                <a:lnTo>
                  <a:pt x="904" y="1352"/>
                </a:lnTo>
                <a:lnTo>
                  <a:pt x="907" y="1354"/>
                </a:lnTo>
                <a:lnTo>
                  <a:pt x="908" y="1354"/>
                </a:lnTo>
                <a:lnTo>
                  <a:pt x="912" y="1356"/>
                </a:lnTo>
                <a:lnTo>
                  <a:pt x="913" y="1357"/>
                </a:lnTo>
                <a:lnTo>
                  <a:pt x="917" y="1357"/>
                </a:lnTo>
                <a:lnTo>
                  <a:pt x="919" y="1357"/>
                </a:lnTo>
                <a:lnTo>
                  <a:pt x="922" y="1358"/>
                </a:lnTo>
                <a:lnTo>
                  <a:pt x="925" y="1358"/>
                </a:lnTo>
                <a:lnTo>
                  <a:pt x="927" y="1358"/>
                </a:lnTo>
                <a:lnTo>
                  <a:pt x="930" y="1358"/>
                </a:lnTo>
                <a:lnTo>
                  <a:pt x="931" y="1360"/>
                </a:lnTo>
                <a:lnTo>
                  <a:pt x="935" y="1360"/>
                </a:lnTo>
                <a:lnTo>
                  <a:pt x="937" y="1360"/>
                </a:lnTo>
                <a:lnTo>
                  <a:pt x="940" y="1360"/>
                </a:lnTo>
                <a:lnTo>
                  <a:pt x="941" y="1360"/>
                </a:lnTo>
                <a:lnTo>
                  <a:pt x="945" y="1360"/>
                </a:lnTo>
                <a:lnTo>
                  <a:pt x="949" y="1362"/>
                </a:lnTo>
                <a:lnTo>
                  <a:pt x="950" y="1362"/>
                </a:lnTo>
                <a:lnTo>
                  <a:pt x="953" y="1362"/>
                </a:lnTo>
                <a:lnTo>
                  <a:pt x="955" y="1362"/>
                </a:lnTo>
                <a:lnTo>
                  <a:pt x="958" y="1362"/>
                </a:lnTo>
                <a:lnTo>
                  <a:pt x="960" y="1362"/>
                </a:lnTo>
                <a:lnTo>
                  <a:pt x="963" y="1362"/>
                </a:lnTo>
                <a:lnTo>
                  <a:pt x="967" y="1362"/>
                </a:lnTo>
                <a:lnTo>
                  <a:pt x="968" y="1364"/>
                </a:lnTo>
                <a:lnTo>
                  <a:pt x="972" y="1364"/>
                </a:lnTo>
                <a:lnTo>
                  <a:pt x="973" y="1364"/>
                </a:lnTo>
                <a:lnTo>
                  <a:pt x="977" y="1364"/>
                </a:lnTo>
                <a:lnTo>
                  <a:pt x="978" y="1364"/>
                </a:lnTo>
                <a:lnTo>
                  <a:pt x="982" y="1364"/>
                </a:lnTo>
                <a:lnTo>
                  <a:pt x="985" y="1364"/>
                </a:lnTo>
                <a:lnTo>
                  <a:pt x="986" y="1364"/>
                </a:lnTo>
                <a:lnTo>
                  <a:pt x="990" y="1364"/>
                </a:lnTo>
                <a:lnTo>
                  <a:pt x="992" y="1364"/>
                </a:lnTo>
                <a:lnTo>
                  <a:pt x="995" y="1364"/>
                </a:lnTo>
                <a:lnTo>
                  <a:pt x="996" y="1364"/>
                </a:lnTo>
                <a:lnTo>
                  <a:pt x="1000" y="1364"/>
                </a:lnTo>
                <a:lnTo>
                  <a:pt x="1004" y="1364"/>
                </a:lnTo>
                <a:lnTo>
                  <a:pt x="1005" y="1364"/>
                </a:lnTo>
                <a:lnTo>
                  <a:pt x="1008" y="1364"/>
                </a:lnTo>
                <a:lnTo>
                  <a:pt x="1010" y="1364"/>
                </a:lnTo>
                <a:lnTo>
                  <a:pt x="1013" y="1364"/>
                </a:lnTo>
                <a:lnTo>
                  <a:pt x="1015" y="1364"/>
                </a:lnTo>
                <a:lnTo>
                  <a:pt x="1018" y="1364"/>
                </a:lnTo>
                <a:lnTo>
                  <a:pt x="1020" y="1364"/>
                </a:lnTo>
                <a:lnTo>
                  <a:pt x="1023" y="1364"/>
                </a:lnTo>
                <a:lnTo>
                  <a:pt x="1027" y="1364"/>
                </a:lnTo>
                <a:lnTo>
                  <a:pt x="1028" y="1364"/>
                </a:lnTo>
                <a:lnTo>
                  <a:pt x="1031" y="1364"/>
                </a:lnTo>
                <a:lnTo>
                  <a:pt x="1033" y="1364"/>
                </a:lnTo>
                <a:lnTo>
                  <a:pt x="1037" y="1364"/>
                </a:lnTo>
                <a:lnTo>
                  <a:pt x="1038" y="1364"/>
                </a:lnTo>
                <a:lnTo>
                  <a:pt x="1041" y="1364"/>
                </a:lnTo>
                <a:lnTo>
                  <a:pt x="1045" y="1364"/>
                </a:lnTo>
                <a:lnTo>
                  <a:pt x="1047" y="1364"/>
                </a:lnTo>
                <a:lnTo>
                  <a:pt x="1049" y="1364"/>
                </a:lnTo>
                <a:lnTo>
                  <a:pt x="1051" y="1364"/>
                </a:lnTo>
                <a:lnTo>
                  <a:pt x="1055" y="1364"/>
                </a:lnTo>
                <a:lnTo>
                  <a:pt x="1057" y="1364"/>
                </a:lnTo>
                <a:lnTo>
                  <a:pt x="1059" y="1364"/>
                </a:lnTo>
                <a:lnTo>
                  <a:pt x="1063" y="1364"/>
                </a:lnTo>
                <a:lnTo>
                  <a:pt x="1065" y="1364"/>
                </a:lnTo>
                <a:lnTo>
                  <a:pt x="1068" y="1364"/>
                </a:lnTo>
                <a:lnTo>
                  <a:pt x="1070" y="1364"/>
                </a:lnTo>
                <a:lnTo>
                  <a:pt x="1073" y="1364"/>
                </a:lnTo>
                <a:lnTo>
                  <a:pt x="1075" y="1364"/>
                </a:lnTo>
                <a:lnTo>
                  <a:pt x="1078" y="1364"/>
                </a:lnTo>
                <a:lnTo>
                  <a:pt x="1081" y="1364"/>
                </a:lnTo>
                <a:lnTo>
                  <a:pt x="1083" y="1364"/>
                </a:lnTo>
                <a:lnTo>
                  <a:pt x="1086" y="1364"/>
                </a:lnTo>
                <a:lnTo>
                  <a:pt x="1088" y="1364"/>
                </a:lnTo>
                <a:lnTo>
                  <a:pt x="1091" y="1364"/>
                </a:lnTo>
                <a:lnTo>
                  <a:pt x="1093" y="1364"/>
                </a:lnTo>
                <a:lnTo>
                  <a:pt x="1096" y="1364"/>
                </a:lnTo>
                <a:lnTo>
                  <a:pt x="1100" y="1364"/>
                </a:lnTo>
                <a:lnTo>
                  <a:pt x="1102" y="1364"/>
                </a:lnTo>
                <a:lnTo>
                  <a:pt x="1104" y="1364"/>
                </a:lnTo>
                <a:lnTo>
                  <a:pt x="1106" y="1364"/>
                </a:lnTo>
                <a:lnTo>
                  <a:pt x="1110" y="1364"/>
                </a:lnTo>
                <a:lnTo>
                  <a:pt x="1112" y="1364"/>
                </a:lnTo>
                <a:lnTo>
                  <a:pt x="1114" y="1364"/>
                </a:lnTo>
                <a:lnTo>
                  <a:pt x="1116" y="1364"/>
                </a:lnTo>
                <a:lnTo>
                  <a:pt x="1120" y="1364"/>
                </a:lnTo>
                <a:lnTo>
                  <a:pt x="1123" y="1364"/>
                </a:lnTo>
                <a:lnTo>
                  <a:pt x="1124" y="1364"/>
                </a:lnTo>
                <a:lnTo>
                  <a:pt x="1128" y="1364"/>
                </a:lnTo>
                <a:lnTo>
                  <a:pt x="1130" y="1364"/>
                </a:lnTo>
                <a:lnTo>
                  <a:pt x="1133" y="1364"/>
                </a:lnTo>
                <a:lnTo>
                  <a:pt x="1134" y="1364"/>
                </a:lnTo>
                <a:lnTo>
                  <a:pt x="1138" y="1364"/>
                </a:lnTo>
                <a:lnTo>
                  <a:pt x="1141" y="1364"/>
                </a:lnTo>
                <a:lnTo>
                  <a:pt x="1143" y="1364"/>
                </a:lnTo>
                <a:lnTo>
                  <a:pt x="1146" y="1364"/>
                </a:lnTo>
                <a:lnTo>
                  <a:pt x="1148" y="1364"/>
                </a:lnTo>
                <a:lnTo>
                  <a:pt x="1151" y="1364"/>
                </a:lnTo>
                <a:lnTo>
                  <a:pt x="1153" y="1364"/>
                </a:lnTo>
                <a:lnTo>
                  <a:pt x="1156" y="1366"/>
                </a:lnTo>
                <a:lnTo>
                  <a:pt x="1159" y="1364"/>
                </a:lnTo>
                <a:lnTo>
                  <a:pt x="1161" y="1364"/>
                </a:lnTo>
                <a:lnTo>
                  <a:pt x="1165" y="1364"/>
                </a:lnTo>
                <a:lnTo>
                  <a:pt x="1166" y="1364"/>
                </a:lnTo>
                <a:lnTo>
                  <a:pt x="1169" y="1364"/>
                </a:lnTo>
                <a:lnTo>
                  <a:pt x="1171" y="1364"/>
                </a:lnTo>
                <a:lnTo>
                  <a:pt x="1175" y="1364"/>
                </a:lnTo>
                <a:lnTo>
                  <a:pt x="1177" y="1364"/>
                </a:lnTo>
                <a:lnTo>
                  <a:pt x="1179" y="1364"/>
                </a:lnTo>
                <a:lnTo>
                  <a:pt x="1183" y="1364"/>
                </a:lnTo>
                <a:lnTo>
                  <a:pt x="1185" y="1364"/>
                </a:lnTo>
                <a:lnTo>
                  <a:pt x="1188" y="1364"/>
                </a:lnTo>
                <a:lnTo>
                  <a:pt x="1189" y="1364"/>
                </a:lnTo>
                <a:lnTo>
                  <a:pt x="1193" y="1364"/>
                </a:lnTo>
                <a:lnTo>
                  <a:pt x="1194" y="1364"/>
                </a:lnTo>
                <a:lnTo>
                  <a:pt x="1198" y="1364"/>
                </a:lnTo>
                <a:lnTo>
                  <a:pt x="1201" y="1364"/>
                </a:lnTo>
                <a:lnTo>
                  <a:pt x="1203" y="1364"/>
                </a:lnTo>
                <a:lnTo>
                  <a:pt x="1206" y="1364"/>
                </a:lnTo>
                <a:lnTo>
                  <a:pt x="1208" y="1364"/>
                </a:lnTo>
                <a:lnTo>
                  <a:pt x="1211" y="1364"/>
                </a:lnTo>
                <a:lnTo>
                  <a:pt x="1212" y="1364"/>
                </a:lnTo>
                <a:lnTo>
                  <a:pt x="1216" y="1364"/>
                </a:lnTo>
                <a:lnTo>
                  <a:pt x="1220" y="1364"/>
                </a:lnTo>
                <a:lnTo>
                  <a:pt x="1221" y="1364"/>
                </a:lnTo>
                <a:lnTo>
                  <a:pt x="1224" y="1364"/>
                </a:lnTo>
                <a:lnTo>
                  <a:pt x="1226" y="1364"/>
                </a:lnTo>
                <a:lnTo>
                  <a:pt x="1230" y="1364"/>
                </a:lnTo>
                <a:lnTo>
                  <a:pt x="1231" y="1364"/>
                </a:lnTo>
                <a:lnTo>
                  <a:pt x="1234" y="1364"/>
                </a:lnTo>
                <a:lnTo>
                  <a:pt x="1238" y="1364"/>
                </a:lnTo>
                <a:lnTo>
                  <a:pt x="1239" y="1364"/>
                </a:lnTo>
                <a:lnTo>
                  <a:pt x="1242" y="1364"/>
                </a:lnTo>
                <a:lnTo>
                  <a:pt x="1244" y="1364"/>
                </a:lnTo>
                <a:lnTo>
                  <a:pt x="1248" y="1364"/>
                </a:lnTo>
                <a:lnTo>
                  <a:pt x="1249" y="1364"/>
                </a:lnTo>
                <a:lnTo>
                  <a:pt x="1253" y="1364"/>
                </a:lnTo>
                <a:lnTo>
                  <a:pt x="1256" y="1364"/>
                </a:lnTo>
                <a:lnTo>
                  <a:pt x="1257" y="1366"/>
                </a:lnTo>
                <a:lnTo>
                  <a:pt x="1261" y="1364"/>
                </a:lnTo>
                <a:lnTo>
                  <a:pt x="1263" y="1364"/>
                </a:lnTo>
                <a:lnTo>
                  <a:pt x="1266" y="1364"/>
                </a:lnTo>
                <a:lnTo>
                  <a:pt x="1267" y="1364"/>
                </a:lnTo>
                <a:lnTo>
                  <a:pt x="1271" y="1364"/>
                </a:lnTo>
                <a:lnTo>
                  <a:pt x="1273" y="1364"/>
                </a:lnTo>
                <a:lnTo>
                  <a:pt x="1275" y="1364"/>
                </a:lnTo>
                <a:lnTo>
                  <a:pt x="1279" y="1362"/>
                </a:lnTo>
                <a:lnTo>
                  <a:pt x="1281" y="1360"/>
                </a:lnTo>
                <a:lnTo>
                  <a:pt x="1284" y="1357"/>
                </a:lnTo>
                <a:lnTo>
                  <a:pt x="1285" y="1352"/>
                </a:lnTo>
                <a:lnTo>
                  <a:pt x="1289" y="1345"/>
                </a:lnTo>
                <a:lnTo>
                  <a:pt x="1291" y="1334"/>
                </a:lnTo>
                <a:lnTo>
                  <a:pt x="1294" y="1315"/>
                </a:lnTo>
                <a:lnTo>
                  <a:pt x="1297" y="1295"/>
                </a:lnTo>
                <a:lnTo>
                  <a:pt x="1299" y="1267"/>
                </a:lnTo>
                <a:lnTo>
                  <a:pt x="1302" y="1229"/>
                </a:lnTo>
                <a:lnTo>
                  <a:pt x="1304" y="1183"/>
                </a:lnTo>
                <a:lnTo>
                  <a:pt x="1307" y="1122"/>
                </a:lnTo>
                <a:lnTo>
                  <a:pt x="1309" y="1056"/>
                </a:lnTo>
                <a:lnTo>
                  <a:pt x="1312" y="980"/>
                </a:lnTo>
                <a:lnTo>
                  <a:pt x="1316" y="900"/>
                </a:lnTo>
                <a:lnTo>
                  <a:pt x="1317" y="822"/>
                </a:lnTo>
                <a:lnTo>
                  <a:pt x="1320" y="754"/>
                </a:lnTo>
                <a:lnTo>
                  <a:pt x="1322" y="706"/>
                </a:lnTo>
                <a:lnTo>
                  <a:pt x="1326" y="676"/>
                </a:lnTo>
                <a:lnTo>
                  <a:pt x="1328" y="672"/>
                </a:lnTo>
                <a:lnTo>
                  <a:pt x="1330" y="689"/>
                </a:lnTo>
                <a:lnTo>
                  <a:pt x="1334" y="721"/>
                </a:lnTo>
                <a:lnTo>
                  <a:pt x="1336" y="767"/>
                </a:lnTo>
                <a:lnTo>
                  <a:pt x="1338" y="822"/>
                </a:lnTo>
                <a:lnTo>
                  <a:pt x="1340" y="880"/>
                </a:lnTo>
                <a:lnTo>
                  <a:pt x="1344" y="941"/>
                </a:lnTo>
                <a:lnTo>
                  <a:pt x="1346" y="998"/>
                </a:lnTo>
                <a:lnTo>
                  <a:pt x="1349" y="1055"/>
                </a:lnTo>
                <a:lnTo>
                  <a:pt x="1350" y="1106"/>
                </a:lnTo>
                <a:lnTo>
                  <a:pt x="1354" y="1149"/>
                </a:lnTo>
                <a:lnTo>
                  <a:pt x="1357" y="1191"/>
                </a:lnTo>
                <a:lnTo>
                  <a:pt x="1359" y="1226"/>
                </a:lnTo>
                <a:lnTo>
                  <a:pt x="1362" y="1254"/>
                </a:lnTo>
                <a:lnTo>
                  <a:pt x="1364" y="1276"/>
                </a:lnTo>
                <a:lnTo>
                  <a:pt x="1367" y="1297"/>
                </a:lnTo>
                <a:lnTo>
                  <a:pt x="1369" y="1312"/>
                </a:lnTo>
                <a:lnTo>
                  <a:pt x="1372" y="1325"/>
                </a:lnTo>
                <a:lnTo>
                  <a:pt x="1375" y="1334"/>
                </a:lnTo>
                <a:lnTo>
                  <a:pt x="1377" y="1342"/>
                </a:lnTo>
                <a:lnTo>
                  <a:pt x="1381" y="1347"/>
                </a:lnTo>
                <a:lnTo>
                  <a:pt x="1382" y="1350"/>
                </a:lnTo>
                <a:lnTo>
                  <a:pt x="1385" y="1354"/>
                </a:lnTo>
                <a:lnTo>
                  <a:pt x="1387" y="1357"/>
                </a:lnTo>
                <a:lnTo>
                  <a:pt x="1391" y="1358"/>
                </a:lnTo>
                <a:lnTo>
                  <a:pt x="1393" y="1358"/>
                </a:lnTo>
                <a:lnTo>
                  <a:pt x="1395" y="1360"/>
                </a:lnTo>
                <a:lnTo>
                  <a:pt x="1399" y="1360"/>
                </a:lnTo>
                <a:lnTo>
                  <a:pt x="1401" y="1362"/>
                </a:lnTo>
                <a:lnTo>
                  <a:pt x="1403" y="1362"/>
                </a:lnTo>
                <a:lnTo>
                  <a:pt x="1405" y="1364"/>
                </a:lnTo>
                <a:lnTo>
                  <a:pt x="1409" y="1364"/>
                </a:lnTo>
                <a:lnTo>
                  <a:pt x="1412" y="1364"/>
                </a:lnTo>
                <a:lnTo>
                  <a:pt x="1414" y="1364"/>
                </a:lnTo>
                <a:lnTo>
                  <a:pt x="1417" y="1364"/>
                </a:lnTo>
                <a:lnTo>
                  <a:pt x="1419" y="1364"/>
                </a:lnTo>
                <a:lnTo>
                  <a:pt x="1422" y="1364"/>
                </a:lnTo>
                <a:lnTo>
                  <a:pt x="1424" y="1364"/>
                </a:lnTo>
                <a:lnTo>
                  <a:pt x="1427" y="1364"/>
                </a:lnTo>
                <a:lnTo>
                  <a:pt x="1429" y="1364"/>
                </a:lnTo>
                <a:lnTo>
                  <a:pt x="1432" y="1364"/>
                </a:lnTo>
                <a:lnTo>
                  <a:pt x="1436" y="1364"/>
                </a:lnTo>
                <a:lnTo>
                  <a:pt x="1437" y="1364"/>
                </a:lnTo>
                <a:lnTo>
                  <a:pt x="1440" y="1364"/>
                </a:lnTo>
                <a:lnTo>
                  <a:pt x="1442" y="1364"/>
                </a:lnTo>
                <a:lnTo>
                  <a:pt x="1446" y="1364"/>
                </a:lnTo>
                <a:lnTo>
                  <a:pt x="1447" y="1364"/>
                </a:lnTo>
                <a:lnTo>
                  <a:pt x="1450" y="1364"/>
                </a:lnTo>
                <a:lnTo>
                  <a:pt x="1454" y="1364"/>
                </a:lnTo>
                <a:lnTo>
                  <a:pt x="1456" y="1364"/>
                </a:lnTo>
                <a:lnTo>
                  <a:pt x="1458" y="1364"/>
                </a:lnTo>
                <a:lnTo>
                  <a:pt x="1460" y="1364"/>
                </a:lnTo>
                <a:lnTo>
                  <a:pt x="1464" y="1366"/>
                </a:lnTo>
                <a:lnTo>
                  <a:pt x="1465" y="1366"/>
                </a:lnTo>
                <a:lnTo>
                  <a:pt x="1468" y="1366"/>
                </a:lnTo>
                <a:lnTo>
                  <a:pt x="1472" y="1364"/>
                </a:lnTo>
                <a:lnTo>
                  <a:pt x="1474" y="1364"/>
                </a:lnTo>
                <a:lnTo>
                  <a:pt x="1477" y="1366"/>
                </a:lnTo>
                <a:lnTo>
                  <a:pt x="1478" y="1366"/>
                </a:lnTo>
                <a:lnTo>
                  <a:pt x="1482" y="1366"/>
                </a:lnTo>
                <a:lnTo>
                  <a:pt x="1483" y="1366"/>
                </a:lnTo>
                <a:lnTo>
                  <a:pt x="1487" y="1364"/>
                </a:lnTo>
                <a:lnTo>
                  <a:pt x="1490" y="1364"/>
                </a:lnTo>
                <a:lnTo>
                  <a:pt x="1492" y="1364"/>
                </a:lnTo>
                <a:lnTo>
                  <a:pt x="1495" y="1364"/>
                </a:lnTo>
                <a:lnTo>
                  <a:pt x="1497" y="1362"/>
                </a:lnTo>
                <a:lnTo>
                  <a:pt x="1500" y="1360"/>
                </a:lnTo>
                <a:lnTo>
                  <a:pt x="1501" y="1357"/>
                </a:lnTo>
                <a:lnTo>
                  <a:pt x="1505" y="1352"/>
                </a:lnTo>
                <a:lnTo>
                  <a:pt x="1509" y="1344"/>
                </a:lnTo>
                <a:lnTo>
                  <a:pt x="1510" y="1334"/>
                </a:lnTo>
                <a:lnTo>
                  <a:pt x="1513" y="1319"/>
                </a:lnTo>
                <a:lnTo>
                  <a:pt x="1515" y="1301"/>
                </a:lnTo>
                <a:lnTo>
                  <a:pt x="1519" y="1276"/>
                </a:lnTo>
                <a:lnTo>
                  <a:pt x="1520" y="1246"/>
                </a:lnTo>
                <a:lnTo>
                  <a:pt x="1523" y="1209"/>
                </a:lnTo>
                <a:lnTo>
                  <a:pt x="1525" y="1161"/>
                </a:lnTo>
                <a:lnTo>
                  <a:pt x="1528" y="1104"/>
                </a:lnTo>
                <a:lnTo>
                  <a:pt x="1532" y="1038"/>
                </a:lnTo>
                <a:lnTo>
                  <a:pt x="1533" y="968"/>
                </a:lnTo>
                <a:lnTo>
                  <a:pt x="1537" y="894"/>
                </a:lnTo>
                <a:lnTo>
                  <a:pt x="1538" y="823"/>
                </a:lnTo>
                <a:lnTo>
                  <a:pt x="1542" y="760"/>
                </a:lnTo>
                <a:lnTo>
                  <a:pt x="1543" y="714"/>
                </a:lnTo>
                <a:lnTo>
                  <a:pt x="1546" y="689"/>
                </a:lnTo>
                <a:lnTo>
                  <a:pt x="1550" y="680"/>
                </a:lnTo>
                <a:lnTo>
                  <a:pt x="1552" y="686"/>
                </a:lnTo>
                <a:lnTo>
                  <a:pt x="1555" y="704"/>
                </a:lnTo>
                <a:lnTo>
                  <a:pt x="1556" y="731"/>
                </a:lnTo>
                <a:lnTo>
                  <a:pt x="1560" y="766"/>
                </a:lnTo>
                <a:lnTo>
                  <a:pt x="1562" y="802"/>
                </a:lnTo>
                <a:lnTo>
                  <a:pt x="1565" y="843"/>
                </a:lnTo>
                <a:lnTo>
                  <a:pt x="1568" y="885"/>
                </a:lnTo>
                <a:lnTo>
                  <a:pt x="1570" y="927"/>
                </a:lnTo>
                <a:lnTo>
                  <a:pt x="1574" y="968"/>
                </a:lnTo>
                <a:lnTo>
                  <a:pt x="1575" y="1008"/>
                </a:lnTo>
                <a:lnTo>
                  <a:pt x="1578" y="1045"/>
                </a:lnTo>
                <a:lnTo>
                  <a:pt x="1580" y="1077"/>
                </a:lnTo>
                <a:lnTo>
                  <a:pt x="1583" y="1111"/>
                </a:lnTo>
                <a:lnTo>
                  <a:pt x="1586" y="1142"/>
                </a:lnTo>
                <a:lnTo>
                  <a:pt x="1588" y="1171"/>
                </a:lnTo>
                <a:lnTo>
                  <a:pt x="1592" y="1195"/>
                </a:lnTo>
                <a:lnTo>
                  <a:pt x="1593" y="1221"/>
                </a:lnTo>
                <a:lnTo>
                  <a:pt x="1597" y="1240"/>
                </a:lnTo>
                <a:lnTo>
                  <a:pt x="1598" y="1259"/>
                </a:lnTo>
                <a:lnTo>
                  <a:pt x="1601" y="1276"/>
                </a:lnTo>
                <a:lnTo>
                  <a:pt x="1603" y="1291"/>
                </a:lnTo>
                <a:lnTo>
                  <a:pt x="1607" y="1303"/>
                </a:lnTo>
                <a:lnTo>
                  <a:pt x="1610" y="1312"/>
                </a:lnTo>
                <a:lnTo>
                  <a:pt x="1611" y="1322"/>
                </a:lnTo>
                <a:lnTo>
                  <a:pt x="1615" y="1329"/>
                </a:lnTo>
                <a:lnTo>
                  <a:pt x="1617" y="1335"/>
                </a:lnTo>
                <a:lnTo>
                  <a:pt x="1619" y="1340"/>
                </a:lnTo>
                <a:lnTo>
                  <a:pt x="1621" y="1345"/>
                </a:lnTo>
                <a:lnTo>
                  <a:pt x="1625" y="1348"/>
                </a:lnTo>
                <a:lnTo>
                  <a:pt x="1628" y="1352"/>
                </a:lnTo>
                <a:lnTo>
                  <a:pt x="1629" y="1354"/>
                </a:lnTo>
                <a:lnTo>
                  <a:pt x="1633" y="1356"/>
                </a:lnTo>
                <a:lnTo>
                  <a:pt x="1635" y="1357"/>
                </a:lnTo>
                <a:lnTo>
                  <a:pt x="1638" y="1358"/>
                </a:lnTo>
                <a:lnTo>
                  <a:pt x="1640" y="1358"/>
                </a:lnTo>
                <a:lnTo>
                  <a:pt x="1643" y="1360"/>
                </a:lnTo>
                <a:lnTo>
                  <a:pt x="1646" y="1360"/>
                </a:lnTo>
                <a:lnTo>
                  <a:pt x="1648" y="1362"/>
                </a:lnTo>
                <a:lnTo>
                  <a:pt x="1651" y="1362"/>
                </a:lnTo>
                <a:lnTo>
                  <a:pt x="1653" y="1362"/>
                </a:lnTo>
                <a:lnTo>
                  <a:pt x="1656" y="1362"/>
                </a:lnTo>
                <a:lnTo>
                  <a:pt x="1658" y="1364"/>
                </a:lnTo>
                <a:lnTo>
                  <a:pt x="1661" y="1364"/>
                </a:lnTo>
                <a:lnTo>
                  <a:pt x="1664" y="1364"/>
                </a:lnTo>
                <a:lnTo>
                  <a:pt x="1666" y="1364"/>
                </a:lnTo>
                <a:lnTo>
                  <a:pt x="1670" y="1364"/>
                </a:lnTo>
                <a:lnTo>
                  <a:pt x="1672" y="1364"/>
                </a:lnTo>
                <a:lnTo>
                  <a:pt x="1674" y="1364"/>
                </a:lnTo>
                <a:lnTo>
                  <a:pt x="1676" y="1364"/>
                </a:lnTo>
                <a:lnTo>
                  <a:pt x="1680" y="1364"/>
                </a:lnTo>
                <a:lnTo>
                  <a:pt x="1682" y="1364"/>
                </a:lnTo>
                <a:lnTo>
                  <a:pt x="1684" y="1364"/>
                </a:lnTo>
                <a:lnTo>
                  <a:pt x="1688" y="1364"/>
                </a:lnTo>
                <a:lnTo>
                  <a:pt x="1690" y="1364"/>
                </a:lnTo>
                <a:lnTo>
                  <a:pt x="1693" y="1364"/>
                </a:lnTo>
                <a:lnTo>
                  <a:pt x="1694" y="1364"/>
                </a:lnTo>
                <a:lnTo>
                  <a:pt x="1698" y="1364"/>
                </a:lnTo>
                <a:lnTo>
                  <a:pt x="1700" y="1364"/>
                </a:lnTo>
                <a:lnTo>
                  <a:pt x="1703" y="1364"/>
                </a:lnTo>
                <a:lnTo>
                  <a:pt x="1706" y="1364"/>
                </a:lnTo>
                <a:lnTo>
                  <a:pt x="1708" y="1364"/>
                </a:lnTo>
                <a:lnTo>
                  <a:pt x="1711" y="1364"/>
                </a:lnTo>
                <a:lnTo>
                  <a:pt x="1713" y="1364"/>
                </a:lnTo>
                <a:lnTo>
                  <a:pt x="1716" y="1366"/>
                </a:lnTo>
                <a:lnTo>
                  <a:pt x="1718" y="1366"/>
                </a:lnTo>
                <a:lnTo>
                  <a:pt x="1721" y="1366"/>
                </a:lnTo>
                <a:lnTo>
                  <a:pt x="1725" y="1366"/>
                </a:lnTo>
                <a:lnTo>
                  <a:pt x="1726" y="1366"/>
                </a:lnTo>
                <a:lnTo>
                  <a:pt x="1729" y="1364"/>
                </a:lnTo>
                <a:lnTo>
                  <a:pt x="1731" y="1364"/>
                </a:lnTo>
                <a:lnTo>
                  <a:pt x="1735" y="1364"/>
                </a:lnTo>
                <a:lnTo>
                  <a:pt x="1736" y="1364"/>
                </a:lnTo>
                <a:lnTo>
                  <a:pt x="1739" y="1364"/>
                </a:lnTo>
                <a:lnTo>
                  <a:pt x="1743" y="1364"/>
                </a:lnTo>
                <a:lnTo>
                  <a:pt x="1745" y="1364"/>
                </a:lnTo>
                <a:lnTo>
                  <a:pt x="1747" y="1364"/>
                </a:lnTo>
                <a:lnTo>
                  <a:pt x="1749" y="1364"/>
                </a:lnTo>
                <a:lnTo>
                  <a:pt x="1753" y="1364"/>
                </a:lnTo>
                <a:lnTo>
                  <a:pt x="1754" y="1364"/>
                </a:lnTo>
                <a:lnTo>
                  <a:pt x="1758" y="1364"/>
                </a:lnTo>
                <a:lnTo>
                  <a:pt x="1759" y="1364"/>
                </a:lnTo>
                <a:lnTo>
                  <a:pt x="1763" y="1364"/>
                </a:lnTo>
                <a:lnTo>
                  <a:pt x="1766" y="1366"/>
                </a:lnTo>
                <a:lnTo>
                  <a:pt x="1768" y="1366"/>
                </a:lnTo>
                <a:lnTo>
                  <a:pt x="1771" y="1366"/>
                </a:lnTo>
                <a:lnTo>
                  <a:pt x="1773" y="1366"/>
                </a:lnTo>
                <a:lnTo>
                  <a:pt x="1776" y="1366"/>
                </a:lnTo>
                <a:lnTo>
                  <a:pt x="1778" y="1366"/>
                </a:lnTo>
                <a:lnTo>
                  <a:pt x="1781" y="1366"/>
                </a:lnTo>
                <a:lnTo>
                  <a:pt x="1784" y="1366"/>
                </a:lnTo>
                <a:lnTo>
                  <a:pt x="1786" y="1366"/>
                </a:lnTo>
                <a:lnTo>
                  <a:pt x="1790" y="1366"/>
                </a:lnTo>
                <a:lnTo>
                  <a:pt x="1791" y="1366"/>
                </a:lnTo>
                <a:lnTo>
                  <a:pt x="1794" y="1366"/>
                </a:lnTo>
                <a:lnTo>
                  <a:pt x="1796" y="1366"/>
                </a:lnTo>
                <a:lnTo>
                  <a:pt x="1800" y="1364"/>
                </a:lnTo>
                <a:lnTo>
                  <a:pt x="1802" y="1364"/>
                </a:lnTo>
                <a:lnTo>
                  <a:pt x="1804" y="1364"/>
                </a:lnTo>
                <a:lnTo>
                  <a:pt x="1808" y="1364"/>
                </a:lnTo>
                <a:lnTo>
                  <a:pt x="1809" y="1364"/>
                </a:lnTo>
                <a:lnTo>
                  <a:pt x="1812" y="1364"/>
                </a:lnTo>
                <a:lnTo>
                  <a:pt x="1814" y="1364"/>
                </a:lnTo>
                <a:lnTo>
                  <a:pt x="1818" y="1362"/>
                </a:lnTo>
                <a:lnTo>
                  <a:pt x="1821" y="1360"/>
                </a:lnTo>
                <a:lnTo>
                  <a:pt x="1823" y="1360"/>
                </a:lnTo>
                <a:lnTo>
                  <a:pt x="1826" y="1358"/>
                </a:lnTo>
                <a:lnTo>
                  <a:pt x="1827" y="1357"/>
                </a:lnTo>
                <a:lnTo>
                  <a:pt x="1831" y="1354"/>
                </a:lnTo>
                <a:lnTo>
                  <a:pt x="1833" y="1350"/>
                </a:lnTo>
                <a:lnTo>
                  <a:pt x="1836" y="1345"/>
                </a:lnTo>
                <a:lnTo>
                  <a:pt x="1839" y="1340"/>
                </a:lnTo>
                <a:lnTo>
                  <a:pt x="1841" y="1334"/>
                </a:lnTo>
                <a:lnTo>
                  <a:pt x="1845" y="1325"/>
                </a:lnTo>
                <a:lnTo>
                  <a:pt x="1845" y="1315"/>
                </a:lnTo>
                <a:lnTo>
                  <a:pt x="1849" y="1305"/>
                </a:lnTo>
                <a:lnTo>
                  <a:pt x="1851" y="1292"/>
                </a:lnTo>
                <a:lnTo>
                  <a:pt x="1854" y="1276"/>
                </a:lnTo>
                <a:lnTo>
                  <a:pt x="1855" y="1260"/>
                </a:lnTo>
                <a:lnTo>
                  <a:pt x="1859" y="1240"/>
                </a:lnTo>
                <a:lnTo>
                  <a:pt x="1863" y="1221"/>
                </a:lnTo>
                <a:lnTo>
                  <a:pt x="1864" y="1195"/>
                </a:lnTo>
                <a:lnTo>
                  <a:pt x="1867" y="1173"/>
                </a:lnTo>
                <a:lnTo>
                  <a:pt x="1869" y="1146"/>
                </a:lnTo>
                <a:lnTo>
                  <a:pt x="1872" y="1116"/>
                </a:lnTo>
                <a:lnTo>
                  <a:pt x="1874" y="1089"/>
                </a:lnTo>
                <a:lnTo>
                  <a:pt x="1877" y="1061"/>
                </a:lnTo>
                <a:lnTo>
                  <a:pt x="1881" y="1034"/>
                </a:lnTo>
                <a:lnTo>
                  <a:pt x="1882" y="1012"/>
                </a:lnTo>
                <a:lnTo>
                  <a:pt x="1886" y="990"/>
                </a:lnTo>
                <a:lnTo>
                  <a:pt x="1887" y="973"/>
                </a:lnTo>
                <a:lnTo>
                  <a:pt x="1890" y="959"/>
                </a:lnTo>
                <a:lnTo>
                  <a:pt x="1892" y="951"/>
                </a:lnTo>
                <a:lnTo>
                  <a:pt x="1896" y="949"/>
                </a:lnTo>
                <a:lnTo>
                  <a:pt x="1899" y="950"/>
                </a:lnTo>
                <a:lnTo>
                  <a:pt x="1900" y="955"/>
                </a:lnTo>
                <a:lnTo>
                  <a:pt x="1904" y="967"/>
                </a:lnTo>
                <a:lnTo>
                  <a:pt x="1906" y="980"/>
                </a:lnTo>
                <a:lnTo>
                  <a:pt x="1908" y="995"/>
                </a:lnTo>
                <a:lnTo>
                  <a:pt x="1910" y="1014"/>
                </a:lnTo>
                <a:lnTo>
                  <a:pt x="1914" y="1034"/>
                </a:lnTo>
                <a:lnTo>
                  <a:pt x="1917" y="1058"/>
                </a:lnTo>
                <a:lnTo>
                  <a:pt x="1919" y="1077"/>
                </a:lnTo>
                <a:lnTo>
                  <a:pt x="1922" y="1103"/>
                </a:lnTo>
                <a:lnTo>
                  <a:pt x="1924" y="1124"/>
                </a:lnTo>
                <a:lnTo>
                  <a:pt x="1927" y="1146"/>
                </a:lnTo>
                <a:lnTo>
                  <a:pt x="1929" y="1167"/>
                </a:lnTo>
                <a:lnTo>
                  <a:pt x="1932" y="1187"/>
                </a:lnTo>
                <a:lnTo>
                  <a:pt x="1934" y="1207"/>
                </a:lnTo>
                <a:lnTo>
                  <a:pt x="1937" y="1226"/>
                </a:lnTo>
                <a:lnTo>
                  <a:pt x="1941" y="1242"/>
                </a:lnTo>
                <a:lnTo>
                  <a:pt x="1942" y="1258"/>
                </a:lnTo>
                <a:lnTo>
                  <a:pt x="1945" y="1270"/>
                </a:lnTo>
                <a:lnTo>
                  <a:pt x="1947" y="1284"/>
                </a:lnTo>
                <a:lnTo>
                  <a:pt x="1951" y="1294"/>
                </a:lnTo>
                <a:lnTo>
                  <a:pt x="1952" y="1303"/>
                </a:lnTo>
                <a:lnTo>
                  <a:pt x="1955" y="1312"/>
                </a:lnTo>
                <a:lnTo>
                  <a:pt x="1959" y="1321"/>
                </a:lnTo>
                <a:lnTo>
                  <a:pt x="1961" y="1327"/>
                </a:lnTo>
                <a:lnTo>
                  <a:pt x="1963" y="1332"/>
                </a:lnTo>
                <a:lnTo>
                  <a:pt x="1965" y="1337"/>
                </a:lnTo>
                <a:lnTo>
                  <a:pt x="1969" y="1342"/>
                </a:lnTo>
                <a:lnTo>
                  <a:pt x="1971" y="1345"/>
                </a:lnTo>
                <a:lnTo>
                  <a:pt x="1973" y="1348"/>
                </a:lnTo>
                <a:lnTo>
                  <a:pt x="1977" y="1350"/>
                </a:lnTo>
                <a:lnTo>
                  <a:pt x="1979" y="1354"/>
                </a:lnTo>
                <a:lnTo>
                  <a:pt x="1982" y="1354"/>
                </a:lnTo>
                <a:lnTo>
                  <a:pt x="1984" y="1357"/>
                </a:lnTo>
                <a:lnTo>
                  <a:pt x="1987" y="1357"/>
                </a:lnTo>
                <a:lnTo>
                  <a:pt x="1989" y="1358"/>
                </a:lnTo>
                <a:lnTo>
                  <a:pt x="1992" y="1358"/>
                </a:lnTo>
                <a:lnTo>
                  <a:pt x="1995" y="1360"/>
                </a:lnTo>
                <a:lnTo>
                  <a:pt x="1997" y="1360"/>
                </a:lnTo>
                <a:lnTo>
                  <a:pt x="2000" y="1360"/>
                </a:lnTo>
                <a:lnTo>
                  <a:pt x="2002" y="1362"/>
                </a:lnTo>
                <a:lnTo>
                  <a:pt x="2006" y="1362"/>
                </a:lnTo>
                <a:lnTo>
                  <a:pt x="2007" y="1362"/>
                </a:lnTo>
                <a:lnTo>
                  <a:pt x="2010" y="1362"/>
                </a:lnTo>
                <a:lnTo>
                  <a:pt x="2012" y="1362"/>
                </a:lnTo>
                <a:lnTo>
                  <a:pt x="2016" y="1364"/>
                </a:lnTo>
                <a:lnTo>
                  <a:pt x="2018" y="1364"/>
                </a:lnTo>
                <a:lnTo>
                  <a:pt x="2020" y="1364"/>
                </a:lnTo>
                <a:lnTo>
                  <a:pt x="2024" y="1364"/>
                </a:lnTo>
                <a:lnTo>
                  <a:pt x="2026" y="1364"/>
                </a:lnTo>
                <a:lnTo>
                  <a:pt x="2028" y="1364"/>
                </a:lnTo>
                <a:lnTo>
                  <a:pt x="2030" y="1364"/>
                </a:lnTo>
                <a:lnTo>
                  <a:pt x="2034" y="1364"/>
                </a:lnTo>
                <a:lnTo>
                  <a:pt x="2037" y="1364"/>
                </a:lnTo>
                <a:lnTo>
                  <a:pt x="2038" y="1364"/>
                </a:lnTo>
                <a:lnTo>
                  <a:pt x="2042" y="1364"/>
                </a:lnTo>
                <a:lnTo>
                  <a:pt x="2044" y="1364"/>
                </a:lnTo>
                <a:lnTo>
                  <a:pt x="2047" y="1364"/>
                </a:lnTo>
                <a:lnTo>
                  <a:pt x="2049" y="1364"/>
                </a:lnTo>
                <a:lnTo>
                  <a:pt x="2052" y="1364"/>
                </a:lnTo>
                <a:lnTo>
                  <a:pt x="2055" y="1364"/>
                </a:lnTo>
                <a:lnTo>
                  <a:pt x="2057" y="1364"/>
                </a:lnTo>
                <a:lnTo>
                  <a:pt x="2060" y="1364"/>
                </a:lnTo>
                <a:lnTo>
                  <a:pt x="2062" y="1364"/>
                </a:lnTo>
                <a:lnTo>
                  <a:pt x="2065" y="1364"/>
                </a:lnTo>
                <a:lnTo>
                  <a:pt x="2067" y="1364"/>
                </a:lnTo>
                <a:lnTo>
                  <a:pt x="2070" y="1364"/>
                </a:lnTo>
                <a:lnTo>
                  <a:pt x="2073" y="1364"/>
                </a:lnTo>
                <a:lnTo>
                  <a:pt x="2075" y="1364"/>
                </a:lnTo>
                <a:lnTo>
                  <a:pt x="2079" y="1364"/>
                </a:lnTo>
                <a:lnTo>
                  <a:pt x="2080" y="1364"/>
                </a:lnTo>
                <a:lnTo>
                  <a:pt x="2083" y="1364"/>
                </a:lnTo>
                <a:lnTo>
                  <a:pt x="2085" y="1364"/>
                </a:lnTo>
                <a:lnTo>
                  <a:pt x="2089" y="1364"/>
                </a:lnTo>
                <a:lnTo>
                  <a:pt x="2090" y="1364"/>
                </a:lnTo>
                <a:lnTo>
                  <a:pt x="2093" y="1364"/>
                </a:lnTo>
                <a:lnTo>
                  <a:pt x="2097" y="1364"/>
                </a:lnTo>
                <a:lnTo>
                  <a:pt x="2098" y="1364"/>
                </a:lnTo>
                <a:lnTo>
                  <a:pt x="2102" y="1364"/>
                </a:lnTo>
                <a:lnTo>
                  <a:pt x="2103" y="1364"/>
                </a:lnTo>
                <a:lnTo>
                  <a:pt x="2107" y="1364"/>
                </a:lnTo>
                <a:lnTo>
                  <a:pt x="2108" y="1364"/>
                </a:lnTo>
                <a:lnTo>
                  <a:pt x="2112" y="1364"/>
                </a:lnTo>
                <a:lnTo>
                  <a:pt x="2115" y="1364"/>
                </a:lnTo>
                <a:lnTo>
                  <a:pt x="2116" y="1364"/>
                </a:lnTo>
                <a:lnTo>
                  <a:pt x="2120" y="1364"/>
                </a:lnTo>
                <a:lnTo>
                  <a:pt x="2122" y="1364"/>
                </a:lnTo>
                <a:lnTo>
                  <a:pt x="2125" y="1364"/>
                </a:lnTo>
                <a:lnTo>
                  <a:pt x="2126" y="1364"/>
                </a:lnTo>
                <a:lnTo>
                  <a:pt x="2130" y="1364"/>
                </a:lnTo>
                <a:lnTo>
                  <a:pt x="2134" y="1364"/>
                </a:lnTo>
                <a:lnTo>
                  <a:pt x="2138" y="1364"/>
                </a:lnTo>
                <a:lnTo>
                  <a:pt x="2140" y="1364"/>
                </a:lnTo>
                <a:lnTo>
                  <a:pt x="2143" y="1364"/>
                </a:lnTo>
                <a:lnTo>
                  <a:pt x="2145" y="1364"/>
                </a:lnTo>
                <a:lnTo>
                  <a:pt x="2148" y="1364"/>
                </a:lnTo>
                <a:lnTo>
                  <a:pt x="2152" y="1364"/>
                </a:lnTo>
                <a:lnTo>
                  <a:pt x="2153" y="1362"/>
                </a:lnTo>
                <a:lnTo>
                  <a:pt x="2156" y="1362"/>
                </a:lnTo>
                <a:lnTo>
                  <a:pt x="2158" y="1360"/>
                </a:lnTo>
                <a:lnTo>
                  <a:pt x="2162" y="1358"/>
                </a:lnTo>
                <a:lnTo>
                  <a:pt x="2163" y="1357"/>
                </a:lnTo>
                <a:lnTo>
                  <a:pt x="2167" y="1356"/>
                </a:lnTo>
                <a:lnTo>
                  <a:pt x="2168" y="1352"/>
                </a:lnTo>
                <a:lnTo>
                  <a:pt x="2171" y="1350"/>
                </a:lnTo>
                <a:lnTo>
                  <a:pt x="2175" y="1345"/>
                </a:lnTo>
                <a:lnTo>
                  <a:pt x="2177" y="1340"/>
                </a:lnTo>
                <a:lnTo>
                  <a:pt x="2180" y="1334"/>
                </a:lnTo>
                <a:lnTo>
                  <a:pt x="2181" y="1327"/>
                </a:lnTo>
                <a:lnTo>
                  <a:pt x="2185" y="1317"/>
                </a:lnTo>
                <a:lnTo>
                  <a:pt x="2187" y="1309"/>
                </a:lnTo>
                <a:lnTo>
                  <a:pt x="2189" y="1295"/>
                </a:lnTo>
                <a:lnTo>
                  <a:pt x="2193" y="1282"/>
                </a:lnTo>
                <a:lnTo>
                  <a:pt x="2195" y="1266"/>
                </a:lnTo>
                <a:lnTo>
                  <a:pt x="2198" y="1248"/>
                </a:lnTo>
                <a:lnTo>
                  <a:pt x="2199" y="1226"/>
                </a:lnTo>
                <a:lnTo>
                  <a:pt x="2203" y="1201"/>
                </a:lnTo>
                <a:lnTo>
                  <a:pt x="2205" y="1174"/>
                </a:lnTo>
                <a:lnTo>
                  <a:pt x="2208" y="1144"/>
                </a:lnTo>
                <a:lnTo>
                  <a:pt x="2211" y="1111"/>
                </a:lnTo>
                <a:lnTo>
                  <a:pt x="2213" y="1075"/>
                </a:lnTo>
                <a:lnTo>
                  <a:pt x="2216" y="1036"/>
                </a:lnTo>
                <a:lnTo>
                  <a:pt x="2218" y="995"/>
                </a:lnTo>
                <a:lnTo>
                  <a:pt x="2221" y="951"/>
                </a:lnTo>
                <a:lnTo>
                  <a:pt x="2223" y="908"/>
                </a:lnTo>
                <a:lnTo>
                  <a:pt x="2226" y="862"/>
                </a:lnTo>
                <a:lnTo>
                  <a:pt x="2230" y="817"/>
                </a:lnTo>
                <a:lnTo>
                  <a:pt x="2232" y="772"/>
                </a:lnTo>
                <a:lnTo>
                  <a:pt x="2234" y="729"/>
                </a:lnTo>
                <a:lnTo>
                  <a:pt x="2236" y="689"/>
                </a:lnTo>
                <a:lnTo>
                  <a:pt x="2240" y="652"/>
                </a:lnTo>
                <a:lnTo>
                  <a:pt x="2242" y="624"/>
                </a:lnTo>
                <a:lnTo>
                  <a:pt x="2244" y="601"/>
                </a:lnTo>
                <a:lnTo>
                  <a:pt x="2248" y="584"/>
                </a:lnTo>
                <a:lnTo>
                  <a:pt x="2250" y="576"/>
                </a:lnTo>
                <a:lnTo>
                  <a:pt x="2252" y="574"/>
                </a:lnTo>
                <a:lnTo>
                  <a:pt x="2254" y="581"/>
                </a:lnTo>
                <a:lnTo>
                  <a:pt x="2258" y="595"/>
                </a:lnTo>
                <a:lnTo>
                  <a:pt x="2260" y="611"/>
                </a:lnTo>
                <a:lnTo>
                  <a:pt x="2263" y="634"/>
                </a:lnTo>
                <a:lnTo>
                  <a:pt x="2264" y="664"/>
                </a:lnTo>
                <a:lnTo>
                  <a:pt x="2268" y="697"/>
                </a:lnTo>
                <a:lnTo>
                  <a:pt x="2271" y="733"/>
                </a:lnTo>
                <a:lnTo>
                  <a:pt x="2273" y="770"/>
                </a:lnTo>
                <a:lnTo>
                  <a:pt x="2276" y="810"/>
                </a:lnTo>
                <a:lnTo>
                  <a:pt x="2278" y="849"/>
                </a:lnTo>
                <a:lnTo>
                  <a:pt x="2281" y="888"/>
                </a:lnTo>
                <a:lnTo>
                  <a:pt x="2283" y="927"/>
                </a:lnTo>
                <a:lnTo>
                  <a:pt x="2286" y="965"/>
                </a:lnTo>
                <a:lnTo>
                  <a:pt x="2289" y="1002"/>
                </a:lnTo>
                <a:lnTo>
                  <a:pt x="2291" y="1036"/>
                </a:lnTo>
                <a:lnTo>
                  <a:pt x="2295" y="1069"/>
                </a:lnTo>
                <a:lnTo>
                  <a:pt x="2296" y="1101"/>
                </a:lnTo>
                <a:lnTo>
                  <a:pt x="2299" y="1131"/>
                </a:lnTo>
                <a:lnTo>
                  <a:pt x="2301" y="1156"/>
                </a:lnTo>
                <a:lnTo>
                  <a:pt x="2305" y="1185"/>
                </a:lnTo>
                <a:lnTo>
                  <a:pt x="2307" y="1206"/>
                </a:lnTo>
                <a:lnTo>
                  <a:pt x="2309" y="1226"/>
                </a:lnTo>
                <a:lnTo>
                  <a:pt x="2313" y="1244"/>
                </a:lnTo>
                <a:lnTo>
                  <a:pt x="2315" y="1262"/>
                </a:lnTo>
                <a:lnTo>
                  <a:pt x="2317" y="1276"/>
                </a:lnTo>
                <a:lnTo>
                  <a:pt x="2319" y="1289"/>
                </a:lnTo>
                <a:lnTo>
                  <a:pt x="2323" y="1301"/>
                </a:lnTo>
                <a:lnTo>
                  <a:pt x="2326" y="1311"/>
                </a:lnTo>
                <a:lnTo>
                  <a:pt x="2328" y="1317"/>
                </a:lnTo>
                <a:lnTo>
                  <a:pt x="2331" y="1325"/>
                </a:lnTo>
                <a:lnTo>
                  <a:pt x="2333" y="1332"/>
                </a:lnTo>
                <a:lnTo>
                  <a:pt x="2336" y="1337"/>
                </a:lnTo>
                <a:lnTo>
                  <a:pt x="2338" y="1342"/>
                </a:lnTo>
                <a:lnTo>
                  <a:pt x="2341" y="1345"/>
                </a:lnTo>
                <a:lnTo>
                  <a:pt x="2343" y="1350"/>
                </a:lnTo>
                <a:lnTo>
                  <a:pt x="2346" y="1352"/>
                </a:lnTo>
                <a:lnTo>
                  <a:pt x="2350" y="1354"/>
                </a:lnTo>
                <a:lnTo>
                  <a:pt x="2351" y="1357"/>
                </a:lnTo>
                <a:lnTo>
                  <a:pt x="2354" y="1357"/>
                </a:lnTo>
                <a:lnTo>
                  <a:pt x="2356" y="1358"/>
                </a:lnTo>
                <a:lnTo>
                  <a:pt x="2360" y="1360"/>
                </a:lnTo>
                <a:lnTo>
                  <a:pt x="2361" y="1360"/>
                </a:lnTo>
                <a:lnTo>
                  <a:pt x="2364" y="1362"/>
                </a:lnTo>
                <a:lnTo>
                  <a:pt x="2368" y="1362"/>
                </a:lnTo>
                <a:lnTo>
                  <a:pt x="2370" y="1364"/>
                </a:lnTo>
                <a:lnTo>
                  <a:pt x="2372" y="1364"/>
                </a:lnTo>
                <a:lnTo>
                  <a:pt x="2374" y="1364"/>
                </a:lnTo>
                <a:lnTo>
                  <a:pt x="2378" y="1364"/>
                </a:lnTo>
                <a:lnTo>
                  <a:pt x="2379" y="1364"/>
                </a:lnTo>
                <a:lnTo>
                  <a:pt x="2382" y="1364"/>
                </a:lnTo>
                <a:lnTo>
                  <a:pt x="2386" y="1364"/>
                </a:lnTo>
                <a:lnTo>
                  <a:pt x="2388" y="1364"/>
                </a:lnTo>
                <a:lnTo>
                  <a:pt x="2391" y="1364"/>
                </a:lnTo>
                <a:lnTo>
                  <a:pt x="2393" y="1364"/>
                </a:lnTo>
                <a:lnTo>
                  <a:pt x="2396" y="1364"/>
                </a:lnTo>
                <a:lnTo>
                  <a:pt x="2397" y="1364"/>
                </a:lnTo>
                <a:lnTo>
                  <a:pt x="2401" y="1366"/>
                </a:lnTo>
                <a:lnTo>
                  <a:pt x="2404" y="1366"/>
                </a:lnTo>
                <a:lnTo>
                  <a:pt x="2406" y="1366"/>
                </a:lnTo>
                <a:lnTo>
                  <a:pt x="2409" y="1366"/>
                </a:lnTo>
                <a:lnTo>
                  <a:pt x="2411" y="1366"/>
                </a:lnTo>
                <a:lnTo>
                  <a:pt x="2415" y="1366"/>
                </a:lnTo>
                <a:lnTo>
                  <a:pt x="2419" y="1366"/>
                </a:lnTo>
                <a:lnTo>
                  <a:pt x="2421" y="1366"/>
                </a:lnTo>
                <a:lnTo>
                  <a:pt x="2424" y="1366"/>
                </a:lnTo>
                <a:lnTo>
                  <a:pt x="2427" y="1366"/>
                </a:lnTo>
                <a:lnTo>
                  <a:pt x="2429" y="1366"/>
                </a:lnTo>
                <a:lnTo>
                  <a:pt x="2433" y="1366"/>
                </a:lnTo>
                <a:lnTo>
                  <a:pt x="2434" y="1366"/>
                </a:lnTo>
                <a:lnTo>
                  <a:pt x="2437" y="1366"/>
                </a:lnTo>
                <a:lnTo>
                  <a:pt x="2439" y="1366"/>
                </a:lnTo>
                <a:lnTo>
                  <a:pt x="2442" y="1366"/>
                </a:lnTo>
                <a:lnTo>
                  <a:pt x="2446" y="1366"/>
                </a:lnTo>
                <a:lnTo>
                  <a:pt x="2447" y="1366"/>
                </a:lnTo>
                <a:lnTo>
                  <a:pt x="2451" y="1366"/>
                </a:lnTo>
                <a:lnTo>
                  <a:pt x="2452" y="1364"/>
                </a:lnTo>
                <a:lnTo>
                  <a:pt x="2456" y="1364"/>
                </a:lnTo>
                <a:lnTo>
                  <a:pt x="2457" y="1364"/>
                </a:lnTo>
                <a:lnTo>
                  <a:pt x="2460" y="1364"/>
                </a:lnTo>
                <a:lnTo>
                  <a:pt x="2464" y="1364"/>
                </a:lnTo>
                <a:lnTo>
                  <a:pt x="2466" y="1364"/>
                </a:lnTo>
                <a:lnTo>
                  <a:pt x="2469" y="1364"/>
                </a:lnTo>
                <a:lnTo>
                  <a:pt x="2470" y="1364"/>
                </a:lnTo>
                <a:lnTo>
                  <a:pt x="2474" y="1364"/>
                </a:lnTo>
                <a:lnTo>
                  <a:pt x="2476" y="1364"/>
                </a:lnTo>
                <a:lnTo>
                  <a:pt x="2478" y="1364"/>
                </a:lnTo>
                <a:lnTo>
                  <a:pt x="2482" y="1364"/>
                </a:lnTo>
                <a:lnTo>
                  <a:pt x="2484" y="1364"/>
                </a:lnTo>
                <a:lnTo>
                  <a:pt x="2487" y="1366"/>
                </a:lnTo>
                <a:lnTo>
                  <a:pt x="2489" y="1366"/>
                </a:lnTo>
                <a:lnTo>
                  <a:pt x="2492" y="1366"/>
                </a:lnTo>
                <a:lnTo>
                  <a:pt x="2494" y="1366"/>
                </a:lnTo>
                <a:lnTo>
                  <a:pt x="2497" y="1366"/>
                </a:lnTo>
                <a:lnTo>
                  <a:pt x="2499" y="1366"/>
                </a:lnTo>
                <a:lnTo>
                  <a:pt x="2502" y="1366"/>
                </a:lnTo>
                <a:lnTo>
                  <a:pt x="2505" y="1366"/>
                </a:lnTo>
                <a:lnTo>
                  <a:pt x="2507" y="1366"/>
                </a:lnTo>
                <a:lnTo>
                  <a:pt x="2511" y="1366"/>
                </a:lnTo>
                <a:lnTo>
                  <a:pt x="2512" y="1366"/>
                </a:lnTo>
                <a:lnTo>
                  <a:pt x="2515" y="1366"/>
                </a:lnTo>
                <a:lnTo>
                  <a:pt x="2517" y="1366"/>
                </a:lnTo>
                <a:lnTo>
                  <a:pt x="2521" y="1366"/>
                </a:lnTo>
                <a:lnTo>
                  <a:pt x="2523" y="1366"/>
                </a:lnTo>
                <a:lnTo>
                  <a:pt x="2525" y="1366"/>
                </a:lnTo>
                <a:lnTo>
                  <a:pt x="2529" y="1366"/>
                </a:lnTo>
                <a:lnTo>
                  <a:pt x="2531" y="1366"/>
                </a:lnTo>
                <a:lnTo>
                  <a:pt x="2533" y="1366"/>
                </a:lnTo>
                <a:lnTo>
                  <a:pt x="2535" y="1366"/>
                </a:lnTo>
                <a:lnTo>
                  <a:pt x="2539" y="1366"/>
                </a:lnTo>
                <a:lnTo>
                  <a:pt x="2542" y="1366"/>
                </a:lnTo>
                <a:lnTo>
                  <a:pt x="2543" y="1366"/>
                </a:lnTo>
                <a:lnTo>
                  <a:pt x="2547" y="1366"/>
                </a:lnTo>
                <a:lnTo>
                  <a:pt x="2549" y="1366"/>
                </a:lnTo>
                <a:lnTo>
                  <a:pt x="2552" y="1366"/>
                </a:lnTo>
                <a:lnTo>
                  <a:pt x="2554" y="1366"/>
                </a:lnTo>
                <a:lnTo>
                  <a:pt x="2557" y="1366"/>
                </a:lnTo>
                <a:lnTo>
                  <a:pt x="2560" y="1366"/>
                </a:lnTo>
                <a:lnTo>
                  <a:pt x="2562" y="1366"/>
                </a:lnTo>
                <a:lnTo>
                  <a:pt x="2565" y="1366"/>
                </a:lnTo>
                <a:lnTo>
                  <a:pt x="2567" y="1366"/>
                </a:lnTo>
                <a:lnTo>
                  <a:pt x="2570" y="1366"/>
                </a:lnTo>
                <a:lnTo>
                  <a:pt x="2572" y="1366"/>
                </a:lnTo>
                <a:lnTo>
                  <a:pt x="2576" y="1366"/>
                </a:lnTo>
                <a:lnTo>
                  <a:pt x="2578" y="1366"/>
                </a:lnTo>
                <a:lnTo>
                  <a:pt x="2580" y="1366"/>
                </a:lnTo>
                <a:lnTo>
                  <a:pt x="2584" y="1366"/>
                </a:lnTo>
                <a:lnTo>
                  <a:pt x="2586" y="1366"/>
                </a:lnTo>
                <a:lnTo>
                  <a:pt x="2588" y="1366"/>
                </a:lnTo>
                <a:lnTo>
                  <a:pt x="2590" y="1366"/>
                </a:lnTo>
                <a:lnTo>
                  <a:pt x="2594" y="1366"/>
                </a:lnTo>
                <a:lnTo>
                  <a:pt x="2596" y="1366"/>
                </a:lnTo>
                <a:lnTo>
                  <a:pt x="2598" y="1366"/>
                </a:lnTo>
                <a:lnTo>
                  <a:pt x="2602" y="1366"/>
                </a:lnTo>
                <a:lnTo>
                  <a:pt x="2604" y="1366"/>
                </a:lnTo>
                <a:lnTo>
                  <a:pt x="2607" y="1366"/>
                </a:lnTo>
                <a:lnTo>
                  <a:pt x="2608" y="1366"/>
                </a:lnTo>
                <a:lnTo>
                  <a:pt x="2612" y="1366"/>
                </a:lnTo>
                <a:lnTo>
                  <a:pt x="2614" y="1366"/>
                </a:lnTo>
                <a:lnTo>
                  <a:pt x="2617" y="1366"/>
                </a:lnTo>
                <a:lnTo>
                  <a:pt x="2620" y="1366"/>
                </a:lnTo>
                <a:lnTo>
                  <a:pt x="2622" y="1366"/>
                </a:lnTo>
                <a:lnTo>
                  <a:pt x="2625" y="1366"/>
                </a:lnTo>
                <a:lnTo>
                  <a:pt x="2627" y="1366"/>
                </a:lnTo>
                <a:lnTo>
                  <a:pt x="2630" y="1366"/>
                </a:lnTo>
                <a:lnTo>
                  <a:pt x="2632" y="1366"/>
                </a:lnTo>
                <a:lnTo>
                  <a:pt x="2635" y="1366"/>
                </a:lnTo>
                <a:lnTo>
                  <a:pt x="2639" y="1366"/>
                </a:lnTo>
                <a:lnTo>
                  <a:pt x="2640" y="1366"/>
                </a:lnTo>
                <a:lnTo>
                  <a:pt x="2643" y="1366"/>
                </a:lnTo>
                <a:lnTo>
                  <a:pt x="2645" y="1366"/>
                </a:lnTo>
                <a:lnTo>
                  <a:pt x="2649" y="1366"/>
                </a:lnTo>
                <a:lnTo>
                  <a:pt x="2650" y="1366"/>
                </a:lnTo>
                <a:lnTo>
                  <a:pt x="2653" y="1366"/>
                </a:lnTo>
                <a:lnTo>
                  <a:pt x="2657" y="1366"/>
                </a:lnTo>
                <a:lnTo>
                  <a:pt x="2659" y="1366"/>
                </a:lnTo>
                <a:lnTo>
                  <a:pt x="2661" y="1366"/>
                </a:lnTo>
                <a:lnTo>
                  <a:pt x="2663" y="1366"/>
                </a:lnTo>
                <a:lnTo>
                  <a:pt x="2667" y="1366"/>
                </a:lnTo>
                <a:lnTo>
                  <a:pt x="2668" y="1366"/>
                </a:lnTo>
                <a:lnTo>
                  <a:pt x="2672" y="1366"/>
                </a:lnTo>
                <a:lnTo>
                  <a:pt x="2673" y="1366"/>
                </a:lnTo>
                <a:lnTo>
                  <a:pt x="2677" y="1366"/>
                </a:lnTo>
                <a:lnTo>
                  <a:pt x="2680" y="1366"/>
                </a:lnTo>
                <a:lnTo>
                  <a:pt x="2682" y="1366"/>
                </a:lnTo>
                <a:lnTo>
                  <a:pt x="2685" y="1366"/>
                </a:lnTo>
                <a:lnTo>
                  <a:pt x="2686" y="1366"/>
                </a:lnTo>
                <a:lnTo>
                  <a:pt x="2690" y="1366"/>
                </a:lnTo>
                <a:lnTo>
                  <a:pt x="2692" y="1366"/>
                </a:lnTo>
                <a:lnTo>
                  <a:pt x="2695" y="1366"/>
                </a:lnTo>
                <a:lnTo>
                  <a:pt x="2698" y="1366"/>
                </a:lnTo>
                <a:lnTo>
                  <a:pt x="2700" y="1366"/>
                </a:lnTo>
                <a:lnTo>
                  <a:pt x="2704" y="1366"/>
                </a:lnTo>
                <a:lnTo>
                  <a:pt x="2708" y="1366"/>
                </a:lnTo>
                <a:lnTo>
                  <a:pt x="2710" y="1366"/>
                </a:lnTo>
                <a:lnTo>
                  <a:pt x="2713" y="1366"/>
                </a:lnTo>
                <a:lnTo>
                  <a:pt x="2716" y="1366"/>
                </a:lnTo>
                <a:lnTo>
                  <a:pt x="2718" y="1366"/>
                </a:lnTo>
                <a:lnTo>
                  <a:pt x="2722" y="1366"/>
                </a:lnTo>
                <a:lnTo>
                  <a:pt x="2723" y="1366"/>
                </a:lnTo>
                <a:lnTo>
                  <a:pt x="2726" y="1366"/>
                </a:lnTo>
                <a:lnTo>
                  <a:pt x="2728" y="1366"/>
                </a:lnTo>
                <a:lnTo>
                  <a:pt x="2732" y="1366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1" name="Group 105"/>
          <p:cNvGrpSpPr/>
          <p:nvPr/>
        </p:nvGrpSpPr>
        <p:grpSpPr>
          <a:xfrm>
            <a:off x="5364000" y="2228760"/>
            <a:ext cx="2899080" cy="1282320"/>
            <a:chOff x="5364000" y="2228760"/>
            <a:chExt cx="2899080" cy="1282320"/>
          </a:xfrm>
        </p:grpSpPr>
        <p:sp>
          <p:nvSpPr>
            <p:cNvPr id="492" name="Rectangle 106"/>
            <p:cNvSpPr/>
            <p:nvPr/>
          </p:nvSpPr>
          <p:spPr>
            <a:xfrm>
              <a:off x="5364000" y="2228760"/>
              <a:ext cx="402840" cy="25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F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" name="Rectangle 107"/>
            <p:cNvSpPr/>
            <p:nvPr/>
          </p:nvSpPr>
          <p:spPr>
            <a:xfrm>
              <a:off x="6869520" y="2901960"/>
              <a:ext cx="5097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N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3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4" name="Rectangle 108"/>
            <p:cNvSpPr/>
            <p:nvPr/>
          </p:nvSpPr>
          <p:spPr>
            <a:xfrm>
              <a:off x="7742520" y="2889360"/>
              <a:ext cx="52056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S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5" name="Group 109"/>
            <p:cNvGrpSpPr/>
            <p:nvPr/>
          </p:nvGrpSpPr>
          <p:grpSpPr>
            <a:xfrm>
              <a:off x="5668560" y="2317680"/>
              <a:ext cx="1206000" cy="942480"/>
              <a:chOff x="5668560" y="2317680"/>
              <a:chExt cx="1206000" cy="942480"/>
            </a:xfrm>
          </p:grpSpPr>
          <p:sp>
            <p:nvSpPr>
              <p:cNvPr id="496" name="Rectangle 110"/>
              <p:cNvSpPr/>
              <p:nvPr/>
            </p:nvSpPr>
            <p:spPr>
              <a:xfrm>
                <a:off x="5668560" y="2317680"/>
                <a:ext cx="35856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Cl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7" name="Rectangle 111"/>
              <p:cNvSpPr/>
              <p:nvPr/>
            </p:nvSpPr>
            <p:spPr>
              <a:xfrm>
                <a:off x="5915160" y="2749680"/>
                <a:ext cx="509760" cy="27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NO</a:t>
                </a:r>
                <a:r>
                  <a:rPr b="1" lang="en-US" sz="1200" spc="-1" strike="noStrike" baseline="-25000">
                    <a:solidFill>
                      <a:srgbClr val="000000"/>
                    </a:solidFill>
                    <a:latin typeface="Tahoma"/>
                    <a:ea typeface="MS Gothic"/>
                  </a:rPr>
                  <a:t>2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8" name="Rectangle 112"/>
              <p:cNvSpPr/>
              <p:nvPr/>
            </p:nvSpPr>
            <p:spPr>
              <a:xfrm>
                <a:off x="6490080" y="3003480"/>
                <a:ext cx="38448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ahoma"/>
                    <a:ea typeface="MS Gothic"/>
                  </a:rPr>
                  <a:t>Br</a:t>
                </a:r>
                <a:r>
                  <a:rPr b="1" lang="en-US" sz="1200" spc="-1" strike="noStrike" baseline="30000">
                    <a:solidFill>
                      <a:srgbClr val="000000"/>
                    </a:solidFill>
                    <a:latin typeface="Tahoma"/>
                    <a:ea typeface="MS Gothic"/>
                  </a:rPr>
                  <a:t>-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9" name="Rectangle 113"/>
            <p:cNvSpPr/>
            <p:nvPr/>
          </p:nvSpPr>
          <p:spPr>
            <a:xfrm>
              <a:off x="7276680" y="3232080"/>
              <a:ext cx="64980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  <a:ea typeface="MS Gothic"/>
                </a:rPr>
                <a:t>HPO</a:t>
              </a:r>
              <a:r>
                <a:rPr b="1" lang="en-US" sz="1200" spc="-1" strike="noStrike" baseline="-25000">
                  <a:solidFill>
                    <a:srgbClr val="000000"/>
                  </a:solidFill>
                  <a:latin typeface="Tahoma"/>
                  <a:ea typeface="MS Gothic"/>
                </a:rPr>
                <a:t>4</a:t>
              </a:r>
              <a:r>
                <a:rPr b="1" lang="en-US" sz="1200" spc="-1" strike="noStrike" baseline="30000">
                  <a:solidFill>
                    <a:srgbClr val="000000"/>
                  </a:solidFill>
                  <a:latin typeface="Tahoma"/>
                  <a:ea typeface="MS Gothic"/>
                </a:rPr>
                <a:t>2-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0" name="Group 116"/>
          <p:cNvGrpSpPr/>
          <p:nvPr/>
        </p:nvGrpSpPr>
        <p:grpSpPr>
          <a:xfrm>
            <a:off x="898560" y="5972040"/>
            <a:ext cx="1657440" cy="260280"/>
            <a:chOff x="898560" y="5972040"/>
            <a:chExt cx="1657440" cy="260280"/>
          </a:xfrm>
        </p:grpSpPr>
        <p:sp>
          <p:nvSpPr>
            <p:cNvPr id="501" name="Rectangle 114"/>
            <p:cNvSpPr/>
            <p:nvPr/>
          </p:nvSpPr>
          <p:spPr>
            <a:xfrm>
              <a:off x="971640" y="6016320"/>
              <a:ext cx="15112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Rectangle 115"/>
            <p:cNvSpPr/>
            <p:nvPr/>
          </p:nvSpPr>
          <p:spPr>
            <a:xfrm>
              <a:off x="898560" y="5972040"/>
              <a:ext cx="165744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3" name="Text Box 117"/>
          <p:cNvSpPr/>
          <p:nvPr/>
        </p:nvSpPr>
        <p:spPr>
          <a:xfrm>
            <a:off x="1115280" y="6261120"/>
            <a:ext cx="109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Pump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" name="Group 118"/>
          <p:cNvGrpSpPr/>
          <p:nvPr/>
        </p:nvGrpSpPr>
        <p:grpSpPr>
          <a:xfrm>
            <a:off x="2484360" y="5972040"/>
            <a:ext cx="1008000" cy="260280"/>
            <a:chOff x="2484360" y="5972040"/>
            <a:chExt cx="1008000" cy="260280"/>
          </a:xfrm>
        </p:grpSpPr>
        <p:sp>
          <p:nvSpPr>
            <p:cNvPr id="505" name="Rectangle 119"/>
            <p:cNvSpPr/>
            <p:nvPr/>
          </p:nvSpPr>
          <p:spPr>
            <a:xfrm>
              <a:off x="2528640" y="6016320"/>
              <a:ext cx="91908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Rectangle 120"/>
            <p:cNvSpPr/>
            <p:nvPr/>
          </p:nvSpPr>
          <p:spPr>
            <a:xfrm>
              <a:off x="2484360" y="5972040"/>
              <a:ext cx="1008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" name="Text Box 121"/>
          <p:cNvSpPr/>
          <p:nvPr/>
        </p:nvSpPr>
        <p:spPr>
          <a:xfrm>
            <a:off x="2462040" y="6261120"/>
            <a:ext cx="108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Injec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" name="Group 122"/>
          <p:cNvGrpSpPr/>
          <p:nvPr/>
        </p:nvGrpSpPr>
        <p:grpSpPr>
          <a:xfrm>
            <a:off x="3381480" y="5972040"/>
            <a:ext cx="2592000" cy="260280"/>
            <a:chOff x="3381480" y="5972040"/>
            <a:chExt cx="2592000" cy="260280"/>
          </a:xfrm>
        </p:grpSpPr>
        <p:sp>
          <p:nvSpPr>
            <p:cNvPr id="509" name="Rectangle 123"/>
            <p:cNvSpPr/>
            <p:nvPr/>
          </p:nvSpPr>
          <p:spPr>
            <a:xfrm>
              <a:off x="349560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Rectangle 124"/>
            <p:cNvSpPr/>
            <p:nvPr/>
          </p:nvSpPr>
          <p:spPr>
            <a:xfrm>
              <a:off x="338148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" name="Text Box 125"/>
          <p:cNvSpPr/>
          <p:nvPr/>
        </p:nvSpPr>
        <p:spPr>
          <a:xfrm>
            <a:off x="4054680" y="6261120"/>
            <a:ext cx="128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" name="Group 126"/>
          <p:cNvGrpSpPr/>
          <p:nvPr/>
        </p:nvGrpSpPr>
        <p:grpSpPr>
          <a:xfrm>
            <a:off x="5796000" y="5972040"/>
            <a:ext cx="2592000" cy="260280"/>
            <a:chOff x="5796000" y="5972040"/>
            <a:chExt cx="2592000" cy="260280"/>
          </a:xfrm>
        </p:grpSpPr>
        <p:sp>
          <p:nvSpPr>
            <p:cNvPr id="513" name="Rectangle 127"/>
            <p:cNvSpPr/>
            <p:nvPr/>
          </p:nvSpPr>
          <p:spPr>
            <a:xfrm>
              <a:off x="5910120" y="6016320"/>
              <a:ext cx="2363400" cy="2160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" name="Rectangle 128"/>
            <p:cNvSpPr/>
            <p:nvPr/>
          </p:nvSpPr>
          <p:spPr>
            <a:xfrm>
              <a:off x="5796000" y="5972040"/>
              <a:ext cx="2592000" cy="73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5" name="Text Box 129"/>
          <p:cNvSpPr/>
          <p:nvPr/>
        </p:nvSpPr>
        <p:spPr>
          <a:xfrm>
            <a:off x="5810040" y="6261120"/>
            <a:ext cx="264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굴림"/>
              </a:rPr>
              <a:t>Detection and recording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6" name="Rectangle 13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1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General combination of I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8" name="Rectangle 5"/>
          <p:cNvSpPr/>
          <p:nvPr/>
        </p:nvSpPr>
        <p:spPr>
          <a:xfrm>
            <a:off x="539640" y="1989000"/>
            <a:ext cx="7772400" cy="46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ample injection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  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Loop injectio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metho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주입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Separation part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Ion exchang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separa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시료 중 이온분리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part    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：　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MS PGothic"/>
              </a:rPr>
              <a:t>Conductivity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detection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성분 검출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9" name="Rectangle 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127"/>
          <p:cNvGrpSpPr/>
          <p:nvPr/>
        </p:nvGrpSpPr>
        <p:grpSpPr>
          <a:xfrm>
            <a:off x="4782960" y="1900080"/>
            <a:ext cx="3961080" cy="3277080"/>
            <a:chOff x="4782960" y="1900080"/>
            <a:chExt cx="3961080" cy="3277080"/>
          </a:xfrm>
        </p:grpSpPr>
        <p:grpSp>
          <p:nvGrpSpPr>
            <p:cNvPr id="521" name="Group 114"/>
            <p:cNvGrpSpPr/>
            <p:nvPr/>
          </p:nvGrpSpPr>
          <p:grpSpPr>
            <a:xfrm>
              <a:off x="4782960" y="1900080"/>
              <a:ext cx="3961080" cy="3277080"/>
              <a:chOff x="4782960" y="1900080"/>
              <a:chExt cx="3961080" cy="3277080"/>
            </a:xfrm>
          </p:grpSpPr>
          <p:sp>
            <p:nvSpPr>
              <p:cNvPr id="522" name="Line 8"/>
              <p:cNvSpPr/>
              <p:nvPr/>
            </p:nvSpPr>
            <p:spPr>
              <a:xfrm flipH="1">
                <a:off x="5892840" y="3460680"/>
                <a:ext cx="1396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" name="Line 9"/>
              <p:cNvSpPr/>
              <p:nvPr/>
            </p:nvSpPr>
            <p:spPr>
              <a:xfrm>
                <a:off x="6035760" y="3456000"/>
                <a:ext cx="245880" cy="2602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4" name="Line 10"/>
              <p:cNvSpPr/>
              <p:nvPr/>
            </p:nvSpPr>
            <p:spPr>
              <a:xfrm flipH="1">
                <a:off x="5491080" y="3463920"/>
                <a:ext cx="225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" name="Oval 11"/>
              <p:cNvSpPr/>
              <p:nvPr/>
            </p:nvSpPr>
            <p:spPr>
              <a:xfrm>
                <a:off x="6151680" y="3400560"/>
                <a:ext cx="1011240" cy="1157040"/>
              </a:xfrm>
              <a:prstGeom prst="ellipse">
                <a:avLst/>
              </a:prstGeom>
              <a:noFill/>
              <a:ln w="507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" name="Oval 13"/>
              <p:cNvSpPr/>
              <p:nvPr/>
            </p:nvSpPr>
            <p:spPr>
              <a:xfrm>
                <a:off x="6256440" y="421632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7" name="Oval 15"/>
              <p:cNvSpPr/>
              <p:nvPr/>
            </p:nvSpPr>
            <p:spPr>
              <a:xfrm>
                <a:off x="6253200" y="368136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8" name="Line 17"/>
              <p:cNvSpPr/>
              <p:nvPr/>
            </p:nvSpPr>
            <p:spPr>
              <a:xfrm>
                <a:off x="7062840" y="4325760"/>
                <a:ext cx="179280" cy="544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29" name="Group 18"/>
              <p:cNvGrpSpPr/>
              <p:nvPr/>
            </p:nvGrpSpPr>
            <p:grpSpPr>
              <a:xfrm>
                <a:off x="5364000" y="4489560"/>
                <a:ext cx="362160" cy="120600"/>
                <a:chOff x="5364000" y="4489560"/>
                <a:chExt cx="362160" cy="120600"/>
              </a:xfrm>
            </p:grpSpPr>
            <p:sp>
              <p:nvSpPr>
                <p:cNvPr id="530" name="Line 19"/>
                <p:cNvSpPr/>
                <p:nvPr/>
              </p:nvSpPr>
              <p:spPr>
                <a:xfrm flipH="1">
                  <a:off x="5364000" y="4550040"/>
                  <a:ext cx="362160" cy="0"/>
                </a:xfrm>
                <a:prstGeom prst="line">
                  <a:avLst/>
                </a:prstGeom>
                <a:ln w="507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5524560" y="4489560"/>
                  <a:ext cx="92160" cy="120600"/>
                </a:xfrm>
                <a:custGeom>
                  <a:avLst/>
                  <a:gdLst>
                    <a:gd name="textAreaLeft" fmla="*/ 0 w 92160"/>
                    <a:gd name="textAreaRight" fmla="*/ 92520 w 92160"/>
                    <a:gd name="textAreaTop" fmla="*/ 0 h 120600"/>
                    <a:gd name="textAreaBottom" fmla="*/ 120960 h 120600"/>
                  </a:gdLst>
                  <a:ahLst/>
                  <a:rect l="textAreaLeft" t="textAreaTop" r="textAreaRight" b="textAreaBottom"/>
                  <a:pathLst>
                    <a:path w="58" h="76">
                      <a:moveTo>
                        <a:pt x="0" y="0"/>
                      </a:moveTo>
                      <a:lnTo>
                        <a:pt x="57" y="37"/>
                      </a:lnTo>
                      <a:lnTo>
                        <a:pt x="0" y="75"/>
                      </a:lnTo>
                    </a:path>
                  </a:pathLst>
                </a:custGeom>
                <a:noFill/>
                <a:ln cap="rnd" w="2556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2" name="Line 22"/>
              <p:cNvSpPr/>
              <p:nvPr/>
            </p:nvSpPr>
            <p:spPr>
              <a:xfrm flipH="1">
                <a:off x="6071760" y="4286160"/>
                <a:ext cx="190440" cy="27648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3" name="Group 23"/>
              <p:cNvGrpSpPr/>
              <p:nvPr/>
            </p:nvGrpSpPr>
            <p:grpSpPr>
              <a:xfrm>
                <a:off x="7061040" y="3171600"/>
                <a:ext cx="212760" cy="484200"/>
                <a:chOff x="7061040" y="3171600"/>
                <a:chExt cx="212760" cy="484200"/>
              </a:xfrm>
            </p:grpSpPr>
            <p:sp>
              <p:nvSpPr>
                <p:cNvPr id="534" name="Line 24"/>
                <p:cNvSpPr/>
                <p:nvPr/>
              </p:nvSpPr>
              <p:spPr>
                <a:xfrm flipV="1">
                  <a:off x="7061040" y="3171600"/>
                  <a:ext cx="179640" cy="48420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35" name="Freeform 25"/>
                <p:cNvSpPr/>
                <p:nvPr/>
              </p:nvSpPr>
              <p:spPr>
                <a:xfrm>
                  <a:off x="7132680" y="3246480"/>
                  <a:ext cx="141120" cy="160560"/>
                </a:xfrm>
                <a:custGeom>
                  <a:avLst/>
                  <a:gdLst>
                    <a:gd name="textAreaLeft" fmla="*/ 0 w 141120"/>
                    <a:gd name="textAreaRight" fmla="*/ 141480 w 141120"/>
                    <a:gd name="textAreaTop" fmla="*/ 0 h 160560"/>
                    <a:gd name="textAreaBottom" fmla="*/ 160920 h 160560"/>
                  </a:gdLst>
                  <a:ahLst/>
                  <a:rect l="textAreaLeft" t="textAreaTop" r="textAreaRight" b="textAreaBottom"/>
                  <a:pathLst>
                    <a:path w="89" h="101">
                      <a:moveTo>
                        <a:pt x="0" y="0"/>
                      </a:moveTo>
                      <a:lnTo>
                        <a:pt x="10" y="100"/>
                      </a:lnTo>
                      <a:lnTo>
                        <a:pt x="88" y="37"/>
                      </a:lnTo>
                    </a:path>
                  </a:pathLst>
                </a:custGeom>
                <a:noFill/>
                <a:ln cap="rnd"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36" name="Line 26"/>
              <p:cNvSpPr/>
              <p:nvPr/>
            </p:nvSpPr>
            <p:spPr>
              <a:xfrm>
                <a:off x="6715080" y="3495600"/>
                <a:ext cx="301680" cy="225360"/>
              </a:xfrm>
              <a:prstGeom prst="line">
                <a:avLst/>
              </a:prstGeom>
              <a:ln w="381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"/>
              <p:cNvSpPr/>
              <p:nvPr/>
            </p:nvSpPr>
            <p:spPr>
              <a:xfrm flipH="1">
                <a:off x="6715080" y="4257720"/>
                <a:ext cx="301680" cy="22536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Rectangle 28"/>
              <p:cNvSpPr/>
              <p:nvPr/>
            </p:nvSpPr>
            <p:spPr>
              <a:xfrm>
                <a:off x="5433840" y="1900080"/>
                <a:ext cx="166932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3399ff"/>
                    </a:solidFill>
                    <a:latin typeface="Arial Narrow"/>
                    <a:ea typeface="MS PGothic"/>
                  </a:rPr>
                  <a:t>Analysis starts</a:t>
                </a:r>
                <a:endParaRPr b="1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39" name="Group 29"/>
              <p:cNvGrpSpPr/>
              <p:nvPr/>
            </p:nvGrpSpPr>
            <p:grpSpPr>
              <a:xfrm>
                <a:off x="5781600" y="3451320"/>
                <a:ext cx="909720" cy="1562040"/>
                <a:chOff x="5781600" y="3451320"/>
                <a:chExt cx="909720" cy="1562040"/>
              </a:xfrm>
            </p:grpSpPr>
            <p:sp>
              <p:nvSpPr>
                <p:cNvPr id="540" name="Line 30"/>
                <p:cNvSpPr/>
                <p:nvPr/>
              </p:nvSpPr>
              <p:spPr>
                <a:xfrm>
                  <a:off x="5781600" y="3451320"/>
                  <a:ext cx="0" cy="1135080"/>
                </a:xfrm>
                <a:prstGeom prst="line">
                  <a:avLst/>
                </a:prstGeom>
                <a:ln w="5724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41" name="Arc 31"/>
                <p:cNvSpPr/>
                <p:nvPr/>
              </p:nvSpPr>
              <p:spPr>
                <a:xfrm>
                  <a:off x="5784840" y="4550040"/>
                  <a:ext cx="906480" cy="463320"/>
                </a:xfrm>
                <a:custGeom>
                  <a:avLst/>
                  <a:gdLst>
                    <a:gd name="textAreaLeft" fmla="*/ 0 w 906480"/>
                    <a:gd name="textAreaRight" fmla="*/ 906840 w 906480"/>
                    <a:gd name="textAreaTop" fmla="*/ 0 h 463320"/>
                    <a:gd name="textAreaBottom" fmla="*/ 463680 h 463320"/>
                  </a:gdLst>
                  <a:ahLst/>
                  <a:rect l="textAreaLeft" t="textAreaTop" r="textAreaRight" b="textAreaBottom"/>
                  <a:pathLst>
                    <a:path fill="none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43195" h="21600">
                      <a:moveTo>
                        <a:pt x="-22341" y="446"/>
                      </a:moveTo>
                      <a:cubicBezTo>
                        <a:pt x="-22584" y="12199"/>
                        <a:pt x="-32181" y="21599"/>
                        <a:pt x="21600" y="21600"/>
                      </a:cubicBez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-22341" y="446"/>
                      </a:lnTo>
                      <a:close/>
                    </a:path>
                  </a:pathLst>
                </a:custGeom>
                <a:noFill/>
                <a:ln cap="rnd" w="5724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42" name="Line 33"/>
              <p:cNvSpPr/>
              <p:nvPr/>
            </p:nvSpPr>
            <p:spPr>
              <a:xfrm>
                <a:off x="5880240" y="4076640"/>
                <a:ext cx="372960" cy="1526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34"/>
              <p:cNvSpPr/>
              <p:nvPr/>
            </p:nvSpPr>
            <p:spPr>
              <a:xfrm flipH="1">
                <a:off x="5430960" y="4087800"/>
                <a:ext cx="27936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Rectangle 35"/>
              <p:cNvSpPr/>
              <p:nvPr/>
            </p:nvSpPr>
            <p:spPr>
              <a:xfrm>
                <a:off x="4888440" y="3962520"/>
                <a:ext cx="67572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Wast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36"/>
              <p:cNvSpPr/>
              <p:nvPr/>
            </p:nvSpPr>
            <p:spPr>
              <a:xfrm flipH="1">
                <a:off x="5879880" y="4551480"/>
                <a:ext cx="1918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Rectangle 37"/>
              <p:cNvSpPr/>
              <p:nvPr/>
            </p:nvSpPr>
            <p:spPr>
              <a:xfrm>
                <a:off x="4900680" y="4664160"/>
                <a:ext cx="77796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ample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Rectangle 38"/>
              <p:cNvSpPr/>
              <p:nvPr/>
            </p:nvSpPr>
            <p:spPr>
              <a:xfrm>
                <a:off x="7077960" y="2924280"/>
                <a:ext cx="69408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 Narrow"/>
                    <a:ea typeface="MS PGothic"/>
                  </a:rPr>
                  <a:t>Eluen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Rectangle 39"/>
              <p:cNvSpPr/>
              <p:nvPr/>
            </p:nvSpPr>
            <p:spPr>
              <a:xfrm>
                <a:off x="7088400" y="4865760"/>
                <a:ext cx="1655640" cy="31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To Separation part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49" name="Group 40"/>
              <p:cNvGrpSpPr/>
              <p:nvPr/>
            </p:nvGrpSpPr>
            <p:grpSpPr>
              <a:xfrm>
                <a:off x="4925880" y="4433760"/>
                <a:ext cx="501840" cy="263520"/>
                <a:chOff x="4925880" y="4433760"/>
                <a:chExt cx="501840" cy="263520"/>
              </a:xfrm>
            </p:grpSpPr>
            <p:sp>
              <p:nvSpPr>
                <p:cNvPr id="550" name="Freeform 41"/>
                <p:cNvSpPr/>
                <p:nvPr/>
              </p:nvSpPr>
              <p:spPr>
                <a:xfrm>
                  <a:off x="4941720" y="4433760"/>
                  <a:ext cx="486000" cy="129960"/>
                </a:xfrm>
                <a:custGeom>
                  <a:avLst/>
                  <a:gdLst>
                    <a:gd name="textAreaLeft" fmla="*/ 0 w 486000"/>
                    <a:gd name="textAreaRight" fmla="*/ 486360 w 486000"/>
                    <a:gd name="textAreaTop" fmla="*/ 0 h 129960"/>
                    <a:gd name="textAreaBottom" fmla="*/ 130320 h 129960"/>
                  </a:gdLst>
                  <a:ahLst/>
                  <a:rect l="textAreaLeft" t="textAreaTop" r="textAreaRight" b="textAreaBottom"/>
                  <a:pathLst>
                    <a:path w="306" h="82">
                      <a:moveTo>
                        <a:pt x="0" y="0"/>
                      </a:moveTo>
                      <a:lnTo>
                        <a:pt x="0" y="24"/>
                      </a:lnTo>
                      <a:lnTo>
                        <a:pt x="183" y="24"/>
                      </a:lnTo>
                      <a:lnTo>
                        <a:pt x="231" y="68"/>
                      </a:lnTo>
                      <a:lnTo>
                        <a:pt x="305" y="68"/>
                      </a:lnTo>
                      <a:lnTo>
                        <a:pt x="305" y="81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1" name="Freeform 42"/>
                <p:cNvSpPr/>
                <p:nvPr/>
              </p:nvSpPr>
              <p:spPr>
                <a:xfrm>
                  <a:off x="4925880" y="4554360"/>
                  <a:ext cx="501840" cy="142920"/>
                </a:xfrm>
                <a:custGeom>
                  <a:avLst/>
                  <a:gdLst>
                    <a:gd name="textAreaLeft" fmla="*/ 0 w 501840"/>
                    <a:gd name="textAreaRight" fmla="*/ 502200 w 501840"/>
                    <a:gd name="textAreaTop" fmla="*/ 0 h 142920"/>
                    <a:gd name="textAreaBottom" fmla="*/ 143280 h 142920"/>
                  </a:gdLst>
                  <a:ahLst/>
                  <a:rect l="textAreaLeft" t="textAreaTop" r="textAreaRight" b="textAreaBottom"/>
                  <a:pathLst>
                    <a:path w="316" h="90">
                      <a:moveTo>
                        <a:pt x="0" y="89"/>
                      </a:moveTo>
                      <a:lnTo>
                        <a:pt x="0" y="61"/>
                      </a:lnTo>
                      <a:lnTo>
                        <a:pt x="189" y="61"/>
                      </a:lnTo>
                      <a:lnTo>
                        <a:pt x="238" y="13"/>
                      </a:lnTo>
                      <a:lnTo>
                        <a:pt x="315" y="13"/>
                      </a:lnTo>
                      <a:lnTo>
                        <a:pt x="315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552" name="Group 43"/>
              <p:cNvGrpSpPr/>
              <p:nvPr/>
            </p:nvGrpSpPr>
            <p:grpSpPr>
              <a:xfrm>
                <a:off x="4782960" y="4505400"/>
                <a:ext cx="347760" cy="109440"/>
                <a:chOff x="4782960" y="4505400"/>
                <a:chExt cx="347760" cy="109440"/>
              </a:xfrm>
            </p:grpSpPr>
            <p:sp>
              <p:nvSpPr>
                <p:cNvPr id="553" name="Freeform 44"/>
                <p:cNvSpPr/>
                <p:nvPr/>
              </p:nvSpPr>
              <p:spPr>
                <a:xfrm>
                  <a:off x="4782960" y="4505400"/>
                  <a:ext cx="347760" cy="6336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0"/>
                      </a:moveTo>
                      <a:lnTo>
                        <a:pt x="218" y="0"/>
                      </a:lnTo>
                      <a:lnTo>
                        <a:pt x="218" y="39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4" name="Freeform 45"/>
                <p:cNvSpPr/>
                <p:nvPr/>
              </p:nvSpPr>
              <p:spPr>
                <a:xfrm>
                  <a:off x="4782960" y="4551120"/>
                  <a:ext cx="347760" cy="63720"/>
                </a:xfrm>
                <a:custGeom>
                  <a:avLst/>
                  <a:gdLst>
                    <a:gd name="textAreaLeft" fmla="*/ 0 w 347760"/>
                    <a:gd name="textAreaRight" fmla="*/ 348120 w 347760"/>
                    <a:gd name="textAreaTop" fmla="*/ 0 h 63720"/>
                    <a:gd name="textAreaBottom" fmla="*/ 64080 h 63720"/>
                  </a:gdLst>
                  <a:ahLst/>
                  <a:rect l="textAreaLeft" t="textAreaTop" r="textAreaRight" b="textAreaBottom"/>
                  <a:pathLst>
                    <a:path w="219" h="40">
                      <a:moveTo>
                        <a:pt x="0" y="39"/>
                      </a:moveTo>
                      <a:lnTo>
                        <a:pt x="218" y="39"/>
                      </a:lnTo>
                      <a:lnTo>
                        <a:pt x="218" y="0"/>
                      </a:lnTo>
                    </a:path>
                  </a:pathLst>
                </a:custGeom>
                <a:noFill/>
                <a:ln cap="rnd" w="25560">
                  <a:solidFill>
                    <a:srgbClr val="5e574e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55" name="Arc 46"/>
              <p:cNvSpPr/>
              <p:nvPr/>
            </p:nvSpPr>
            <p:spPr>
              <a:xfrm flipV="1">
                <a:off x="5778360" y="2993400"/>
                <a:ext cx="906480" cy="46332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463320"/>
                  <a:gd name="textAreaBottom" fmla="*/ 463320 h 463320"/>
                </a:gdLst>
                <a:ahLst/>
                <a:rect l="textAreaLeft" t="textAreaTop" r="textAreaRight" b="textAreaBottom"/>
                <a:pathLst>
                  <a:path fill="none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43195" h="21600">
                    <a:moveTo>
                      <a:pt x="-22341" y="446"/>
                    </a:moveTo>
                    <a:cubicBezTo>
                      <a:pt x="-22584" y="12199"/>
                      <a:pt x="-32181" y="21599"/>
                      <a:pt x="21600" y="21600"/>
                    </a:cubicBez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-22341" y="446"/>
                    </a:lnTo>
                    <a:close/>
                  </a:path>
                </a:pathLst>
              </a:custGeom>
              <a:noFill/>
              <a:ln cap="rnd" w="5724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Rectangle 103"/>
              <p:cNvSpPr/>
              <p:nvPr/>
            </p:nvSpPr>
            <p:spPr>
              <a:xfrm>
                <a:off x="6067080" y="2235240"/>
                <a:ext cx="1038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Arial Narrow"/>
                    <a:ea typeface="HY견고딕"/>
                  </a:rPr>
                  <a:t>（ＩＮＪＥＣＴ）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7" name="Oval 32"/>
              <p:cNvSpPr/>
              <p:nvPr/>
            </p:nvSpPr>
            <p:spPr>
              <a:xfrm>
                <a:off x="6221520" y="4183200"/>
                <a:ext cx="141120" cy="139680"/>
              </a:xfrm>
              <a:prstGeom prst="ellipse">
                <a:avLst/>
              </a:prstGeom>
              <a:noFill/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" name="Oval 21"/>
              <p:cNvSpPr/>
              <p:nvPr/>
            </p:nvSpPr>
            <p:spPr>
              <a:xfrm>
                <a:off x="6649920" y="4451400"/>
                <a:ext cx="71640" cy="680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00" bIns="1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" name="Oval 12"/>
              <p:cNvSpPr/>
              <p:nvPr/>
            </p:nvSpPr>
            <p:spPr>
              <a:xfrm>
                <a:off x="6993000" y="4219560"/>
                <a:ext cx="71280" cy="6840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" bIns="2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" name="Oval 14"/>
              <p:cNvSpPr/>
              <p:nvPr/>
            </p:nvSpPr>
            <p:spPr>
              <a:xfrm>
                <a:off x="6993000" y="3684600"/>
                <a:ext cx="7128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Oval 16"/>
              <p:cNvSpPr/>
              <p:nvPr/>
            </p:nvSpPr>
            <p:spPr>
              <a:xfrm>
                <a:off x="6638760" y="3456000"/>
                <a:ext cx="69840" cy="69840"/>
              </a:xfrm>
              <a:prstGeom prst="ellipse">
                <a:avLst/>
              </a:prstGeom>
              <a:solidFill>
                <a:srgbClr val="5e574e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" bIns="2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2" name="Text Box 121"/>
            <p:cNvSpPr/>
            <p:nvPr/>
          </p:nvSpPr>
          <p:spPr>
            <a:xfrm>
              <a:off x="6534360" y="41893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" name="Text Box 122"/>
            <p:cNvSpPr/>
            <p:nvPr/>
          </p:nvSpPr>
          <p:spPr>
            <a:xfrm>
              <a:off x="6283440" y="400536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2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4" name="Text Box 123"/>
            <p:cNvSpPr/>
            <p:nvPr/>
          </p:nvSpPr>
          <p:spPr>
            <a:xfrm>
              <a:off x="6245640" y="36529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3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5" name="Text Box 124"/>
            <p:cNvSpPr/>
            <p:nvPr/>
          </p:nvSpPr>
          <p:spPr>
            <a:xfrm>
              <a:off x="6531120" y="347184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4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6" name="Text Box 125"/>
            <p:cNvSpPr/>
            <p:nvPr/>
          </p:nvSpPr>
          <p:spPr>
            <a:xfrm>
              <a:off x="6759720" y="366228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5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" name="Text Box 126"/>
            <p:cNvSpPr/>
            <p:nvPr/>
          </p:nvSpPr>
          <p:spPr>
            <a:xfrm>
              <a:off x="6769440" y="4043520"/>
              <a:ext cx="26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HY견고딕"/>
                  <a:ea typeface="HY견고딕"/>
                </a:rPr>
                <a:t>6</a:t>
              </a:r>
              <a:endParaRPr b="1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68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2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Loop injection method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9" name="Arc 49"/>
          <p:cNvSpPr/>
          <p:nvPr/>
        </p:nvSpPr>
        <p:spPr>
          <a:xfrm>
            <a:off x="1913040" y="455616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Line 50"/>
          <p:cNvSpPr/>
          <p:nvPr/>
        </p:nvSpPr>
        <p:spPr>
          <a:xfrm>
            <a:off x="1909800" y="3448080"/>
            <a:ext cx="0" cy="1135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1" name="Arc 51"/>
          <p:cNvSpPr/>
          <p:nvPr/>
        </p:nvSpPr>
        <p:spPr>
          <a:xfrm>
            <a:off x="1913040" y="455148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320"/>
              <a:gd name="textAreaBottom" fmla="*/ 46368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2" name="Line 52"/>
          <p:cNvSpPr/>
          <p:nvPr/>
        </p:nvSpPr>
        <p:spPr>
          <a:xfrm>
            <a:off x="1909800" y="3443400"/>
            <a:ext cx="0" cy="1135080"/>
          </a:xfrm>
          <a:prstGeom prst="line">
            <a:avLst/>
          </a:prstGeom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" name="AutoShape 53"/>
          <p:cNvSpPr/>
          <p:nvPr/>
        </p:nvSpPr>
        <p:spPr>
          <a:xfrm>
            <a:off x="3051000" y="2284560"/>
            <a:ext cx="779760" cy="506160"/>
          </a:xfrm>
          <a:prstGeom prst="roundRect">
            <a:avLst>
              <a:gd name="adj" fmla="val 16667"/>
            </a:avLst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4" name="Rectangle 54"/>
          <p:cNvSpPr/>
          <p:nvPr/>
        </p:nvSpPr>
        <p:spPr>
          <a:xfrm>
            <a:off x="3002400" y="2271600"/>
            <a:ext cx="9151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Injection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valv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5" name="Line 55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6" name="Group 56"/>
          <p:cNvGrpSpPr/>
          <p:nvPr/>
        </p:nvGrpSpPr>
        <p:grpSpPr>
          <a:xfrm>
            <a:off x="1631880" y="3443400"/>
            <a:ext cx="744480" cy="249120"/>
            <a:chOff x="1631880" y="3443400"/>
            <a:chExt cx="744480" cy="249120"/>
          </a:xfrm>
        </p:grpSpPr>
        <p:sp>
          <p:nvSpPr>
            <p:cNvPr id="577" name="Line 57"/>
            <p:cNvSpPr/>
            <p:nvPr/>
          </p:nvSpPr>
          <p:spPr>
            <a:xfrm flipH="1">
              <a:off x="1998360" y="3448080"/>
              <a:ext cx="1396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" name="Line 58"/>
            <p:cNvSpPr/>
            <p:nvPr/>
          </p:nvSpPr>
          <p:spPr>
            <a:xfrm>
              <a:off x="2141280" y="3443400"/>
              <a:ext cx="235080" cy="24912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" name="Line 59"/>
            <p:cNvSpPr/>
            <p:nvPr/>
          </p:nvSpPr>
          <p:spPr>
            <a:xfrm flipH="1">
              <a:off x="1631880" y="3444840"/>
              <a:ext cx="22536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0" name="Group 60"/>
          <p:cNvGrpSpPr/>
          <p:nvPr/>
        </p:nvGrpSpPr>
        <p:grpSpPr>
          <a:xfrm>
            <a:off x="1631880" y="3441600"/>
            <a:ext cx="744480" cy="249120"/>
            <a:chOff x="1631880" y="3441600"/>
            <a:chExt cx="744480" cy="249120"/>
          </a:xfrm>
        </p:grpSpPr>
        <p:sp>
          <p:nvSpPr>
            <p:cNvPr id="581" name="Line 61"/>
            <p:cNvSpPr/>
            <p:nvPr/>
          </p:nvSpPr>
          <p:spPr>
            <a:xfrm flipH="1">
              <a:off x="1998360" y="3446280"/>
              <a:ext cx="1396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2" name="Line 62"/>
            <p:cNvSpPr/>
            <p:nvPr/>
          </p:nvSpPr>
          <p:spPr>
            <a:xfrm>
              <a:off x="2141280" y="3441600"/>
              <a:ext cx="235080" cy="2491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3" name="Line 63"/>
            <p:cNvSpPr/>
            <p:nvPr/>
          </p:nvSpPr>
          <p:spPr>
            <a:xfrm flipH="1">
              <a:off x="1631880" y="3443040"/>
              <a:ext cx="22536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4" name="Line 64"/>
          <p:cNvSpPr/>
          <p:nvPr/>
        </p:nvSpPr>
        <p:spPr>
          <a:xfrm flipH="1">
            <a:off x="2440080" y="3495600"/>
            <a:ext cx="318960" cy="1969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" name="Group 65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sp>
          <p:nvSpPr>
            <p:cNvPr id="586" name="Line 66"/>
            <p:cNvSpPr/>
            <p:nvPr/>
          </p:nvSpPr>
          <p:spPr>
            <a:xfrm flipH="1">
              <a:off x="2284560" y="4481640"/>
              <a:ext cx="473040" cy="258840"/>
            </a:xfrm>
            <a:prstGeom prst="line">
              <a:avLst/>
            </a:prstGeom>
            <a:ln w="255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" name="Freeform 67"/>
            <p:cNvSpPr/>
            <p:nvPr/>
          </p:nvSpPr>
          <p:spPr>
            <a:xfrm>
              <a:off x="2138400" y="4667400"/>
              <a:ext cx="92160" cy="1206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20600"/>
                <a:gd name="textAreaBottom" fmla="*/ 120960 h 120600"/>
              </a:gdLst>
              <a:ahLst/>
              <a:rect l="textAreaLeft" t="textAreaTop" r="textAreaRight" b="textAreaBottom"/>
              <a:pathLst>
                <a:path w="58" h="76">
                  <a:moveTo>
                    <a:pt x="0" y="0"/>
                  </a:moveTo>
                  <a:lnTo>
                    <a:pt x="57" y="37"/>
                  </a:lnTo>
                  <a:lnTo>
                    <a:pt x="0" y="75"/>
                  </a:lnTo>
                </a:path>
              </a:pathLst>
            </a:custGeom>
            <a:noFill/>
            <a:ln cap="rnd" w="2556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" name="Line 68"/>
            <p:cNvSpPr/>
            <p:nvPr/>
          </p:nvSpPr>
          <p:spPr>
            <a:xfrm flipH="1">
              <a:off x="1665360" y="4727520"/>
              <a:ext cx="208080" cy="0"/>
            </a:xfrm>
            <a:prstGeom prst="line">
              <a:avLst/>
            </a:prstGeom>
            <a:ln w="5076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9" name="Line 69"/>
          <p:cNvSpPr/>
          <p:nvPr/>
        </p:nvSpPr>
        <p:spPr>
          <a:xfrm flipH="1">
            <a:off x="2070000" y="4726080"/>
            <a:ext cx="208080" cy="0"/>
          </a:xfrm>
          <a:prstGeom prst="line">
            <a:avLst/>
          </a:prstGeom>
          <a:ln w="507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0" name="Group 70"/>
          <p:cNvGrpSpPr/>
          <p:nvPr/>
        </p:nvGrpSpPr>
        <p:grpSpPr>
          <a:xfrm>
            <a:off x="1665360" y="4481640"/>
            <a:ext cx="1092240" cy="306360"/>
            <a:chOff x="1665360" y="4481640"/>
            <a:chExt cx="1092240" cy="306360"/>
          </a:xfrm>
        </p:grpSpPr>
        <p:grpSp>
          <p:nvGrpSpPr>
            <p:cNvPr id="591" name="Group 71"/>
            <p:cNvGrpSpPr/>
            <p:nvPr/>
          </p:nvGrpSpPr>
          <p:grpSpPr>
            <a:xfrm>
              <a:off x="1665360" y="4481640"/>
              <a:ext cx="1092240" cy="306360"/>
              <a:chOff x="1665360" y="4481640"/>
              <a:chExt cx="1092240" cy="306360"/>
            </a:xfrm>
          </p:grpSpPr>
          <p:sp>
            <p:nvSpPr>
              <p:cNvPr id="592" name="Line 72"/>
              <p:cNvSpPr/>
              <p:nvPr/>
            </p:nvSpPr>
            <p:spPr>
              <a:xfrm flipH="1">
                <a:off x="2284560" y="4481640"/>
                <a:ext cx="473040" cy="258840"/>
              </a:xfrm>
              <a:prstGeom prst="line">
                <a:avLst/>
              </a:prstGeom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" name="Freeform 73"/>
              <p:cNvSpPr/>
              <p:nvPr/>
            </p:nvSpPr>
            <p:spPr>
              <a:xfrm>
                <a:off x="2138400" y="4667400"/>
                <a:ext cx="92160" cy="12060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20600"/>
                  <a:gd name="textAreaBottom" fmla="*/ 120960 h 120600"/>
                </a:gdLst>
                <a:ahLst/>
                <a:rect l="textAreaLeft" t="textAreaTop" r="textAreaRight" b="textAreaBottom"/>
                <a:pathLst>
                  <a:path w="58" h="76">
                    <a:moveTo>
                      <a:pt x="0" y="0"/>
                    </a:moveTo>
                    <a:lnTo>
                      <a:pt x="57" y="37"/>
                    </a:lnTo>
                    <a:lnTo>
                      <a:pt x="0" y="75"/>
                    </a:lnTo>
                  </a:path>
                </a:pathLst>
              </a:custGeom>
              <a:noFill/>
              <a:ln w="255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" name="Line 74"/>
              <p:cNvSpPr/>
              <p:nvPr/>
            </p:nvSpPr>
            <p:spPr>
              <a:xfrm flipH="1">
                <a:off x="1665360" y="4727520"/>
                <a:ext cx="208080" cy="0"/>
              </a:xfrm>
              <a:prstGeom prst="line">
                <a:avLst/>
              </a:prstGeom>
              <a:ln w="507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95" name="Line 75"/>
            <p:cNvSpPr/>
            <p:nvPr/>
          </p:nvSpPr>
          <p:spPr>
            <a:xfrm flipH="1">
              <a:off x="2070360" y="4726080"/>
              <a:ext cx="208080" cy="0"/>
            </a:xfrm>
            <a:prstGeom prst="line">
              <a:avLst/>
            </a:prstGeom>
            <a:ln w="507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96" name="Rectangle 76"/>
          <p:cNvSpPr/>
          <p:nvPr/>
        </p:nvSpPr>
        <p:spPr>
          <a:xfrm>
            <a:off x="1101960" y="4878360"/>
            <a:ext cx="7779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7" name="Oval 77"/>
          <p:cNvSpPr/>
          <p:nvPr/>
        </p:nvSpPr>
        <p:spPr>
          <a:xfrm>
            <a:off x="2274840" y="3400560"/>
            <a:ext cx="1011240" cy="11570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8" name="Oval 78"/>
          <p:cNvSpPr/>
          <p:nvPr/>
        </p:nvSpPr>
        <p:spPr>
          <a:xfrm>
            <a:off x="3100320" y="4219560"/>
            <a:ext cx="7164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9" name="Oval 79"/>
          <p:cNvSpPr/>
          <p:nvPr/>
        </p:nvSpPr>
        <p:spPr>
          <a:xfrm>
            <a:off x="2382840" y="4210200"/>
            <a:ext cx="71280" cy="680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" name="Oval 80"/>
          <p:cNvSpPr/>
          <p:nvPr/>
        </p:nvSpPr>
        <p:spPr>
          <a:xfrm>
            <a:off x="310680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" name="Oval 81"/>
          <p:cNvSpPr/>
          <p:nvPr/>
        </p:nvSpPr>
        <p:spPr>
          <a:xfrm>
            <a:off x="2373480" y="3684600"/>
            <a:ext cx="7128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2" name="Oval 82"/>
          <p:cNvSpPr/>
          <p:nvPr/>
        </p:nvSpPr>
        <p:spPr>
          <a:xfrm>
            <a:off x="2765520" y="3446640"/>
            <a:ext cx="69840" cy="6984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3" name="Line 83"/>
          <p:cNvSpPr/>
          <p:nvPr/>
        </p:nvSpPr>
        <p:spPr>
          <a:xfrm flipV="1">
            <a:off x="3184560" y="3171600"/>
            <a:ext cx="179280" cy="48420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Line 84"/>
          <p:cNvSpPr/>
          <p:nvPr/>
        </p:nvSpPr>
        <p:spPr>
          <a:xfrm>
            <a:off x="3186000" y="432576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5" name="Oval 85"/>
          <p:cNvSpPr/>
          <p:nvPr/>
        </p:nvSpPr>
        <p:spPr>
          <a:xfrm>
            <a:off x="2735280" y="4448160"/>
            <a:ext cx="71280" cy="684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60" bIns="2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6" name="Freeform 86"/>
          <p:cNvSpPr/>
          <p:nvPr/>
        </p:nvSpPr>
        <p:spPr>
          <a:xfrm>
            <a:off x="3255840" y="3246480"/>
            <a:ext cx="141480" cy="160200"/>
          </a:xfrm>
          <a:custGeom>
            <a:avLst/>
            <a:gdLst>
              <a:gd name="textAreaLeft" fmla="*/ 0 w 141480"/>
              <a:gd name="textAreaRight" fmla="*/ 141840 w 14148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89" h="101">
                <a:moveTo>
                  <a:pt x="0" y="0"/>
                </a:moveTo>
                <a:lnTo>
                  <a:pt x="10" y="100"/>
                </a:lnTo>
                <a:lnTo>
                  <a:pt x="88" y="37"/>
                </a:lnTo>
              </a:path>
            </a:pathLst>
          </a:custGeom>
          <a:noFill/>
          <a:ln cap="rnd"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7" name="Line 87"/>
          <p:cNvSpPr/>
          <p:nvPr/>
        </p:nvSpPr>
        <p:spPr>
          <a:xfrm>
            <a:off x="3139920" y="3800520"/>
            <a:ext cx="0" cy="377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8" name="Rectangle 88"/>
          <p:cNvSpPr/>
          <p:nvPr/>
        </p:nvSpPr>
        <p:spPr>
          <a:xfrm>
            <a:off x="1173960" y="1893960"/>
            <a:ext cx="14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 Narrow"/>
                <a:ea typeface="MS PGothic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9" name="Oval 89"/>
          <p:cNvSpPr/>
          <p:nvPr/>
        </p:nvSpPr>
        <p:spPr>
          <a:xfrm>
            <a:off x="2698920" y="4414680"/>
            <a:ext cx="141120" cy="135000"/>
          </a:xfrm>
          <a:prstGeom prst="ellipse">
            <a:avLst/>
          </a:prstGeom>
          <a:noFill/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0" name="Line 90"/>
          <p:cNvSpPr/>
          <p:nvPr/>
        </p:nvSpPr>
        <p:spPr>
          <a:xfrm>
            <a:off x="2011320" y="4076640"/>
            <a:ext cx="363600" cy="146160"/>
          </a:xfrm>
          <a:prstGeom prst="line">
            <a:avLst/>
          </a:prstGeom>
          <a:ln w="255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Line 91"/>
          <p:cNvSpPr/>
          <p:nvPr/>
        </p:nvSpPr>
        <p:spPr>
          <a:xfrm flipH="1">
            <a:off x="1641240" y="4073400"/>
            <a:ext cx="207720" cy="0"/>
          </a:xfrm>
          <a:prstGeom prst="line">
            <a:avLst/>
          </a:prstGeom>
          <a:ln w="507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2" name="Rectangle 92"/>
          <p:cNvSpPr/>
          <p:nvPr/>
        </p:nvSpPr>
        <p:spPr>
          <a:xfrm>
            <a:off x="1041840" y="3282840"/>
            <a:ext cx="675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3" name="Rectangle 93"/>
          <p:cNvSpPr/>
          <p:nvPr/>
        </p:nvSpPr>
        <p:spPr>
          <a:xfrm>
            <a:off x="3243960" y="2913120"/>
            <a:ext cx="6940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 Narrow"/>
                <a:ea typeface="MS PGothic"/>
              </a:rPr>
              <a:t>Eluen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4" name="Rectangle 94"/>
          <p:cNvSpPr/>
          <p:nvPr/>
        </p:nvSpPr>
        <p:spPr>
          <a:xfrm>
            <a:off x="3021120" y="4911840"/>
            <a:ext cx="165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To Separation part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15" name="Group 95"/>
          <p:cNvGrpSpPr/>
          <p:nvPr/>
        </p:nvGrpSpPr>
        <p:grpSpPr>
          <a:xfrm>
            <a:off x="1246320" y="4599000"/>
            <a:ext cx="501480" cy="263520"/>
            <a:chOff x="1246320" y="4599000"/>
            <a:chExt cx="501480" cy="263520"/>
          </a:xfrm>
        </p:grpSpPr>
        <p:sp>
          <p:nvSpPr>
            <p:cNvPr id="616" name="Freeform 96"/>
            <p:cNvSpPr/>
            <p:nvPr/>
          </p:nvSpPr>
          <p:spPr>
            <a:xfrm>
              <a:off x="1261800" y="4599000"/>
              <a:ext cx="485640" cy="13032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30320"/>
                <a:gd name="textAreaBottom" fmla="*/ 130680 h 130320"/>
              </a:gdLst>
              <a:ahLst/>
              <a:rect l="textAreaLeft" t="textAreaTop" r="textAreaRight" b="textAreaBottom"/>
              <a:pathLst>
                <a:path w="306" h="82">
                  <a:moveTo>
                    <a:pt x="0" y="0"/>
                  </a:moveTo>
                  <a:lnTo>
                    <a:pt x="0" y="24"/>
                  </a:lnTo>
                  <a:lnTo>
                    <a:pt x="183" y="24"/>
                  </a:lnTo>
                  <a:lnTo>
                    <a:pt x="231" y="68"/>
                  </a:lnTo>
                  <a:lnTo>
                    <a:pt x="305" y="68"/>
                  </a:lnTo>
                  <a:lnTo>
                    <a:pt x="305" y="81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17" name="Freeform 97"/>
            <p:cNvSpPr/>
            <p:nvPr/>
          </p:nvSpPr>
          <p:spPr>
            <a:xfrm>
              <a:off x="1246320" y="4719600"/>
              <a:ext cx="501480" cy="142920"/>
            </a:xfrm>
            <a:custGeom>
              <a:avLst/>
              <a:gdLst>
                <a:gd name="textAreaLeft" fmla="*/ 0 w 501480"/>
                <a:gd name="textAreaRight" fmla="*/ 501840 w 50148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316" h="90">
                  <a:moveTo>
                    <a:pt x="0" y="89"/>
                  </a:moveTo>
                  <a:lnTo>
                    <a:pt x="0" y="61"/>
                  </a:lnTo>
                  <a:lnTo>
                    <a:pt x="189" y="61"/>
                  </a:lnTo>
                  <a:lnTo>
                    <a:pt x="238" y="13"/>
                  </a:lnTo>
                  <a:lnTo>
                    <a:pt x="315" y="13"/>
                  </a:lnTo>
                  <a:lnTo>
                    <a:pt x="315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618" name="Group 98"/>
          <p:cNvGrpSpPr/>
          <p:nvPr/>
        </p:nvGrpSpPr>
        <p:grpSpPr>
          <a:xfrm>
            <a:off x="1103400" y="4672080"/>
            <a:ext cx="347400" cy="105840"/>
            <a:chOff x="1103400" y="4672080"/>
            <a:chExt cx="347400" cy="105840"/>
          </a:xfrm>
        </p:grpSpPr>
        <p:sp>
          <p:nvSpPr>
            <p:cNvPr id="619" name="Freeform 99"/>
            <p:cNvSpPr/>
            <p:nvPr/>
          </p:nvSpPr>
          <p:spPr>
            <a:xfrm>
              <a:off x="1103400" y="4672080"/>
              <a:ext cx="347400" cy="6300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19" h="40">
                  <a:moveTo>
                    <a:pt x="0" y="0"/>
                  </a:moveTo>
                  <a:lnTo>
                    <a:pt x="218" y="0"/>
                  </a:lnTo>
                  <a:lnTo>
                    <a:pt x="218" y="39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20" name="Freeform 100"/>
            <p:cNvSpPr/>
            <p:nvPr/>
          </p:nvSpPr>
          <p:spPr>
            <a:xfrm>
              <a:off x="1103400" y="4714560"/>
              <a:ext cx="347400" cy="63360"/>
            </a:xfrm>
            <a:custGeom>
              <a:avLst/>
              <a:gdLst>
                <a:gd name="textAreaLeft" fmla="*/ 0 w 347400"/>
                <a:gd name="textAreaRight" fmla="*/ 347760 w 3474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19" h="40">
                  <a:moveTo>
                    <a:pt x="0" y="39"/>
                  </a:moveTo>
                  <a:lnTo>
                    <a:pt x="218" y="39"/>
                  </a:lnTo>
                  <a:lnTo>
                    <a:pt x="218" y="0"/>
                  </a:lnTo>
                </a:path>
              </a:pathLst>
            </a:custGeom>
            <a:noFill/>
            <a:ln cap="rnd" w="2556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621" name="Line 101"/>
          <p:cNvSpPr/>
          <p:nvPr/>
        </p:nvSpPr>
        <p:spPr>
          <a:xfrm flipH="1">
            <a:off x="2963520" y="2809800"/>
            <a:ext cx="222120" cy="573120"/>
          </a:xfrm>
          <a:prstGeom prst="line">
            <a:avLst/>
          </a:prstGeom>
          <a:ln w="25560">
            <a:solidFill>
              <a:srgbClr val="996633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2" name="Rectangle 102"/>
          <p:cNvSpPr/>
          <p:nvPr/>
        </p:nvSpPr>
        <p:spPr>
          <a:xfrm>
            <a:off x="1714680" y="2235240"/>
            <a:ext cx="8251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Arial Narrow"/>
                <a:ea typeface="HY견고딕"/>
              </a:rPr>
              <a:t>（ＬＯＡＤ）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3" name="Rectangle 104"/>
          <p:cNvSpPr/>
          <p:nvPr/>
        </p:nvSpPr>
        <p:spPr>
          <a:xfrm>
            <a:off x="2198160" y="5519880"/>
            <a:ext cx="11757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Sample loop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4" name="Line 105"/>
          <p:cNvSpPr/>
          <p:nvPr/>
        </p:nvSpPr>
        <p:spPr>
          <a:xfrm flipH="1" flipV="1">
            <a:off x="2469960" y="5049720"/>
            <a:ext cx="96840" cy="486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5" name="Arc 111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6" name="Arc 112"/>
          <p:cNvSpPr/>
          <p:nvPr/>
        </p:nvSpPr>
        <p:spPr>
          <a:xfrm flipV="1">
            <a:off x="1908000" y="298440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360 h 463680"/>
              <a:gd name="textAreaBottom" fmla="*/ 46440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w="5724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7" name="Line 107"/>
          <p:cNvSpPr/>
          <p:nvPr/>
        </p:nvSpPr>
        <p:spPr>
          <a:xfrm flipH="1">
            <a:off x="6694560" y="4273560"/>
            <a:ext cx="301680" cy="2253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8" name="Line 108"/>
          <p:cNvSpPr/>
          <p:nvPr/>
        </p:nvSpPr>
        <p:spPr>
          <a:xfrm>
            <a:off x="7062840" y="4322880"/>
            <a:ext cx="179280" cy="544320"/>
          </a:xfrm>
          <a:prstGeom prst="line">
            <a:avLst/>
          </a:prstGeom>
          <a:ln w="25560">
            <a:solidFill>
              <a:srgbClr val="00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9" name="Line 110"/>
          <p:cNvSpPr/>
          <p:nvPr/>
        </p:nvSpPr>
        <p:spPr>
          <a:xfrm>
            <a:off x="7064280" y="4324320"/>
            <a:ext cx="179640" cy="544680"/>
          </a:xfrm>
          <a:prstGeom prst="line">
            <a:avLst/>
          </a:prstGeom>
          <a:ln w="25560">
            <a:solidFill>
              <a:srgbClr val="ff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0" name="Line 47"/>
          <p:cNvSpPr/>
          <p:nvPr/>
        </p:nvSpPr>
        <p:spPr>
          <a:xfrm>
            <a:off x="5780160" y="3448080"/>
            <a:ext cx="0" cy="1135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1" name="Arc 48"/>
          <p:cNvSpPr/>
          <p:nvPr/>
        </p:nvSpPr>
        <p:spPr>
          <a:xfrm>
            <a:off x="5783400" y="4549680"/>
            <a:ext cx="906480" cy="463680"/>
          </a:xfrm>
          <a:custGeom>
            <a:avLst/>
            <a:gdLst>
              <a:gd name="textAreaLeft" fmla="*/ 0 w 906480"/>
              <a:gd name="textAreaRight" fmla="*/ 906840 w 906480"/>
              <a:gd name="textAreaTop" fmla="*/ 0 h 463680"/>
              <a:gd name="textAreaBottom" fmla="*/ 464040 h 46368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2" name="Line 106"/>
          <p:cNvSpPr/>
          <p:nvPr/>
        </p:nvSpPr>
        <p:spPr>
          <a:xfrm>
            <a:off x="6716880" y="3495600"/>
            <a:ext cx="301320" cy="225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3" name="Line 109"/>
          <p:cNvSpPr/>
          <p:nvPr/>
        </p:nvSpPr>
        <p:spPr>
          <a:xfrm flipH="1">
            <a:off x="6692400" y="4254480"/>
            <a:ext cx="328680" cy="2462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Arc 113"/>
          <p:cNvSpPr/>
          <p:nvPr/>
        </p:nvSpPr>
        <p:spPr>
          <a:xfrm flipV="1">
            <a:off x="5778360" y="2993400"/>
            <a:ext cx="906480" cy="463320"/>
          </a:xfrm>
          <a:custGeom>
            <a:avLst/>
            <a:gdLst>
              <a:gd name="textAreaLeft" fmla="*/ 0 w 906480"/>
              <a:gd name="textAreaRight" fmla="*/ 906840 w 906480"/>
              <a:gd name="textAreaTop" fmla="*/ -360 h 463320"/>
              <a:gd name="textAreaBottom" fmla="*/ 463320 h 463320"/>
            </a:gdLst>
            <a:ahLst/>
            <a:rect l="textAreaLeft" t="textAreaTop" r="textAreaRight" b="textAreaBottom"/>
            <a:pathLst>
              <a:path fill="none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</a:path>
              <a:path stroke="0" w="43195" h="21600">
                <a:moveTo>
                  <a:pt x="-22341" y="446"/>
                </a:moveTo>
                <a:cubicBezTo>
                  <a:pt x="-22584" y="12199"/>
                  <a:pt x="-32181" y="21599"/>
                  <a:pt x="21600" y="21600"/>
                </a:cubicBezTo>
                <a:cubicBezTo>
                  <a:pt x="9670" y="21600"/>
                  <a:pt x="0" y="11929"/>
                  <a:pt x="0" y="0"/>
                </a:cubicBezTo>
                <a:lnTo>
                  <a:pt x="21600" y="0"/>
                </a:lnTo>
                <a:lnTo>
                  <a:pt x="-22341" y="446"/>
                </a:lnTo>
                <a:close/>
              </a:path>
            </a:pathLst>
          </a:custGeom>
          <a:noFill/>
          <a:ln cap="rnd"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5" name="Text Box 115"/>
          <p:cNvSpPr/>
          <p:nvPr/>
        </p:nvSpPr>
        <p:spPr>
          <a:xfrm>
            <a:off x="2632320" y="41641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6" name="Text Box 116"/>
          <p:cNvSpPr/>
          <p:nvPr/>
        </p:nvSpPr>
        <p:spPr>
          <a:xfrm>
            <a:off x="2419560" y="402732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7" name="Text Box 117"/>
          <p:cNvSpPr/>
          <p:nvPr/>
        </p:nvSpPr>
        <p:spPr>
          <a:xfrm>
            <a:off x="2381400" y="367524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8" name="Text Box 118"/>
          <p:cNvSpPr/>
          <p:nvPr/>
        </p:nvSpPr>
        <p:spPr>
          <a:xfrm>
            <a:off x="2667240" y="34941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9" name="Text Box 119"/>
          <p:cNvSpPr/>
          <p:nvPr/>
        </p:nvSpPr>
        <p:spPr>
          <a:xfrm>
            <a:off x="2857680" y="36180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0" name="Text Box 120"/>
          <p:cNvSpPr/>
          <p:nvPr/>
        </p:nvSpPr>
        <p:spPr>
          <a:xfrm>
            <a:off x="2857680" y="41133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견고딕"/>
                <a:ea typeface="HY견고딕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1" name="Rectangle 12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6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8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0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6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4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26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0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epara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324000" y="2747880"/>
            <a:ext cx="8488080" cy="29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exclu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의 해리와 소수성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(hydrophobicity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pair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agent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의 이온 친화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              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이온쌍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Ion suppressio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H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에서의 소수성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1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Reversed phase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소수성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345960" y="2022480"/>
            <a:ext cx="848844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Ion exchange</a:t>
            </a:r>
            <a:r>
              <a:rPr b="0" lang="ja-JP" sz="2400" spc="-1" strike="noStrike">
                <a:solidFill>
                  <a:srgbClr val="ff0000"/>
                </a:solidFill>
                <a:latin typeface="Tahoma"/>
                <a:ea typeface="HY견고딕"/>
              </a:rPr>
              <a:t>：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이온의 원자가와 반지름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45" name="Picture 8" descr="as14a_3"/>
          <p:cNvPicPr/>
          <p:nvPr/>
        </p:nvPicPr>
        <p:blipFill>
          <a:blip r:embed="rId1"/>
          <a:stretch/>
        </p:blipFill>
        <p:spPr>
          <a:xfrm>
            <a:off x="5580000" y="4789440"/>
            <a:ext cx="2879640" cy="1592280"/>
          </a:xfrm>
          <a:prstGeom prst="rect">
            <a:avLst/>
          </a:prstGeom>
          <a:ln w="0">
            <a:noFill/>
          </a:ln>
        </p:spPr>
      </p:pic>
      <p:sp>
        <p:nvSpPr>
          <p:cNvPr id="646" name="Rectangle 9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Mechanism of ion exchange separ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48" name="Group 5"/>
          <p:cNvGrpSpPr/>
          <p:nvPr/>
        </p:nvGrpSpPr>
        <p:grpSpPr>
          <a:xfrm>
            <a:off x="4330080" y="4386240"/>
            <a:ext cx="2288160" cy="2196720"/>
            <a:chOff x="4330080" y="4386240"/>
            <a:chExt cx="2288160" cy="2196720"/>
          </a:xfrm>
        </p:grpSpPr>
        <p:sp>
          <p:nvSpPr>
            <p:cNvPr id="649" name="Rectangle 6"/>
            <p:cNvSpPr/>
            <p:nvPr/>
          </p:nvSpPr>
          <p:spPr>
            <a:xfrm>
              <a:off x="5843880" y="46242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0" name="Rectangle 7"/>
            <p:cNvSpPr/>
            <p:nvPr/>
          </p:nvSpPr>
          <p:spPr>
            <a:xfrm>
              <a:off x="6019560" y="527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1" name="Rectangle 8"/>
            <p:cNvSpPr/>
            <p:nvPr/>
          </p:nvSpPr>
          <p:spPr>
            <a:xfrm>
              <a:off x="5705280" y="62737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2" name="Rectangle 9"/>
            <p:cNvSpPr/>
            <p:nvPr/>
          </p:nvSpPr>
          <p:spPr>
            <a:xfrm>
              <a:off x="5688360" y="43862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3" name="Rectangle 10"/>
            <p:cNvSpPr/>
            <p:nvPr/>
          </p:nvSpPr>
          <p:spPr>
            <a:xfrm>
              <a:off x="5993280" y="4937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4" name="Rectangle 11"/>
            <p:cNvSpPr/>
            <p:nvPr/>
          </p:nvSpPr>
          <p:spPr>
            <a:xfrm>
              <a:off x="6048720" y="5546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5" name="Rectangle 12"/>
            <p:cNvSpPr/>
            <p:nvPr/>
          </p:nvSpPr>
          <p:spPr>
            <a:xfrm>
              <a:off x="5879160" y="60102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56" name="Rectangle 13"/>
            <p:cNvSpPr/>
            <p:nvPr/>
          </p:nvSpPr>
          <p:spPr>
            <a:xfrm>
              <a:off x="5980680" y="57830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57" name="Group 14"/>
            <p:cNvGrpSpPr/>
            <p:nvPr/>
          </p:nvGrpSpPr>
          <p:grpSpPr>
            <a:xfrm>
              <a:off x="4330080" y="4440240"/>
              <a:ext cx="2035440" cy="2142720"/>
              <a:chOff x="4330080" y="4440240"/>
              <a:chExt cx="2035440" cy="2142720"/>
            </a:xfrm>
          </p:grpSpPr>
          <p:sp>
            <p:nvSpPr>
              <p:cNvPr id="658" name="Arc 15"/>
              <p:cNvSpPr/>
              <p:nvPr/>
            </p:nvSpPr>
            <p:spPr>
              <a:xfrm rot="2400000">
                <a:off x="4701600" y="4730760"/>
                <a:ext cx="1291680" cy="1627200"/>
              </a:xfrm>
              <a:custGeom>
                <a:avLst/>
                <a:gdLst>
                  <a:gd name="textAreaLeft" fmla="*/ 0 w 1291680"/>
                  <a:gd name="textAreaRight" fmla="*/ 1292040 w 1291680"/>
                  <a:gd name="textAreaTop" fmla="*/ 0 h 1627200"/>
                  <a:gd name="textAreaBottom" fmla="*/ 1627560 h 1627200"/>
                </a:gdLst>
                <a:ahLst/>
                <a:rect l="textAreaLeft" t="textAreaTop" r="textAreaRight" b="textAreaBottom"/>
                <a:pathLst>
                  <a:path fill="none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</a:path>
                  <a:path stroke="0" w="21600" h="27238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3504"/>
                      <a:pt x="21348" y="25399"/>
                      <a:pt x="20851" y="2723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9" name="AutoShape 16"/>
              <p:cNvSpPr/>
              <p:nvPr/>
            </p:nvSpPr>
            <p:spPr>
              <a:xfrm>
                <a:off x="4649760" y="5151240"/>
                <a:ext cx="38880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60" name="Group 17"/>
              <p:cNvGrpSpPr/>
              <p:nvPr/>
            </p:nvGrpSpPr>
            <p:grpSpPr>
              <a:xfrm>
                <a:off x="5445720" y="4440240"/>
                <a:ext cx="586080" cy="2124720"/>
                <a:chOff x="5445720" y="4440240"/>
                <a:chExt cx="586080" cy="2124720"/>
              </a:xfrm>
            </p:grpSpPr>
            <p:grpSp>
              <p:nvGrpSpPr>
                <p:cNvPr id="661" name="Group 18"/>
                <p:cNvGrpSpPr/>
                <p:nvPr/>
              </p:nvGrpSpPr>
              <p:grpSpPr>
                <a:xfrm>
                  <a:off x="5480280" y="4440240"/>
                  <a:ext cx="551520" cy="1216800"/>
                  <a:chOff x="5480280" y="4440240"/>
                  <a:chExt cx="551520" cy="1216800"/>
                </a:xfrm>
              </p:grpSpPr>
              <p:grpSp>
                <p:nvGrpSpPr>
                  <p:cNvPr id="662" name="Group 19"/>
                  <p:cNvGrpSpPr/>
                  <p:nvPr/>
                </p:nvGrpSpPr>
                <p:grpSpPr>
                  <a:xfrm>
                    <a:off x="5480280" y="4440240"/>
                    <a:ext cx="208800" cy="261000"/>
                    <a:chOff x="5480280" y="4440240"/>
                    <a:chExt cx="208800" cy="261000"/>
                  </a:xfrm>
                </p:grpSpPr>
                <p:sp>
                  <p:nvSpPr>
                    <p:cNvPr id="663" name="Oval 20"/>
                    <p:cNvSpPr/>
                    <p:nvPr/>
                  </p:nvSpPr>
                  <p:spPr>
                    <a:xfrm>
                      <a:off x="5501520" y="44942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4" name="Rectangle 21"/>
                    <p:cNvSpPr/>
                    <p:nvPr/>
                  </p:nvSpPr>
                  <p:spPr>
                    <a:xfrm>
                      <a:off x="5480280" y="44402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5" name="Group 22"/>
                  <p:cNvGrpSpPr/>
                  <p:nvPr/>
                </p:nvGrpSpPr>
                <p:grpSpPr>
                  <a:xfrm>
                    <a:off x="5610240" y="4614840"/>
                    <a:ext cx="208800" cy="261000"/>
                    <a:chOff x="5610240" y="4614840"/>
                    <a:chExt cx="208800" cy="261000"/>
                  </a:xfrm>
                </p:grpSpPr>
                <p:sp>
                  <p:nvSpPr>
                    <p:cNvPr id="666" name="Oval 23"/>
                    <p:cNvSpPr/>
                    <p:nvPr/>
                  </p:nvSpPr>
                  <p:spPr>
                    <a:xfrm>
                      <a:off x="5631480" y="4668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67" name="Rectangle 24"/>
                    <p:cNvSpPr/>
                    <p:nvPr/>
                  </p:nvSpPr>
                  <p:spPr>
                    <a:xfrm>
                      <a:off x="5610240" y="4614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68" name="Group 25"/>
                  <p:cNvGrpSpPr/>
                  <p:nvPr/>
                </p:nvGrpSpPr>
                <p:grpSpPr>
                  <a:xfrm>
                    <a:off x="5711760" y="4789440"/>
                    <a:ext cx="208800" cy="261000"/>
                    <a:chOff x="5711760" y="4789440"/>
                    <a:chExt cx="208800" cy="261000"/>
                  </a:xfrm>
                </p:grpSpPr>
                <p:sp>
                  <p:nvSpPr>
                    <p:cNvPr id="669" name="Oval 26"/>
                    <p:cNvSpPr/>
                    <p:nvPr/>
                  </p:nvSpPr>
                  <p:spPr>
                    <a:xfrm>
                      <a:off x="5733000" y="4843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0" name="Rectangle 27"/>
                    <p:cNvSpPr/>
                    <p:nvPr/>
                  </p:nvSpPr>
                  <p:spPr>
                    <a:xfrm>
                      <a:off x="5711760" y="4789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1" name="Group 28"/>
                  <p:cNvGrpSpPr/>
                  <p:nvPr/>
                </p:nvGrpSpPr>
                <p:grpSpPr>
                  <a:xfrm>
                    <a:off x="5781600" y="4983120"/>
                    <a:ext cx="208800" cy="261000"/>
                    <a:chOff x="5781600" y="4983120"/>
                    <a:chExt cx="208800" cy="261000"/>
                  </a:xfrm>
                </p:grpSpPr>
                <p:sp>
                  <p:nvSpPr>
                    <p:cNvPr id="672" name="Oval 29"/>
                    <p:cNvSpPr/>
                    <p:nvPr/>
                  </p:nvSpPr>
                  <p:spPr>
                    <a:xfrm>
                      <a:off x="5802840" y="503712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3" name="Rectangle 30"/>
                    <p:cNvSpPr/>
                    <p:nvPr/>
                  </p:nvSpPr>
                  <p:spPr>
                    <a:xfrm>
                      <a:off x="5781600" y="498312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4" name="Group 31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5" name="Oval 32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6" name="Rectangle 33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77" name="Group 34"/>
                  <p:cNvGrpSpPr/>
                  <p:nvPr/>
                </p:nvGrpSpPr>
                <p:grpSpPr>
                  <a:xfrm>
                    <a:off x="5816520" y="5186160"/>
                    <a:ext cx="208800" cy="261000"/>
                    <a:chOff x="5816520" y="5186160"/>
                    <a:chExt cx="208800" cy="261000"/>
                  </a:xfrm>
                </p:grpSpPr>
                <p:sp>
                  <p:nvSpPr>
                    <p:cNvPr id="678" name="Oval 35"/>
                    <p:cNvSpPr/>
                    <p:nvPr/>
                  </p:nvSpPr>
                  <p:spPr>
                    <a:xfrm>
                      <a:off x="5837760" y="52401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79" name="Rectangle 36"/>
                    <p:cNvSpPr/>
                    <p:nvPr/>
                  </p:nvSpPr>
                  <p:spPr>
                    <a:xfrm>
                      <a:off x="5816520" y="51861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0" name="Group 37"/>
                  <p:cNvGrpSpPr/>
                  <p:nvPr/>
                </p:nvGrpSpPr>
                <p:grpSpPr>
                  <a:xfrm>
                    <a:off x="5823000" y="5396040"/>
                    <a:ext cx="208800" cy="261000"/>
                    <a:chOff x="5823000" y="5396040"/>
                    <a:chExt cx="208800" cy="261000"/>
                  </a:xfrm>
                </p:grpSpPr>
                <p:sp>
                  <p:nvSpPr>
                    <p:cNvPr id="681" name="Oval 38"/>
                    <p:cNvSpPr/>
                    <p:nvPr/>
                  </p:nvSpPr>
                  <p:spPr>
                    <a:xfrm>
                      <a:off x="5844240" y="54500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2" name="Rectangle 39"/>
                    <p:cNvSpPr/>
                    <p:nvPr/>
                  </p:nvSpPr>
                  <p:spPr>
                    <a:xfrm>
                      <a:off x="5823000" y="53960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83" name="Group 40"/>
                <p:cNvGrpSpPr/>
                <p:nvPr/>
              </p:nvGrpSpPr>
              <p:grpSpPr>
                <a:xfrm>
                  <a:off x="5569200" y="5595840"/>
                  <a:ext cx="443520" cy="816840"/>
                  <a:chOff x="5569200" y="5595840"/>
                  <a:chExt cx="443520" cy="816840"/>
                </a:xfrm>
              </p:grpSpPr>
              <p:grpSp>
                <p:nvGrpSpPr>
                  <p:cNvPr id="684" name="Group 41"/>
                  <p:cNvGrpSpPr/>
                  <p:nvPr/>
                </p:nvGrpSpPr>
                <p:grpSpPr>
                  <a:xfrm>
                    <a:off x="5803920" y="5595840"/>
                    <a:ext cx="208800" cy="261000"/>
                    <a:chOff x="5803920" y="5595840"/>
                    <a:chExt cx="208800" cy="261000"/>
                  </a:xfrm>
                </p:grpSpPr>
                <p:sp>
                  <p:nvSpPr>
                    <p:cNvPr id="685" name="Oval 42"/>
                    <p:cNvSpPr/>
                    <p:nvPr/>
                  </p:nvSpPr>
                  <p:spPr>
                    <a:xfrm>
                      <a:off x="5825160" y="56498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6" name="Rectangle 43"/>
                    <p:cNvSpPr/>
                    <p:nvPr/>
                  </p:nvSpPr>
                  <p:spPr>
                    <a:xfrm>
                      <a:off x="5803920" y="55958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87" name="Group 44"/>
                  <p:cNvGrpSpPr/>
                  <p:nvPr/>
                </p:nvGrpSpPr>
                <p:grpSpPr>
                  <a:xfrm>
                    <a:off x="5746680" y="5805360"/>
                    <a:ext cx="208800" cy="261000"/>
                    <a:chOff x="5746680" y="5805360"/>
                    <a:chExt cx="208800" cy="261000"/>
                  </a:xfrm>
                </p:grpSpPr>
                <p:sp>
                  <p:nvSpPr>
                    <p:cNvPr id="688" name="Oval 45"/>
                    <p:cNvSpPr/>
                    <p:nvPr/>
                  </p:nvSpPr>
                  <p:spPr>
                    <a:xfrm>
                      <a:off x="5767920" y="585936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89" name="Rectangle 46"/>
                    <p:cNvSpPr/>
                    <p:nvPr/>
                  </p:nvSpPr>
                  <p:spPr>
                    <a:xfrm>
                      <a:off x="5746680" y="5805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0" name="Group 47"/>
                  <p:cNvGrpSpPr/>
                  <p:nvPr/>
                </p:nvGrpSpPr>
                <p:grpSpPr>
                  <a:xfrm>
                    <a:off x="5673600" y="5986440"/>
                    <a:ext cx="208800" cy="261000"/>
                    <a:chOff x="5673600" y="5986440"/>
                    <a:chExt cx="208800" cy="261000"/>
                  </a:xfrm>
                </p:grpSpPr>
                <p:sp>
                  <p:nvSpPr>
                    <p:cNvPr id="691" name="Oval 48"/>
                    <p:cNvSpPr/>
                    <p:nvPr/>
                  </p:nvSpPr>
                  <p:spPr>
                    <a:xfrm>
                      <a:off x="5694840" y="604044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2" name="Rectangle 49"/>
                    <p:cNvSpPr/>
                    <p:nvPr/>
                  </p:nvSpPr>
                  <p:spPr>
                    <a:xfrm>
                      <a:off x="5673600" y="59864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693" name="Group 50"/>
                  <p:cNvGrpSpPr/>
                  <p:nvPr/>
                </p:nvGrpSpPr>
                <p:grpSpPr>
                  <a:xfrm>
                    <a:off x="5569200" y="6151680"/>
                    <a:ext cx="208800" cy="261000"/>
                    <a:chOff x="5569200" y="6151680"/>
                    <a:chExt cx="208800" cy="261000"/>
                  </a:xfrm>
                </p:grpSpPr>
                <p:sp>
                  <p:nvSpPr>
                    <p:cNvPr id="694" name="Oval 51"/>
                    <p:cNvSpPr/>
                    <p:nvPr/>
                  </p:nvSpPr>
                  <p:spPr>
                    <a:xfrm>
                      <a:off x="5590440" y="6205680"/>
                      <a:ext cx="17244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695" name="Rectangle 52"/>
                    <p:cNvSpPr/>
                    <p:nvPr/>
                  </p:nvSpPr>
                  <p:spPr>
                    <a:xfrm>
                      <a:off x="5569200" y="6151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696" name="Group 53"/>
                <p:cNvGrpSpPr/>
                <p:nvPr/>
              </p:nvGrpSpPr>
              <p:grpSpPr>
                <a:xfrm>
                  <a:off x="5445720" y="6303960"/>
                  <a:ext cx="208800" cy="261000"/>
                  <a:chOff x="5445720" y="6303960"/>
                  <a:chExt cx="208800" cy="261000"/>
                </a:xfrm>
              </p:grpSpPr>
              <p:sp>
                <p:nvSpPr>
                  <p:cNvPr id="697" name="Oval 54"/>
                  <p:cNvSpPr/>
                  <p:nvPr/>
                </p:nvSpPr>
                <p:spPr>
                  <a:xfrm>
                    <a:off x="5466960" y="6357960"/>
                    <a:ext cx="17244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698" name="Rectangle 55"/>
                  <p:cNvSpPr/>
                  <p:nvPr/>
                </p:nvSpPr>
                <p:spPr>
                  <a:xfrm>
                    <a:off x="5445720" y="63039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grpSp>
        <p:nvGrpSpPr>
          <p:cNvPr id="699" name="Group 56"/>
          <p:cNvGrpSpPr/>
          <p:nvPr/>
        </p:nvGrpSpPr>
        <p:grpSpPr>
          <a:xfrm>
            <a:off x="5862600" y="4662360"/>
            <a:ext cx="1504080" cy="629280"/>
            <a:chOff x="5862600" y="4662360"/>
            <a:chExt cx="1504080" cy="629280"/>
          </a:xfrm>
        </p:grpSpPr>
        <p:sp>
          <p:nvSpPr>
            <p:cNvPr id="700" name="Arc 57"/>
            <p:cNvSpPr/>
            <p:nvPr/>
          </p:nvSpPr>
          <p:spPr>
            <a:xfrm>
              <a:off x="6359760" y="4802040"/>
              <a:ext cx="541080" cy="22536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</a:path>
                <a:path stroke="0" w="21598" h="21547">
                  <a:moveTo>
                    <a:pt x="1515" y="0"/>
                  </a:moveTo>
                  <a:cubicBezTo>
                    <a:pt x="12712" y="787"/>
                    <a:pt x="21439" y="10019"/>
                    <a:pt x="21597" y="21242"/>
                  </a:cubicBezTo>
                  <a:lnTo>
                    <a:pt x="0" y="21547"/>
                  </a:lnTo>
                  <a:lnTo>
                    <a:pt x="1515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1" name="Rectangle 58"/>
            <p:cNvSpPr/>
            <p:nvPr/>
          </p:nvSpPr>
          <p:spPr>
            <a:xfrm>
              <a:off x="6838560" y="5008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2" name="Rectangle 59"/>
            <p:cNvSpPr/>
            <p:nvPr/>
          </p:nvSpPr>
          <p:spPr>
            <a:xfrm>
              <a:off x="5862600" y="4662360"/>
              <a:ext cx="495360" cy="184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03" name="Rectangle 60"/>
          <p:cNvSpPr/>
          <p:nvPr/>
        </p:nvSpPr>
        <p:spPr>
          <a:xfrm>
            <a:off x="5835960" y="461340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04" name="Group 61"/>
          <p:cNvGrpSpPr/>
          <p:nvPr/>
        </p:nvGrpSpPr>
        <p:grpSpPr>
          <a:xfrm>
            <a:off x="1358640" y="4408560"/>
            <a:ext cx="2277360" cy="2191680"/>
            <a:chOff x="1358640" y="4408560"/>
            <a:chExt cx="2277360" cy="2191680"/>
          </a:xfrm>
        </p:grpSpPr>
        <p:sp>
          <p:nvSpPr>
            <p:cNvPr id="705" name="Arc 62"/>
            <p:cNvSpPr/>
            <p:nvPr/>
          </p:nvSpPr>
          <p:spPr>
            <a:xfrm rot="2400000">
              <a:off x="1730160" y="4731120"/>
              <a:ext cx="1292040" cy="1627200"/>
            </a:xfrm>
            <a:custGeom>
              <a:avLst/>
              <a:gdLst>
                <a:gd name="textAreaLeft" fmla="*/ 0 w 1292040"/>
                <a:gd name="textAreaRight" fmla="*/ 1292400 w 129204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6" name="Rectangle 63"/>
            <p:cNvSpPr/>
            <p:nvPr/>
          </p:nvSpPr>
          <p:spPr>
            <a:xfrm>
              <a:off x="2899800" y="464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7" name="Rectangle 64"/>
            <p:cNvSpPr/>
            <p:nvPr/>
          </p:nvSpPr>
          <p:spPr>
            <a:xfrm>
              <a:off x="3043440" y="5277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8" name="Rectangle 65"/>
            <p:cNvSpPr/>
            <p:nvPr/>
          </p:nvSpPr>
          <p:spPr>
            <a:xfrm>
              <a:off x="2723040" y="63169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09" name="Rectangle 66"/>
            <p:cNvSpPr/>
            <p:nvPr/>
          </p:nvSpPr>
          <p:spPr>
            <a:xfrm>
              <a:off x="2744280" y="44085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0" name="Rectangle 67"/>
            <p:cNvSpPr/>
            <p:nvPr/>
          </p:nvSpPr>
          <p:spPr>
            <a:xfrm>
              <a:off x="3048840" y="49611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1" name="Rectangle 68"/>
            <p:cNvSpPr/>
            <p:nvPr/>
          </p:nvSpPr>
          <p:spPr>
            <a:xfrm>
              <a:off x="3066480" y="55756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2" name="Rectangle 69"/>
            <p:cNvSpPr/>
            <p:nvPr/>
          </p:nvSpPr>
          <p:spPr>
            <a:xfrm>
              <a:off x="2915640" y="6039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3" name="Rectangle 70"/>
            <p:cNvSpPr/>
            <p:nvPr/>
          </p:nvSpPr>
          <p:spPr>
            <a:xfrm>
              <a:off x="3012480" y="578340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14" name="AutoShape 71"/>
            <p:cNvSpPr/>
            <p:nvPr/>
          </p:nvSpPr>
          <p:spPr>
            <a:xfrm>
              <a:off x="1928880" y="5151600"/>
              <a:ext cx="38880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15" name="Group 72"/>
            <p:cNvGrpSpPr/>
            <p:nvPr/>
          </p:nvGrpSpPr>
          <p:grpSpPr>
            <a:xfrm>
              <a:off x="2474640" y="4459680"/>
              <a:ext cx="586440" cy="2124720"/>
              <a:chOff x="2474640" y="4459680"/>
              <a:chExt cx="586440" cy="2124720"/>
            </a:xfrm>
          </p:grpSpPr>
          <p:grpSp>
            <p:nvGrpSpPr>
              <p:cNvPr id="716" name="Group 73"/>
              <p:cNvGrpSpPr/>
              <p:nvPr/>
            </p:nvGrpSpPr>
            <p:grpSpPr>
              <a:xfrm>
                <a:off x="2509560" y="4459680"/>
                <a:ext cx="551520" cy="1216800"/>
                <a:chOff x="2509560" y="4459680"/>
                <a:chExt cx="551520" cy="1216800"/>
              </a:xfrm>
            </p:grpSpPr>
            <p:grpSp>
              <p:nvGrpSpPr>
                <p:cNvPr id="717" name="Group 74"/>
                <p:cNvGrpSpPr/>
                <p:nvPr/>
              </p:nvGrpSpPr>
              <p:grpSpPr>
                <a:xfrm>
                  <a:off x="2509560" y="4459680"/>
                  <a:ext cx="208800" cy="261000"/>
                  <a:chOff x="2509560" y="4459680"/>
                  <a:chExt cx="208800" cy="261000"/>
                </a:xfrm>
              </p:grpSpPr>
              <p:sp>
                <p:nvSpPr>
                  <p:cNvPr id="718" name="Oval 75"/>
                  <p:cNvSpPr/>
                  <p:nvPr/>
                </p:nvSpPr>
                <p:spPr>
                  <a:xfrm>
                    <a:off x="2530800" y="45136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19" name="Rectangle 76"/>
                  <p:cNvSpPr/>
                  <p:nvPr/>
                </p:nvSpPr>
                <p:spPr>
                  <a:xfrm>
                    <a:off x="2509560" y="44596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0" name="Group 77"/>
                <p:cNvGrpSpPr/>
                <p:nvPr/>
              </p:nvGrpSpPr>
              <p:grpSpPr>
                <a:xfrm>
                  <a:off x="2639520" y="4634280"/>
                  <a:ext cx="208800" cy="261000"/>
                  <a:chOff x="2639520" y="4634280"/>
                  <a:chExt cx="208800" cy="261000"/>
                </a:xfrm>
              </p:grpSpPr>
              <p:sp>
                <p:nvSpPr>
                  <p:cNvPr id="721" name="Oval 78"/>
                  <p:cNvSpPr/>
                  <p:nvPr/>
                </p:nvSpPr>
                <p:spPr>
                  <a:xfrm>
                    <a:off x="2660760" y="4688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2" name="Rectangle 79"/>
                  <p:cNvSpPr/>
                  <p:nvPr/>
                </p:nvSpPr>
                <p:spPr>
                  <a:xfrm>
                    <a:off x="2639520" y="4634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3" name="Group 80"/>
                <p:cNvGrpSpPr/>
                <p:nvPr/>
              </p:nvGrpSpPr>
              <p:grpSpPr>
                <a:xfrm>
                  <a:off x="2741400" y="4808880"/>
                  <a:ext cx="208800" cy="261000"/>
                  <a:chOff x="2741400" y="4808880"/>
                  <a:chExt cx="208800" cy="261000"/>
                </a:xfrm>
              </p:grpSpPr>
              <p:sp>
                <p:nvSpPr>
                  <p:cNvPr id="724" name="Oval 81"/>
                  <p:cNvSpPr/>
                  <p:nvPr/>
                </p:nvSpPr>
                <p:spPr>
                  <a:xfrm>
                    <a:off x="2762640" y="4862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5" name="Rectangle 82"/>
                  <p:cNvSpPr/>
                  <p:nvPr/>
                </p:nvSpPr>
                <p:spPr>
                  <a:xfrm>
                    <a:off x="2741400" y="4808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6" name="Group 83"/>
                <p:cNvGrpSpPr/>
                <p:nvPr/>
              </p:nvGrpSpPr>
              <p:grpSpPr>
                <a:xfrm>
                  <a:off x="2811240" y="5002560"/>
                  <a:ext cx="208800" cy="261000"/>
                  <a:chOff x="2811240" y="5002560"/>
                  <a:chExt cx="208800" cy="261000"/>
                </a:xfrm>
              </p:grpSpPr>
              <p:sp>
                <p:nvSpPr>
                  <p:cNvPr id="727" name="Oval 84"/>
                  <p:cNvSpPr/>
                  <p:nvPr/>
                </p:nvSpPr>
                <p:spPr>
                  <a:xfrm>
                    <a:off x="2832480" y="5056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28" name="Rectangle 85"/>
                  <p:cNvSpPr/>
                  <p:nvPr/>
                </p:nvSpPr>
                <p:spPr>
                  <a:xfrm>
                    <a:off x="2811240" y="5002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29" name="Group 86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0" name="Oval 87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1" name="Rectangle 88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2" name="Group 89"/>
                <p:cNvGrpSpPr/>
                <p:nvPr/>
              </p:nvGrpSpPr>
              <p:grpSpPr>
                <a:xfrm>
                  <a:off x="2846160" y="5205600"/>
                  <a:ext cx="208800" cy="261000"/>
                  <a:chOff x="2846160" y="5205600"/>
                  <a:chExt cx="208800" cy="261000"/>
                </a:xfrm>
              </p:grpSpPr>
              <p:sp>
                <p:nvSpPr>
                  <p:cNvPr id="733" name="Oval 90"/>
                  <p:cNvSpPr/>
                  <p:nvPr/>
                </p:nvSpPr>
                <p:spPr>
                  <a:xfrm>
                    <a:off x="2867400" y="52596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4" name="Rectangle 91"/>
                  <p:cNvSpPr/>
                  <p:nvPr/>
                </p:nvSpPr>
                <p:spPr>
                  <a:xfrm>
                    <a:off x="2846160" y="52056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35" name="Group 92"/>
                <p:cNvGrpSpPr/>
                <p:nvPr/>
              </p:nvGrpSpPr>
              <p:grpSpPr>
                <a:xfrm>
                  <a:off x="2852280" y="5415480"/>
                  <a:ext cx="208800" cy="261000"/>
                  <a:chOff x="2852280" y="5415480"/>
                  <a:chExt cx="208800" cy="261000"/>
                </a:xfrm>
              </p:grpSpPr>
              <p:sp>
                <p:nvSpPr>
                  <p:cNvPr id="736" name="Oval 93"/>
                  <p:cNvSpPr/>
                  <p:nvPr/>
                </p:nvSpPr>
                <p:spPr>
                  <a:xfrm>
                    <a:off x="2873520" y="5469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37" name="Rectangle 94"/>
                  <p:cNvSpPr/>
                  <p:nvPr/>
                </p:nvSpPr>
                <p:spPr>
                  <a:xfrm>
                    <a:off x="2852280" y="5415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38" name="Group 95"/>
              <p:cNvGrpSpPr/>
              <p:nvPr/>
            </p:nvGrpSpPr>
            <p:grpSpPr>
              <a:xfrm>
                <a:off x="2598480" y="5615280"/>
                <a:ext cx="443520" cy="816840"/>
                <a:chOff x="2598480" y="5615280"/>
                <a:chExt cx="443520" cy="816840"/>
              </a:xfrm>
            </p:grpSpPr>
            <p:grpSp>
              <p:nvGrpSpPr>
                <p:cNvPr id="739" name="Group 96"/>
                <p:cNvGrpSpPr/>
                <p:nvPr/>
              </p:nvGrpSpPr>
              <p:grpSpPr>
                <a:xfrm>
                  <a:off x="2833200" y="5615280"/>
                  <a:ext cx="208800" cy="261000"/>
                  <a:chOff x="2833200" y="5615280"/>
                  <a:chExt cx="208800" cy="261000"/>
                </a:xfrm>
              </p:grpSpPr>
              <p:sp>
                <p:nvSpPr>
                  <p:cNvPr id="740" name="Oval 97"/>
                  <p:cNvSpPr/>
                  <p:nvPr/>
                </p:nvSpPr>
                <p:spPr>
                  <a:xfrm>
                    <a:off x="2854440" y="56692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1" name="Rectangle 98"/>
                  <p:cNvSpPr/>
                  <p:nvPr/>
                </p:nvSpPr>
                <p:spPr>
                  <a:xfrm>
                    <a:off x="2833200" y="56152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2" name="Group 99"/>
                <p:cNvGrpSpPr/>
                <p:nvPr/>
              </p:nvGrpSpPr>
              <p:grpSpPr>
                <a:xfrm>
                  <a:off x="2776320" y="5824800"/>
                  <a:ext cx="208800" cy="261000"/>
                  <a:chOff x="2776320" y="5824800"/>
                  <a:chExt cx="208800" cy="261000"/>
                </a:xfrm>
              </p:grpSpPr>
              <p:sp>
                <p:nvSpPr>
                  <p:cNvPr id="743" name="Oval 100"/>
                  <p:cNvSpPr/>
                  <p:nvPr/>
                </p:nvSpPr>
                <p:spPr>
                  <a:xfrm>
                    <a:off x="2797560" y="58788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4" name="Rectangle 101"/>
                  <p:cNvSpPr/>
                  <p:nvPr/>
                </p:nvSpPr>
                <p:spPr>
                  <a:xfrm>
                    <a:off x="2776320" y="58248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5" name="Group 102"/>
                <p:cNvGrpSpPr/>
                <p:nvPr/>
              </p:nvGrpSpPr>
              <p:grpSpPr>
                <a:xfrm>
                  <a:off x="2703240" y="6005880"/>
                  <a:ext cx="208800" cy="261000"/>
                  <a:chOff x="2703240" y="6005880"/>
                  <a:chExt cx="208800" cy="261000"/>
                </a:xfrm>
              </p:grpSpPr>
              <p:sp>
                <p:nvSpPr>
                  <p:cNvPr id="746" name="Oval 103"/>
                  <p:cNvSpPr/>
                  <p:nvPr/>
                </p:nvSpPr>
                <p:spPr>
                  <a:xfrm>
                    <a:off x="2724480" y="60598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47" name="Rectangle 104"/>
                  <p:cNvSpPr/>
                  <p:nvPr/>
                </p:nvSpPr>
                <p:spPr>
                  <a:xfrm>
                    <a:off x="2703240" y="60058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48" name="Group 105"/>
                <p:cNvGrpSpPr/>
                <p:nvPr/>
              </p:nvGrpSpPr>
              <p:grpSpPr>
                <a:xfrm>
                  <a:off x="2598480" y="6171120"/>
                  <a:ext cx="208800" cy="261000"/>
                  <a:chOff x="2598480" y="6171120"/>
                  <a:chExt cx="208800" cy="261000"/>
                </a:xfrm>
              </p:grpSpPr>
              <p:sp>
                <p:nvSpPr>
                  <p:cNvPr id="749" name="Oval 106"/>
                  <p:cNvSpPr/>
                  <p:nvPr/>
                </p:nvSpPr>
                <p:spPr>
                  <a:xfrm>
                    <a:off x="2619720" y="6225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50" name="Rectangle 107"/>
                  <p:cNvSpPr/>
                  <p:nvPr/>
                </p:nvSpPr>
                <p:spPr>
                  <a:xfrm>
                    <a:off x="2598480" y="6171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51" name="Group 108"/>
              <p:cNvGrpSpPr/>
              <p:nvPr/>
            </p:nvGrpSpPr>
            <p:grpSpPr>
              <a:xfrm>
                <a:off x="2474640" y="6323400"/>
                <a:ext cx="208800" cy="261000"/>
                <a:chOff x="2474640" y="6323400"/>
                <a:chExt cx="208800" cy="261000"/>
              </a:xfrm>
            </p:grpSpPr>
            <p:sp>
              <p:nvSpPr>
                <p:cNvPr id="752" name="Oval 109"/>
                <p:cNvSpPr/>
                <p:nvPr/>
              </p:nvSpPr>
              <p:spPr>
                <a:xfrm>
                  <a:off x="2495880" y="63774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3" name="Rectangle 110"/>
                <p:cNvSpPr/>
                <p:nvPr/>
              </p:nvSpPr>
              <p:spPr>
                <a:xfrm>
                  <a:off x="2474640" y="63234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754" name="Group 111"/>
          <p:cNvGrpSpPr/>
          <p:nvPr/>
        </p:nvGrpSpPr>
        <p:grpSpPr>
          <a:xfrm>
            <a:off x="3081240" y="5888160"/>
            <a:ext cx="1145160" cy="576360"/>
            <a:chOff x="3081240" y="5888160"/>
            <a:chExt cx="1145160" cy="576360"/>
          </a:xfrm>
        </p:grpSpPr>
        <p:sp>
          <p:nvSpPr>
            <p:cNvPr id="755" name="Arc 112"/>
            <p:cNvSpPr/>
            <p:nvPr/>
          </p:nvSpPr>
          <p:spPr>
            <a:xfrm>
              <a:off x="3517920" y="598788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</a:path>
                <a:path stroke="0" w="21598" h="21600">
                  <a:moveTo>
                    <a:pt x="83" y="0"/>
                  </a:moveTo>
                  <a:cubicBezTo>
                    <a:pt x="11861" y="45"/>
                    <a:pt x="21431" y="9518"/>
                    <a:pt x="21597" y="21295"/>
                  </a:cubicBezTo>
                  <a:lnTo>
                    <a:pt x="0" y="21600"/>
                  </a:lnTo>
                  <a:lnTo>
                    <a:pt x="83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6" name="Rectangle 113"/>
            <p:cNvSpPr/>
            <p:nvPr/>
          </p:nvSpPr>
          <p:spPr>
            <a:xfrm>
              <a:off x="3814200" y="618336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57" name="Rectangle 114"/>
            <p:cNvSpPr/>
            <p:nvPr/>
          </p:nvSpPr>
          <p:spPr>
            <a:xfrm>
              <a:off x="3081240" y="5888160"/>
              <a:ext cx="343080" cy="177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758" name="Rectangle 115"/>
          <p:cNvSpPr/>
          <p:nvPr/>
        </p:nvSpPr>
        <p:spPr>
          <a:xfrm>
            <a:off x="2988360" y="579744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59" name="Group 116"/>
          <p:cNvGrpSpPr/>
          <p:nvPr/>
        </p:nvGrpSpPr>
        <p:grpSpPr>
          <a:xfrm>
            <a:off x="2996640" y="1871640"/>
            <a:ext cx="2255040" cy="2185200"/>
            <a:chOff x="2996640" y="1871640"/>
            <a:chExt cx="2255040" cy="2185200"/>
          </a:xfrm>
        </p:grpSpPr>
        <p:sp>
          <p:nvSpPr>
            <p:cNvPr id="760" name="Arc 117"/>
            <p:cNvSpPr/>
            <p:nvPr/>
          </p:nvSpPr>
          <p:spPr>
            <a:xfrm rot="2400000">
              <a:off x="3368160" y="220500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1" name="Rectangle 118"/>
            <p:cNvSpPr/>
            <p:nvPr/>
          </p:nvSpPr>
          <p:spPr>
            <a:xfrm>
              <a:off x="4552920" y="21002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2" name="Rectangle 119"/>
            <p:cNvSpPr/>
            <p:nvPr/>
          </p:nvSpPr>
          <p:spPr>
            <a:xfrm>
              <a:off x="4670280" y="2720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3" name="Rectangle 120"/>
            <p:cNvSpPr/>
            <p:nvPr/>
          </p:nvSpPr>
          <p:spPr>
            <a:xfrm>
              <a:off x="4340160" y="37720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4" name="Rectangle 121"/>
            <p:cNvSpPr/>
            <p:nvPr/>
          </p:nvSpPr>
          <p:spPr>
            <a:xfrm>
              <a:off x="4366080" y="187164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5" name="Rectangle 122"/>
            <p:cNvSpPr/>
            <p:nvPr/>
          </p:nvSpPr>
          <p:spPr>
            <a:xfrm>
              <a:off x="4658400" y="24303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6" name="Rectangle 123"/>
            <p:cNvSpPr/>
            <p:nvPr/>
          </p:nvSpPr>
          <p:spPr>
            <a:xfrm>
              <a:off x="4682160" y="30258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7" name="Rectangle 124"/>
            <p:cNvSpPr/>
            <p:nvPr/>
          </p:nvSpPr>
          <p:spPr>
            <a:xfrm>
              <a:off x="4626720" y="3240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8" name="Rectangle 125"/>
            <p:cNvSpPr/>
            <p:nvPr/>
          </p:nvSpPr>
          <p:spPr>
            <a:xfrm>
              <a:off x="4543920" y="34657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69" name="AutoShape 126"/>
            <p:cNvSpPr/>
            <p:nvPr/>
          </p:nvSpPr>
          <p:spPr>
            <a:xfrm>
              <a:off x="3597120" y="2608200"/>
              <a:ext cx="288720" cy="714600"/>
            </a:xfrm>
            <a:prstGeom prst="rightArrow">
              <a:avLst>
                <a:gd name="adj1" fmla="val 50000"/>
                <a:gd name="adj2" fmla="val 50023"/>
              </a:avLst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70" name="Group 127"/>
            <p:cNvGrpSpPr/>
            <p:nvPr/>
          </p:nvGrpSpPr>
          <p:grpSpPr>
            <a:xfrm>
              <a:off x="4112280" y="1905120"/>
              <a:ext cx="586440" cy="2124720"/>
              <a:chOff x="4112280" y="1905120"/>
              <a:chExt cx="586440" cy="2124720"/>
            </a:xfrm>
          </p:grpSpPr>
          <p:grpSp>
            <p:nvGrpSpPr>
              <p:cNvPr id="771" name="Group 128"/>
              <p:cNvGrpSpPr/>
              <p:nvPr/>
            </p:nvGrpSpPr>
            <p:grpSpPr>
              <a:xfrm>
                <a:off x="4147200" y="1905120"/>
                <a:ext cx="551520" cy="1216800"/>
                <a:chOff x="4147200" y="1905120"/>
                <a:chExt cx="551520" cy="1216800"/>
              </a:xfrm>
            </p:grpSpPr>
            <p:grpSp>
              <p:nvGrpSpPr>
                <p:cNvPr id="772" name="Group 129"/>
                <p:cNvGrpSpPr/>
                <p:nvPr/>
              </p:nvGrpSpPr>
              <p:grpSpPr>
                <a:xfrm>
                  <a:off x="4147200" y="1905120"/>
                  <a:ext cx="208800" cy="261000"/>
                  <a:chOff x="4147200" y="1905120"/>
                  <a:chExt cx="208800" cy="261000"/>
                </a:xfrm>
              </p:grpSpPr>
              <p:sp>
                <p:nvSpPr>
                  <p:cNvPr id="773" name="Oval 130"/>
                  <p:cNvSpPr/>
                  <p:nvPr/>
                </p:nvSpPr>
                <p:spPr>
                  <a:xfrm>
                    <a:off x="4168440" y="19591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4" name="Rectangle 131"/>
                  <p:cNvSpPr/>
                  <p:nvPr/>
                </p:nvSpPr>
                <p:spPr>
                  <a:xfrm>
                    <a:off x="4147200" y="19051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5" name="Group 132"/>
                <p:cNvGrpSpPr/>
                <p:nvPr/>
              </p:nvGrpSpPr>
              <p:grpSpPr>
                <a:xfrm>
                  <a:off x="4277160" y="2079720"/>
                  <a:ext cx="208800" cy="261000"/>
                  <a:chOff x="4277160" y="2079720"/>
                  <a:chExt cx="208800" cy="261000"/>
                </a:xfrm>
              </p:grpSpPr>
              <p:sp>
                <p:nvSpPr>
                  <p:cNvPr id="776" name="Oval 133"/>
                  <p:cNvSpPr/>
                  <p:nvPr/>
                </p:nvSpPr>
                <p:spPr>
                  <a:xfrm>
                    <a:off x="4298400" y="2133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77" name="Rectangle 134"/>
                  <p:cNvSpPr/>
                  <p:nvPr/>
                </p:nvSpPr>
                <p:spPr>
                  <a:xfrm>
                    <a:off x="4277160" y="2079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78" name="Group 135"/>
                <p:cNvGrpSpPr/>
                <p:nvPr/>
              </p:nvGrpSpPr>
              <p:grpSpPr>
                <a:xfrm>
                  <a:off x="4379040" y="2254320"/>
                  <a:ext cx="208800" cy="261000"/>
                  <a:chOff x="4379040" y="2254320"/>
                  <a:chExt cx="208800" cy="261000"/>
                </a:xfrm>
              </p:grpSpPr>
              <p:sp>
                <p:nvSpPr>
                  <p:cNvPr id="779" name="Oval 136"/>
                  <p:cNvSpPr/>
                  <p:nvPr/>
                </p:nvSpPr>
                <p:spPr>
                  <a:xfrm>
                    <a:off x="4400280" y="2308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0" name="Rectangle 137"/>
                  <p:cNvSpPr/>
                  <p:nvPr/>
                </p:nvSpPr>
                <p:spPr>
                  <a:xfrm>
                    <a:off x="4379040" y="2254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1" name="Group 138"/>
                <p:cNvGrpSpPr/>
                <p:nvPr/>
              </p:nvGrpSpPr>
              <p:grpSpPr>
                <a:xfrm>
                  <a:off x="4448880" y="2448000"/>
                  <a:ext cx="208800" cy="261000"/>
                  <a:chOff x="4448880" y="2448000"/>
                  <a:chExt cx="208800" cy="261000"/>
                </a:xfrm>
              </p:grpSpPr>
              <p:sp>
                <p:nvSpPr>
                  <p:cNvPr id="782" name="Oval 139"/>
                  <p:cNvSpPr/>
                  <p:nvPr/>
                </p:nvSpPr>
                <p:spPr>
                  <a:xfrm>
                    <a:off x="4470120" y="250200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3" name="Rectangle 140"/>
                  <p:cNvSpPr/>
                  <p:nvPr/>
                </p:nvSpPr>
                <p:spPr>
                  <a:xfrm>
                    <a:off x="4448880" y="244800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4" name="Group 141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5" name="Oval 142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6" name="Rectangle 143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87" name="Group 144"/>
                <p:cNvGrpSpPr/>
                <p:nvPr/>
              </p:nvGrpSpPr>
              <p:grpSpPr>
                <a:xfrm>
                  <a:off x="4483800" y="2651040"/>
                  <a:ext cx="208800" cy="261000"/>
                  <a:chOff x="4483800" y="2651040"/>
                  <a:chExt cx="208800" cy="261000"/>
                </a:xfrm>
              </p:grpSpPr>
              <p:sp>
                <p:nvSpPr>
                  <p:cNvPr id="788" name="Oval 145"/>
                  <p:cNvSpPr/>
                  <p:nvPr/>
                </p:nvSpPr>
                <p:spPr>
                  <a:xfrm>
                    <a:off x="4505040" y="27050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89" name="Rectangle 146"/>
                  <p:cNvSpPr/>
                  <p:nvPr/>
                </p:nvSpPr>
                <p:spPr>
                  <a:xfrm>
                    <a:off x="4483800" y="26510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0" name="Group 147"/>
                <p:cNvGrpSpPr/>
                <p:nvPr/>
              </p:nvGrpSpPr>
              <p:grpSpPr>
                <a:xfrm>
                  <a:off x="4489920" y="2860920"/>
                  <a:ext cx="208800" cy="261000"/>
                  <a:chOff x="4489920" y="2860920"/>
                  <a:chExt cx="208800" cy="261000"/>
                </a:xfrm>
              </p:grpSpPr>
              <p:sp>
                <p:nvSpPr>
                  <p:cNvPr id="791" name="Oval 148"/>
                  <p:cNvSpPr/>
                  <p:nvPr/>
                </p:nvSpPr>
                <p:spPr>
                  <a:xfrm>
                    <a:off x="4511160" y="29149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2" name="Rectangle 149"/>
                  <p:cNvSpPr/>
                  <p:nvPr/>
                </p:nvSpPr>
                <p:spPr>
                  <a:xfrm>
                    <a:off x="4489920" y="28609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793" name="Group 150"/>
              <p:cNvGrpSpPr/>
              <p:nvPr/>
            </p:nvGrpSpPr>
            <p:grpSpPr>
              <a:xfrm>
                <a:off x="4236120" y="3060720"/>
                <a:ext cx="443520" cy="816840"/>
                <a:chOff x="4236120" y="3060720"/>
                <a:chExt cx="443520" cy="816840"/>
              </a:xfrm>
            </p:grpSpPr>
            <p:grpSp>
              <p:nvGrpSpPr>
                <p:cNvPr id="794" name="Group 151"/>
                <p:cNvGrpSpPr/>
                <p:nvPr/>
              </p:nvGrpSpPr>
              <p:grpSpPr>
                <a:xfrm>
                  <a:off x="4470840" y="3060720"/>
                  <a:ext cx="208800" cy="261000"/>
                  <a:chOff x="4470840" y="3060720"/>
                  <a:chExt cx="208800" cy="261000"/>
                </a:xfrm>
              </p:grpSpPr>
              <p:sp>
                <p:nvSpPr>
                  <p:cNvPr id="795" name="Oval 152"/>
                  <p:cNvSpPr/>
                  <p:nvPr/>
                </p:nvSpPr>
                <p:spPr>
                  <a:xfrm>
                    <a:off x="4492080" y="31147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6" name="Rectangle 153"/>
                  <p:cNvSpPr/>
                  <p:nvPr/>
                </p:nvSpPr>
                <p:spPr>
                  <a:xfrm>
                    <a:off x="4470840" y="30607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797" name="Group 154"/>
                <p:cNvGrpSpPr/>
                <p:nvPr/>
              </p:nvGrpSpPr>
              <p:grpSpPr>
                <a:xfrm>
                  <a:off x="4413960" y="3270240"/>
                  <a:ext cx="208800" cy="261000"/>
                  <a:chOff x="4413960" y="3270240"/>
                  <a:chExt cx="208800" cy="261000"/>
                </a:xfrm>
              </p:grpSpPr>
              <p:sp>
                <p:nvSpPr>
                  <p:cNvPr id="798" name="Oval 155"/>
                  <p:cNvSpPr/>
                  <p:nvPr/>
                </p:nvSpPr>
                <p:spPr>
                  <a:xfrm>
                    <a:off x="4435200" y="332424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799" name="Rectangle 156"/>
                  <p:cNvSpPr/>
                  <p:nvPr/>
                </p:nvSpPr>
                <p:spPr>
                  <a:xfrm>
                    <a:off x="4413960" y="327024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0" name="Group 157"/>
                <p:cNvGrpSpPr/>
                <p:nvPr/>
              </p:nvGrpSpPr>
              <p:grpSpPr>
                <a:xfrm>
                  <a:off x="4340880" y="3451320"/>
                  <a:ext cx="208800" cy="261000"/>
                  <a:chOff x="4340880" y="3451320"/>
                  <a:chExt cx="208800" cy="261000"/>
                </a:xfrm>
              </p:grpSpPr>
              <p:sp>
                <p:nvSpPr>
                  <p:cNvPr id="801" name="Oval 158"/>
                  <p:cNvSpPr/>
                  <p:nvPr/>
                </p:nvSpPr>
                <p:spPr>
                  <a:xfrm>
                    <a:off x="4362120" y="350532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2" name="Rectangle 159"/>
                  <p:cNvSpPr/>
                  <p:nvPr/>
                </p:nvSpPr>
                <p:spPr>
                  <a:xfrm>
                    <a:off x="4340880" y="345132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803" name="Group 160"/>
                <p:cNvGrpSpPr/>
                <p:nvPr/>
              </p:nvGrpSpPr>
              <p:grpSpPr>
                <a:xfrm>
                  <a:off x="4236120" y="3616560"/>
                  <a:ext cx="208800" cy="261000"/>
                  <a:chOff x="4236120" y="3616560"/>
                  <a:chExt cx="208800" cy="261000"/>
                </a:xfrm>
              </p:grpSpPr>
              <p:sp>
                <p:nvSpPr>
                  <p:cNvPr id="804" name="Oval 161"/>
                  <p:cNvSpPr/>
                  <p:nvPr/>
                </p:nvSpPr>
                <p:spPr>
                  <a:xfrm>
                    <a:off x="4257360" y="367056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805" name="Rectangle 162"/>
                  <p:cNvSpPr/>
                  <p:nvPr/>
                </p:nvSpPr>
                <p:spPr>
                  <a:xfrm>
                    <a:off x="4236120" y="361656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806" name="Group 163"/>
              <p:cNvGrpSpPr/>
              <p:nvPr/>
            </p:nvGrpSpPr>
            <p:grpSpPr>
              <a:xfrm>
                <a:off x="4112280" y="3768840"/>
                <a:ext cx="208800" cy="261000"/>
                <a:chOff x="4112280" y="3768840"/>
                <a:chExt cx="208800" cy="261000"/>
              </a:xfrm>
            </p:grpSpPr>
            <p:sp>
              <p:nvSpPr>
                <p:cNvPr id="807" name="Oval 164"/>
                <p:cNvSpPr/>
                <p:nvPr/>
              </p:nvSpPr>
              <p:spPr>
                <a:xfrm>
                  <a:off x="4133520" y="38228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08" name="Rectangle 165"/>
                <p:cNvSpPr/>
                <p:nvPr/>
              </p:nvSpPr>
              <p:spPr>
                <a:xfrm>
                  <a:off x="4112280" y="37688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809" name="Group 166"/>
          <p:cNvGrpSpPr/>
          <p:nvPr/>
        </p:nvGrpSpPr>
        <p:grpSpPr>
          <a:xfrm>
            <a:off x="4573440" y="2120760"/>
            <a:ext cx="1537920" cy="559440"/>
            <a:chOff x="4573440" y="2120760"/>
            <a:chExt cx="1537920" cy="559440"/>
          </a:xfrm>
        </p:grpSpPr>
        <p:sp>
          <p:nvSpPr>
            <p:cNvPr id="810" name="Arc 167"/>
            <p:cNvSpPr/>
            <p:nvPr/>
          </p:nvSpPr>
          <p:spPr>
            <a:xfrm>
              <a:off x="5097240" y="2225520"/>
              <a:ext cx="542880" cy="225360"/>
            </a:xfrm>
            <a:custGeom>
              <a:avLst/>
              <a:gdLst>
                <a:gd name="textAreaLeft" fmla="*/ 0 w 542880"/>
                <a:gd name="textAreaRight" fmla="*/ 543240 w 54288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</a:path>
                <a:path stroke="0" w="21598" h="21600">
                  <a:moveTo>
                    <a:pt x="62" y="0"/>
                  </a:moveTo>
                  <a:cubicBezTo>
                    <a:pt x="11848" y="34"/>
                    <a:pt x="21431" y="9510"/>
                    <a:pt x="21597" y="21295"/>
                  </a:cubicBezTo>
                  <a:lnTo>
                    <a:pt x="0" y="21600"/>
                  </a:lnTo>
                  <a:lnTo>
                    <a:pt x="62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1" name="Rectangle 168"/>
            <p:cNvSpPr/>
            <p:nvPr/>
          </p:nvSpPr>
          <p:spPr>
            <a:xfrm>
              <a:off x="5583240" y="239688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2" name="Rectangle 169"/>
            <p:cNvSpPr/>
            <p:nvPr/>
          </p:nvSpPr>
          <p:spPr>
            <a:xfrm>
              <a:off x="4573440" y="2120760"/>
              <a:ext cx="49536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3" name="Rectangle 170"/>
          <p:cNvSpPr/>
          <p:nvPr/>
        </p:nvSpPr>
        <p:spPr>
          <a:xfrm>
            <a:off x="4557240" y="207972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ＳＯ</a:t>
            </a:r>
            <a:r>
              <a:rPr b="0" lang="ja-JP" sz="1300" spc="-1" strike="noStrike" baseline="-10000">
                <a:solidFill>
                  <a:srgbClr val="ff66ff"/>
                </a:solidFill>
                <a:latin typeface="Times New Roman"/>
                <a:ea typeface="MS PGothic"/>
              </a:rPr>
              <a:t>４</a:t>
            </a:r>
            <a:r>
              <a:rPr b="1" lang="ja-JP" sz="13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4" name="Group 171"/>
          <p:cNvGrpSpPr/>
          <p:nvPr/>
        </p:nvGrpSpPr>
        <p:grpSpPr>
          <a:xfrm>
            <a:off x="4643280" y="3301920"/>
            <a:ext cx="1434240" cy="626400"/>
            <a:chOff x="4643280" y="3301920"/>
            <a:chExt cx="1434240" cy="626400"/>
          </a:xfrm>
        </p:grpSpPr>
        <p:sp>
          <p:nvSpPr>
            <p:cNvPr id="815" name="Arc 172"/>
            <p:cNvSpPr/>
            <p:nvPr/>
          </p:nvSpPr>
          <p:spPr>
            <a:xfrm>
              <a:off x="5210280" y="3444840"/>
              <a:ext cx="406440" cy="26820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fill="none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</a:path>
                <a:path stroke="0" w="21600" h="25788">
                  <a:moveTo>
                    <a:pt x="2092" y="-1"/>
                  </a:moveTo>
                  <a:cubicBezTo>
                    <a:pt x="13158" y="1076"/>
                    <a:pt x="21600" y="10378"/>
                    <a:pt x="21600" y="21498"/>
                  </a:cubicBezTo>
                  <a:cubicBezTo>
                    <a:pt x="21600" y="22938"/>
                    <a:pt x="21455" y="24375"/>
                    <a:pt x="21169" y="25787"/>
                  </a:cubicBezTo>
                  <a:lnTo>
                    <a:pt x="0" y="21498"/>
                  </a:lnTo>
                  <a:lnTo>
                    <a:pt x="209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6" name="Rectangle 173"/>
            <p:cNvSpPr/>
            <p:nvPr/>
          </p:nvSpPr>
          <p:spPr>
            <a:xfrm>
              <a:off x="5508000" y="364500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7" name="Rectangle 174"/>
            <p:cNvSpPr/>
            <p:nvPr/>
          </p:nvSpPr>
          <p:spPr>
            <a:xfrm>
              <a:off x="4643280" y="3301920"/>
              <a:ext cx="584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18" name="Rectangle 175"/>
          <p:cNvSpPr/>
          <p:nvPr/>
        </p:nvSpPr>
        <p:spPr>
          <a:xfrm>
            <a:off x="4601520" y="3249720"/>
            <a:ext cx="41220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ff66ff"/>
                </a:solidFill>
                <a:latin typeface="Times New Roman"/>
                <a:ea typeface="MS PGothic"/>
              </a:rPr>
              <a:t>Ｃｌ</a:t>
            </a:r>
            <a:r>
              <a:rPr b="1" lang="ja-JP" sz="1100" spc="-1" strike="noStrike" baseline="30000">
                <a:solidFill>
                  <a:srgbClr val="ff66ff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19" name="Group 176"/>
          <p:cNvGrpSpPr/>
          <p:nvPr/>
        </p:nvGrpSpPr>
        <p:grpSpPr>
          <a:xfrm>
            <a:off x="5081760" y="1628640"/>
            <a:ext cx="765000" cy="555480"/>
            <a:chOff x="5081760" y="1628640"/>
            <a:chExt cx="765000" cy="555480"/>
          </a:xfrm>
        </p:grpSpPr>
        <p:sp>
          <p:nvSpPr>
            <p:cNvPr id="820" name="Rectangle 177"/>
            <p:cNvSpPr/>
            <p:nvPr/>
          </p:nvSpPr>
          <p:spPr>
            <a:xfrm>
              <a:off x="5318640" y="1628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ＳＯ</a:t>
              </a:r>
              <a:r>
                <a:rPr b="0" lang="ja-JP" sz="1300" spc="-1" strike="noStrike" baseline="-10000">
                  <a:solidFill>
                    <a:srgbClr val="ff66ff"/>
                  </a:solidFill>
                  <a:latin typeface="Times New Roman"/>
                  <a:ea typeface="MS PGothic"/>
                </a:rPr>
                <a:t>４</a:t>
              </a:r>
              <a:r>
                <a:rPr b="1" lang="ja-JP" sz="13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1" name="Arc 178"/>
            <p:cNvSpPr/>
            <p:nvPr/>
          </p:nvSpPr>
          <p:spPr>
            <a:xfrm>
              <a:off x="5081760" y="185544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22" name="Group 179"/>
          <p:cNvGrpSpPr/>
          <p:nvPr/>
        </p:nvGrpSpPr>
        <p:grpSpPr>
          <a:xfrm>
            <a:off x="5176800" y="2868480"/>
            <a:ext cx="751320" cy="479160"/>
            <a:chOff x="5176800" y="2868480"/>
            <a:chExt cx="751320" cy="479160"/>
          </a:xfrm>
        </p:grpSpPr>
        <p:sp>
          <p:nvSpPr>
            <p:cNvPr id="823" name="Rectangle 180"/>
            <p:cNvSpPr/>
            <p:nvPr/>
          </p:nvSpPr>
          <p:spPr>
            <a:xfrm>
              <a:off x="5515920" y="2868480"/>
              <a:ext cx="41220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ff66ff"/>
                  </a:solidFill>
                  <a:latin typeface="Times New Roman"/>
                  <a:ea typeface="MS PGothic"/>
                </a:rPr>
                <a:t>Ｃｌ</a:t>
              </a:r>
              <a:r>
                <a:rPr b="1" lang="ja-JP" sz="1100" spc="-1" strike="noStrike" baseline="30000">
                  <a:solidFill>
                    <a:srgbClr val="ff66ff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4" name="Arc 181"/>
            <p:cNvSpPr/>
            <p:nvPr/>
          </p:nvSpPr>
          <p:spPr>
            <a:xfrm>
              <a:off x="5176800" y="3036600"/>
              <a:ext cx="466920" cy="31104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6" y="13645"/>
                    <a:pt x="11191" y="21029"/>
                    <a:pt x="1159" y="21568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25" name="Rectangle 182"/>
          <p:cNvSpPr/>
          <p:nvPr/>
        </p:nvSpPr>
        <p:spPr>
          <a:xfrm>
            <a:off x="1986840" y="32400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MS PGothic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MS PGothic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MS PGothic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26" name="Group 183"/>
          <p:cNvGrpSpPr/>
          <p:nvPr/>
        </p:nvGrpSpPr>
        <p:grpSpPr>
          <a:xfrm>
            <a:off x="2333520" y="1662120"/>
            <a:ext cx="1090800" cy="2232720"/>
            <a:chOff x="2333520" y="1662120"/>
            <a:chExt cx="1090800" cy="2232720"/>
          </a:xfrm>
        </p:grpSpPr>
        <p:sp>
          <p:nvSpPr>
            <p:cNvPr id="827" name="Rectangle 184"/>
            <p:cNvSpPr/>
            <p:nvPr/>
          </p:nvSpPr>
          <p:spPr>
            <a:xfrm>
              <a:off x="2809800" y="24303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8" name="Rectangle 185"/>
            <p:cNvSpPr/>
            <p:nvPr/>
          </p:nvSpPr>
          <p:spPr>
            <a:xfrm>
              <a:off x="2494080" y="16621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9" name="Arc 186"/>
            <p:cNvSpPr/>
            <p:nvPr/>
          </p:nvSpPr>
          <p:spPr>
            <a:xfrm>
              <a:off x="2333520" y="1868400"/>
              <a:ext cx="326880" cy="328680"/>
            </a:xfrm>
            <a:custGeom>
              <a:avLst/>
              <a:gdLst>
                <a:gd name="textAreaLeft" fmla="*/ 0 w 326880"/>
                <a:gd name="textAreaRight" fmla="*/ 327240 w 326880"/>
                <a:gd name="textAreaTop" fmla="*/ 0 h 328680"/>
                <a:gd name="textAreaBottom" fmla="*/ 329040 h 328680"/>
              </a:gdLst>
              <a:ahLst/>
              <a:rect l="textAreaLeft" t="textAreaTop" r="textAreaRight" b="textAreaBottom"/>
              <a:pathLst>
                <a:path fill="none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</a:path>
                <a:path stroke="0" w="21600" h="22785">
                  <a:moveTo>
                    <a:pt x="21565" y="0"/>
                  </a:moveTo>
                  <a:cubicBezTo>
                    <a:pt x="21588" y="404"/>
                    <a:pt x="21600" y="810"/>
                    <a:pt x="21600" y="1216"/>
                  </a:cubicBezTo>
                  <a:cubicBezTo>
                    <a:pt x="21600" y="12695"/>
                    <a:pt x="12620" y="22169"/>
                    <a:pt x="1157" y="22784"/>
                  </a:cubicBezTo>
                  <a:lnTo>
                    <a:pt x="0" y="1216"/>
                  </a:lnTo>
                  <a:lnTo>
                    <a:pt x="21565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0" name="Arc 187"/>
            <p:cNvSpPr/>
            <p:nvPr/>
          </p:nvSpPr>
          <p:spPr>
            <a:xfrm>
              <a:off x="2355480" y="2262240"/>
              <a:ext cx="541440" cy="223920"/>
            </a:xfrm>
            <a:custGeom>
              <a:avLst/>
              <a:gdLst>
                <a:gd name="textAreaLeft" fmla="*/ 0 w 541440"/>
                <a:gd name="textAreaRight" fmla="*/ 541800 w 54144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fill="none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</a:path>
                <a:path stroke="0" w="21598" h="21395">
                  <a:moveTo>
                    <a:pt x="2969" y="0"/>
                  </a:moveTo>
                  <a:cubicBezTo>
                    <a:pt x="13534" y="1466"/>
                    <a:pt x="21447" y="10425"/>
                    <a:pt x="21597" y="21090"/>
                  </a:cubicBezTo>
                  <a:lnTo>
                    <a:pt x="0" y="21395"/>
                  </a:lnTo>
                  <a:lnTo>
                    <a:pt x="2969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1" name="Arc 188"/>
            <p:cNvSpPr/>
            <p:nvPr/>
          </p:nvSpPr>
          <p:spPr>
            <a:xfrm>
              <a:off x="2512800" y="3036960"/>
              <a:ext cx="468360" cy="31104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311040"/>
                <a:gd name="textAreaBottom" fmla="*/ 311400 h 311040"/>
              </a:gdLst>
              <a:ahLst/>
              <a:rect l="textAreaLeft" t="textAreaTop" r="textAreaRight" b="textAreaBottom"/>
              <a:pathLst>
                <a:path fill="none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</a:path>
                <a:path stroke="0" w="21272" h="21569">
                  <a:moveTo>
                    <a:pt x="21271" y="3752"/>
                  </a:moveTo>
                  <a:cubicBezTo>
                    <a:pt x="19525" y="13647"/>
                    <a:pt x="11188" y="21031"/>
                    <a:pt x="1156" y="21569"/>
                  </a:cubicBezTo>
                  <a:lnTo>
                    <a:pt x="0" y="0"/>
                  </a:lnTo>
                  <a:lnTo>
                    <a:pt x="21271" y="375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2" name="Arc 189"/>
            <p:cNvSpPr/>
            <p:nvPr/>
          </p:nvSpPr>
          <p:spPr>
            <a:xfrm>
              <a:off x="2446200" y="3475080"/>
              <a:ext cx="404640" cy="21276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212760"/>
                <a:gd name="textAreaBottom" fmla="*/ 213120 h 212760"/>
              </a:gdLst>
              <a:ahLst/>
              <a:rect l="textAreaLeft" t="textAreaTop" r="textAreaRight" b="textAreaBottom"/>
              <a:pathLst>
                <a:path fill="none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</a:path>
                <a:path stroke="0" w="21598" h="20410">
                  <a:moveTo>
                    <a:pt x="7071" y="0"/>
                  </a:moveTo>
                  <a:cubicBezTo>
                    <a:pt x="15662" y="2977"/>
                    <a:pt x="21469" y="11014"/>
                    <a:pt x="21597" y="20105"/>
                  </a:cubicBezTo>
                  <a:lnTo>
                    <a:pt x="0" y="20410"/>
                  </a:lnTo>
                  <a:lnTo>
                    <a:pt x="7071" y="0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3" name="Rectangle 190"/>
            <p:cNvSpPr/>
            <p:nvPr/>
          </p:nvSpPr>
          <p:spPr>
            <a:xfrm>
              <a:off x="2831040" y="28558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4" name="Rectangle 191"/>
            <p:cNvSpPr/>
            <p:nvPr/>
          </p:nvSpPr>
          <p:spPr>
            <a:xfrm>
              <a:off x="2854800" y="36115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835" name="Arc 192"/>
          <p:cNvSpPr/>
          <p:nvPr/>
        </p:nvSpPr>
        <p:spPr>
          <a:xfrm rot="2400000">
            <a:off x="712440" y="2185920"/>
            <a:ext cx="1290600" cy="1627200"/>
          </a:xfrm>
          <a:custGeom>
            <a:avLst/>
            <a:gdLst>
              <a:gd name="textAreaLeft" fmla="*/ 0 w 1290600"/>
              <a:gd name="textAreaRight" fmla="*/ 1290960 w 1290600"/>
              <a:gd name="textAreaTop" fmla="*/ 0 h 1627200"/>
              <a:gd name="textAreaBottom" fmla="*/ 1627560 h 1627200"/>
            </a:gdLst>
            <a:ahLst/>
            <a:rect l="textAreaLeft" t="textAreaTop" r="textAreaRight" b="textAreaBottom"/>
            <a:pathLst>
              <a:path fill="none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</a:path>
              <a:path stroke="0" w="21600" h="27238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cubicBezTo>
                  <a:pt x="21600" y="23504"/>
                  <a:pt x="21348" y="25399"/>
                  <a:pt x="20851" y="27238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6" name="Rectangle 193"/>
          <p:cNvSpPr/>
          <p:nvPr/>
        </p:nvSpPr>
        <p:spPr>
          <a:xfrm>
            <a:off x="1851120" y="211284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7" name="Rectangle 194"/>
          <p:cNvSpPr/>
          <p:nvPr/>
        </p:nvSpPr>
        <p:spPr>
          <a:xfrm>
            <a:off x="2019600" y="272736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8" name="Rectangle 195"/>
          <p:cNvSpPr/>
          <p:nvPr/>
        </p:nvSpPr>
        <p:spPr>
          <a:xfrm>
            <a:off x="1714680" y="3772080"/>
            <a:ext cx="5281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２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Rectangle 196"/>
          <p:cNvSpPr/>
          <p:nvPr/>
        </p:nvSpPr>
        <p:spPr>
          <a:xfrm>
            <a:off x="1683720" y="18651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Rectangle 197"/>
          <p:cNvSpPr/>
          <p:nvPr/>
        </p:nvSpPr>
        <p:spPr>
          <a:xfrm>
            <a:off x="1986840" y="24177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1" name="Rectangle 198"/>
          <p:cNvSpPr/>
          <p:nvPr/>
        </p:nvSpPr>
        <p:spPr>
          <a:xfrm>
            <a:off x="2042280" y="302580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2" name="Rectangle 199"/>
          <p:cNvSpPr/>
          <p:nvPr/>
        </p:nvSpPr>
        <p:spPr>
          <a:xfrm>
            <a:off x="1897920" y="3465360"/>
            <a:ext cx="569520" cy="28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1" lang="ja-JP" sz="1300" spc="-1" strike="noStrike">
                <a:solidFill>
                  <a:srgbClr val="000000"/>
                </a:solidFill>
                <a:latin typeface="Times New Roman"/>
                <a:ea typeface="MS PGothic"/>
              </a:rPr>
              <a:t>ＨＣＯ</a:t>
            </a:r>
            <a:r>
              <a:rPr b="1" lang="ja-JP" sz="1300" spc="-1" strike="noStrike" baseline="-10000">
                <a:solidFill>
                  <a:srgbClr val="000000"/>
                </a:solidFill>
                <a:latin typeface="Times New Roman"/>
                <a:ea typeface="MS PGothic"/>
              </a:rPr>
              <a:t>３</a:t>
            </a:r>
            <a:r>
              <a:rPr b="1" lang="ja-JP" sz="1100" spc="-1" strike="noStrike" baseline="30000">
                <a:solidFill>
                  <a:srgbClr val="000000"/>
                </a:solidFill>
                <a:latin typeface="Times New Roman"/>
                <a:ea typeface="MS PGothic"/>
              </a:rPr>
              <a:t>－</a:t>
            </a:r>
            <a:endParaRPr b="1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3" name="Rectangle 200"/>
          <p:cNvSpPr/>
          <p:nvPr/>
        </p:nvSpPr>
        <p:spPr>
          <a:xfrm>
            <a:off x="413640" y="2109960"/>
            <a:ext cx="1006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Temporal 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      </a:t>
            </a:r>
            <a:r>
              <a:rPr b="1" lang="en-US" sz="1600" spc="-1" strike="noStrike">
                <a:solidFill>
                  <a:srgbClr val="ff6600"/>
                </a:solidFill>
                <a:latin typeface="Arial Narrow"/>
                <a:ea typeface="MS Gothic"/>
              </a:rPr>
              <a:t>cours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4" name="AutoShape 201"/>
          <p:cNvSpPr/>
          <p:nvPr/>
        </p:nvSpPr>
        <p:spPr>
          <a:xfrm>
            <a:off x="952560" y="2608200"/>
            <a:ext cx="388800" cy="714600"/>
          </a:xfrm>
          <a:prstGeom prst="rightArrow">
            <a:avLst>
              <a:gd name="adj1" fmla="val 50000"/>
              <a:gd name="adj2" fmla="val 50023"/>
            </a:avLst>
          </a:prstGeom>
          <a:noFill/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45" name="Group 202"/>
          <p:cNvGrpSpPr/>
          <p:nvPr/>
        </p:nvGrpSpPr>
        <p:grpSpPr>
          <a:xfrm>
            <a:off x="7616880" y="1695600"/>
            <a:ext cx="1041840" cy="1915920"/>
            <a:chOff x="7616880" y="1695600"/>
            <a:chExt cx="1041840" cy="1915920"/>
          </a:xfrm>
        </p:grpSpPr>
        <p:grpSp>
          <p:nvGrpSpPr>
            <p:cNvPr id="846" name="Group 203"/>
            <p:cNvGrpSpPr/>
            <p:nvPr/>
          </p:nvGrpSpPr>
          <p:grpSpPr>
            <a:xfrm>
              <a:off x="7616880" y="1695600"/>
              <a:ext cx="728280" cy="743040"/>
              <a:chOff x="7616880" y="1695600"/>
              <a:chExt cx="728280" cy="743040"/>
            </a:xfrm>
          </p:grpSpPr>
          <p:sp>
            <p:nvSpPr>
              <p:cNvPr id="847" name="Rectangle 204"/>
              <p:cNvSpPr/>
              <p:nvPr/>
            </p:nvSpPr>
            <p:spPr>
              <a:xfrm>
                <a:off x="7817040" y="16956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8" name="Arc 205"/>
              <p:cNvSpPr/>
              <p:nvPr/>
            </p:nvSpPr>
            <p:spPr>
              <a:xfrm>
                <a:off x="7672320" y="1935360"/>
                <a:ext cx="220680" cy="249120"/>
              </a:xfrm>
              <a:custGeom>
                <a:avLst/>
                <a:gdLst>
                  <a:gd name="textAreaLeft" fmla="*/ 0 w 220680"/>
                  <a:gd name="textAreaRight" fmla="*/ 221040 w 220680"/>
                  <a:gd name="textAreaTop" fmla="*/ 0 h 249120"/>
                  <a:gd name="textAreaBottom" fmla="*/ 249480 h 249120"/>
                </a:gdLst>
                <a:ahLst/>
                <a:rect l="textAreaLeft" t="textAreaTop" r="textAreaRight" b="textAreaBottom"/>
                <a:pathLst>
                  <a:path fill="none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</a:path>
                  <a:path stroke="0" w="21600" h="22746">
                    <a:moveTo>
                      <a:pt x="21568" y="-1"/>
                    </a:moveTo>
                    <a:cubicBezTo>
                      <a:pt x="21589" y="388"/>
                      <a:pt x="21600" y="777"/>
                      <a:pt x="21600" y="1166"/>
                    </a:cubicBezTo>
                    <a:cubicBezTo>
                      <a:pt x="21600" y="12730"/>
                      <a:pt x="12491" y="22243"/>
                      <a:pt x="937" y="22745"/>
                    </a:cubicBezTo>
                    <a:lnTo>
                      <a:pt x="0" y="1166"/>
                    </a:lnTo>
                    <a:lnTo>
                      <a:pt x="21568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9" name="Arc 206"/>
              <p:cNvSpPr/>
              <p:nvPr/>
            </p:nvSpPr>
            <p:spPr>
              <a:xfrm>
                <a:off x="7688520" y="2266920"/>
                <a:ext cx="365040" cy="171720"/>
              </a:xfrm>
              <a:custGeom>
                <a:avLst/>
                <a:gdLst>
                  <a:gd name="textAreaLeft" fmla="*/ 0 w 365040"/>
                  <a:gd name="textAreaRight" fmla="*/ 365400 w 365040"/>
                  <a:gd name="textAreaTop" fmla="*/ 0 h 171720"/>
                  <a:gd name="textAreaBottom" fmla="*/ 172080 h 17172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</a:path>
                  <a:path stroke="0" w="21599" h="21600">
                    <a:moveTo>
                      <a:pt x="93" y="0"/>
                    </a:moveTo>
                    <a:cubicBezTo>
                      <a:pt x="11908" y="51"/>
                      <a:pt x="21489" y="9585"/>
                      <a:pt x="21599" y="21398"/>
                    </a:cubicBezTo>
                    <a:lnTo>
                      <a:pt x="0" y="21600"/>
                    </a:lnTo>
                    <a:lnTo>
                      <a:pt x="93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0" name="Arc 207"/>
              <p:cNvSpPr/>
              <p:nvPr/>
            </p:nvSpPr>
            <p:spPr>
              <a:xfrm>
                <a:off x="7616880" y="2176560"/>
                <a:ext cx="100080" cy="10332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03320"/>
                  <a:gd name="textAreaBottom" fmla="*/ 103680 h 103320"/>
                </a:gdLst>
                <a:ahLst/>
                <a:rect l="textAreaLeft" t="textAreaTop" r="textAreaRight" b="textAreaBottom"/>
                <a:pathLst>
                  <a:path fill="none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</a:path>
                  <a:path stroke="0" w="21600" h="39965">
                    <a:moveTo>
                      <a:pt x="13892" y="39965"/>
                    </a:moveTo>
                    <a:cubicBezTo>
                      <a:pt x="5526" y="36769"/>
                      <a:pt x="0" y="28742"/>
                      <a:pt x="0" y="19787"/>
                    </a:cubicBezTo>
                    <a:cubicBezTo>
                      <a:pt x="-1" y="11206"/>
                      <a:pt x="5078" y="3440"/>
                      <a:pt x="12938" y="-1"/>
                    </a:cubicBezTo>
                    <a:lnTo>
                      <a:pt x="21600" y="19787"/>
                    </a:lnTo>
                    <a:lnTo>
                      <a:pt x="13892" y="3996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1" name="Group 208"/>
            <p:cNvGrpSpPr/>
            <p:nvPr/>
          </p:nvGrpSpPr>
          <p:grpSpPr>
            <a:xfrm>
              <a:off x="7616880" y="2847960"/>
              <a:ext cx="1041840" cy="763560"/>
              <a:chOff x="7616880" y="2847960"/>
              <a:chExt cx="1041840" cy="763560"/>
            </a:xfrm>
          </p:grpSpPr>
          <p:sp>
            <p:nvSpPr>
              <p:cNvPr id="852" name="Rectangle 209"/>
              <p:cNvSpPr/>
              <p:nvPr/>
            </p:nvSpPr>
            <p:spPr>
              <a:xfrm>
                <a:off x="8089200" y="28479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3" name="Arc 210"/>
              <p:cNvSpPr/>
              <p:nvPr/>
            </p:nvSpPr>
            <p:spPr>
              <a:xfrm>
                <a:off x="7682040" y="3098880"/>
                <a:ext cx="528480" cy="255600"/>
              </a:xfrm>
              <a:custGeom>
                <a:avLst/>
                <a:gdLst>
                  <a:gd name="textAreaLeft" fmla="*/ 0 w 528480"/>
                  <a:gd name="textAreaRight" fmla="*/ 528840 w 528480"/>
                  <a:gd name="textAreaTop" fmla="*/ 0 h 255600"/>
                  <a:gd name="textAreaBottom" fmla="*/ 255960 h 255600"/>
                </a:gdLst>
                <a:ahLst/>
                <a:rect l="textAreaLeft" t="textAreaTop" r="textAreaRight" b="textAreaBottom"/>
                <a:pathLst>
                  <a:path fill="none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</a:path>
                  <a:path stroke="0" w="21600" h="22695">
                    <a:moveTo>
                      <a:pt x="21570" y="-1"/>
                    </a:moveTo>
                    <a:cubicBezTo>
                      <a:pt x="21590" y="376"/>
                      <a:pt x="21600" y="753"/>
                      <a:pt x="21600" y="1131"/>
                    </a:cubicBezTo>
                    <a:cubicBezTo>
                      <a:pt x="21600" y="12579"/>
                      <a:pt x="12667" y="22039"/>
                      <a:pt x="1238" y="22695"/>
                    </a:cubicBezTo>
                    <a:lnTo>
                      <a:pt x="0" y="1131"/>
                    </a:lnTo>
                    <a:lnTo>
                      <a:pt x="21570" y="-1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4" name="Arc 211"/>
              <p:cNvSpPr/>
              <p:nvPr/>
            </p:nvSpPr>
            <p:spPr>
              <a:xfrm>
                <a:off x="7707240" y="3440160"/>
                <a:ext cx="484200" cy="171360"/>
              </a:xfrm>
              <a:custGeom>
                <a:avLst/>
                <a:gdLst>
                  <a:gd name="textAreaLeft" fmla="*/ 0 w 484200"/>
                  <a:gd name="textAreaRight" fmla="*/ 484560 w 48420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fill="none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</a:path>
                  <a:path stroke="0" w="21599" h="21600">
                    <a:moveTo>
                      <a:pt x="70" y="0"/>
                    </a:moveTo>
                    <a:cubicBezTo>
                      <a:pt x="11894" y="38"/>
                      <a:pt x="21489" y="9576"/>
                      <a:pt x="21599" y="21398"/>
                    </a:cubicBezTo>
                    <a:lnTo>
                      <a:pt x="0" y="21600"/>
                    </a:lnTo>
                    <a:lnTo>
                      <a:pt x="70" y="0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5" name="Arc 212"/>
              <p:cNvSpPr/>
              <p:nvPr/>
            </p:nvSpPr>
            <p:spPr>
              <a:xfrm>
                <a:off x="7616880" y="3344760"/>
                <a:ext cx="131760" cy="10188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fill="none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</a:path>
                  <a:path stroke="0" w="21600" h="39895">
                    <a:moveTo>
                      <a:pt x="13538" y="39895"/>
                    </a:moveTo>
                    <a:cubicBezTo>
                      <a:pt x="5358" y="36604"/>
                      <a:pt x="0" y="28672"/>
                      <a:pt x="0" y="19856"/>
                    </a:cubicBezTo>
                    <a:cubicBezTo>
                      <a:pt x="-1" y="11213"/>
                      <a:pt x="5152" y="3402"/>
                      <a:pt x="13097" y="0"/>
                    </a:cubicBezTo>
                    <a:lnTo>
                      <a:pt x="21600" y="19856"/>
                    </a:lnTo>
                    <a:lnTo>
                      <a:pt x="13538" y="39895"/>
                    </a:lnTo>
                    <a:close/>
                  </a:path>
                </a:pathLst>
              </a:custGeom>
              <a:noFill/>
              <a:ln cap="rnd" w="2556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856" name="Group 213"/>
          <p:cNvGrpSpPr/>
          <p:nvPr/>
        </p:nvGrpSpPr>
        <p:grpSpPr>
          <a:xfrm>
            <a:off x="3444840" y="4351320"/>
            <a:ext cx="763560" cy="622080"/>
            <a:chOff x="3444840" y="4351320"/>
            <a:chExt cx="763560" cy="622080"/>
          </a:xfrm>
        </p:grpSpPr>
        <p:sp>
          <p:nvSpPr>
            <p:cNvPr id="857" name="Rectangle 214"/>
            <p:cNvSpPr/>
            <p:nvPr/>
          </p:nvSpPr>
          <p:spPr>
            <a:xfrm>
              <a:off x="3680280" y="435132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8" name="Arc 215"/>
            <p:cNvSpPr/>
            <p:nvPr/>
          </p:nvSpPr>
          <p:spPr>
            <a:xfrm>
              <a:off x="3514680" y="4568760"/>
              <a:ext cx="270000" cy="19368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fill="none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</a:path>
                <a:path stroke="0" w="21600" h="22698">
                  <a:moveTo>
                    <a:pt x="21570" y="0"/>
                  </a:moveTo>
                  <a:cubicBezTo>
                    <a:pt x="21590" y="373"/>
                    <a:pt x="21600" y="747"/>
                    <a:pt x="21600" y="1122"/>
                  </a:cubicBezTo>
                  <a:cubicBezTo>
                    <a:pt x="21600" y="12653"/>
                    <a:pt x="12542" y="22151"/>
                    <a:pt x="1023" y="22697"/>
                  </a:cubicBezTo>
                  <a:lnTo>
                    <a:pt x="0" y="1122"/>
                  </a:lnTo>
                  <a:lnTo>
                    <a:pt x="21570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9" name="Arc 216"/>
            <p:cNvSpPr/>
            <p:nvPr/>
          </p:nvSpPr>
          <p:spPr>
            <a:xfrm>
              <a:off x="3527640" y="4840200"/>
              <a:ext cx="447480" cy="133200"/>
            </a:xfrm>
            <a:custGeom>
              <a:avLst/>
              <a:gdLst>
                <a:gd name="textAreaLeft" fmla="*/ 0 w 447480"/>
                <a:gd name="textAreaRight" fmla="*/ 447840 w 447480"/>
                <a:gd name="textAreaTop" fmla="*/ 0 h 133200"/>
                <a:gd name="textAreaBottom" fmla="*/ 133200 h 133200"/>
              </a:gdLst>
              <a:ahLst/>
              <a:rect l="textAreaLeft" t="textAreaTop" r="textAreaRight" b="textAreaBottom"/>
              <a:pathLst>
                <a:path fill="none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</a:path>
                <a:path stroke="0" w="21598" h="21600">
                  <a:moveTo>
                    <a:pt x="76" y="0"/>
                  </a:moveTo>
                  <a:cubicBezTo>
                    <a:pt x="11875" y="42"/>
                    <a:pt x="21457" y="9544"/>
                    <a:pt x="21598" y="21341"/>
                  </a:cubicBezTo>
                  <a:lnTo>
                    <a:pt x="0" y="21600"/>
                  </a:lnTo>
                  <a:lnTo>
                    <a:pt x="7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0" name="Arc 217"/>
            <p:cNvSpPr/>
            <p:nvPr/>
          </p:nvSpPr>
          <p:spPr>
            <a:xfrm>
              <a:off x="3444840" y="4760640"/>
              <a:ext cx="120960" cy="795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79560"/>
                <a:gd name="textAreaBottom" fmla="*/ 79920 h 79560"/>
              </a:gdLst>
              <a:ahLst/>
              <a:rect l="textAreaLeft" t="textAreaTop" r="textAreaRight" b="textAreaBottom"/>
              <a:pathLst>
                <a:path fill="none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</a:path>
                <a:path stroke="0" w="21600" h="39837">
                  <a:moveTo>
                    <a:pt x="13614" y="39836"/>
                  </a:moveTo>
                  <a:cubicBezTo>
                    <a:pt x="5394" y="36565"/>
                    <a:pt x="0" y="28613"/>
                    <a:pt x="0" y="19767"/>
                  </a:cubicBezTo>
                  <a:cubicBezTo>
                    <a:pt x="-1" y="11205"/>
                    <a:pt x="5056" y="3451"/>
                    <a:pt x="12892" y="0"/>
                  </a:cubicBezTo>
                  <a:lnTo>
                    <a:pt x="21600" y="19767"/>
                  </a:lnTo>
                  <a:lnTo>
                    <a:pt x="13614" y="39836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1" name="Group 218"/>
          <p:cNvGrpSpPr/>
          <p:nvPr/>
        </p:nvGrpSpPr>
        <p:grpSpPr>
          <a:xfrm>
            <a:off x="3513240" y="5410080"/>
            <a:ext cx="895680" cy="492120"/>
            <a:chOff x="3513240" y="5410080"/>
            <a:chExt cx="895680" cy="492120"/>
          </a:xfrm>
        </p:grpSpPr>
        <p:sp>
          <p:nvSpPr>
            <p:cNvPr id="862" name="Arc 219"/>
            <p:cNvSpPr/>
            <p:nvPr/>
          </p:nvSpPr>
          <p:spPr>
            <a:xfrm>
              <a:off x="3513240" y="5590800"/>
              <a:ext cx="477720" cy="311400"/>
            </a:xfrm>
            <a:custGeom>
              <a:avLst/>
              <a:gdLst>
                <a:gd name="textAreaLeft" fmla="*/ 0 w 477720"/>
                <a:gd name="textAreaRight" fmla="*/ 478080 w 477720"/>
                <a:gd name="textAreaTop" fmla="*/ 0 h 311400"/>
                <a:gd name="textAreaBottom" fmla="*/ 311400 h 311400"/>
              </a:gdLst>
              <a:ahLst/>
              <a:rect l="textAreaLeft" t="textAreaTop" r="textAreaRight" b="textAreaBottom"/>
              <a:pathLst>
                <a:path fill="none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</a:path>
                <a:path stroke="0" w="21779" h="21600">
                  <a:moveTo>
                    <a:pt x="21779" y="3759"/>
                  </a:moveTo>
                  <a:cubicBezTo>
                    <a:pt x="19955" y="14078"/>
                    <a:pt x="10988" y="21599"/>
                    <a:pt x="509" y="21600"/>
                  </a:cubicBezTo>
                  <a:cubicBezTo>
                    <a:pt x="339" y="21600"/>
                    <a:pt x="169" y="21598"/>
                    <a:pt x="-1" y="21594"/>
                  </a:cubicBezTo>
                  <a:lnTo>
                    <a:pt x="509" y="0"/>
                  </a:lnTo>
                  <a:lnTo>
                    <a:pt x="21779" y="3759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3" name="Rectangle 220"/>
            <p:cNvSpPr/>
            <p:nvPr/>
          </p:nvSpPr>
          <p:spPr>
            <a:xfrm>
              <a:off x="3839400" y="541008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4" name="Group 221"/>
          <p:cNvGrpSpPr/>
          <p:nvPr/>
        </p:nvGrpSpPr>
        <p:grpSpPr>
          <a:xfrm>
            <a:off x="6337440" y="4340160"/>
            <a:ext cx="991800" cy="398520"/>
            <a:chOff x="6337440" y="4340160"/>
            <a:chExt cx="991800" cy="398520"/>
          </a:xfrm>
        </p:grpSpPr>
        <p:sp>
          <p:nvSpPr>
            <p:cNvPr id="865" name="Rectangle 222"/>
            <p:cNvSpPr/>
            <p:nvPr/>
          </p:nvSpPr>
          <p:spPr>
            <a:xfrm>
              <a:off x="6801120" y="434016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6" name="Arc 223"/>
            <p:cNvSpPr/>
            <p:nvPr/>
          </p:nvSpPr>
          <p:spPr>
            <a:xfrm>
              <a:off x="6337440" y="4557600"/>
              <a:ext cx="587160" cy="181080"/>
            </a:xfrm>
            <a:custGeom>
              <a:avLst/>
              <a:gdLst>
                <a:gd name="textAreaLeft" fmla="*/ 0 w 587160"/>
                <a:gd name="textAreaRight" fmla="*/ 587520 w 58716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fill="none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</a:path>
                <a:path stroke="0" w="21600" h="22766">
                  <a:moveTo>
                    <a:pt x="21566" y="0"/>
                  </a:moveTo>
                  <a:cubicBezTo>
                    <a:pt x="21588" y="399"/>
                    <a:pt x="21600" y="800"/>
                    <a:pt x="21600" y="1201"/>
                  </a:cubicBezTo>
                  <a:cubicBezTo>
                    <a:pt x="21600" y="12650"/>
                    <a:pt x="12665" y="22111"/>
                    <a:pt x="1234" y="22765"/>
                  </a:cubicBezTo>
                  <a:lnTo>
                    <a:pt x="0" y="1201"/>
                  </a:lnTo>
                  <a:lnTo>
                    <a:pt x="21566" y="0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67" name="Group 224"/>
          <p:cNvGrpSpPr/>
          <p:nvPr/>
        </p:nvGrpSpPr>
        <p:grpSpPr>
          <a:xfrm>
            <a:off x="6499080" y="5468760"/>
            <a:ext cx="954360" cy="994320"/>
            <a:chOff x="6499080" y="5468760"/>
            <a:chExt cx="954360" cy="994320"/>
          </a:xfrm>
        </p:grpSpPr>
        <p:sp>
          <p:nvSpPr>
            <p:cNvPr id="868" name="Arc 225"/>
            <p:cNvSpPr/>
            <p:nvPr/>
          </p:nvSpPr>
          <p:spPr>
            <a:xfrm>
              <a:off x="6499080" y="5646600"/>
              <a:ext cx="506160" cy="266400"/>
            </a:xfrm>
            <a:custGeom>
              <a:avLst/>
              <a:gdLst>
                <a:gd name="textAreaLeft" fmla="*/ 0 w 506160"/>
                <a:gd name="textAreaRight" fmla="*/ 506520 w 50616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fill="none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</a:path>
                <a:path stroke="0" w="21259" h="21348">
                  <a:moveTo>
                    <a:pt x="21259" y="3822"/>
                  </a:moveTo>
                  <a:cubicBezTo>
                    <a:pt x="19626" y="12902"/>
                    <a:pt x="12406" y="19944"/>
                    <a:pt x="3287" y="21348"/>
                  </a:cubicBezTo>
                  <a:lnTo>
                    <a:pt x="0" y="0"/>
                  </a:lnTo>
                  <a:lnTo>
                    <a:pt x="21259" y="3822"/>
                  </a:lnTo>
                  <a:close/>
                </a:path>
              </a:pathLst>
            </a:custGeom>
            <a:noFill/>
            <a:ln cap="rnd" w="2556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9" name="Arc 226"/>
            <p:cNvSpPr/>
            <p:nvPr/>
          </p:nvSpPr>
          <p:spPr>
            <a:xfrm>
              <a:off x="6521040" y="5978160"/>
              <a:ext cx="406440" cy="225360"/>
            </a:xfrm>
            <a:custGeom>
              <a:avLst/>
              <a:gdLst>
                <a:gd name="textAreaLeft" fmla="*/ 0 w 406440"/>
                <a:gd name="textAreaRight" fmla="*/ 406800 w 40644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fill="none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</a:path>
                <a:path stroke="0" w="21598" h="21534">
                  <a:moveTo>
                    <a:pt x="1682" y="-1"/>
                  </a:moveTo>
                  <a:cubicBezTo>
                    <a:pt x="12808" y="868"/>
                    <a:pt x="21440" y="10070"/>
                    <a:pt x="21597" y="21229"/>
                  </a:cubicBezTo>
                  <a:lnTo>
                    <a:pt x="0" y="21534"/>
                  </a:lnTo>
                  <a:lnTo>
                    <a:pt x="1682" y="-1"/>
                  </a:lnTo>
                  <a:close/>
                </a:path>
              </a:pathLst>
            </a:custGeom>
            <a:noFill/>
            <a:ln cap="rnd" w="25560">
              <a:solidFill>
                <a:srgbClr val="ff66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0" name="Rectangle 227"/>
            <p:cNvSpPr/>
            <p:nvPr/>
          </p:nvSpPr>
          <p:spPr>
            <a:xfrm>
              <a:off x="6883920" y="5468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1" name="Rectangle 228"/>
            <p:cNvSpPr/>
            <p:nvPr/>
          </p:nvSpPr>
          <p:spPr>
            <a:xfrm>
              <a:off x="6839640" y="617976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2" name="Group 229"/>
          <p:cNvGrpSpPr/>
          <p:nvPr/>
        </p:nvGrpSpPr>
        <p:grpSpPr>
          <a:xfrm>
            <a:off x="7767720" y="1708200"/>
            <a:ext cx="1002240" cy="2134440"/>
            <a:chOff x="7767720" y="1708200"/>
            <a:chExt cx="1002240" cy="2134440"/>
          </a:xfrm>
        </p:grpSpPr>
        <p:sp>
          <p:nvSpPr>
            <p:cNvPr id="873" name="Rectangle 230"/>
            <p:cNvSpPr/>
            <p:nvPr/>
          </p:nvSpPr>
          <p:spPr>
            <a:xfrm>
              <a:off x="8029800" y="236880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4" name="Rectangle 231"/>
            <p:cNvSpPr/>
            <p:nvPr/>
          </p:nvSpPr>
          <p:spPr>
            <a:xfrm>
              <a:off x="8200440" y="3559320"/>
              <a:ext cx="5695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Ｈ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5" name="Rectangle 232"/>
            <p:cNvSpPr/>
            <p:nvPr/>
          </p:nvSpPr>
          <p:spPr>
            <a:xfrm>
              <a:off x="7767720" y="17082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6" name="Rectangle 233"/>
            <p:cNvSpPr/>
            <p:nvPr/>
          </p:nvSpPr>
          <p:spPr>
            <a:xfrm>
              <a:off x="8072640" y="2863800"/>
              <a:ext cx="647640" cy="21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77" name="Group 234"/>
          <p:cNvGrpSpPr/>
          <p:nvPr/>
        </p:nvGrpSpPr>
        <p:grpSpPr>
          <a:xfrm>
            <a:off x="3627360" y="4363920"/>
            <a:ext cx="847080" cy="842040"/>
            <a:chOff x="3627360" y="4363920"/>
            <a:chExt cx="847080" cy="842040"/>
          </a:xfrm>
        </p:grpSpPr>
        <p:sp>
          <p:nvSpPr>
            <p:cNvPr id="878" name="Rectangle 235"/>
            <p:cNvSpPr/>
            <p:nvPr/>
          </p:nvSpPr>
          <p:spPr>
            <a:xfrm>
              <a:off x="3946320" y="4922640"/>
              <a:ext cx="528120" cy="28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39800"/>
                  <a:tab algn="l" pos="1479600"/>
                  <a:tab algn="l" pos="2219400"/>
                  <a:tab algn="l" pos="2959200"/>
                  <a:tab algn="l" pos="3699000"/>
                  <a:tab algn="l" pos="4438800"/>
                  <a:tab algn="l" pos="5178600"/>
                  <a:tab algn="l" pos="5918040"/>
                  <a:tab algn="l" pos="6657840"/>
                  <a:tab algn="l" pos="7397640"/>
                  <a:tab algn="l" pos="8137440"/>
                  <a:tab algn="l" pos="8877240"/>
                  <a:tab algn="l" pos="9617040"/>
                  <a:tab algn="l" pos="10356840"/>
                </a:tabLst>
              </a:pPr>
              <a:r>
                <a:rPr b="1" lang="ja-JP" sz="13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ＣＯ</a:t>
              </a:r>
              <a:r>
                <a:rPr b="1" lang="ja-JP" sz="1300" spc="-1" strike="noStrike" baseline="-10000">
                  <a:solidFill>
                    <a:srgbClr val="000000"/>
                  </a:solidFill>
                  <a:latin typeface="Times New Roman"/>
                  <a:ea typeface="MS PGothic"/>
                </a:rPr>
                <a:t>３</a:t>
              </a:r>
              <a:r>
                <a:rPr b="1" lang="ja-JP" sz="13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２</a:t>
              </a:r>
              <a:r>
                <a:rPr b="1" lang="ja-JP" sz="1100" spc="-1" strike="noStrike" baseline="30000">
                  <a:solidFill>
                    <a:srgbClr val="000000"/>
                  </a:solidFill>
                  <a:latin typeface="Times New Roman"/>
                  <a:ea typeface="MS PGothic"/>
                </a:rPr>
                <a:t>－</a:t>
              </a:r>
              <a:endParaRPr b="1" lang="en-US" sz="11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9" name="Rectangle 236"/>
            <p:cNvSpPr/>
            <p:nvPr/>
          </p:nvSpPr>
          <p:spPr>
            <a:xfrm>
              <a:off x="3627360" y="4363920"/>
              <a:ext cx="634680" cy="241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80" name="Group 237"/>
          <p:cNvGrpSpPr/>
          <p:nvPr/>
        </p:nvGrpSpPr>
        <p:grpSpPr>
          <a:xfrm>
            <a:off x="1451880" y="1905120"/>
            <a:ext cx="586440" cy="2124720"/>
            <a:chOff x="1451880" y="1905120"/>
            <a:chExt cx="586440" cy="2124720"/>
          </a:xfrm>
        </p:grpSpPr>
        <p:grpSp>
          <p:nvGrpSpPr>
            <p:cNvPr id="881" name="Group 238"/>
            <p:cNvGrpSpPr/>
            <p:nvPr/>
          </p:nvGrpSpPr>
          <p:grpSpPr>
            <a:xfrm>
              <a:off x="1486800" y="1905120"/>
              <a:ext cx="551520" cy="1216800"/>
              <a:chOff x="1486800" y="1905120"/>
              <a:chExt cx="551520" cy="1216800"/>
            </a:xfrm>
          </p:grpSpPr>
          <p:grpSp>
            <p:nvGrpSpPr>
              <p:cNvPr id="882" name="Group 239"/>
              <p:cNvGrpSpPr/>
              <p:nvPr/>
            </p:nvGrpSpPr>
            <p:grpSpPr>
              <a:xfrm>
                <a:off x="1486800" y="1905120"/>
                <a:ext cx="208800" cy="261000"/>
                <a:chOff x="1486800" y="1905120"/>
                <a:chExt cx="208800" cy="261000"/>
              </a:xfrm>
            </p:grpSpPr>
            <p:sp>
              <p:nvSpPr>
                <p:cNvPr id="883" name="Oval 240"/>
                <p:cNvSpPr/>
                <p:nvPr/>
              </p:nvSpPr>
              <p:spPr>
                <a:xfrm>
                  <a:off x="1508040" y="19591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4" name="Rectangle 241"/>
                <p:cNvSpPr/>
                <p:nvPr/>
              </p:nvSpPr>
              <p:spPr>
                <a:xfrm>
                  <a:off x="1486800" y="19051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5" name="Group 242"/>
              <p:cNvGrpSpPr/>
              <p:nvPr/>
            </p:nvGrpSpPr>
            <p:grpSpPr>
              <a:xfrm>
                <a:off x="1616760" y="2079720"/>
                <a:ext cx="208800" cy="261000"/>
                <a:chOff x="1616760" y="2079720"/>
                <a:chExt cx="208800" cy="261000"/>
              </a:xfrm>
            </p:grpSpPr>
            <p:sp>
              <p:nvSpPr>
                <p:cNvPr id="886" name="Oval 243"/>
                <p:cNvSpPr/>
                <p:nvPr/>
              </p:nvSpPr>
              <p:spPr>
                <a:xfrm>
                  <a:off x="1638000" y="2133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87" name="Rectangle 244"/>
                <p:cNvSpPr/>
                <p:nvPr/>
              </p:nvSpPr>
              <p:spPr>
                <a:xfrm>
                  <a:off x="1616760" y="2079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88" name="Group 245"/>
              <p:cNvGrpSpPr/>
              <p:nvPr/>
            </p:nvGrpSpPr>
            <p:grpSpPr>
              <a:xfrm>
                <a:off x="1718640" y="2254320"/>
                <a:ext cx="208800" cy="261000"/>
                <a:chOff x="1718640" y="2254320"/>
                <a:chExt cx="208800" cy="261000"/>
              </a:xfrm>
            </p:grpSpPr>
            <p:sp>
              <p:nvSpPr>
                <p:cNvPr id="889" name="Oval 246"/>
                <p:cNvSpPr/>
                <p:nvPr/>
              </p:nvSpPr>
              <p:spPr>
                <a:xfrm>
                  <a:off x="1739880" y="2308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0" name="Rectangle 247"/>
                <p:cNvSpPr/>
                <p:nvPr/>
              </p:nvSpPr>
              <p:spPr>
                <a:xfrm>
                  <a:off x="1718640" y="2254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1" name="Group 248"/>
              <p:cNvGrpSpPr/>
              <p:nvPr/>
            </p:nvGrpSpPr>
            <p:grpSpPr>
              <a:xfrm>
                <a:off x="1788480" y="2448000"/>
                <a:ext cx="208800" cy="261000"/>
                <a:chOff x="1788480" y="2448000"/>
                <a:chExt cx="208800" cy="261000"/>
              </a:xfrm>
            </p:grpSpPr>
            <p:sp>
              <p:nvSpPr>
                <p:cNvPr id="892" name="Oval 249"/>
                <p:cNvSpPr/>
                <p:nvPr/>
              </p:nvSpPr>
              <p:spPr>
                <a:xfrm>
                  <a:off x="1809720" y="250200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3" name="Rectangle 250"/>
                <p:cNvSpPr/>
                <p:nvPr/>
              </p:nvSpPr>
              <p:spPr>
                <a:xfrm>
                  <a:off x="1788480" y="244800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4" name="Group 251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5" name="Oval 252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6" name="Rectangle 253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897" name="Group 254"/>
              <p:cNvGrpSpPr/>
              <p:nvPr/>
            </p:nvGrpSpPr>
            <p:grpSpPr>
              <a:xfrm>
                <a:off x="1823400" y="2651040"/>
                <a:ext cx="208800" cy="261000"/>
                <a:chOff x="1823400" y="2651040"/>
                <a:chExt cx="208800" cy="261000"/>
              </a:xfrm>
            </p:grpSpPr>
            <p:sp>
              <p:nvSpPr>
                <p:cNvPr id="898" name="Oval 255"/>
                <p:cNvSpPr/>
                <p:nvPr/>
              </p:nvSpPr>
              <p:spPr>
                <a:xfrm>
                  <a:off x="1844640" y="27050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99" name="Rectangle 256"/>
                <p:cNvSpPr/>
                <p:nvPr/>
              </p:nvSpPr>
              <p:spPr>
                <a:xfrm>
                  <a:off x="1823400" y="26510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0" name="Group 257"/>
              <p:cNvGrpSpPr/>
              <p:nvPr/>
            </p:nvGrpSpPr>
            <p:grpSpPr>
              <a:xfrm>
                <a:off x="1829520" y="2860920"/>
                <a:ext cx="208800" cy="261000"/>
                <a:chOff x="1829520" y="2860920"/>
                <a:chExt cx="208800" cy="261000"/>
              </a:xfrm>
            </p:grpSpPr>
            <p:sp>
              <p:nvSpPr>
                <p:cNvPr id="901" name="Oval 258"/>
                <p:cNvSpPr/>
                <p:nvPr/>
              </p:nvSpPr>
              <p:spPr>
                <a:xfrm>
                  <a:off x="1850760" y="29149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2" name="Rectangle 259"/>
                <p:cNvSpPr/>
                <p:nvPr/>
              </p:nvSpPr>
              <p:spPr>
                <a:xfrm>
                  <a:off x="1829520" y="28609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03" name="Group 260"/>
            <p:cNvGrpSpPr/>
            <p:nvPr/>
          </p:nvGrpSpPr>
          <p:grpSpPr>
            <a:xfrm>
              <a:off x="1575720" y="3060720"/>
              <a:ext cx="443520" cy="816840"/>
              <a:chOff x="1575720" y="3060720"/>
              <a:chExt cx="443520" cy="816840"/>
            </a:xfrm>
          </p:grpSpPr>
          <p:grpSp>
            <p:nvGrpSpPr>
              <p:cNvPr id="904" name="Group 261"/>
              <p:cNvGrpSpPr/>
              <p:nvPr/>
            </p:nvGrpSpPr>
            <p:grpSpPr>
              <a:xfrm>
                <a:off x="1810440" y="3060720"/>
                <a:ext cx="208800" cy="261000"/>
                <a:chOff x="1810440" y="3060720"/>
                <a:chExt cx="208800" cy="261000"/>
              </a:xfrm>
            </p:grpSpPr>
            <p:sp>
              <p:nvSpPr>
                <p:cNvPr id="905" name="Oval 262"/>
                <p:cNvSpPr/>
                <p:nvPr/>
              </p:nvSpPr>
              <p:spPr>
                <a:xfrm>
                  <a:off x="1831680" y="31147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6" name="Rectangle 263"/>
                <p:cNvSpPr/>
                <p:nvPr/>
              </p:nvSpPr>
              <p:spPr>
                <a:xfrm>
                  <a:off x="1810440" y="30607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07" name="Group 264"/>
              <p:cNvGrpSpPr/>
              <p:nvPr/>
            </p:nvGrpSpPr>
            <p:grpSpPr>
              <a:xfrm>
                <a:off x="1753560" y="3270240"/>
                <a:ext cx="208800" cy="261000"/>
                <a:chOff x="1753560" y="3270240"/>
                <a:chExt cx="208800" cy="261000"/>
              </a:xfrm>
            </p:grpSpPr>
            <p:sp>
              <p:nvSpPr>
                <p:cNvPr id="908" name="Oval 265"/>
                <p:cNvSpPr/>
                <p:nvPr/>
              </p:nvSpPr>
              <p:spPr>
                <a:xfrm>
                  <a:off x="1774800" y="332424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09" name="Rectangle 266"/>
                <p:cNvSpPr/>
                <p:nvPr/>
              </p:nvSpPr>
              <p:spPr>
                <a:xfrm>
                  <a:off x="1753560" y="327024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0" name="Group 267"/>
              <p:cNvGrpSpPr/>
              <p:nvPr/>
            </p:nvGrpSpPr>
            <p:grpSpPr>
              <a:xfrm>
                <a:off x="1680480" y="3451320"/>
                <a:ext cx="208800" cy="261000"/>
                <a:chOff x="1680480" y="3451320"/>
                <a:chExt cx="208800" cy="261000"/>
              </a:xfrm>
            </p:grpSpPr>
            <p:sp>
              <p:nvSpPr>
                <p:cNvPr id="911" name="Oval 268"/>
                <p:cNvSpPr/>
                <p:nvPr/>
              </p:nvSpPr>
              <p:spPr>
                <a:xfrm>
                  <a:off x="1701720" y="350532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2" name="Rectangle 269"/>
                <p:cNvSpPr/>
                <p:nvPr/>
              </p:nvSpPr>
              <p:spPr>
                <a:xfrm>
                  <a:off x="1680480" y="345132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913" name="Group 270"/>
              <p:cNvGrpSpPr/>
              <p:nvPr/>
            </p:nvGrpSpPr>
            <p:grpSpPr>
              <a:xfrm>
                <a:off x="1575720" y="3616560"/>
                <a:ext cx="208800" cy="261000"/>
                <a:chOff x="1575720" y="3616560"/>
                <a:chExt cx="208800" cy="261000"/>
              </a:xfrm>
            </p:grpSpPr>
            <p:sp>
              <p:nvSpPr>
                <p:cNvPr id="914" name="Oval 271"/>
                <p:cNvSpPr/>
                <p:nvPr/>
              </p:nvSpPr>
              <p:spPr>
                <a:xfrm>
                  <a:off x="1596960" y="3670560"/>
                  <a:ext cx="172800" cy="1728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915" name="Rectangle 272"/>
                <p:cNvSpPr/>
                <p:nvPr/>
              </p:nvSpPr>
              <p:spPr>
                <a:xfrm>
                  <a:off x="1575720" y="3616560"/>
                  <a:ext cx="208800" cy="26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50760" rIns="50760" tIns="23760" bIns="2376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266760"/>
                      <a:tab algn="l" pos="533520"/>
                      <a:tab algn="l" pos="800280"/>
                      <a:tab algn="l" pos="1066680"/>
                      <a:tab algn="l" pos="1333440"/>
                      <a:tab algn="l" pos="1600200"/>
                      <a:tab algn="l" pos="1866960"/>
                      <a:tab algn="l" pos="2133720"/>
                      <a:tab algn="l" pos="2400480"/>
                      <a:tab algn="l" pos="2666880"/>
                      <a:tab algn="l" pos="2933640"/>
                      <a:tab algn="l" pos="3200400"/>
                      <a:tab algn="l" pos="3467160"/>
                      <a:tab algn="l" pos="3733920"/>
                      <a:tab algn="l" pos="4000680"/>
                      <a:tab algn="l" pos="4267080"/>
                      <a:tab algn="l" pos="4533840"/>
                      <a:tab algn="l" pos="4800600"/>
                      <a:tab algn="l" pos="5067360"/>
                      <a:tab algn="l" pos="5334120"/>
                    </a:tabLst>
                  </a:pPr>
                  <a:r>
                    <a:rPr b="1" lang="ja-JP" sz="14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916" name="Group 273"/>
            <p:cNvGrpSpPr/>
            <p:nvPr/>
          </p:nvGrpSpPr>
          <p:grpSpPr>
            <a:xfrm>
              <a:off x="1451880" y="3768840"/>
              <a:ext cx="208800" cy="261000"/>
              <a:chOff x="1451880" y="3768840"/>
              <a:chExt cx="208800" cy="261000"/>
            </a:xfrm>
          </p:grpSpPr>
          <p:sp>
            <p:nvSpPr>
              <p:cNvPr id="917" name="Oval 274"/>
              <p:cNvSpPr/>
              <p:nvPr/>
            </p:nvSpPr>
            <p:spPr>
              <a:xfrm>
                <a:off x="1473120" y="3822840"/>
                <a:ext cx="172800" cy="17280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8" name="Rectangle 275"/>
              <p:cNvSpPr/>
              <p:nvPr/>
            </p:nvSpPr>
            <p:spPr>
              <a:xfrm>
                <a:off x="1451880" y="3768840"/>
                <a:ext cx="208800" cy="26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50760" rIns="50760" tIns="23760" bIns="2376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266760"/>
                    <a:tab algn="l" pos="533520"/>
                    <a:tab algn="l" pos="800280"/>
                    <a:tab algn="l" pos="1066680"/>
                    <a:tab algn="l" pos="1333440"/>
                    <a:tab algn="l" pos="1600200"/>
                    <a:tab algn="l" pos="1866960"/>
                    <a:tab algn="l" pos="2133720"/>
                    <a:tab algn="l" pos="2400480"/>
                    <a:tab algn="l" pos="2666880"/>
                    <a:tab algn="l" pos="2933640"/>
                    <a:tab algn="l" pos="3200400"/>
                    <a:tab algn="l" pos="3467160"/>
                    <a:tab algn="l" pos="3733920"/>
                    <a:tab algn="l" pos="4000680"/>
                    <a:tab algn="l" pos="4267080"/>
                    <a:tab algn="l" pos="4533840"/>
                    <a:tab algn="l" pos="4800600"/>
                    <a:tab algn="l" pos="5067360"/>
                    <a:tab algn="l" pos="5334120"/>
                  </a:tabLst>
                </a:pPr>
                <a:r>
                  <a:rPr b="1" lang="ja-JP" sz="14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919" name="Group 276"/>
          <p:cNvGrpSpPr/>
          <p:nvPr/>
        </p:nvGrpSpPr>
        <p:grpSpPr>
          <a:xfrm>
            <a:off x="5598720" y="1865160"/>
            <a:ext cx="2258280" cy="2191320"/>
            <a:chOff x="5598720" y="1865160"/>
            <a:chExt cx="2258280" cy="2191320"/>
          </a:xfrm>
        </p:grpSpPr>
        <p:sp>
          <p:nvSpPr>
            <p:cNvPr id="920" name="Arc 277"/>
            <p:cNvSpPr/>
            <p:nvPr/>
          </p:nvSpPr>
          <p:spPr>
            <a:xfrm rot="2400000">
              <a:off x="5970240" y="2204640"/>
              <a:ext cx="1290600" cy="1627200"/>
            </a:xfrm>
            <a:custGeom>
              <a:avLst/>
              <a:gdLst>
                <a:gd name="textAreaLeft" fmla="*/ 0 w 1290600"/>
                <a:gd name="textAreaRight" fmla="*/ 1290960 w 1290600"/>
                <a:gd name="textAreaTop" fmla="*/ 0 h 1627200"/>
                <a:gd name="textAreaBottom" fmla="*/ 1627560 h 1627200"/>
              </a:gdLst>
              <a:ahLst/>
              <a:rect l="textAreaLeft" t="textAreaTop" r="textAreaRight" b="textAreaBottom"/>
              <a:pathLst>
                <a:path fill="none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</a:path>
                <a:path stroke="0" w="21600" h="27238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3504"/>
                    <a:pt x="21348" y="25399"/>
                    <a:pt x="20851" y="2723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1" name="Group 278"/>
            <p:cNvGrpSpPr/>
            <p:nvPr/>
          </p:nvGrpSpPr>
          <p:grpSpPr>
            <a:xfrm>
              <a:off x="6142320" y="1865160"/>
              <a:ext cx="1714680" cy="2183400"/>
              <a:chOff x="6142320" y="1865160"/>
              <a:chExt cx="1714680" cy="2183400"/>
            </a:xfrm>
          </p:grpSpPr>
          <p:sp>
            <p:nvSpPr>
              <p:cNvPr id="922" name="Rectangle 279"/>
              <p:cNvSpPr/>
              <p:nvPr/>
            </p:nvSpPr>
            <p:spPr>
              <a:xfrm>
                <a:off x="7287480" y="3025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3" name="Rectangle 280"/>
              <p:cNvSpPr/>
              <p:nvPr/>
            </p:nvSpPr>
            <p:spPr>
              <a:xfrm>
                <a:off x="7083000" y="20858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ＳＯ</a:t>
                </a:r>
                <a:r>
                  <a:rPr b="0" lang="ja-JP" sz="1300" spc="-1" strike="noStrike" baseline="-1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４</a:t>
                </a:r>
                <a:r>
                  <a:rPr b="1" lang="ja-JP" sz="13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Rectangle 281"/>
              <p:cNvSpPr/>
              <p:nvPr/>
            </p:nvSpPr>
            <p:spPr>
              <a:xfrm>
                <a:off x="7270920" y="271440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5" name="Rectangle 282"/>
              <p:cNvSpPr/>
              <p:nvPr/>
            </p:nvSpPr>
            <p:spPr>
              <a:xfrm>
                <a:off x="6966360" y="3765240"/>
                <a:ext cx="5281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3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２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6" name="Rectangle 283"/>
              <p:cNvSpPr/>
              <p:nvPr/>
            </p:nvSpPr>
            <p:spPr>
              <a:xfrm>
                <a:off x="6960600" y="186516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7" name="Rectangle 284"/>
              <p:cNvSpPr/>
              <p:nvPr/>
            </p:nvSpPr>
            <p:spPr>
              <a:xfrm>
                <a:off x="7244640" y="243648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8" name="Rectangle 285"/>
              <p:cNvSpPr/>
              <p:nvPr/>
            </p:nvSpPr>
            <p:spPr>
              <a:xfrm>
                <a:off x="7155720" y="3484440"/>
                <a:ext cx="569520" cy="28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ＨＣＯ</a:t>
                </a:r>
                <a:r>
                  <a:rPr b="1" lang="ja-JP" sz="1300" spc="-1" strike="noStrike" baseline="-1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３</a:t>
                </a:r>
                <a:r>
                  <a:rPr b="1" lang="ja-JP" sz="1100" spc="-1" strike="noStrike" baseline="30000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9" name="Rectangle 286"/>
              <p:cNvSpPr/>
              <p:nvPr/>
            </p:nvSpPr>
            <p:spPr>
              <a:xfrm>
                <a:off x="7195680" y="3239640"/>
                <a:ext cx="41220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739800"/>
                    <a:tab algn="l" pos="1479600"/>
                    <a:tab algn="l" pos="2219400"/>
                    <a:tab algn="l" pos="2959200"/>
                    <a:tab algn="l" pos="3699000"/>
                    <a:tab algn="l" pos="4438800"/>
                    <a:tab algn="l" pos="5178600"/>
                    <a:tab algn="l" pos="5918040"/>
                    <a:tab algn="l" pos="6657840"/>
                    <a:tab algn="l" pos="7397640"/>
                    <a:tab algn="l" pos="8137440"/>
                    <a:tab algn="l" pos="8877240"/>
                    <a:tab algn="l" pos="9617040"/>
                    <a:tab algn="l" pos="10356840"/>
                  </a:tabLst>
                </a:pPr>
                <a:r>
                  <a:rPr b="1" lang="ja-JP" sz="1300" spc="-1" strike="noStrike">
                    <a:solidFill>
                      <a:srgbClr val="ff66ff"/>
                    </a:solidFill>
                    <a:latin typeface="Times New Roman"/>
                    <a:ea typeface="MS PGothic"/>
                  </a:rPr>
                  <a:t>Ｃｌ</a:t>
                </a:r>
                <a:r>
                  <a:rPr b="1" lang="ja-JP" sz="1100" spc="-1" strike="noStrike" baseline="30000">
                    <a:solidFill>
                      <a:srgbClr val="ff66ff"/>
                    </a:solidFill>
                    <a:latin typeface="Times New Roman"/>
                    <a:ea typeface="MS PGothic"/>
                  </a:rPr>
                  <a:t>－</a:t>
                </a:r>
                <a:endParaRPr b="1" lang="en-US" sz="11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0" name="AutoShape 287"/>
              <p:cNvSpPr/>
              <p:nvPr/>
            </p:nvSpPr>
            <p:spPr>
              <a:xfrm>
                <a:off x="6142320" y="2607840"/>
                <a:ext cx="288720" cy="714600"/>
              </a:xfrm>
              <a:prstGeom prst="rightArrow">
                <a:avLst>
                  <a:gd name="adj1" fmla="val 50000"/>
                  <a:gd name="adj2" fmla="val 50023"/>
                </a:avLst>
              </a:prstGeom>
              <a:noFill/>
              <a:ln w="12600">
                <a:solidFill>
                  <a:srgbClr val="ff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931" name="Group 288"/>
              <p:cNvGrpSpPr/>
              <p:nvPr/>
            </p:nvGrpSpPr>
            <p:grpSpPr>
              <a:xfrm>
                <a:off x="6703560" y="1904760"/>
                <a:ext cx="586440" cy="2124720"/>
                <a:chOff x="6703560" y="1904760"/>
                <a:chExt cx="586440" cy="2124720"/>
              </a:xfrm>
            </p:grpSpPr>
            <p:grpSp>
              <p:nvGrpSpPr>
                <p:cNvPr id="932" name="Group 289"/>
                <p:cNvGrpSpPr/>
                <p:nvPr/>
              </p:nvGrpSpPr>
              <p:grpSpPr>
                <a:xfrm>
                  <a:off x="6738480" y="1904760"/>
                  <a:ext cx="551520" cy="1216800"/>
                  <a:chOff x="6738480" y="1904760"/>
                  <a:chExt cx="551520" cy="1216800"/>
                </a:xfrm>
              </p:grpSpPr>
              <p:grpSp>
                <p:nvGrpSpPr>
                  <p:cNvPr id="933" name="Group 290"/>
                  <p:cNvGrpSpPr/>
                  <p:nvPr/>
                </p:nvGrpSpPr>
                <p:grpSpPr>
                  <a:xfrm>
                    <a:off x="6738480" y="1904760"/>
                    <a:ext cx="208800" cy="261000"/>
                    <a:chOff x="6738480" y="1904760"/>
                    <a:chExt cx="208800" cy="261000"/>
                  </a:xfrm>
                </p:grpSpPr>
                <p:sp>
                  <p:nvSpPr>
                    <p:cNvPr id="934" name="Oval 291"/>
                    <p:cNvSpPr/>
                    <p:nvPr/>
                  </p:nvSpPr>
                  <p:spPr>
                    <a:xfrm>
                      <a:off x="6759720" y="19587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5" name="Rectangle 292"/>
                    <p:cNvSpPr/>
                    <p:nvPr/>
                  </p:nvSpPr>
                  <p:spPr>
                    <a:xfrm>
                      <a:off x="6738480" y="19047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6" name="Group 293"/>
                  <p:cNvGrpSpPr/>
                  <p:nvPr/>
                </p:nvGrpSpPr>
                <p:grpSpPr>
                  <a:xfrm>
                    <a:off x="6868440" y="2079360"/>
                    <a:ext cx="208800" cy="261000"/>
                    <a:chOff x="6868440" y="2079360"/>
                    <a:chExt cx="208800" cy="261000"/>
                  </a:xfrm>
                </p:grpSpPr>
                <p:sp>
                  <p:nvSpPr>
                    <p:cNvPr id="937" name="Oval 294"/>
                    <p:cNvSpPr/>
                    <p:nvPr/>
                  </p:nvSpPr>
                  <p:spPr>
                    <a:xfrm>
                      <a:off x="6889680" y="2133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38" name="Rectangle 295"/>
                    <p:cNvSpPr/>
                    <p:nvPr/>
                  </p:nvSpPr>
                  <p:spPr>
                    <a:xfrm>
                      <a:off x="6868440" y="2079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39" name="Group 296"/>
                  <p:cNvGrpSpPr/>
                  <p:nvPr/>
                </p:nvGrpSpPr>
                <p:grpSpPr>
                  <a:xfrm>
                    <a:off x="6970320" y="2253960"/>
                    <a:ext cx="208800" cy="261000"/>
                    <a:chOff x="6970320" y="2253960"/>
                    <a:chExt cx="208800" cy="261000"/>
                  </a:xfrm>
                </p:grpSpPr>
                <p:sp>
                  <p:nvSpPr>
                    <p:cNvPr id="940" name="Oval 297"/>
                    <p:cNvSpPr/>
                    <p:nvPr/>
                  </p:nvSpPr>
                  <p:spPr>
                    <a:xfrm>
                      <a:off x="6991560" y="2307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1" name="Rectangle 298"/>
                    <p:cNvSpPr/>
                    <p:nvPr/>
                  </p:nvSpPr>
                  <p:spPr>
                    <a:xfrm>
                      <a:off x="6970320" y="2253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2" name="Group 299"/>
                  <p:cNvGrpSpPr/>
                  <p:nvPr/>
                </p:nvGrpSpPr>
                <p:grpSpPr>
                  <a:xfrm>
                    <a:off x="7040160" y="2447640"/>
                    <a:ext cx="208800" cy="261000"/>
                    <a:chOff x="7040160" y="2447640"/>
                    <a:chExt cx="208800" cy="261000"/>
                  </a:xfrm>
                </p:grpSpPr>
                <p:sp>
                  <p:nvSpPr>
                    <p:cNvPr id="943" name="Oval 300"/>
                    <p:cNvSpPr/>
                    <p:nvPr/>
                  </p:nvSpPr>
                  <p:spPr>
                    <a:xfrm>
                      <a:off x="7061400" y="250164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4" name="Rectangle 301"/>
                    <p:cNvSpPr/>
                    <p:nvPr/>
                  </p:nvSpPr>
                  <p:spPr>
                    <a:xfrm>
                      <a:off x="7040160" y="244764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5" name="Group 302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6" name="Oval 303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47" name="Rectangle 304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48" name="Group 305"/>
                  <p:cNvGrpSpPr/>
                  <p:nvPr/>
                </p:nvGrpSpPr>
                <p:grpSpPr>
                  <a:xfrm>
                    <a:off x="7075080" y="2650680"/>
                    <a:ext cx="208800" cy="261000"/>
                    <a:chOff x="7075080" y="2650680"/>
                    <a:chExt cx="208800" cy="261000"/>
                  </a:xfrm>
                </p:grpSpPr>
                <p:sp>
                  <p:nvSpPr>
                    <p:cNvPr id="949" name="Oval 306"/>
                    <p:cNvSpPr/>
                    <p:nvPr/>
                  </p:nvSpPr>
                  <p:spPr>
                    <a:xfrm>
                      <a:off x="7096320" y="27046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0" name="Rectangle 307"/>
                    <p:cNvSpPr/>
                    <p:nvPr/>
                  </p:nvSpPr>
                  <p:spPr>
                    <a:xfrm>
                      <a:off x="7075080" y="26506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1" name="Group 308"/>
                  <p:cNvGrpSpPr/>
                  <p:nvPr/>
                </p:nvGrpSpPr>
                <p:grpSpPr>
                  <a:xfrm>
                    <a:off x="7081200" y="2860560"/>
                    <a:ext cx="208800" cy="261000"/>
                    <a:chOff x="7081200" y="2860560"/>
                    <a:chExt cx="208800" cy="261000"/>
                  </a:xfrm>
                </p:grpSpPr>
                <p:sp>
                  <p:nvSpPr>
                    <p:cNvPr id="952" name="Oval 309"/>
                    <p:cNvSpPr/>
                    <p:nvPr/>
                  </p:nvSpPr>
                  <p:spPr>
                    <a:xfrm>
                      <a:off x="7102440" y="29145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3" name="Rectangle 310"/>
                    <p:cNvSpPr/>
                    <p:nvPr/>
                  </p:nvSpPr>
                  <p:spPr>
                    <a:xfrm>
                      <a:off x="7081200" y="28605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54" name="Group 311"/>
                <p:cNvGrpSpPr/>
                <p:nvPr/>
              </p:nvGrpSpPr>
              <p:grpSpPr>
                <a:xfrm>
                  <a:off x="6827400" y="3060360"/>
                  <a:ext cx="443520" cy="816840"/>
                  <a:chOff x="6827400" y="3060360"/>
                  <a:chExt cx="443520" cy="816840"/>
                </a:xfrm>
              </p:grpSpPr>
              <p:grpSp>
                <p:nvGrpSpPr>
                  <p:cNvPr id="955" name="Group 312"/>
                  <p:cNvGrpSpPr/>
                  <p:nvPr/>
                </p:nvGrpSpPr>
                <p:grpSpPr>
                  <a:xfrm>
                    <a:off x="7062120" y="3060360"/>
                    <a:ext cx="208800" cy="261000"/>
                    <a:chOff x="7062120" y="3060360"/>
                    <a:chExt cx="208800" cy="261000"/>
                  </a:xfrm>
                </p:grpSpPr>
                <p:sp>
                  <p:nvSpPr>
                    <p:cNvPr id="956" name="Oval 313"/>
                    <p:cNvSpPr/>
                    <p:nvPr/>
                  </p:nvSpPr>
                  <p:spPr>
                    <a:xfrm>
                      <a:off x="7083360" y="31143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57" name="Rectangle 314"/>
                    <p:cNvSpPr/>
                    <p:nvPr/>
                  </p:nvSpPr>
                  <p:spPr>
                    <a:xfrm>
                      <a:off x="7062120" y="30603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58" name="Group 315"/>
                  <p:cNvGrpSpPr/>
                  <p:nvPr/>
                </p:nvGrpSpPr>
                <p:grpSpPr>
                  <a:xfrm>
                    <a:off x="7005240" y="3269880"/>
                    <a:ext cx="208800" cy="261000"/>
                    <a:chOff x="7005240" y="3269880"/>
                    <a:chExt cx="208800" cy="261000"/>
                  </a:xfrm>
                </p:grpSpPr>
                <p:sp>
                  <p:nvSpPr>
                    <p:cNvPr id="959" name="Oval 316"/>
                    <p:cNvSpPr/>
                    <p:nvPr/>
                  </p:nvSpPr>
                  <p:spPr>
                    <a:xfrm>
                      <a:off x="7026480" y="332388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0" name="Rectangle 317"/>
                    <p:cNvSpPr/>
                    <p:nvPr/>
                  </p:nvSpPr>
                  <p:spPr>
                    <a:xfrm>
                      <a:off x="7005240" y="326988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1" name="Group 318"/>
                  <p:cNvGrpSpPr/>
                  <p:nvPr/>
                </p:nvGrpSpPr>
                <p:grpSpPr>
                  <a:xfrm>
                    <a:off x="6932160" y="3450960"/>
                    <a:ext cx="208800" cy="261000"/>
                    <a:chOff x="6932160" y="3450960"/>
                    <a:chExt cx="208800" cy="261000"/>
                  </a:xfrm>
                </p:grpSpPr>
                <p:sp>
                  <p:nvSpPr>
                    <p:cNvPr id="962" name="Oval 319"/>
                    <p:cNvSpPr/>
                    <p:nvPr/>
                  </p:nvSpPr>
                  <p:spPr>
                    <a:xfrm>
                      <a:off x="6953400" y="350496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3" name="Rectangle 320"/>
                    <p:cNvSpPr/>
                    <p:nvPr/>
                  </p:nvSpPr>
                  <p:spPr>
                    <a:xfrm>
                      <a:off x="6932160" y="345096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964" name="Group 321"/>
                  <p:cNvGrpSpPr/>
                  <p:nvPr/>
                </p:nvGrpSpPr>
                <p:grpSpPr>
                  <a:xfrm>
                    <a:off x="6827400" y="3616200"/>
                    <a:ext cx="208800" cy="261000"/>
                    <a:chOff x="6827400" y="3616200"/>
                    <a:chExt cx="208800" cy="261000"/>
                  </a:xfrm>
                </p:grpSpPr>
                <p:sp>
                  <p:nvSpPr>
                    <p:cNvPr id="965" name="Oval 322"/>
                    <p:cNvSpPr/>
                    <p:nvPr/>
                  </p:nvSpPr>
                  <p:spPr>
                    <a:xfrm>
                      <a:off x="6848640" y="3670200"/>
                      <a:ext cx="172800" cy="172800"/>
                    </a:xfrm>
                    <a:prstGeom prst="ellipse">
                      <a:avLst/>
                    </a:prstGeom>
                    <a:solidFill>
                      <a:srgbClr val="ff7c80"/>
                    </a:solidFill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966" name="Rectangle 323"/>
                    <p:cNvSpPr/>
                    <p:nvPr/>
                  </p:nvSpPr>
                  <p:spPr>
                    <a:xfrm>
                      <a:off x="6827400" y="3616200"/>
                      <a:ext cx="208800" cy="2610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50760" rIns="50760" tIns="23760" bIns="2376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66760"/>
                          <a:tab algn="l" pos="533520"/>
                          <a:tab algn="l" pos="800280"/>
                          <a:tab algn="l" pos="1066680"/>
                          <a:tab algn="l" pos="1333440"/>
                          <a:tab algn="l" pos="1600200"/>
                          <a:tab algn="l" pos="1866960"/>
                          <a:tab algn="l" pos="2133720"/>
                          <a:tab algn="l" pos="2400480"/>
                          <a:tab algn="l" pos="2666880"/>
                          <a:tab algn="l" pos="2933640"/>
                          <a:tab algn="l" pos="3200400"/>
                          <a:tab algn="l" pos="3467160"/>
                          <a:tab algn="l" pos="3733920"/>
                          <a:tab algn="l" pos="4000680"/>
                          <a:tab algn="l" pos="4267080"/>
                          <a:tab algn="l" pos="4533840"/>
                          <a:tab algn="l" pos="4800600"/>
                          <a:tab algn="l" pos="5067360"/>
                          <a:tab algn="l" pos="5334120"/>
                        </a:tabLst>
                      </a:pPr>
                      <a:r>
                        <a:rPr b="1" lang="ja-JP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PGothic"/>
                        </a:rPr>
                        <a:t>＋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967" name="Group 324"/>
                <p:cNvGrpSpPr/>
                <p:nvPr/>
              </p:nvGrpSpPr>
              <p:grpSpPr>
                <a:xfrm>
                  <a:off x="6703560" y="3768480"/>
                  <a:ext cx="208800" cy="261000"/>
                  <a:chOff x="6703560" y="3768480"/>
                  <a:chExt cx="208800" cy="261000"/>
                </a:xfrm>
              </p:grpSpPr>
              <p:sp>
                <p:nvSpPr>
                  <p:cNvPr id="968" name="Oval 325"/>
                  <p:cNvSpPr/>
                  <p:nvPr/>
                </p:nvSpPr>
                <p:spPr>
                  <a:xfrm>
                    <a:off x="6724800" y="3822480"/>
                    <a:ext cx="172800" cy="172800"/>
                  </a:xfrm>
                  <a:prstGeom prst="ellipse">
                    <a:avLst/>
                  </a:prstGeom>
                  <a:solidFill>
                    <a:srgbClr val="ff7c80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969" name="Rectangle 326"/>
                  <p:cNvSpPr/>
                  <p:nvPr/>
                </p:nvSpPr>
                <p:spPr>
                  <a:xfrm>
                    <a:off x="6703560" y="3768480"/>
                    <a:ext cx="208800" cy="261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50760" rIns="50760" tIns="23760" bIns="2376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266760"/>
                        <a:tab algn="l" pos="533520"/>
                        <a:tab algn="l" pos="800280"/>
                        <a:tab algn="l" pos="1066680"/>
                        <a:tab algn="l" pos="1333440"/>
                        <a:tab algn="l" pos="1600200"/>
                        <a:tab algn="l" pos="1866960"/>
                        <a:tab algn="l" pos="2133720"/>
                        <a:tab algn="l" pos="2400480"/>
                        <a:tab algn="l" pos="2666880"/>
                        <a:tab algn="l" pos="2933640"/>
                        <a:tab algn="l" pos="3200400"/>
                        <a:tab algn="l" pos="3467160"/>
                        <a:tab algn="l" pos="3733920"/>
                        <a:tab algn="l" pos="4000680"/>
                        <a:tab algn="l" pos="4267080"/>
                        <a:tab algn="l" pos="4533840"/>
                        <a:tab algn="l" pos="4800600"/>
                        <a:tab algn="l" pos="5067360"/>
                        <a:tab algn="l" pos="5334120"/>
                      </a:tabLst>
                    </a:pPr>
                    <a:r>
                      <a:rPr b="1" lang="ja-JP" sz="1400" spc="-1" strike="noStrike">
                        <a:solidFill>
                          <a:srgbClr val="000000"/>
                        </a:solidFill>
                        <a:latin typeface="Times New Roman"/>
                        <a:ea typeface="MS PGothic"/>
                      </a:rPr>
                      <a:t>＋</a:t>
                    </a:r>
                    <a:endParaRPr b="1" lang="en-US" sz="1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</p:grpSp>
      <p:sp>
        <p:nvSpPr>
          <p:cNvPr id="970" name="Rectangle 32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3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2" dur="500"/>
                                        <p:tgtEl>
                                          <p:spTgt spid="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6" dur="5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0" dur="5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6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8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2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6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b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Anion exchange resin (Latex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2" name="Rectangle 5"/>
          <p:cNvSpPr/>
          <p:nvPr/>
        </p:nvSpPr>
        <p:spPr>
          <a:xfrm>
            <a:off x="43956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3" name="Arc 6"/>
          <p:cNvSpPr/>
          <p:nvPr/>
        </p:nvSpPr>
        <p:spPr>
          <a:xfrm rot="2400000">
            <a:off x="-181080" y="2855880"/>
            <a:ext cx="2390760" cy="2390760"/>
          </a:xfrm>
          <a:custGeom>
            <a:avLst/>
            <a:gdLst>
              <a:gd name="textAreaLeft" fmla="*/ 0 w 2390760"/>
              <a:gd name="textAreaRight" fmla="*/ 2391120 w 2390760"/>
              <a:gd name="textAreaTop" fmla="*/ 0 h 2390760"/>
              <a:gd name="textAreaBottom" fmla="*/ 2391120 h 2390760"/>
            </a:gdLst>
            <a:ahLst/>
            <a:rect l="textAreaLeft" t="textAreaTop" r="textAreaRight" b="textAreaBottom"/>
            <a:pathLst>
              <a:path fill="none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</a:path>
              <a:path stroke="0" w="21600" h="21600">
                <a:moveTo>
                  <a:pt x="13" y="0"/>
                </a:moveTo>
                <a:cubicBezTo>
                  <a:pt x="11937" y="7"/>
                  <a:pt x="21600" y="9676"/>
                  <a:pt x="21600" y="21600"/>
                </a:cubicBezTo>
                <a:lnTo>
                  <a:pt x="0" y="21600"/>
                </a:lnTo>
                <a:lnTo>
                  <a:pt x="13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4" name="Line 7"/>
          <p:cNvSpPr/>
          <p:nvPr/>
        </p:nvSpPr>
        <p:spPr>
          <a:xfrm flipV="1">
            <a:off x="1274760" y="2752560"/>
            <a:ext cx="23328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5" name="Line 8"/>
          <p:cNvSpPr/>
          <p:nvPr/>
        </p:nvSpPr>
        <p:spPr>
          <a:xfrm flipV="1">
            <a:off x="1411200" y="3349440"/>
            <a:ext cx="393840" cy="98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6" name="Line 9"/>
          <p:cNvSpPr/>
          <p:nvPr/>
        </p:nvSpPr>
        <p:spPr>
          <a:xfrm>
            <a:off x="1709640" y="4146480"/>
            <a:ext cx="95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7" name="Line 10"/>
          <p:cNvSpPr/>
          <p:nvPr/>
        </p:nvSpPr>
        <p:spPr>
          <a:xfrm>
            <a:off x="1414440" y="5046840"/>
            <a:ext cx="304920" cy="195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8" name="Rectangle 11"/>
          <p:cNvSpPr/>
          <p:nvPr/>
        </p:nvSpPr>
        <p:spPr>
          <a:xfrm>
            <a:off x="1518840" y="2529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9" name="Rectangle 12"/>
          <p:cNvSpPr/>
          <p:nvPr/>
        </p:nvSpPr>
        <p:spPr>
          <a:xfrm>
            <a:off x="1790280" y="321300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0" name="Rectangle 13"/>
          <p:cNvSpPr/>
          <p:nvPr/>
        </p:nvSpPr>
        <p:spPr>
          <a:xfrm>
            <a:off x="1841040" y="3933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1" name="Rectangle 14"/>
          <p:cNvSpPr/>
          <p:nvPr/>
        </p:nvSpPr>
        <p:spPr>
          <a:xfrm>
            <a:off x="1698120" y="5157720"/>
            <a:ext cx="6138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ahoma"/>
                <a:ea typeface="MS PGothic"/>
              </a:rPr>
              <a:t>ＳＯ</a:t>
            </a:r>
            <a:r>
              <a:rPr b="1" lang="ja-JP" sz="1600" spc="-1" strike="noStrike" baseline="-25000">
                <a:solidFill>
                  <a:srgbClr val="3399ff"/>
                </a:solidFill>
                <a:latin typeface="Tahoma"/>
                <a:ea typeface="MS PGothic"/>
              </a:rPr>
              <a:t>３</a:t>
            </a:r>
            <a:r>
              <a:rPr b="1" lang="ja-JP" sz="1300" spc="-1" strike="noStrike" baseline="30000">
                <a:solidFill>
                  <a:srgbClr val="3399ff"/>
                </a:solidFill>
                <a:latin typeface="Tahoma"/>
                <a:ea typeface="MS PGothic"/>
              </a:rPr>
              <a:t>－</a:t>
            </a:r>
            <a:endParaRPr b="1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82" name="Group 15"/>
          <p:cNvGrpSpPr/>
          <p:nvPr/>
        </p:nvGrpSpPr>
        <p:grpSpPr>
          <a:xfrm>
            <a:off x="2533680" y="2541240"/>
            <a:ext cx="590040" cy="587520"/>
            <a:chOff x="2533680" y="2541240"/>
            <a:chExt cx="590040" cy="587520"/>
          </a:xfrm>
        </p:grpSpPr>
        <p:sp>
          <p:nvSpPr>
            <p:cNvPr id="983" name="Oval 16"/>
            <p:cNvSpPr/>
            <p:nvPr/>
          </p:nvSpPr>
          <p:spPr>
            <a:xfrm>
              <a:off x="2742840" y="2743200"/>
              <a:ext cx="1728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17"/>
            <p:cNvSpPr/>
            <p:nvPr/>
          </p:nvSpPr>
          <p:spPr>
            <a:xfrm flipH="1" flipV="1">
              <a:off x="2739960" y="2541240"/>
              <a:ext cx="75600" cy="179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18"/>
            <p:cNvSpPr/>
            <p:nvPr/>
          </p:nvSpPr>
          <p:spPr>
            <a:xfrm flipV="1">
              <a:off x="2830320" y="2931840"/>
              <a:ext cx="0" cy="196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6" name="Line 19"/>
            <p:cNvSpPr/>
            <p:nvPr/>
          </p:nvSpPr>
          <p:spPr>
            <a:xfrm flipV="1">
              <a:off x="2935080" y="276048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7" name="Line 20"/>
            <p:cNvSpPr/>
            <p:nvPr/>
          </p:nvSpPr>
          <p:spPr>
            <a:xfrm>
              <a:off x="2533680" y="2832120"/>
              <a:ext cx="19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8" name="Group 21"/>
          <p:cNvGrpSpPr/>
          <p:nvPr/>
        </p:nvGrpSpPr>
        <p:grpSpPr>
          <a:xfrm>
            <a:off x="2736720" y="3809520"/>
            <a:ext cx="588600" cy="589320"/>
            <a:chOff x="2736720" y="3809520"/>
            <a:chExt cx="588600" cy="589320"/>
          </a:xfrm>
        </p:grpSpPr>
        <p:sp>
          <p:nvSpPr>
            <p:cNvPr id="989" name="Oval 22"/>
            <p:cNvSpPr/>
            <p:nvPr/>
          </p:nvSpPr>
          <p:spPr>
            <a:xfrm>
              <a:off x="2939760" y="4016160"/>
              <a:ext cx="174600" cy="174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23"/>
            <p:cNvSpPr/>
            <p:nvPr/>
          </p:nvSpPr>
          <p:spPr>
            <a:xfrm flipV="1">
              <a:off x="3038400" y="3809520"/>
              <a:ext cx="74520" cy="1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24"/>
            <p:cNvSpPr/>
            <p:nvPr/>
          </p:nvSpPr>
          <p:spPr>
            <a:xfrm flipV="1">
              <a:off x="3025440" y="4205160"/>
              <a:ext cx="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2" name="Line 25"/>
            <p:cNvSpPr/>
            <p:nvPr/>
          </p:nvSpPr>
          <p:spPr>
            <a:xfrm flipH="1" flipV="1">
              <a:off x="2736720" y="4033440"/>
              <a:ext cx="188640" cy="44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3" name="Line 26"/>
            <p:cNvSpPr/>
            <p:nvPr/>
          </p:nvSpPr>
          <p:spPr>
            <a:xfrm flipH="1">
              <a:off x="3128400" y="4105080"/>
              <a:ext cx="196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4" name="Group 27"/>
          <p:cNvGrpSpPr/>
          <p:nvPr/>
        </p:nvGrpSpPr>
        <p:grpSpPr>
          <a:xfrm>
            <a:off x="2579400" y="5095800"/>
            <a:ext cx="565200" cy="555840"/>
            <a:chOff x="2579400" y="5095800"/>
            <a:chExt cx="565200" cy="555840"/>
          </a:xfrm>
        </p:grpSpPr>
        <p:sp>
          <p:nvSpPr>
            <p:cNvPr id="995" name="Oval 28"/>
            <p:cNvSpPr/>
            <p:nvPr/>
          </p:nvSpPr>
          <p:spPr>
            <a:xfrm rot="720000">
              <a:off x="2765160" y="5270400"/>
              <a:ext cx="174600" cy="176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29"/>
            <p:cNvSpPr/>
            <p:nvPr/>
          </p:nvSpPr>
          <p:spPr>
            <a:xfrm flipV="1">
              <a:off x="2884680" y="5095800"/>
              <a:ext cx="112680" cy="160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30"/>
            <p:cNvSpPr/>
            <p:nvPr/>
          </p:nvSpPr>
          <p:spPr>
            <a:xfrm flipV="1">
              <a:off x="2794320" y="5457960"/>
              <a:ext cx="34920" cy="193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8" name="Line 31"/>
            <p:cNvSpPr/>
            <p:nvPr/>
          </p:nvSpPr>
          <p:spPr>
            <a:xfrm flipH="1" flipV="1">
              <a:off x="2579400" y="5225760"/>
              <a:ext cx="174600" cy="838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9" name="Line 32"/>
            <p:cNvSpPr/>
            <p:nvPr/>
          </p:nvSpPr>
          <p:spPr>
            <a:xfrm flipH="1" flipV="1">
              <a:off x="2954160" y="5383080"/>
              <a:ext cx="190440" cy="36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00" name="Rectangle 33"/>
          <p:cNvSpPr/>
          <p:nvPr/>
        </p:nvSpPr>
        <p:spPr>
          <a:xfrm>
            <a:off x="2499840" y="2220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1" name="Rectangle 34"/>
          <p:cNvSpPr/>
          <p:nvPr/>
        </p:nvSpPr>
        <p:spPr>
          <a:xfrm>
            <a:off x="2007720" y="2679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2" name="Rectangle 35"/>
          <p:cNvSpPr/>
          <p:nvPr/>
        </p:nvSpPr>
        <p:spPr>
          <a:xfrm>
            <a:off x="3190320" y="2606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Rectangle 36"/>
          <p:cNvSpPr/>
          <p:nvPr/>
        </p:nvSpPr>
        <p:spPr>
          <a:xfrm>
            <a:off x="2693520" y="31035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Rectangle 37"/>
          <p:cNvSpPr/>
          <p:nvPr/>
        </p:nvSpPr>
        <p:spPr>
          <a:xfrm>
            <a:off x="2239560" y="37116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Rectangle 38"/>
          <p:cNvSpPr/>
          <p:nvPr/>
        </p:nvSpPr>
        <p:spPr>
          <a:xfrm>
            <a:off x="3096720" y="35784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6" name="Rectangle 39"/>
          <p:cNvSpPr/>
          <p:nvPr/>
        </p:nvSpPr>
        <p:spPr>
          <a:xfrm>
            <a:off x="3395160" y="3978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7" name="Rectangle 40"/>
          <p:cNvSpPr/>
          <p:nvPr/>
        </p:nvSpPr>
        <p:spPr>
          <a:xfrm>
            <a:off x="2898360" y="437508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8" name="Rectangle 41"/>
          <p:cNvSpPr/>
          <p:nvPr/>
        </p:nvSpPr>
        <p:spPr>
          <a:xfrm>
            <a:off x="2844360" y="48117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9" name="Rectangle 42"/>
          <p:cNvSpPr/>
          <p:nvPr/>
        </p:nvSpPr>
        <p:spPr>
          <a:xfrm>
            <a:off x="1949040" y="491184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Rectangle 43"/>
          <p:cNvSpPr/>
          <p:nvPr/>
        </p:nvSpPr>
        <p:spPr>
          <a:xfrm>
            <a:off x="3142800" y="531036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1" name="Rectangle 44"/>
          <p:cNvSpPr/>
          <p:nvPr/>
        </p:nvSpPr>
        <p:spPr>
          <a:xfrm>
            <a:off x="2447280" y="5608800"/>
            <a:ext cx="626400" cy="3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0600" rIns="12060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62040"/>
                <a:tab algn="l" pos="3124080"/>
                <a:tab algn="l" pos="4686480"/>
                <a:tab algn="l" pos="6248520"/>
                <a:tab algn="l" pos="7810560"/>
                <a:tab algn="l" pos="9372600"/>
                <a:tab algn="l" pos="1093464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Ｎ</a:t>
            </a:r>
            <a:r>
              <a:rPr b="1" lang="ja-JP" sz="1600" spc="-1" strike="noStrike" baseline="30000">
                <a:solidFill>
                  <a:srgbClr val="ff0000"/>
                </a:solidFill>
                <a:latin typeface="Tahoma"/>
                <a:ea typeface="MS PGothic"/>
              </a:rPr>
              <a:t>＋</a:t>
            </a:r>
            <a:r>
              <a:rPr b="1" lang="ja-JP" sz="1600" spc="-1" strike="noStrike">
                <a:solidFill>
                  <a:srgbClr val="ff0000"/>
                </a:solidFill>
                <a:latin typeface="Tahoma"/>
                <a:ea typeface="MS PGothic"/>
              </a:rPr>
              <a:t>Ｒ</a:t>
            </a:r>
            <a:r>
              <a:rPr b="1" lang="ja-JP" sz="1600" spc="-1" strike="noStrike" baseline="-25000">
                <a:solidFill>
                  <a:srgbClr val="ff0000"/>
                </a:solidFill>
                <a:latin typeface="Tahoma"/>
                <a:ea typeface="MS PGothic"/>
              </a:rPr>
              <a:t>３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2" name="Oval 45"/>
          <p:cNvSpPr/>
          <p:nvPr/>
        </p:nvSpPr>
        <p:spPr>
          <a:xfrm>
            <a:off x="4761000" y="2144880"/>
            <a:ext cx="3606840" cy="3606480"/>
          </a:xfrm>
          <a:prstGeom prst="ellipse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Freeform 46"/>
          <p:cNvSpPr/>
          <p:nvPr/>
        </p:nvSpPr>
        <p:spPr>
          <a:xfrm>
            <a:off x="6151680" y="2131920"/>
            <a:ext cx="2227320" cy="2265480"/>
          </a:xfrm>
          <a:custGeom>
            <a:avLst/>
            <a:gdLst>
              <a:gd name="textAreaLeft" fmla="*/ 0 w 2227320"/>
              <a:gd name="textAreaRight" fmla="*/ 2227680 w 2227320"/>
              <a:gd name="textAreaTop" fmla="*/ 0 h 2265480"/>
              <a:gd name="textAreaBottom" fmla="*/ 2265840 h 2265480"/>
            </a:gdLst>
            <a:ahLst/>
            <a:rect l="textAreaLeft" t="textAreaTop" r="textAreaRight" b="textAreaBottom"/>
            <a:pathLst>
              <a:path w="1403" h="1427">
                <a:moveTo>
                  <a:pt x="300" y="1427"/>
                </a:moveTo>
                <a:lnTo>
                  <a:pt x="24" y="1427"/>
                </a:lnTo>
                <a:lnTo>
                  <a:pt x="0" y="1160"/>
                </a:lnTo>
                <a:lnTo>
                  <a:pt x="8" y="754"/>
                </a:lnTo>
                <a:lnTo>
                  <a:pt x="81" y="284"/>
                </a:lnTo>
                <a:lnTo>
                  <a:pt x="138" y="122"/>
                </a:lnTo>
                <a:lnTo>
                  <a:pt x="195" y="25"/>
                </a:lnTo>
                <a:lnTo>
                  <a:pt x="243" y="0"/>
                </a:lnTo>
                <a:lnTo>
                  <a:pt x="462" y="16"/>
                </a:lnTo>
                <a:lnTo>
                  <a:pt x="697" y="89"/>
                </a:lnTo>
                <a:lnTo>
                  <a:pt x="973" y="260"/>
                </a:lnTo>
                <a:lnTo>
                  <a:pt x="1070" y="333"/>
                </a:lnTo>
                <a:lnTo>
                  <a:pt x="1119" y="389"/>
                </a:lnTo>
                <a:lnTo>
                  <a:pt x="1176" y="462"/>
                </a:lnTo>
                <a:lnTo>
                  <a:pt x="1233" y="552"/>
                </a:lnTo>
                <a:lnTo>
                  <a:pt x="1265" y="608"/>
                </a:lnTo>
                <a:lnTo>
                  <a:pt x="1314" y="698"/>
                </a:lnTo>
                <a:lnTo>
                  <a:pt x="1387" y="998"/>
                </a:lnTo>
                <a:lnTo>
                  <a:pt x="1403" y="1192"/>
                </a:lnTo>
                <a:lnTo>
                  <a:pt x="1354" y="1249"/>
                </a:lnTo>
                <a:lnTo>
                  <a:pt x="1225" y="1338"/>
                </a:lnTo>
                <a:lnTo>
                  <a:pt x="973" y="1395"/>
                </a:lnTo>
                <a:lnTo>
                  <a:pt x="681" y="1419"/>
                </a:lnTo>
                <a:lnTo>
                  <a:pt x="300" y="1427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4" name="Freeform 47"/>
          <p:cNvSpPr/>
          <p:nvPr/>
        </p:nvSpPr>
        <p:spPr>
          <a:xfrm>
            <a:off x="6550200" y="2144880"/>
            <a:ext cx="1842840" cy="1892160"/>
          </a:xfrm>
          <a:custGeom>
            <a:avLst/>
            <a:gdLst>
              <a:gd name="textAreaLeft" fmla="*/ 0 w 1842840"/>
              <a:gd name="textAreaRight" fmla="*/ 1843200 w 1842840"/>
              <a:gd name="textAreaTop" fmla="*/ 0 h 1892160"/>
              <a:gd name="textAreaBottom" fmla="*/ 1892520 h 1892160"/>
            </a:gdLst>
            <a:ahLst/>
            <a:rect l="textAreaLeft" t="textAreaTop" r="textAreaRight" b="textAreaBottom"/>
            <a:pathLst>
              <a:path w="1161" h="1192">
                <a:moveTo>
                  <a:pt x="0" y="1192"/>
                </a:moveTo>
                <a:lnTo>
                  <a:pt x="1" y="0"/>
                </a:lnTo>
                <a:lnTo>
                  <a:pt x="220" y="16"/>
                </a:lnTo>
                <a:lnTo>
                  <a:pt x="455" y="89"/>
                </a:lnTo>
                <a:lnTo>
                  <a:pt x="731" y="260"/>
                </a:lnTo>
                <a:lnTo>
                  <a:pt x="828" y="333"/>
                </a:lnTo>
                <a:lnTo>
                  <a:pt x="877" y="389"/>
                </a:lnTo>
                <a:lnTo>
                  <a:pt x="934" y="462"/>
                </a:lnTo>
                <a:lnTo>
                  <a:pt x="991" y="552"/>
                </a:lnTo>
                <a:lnTo>
                  <a:pt x="1023" y="608"/>
                </a:lnTo>
                <a:lnTo>
                  <a:pt x="1072" y="698"/>
                </a:lnTo>
                <a:lnTo>
                  <a:pt x="1145" y="998"/>
                </a:lnTo>
                <a:lnTo>
                  <a:pt x="1161" y="1192"/>
                </a:lnTo>
                <a:lnTo>
                  <a:pt x="0" y="1192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Oval 48"/>
          <p:cNvSpPr/>
          <p:nvPr/>
        </p:nvSpPr>
        <p:spPr>
          <a:xfrm>
            <a:off x="4773600" y="2143080"/>
            <a:ext cx="3606840" cy="360684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49"/>
          <p:cNvGrpSpPr/>
          <p:nvPr/>
        </p:nvGrpSpPr>
        <p:grpSpPr>
          <a:xfrm>
            <a:off x="6156360" y="2128680"/>
            <a:ext cx="2209320" cy="2273040"/>
            <a:chOff x="6156360" y="2128680"/>
            <a:chExt cx="2209320" cy="2273040"/>
          </a:xfrm>
        </p:grpSpPr>
        <p:grpSp>
          <p:nvGrpSpPr>
            <p:cNvPr id="1017" name="Group 50"/>
            <p:cNvGrpSpPr/>
            <p:nvPr/>
          </p:nvGrpSpPr>
          <p:grpSpPr>
            <a:xfrm>
              <a:off x="6549840" y="2157120"/>
              <a:ext cx="1815840" cy="1866960"/>
              <a:chOff x="6549840" y="2157120"/>
              <a:chExt cx="1815840" cy="1866960"/>
            </a:xfrm>
          </p:grpSpPr>
          <p:sp>
            <p:nvSpPr>
              <p:cNvPr id="1018" name="Line 51"/>
              <p:cNvSpPr/>
              <p:nvPr/>
            </p:nvSpPr>
            <p:spPr>
              <a:xfrm>
                <a:off x="6549840" y="2157120"/>
                <a:ext cx="0" cy="186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9" name="Line 52"/>
              <p:cNvSpPr/>
              <p:nvPr/>
            </p:nvSpPr>
            <p:spPr>
              <a:xfrm>
                <a:off x="6549840" y="4024080"/>
                <a:ext cx="18158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020" name="Group 53"/>
            <p:cNvGrpSpPr/>
            <p:nvPr/>
          </p:nvGrpSpPr>
          <p:grpSpPr>
            <a:xfrm>
              <a:off x="6156360" y="2128680"/>
              <a:ext cx="2191680" cy="2273040"/>
              <a:chOff x="6156360" y="2128680"/>
              <a:chExt cx="2191680" cy="2273040"/>
            </a:xfrm>
          </p:grpSpPr>
          <p:sp>
            <p:nvSpPr>
              <p:cNvPr id="1021" name="Line 54"/>
              <p:cNvSpPr/>
              <p:nvPr/>
            </p:nvSpPr>
            <p:spPr>
              <a:xfrm flipH="1">
                <a:off x="6176520" y="4024080"/>
                <a:ext cx="372600" cy="36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2" name="Freeform 55"/>
              <p:cNvSpPr/>
              <p:nvPr/>
            </p:nvSpPr>
            <p:spPr>
              <a:xfrm>
                <a:off x="6189480" y="4024080"/>
                <a:ext cx="2158560" cy="377640"/>
              </a:xfrm>
              <a:custGeom>
                <a:avLst/>
                <a:gdLst>
                  <a:gd name="textAreaLeft" fmla="*/ 0 w 2158560"/>
                  <a:gd name="textAreaRight" fmla="*/ 2158920 w 215856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1375" h="246">
                    <a:moveTo>
                      <a:pt x="0" y="227"/>
                    </a:moveTo>
                    <a:cubicBezTo>
                      <a:pt x="35" y="230"/>
                      <a:pt x="107" y="242"/>
                      <a:pt x="211" y="243"/>
                    </a:cubicBezTo>
                    <a:cubicBezTo>
                      <a:pt x="315" y="244"/>
                      <a:pt x="476" y="246"/>
                      <a:pt x="625" y="235"/>
                    </a:cubicBezTo>
                    <a:cubicBezTo>
                      <a:pt x="774" y="224"/>
                      <a:pt x="986" y="204"/>
                      <a:pt x="1103" y="178"/>
                    </a:cubicBezTo>
                    <a:cubicBezTo>
                      <a:pt x="1220" y="152"/>
                      <a:pt x="1285" y="111"/>
                      <a:pt x="1330" y="81"/>
                    </a:cubicBezTo>
                    <a:cubicBezTo>
                      <a:pt x="1375" y="51"/>
                      <a:pt x="1364" y="13"/>
                      <a:pt x="1371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3" name="Freeform 56"/>
              <p:cNvSpPr/>
              <p:nvPr/>
            </p:nvSpPr>
            <p:spPr>
              <a:xfrm>
                <a:off x="6156360" y="2128680"/>
                <a:ext cx="379080" cy="22161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2216160"/>
                  <a:gd name="textAreaBottom" fmla="*/ 2216520 h 2216160"/>
                </a:gdLst>
                <a:ahLst/>
                <a:rect l="textAreaLeft" t="textAreaTop" r="textAreaRight" b="textAreaBottom"/>
                <a:pathLst>
                  <a:path w="239" h="1380">
                    <a:moveTo>
                      <a:pt x="19" y="1380"/>
                    </a:moveTo>
                    <a:cubicBezTo>
                      <a:pt x="16" y="1345"/>
                      <a:pt x="5" y="1272"/>
                      <a:pt x="4" y="1168"/>
                    </a:cubicBezTo>
                    <a:cubicBezTo>
                      <a:pt x="3" y="1063"/>
                      <a:pt x="0" y="897"/>
                      <a:pt x="12" y="751"/>
                    </a:cubicBezTo>
                    <a:cubicBezTo>
                      <a:pt x="24" y="605"/>
                      <a:pt x="55" y="404"/>
                      <a:pt x="78" y="294"/>
                    </a:cubicBezTo>
                    <a:cubicBezTo>
                      <a:pt x="101" y="184"/>
                      <a:pt x="124" y="141"/>
                      <a:pt x="151" y="92"/>
                    </a:cubicBezTo>
                    <a:cubicBezTo>
                      <a:pt x="178" y="43"/>
                      <a:pt x="221" y="19"/>
                      <a:pt x="239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24" name="Line 57"/>
          <p:cNvSpPr/>
          <p:nvPr/>
        </p:nvSpPr>
        <p:spPr>
          <a:xfrm>
            <a:off x="6550200" y="394668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5" name="Text Box 58"/>
          <p:cNvSpPr/>
          <p:nvPr/>
        </p:nvSpPr>
        <p:spPr>
          <a:xfrm>
            <a:off x="7134480" y="3662280"/>
            <a:ext cx="60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５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Gothic"/>
              </a:rPr>
              <a:t>μm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26" name="Group 59"/>
          <p:cNvGrpSpPr/>
          <p:nvPr/>
        </p:nvGrpSpPr>
        <p:grpSpPr>
          <a:xfrm>
            <a:off x="4425840" y="1844640"/>
            <a:ext cx="4206600" cy="4299120"/>
            <a:chOff x="4425840" y="1844640"/>
            <a:chExt cx="4206600" cy="4299120"/>
          </a:xfrm>
        </p:grpSpPr>
        <p:grpSp>
          <p:nvGrpSpPr>
            <p:cNvPr id="1027" name="Group 60"/>
            <p:cNvGrpSpPr/>
            <p:nvPr/>
          </p:nvGrpSpPr>
          <p:grpSpPr>
            <a:xfrm>
              <a:off x="6757920" y="3989520"/>
              <a:ext cx="1874520" cy="2109960"/>
              <a:chOff x="6757920" y="3989520"/>
              <a:chExt cx="1874520" cy="2109960"/>
            </a:xfrm>
          </p:grpSpPr>
          <p:grpSp>
            <p:nvGrpSpPr>
              <p:cNvPr id="1028" name="Group 61"/>
              <p:cNvGrpSpPr/>
              <p:nvPr/>
            </p:nvGrpSpPr>
            <p:grpSpPr>
              <a:xfrm>
                <a:off x="7116480" y="5624640"/>
                <a:ext cx="322200" cy="366840"/>
                <a:chOff x="7116480" y="5624640"/>
                <a:chExt cx="322200" cy="366840"/>
              </a:xfrm>
            </p:grpSpPr>
            <p:sp>
              <p:nvSpPr>
                <p:cNvPr id="1029" name="Oval 62"/>
                <p:cNvSpPr/>
                <p:nvPr/>
              </p:nvSpPr>
              <p:spPr>
                <a:xfrm>
                  <a:off x="7146720" y="5632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0" name="Rectangle 63"/>
                <p:cNvSpPr/>
                <p:nvPr/>
              </p:nvSpPr>
              <p:spPr>
                <a:xfrm>
                  <a:off x="7116480" y="562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1" name="Group 64"/>
              <p:cNvGrpSpPr/>
              <p:nvPr/>
            </p:nvGrpSpPr>
            <p:grpSpPr>
              <a:xfrm>
                <a:off x="8064360" y="4835520"/>
                <a:ext cx="322200" cy="366840"/>
                <a:chOff x="8064360" y="4835520"/>
                <a:chExt cx="322200" cy="366840"/>
              </a:xfrm>
            </p:grpSpPr>
            <p:sp>
              <p:nvSpPr>
                <p:cNvPr id="1032" name="Oval 65"/>
                <p:cNvSpPr/>
                <p:nvPr/>
              </p:nvSpPr>
              <p:spPr>
                <a:xfrm>
                  <a:off x="8094600" y="484344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3" name="Rectangle 66"/>
                <p:cNvSpPr/>
                <p:nvPr/>
              </p:nvSpPr>
              <p:spPr>
                <a:xfrm>
                  <a:off x="8064360" y="4835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4" name="Group 67"/>
              <p:cNvGrpSpPr/>
              <p:nvPr/>
            </p:nvGrpSpPr>
            <p:grpSpPr>
              <a:xfrm>
                <a:off x="7877160" y="5089680"/>
                <a:ext cx="322200" cy="366840"/>
                <a:chOff x="7877160" y="5089680"/>
                <a:chExt cx="322200" cy="366840"/>
              </a:xfrm>
            </p:grpSpPr>
            <p:sp>
              <p:nvSpPr>
                <p:cNvPr id="1035" name="Oval 68"/>
                <p:cNvSpPr/>
                <p:nvPr/>
              </p:nvSpPr>
              <p:spPr>
                <a:xfrm>
                  <a:off x="7907040" y="5097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6" name="Rectangle 69"/>
                <p:cNvSpPr/>
                <p:nvPr/>
              </p:nvSpPr>
              <p:spPr>
                <a:xfrm>
                  <a:off x="7877160" y="5089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37" name="Group 70"/>
              <p:cNvGrpSpPr/>
              <p:nvPr/>
            </p:nvGrpSpPr>
            <p:grpSpPr>
              <a:xfrm>
                <a:off x="7643520" y="5299200"/>
                <a:ext cx="322200" cy="366840"/>
                <a:chOff x="7643520" y="5299200"/>
                <a:chExt cx="322200" cy="366840"/>
              </a:xfrm>
            </p:grpSpPr>
            <p:sp>
              <p:nvSpPr>
                <p:cNvPr id="1038" name="Oval 71"/>
                <p:cNvSpPr/>
                <p:nvPr/>
              </p:nvSpPr>
              <p:spPr>
                <a:xfrm>
                  <a:off x="7673760" y="5307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39" name="Rectangle 72"/>
                <p:cNvSpPr/>
                <p:nvPr/>
              </p:nvSpPr>
              <p:spPr>
                <a:xfrm>
                  <a:off x="7643520" y="5299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0" name="Group 73"/>
              <p:cNvGrpSpPr/>
              <p:nvPr/>
            </p:nvGrpSpPr>
            <p:grpSpPr>
              <a:xfrm>
                <a:off x="7427880" y="5507280"/>
                <a:ext cx="322200" cy="366840"/>
                <a:chOff x="7427880" y="5507280"/>
                <a:chExt cx="322200" cy="366840"/>
              </a:xfrm>
            </p:grpSpPr>
            <p:sp>
              <p:nvSpPr>
                <p:cNvPr id="1041" name="Oval 74"/>
                <p:cNvSpPr/>
                <p:nvPr/>
              </p:nvSpPr>
              <p:spPr>
                <a:xfrm>
                  <a:off x="7457760" y="5515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2" name="Rectangle 75"/>
                <p:cNvSpPr/>
                <p:nvPr/>
              </p:nvSpPr>
              <p:spPr>
                <a:xfrm>
                  <a:off x="7427880" y="550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3" name="Group 76"/>
              <p:cNvGrpSpPr/>
              <p:nvPr/>
            </p:nvGrpSpPr>
            <p:grpSpPr>
              <a:xfrm>
                <a:off x="8310240" y="3989520"/>
                <a:ext cx="322200" cy="366840"/>
                <a:chOff x="8310240" y="3989520"/>
                <a:chExt cx="322200" cy="366840"/>
              </a:xfrm>
            </p:grpSpPr>
            <p:sp>
              <p:nvSpPr>
                <p:cNvPr id="1044" name="Oval 77"/>
                <p:cNvSpPr/>
                <p:nvPr/>
              </p:nvSpPr>
              <p:spPr>
                <a:xfrm>
                  <a:off x="8340480" y="39974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5" name="Rectangle 78"/>
                <p:cNvSpPr/>
                <p:nvPr/>
              </p:nvSpPr>
              <p:spPr>
                <a:xfrm>
                  <a:off x="8310240" y="3989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6" name="Group 79"/>
              <p:cNvGrpSpPr/>
              <p:nvPr/>
            </p:nvGrpSpPr>
            <p:grpSpPr>
              <a:xfrm>
                <a:off x="7100640" y="5438880"/>
                <a:ext cx="322200" cy="366840"/>
                <a:chOff x="7100640" y="5438880"/>
                <a:chExt cx="322200" cy="366840"/>
              </a:xfrm>
            </p:grpSpPr>
            <p:sp>
              <p:nvSpPr>
                <p:cNvPr id="1047" name="Oval 80"/>
                <p:cNvSpPr/>
                <p:nvPr/>
              </p:nvSpPr>
              <p:spPr>
                <a:xfrm>
                  <a:off x="7130880" y="5446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48" name="Rectangle 81"/>
                <p:cNvSpPr/>
                <p:nvPr/>
              </p:nvSpPr>
              <p:spPr>
                <a:xfrm>
                  <a:off x="7100640" y="5438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49" name="Group 82"/>
              <p:cNvGrpSpPr/>
              <p:nvPr/>
            </p:nvGrpSpPr>
            <p:grpSpPr>
              <a:xfrm>
                <a:off x="7313400" y="5280120"/>
                <a:ext cx="322200" cy="366840"/>
                <a:chOff x="7313400" y="5280120"/>
                <a:chExt cx="322200" cy="366840"/>
              </a:xfrm>
            </p:grpSpPr>
            <p:sp>
              <p:nvSpPr>
                <p:cNvPr id="1050" name="Oval 83"/>
                <p:cNvSpPr/>
                <p:nvPr/>
              </p:nvSpPr>
              <p:spPr>
                <a:xfrm>
                  <a:off x="7343640" y="5288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1" name="Rectangle 84"/>
                <p:cNvSpPr/>
                <p:nvPr/>
              </p:nvSpPr>
              <p:spPr>
                <a:xfrm>
                  <a:off x="7313400" y="5280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2" name="Group 85"/>
              <p:cNvGrpSpPr/>
              <p:nvPr/>
            </p:nvGrpSpPr>
            <p:grpSpPr>
              <a:xfrm>
                <a:off x="7564320" y="5104080"/>
                <a:ext cx="322200" cy="366840"/>
                <a:chOff x="7564320" y="5104080"/>
                <a:chExt cx="322200" cy="366840"/>
              </a:xfrm>
            </p:grpSpPr>
            <p:sp>
              <p:nvSpPr>
                <p:cNvPr id="1053" name="Oval 86"/>
                <p:cNvSpPr/>
                <p:nvPr/>
              </p:nvSpPr>
              <p:spPr>
                <a:xfrm>
                  <a:off x="7594560" y="511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4" name="Rectangle 87"/>
                <p:cNvSpPr/>
                <p:nvPr/>
              </p:nvSpPr>
              <p:spPr>
                <a:xfrm>
                  <a:off x="7564320" y="510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5" name="Group 88"/>
              <p:cNvGrpSpPr/>
              <p:nvPr/>
            </p:nvGrpSpPr>
            <p:grpSpPr>
              <a:xfrm>
                <a:off x="7802280" y="4888080"/>
                <a:ext cx="322200" cy="366840"/>
                <a:chOff x="7802280" y="4888080"/>
                <a:chExt cx="322200" cy="366840"/>
              </a:xfrm>
            </p:grpSpPr>
            <p:sp>
              <p:nvSpPr>
                <p:cNvPr id="1056" name="Oval 89"/>
                <p:cNvSpPr/>
                <p:nvPr/>
              </p:nvSpPr>
              <p:spPr>
                <a:xfrm>
                  <a:off x="7832520" y="4896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57" name="Rectangle 90"/>
                <p:cNvSpPr/>
                <p:nvPr/>
              </p:nvSpPr>
              <p:spPr>
                <a:xfrm>
                  <a:off x="7802280" y="4888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58" name="Group 91"/>
              <p:cNvGrpSpPr/>
              <p:nvPr/>
            </p:nvGrpSpPr>
            <p:grpSpPr>
              <a:xfrm>
                <a:off x="7522920" y="4737240"/>
                <a:ext cx="322200" cy="366840"/>
                <a:chOff x="7522920" y="4737240"/>
                <a:chExt cx="322200" cy="366840"/>
              </a:xfrm>
            </p:grpSpPr>
            <p:sp>
              <p:nvSpPr>
                <p:cNvPr id="1059" name="Oval 92"/>
                <p:cNvSpPr/>
                <p:nvPr/>
              </p:nvSpPr>
              <p:spPr>
                <a:xfrm>
                  <a:off x="7553160" y="4745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0" name="Rectangle 93"/>
                <p:cNvSpPr/>
                <p:nvPr/>
              </p:nvSpPr>
              <p:spPr>
                <a:xfrm>
                  <a:off x="7522920" y="4737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1" name="Group 94"/>
              <p:cNvGrpSpPr/>
              <p:nvPr/>
            </p:nvGrpSpPr>
            <p:grpSpPr>
              <a:xfrm>
                <a:off x="7319880" y="4973760"/>
                <a:ext cx="322200" cy="366840"/>
                <a:chOff x="7319880" y="4973760"/>
                <a:chExt cx="322200" cy="366840"/>
              </a:xfrm>
            </p:grpSpPr>
            <p:sp>
              <p:nvSpPr>
                <p:cNvPr id="1062" name="Oval 95"/>
                <p:cNvSpPr/>
                <p:nvPr/>
              </p:nvSpPr>
              <p:spPr>
                <a:xfrm>
                  <a:off x="7350120" y="4981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3" name="Rectangle 96"/>
                <p:cNvSpPr/>
                <p:nvPr/>
              </p:nvSpPr>
              <p:spPr>
                <a:xfrm>
                  <a:off x="7319880" y="4973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4" name="Group 97"/>
              <p:cNvGrpSpPr/>
              <p:nvPr/>
            </p:nvGrpSpPr>
            <p:grpSpPr>
              <a:xfrm>
                <a:off x="6813360" y="5732640"/>
                <a:ext cx="322200" cy="366840"/>
                <a:chOff x="6813360" y="5732640"/>
                <a:chExt cx="322200" cy="366840"/>
              </a:xfrm>
            </p:grpSpPr>
            <p:sp>
              <p:nvSpPr>
                <p:cNvPr id="1065" name="Oval 98"/>
                <p:cNvSpPr/>
                <p:nvPr/>
              </p:nvSpPr>
              <p:spPr>
                <a:xfrm>
                  <a:off x="6843600" y="5740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6" name="Rectangle 99"/>
                <p:cNvSpPr/>
                <p:nvPr/>
              </p:nvSpPr>
              <p:spPr>
                <a:xfrm>
                  <a:off x="6813360" y="5732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67" name="Group 100"/>
              <p:cNvGrpSpPr/>
              <p:nvPr/>
            </p:nvGrpSpPr>
            <p:grpSpPr>
              <a:xfrm>
                <a:off x="6851520" y="5443560"/>
                <a:ext cx="322200" cy="366840"/>
                <a:chOff x="6851520" y="5443560"/>
                <a:chExt cx="322200" cy="366840"/>
              </a:xfrm>
            </p:grpSpPr>
            <p:sp>
              <p:nvSpPr>
                <p:cNvPr id="1068" name="Oval 101"/>
                <p:cNvSpPr/>
                <p:nvPr/>
              </p:nvSpPr>
              <p:spPr>
                <a:xfrm>
                  <a:off x="6881760" y="545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69" name="Rectangle 102"/>
                <p:cNvSpPr/>
                <p:nvPr/>
              </p:nvSpPr>
              <p:spPr>
                <a:xfrm>
                  <a:off x="6851520" y="544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0" name="Group 103"/>
              <p:cNvGrpSpPr/>
              <p:nvPr/>
            </p:nvGrpSpPr>
            <p:grpSpPr>
              <a:xfrm>
                <a:off x="7061040" y="5099040"/>
                <a:ext cx="322200" cy="366840"/>
                <a:chOff x="7061040" y="5099040"/>
                <a:chExt cx="322200" cy="366840"/>
              </a:xfrm>
            </p:grpSpPr>
            <p:sp>
              <p:nvSpPr>
                <p:cNvPr id="1071" name="Oval 104"/>
                <p:cNvSpPr/>
                <p:nvPr/>
              </p:nvSpPr>
              <p:spPr>
                <a:xfrm>
                  <a:off x="7091280" y="51069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2" name="Rectangle 105"/>
                <p:cNvSpPr/>
                <p:nvPr/>
              </p:nvSpPr>
              <p:spPr>
                <a:xfrm>
                  <a:off x="7061040" y="5099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3" name="Group 106"/>
              <p:cNvGrpSpPr/>
              <p:nvPr/>
            </p:nvGrpSpPr>
            <p:grpSpPr>
              <a:xfrm>
                <a:off x="6757920" y="5222880"/>
                <a:ext cx="322200" cy="366840"/>
                <a:chOff x="6757920" y="5222880"/>
                <a:chExt cx="322200" cy="366840"/>
              </a:xfrm>
            </p:grpSpPr>
            <p:sp>
              <p:nvSpPr>
                <p:cNvPr id="1074" name="Oval 107"/>
                <p:cNvSpPr/>
                <p:nvPr/>
              </p:nvSpPr>
              <p:spPr>
                <a:xfrm>
                  <a:off x="6787800" y="52308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5" name="Rectangle 108"/>
                <p:cNvSpPr/>
                <p:nvPr/>
              </p:nvSpPr>
              <p:spPr>
                <a:xfrm>
                  <a:off x="6757920" y="52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6" name="Group 109"/>
              <p:cNvGrpSpPr/>
              <p:nvPr/>
            </p:nvGrpSpPr>
            <p:grpSpPr>
              <a:xfrm>
                <a:off x="7072200" y="4813560"/>
                <a:ext cx="322200" cy="366840"/>
                <a:chOff x="7072200" y="4813560"/>
                <a:chExt cx="322200" cy="366840"/>
              </a:xfrm>
            </p:grpSpPr>
            <p:sp>
              <p:nvSpPr>
                <p:cNvPr id="1077" name="Oval 110"/>
                <p:cNvSpPr/>
                <p:nvPr/>
              </p:nvSpPr>
              <p:spPr>
                <a:xfrm>
                  <a:off x="7102440" y="4821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78" name="Rectangle 111"/>
                <p:cNvSpPr/>
                <p:nvPr/>
              </p:nvSpPr>
              <p:spPr>
                <a:xfrm>
                  <a:off x="7072200" y="4813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79" name="Group 112"/>
              <p:cNvGrpSpPr/>
              <p:nvPr/>
            </p:nvGrpSpPr>
            <p:grpSpPr>
              <a:xfrm>
                <a:off x="6797520" y="4921200"/>
                <a:ext cx="322200" cy="366840"/>
                <a:chOff x="6797520" y="4921200"/>
                <a:chExt cx="322200" cy="366840"/>
              </a:xfrm>
            </p:grpSpPr>
            <p:sp>
              <p:nvSpPr>
                <p:cNvPr id="1080" name="Oval 113"/>
                <p:cNvSpPr/>
                <p:nvPr/>
              </p:nvSpPr>
              <p:spPr>
                <a:xfrm>
                  <a:off x="6827760" y="4929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1" name="Rectangle 114"/>
                <p:cNvSpPr/>
                <p:nvPr/>
              </p:nvSpPr>
              <p:spPr>
                <a:xfrm>
                  <a:off x="6797520" y="4921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2" name="Group 115"/>
              <p:cNvGrpSpPr/>
              <p:nvPr/>
            </p:nvGrpSpPr>
            <p:grpSpPr>
              <a:xfrm>
                <a:off x="6762600" y="4637160"/>
                <a:ext cx="322200" cy="366840"/>
                <a:chOff x="6762600" y="4637160"/>
                <a:chExt cx="322200" cy="366840"/>
              </a:xfrm>
            </p:grpSpPr>
            <p:sp>
              <p:nvSpPr>
                <p:cNvPr id="1083" name="Oval 116"/>
                <p:cNvSpPr/>
                <p:nvPr/>
              </p:nvSpPr>
              <p:spPr>
                <a:xfrm>
                  <a:off x="6792840" y="4645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4" name="Rectangle 117"/>
                <p:cNvSpPr/>
                <p:nvPr/>
              </p:nvSpPr>
              <p:spPr>
                <a:xfrm>
                  <a:off x="6762600" y="4637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5" name="Group 118"/>
              <p:cNvGrpSpPr/>
              <p:nvPr/>
            </p:nvGrpSpPr>
            <p:grpSpPr>
              <a:xfrm>
                <a:off x="8297280" y="4286520"/>
                <a:ext cx="322200" cy="366840"/>
                <a:chOff x="8297280" y="4286520"/>
                <a:chExt cx="322200" cy="366840"/>
              </a:xfrm>
            </p:grpSpPr>
            <p:sp>
              <p:nvSpPr>
                <p:cNvPr id="1086" name="Oval 119"/>
                <p:cNvSpPr/>
                <p:nvPr/>
              </p:nvSpPr>
              <p:spPr>
                <a:xfrm>
                  <a:off x="8327520" y="42940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87" name="Rectangle 120"/>
                <p:cNvSpPr/>
                <p:nvPr/>
              </p:nvSpPr>
              <p:spPr>
                <a:xfrm>
                  <a:off x="8297280" y="4286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88" name="Group 121"/>
              <p:cNvGrpSpPr/>
              <p:nvPr/>
            </p:nvGrpSpPr>
            <p:grpSpPr>
              <a:xfrm>
                <a:off x="8181360" y="4556160"/>
                <a:ext cx="322200" cy="366840"/>
                <a:chOff x="8181360" y="4556160"/>
                <a:chExt cx="322200" cy="366840"/>
              </a:xfrm>
            </p:grpSpPr>
            <p:sp>
              <p:nvSpPr>
                <p:cNvPr id="1089" name="Oval 122"/>
                <p:cNvSpPr/>
                <p:nvPr/>
              </p:nvSpPr>
              <p:spPr>
                <a:xfrm>
                  <a:off x="8211600" y="4564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0" name="Rectangle 123"/>
                <p:cNvSpPr/>
                <p:nvPr/>
              </p:nvSpPr>
              <p:spPr>
                <a:xfrm>
                  <a:off x="8181360" y="4556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1" name="Group 124"/>
              <p:cNvGrpSpPr/>
              <p:nvPr/>
            </p:nvGrpSpPr>
            <p:grpSpPr>
              <a:xfrm>
                <a:off x="7782840" y="4581720"/>
                <a:ext cx="322200" cy="366840"/>
                <a:chOff x="7782840" y="4581720"/>
                <a:chExt cx="322200" cy="366840"/>
              </a:xfrm>
            </p:grpSpPr>
            <p:sp>
              <p:nvSpPr>
                <p:cNvPr id="1092" name="Oval 125"/>
                <p:cNvSpPr/>
                <p:nvPr/>
              </p:nvSpPr>
              <p:spPr>
                <a:xfrm>
                  <a:off x="7813080" y="458928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3" name="Rectangle 126"/>
                <p:cNvSpPr/>
                <p:nvPr/>
              </p:nvSpPr>
              <p:spPr>
                <a:xfrm>
                  <a:off x="7782840" y="4581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4" name="Group 127"/>
              <p:cNvGrpSpPr/>
              <p:nvPr/>
            </p:nvGrpSpPr>
            <p:grpSpPr>
              <a:xfrm>
                <a:off x="7949880" y="4364280"/>
                <a:ext cx="322200" cy="366840"/>
                <a:chOff x="7949880" y="4364280"/>
                <a:chExt cx="322200" cy="366840"/>
              </a:xfrm>
            </p:grpSpPr>
            <p:sp>
              <p:nvSpPr>
                <p:cNvPr id="1095" name="Oval 128"/>
                <p:cNvSpPr/>
                <p:nvPr/>
              </p:nvSpPr>
              <p:spPr>
                <a:xfrm>
                  <a:off x="7980120" y="4371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6" name="Rectangle 129"/>
                <p:cNvSpPr/>
                <p:nvPr/>
              </p:nvSpPr>
              <p:spPr>
                <a:xfrm>
                  <a:off x="7949880" y="4364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097" name="Group 130"/>
              <p:cNvGrpSpPr/>
              <p:nvPr/>
            </p:nvGrpSpPr>
            <p:grpSpPr>
              <a:xfrm>
                <a:off x="8027640" y="4119840"/>
                <a:ext cx="322200" cy="366840"/>
                <a:chOff x="8027640" y="4119840"/>
                <a:chExt cx="322200" cy="366840"/>
              </a:xfrm>
            </p:grpSpPr>
            <p:sp>
              <p:nvSpPr>
                <p:cNvPr id="1098" name="Oval 131"/>
                <p:cNvSpPr/>
                <p:nvPr/>
              </p:nvSpPr>
              <p:spPr>
                <a:xfrm>
                  <a:off x="8057880" y="412740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099" name="Rectangle 132"/>
                <p:cNvSpPr/>
                <p:nvPr/>
              </p:nvSpPr>
              <p:spPr>
                <a:xfrm>
                  <a:off x="8027640" y="4119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0" name="Group 133"/>
              <p:cNvGrpSpPr/>
              <p:nvPr/>
            </p:nvGrpSpPr>
            <p:grpSpPr>
              <a:xfrm>
                <a:off x="7730640" y="4260960"/>
                <a:ext cx="322200" cy="366840"/>
                <a:chOff x="7730640" y="4260960"/>
                <a:chExt cx="322200" cy="366840"/>
              </a:xfrm>
            </p:grpSpPr>
            <p:sp>
              <p:nvSpPr>
                <p:cNvPr id="1101" name="Oval 134"/>
                <p:cNvSpPr/>
                <p:nvPr/>
              </p:nvSpPr>
              <p:spPr>
                <a:xfrm>
                  <a:off x="7760880" y="4268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2" name="Rectangle 135"/>
                <p:cNvSpPr/>
                <p:nvPr/>
              </p:nvSpPr>
              <p:spPr>
                <a:xfrm>
                  <a:off x="7730640" y="4260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3" name="Group 136"/>
              <p:cNvGrpSpPr/>
              <p:nvPr/>
            </p:nvGrpSpPr>
            <p:grpSpPr>
              <a:xfrm>
                <a:off x="7511400" y="4492800"/>
                <a:ext cx="322200" cy="366840"/>
                <a:chOff x="7511400" y="4492800"/>
                <a:chExt cx="322200" cy="366840"/>
              </a:xfrm>
            </p:grpSpPr>
            <p:sp>
              <p:nvSpPr>
                <p:cNvPr id="1104" name="Oval 137"/>
                <p:cNvSpPr/>
                <p:nvPr/>
              </p:nvSpPr>
              <p:spPr>
                <a:xfrm>
                  <a:off x="7541640" y="450036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5" name="Rectangle 138"/>
                <p:cNvSpPr/>
                <p:nvPr/>
              </p:nvSpPr>
              <p:spPr>
                <a:xfrm>
                  <a:off x="7511400" y="4492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6" name="Group 139"/>
              <p:cNvGrpSpPr/>
              <p:nvPr/>
            </p:nvGrpSpPr>
            <p:grpSpPr>
              <a:xfrm>
                <a:off x="7281360" y="4633920"/>
                <a:ext cx="322200" cy="366840"/>
                <a:chOff x="7281360" y="4633920"/>
                <a:chExt cx="322200" cy="366840"/>
              </a:xfrm>
            </p:grpSpPr>
            <p:sp>
              <p:nvSpPr>
                <p:cNvPr id="1107" name="Oval 140"/>
                <p:cNvSpPr/>
                <p:nvPr/>
              </p:nvSpPr>
              <p:spPr>
                <a:xfrm>
                  <a:off x="7311600" y="4641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08" name="Rectangle 141"/>
                <p:cNvSpPr/>
                <p:nvPr/>
              </p:nvSpPr>
              <p:spPr>
                <a:xfrm>
                  <a:off x="7281360" y="4633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09" name="Group 142"/>
              <p:cNvGrpSpPr/>
              <p:nvPr/>
            </p:nvGrpSpPr>
            <p:grpSpPr>
              <a:xfrm>
                <a:off x="7036920" y="4570560"/>
                <a:ext cx="322200" cy="366840"/>
                <a:chOff x="7036920" y="4570560"/>
                <a:chExt cx="322200" cy="366840"/>
              </a:xfrm>
            </p:grpSpPr>
            <p:sp>
              <p:nvSpPr>
                <p:cNvPr id="1110" name="Oval 143"/>
                <p:cNvSpPr/>
                <p:nvPr/>
              </p:nvSpPr>
              <p:spPr>
                <a:xfrm>
                  <a:off x="7067160" y="4578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1" name="Rectangle 144"/>
                <p:cNvSpPr/>
                <p:nvPr/>
              </p:nvSpPr>
              <p:spPr>
                <a:xfrm>
                  <a:off x="7036920" y="4570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2" name="Group 145"/>
              <p:cNvGrpSpPr/>
              <p:nvPr/>
            </p:nvGrpSpPr>
            <p:grpSpPr>
              <a:xfrm>
                <a:off x="6852960" y="4392720"/>
                <a:ext cx="322200" cy="366840"/>
                <a:chOff x="6852960" y="4392720"/>
                <a:chExt cx="322200" cy="366840"/>
              </a:xfrm>
            </p:grpSpPr>
            <p:sp>
              <p:nvSpPr>
                <p:cNvPr id="1113" name="Oval 146"/>
                <p:cNvSpPr/>
                <p:nvPr/>
              </p:nvSpPr>
              <p:spPr>
                <a:xfrm>
                  <a:off x="6883200" y="4400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4" name="Rectangle 147"/>
                <p:cNvSpPr/>
                <p:nvPr/>
              </p:nvSpPr>
              <p:spPr>
                <a:xfrm>
                  <a:off x="6852960" y="4392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15" name="Group 148"/>
              <p:cNvGrpSpPr/>
              <p:nvPr/>
            </p:nvGrpSpPr>
            <p:grpSpPr>
              <a:xfrm>
                <a:off x="7203600" y="4337280"/>
                <a:ext cx="322200" cy="366840"/>
                <a:chOff x="7203600" y="4337280"/>
                <a:chExt cx="322200" cy="366840"/>
              </a:xfrm>
            </p:grpSpPr>
            <p:sp>
              <p:nvSpPr>
                <p:cNvPr id="1116" name="Oval 149"/>
                <p:cNvSpPr/>
                <p:nvPr/>
              </p:nvSpPr>
              <p:spPr>
                <a:xfrm>
                  <a:off x="7233840" y="4344840"/>
                  <a:ext cx="279360" cy="27900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17" name="Rectangle 150"/>
                <p:cNvSpPr/>
                <p:nvPr/>
              </p:nvSpPr>
              <p:spPr>
                <a:xfrm>
                  <a:off x="7203600" y="4337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grpSp>
          <p:nvGrpSpPr>
            <p:cNvPr id="1118" name="Group 151"/>
            <p:cNvGrpSpPr/>
            <p:nvPr/>
          </p:nvGrpSpPr>
          <p:grpSpPr>
            <a:xfrm>
              <a:off x="4425840" y="1844640"/>
              <a:ext cx="2487600" cy="4299120"/>
              <a:chOff x="4425840" y="1844640"/>
              <a:chExt cx="2487600" cy="4299120"/>
            </a:xfrm>
          </p:grpSpPr>
          <p:sp>
            <p:nvSpPr>
              <p:cNvPr id="1119" name="Oval 152"/>
              <p:cNvSpPr/>
              <p:nvPr/>
            </p:nvSpPr>
            <p:spPr>
              <a:xfrm>
                <a:off x="5611680" y="5618160"/>
                <a:ext cx="279360" cy="279360"/>
              </a:xfrm>
              <a:prstGeom prst="ellipse">
                <a:avLst/>
              </a:prstGeom>
              <a:solidFill>
                <a:srgbClr val="ff7c8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0" name="Rectangle 153"/>
              <p:cNvSpPr/>
              <p:nvPr/>
            </p:nvSpPr>
            <p:spPr>
              <a:xfrm>
                <a:off x="5581440" y="5610240"/>
                <a:ext cx="32220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ja-JP" sz="1800" spc="-1" strike="noStrike">
                    <a:solidFill>
                      <a:srgbClr val="000000"/>
                    </a:solidFill>
                    <a:latin typeface="Times New Roman"/>
                    <a:ea typeface="MS PGothic"/>
                  </a:rPr>
                  <a:t>＋</a:t>
                </a:r>
                <a:endParaRPr b="1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121" name="Group 154"/>
              <p:cNvGrpSpPr/>
              <p:nvPr/>
            </p:nvGrpSpPr>
            <p:grpSpPr>
              <a:xfrm>
                <a:off x="5811840" y="2252880"/>
                <a:ext cx="322200" cy="366840"/>
                <a:chOff x="5811840" y="2252880"/>
                <a:chExt cx="322200" cy="366840"/>
              </a:xfrm>
            </p:grpSpPr>
            <p:sp>
              <p:nvSpPr>
                <p:cNvPr id="1122" name="Oval 155"/>
                <p:cNvSpPr/>
                <p:nvPr/>
              </p:nvSpPr>
              <p:spPr>
                <a:xfrm>
                  <a:off x="5841720" y="226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3" name="Rectangle 156"/>
                <p:cNvSpPr/>
                <p:nvPr/>
              </p:nvSpPr>
              <p:spPr>
                <a:xfrm>
                  <a:off x="5811840" y="225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4" name="Group 157"/>
              <p:cNvGrpSpPr/>
              <p:nvPr/>
            </p:nvGrpSpPr>
            <p:grpSpPr>
              <a:xfrm>
                <a:off x="4430520" y="3918240"/>
                <a:ext cx="322200" cy="366840"/>
                <a:chOff x="4430520" y="3918240"/>
                <a:chExt cx="322200" cy="366840"/>
              </a:xfrm>
            </p:grpSpPr>
            <p:sp>
              <p:nvSpPr>
                <p:cNvPr id="1125" name="Oval 158"/>
                <p:cNvSpPr/>
                <p:nvPr/>
              </p:nvSpPr>
              <p:spPr>
                <a:xfrm>
                  <a:off x="4460760" y="3926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6" name="Rectangle 159"/>
                <p:cNvSpPr/>
                <p:nvPr/>
              </p:nvSpPr>
              <p:spPr>
                <a:xfrm>
                  <a:off x="4430520" y="3918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27" name="Group 160"/>
              <p:cNvGrpSpPr/>
              <p:nvPr/>
            </p:nvGrpSpPr>
            <p:grpSpPr>
              <a:xfrm>
                <a:off x="4425840" y="3629160"/>
                <a:ext cx="322200" cy="366840"/>
                <a:chOff x="4425840" y="3629160"/>
                <a:chExt cx="322200" cy="366840"/>
              </a:xfrm>
            </p:grpSpPr>
            <p:sp>
              <p:nvSpPr>
                <p:cNvPr id="1128" name="Oval 161"/>
                <p:cNvSpPr/>
                <p:nvPr/>
              </p:nvSpPr>
              <p:spPr>
                <a:xfrm>
                  <a:off x="4456080" y="3637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29" name="Rectangle 162"/>
                <p:cNvSpPr/>
                <p:nvPr/>
              </p:nvSpPr>
              <p:spPr>
                <a:xfrm>
                  <a:off x="4425840" y="3629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0" name="Group 163"/>
              <p:cNvGrpSpPr/>
              <p:nvPr/>
            </p:nvGrpSpPr>
            <p:grpSpPr>
              <a:xfrm>
                <a:off x="5076720" y="2346480"/>
                <a:ext cx="322200" cy="366840"/>
                <a:chOff x="5076720" y="2346480"/>
                <a:chExt cx="322200" cy="366840"/>
              </a:xfrm>
            </p:grpSpPr>
            <p:sp>
              <p:nvSpPr>
                <p:cNvPr id="1131" name="Oval 164"/>
                <p:cNvSpPr/>
                <p:nvPr/>
              </p:nvSpPr>
              <p:spPr>
                <a:xfrm>
                  <a:off x="5106960" y="235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2" name="Rectangle 165"/>
                <p:cNvSpPr/>
                <p:nvPr/>
              </p:nvSpPr>
              <p:spPr>
                <a:xfrm>
                  <a:off x="5076720" y="2346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3" name="Group 166"/>
              <p:cNvGrpSpPr/>
              <p:nvPr/>
            </p:nvGrpSpPr>
            <p:grpSpPr>
              <a:xfrm>
                <a:off x="4475160" y="3351240"/>
                <a:ext cx="322200" cy="366840"/>
                <a:chOff x="4475160" y="3351240"/>
                <a:chExt cx="322200" cy="366840"/>
              </a:xfrm>
            </p:grpSpPr>
            <p:sp>
              <p:nvSpPr>
                <p:cNvPr id="1134" name="Oval 167"/>
                <p:cNvSpPr/>
                <p:nvPr/>
              </p:nvSpPr>
              <p:spPr>
                <a:xfrm>
                  <a:off x="4505040" y="33591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5" name="Rectangle 168"/>
                <p:cNvSpPr/>
                <p:nvPr/>
              </p:nvSpPr>
              <p:spPr>
                <a:xfrm>
                  <a:off x="4475160" y="33512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6" name="Group 169"/>
              <p:cNvGrpSpPr/>
              <p:nvPr/>
            </p:nvGrpSpPr>
            <p:grpSpPr>
              <a:xfrm>
                <a:off x="4841640" y="2551320"/>
                <a:ext cx="322200" cy="366840"/>
                <a:chOff x="4841640" y="2551320"/>
                <a:chExt cx="322200" cy="366840"/>
              </a:xfrm>
            </p:grpSpPr>
            <p:sp>
              <p:nvSpPr>
                <p:cNvPr id="1137" name="Oval 170"/>
                <p:cNvSpPr/>
                <p:nvPr/>
              </p:nvSpPr>
              <p:spPr>
                <a:xfrm>
                  <a:off x="4871880" y="255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38" name="Rectangle 171"/>
                <p:cNvSpPr/>
                <p:nvPr/>
              </p:nvSpPr>
              <p:spPr>
                <a:xfrm>
                  <a:off x="4841640" y="255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39" name="Group 172"/>
              <p:cNvGrpSpPr/>
              <p:nvPr/>
            </p:nvGrpSpPr>
            <p:grpSpPr>
              <a:xfrm>
                <a:off x="4651200" y="2814840"/>
                <a:ext cx="322200" cy="366840"/>
                <a:chOff x="4651200" y="2814840"/>
                <a:chExt cx="322200" cy="366840"/>
              </a:xfrm>
            </p:grpSpPr>
            <p:sp>
              <p:nvSpPr>
                <p:cNvPr id="1140" name="Oval 173"/>
                <p:cNvSpPr/>
                <p:nvPr/>
              </p:nvSpPr>
              <p:spPr>
                <a:xfrm>
                  <a:off x="4681440" y="28227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1" name="Rectangle 174"/>
                <p:cNvSpPr/>
                <p:nvPr/>
              </p:nvSpPr>
              <p:spPr>
                <a:xfrm>
                  <a:off x="4651200" y="2814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2" name="Group 175"/>
              <p:cNvGrpSpPr/>
              <p:nvPr/>
            </p:nvGrpSpPr>
            <p:grpSpPr>
              <a:xfrm>
                <a:off x="4520880" y="3083040"/>
                <a:ext cx="322200" cy="366840"/>
                <a:chOff x="4520880" y="3083040"/>
                <a:chExt cx="322200" cy="366840"/>
              </a:xfrm>
            </p:grpSpPr>
            <p:sp>
              <p:nvSpPr>
                <p:cNvPr id="1143" name="Oval 176"/>
                <p:cNvSpPr/>
                <p:nvPr/>
              </p:nvSpPr>
              <p:spPr>
                <a:xfrm>
                  <a:off x="4551120" y="3090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4" name="Rectangle 177"/>
                <p:cNvSpPr/>
                <p:nvPr/>
              </p:nvSpPr>
              <p:spPr>
                <a:xfrm>
                  <a:off x="4520880" y="3083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5" name="Group 178"/>
              <p:cNvGrpSpPr/>
              <p:nvPr/>
            </p:nvGrpSpPr>
            <p:grpSpPr>
              <a:xfrm>
                <a:off x="5311440" y="5453280"/>
                <a:ext cx="322200" cy="366840"/>
                <a:chOff x="5311440" y="5453280"/>
                <a:chExt cx="322200" cy="366840"/>
              </a:xfrm>
            </p:grpSpPr>
            <p:sp>
              <p:nvSpPr>
                <p:cNvPr id="1146" name="Oval 179"/>
                <p:cNvSpPr/>
                <p:nvPr/>
              </p:nvSpPr>
              <p:spPr>
                <a:xfrm>
                  <a:off x="5341680" y="54612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47" name="Rectangle 180"/>
                <p:cNvSpPr/>
                <p:nvPr/>
              </p:nvSpPr>
              <p:spPr>
                <a:xfrm>
                  <a:off x="5311440" y="5453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48" name="Group 181"/>
              <p:cNvGrpSpPr/>
              <p:nvPr/>
            </p:nvGrpSpPr>
            <p:grpSpPr>
              <a:xfrm>
                <a:off x="5079960" y="5278680"/>
                <a:ext cx="322200" cy="366840"/>
                <a:chOff x="5079960" y="5278680"/>
                <a:chExt cx="322200" cy="366840"/>
              </a:xfrm>
            </p:grpSpPr>
            <p:sp>
              <p:nvSpPr>
                <p:cNvPr id="1149" name="Oval 182"/>
                <p:cNvSpPr/>
                <p:nvPr/>
              </p:nvSpPr>
              <p:spPr>
                <a:xfrm>
                  <a:off x="5109840" y="5286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0" name="Rectangle 183"/>
                <p:cNvSpPr/>
                <p:nvPr/>
              </p:nvSpPr>
              <p:spPr>
                <a:xfrm>
                  <a:off x="5079960" y="5278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1" name="Group 184"/>
              <p:cNvGrpSpPr/>
              <p:nvPr/>
            </p:nvGrpSpPr>
            <p:grpSpPr>
              <a:xfrm>
                <a:off x="4863960" y="5018040"/>
                <a:ext cx="322200" cy="366840"/>
                <a:chOff x="4863960" y="5018040"/>
                <a:chExt cx="322200" cy="366840"/>
              </a:xfrm>
            </p:grpSpPr>
            <p:sp>
              <p:nvSpPr>
                <p:cNvPr id="1152" name="Oval 185"/>
                <p:cNvSpPr/>
                <p:nvPr/>
              </p:nvSpPr>
              <p:spPr>
                <a:xfrm>
                  <a:off x="4894200" y="5026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3" name="Rectangle 186"/>
                <p:cNvSpPr/>
                <p:nvPr/>
              </p:nvSpPr>
              <p:spPr>
                <a:xfrm>
                  <a:off x="4863960" y="501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4" name="Group 187"/>
              <p:cNvGrpSpPr/>
              <p:nvPr/>
            </p:nvGrpSpPr>
            <p:grpSpPr>
              <a:xfrm>
                <a:off x="4687560" y="4772160"/>
                <a:ext cx="322200" cy="366840"/>
                <a:chOff x="4687560" y="4772160"/>
                <a:chExt cx="322200" cy="366840"/>
              </a:xfrm>
            </p:grpSpPr>
            <p:sp>
              <p:nvSpPr>
                <p:cNvPr id="1155" name="Oval 188"/>
                <p:cNvSpPr/>
                <p:nvPr/>
              </p:nvSpPr>
              <p:spPr>
                <a:xfrm>
                  <a:off x="4717800" y="4780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6" name="Rectangle 189"/>
                <p:cNvSpPr/>
                <p:nvPr/>
              </p:nvSpPr>
              <p:spPr>
                <a:xfrm>
                  <a:off x="4687560" y="4772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57" name="Group 190"/>
              <p:cNvGrpSpPr/>
              <p:nvPr/>
            </p:nvGrpSpPr>
            <p:grpSpPr>
              <a:xfrm>
                <a:off x="4543200" y="4497480"/>
                <a:ext cx="322200" cy="366840"/>
                <a:chOff x="4543200" y="4497480"/>
                <a:chExt cx="322200" cy="366840"/>
              </a:xfrm>
            </p:grpSpPr>
            <p:sp>
              <p:nvSpPr>
                <p:cNvPr id="1158" name="Oval 191"/>
                <p:cNvSpPr/>
                <p:nvPr/>
              </p:nvSpPr>
              <p:spPr>
                <a:xfrm>
                  <a:off x="4573440" y="4505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59" name="Rectangle 192"/>
                <p:cNvSpPr/>
                <p:nvPr/>
              </p:nvSpPr>
              <p:spPr>
                <a:xfrm>
                  <a:off x="4543200" y="4497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0" name="Group 193"/>
              <p:cNvGrpSpPr/>
              <p:nvPr/>
            </p:nvGrpSpPr>
            <p:grpSpPr>
              <a:xfrm>
                <a:off x="4452840" y="4224600"/>
                <a:ext cx="322200" cy="366840"/>
                <a:chOff x="4452840" y="4224600"/>
                <a:chExt cx="322200" cy="366840"/>
              </a:xfrm>
            </p:grpSpPr>
            <p:sp>
              <p:nvSpPr>
                <p:cNvPr id="1161" name="Oval 194"/>
                <p:cNvSpPr/>
                <p:nvPr/>
              </p:nvSpPr>
              <p:spPr>
                <a:xfrm>
                  <a:off x="4483080" y="4232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2" name="Rectangle 195"/>
                <p:cNvSpPr/>
                <p:nvPr/>
              </p:nvSpPr>
              <p:spPr>
                <a:xfrm>
                  <a:off x="4452840" y="4224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3" name="Group 196"/>
              <p:cNvGrpSpPr/>
              <p:nvPr/>
            </p:nvGrpSpPr>
            <p:grpSpPr>
              <a:xfrm>
                <a:off x="5341680" y="2141640"/>
                <a:ext cx="322200" cy="366840"/>
                <a:chOff x="5341680" y="2141640"/>
                <a:chExt cx="322200" cy="366840"/>
              </a:xfrm>
            </p:grpSpPr>
            <p:sp>
              <p:nvSpPr>
                <p:cNvPr id="1164" name="Oval 197"/>
                <p:cNvSpPr/>
                <p:nvPr/>
              </p:nvSpPr>
              <p:spPr>
                <a:xfrm>
                  <a:off x="5371920" y="21495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5" name="Rectangle 198"/>
                <p:cNvSpPr/>
                <p:nvPr/>
              </p:nvSpPr>
              <p:spPr>
                <a:xfrm>
                  <a:off x="5341680" y="2141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6" name="Group 199"/>
              <p:cNvGrpSpPr/>
              <p:nvPr/>
            </p:nvGrpSpPr>
            <p:grpSpPr>
              <a:xfrm>
                <a:off x="6190920" y="5776920"/>
                <a:ext cx="322200" cy="366840"/>
                <a:chOff x="6190920" y="5776920"/>
                <a:chExt cx="322200" cy="366840"/>
              </a:xfrm>
            </p:grpSpPr>
            <p:sp>
              <p:nvSpPr>
                <p:cNvPr id="1167" name="Oval 200"/>
                <p:cNvSpPr/>
                <p:nvPr/>
              </p:nvSpPr>
              <p:spPr>
                <a:xfrm>
                  <a:off x="6221160" y="57848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68" name="Rectangle 201"/>
                <p:cNvSpPr/>
                <p:nvPr/>
              </p:nvSpPr>
              <p:spPr>
                <a:xfrm>
                  <a:off x="6190920" y="5776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69" name="Group 202"/>
              <p:cNvGrpSpPr/>
              <p:nvPr/>
            </p:nvGrpSpPr>
            <p:grpSpPr>
              <a:xfrm>
                <a:off x="5846760" y="5730840"/>
                <a:ext cx="322200" cy="366840"/>
                <a:chOff x="5846760" y="5730840"/>
                <a:chExt cx="322200" cy="366840"/>
              </a:xfrm>
            </p:grpSpPr>
            <p:sp>
              <p:nvSpPr>
                <p:cNvPr id="1170" name="Oval 203"/>
                <p:cNvSpPr/>
                <p:nvPr/>
              </p:nvSpPr>
              <p:spPr>
                <a:xfrm>
                  <a:off x="5876640" y="57387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1" name="Rectangle 204"/>
                <p:cNvSpPr/>
                <p:nvPr/>
              </p:nvSpPr>
              <p:spPr>
                <a:xfrm>
                  <a:off x="5846760" y="57308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2" name="Group 205"/>
              <p:cNvGrpSpPr/>
              <p:nvPr/>
            </p:nvGrpSpPr>
            <p:grpSpPr>
              <a:xfrm>
                <a:off x="5930640" y="1906560"/>
                <a:ext cx="322200" cy="366840"/>
                <a:chOff x="5930640" y="1906560"/>
                <a:chExt cx="322200" cy="366840"/>
              </a:xfrm>
            </p:grpSpPr>
            <p:sp>
              <p:nvSpPr>
                <p:cNvPr id="1173" name="Oval 206"/>
                <p:cNvSpPr/>
                <p:nvPr/>
              </p:nvSpPr>
              <p:spPr>
                <a:xfrm>
                  <a:off x="5960880" y="191448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4" name="Rectangle 207"/>
                <p:cNvSpPr/>
                <p:nvPr/>
              </p:nvSpPr>
              <p:spPr>
                <a:xfrm>
                  <a:off x="5930640" y="190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5" name="Group 208"/>
              <p:cNvGrpSpPr/>
              <p:nvPr/>
            </p:nvGrpSpPr>
            <p:grpSpPr>
              <a:xfrm>
                <a:off x="5643360" y="2016360"/>
                <a:ext cx="322200" cy="366840"/>
                <a:chOff x="5643360" y="2016360"/>
                <a:chExt cx="322200" cy="366840"/>
              </a:xfrm>
            </p:grpSpPr>
            <p:sp>
              <p:nvSpPr>
                <p:cNvPr id="1176" name="Oval 209"/>
                <p:cNvSpPr/>
                <p:nvPr/>
              </p:nvSpPr>
              <p:spPr>
                <a:xfrm>
                  <a:off x="5673600" y="2024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77" name="Rectangle 210"/>
                <p:cNvSpPr/>
                <p:nvPr/>
              </p:nvSpPr>
              <p:spPr>
                <a:xfrm>
                  <a:off x="5643360" y="2016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78" name="Group 211"/>
              <p:cNvGrpSpPr/>
              <p:nvPr/>
            </p:nvGrpSpPr>
            <p:grpSpPr>
              <a:xfrm>
                <a:off x="6283080" y="1844640"/>
                <a:ext cx="322200" cy="366840"/>
                <a:chOff x="6283080" y="1844640"/>
                <a:chExt cx="322200" cy="366840"/>
              </a:xfrm>
            </p:grpSpPr>
            <p:sp>
              <p:nvSpPr>
                <p:cNvPr id="1179" name="Oval 212"/>
                <p:cNvSpPr/>
                <p:nvPr/>
              </p:nvSpPr>
              <p:spPr>
                <a:xfrm>
                  <a:off x="6313320" y="185256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0" name="Rectangle 213"/>
                <p:cNvSpPr/>
                <p:nvPr/>
              </p:nvSpPr>
              <p:spPr>
                <a:xfrm>
                  <a:off x="6283080" y="18446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1" name="Group 214"/>
              <p:cNvGrpSpPr/>
              <p:nvPr/>
            </p:nvGrpSpPr>
            <p:grpSpPr>
              <a:xfrm>
                <a:off x="5573520" y="2360880"/>
                <a:ext cx="322200" cy="366840"/>
                <a:chOff x="5573520" y="2360880"/>
                <a:chExt cx="322200" cy="366840"/>
              </a:xfrm>
            </p:grpSpPr>
            <p:sp>
              <p:nvSpPr>
                <p:cNvPr id="1182" name="Oval 215"/>
                <p:cNvSpPr/>
                <p:nvPr/>
              </p:nvSpPr>
              <p:spPr>
                <a:xfrm>
                  <a:off x="5603760" y="2368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3" name="Rectangle 216"/>
                <p:cNvSpPr/>
                <p:nvPr/>
              </p:nvSpPr>
              <p:spPr>
                <a:xfrm>
                  <a:off x="5573520" y="2360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4" name="Group 217"/>
              <p:cNvGrpSpPr/>
              <p:nvPr/>
            </p:nvGrpSpPr>
            <p:grpSpPr>
              <a:xfrm>
                <a:off x="5108400" y="4937400"/>
                <a:ext cx="322200" cy="366840"/>
                <a:chOff x="5108400" y="4937400"/>
                <a:chExt cx="322200" cy="366840"/>
              </a:xfrm>
            </p:grpSpPr>
            <p:sp>
              <p:nvSpPr>
                <p:cNvPr id="1185" name="Oval 218"/>
                <p:cNvSpPr/>
                <p:nvPr/>
              </p:nvSpPr>
              <p:spPr>
                <a:xfrm>
                  <a:off x="5138640" y="49453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6" name="Rectangle 219"/>
                <p:cNvSpPr/>
                <p:nvPr/>
              </p:nvSpPr>
              <p:spPr>
                <a:xfrm>
                  <a:off x="5108400" y="49374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87" name="Group 220"/>
              <p:cNvGrpSpPr/>
              <p:nvPr/>
            </p:nvGrpSpPr>
            <p:grpSpPr>
              <a:xfrm>
                <a:off x="4921200" y="4649760"/>
                <a:ext cx="322200" cy="366840"/>
                <a:chOff x="4921200" y="4649760"/>
                <a:chExt cx="322200" cy="366840"/>
              </a:xfrm>
            </p:grpSpPr>
            <p:sp>
              <p:nvSpPr>
                <p:cNvPr id="1188" name="Oval 221"/>
                <p:cNvSpPr/>
                <p:nvPr/>
              </p:nvSpPr>
              <p:spPr>
                <a:xfrm>
                  <a:off x="4951080" y="4657680"/>
                  <a:ext cx="27972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89" name="Rectangle 222"/>
                <p:cNvSpPr/>
                <p:nvPr/>
              </p:nvSpPr>
              <p:spPr>
                <a:xfrm>
                  <a:off x="4921200" y="4649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0" name="Group 223"/>
              <p:cNvGrpSpPr/>
              <p:nvPr/>
            </p:nvGrpSpPr>
            <p:grpSpPr>
              <a:xfrm>
                <a:off x="4802040" y="4389480"/>
                <a:ext cx="322200" cy="366840"/>
                <a:chOff x="4802040" y="4389480"/>
                <a:chExt cx="322200" cy="366840"/>
              </a:xfrm>
            </p:grpSpPr>
            <p:sp>
              <p:nvSpPr>
                <p:cNvPr id="1191" name="Oval 224"/>
                <p:cNvSpPr/>
                <p:nvPr/>
              </p:nvSpPr>
              <p:spPr>
                <a:xfrm>
                  <a:off x="4832280" y="4397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2" name="Rectangle 225"/>
                <p:cNvSpPr/>
                <p:nvPr/>
              </p:nvSpPr>
              <p:spPr>
                <a:xfrm>
                  <a:off x="4802040" y="4389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3" name="Group 226"/>
              <p:cNvGrpSpPr/>
              <p:nvPr/>
            </p:nvGrpSpPr>
            <p:grpSpPr>
              <a:xfrm>
                <a:off x="4698720" y="4114800"/>
                <a:ext cx="322200" cy="366840"/>
                <a:chOff x="4698720" y="4114800"/>
                <a:chExt cx="322200" cy="366840"/>
              </a:xfrm>
            </p:grpSpPr>
            <p:sp>
              <p:nvSpPr>
                <p:cNvPr id="1194" name="Oval 227"/>
                <p:cNvSpPr/>
                <p:nvPr/>
              </p:nvSpPr>
              <p:spPr>
                <a:xfrm>
                  <a:off x="4728960" y="4122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5" name="Rectangle 228"/>
                <p:cNvSpPr/>
                <p:nvPr/>
              </p:nvSpPr>
              <p:spPr>
                <a:xfrm>
                  <a:off x="4698720" y="4114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6" name="Group 229"/>
              <p:cNvGrpSpPr/>
              <p:nvPr/>
            </p:nvGrpSpPr>
            <p:grpSpPr>
              <a:xfrm>
                <a:off x="4638600" y="3770280"/>
                <a:ext cx="322200" cy="366840"/>
                <a:chOff x="4638600" y="3770280"/>
                <a:chExt cx="322200" cy="366840"/>
              </a:xfrm>
            </p:grpSpPr>
            <p:sp>
              <p:nvSpPr>
                <p:cNvPr id="1197" name="Oval 230"/>
                <p:cNvSpPr/>
                <p:nvPr/>
              </p:nvSpPr>
              <p:spPr>
                <a:xfrm>
                  <a:off x="4668840" y="3778200"/>
                  <a:ext cx="279360" cy="27972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198" name="Rectangle 231"/>
                <p:cNvSpPr/>
                <p:nvPr/>
              </p:nvSpPr>
              <p:spPr>
                <a:xfrm>
                  <a:off x="4638600" y="37702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199" name="Group 232"/>
              <p:cNvGrpSpPr/>
              <p:nvPr/>
            </p:nvGrpSpPr>
            <p:grpSpPr>
              <a:xfrm>
                <a:off x="4705200" y="3495960"/>
                <a:ext cx="322200" cy="366840"/>
                <a:chOff x="4705200" y="3495960"/>
                <a:chExt cx="322200" cy="366840"/>
              </a:xfrm>
            </p:grpSpPr>
            <p:sp>
              <p:nvSpPr>
                <p:cNvPr id="1200" name="Oval 233"/>
                <p:cNvSpPr/>
                <p:nvPr/>
              </p:nvSpPr>
              <p:spPr>
                <a:xfrm>
                  <a:off x="4735440" y="3503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1" name="Rectangle 234"/>
                <p:cNvSpPr/>
                <p:nvPr/>
              </p:nvSpPr>
              <p:spPr>
                <a:xfrm>
                  <a:off x="4705200" y="3495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2" name="Group 235"/>
              <p:cNvGrpSpPr/>
              <p:nvPr/>
            </p:nvGrpSpPr>
            <p:grpSpPr>
              <a:xfrm>
                <a:off x="4743360" y="3192480"/>
                <a:ext cx="322200" cy="366840"/>
                <a:chOff x="4743360" y="3192480"/>
                <a:chExt cx="322200" cy="366840"/>
              </a:xfrm>
            </p:grpSpPr>
            <p:sp>
              <p:nvSpPr>
                <p:cNvPr id="1203" name="Oval 236"/>
                <p:cNvSpPr/>
                <p:nvPr/>
              </p:nvSpPr>
              <p:spPr>
                <a:xfrm>
                  <a:off x="4773600" y="320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4" name="Rectangle 237"/>
                <p:cNvSpPr/>
                <p:nvPr/>
              </p:nvSpPr>
              <p:spPr>
                <a:xfrm>
                  <a:off x="4743360" y="319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5" name="Group 238"/>
              <p:cNvGrpSpPr/>
              <p:nvPr/>
            </p:nvGrpSpPr>
            <p:grpSpPr>
              <a:xfrm>
                <a:off x="4868640" y="2934000"/>
                <a:ext cx="322200" cy="366840"/>
                <a:chOff x="4868640" y="2934000"/>
                <a:chExt cx="322200" cy="366840"/>
              </a:xfrm>
            </p:grpSpPr>
            <p:sp>
              <p:nvSpPr>
                <p:cNvPr id="1206" name="Oval 239"/>
                <p:cNvSpPr/>
                <p:nvPr/>
              </p:nvSpPr>
              <p:spPr>
                <a:xfrm>
                  <a:off x="4898880" y="29419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07" name="Rectangle 240"/>
                <p:cNvSpPr/>
                <p:nvPr/>
              </p:nvSpPr>
              <p:spPr>
                <a:xfrm>
                  <a:off x="4868640" y="29340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08" name="Group 241"/>
              <p:cNvGrpSpPr/>
              <p:nvPr/>
            </p:nvGrpSpPr>
            <p:grpSpPr>
              <a:xfrm>
                <a:off x="5062320" y="2687760"/>
                <a:ext cx="322200" cy="366840"/>
                <a:chOff x="5062320" y="2687760"/>
                <a:chExt cx="322200" cy="366840"/>
              </a:xfrm>
            </p:grpSpPr>
            <p:sp>
              <p:nvSpPr>
                <p:cNvPr id="1209" name="Oval 242"/>
                <p:cNvSpPr/>
                <p:nvPr/>
              </p:nvSpPr>
              <p:spPr>
                <a:xfrm>
                  <a:off x="5092560" y="2695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0" name="Rectangle 243"/>
                <p:cNvSpPr/>
                <p:nvPr/>
              </p:nvSpPr>
              <p:spPr>
                <a:xfrm>
                  <a:off x="5062320" y="2687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1" name="Group 244"/>
              <p:cNvGrpSpPr/>
              <p:nvPr/>
            </p:nvGrpSpPr>
            <p:grpSpPr>
              <a:xfrm>
                <a:off x="5286240" y="2441520"/>
                <a:ext cx="322200" cy="366840"/>
                <a:chOff x="5286240" y="2441520"/>
                <a:chExt cx="322200" cy="366840"/>
              </a:xfrm>
            </p:grpSpPr>
            <p:sp>
              <p:nvSpPr>
                <p:cNvPr id="1212" name="Oval 245"/>
                <p:cNvSpPr/>
                <p:nvPr/>
              </p:nvSpPr>
              <p:spPr>
                <a:xfrm>
                  <a:off x="5316480" y="2449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3" name="Rectangle 246"/>
                <p:cNvSpPr/>
                <p:nvPr/>
              </p:nvSpPr>
              <p:spPr>
                <a:xfrm>
                  <a:off x="5286240" y="24415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4" name="Group 247"/>
              <p:cNvGrpSpPr/>
              <p:nvPr/>
            </p:nvGrpSpPr>
            <p:grpSpPr>
              <a:xfrm>
                <a:off x="6259320" y="5578560"/>
                <a:ext cx="322200" cy="366840"/>
                <a:chOff x="6259320" y="5578560"/>
                <a:chExt cx="322200" cy="366840"/>
              </a:xfrm>
            </p:grpSpPr>
            <p:sp>
              <p:nvSpPr>
                <p:cNvPr id="1215" name="Oval 248"/>
                <p:cNvSpPr/>
                <p:nvPr/>
              </p:nvSpPr>
              <p:spPr>
                <a:xfrm>
                  <a:off x="6289560" y="5586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6" name="Rectangle 249"/>
                <p:cNvSpPr/>
                <p:nvPr/>
              </p:nvSpPr>
              <p:spPr>
                <a:xfrm>
                  <a:off x="6259320" y="5578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17" name="Group 250"/>
              <p:cNvGrpSpPr/>
              <p:nvPr/>
            </p:nvGrpSpPr>
            <p:grpSpPr>
              <a:xfrm>
                <a:off x="5929200" y="5488200"/>
                <a:ext cx="322200" cy="366840"/>
                <a:chOff x="5929200" y="5488200"/>
                <a:chExt cx="322200" cy="366840"/>
              </a:xfrm>
            </p:grpSpPr>
            <p:sp>
              <p:nvSpPr>
                <p:cNvPr id="1218" name="Oval 251"/>
                <p:cNvSpPr/>
                <p:nvPr/>
              </p:nvSpPr>
              <p:spPr>
                <a:xfrm>
                  <a:off x="5959440" y="5496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19" name="Rectangle 252"/>
                <p:cNvSpPr/>
                <p:nvPr/>
              </p:nvSpPr>
              <p:spPr>
                <a:xfrm>
                  <a:off x="5929200" y="5488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0" name="Group 253"/>
              <p:cNvGrpSpPr/>
              <p:nvPr/>
            </p:nvGrpSpPr>
            <p:grpSpPr>
              <a:xfrm>
                <a:off x="5626080" y="5329440"/>
                <a:ext cx="322200" cy="366840"/>
                <a:chOff x="5626080" y="5329440"/>
                <a:chExt cx="322200" cy="366840"/>
              </a:xfrm>
            </p:grpSpPr>
            <p:sp>
              <p:nvSpPr>
                <p:cNvPr id="1221" name="Oval 254"/>
                <p:cNvSpPr/>
                <p:nvPr/>
              </p:nvSpPr>
              <p:spPr>
                <a:xfrm>
                  <a:off x="5655960" y="5337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2" name="Rectangle 255"/>
                <p:cNvSpPr/>
                <p:nvPr/>
              </p:nvSpPr>
              <p:spPr>
                <a:xfrm>
                  <a:off x="5626080" y="5329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3" name="Group 256"/>
              <p:cNvGrpSpPr/>
              <p:nvPr/>
            </p:nvGrpSpPr>
            <p:grpSpPr>
              <a:xfrm>
                <a:off x="5352840" y="5167440"/>
                <a:ext cx="322200" cy="366840"/>
                <a:chOff x="5352840" y="5167440"/>
                <a:chExt cx="322200" cy="366840"/>
              </a:xfrm>
            </p:grpSpPr>
            <p:sp>
              <p:nvSpPr>
                <p:cNvPr id="1224" name="Oval 257"/>
                <p:cNvSpPr/>
                <p:nvPr/>
              </p:nvSpPr>
              <p:spPr>
                <a:xfrm>
                  <a:off x="5383080" y="5175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5" name="Rectangle 258"/>
                <p:cNvSpPr/>
                <p:nvPr/>
              </p:nvSpPr>
              <p:spPr>
                <a:xfrm>
                  <a:off x="5352840" y="5167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6" name="Group 259"/>
              <p:cNvGrpSpPr/>
              <p:nvPr/>
            </p:nvGrpSpPr>
            <p:grpSpPr>
              <a:xfrm>
                <a:off x="5099040" y="4330800"/>
                <a:ext cx="322200" cy="366840"/>
                <a:chOff x="5099040" y="4330800"/>
                <a:chExt cx="322200" cy="366840"/>
              </a:xfrm>
            </p:grpSpPr>
            <p:sp>
              <p:nvSpPr>
                <p:cNvPr id="1227" name="Oval 260"/>
                <p:cNvSpPr/>
                <p:nvPr/>
              </p:nvSpPr>
              <p:spPr>
                <a:xfrm>
                  <a:off x="512892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28" name="Rectangle 261"/>
                <p:cNvSpPr/>
                <p:nvPr/>
              </p:nvSpPr>
              <p:spPr>
                <a:xfrm>
                  <a:off x="509904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29" name="Group 262"/>
              <p:cNvGrpSpPr/>
              <p:nvPr/>
            </p:nvGrpSpPr>
            <p:grpSpPr>
              <a:xfrm>
                <a:off x="5634000" y="2948040"/>
                <a:ext cx="322200" cy="366840"/>
                <a:chOff x="5634000" y="2948040"/>
                <a:chExt cx="322200" cy="366840"/>
              </a:xfrm>
            </p:grpSpPr>
            <p:sp>
              <p:nvSpPr>
                <p:cNvPr id="1230" name="Oval 263"/>
                <p:cNvSpPr/>
                <p:nvPr/>
              </p:nvSpPr>
              <p:spPr>
                <a:xfrm>
                  <a:off x="5663880" y="29559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1" name="Rectangle 264"/>
                <p:cNvSpPr/>
                <p:nvPr/>
              </p:nvSpPr>
              <p:spPr>
                <a:xfrm>
                  <a:off x="5634000" y="2948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2" name="Group 265"/>
              <p:cNvGrpSpPr/>
              <p:nvPr/>
            </p:nvGrpSpPr>
            <p:grpSpPr>
              <a:xfrm>
                <a:off x="4991040" y="4051440"/>
                <a:ext cx="322200" cy="366840"/>
                <a:chOff x="4991040" y="4051440"/>
                <a:chExt cx="322200" cy="366840"/>
              </a:xfrm>
            </p:grpSpPr>
            <p:sp>
              <p:nvSpPr>
                <p:cNvPr id="1233" name="Oval 266"/>
                <p:cNvSpPr/>
                <p:nvPr/>
              </p:nvSpPr>
              <p:spPr>
                <a:xfrm>
                  <a:off x="5020920" y="405936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4" name="Rectangle 267"/>
                <p:cNvSpPr/>
                <p:nvPr/>
              </p:nvSpPr>
              <p:spPr>
                <a:xfrm>
                  <a:off x="4991040" y="4051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5" name="Group 268"/>
              <p:cNvGrpSpPr/>
              <p:nvPr/>
            </p:nvGrpSpPr>
            <p:grpSpPr>
              <a:xfrm>
                <a:off x="4929120" y="3764160"/>
                <a:ext cx="322200" cy="366840"/>
                <a:chOff x="4929120" y="3764160"/>
                <a:chExt cx="322200" cy="366840"/>
              </a:xfrm>
            </p:grpSpPr>
            <p:sp>
              <p:nvSpPr>
                <p:cNvPr id="1236" name="Oval 269"/>
                <p:cNvSpPr/>
                <p:nvPr/>
              </p:nvSpPr>
              <p:spPr>
                <a:xfrm>
                  <a:off x="4959000" y="37720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37" name="Rectangle 270"/>
                <p:cNvSpPr/>
                <p:nvPr/>
              </p:nvSpPr>
              <p:spPr>
                <a:xfrm>
                  <a:off x="4929120" y="3764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38" name="Group 271"/>
              <p:cNvGrpSpPr/>
              <p:nvPr/>
            </p:nvGrpSpPr>
            <p:grpSpPr>
              <a:xfrm>
                <a:off x="5054400" y="3461040"/>
                <a:ext cx="322200" cy="366840"/>
                <a:chOff x="5054400" y="3461040"/>
                <a:chExt cx="322200" cy="366840"/>
              </a:xfrm>
            </p:grpSpPr>
            <p:sp>
              <p:nvSpPr>
                <p:cNvPr id="1239" name="Oval 272"/>
                <p:cNvSpPr/>
                <p:nvPr/>
              </p:nvSpPr>
              <p:spPr>
                <a:xfrm>
                  <a:off x="5084640" y="346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0" name="Rectangle 273"/>
                <p:cNvSpPr/>
                <p:nvPr/>
              </p:nvSpPr>
              <p:spPr>
                <a:xfrm>
                  <a:off x="5054400" y="346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1" name="Group 274"/>
              <p:cNvGrpSpPr/>
              <p:nvPr/>
            </p:nvGrpSpPr>
            <p:grpSpPr>
              <a:xfrm>
                <a:off x="5078160" y="3159360"/>
                <a:ext cx="322200" cy="366840"/>
                <a:chOff x="5078160" y="3159360"/>
                <a:chExt cx="322200" cy="366840"/>
              </a:xfrm>
            </p:grpSpPr>
            <p:sp>
              <p:nvSpPr>
                <p:cNvPr id="1242" name="Oval 275"/>
                <p:cNvSpPr/>
                <p:nvPr/>
              </p:nvSpPr>
              <p:spPr>
                <a:xfrm>
                  <a:off x="5108400" y="3167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3" name="Rectangle 276"/>
                <p:cNvSpPr/>
                <p:nvPr/>
              </p:nvSpPr>
              <p:spPr>
                <a:xfrm>
                  <a:off x="5078160" y="3159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4" name="Group 277"/>
              <p:cNvGrpSpPr/>
              <p:nvPr/>
            </p:nvGrpSpPr>
            <p:grpSpPr>
              <a:xfrm>
                <a:off x="5273640" y="2941920"/>
                <a:ext cx="322200" cy="366840"/>
                <a:chOff x="5273640" y="2941920"/>
                <a:chExt cx="322200" cy="366840"/>
              </a:xfrm>
            </p:grpSpPr>
            <p:sp>
              <p:nvSpPr>
                <p:cNvPr id="1245" name="Oval 278"/>
                <p:cNvSpPr/>
                <p:nvPr/>
              </p:nvSpPr>
              <p:spPr>
                <a:xfrm>
                  <a:off x="5303520" y="294984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6" name="Rectangle 279"/>
                <p:cNvSpPr/>
                <p:nvPr/>
              </p:nvSpPr>
              <p:spPr>
                <a:xfrm>
                  <a:off x="5273640" y="29419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47" name="Group 280"/>
              <p:cNvGrpSpPr/>
              <p:nvPr/>
            </p:nvGrpSpPr>
            <p:grpSpPr>
              <a:xfrm>
                <a:off x="5425920" y="2695680"/>
                <a:ext cx="322200" cy="366840"/>
                <a:chOff x="5425920" y="2695680"/>
                <a:chExt cx="322200" cy="366840"/>
              </a:xfrm>
            </p:grpSpPr>
            <p:sp>
              <p:nvSpPr>
                <p:cNvPr id="1248" name="Oval 281"/>
                <p:cNvSpPr/>
                <p:nvPr/>
              </p:nvSpPr>
              <p:spPr>
                <a:xfrm>
                  <a:off x="5456160" y="2703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49" name="Rectangle 282"/>
                <p:cNvSpPr/>
                <p:nvPr/>
              </p:nvSpPr>
              <p:spPr>
                <a:xfrm>
                  <a:off x="5425920" y="2695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0" name="Group 283"/>
              <p:cNvGrpSpPr/>
              <p:nvPr/>
            </p:nvGrpSpPr>
            <p:grpSpPr>
              <a:xfrm>
                <a:off x="5724360" y="2622600"/>
                <a:ext cx="322200" cy="366840"/>
                <a:chOff x="5724360" y="2622600"/>
                <a:chExt cx="322200" cy="366840"/>
              </a:xfrm>
            </p:grpSpPr>
            <p:sp>
              <p:nvSpPr>
                <p:cNvPr id="1251" name="Oval 284"/>
                <p:cNvSpPr/>
                <p:nvPr/>
              </p:nvSpPr>
              <p:spPr>
                <a:xfrm>
                  <a:off x="5754240" y="2630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2" name="Rectangle 285"/>
                <p:cNvSpPr/>
                <p:nvPr/>
              </p:nvSpPr>
              <p:spPr>
                <a:xfrm>
                  <a:off x="5724360" y="2622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3" name="Group 286"/>
              <p:cNvGrpSpPr/>
              <p:nvPr/>
            </p:nvGrpSpPr>
            <p:grpSpPr>
              <a:xfrm>
                <a:off x="5837040" y="5126040"/>
                <a:ext cx="322200" cy="366840"/>
                <a:chOff x="5837040" y="5126040"/>
                <a:chExt cx="322200" cy="366840"/>
              </a:xfrm>
            </p:grpSpPr>
            <p:sp>
              <p:nvSpPr>
                <p:cNvPr id="1254" name="Oval 287"/>
                <p:cNvSpPr/>
                <p:nvPr/>
              </p:nvSpPr>
              <p:spPr>
                <a:xfrm>
                  <a:off x="5867280" y="5133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5" name="Rectangle 288"/>
                <p:cNvSpPr/>
                <p:nvPr/>
              </p:nvSpPr>
              <p:spPr>
                <a:xfrm>
                  <a:off x="5837040" y="5126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6" name="Group 289"/>
              <p:cNvGrpSpPr/>
              <p:nvPr/>
            </p:nvGrpSpPr>
            <p:grpSpPr>
              <a:xfrm>
                <a:off x="5605200" y="4996080"/>
                <a:ext cx="322200" cy="366840"/>
                <a:chOff x="5605200" y="4996080"/>
                <a:chExt cx="322200" cy="366840"/>
              </a:xfrm>
            </p:grpSpPr>
            <p:sp>
              <p:nvSpPr>
                <p:cNvPr id="1257" name="Oval 290"/>
                <p:cNvSpPr/>
                <p:nvPr/>
              </p:nvSpPr>
              <p:spPr>
                <a:xfrm>
                  <a:off x="5635440" y="5004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58" name="Rectangle 291"/>
                <p:cNvSpPr/>
                <p:nvPr/>
              </p:nvSpPr>
              <p:spPr>
                <a:xfrm>
                  <a:off x="5605200" y="4996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59" name="Group 292"/>
              <p:cNvGrpSpPr/>
              <p:nvPr/>
            </p:nvGrpSpPr>
            <p:grpSpPr>
              <a:xfrm>
                <a:off x="5359320" y="4834080"/>
                <a:ext cx="322200" cy="366840"/>
                <a:chOff x="5359320" y="4834080"/>
                <a:chExt cx="322200" cy="366840"/>
              </a:xfrm>
            </p:grpSpPr>
            <p:sp>
              <p:nvSpPr>
                <p:cNvPr id="1260" name="Oval 293"/>
                <p:cNvSpPr/>
                <p:nvPr/>
              </p:nvSpPr>
              <p:spPr>
                <a:xfrm>
                  <a:off x="5389560" y="4842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1" name="Rectangle 294"/>
                <p:cNvSpPr/>
                <p:nvPr/>
              </p:nvSpPr>
              <p:spPr>
                <a:xfrm>
                  <a:off x="5359320" y="4834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2" name="Group 295"/>
              <p:cNvGrpSpPr/>
              <p:nvPr/>
            </p:nvGrpSpPr>
            <p:grpSpPr>
              <a:xfrm>
                <a:off x="5221080" y="4610160"/>
                <a:ext cx="322200" cy="366840"/>
                <a:chOff x="5221080" y="4610160"/>
                <a:chExt cx="322200" cy="366840"/>
              </a:xfrm>
            </p:grpSpPr>
            <p:sp>
              <p:nvSpPr>
                <p:cNvPr id="1263" name="Oval 296"/>
                <p:cNvSpPr/>
                <p:nvPr/>
              </p:nvSpPr>
              <p:spPr>
                <a:xfrm>
                  <a:off x="5251320" y="4618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4" name="Rectangle 297"/>
                <p:cNvSpPr/>
                <p:nvPr/>
              </p:nvSpPr>
              <p:spPr>
                <a:xfrm>
                  <a:off x="5221080" y="4610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5" name="Group 298"/>
              <p:cNvGrpSpPr/>
              <p:nvPr/>
            </p:nvGrpSpPr>
            <p:grpSpPr>
              <a:xfrm>
                <a:off x="5411520" y="4330800"/>
                <a:ext cx="322200" cy="366840"/>
                <a:chOff x="5411520" y="4330800"/>
                <a:chExt cx="322200" cy="366840"/>
              </a:xfrm>
            </p:grpSpPr>
            <p:sp>
              <p:nvSpPr>
                <p:cNvPr id="1266" name="Oval 299"/>
                <p:cNvSpPr/>
                <p:nvPr/>
              </p:nvSpPr>
              <p:spPr>
                <a:xfrm>
                  <a:off x="5441760" y="433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67" name="Rectangle 300"/>
                <p:cNvSpPr/>
                <p:nvPr/>
              </p:nvSpPr>
              <p:spPr>
                <a:xfrm>
                  <a:off x="5411520" y="433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68" name="Group 301"/>
              <p:cNvGrpSpPr/>
              <p:nvPr/>
            </p:nvGrpSpPr>
            <p:grpSpPr>
              <a:xfrm>
                <a:off x="5292720" y="4029120"/>
                <a:ext cx="322200" cy="366840"/>
                <a:chOff x="5292720" y="4029120"/>
                <a:chExt cx="322200" cy="366840"/>
              </a:xfrm>
            </p:grpSpPr>
            <p:sp>
              <p:nvSpPr>
                <p:cNvPr id="1269" name="Oval 302"/>
                <p:cNvSpPr/>
                <p:nvPr/>
              </p:nvSpPr>
              <p:spPr>
                <a:xfrm>
                  <a:off x="5322600" y="4037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0" name="Rectangle 303"/>
                <p:cNvSpPr/>
                <p:nvPr/>
              </p:nvSpPr>
              <p:spPr>
                <a:xfrm>
                  <a:off x="5292720" y="4029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1" name="Group 304"/>
              <p:cNvGrpSpPr/>
              <p:nvPr/>
            </p:nvGrpSpPr>
            <p:grpSpPr>
              <a:xfrm>
                <a:off x="5232240" y="3724560"/>
                <a:ext cx="322200" cy="366840"/>
                <a:chOff x="5232240" y="3724560"/>
                <a:chExt cx="322200" cy="366840"/>
              </a:xfrm>
            </p:grpSpPr>
            <p:sp>
              <p:nvSpPr>
                <p:cNvPr id="1272" name="Oval 305"/>
                <p:cNvSpPr/>
                <p:nvPr/>
              </p:nvSpPr>
              <p:spPr>
                <a:xfrm>
                  <a:off x="5262480" y="3732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3" name="Rectangle 306"/>
                <p:cNvSpPr/>
                <p:nvPr/>
              </p:nvSpPr>
              <p:spPr>
                <a:xfrm>
                  <a:off x="5232240" y="37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4" name="Group 307"/>
              <p:cNvGrpSpPr/>
              <p:nvPr/>
            </p:nvGrpSpPr>
            <p:grpSpPr>
              <a:xfrm>
                <a:off x="5327640" y="3422880"/>
                <a:ext cx="322200" cy="366840"/>
                <a:chOff x="5327640" y="3422880"/>
                <a:chExt cx="322200" cy="366840"/>
              </a:xfrm>
            </p:grpSpPr>
            <p:sp>
              <p:nvSpPr>
                <p:cNvPr id="1275" name="Oval 308"/>
                <p:cNvSpPr/>
                <p:nvPr/>
              </p:nvSpPr>
              <p:spPr>
                <a:xfrm>
                  <a:off x="5357520" y="343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6" name="Rectangle 309"/>
                <p:cNvSpPr/>
                <p:nvPr/>
              </p:nvSpPr>
              <p:spPr>
                <a:xfrm>
                  <a:off x="5327640" y="342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77" name="Group 310"/>
              <p:cNvGrpSpPr/>
              <p:nvPr/>
            </p:nvGrpSpPr>
            <p:grpSpPr>
              <a:xfrm>
                <a:off x="5438520" y="3191040"/>
                <a:ext cx="322200" cy="366840"/>
                <a:chOff x="5438520" y="3191040"/>
                <a:chExt cx="322200" cy="366840"/>
              </a:xfrm>
            </p:grpSpPr>
            <p:sp>
              <p:nvSpPr>
                <p:cNvPr id="1278" name="Oval 311"/>
                <p:cNvSpPr/>
                <p:nvPr/>
              </p:nvSpPr>
              <p:spPr>
                <a:xfrm>
                  <a:off x="5468760" y="3198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79" name="Rectangle 312"/>
                <p:cNvSpPr/>
                <p:nvPr/>
              </p:nvSpPr>
              <p:spPr>
                <a:xfrm>
                  <a:off x="5438520" y="3191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0" name="Group 313"/>
              <p:cNvGrpSpPr/>
              <p:nvPr/>
            </p:nvGrpSpPr>
            <p:grpSpPr>
              <a:xfrm>
                <a:off x="6124320" y="5286600"/>
                <a:ext cx="322200" cy="366840"/>
                <a:chOff x="6124320" y="5286600"/>
                <a:chExt cx="322200" cy="366840"/>
              </a:xfrm>
            </p:grpSpPr>
            <p:sp>
              <p:nvSpPr>
                <p:cNvPr id="1281" name="Oval 314"/>
                <p:cNvSpPr/>
                <p:nvPr/>
              </p:nvSpPr>
              <p:spPr>
                <a:xfrm>
                  <a:off x="6154560" y="52945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2" name="Rectangle 315"/>
                <p:cNvSpPr/>
                <p:nvPr/>
              </p:nvSpPr>
              <p:spPr>
                <a:xfrm>
                  <a:off x="6124320" y="52866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3" name="Group 316"/>
              <p:cNvGrpSpPr/>
              <p:nvPr/>
            </p:nvGrpSpPr>
            <p:grpSpPr>
              <a:xfrm>
                <a:off x="6137280" y="4956120"/>
                <a:ext cx="322200" cy="366840"/>
                <a:chOff x="6137280" y="4956120"/>
                <a:chExt cx="322200" cy="366840"/>
              </a:xfrm>
            </p:grpSpPr>
            <p:sp>
              <p:nvSpPr>
                <p:cNvPr id="1284" name="Oval 317"/>
                <p:cNvSpPr/>
                <p:nvPr/>
              </p:nvSpPr>
              <p:spPr>
                <a:xfrm>
                  <a:off x="6167160" y="4964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5" name="Rectangle 318"/>
                <p:cNvSpPr/>
                <p:nvPr/>
              </p:nvSpPr>
              <p:spPr>
                <a:xfrm>
                  <a:off x="6137280" y="4956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6" name="Group 319"/>
              <p:cNvGrpSpPr/>
              <p:nvPr/>
            </p:nvGrpSpPr>
            <p:grpSpPr>
              <a:xfrm>
                <a:off x="5848200" y="4810320"/>
                <a:ext cx="322200" cy="366840"/>
                <a:chOff x="5848200" y="4810320"/>
                <a:chExt cx="322200" cy="366840"/>
              </a:xfrm>
            </p:grpSpPr>
            <p:sp>
              <p:nvSpPr>
                <p:cNvPr id="1287" name="Oval 320"/>
                <p:cNvSpPr/>
                <p:nvPr/>
              </p:nvSpPr>
              <p:spPr>
                <a:xfrm>
                  <a:off x="5878440" y="4818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88" name="Rectangle 321"/>
                <p:cNvSpPr/>
                <p:nvPr/>
              </p:nvSpPr>
              <p:spPr>
                <a:xfrm>
                  <a:off x="5848200" y="4810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89" name="Group 322"/>
              <p:cNvGrpSpPr/>
              <p:nvPr/>
            </p:nvGrpSpPr>
            <p:grpSpPr>
              <a:xfrm>
                <a:off x="5559120" y="4621320"/>
                <a:ext cx="322200" cy="366840"/>
                <a:chOff x="5559120" y="4621320"/>
                <a:chExt cx="322200" cy="366840"/>
              </a:xfrm>
            </p:grpSpPr>
            <p:sp>
              <p:nvSpPr>
                <p:cNvPr id="1290" name="Oval 323"/>
                <p:cNvSpPr/>
                <p:nvPr/>
              </p:nvSpPr>
              <p:spPr>
                <a:xfrm>
                  <a:off x="5589360" y="46292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1" name="Rectangle 324"/>
                <p:cNvSpPr/>
                <p:nvPr/>
              </p:nvSpPr>
              <p:spPr>
                <a:xfrm>
                  <a:off x="5559120" y="46213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2" name="Group 325"/>
              <p:cNvGrpSpPr/>
              <p:nvPr/>
            </p:nvGrpSpPr>
            <p:grpSpPr>
              <a:xfrm>
                <a:off x="5638680" y="3434040"/>
                <a:ext cx="322200" cy="366840"/>
                <a:chOff x="5638680" y="3434040"/>
                <a:chExt cx="322200" cy="366840"/>
              </a:xfrm>
            </p:grpSpPr>
            <p:sp>
              <p:nvSpPr>
                <p:cNvPr id="1293" name="Oval 326"/>
                <p:cNvSpPr/>
                <p:nvPr/>
              </p:nvSpPr>
              <p:spPr>
                <a:xfrm>
                  <a:off x="5668920" y="34419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4" name="Rectangle 327"/>
                <p:cNvSpPr/>
                <p:nvPr/>
              </p:nvSpPr>
              <p:spPr>
                <a:xfrm>
                  <a:off x="5638680" y="34340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5" name="Group 328"/>
              <p:cNvGrpSpPr/>
              <p:nvPr/>
            </p:nvGrpSpPr>
            <p:grpSpPr>
              <a:xfrm>
                <a:off x="5833800" y="3175200"/>
                <a:ext cx="322200" cy="366840"/>
                <a:chOff x="5833800" y="3175200"/>
                <a:chExt cx="322200" cy="366840"/>
              </a:xfrm>
            </p:grpSpPr>
            <p:sp>
              <p:nvSpPr>
                <p:cNvPr id="1296" name="Oval 329"/>
                <p:cNvSpPr/>
                <p:nvPr/>
              </p:nvSpPr>
              <p:spPr>
                <a:xfrm>
                  <a:off x="5864040" y="31831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297" name="Rectangle 330"/>
                <p:cNvSpPr/>
                <p:nvPr/>
              </p:nvSpPr>
              <p:spPr>
                <a:xfrm>
                  <a:off x="5833800" y="31752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298" name="Group 331"/>
              <p:cNvGrpSpPr/>
              <p:nvPr/>
            </p:nvGrpSpPr>
            <p:grpSpPr>
              <a:xfrm>
                <a:off x="5599080" y="3992760"/>
                <a:ext cx="322200" cy="366840"/>
                <a:chOff x="5599080" y="3992760"/>
                <a:chExt cx="322200" cy="366840"/>
              </a:xfrm>
            </p:grpSpPr>
            <p:sp>
              <p:nvSpPr>
                <p:cNvPr id="1299" name="Oval 332"/>
                <p:cNvSpPr/>
                <p:nvPr/>
              </p:nvSpPr>
              <p:spPr>
                <a:xfrm>
                  <a:off x="5628960" y="4000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0" name="Rectangle 333"/>
                <p:cNvSpPr/>
                <p:nvPr/>
              </p:nvSpPr>
              <p:spPr>
                <a:xfrm>
                  <a:off x="5599080" y="3992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1" name="Group 334"/>
              <p:cNvGrpSpPr/>
              <p:nvPr/>
            </p:nvGrpSpPr>
            <p:grpSpPr>
              <a:xfrm>
                <a:off x="5537160" y="3703680"/>
                <a:ext cx="322200" cy="366840"/>
                <a:chOff x="5537160" y="3703680"/>
                <a:chExt cx="322200" cy="366840"/>
              </a:xfrm>
            </p:grpSpPr>
            <p:sp>
              <p:nvSpPr>
                <p:cNvPr id="1302" name="Oval 335"/>
                <p:cNvSpPr/>
                <p:nvPr/>
              </p:nvSpPr>
              <p:spPr>
                <a:xfrm>
                  <a:off x="5567040" y="371160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3" name="Rectangle 336"/>
                <p:cNvSpPr/>
                <p:nvPr/>
              </p:nvSpPr>
              <p:spPr>
                <a:xfrm>
                  <a:off x="5537160" y="370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4" name="Group 337"/>
              <p:cNvGrpSpPr/>
              <p:nvPr/>
            </p:nvGrpSpPr>
            <p:grpSpPr>
              <a:xfrm>
                <a:off x="6499080" y="5770800"/>
                <a:ext cx="322200" cy="366840"/>
                <a:chOff x="6499080" y="5770800"/>
                <a:chExt cx="322200" cy="366840"/>
              </a:xfrm>
            </p:grpSpPr>
            <p:sp>
              <p:nvSpPr>
                <p:cNvPr id="1305" name="Oval 338"/>
                <p:cNvSpPr/>
                <p:nvPr/>
              </p:nvSpPr>
              <p:spPr>
                <a:xfrm>
                  <a:off x="6529320" y="577872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6" name="Rectangle 339"/>
                <p:cNvSpPr/>
                <p:nvPr/>
              </p:nvSpPr>
              <p:spPr>
                <a:xfrm>
                  <a:off x="6499080" y="577080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07" name="Group 340"/>
              <p:cNvGrpSpPr/>
              <p:nvPr/>
            </p:nvGrpSpPr>
            <p:grpSpPr>
              <a:xfrm>
                <a:off x="6591240" y="5524560"/>
                <a:ext cx="322200" cy="366840"/>
                <a:chOff x="6591240" y="5524560"/>
                <a:chExt cx="322200" cy="366840"/>
              </a:xfrm>
            </p:grpSpPr>
            <p:sp>
              <p:nvSpPr>
                <p:cNvPr id="1308" name="Oval 341"/>
                <p:cNvSpPr/>
                <p:nvPr/>
              </p:nvSpPr>
              <p:spPr>
                <a:xfrm>
                  <a:off x="6621120" y="5532480"/>
                  <a:ext cx="27972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09" name="Rectangle 342"/>
                <p:cNvSpPr/>
                <p:nvPr/>
              </p:nvSpPr>
              <p:spPr>
                <a:xfrm>
                  <a:off x="6591240" y="5524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0" name="Group 343"/>
              <p:cNvGrpSpPr/>
              <p:nvPr/>
            </p:nvGrpSpPr>
            <p:grpSpPr>
              <a:xfrm>
                <a:off x="6440400" y="5275440"/>
                <a:ext cx="322200" cy="366840"/>
                <a:chOff x="6440400" y="5275440"/>
                <a:chExt cx="322200" cy="366840"/>
              </a:xfrm>
            </p:grpSpPr>
            <p:sp>
              <p:nvSpPr>
                <p:cNvPr id="1311" name="Oval 344"/>
                <p:cNvSpPr/>
                <p:nvPr/>
              </p:nvSpPr>
              <p:spPr>
                <a:xfrm>
                  <a:off x="6470640" y="528336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2" name="Rectangle 345"/>
                <p:cNvSpPr/>
                <p:nvPr/>
              </p:nvSpPr>
              <p:spPr>
                <a:xfrm>
                  <a:off x="6440400" y="527544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3" name="Group 346"/>
              <p:cNvGrpSpPr/>
              <p:nvPr/>
            </p:nvGrpSpPr>
            <p:grpSpPr>
              <a:xfrm>
                <a:off x="6481440" y="4961160"/>
                <a:ext cx="322200" cy="366840"/>
                <a:chOff x="6481440" y="4961160"/>
                <a:chExt cx="322200" cy="366840"/>
              </a:xfrm>
            </p:grpSpPr>
            <p:sp>
              <p:nvSpPr>
                <p:cNvPr id="1314" name="Oval 347"/>
                <p:cNvSpPr/>
                <p:nvPr/>
              </p:nvSpPr>
              <p:spPr>
                <a:xfrm>
                  <a:off x="6511680" y="49690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5" name="Rectangle 348"/>
                <p:cNvSpPr/>
                <p:nvPr/>
              </p:nvSpPr>
              <p:spPr>
                <a:xfrm>
                  <a:off x="6481440" y="49611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6" name="Group 349"/>
              <p:cNvGrpSpPr/>
              <p:nvPr/>
            </p:nvGrpSpPr>
            <p:grpSpPr>
              <a:xfrm>
                <a:off x="6453000" y="4689720"/>
                <a:ext cx="322200" cy="366840"/>
                <a:chOff x="6453000" y="4689720"/>
                <a:chExt cx="322200" cy="366840"/>
              </a:xfrm>
            </p:grpSpPr>
            <p:sp>
              <p:nvSpPr>
                <p:cNvPr id="1317" name="Oval 350"/>
                <p:cNvSpPr/>
                <p:nvPr/>
              </p:nvSpPr>
              <p:spPr>
                <a:xfrm>
                  <a:off x="6483240" y="4697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18" name="Rectangle 351"/>
                <p:cNvSpPr/>
                <p:nvPr/>
              </p:nvSpPr>
              <p:spPr>
                <a:xfrm>
                  <a:off x="6453000" y="4689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19" name="Group 352"/>
              <p:cNvGrpSpPr/>
              <p:nvPr/>
            </p:nvGrpSpPr>
            <p:grpSpPr>
              <a:xfrm>
                <a:off x="6118200" y="4676760"/>
                <a:ext cx="322200" cy="366840"/>
                <a:chOff x="6118200" y="4676760"/>
                <a:chExt cx="322200" cy="366840"/>
              </a:xfrm>
            </p:grpSpPr>
            <p:sp>
              <p:nvSpPr>
                <p:cNvPr id="1320" name="Oval 353"/>
                <p:cNvSpPr/>
                <p:nvPr/>
              </p:nvSpPr>
              <p:spPr>
                <a:xfrm>
                  <a:off x="6148440" y="4684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1" name="Rectangle 354"/>
                <p:cNvSpPr/>
                <p:nvPr/>
              </p:nvSpPr>
              <p:spPr>
                <a:xfrm>
                  <a:off x="6118200" y="4676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2" name="Group 355"/>
              <p:cNvGrpSpPr/>
              <p:nvPr/>
            </p:nvGrpSpPr>
            <p:grpSpPr>
              <a:xfrm>
                <a:off x="5838480" y="4516560"/>
                <a:ext cx="322200" cy="366840"/>
                <a:chOff x="5838480" y="4516560"/>
                <a:chExt cx="322200" cy="366840"/>
              </a:xfrm>
            </p:grpSpPr>
            <p:sp>
              <p:nvSpPr>
                <p:cNvPr id="1323" name="Oval 356"/>
                <p:cNvSpPr/>
                <p:nvPr/>
              </p:nvSpPr>
              <p:spPr>
                <a:xfrm>
                  <a:off x="5868720" y="45244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4" name="Rectangle 357"/>
                <p:cNvSpPr/>
                <p:nvPr/>
              </p:nvSpPr>
              <p:spPr>
                <a:xfrm>
                  <a:off x="5838480" y="45165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5" name="Group 358"/>
              <p:cNvGrpSpPr/>
              <p:nvPr/>
            </p:nvGrpSpPr>
            <p:grpSpPr>
              <a:xfrm>
                <a:off x="5709600" y="4233960"/>
                <a:ext cx="322200" cy="366840"/>
                <a:chOff x="5709600" y="4233960"/>
                <a:chExt cx="322200" cy="366840"/>
              </a:xfrm>
            </p:grpSpPr>
            <p:sp>
              <p:nvSpPr>
                <p:cNvPr id="1326" name="Oval 359"/>
                <p:cNvSpPr/>
                <p:nvPr/>
              </p:nvSpPr>
              <p:spPr>
                <a:xfrm>
                  <a:off x="5739840" y="42418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27" name="Rectangle 360"/>
                <p:cNvSpPr/>
                <p:nvPr/>
              </p:nvSpPr>
              <p:spPr>
                <a:xfrm>
                  <a:off x="5709600" y="42339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28" name="Group 361"/>
              <p:cNvGrpSpPr/>
              <p:nvPr/>
            </p:nvGrpSpPr>
            <p:grpSpPr>
              <a:xfrm>
                <a:off x="5992200" y="4272120"/>
                <a:ext cx="322200" cy="366840"/>
                <a:chOff x="5992200" y="4272120"/>
                <a:chExt cx="322200" cy="366840"/>
              </a:xfrm>
            </p:grpSpPr>
            <p:sp>
              <p:nvSpPr>
                <p:cNvPr id="1329" name="Oval 362"/>
                <p:cNvSpPr/>
                <p:nvPr/>
              </p:nvSpPr>
              <p:spPr>
                <a:xfrm>
                  <a:off x="6022440" y="42800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0" name="Rectangle 363"/>
                <p:cNvSpPr/>
                <p:nvPr/>
              </p:nvSpPr>
              <p:spPr>
                <a:xfrm>
                  <a:off x="5992200" y="42721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1" name="Group 364"/>
              <p:cNvGrpSpPr/>
              <p:nvPr/>
            </p:nvGrpSpPr>
            <p:grpSpPr>
              <a:xfrm>
                <a:off x="6249600" y="4402080"/>
                <a:ext cx="322200" cy="366840"/>
                <a:chOff x="6249600" y="4402080"/>
                <a:chExt cx="322200" cy="366840"/>
              </a:xfrm>
            </p:grpSpPr>
            <p:sp>
              <p:nvSpPr>
                <p:cNvPr id="1332" name="Oval 365"/>
                <p:cNvSpPr/>
                <p:nvPr/>
              </p:nvSpPr>
              <p:spPr>
                <a:xfrm>
                  <a:off x="6279840" y="44100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3" name="Rectangle 366"/>
                <p:cNvSpPr/>
                <p:nvPr/>
              </p:nvSpPr>
              <p:spPr>
                <a:xfrm>
                  <a:off x="6249600" y="44020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4" name="Group 367"/>
              <p:cNvGrpSpPr/>
              <p:nvPr/>
            </p:nvGrpSpPr>
            <p:grpSpPr>
              <a:xfrm>
                <a:off x="6546240" y="4362480"/>
                <a:ext cx="322200" cy="366840"/>
                <a:chOff x="6546240" y="4362480"/>
                <a:chExt cx="322200" cy="366840"/>
              </a:xfrm>
            </p:grpSpPr>
            <p:sp>
              <p:nvSpPr>
                <p:cNvPr id="1335" name="Oval 368"/>
                <p:cNvSpPr/>
                <p:nvPr/>
              </p:nvSpPr>
              <p:spPr>
                <a:xfrm>
                  <a:off x="6576480" y="43704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6" name="Rectangle 369"/>
                <p:cNvSpPr/>
                <p:nvPr/>
              </p:nvSpPr>
              <p:spPr>
                <a:xfrm>
                  <a:off x="6546240" y="43624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37" name="Group 370"/>
              <p:cNvGrpSpPr/>
              <p:nvPr/>
            </p:nvGrpSpPr>
            <p:grpSpPr>
              <a:xfrm>
                <a:off x="5863680" y="3951360"/>
                <a:ext cx="322200" cy="366840"/>
                <a:chOff x="5863680" y="3951360"/>
                <a:chExt cx="322200" cy="366840"/>
              </a:xfrm>
            </p:grpSpPr>
            <p:sp>
              <p:nvSpPr>
                <p:cNvPr id="1338" name="Oval 371"/>
                <p:cNvSpPr/>
                <p:nvPr/>
              </p:nvSpPr>
              <p:spPr>
                <a:xfrm>
                  <a:off x="5893920" y="39592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39" name="Rectangle 372"/>
                <p:cNvSpPr/>
                <p:nvPr/>
              </p:nvSpPr>
              <p:spPr>
                <a:xfrm>
                  <a:off x="5863680" y="39513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0" name="Group 373"/>
              <p:cNvGrpSpPr/>
              <p:nvPr/>
            </p:nvGrpSpPr>
            <p:grpSpPr>
              <a:xfrm>
                <a:off x="5836680" y="3668760"/>
                <a:ext cx="322200" cy="366840"/>
                <a:chOff x="5836680" y="3668760"/>
                <a:chExt cx="322200" cy="366840"/>
              </a:xfrm>
            </p:grpSpPr>
            <p:sp>
              <p:nvSpPr>
                <p:cNvPr id="1341" name="Oval 374"/>
                <p:cNvSpPr/>
                <p:nvPr/>
              </p:nvSpPr>
              <p:spPr>
                <a:xfrm>
                  <a:off x="5866920" y="367668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2" name="Rectangle 375"/>
                <p:cNvSpPr/>
                <p:nvPr/>
              </p:nvSpPr>
              <p:spPr>
                <a:xfrm>
                  <a:off x="5836680" y="366876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3" name="Group 376"/>
              <p:cNvGrpSpPr/>
              <p:nvPr/>
            </p:nvGrpSpPr>
            <p:grpSpPr>
              <a:xfrm>
                <a:off x="5928840" y="2882880"/>
                <a:ext cx="322200" cy="366840"/>
                <a:chOff x="5928840" y="2882880"/>
                <a:chExt cx="322200" cy="366840"/>
              </a:xfrm>
            </p:grpSpPr>
            <p:sp>
              <p:nvSpPr>
                <p:cNvPr id="1344" name="Oval 377"/>
                <p:cNvSpPr/>
                <p:nvPr/>
              </p:nvSpPr>
              <p:spPr>
                <a:xfrm>
                  <a:off x="5959080" y="28908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5" name="Rectangle 378"/>
                <p:cNvSpPr/>
                <p:nvPr/>
              </p:nvSpPr>
              <p:spPr>
                <a:xfrm>
                  <a:off x="5928840" y="28828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6" name="Group 379"/>
              <p:cNvGrpSpPr/>
              <p:nvPr/>
            </p:nvGrpSpPr>
            <p:grpSpPr>
              <a:xfrm>
                <a:off x="6019200" y="2533680"/>
                <a:ext cx="322200" cy="366840"/>
                <a:chOff x="6019200" y="2533680"/>
                <a:chExt cx="322200" cy="366840"/>
              </a:xfrm>
            </p:grpSpPr>
            <p:sp>
              <p:nvSpPr>
                <p:cNvPr id="1347" name="Oval 380"/>
                <p:cNvSpPr/>
                <p:nvPr/>
              </p:nvSpPr>
              <p:spPr>
                <a:xfrm>
                  <a:off x="6049440" y="254160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48" name="Rectangle 381"/>
                <p:cNvSpPr/>
                <p:nvPr/>
              </p:nvSpPr>
              <p:spPr>
                <a:xfrm>
                  <a:off x="6019200" y="253368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1349" name="Group 382"/>
              <p:cNvGrpSpPr/>
              <p:nvPr/>
            </p:nvGrpSpPr>
            <p:grpSpPr>
              <a:xfrm>
                <a:off x="6068520" y="2187720"/>
                <a:ext cx="322200" cy="366840"/>
                <a:chOff x="6068520" y="2187720"/>
                <a:chExt cx="322200" cy="366840"/>
              </a:xfrm>
            </p:grpSpPr>
            <p:sp>
              <p:nvSpPr>
                <p:cNvPr id="1350" name="Oval 383"/>
                <p:cNvSpPr/>
                <p:nvPr/>
              </p:nvSpPr>
              <p:spPr>
                <a:xfrm>
                  <a:off x="6098760" y="2195640"/>
                  <a:ext cx="279360" cy="279360"/>
                </a:xfrm>
                <a:prstGeom prst="ellipse">
                  <a:avLst/>
                </a:prstGeom>
                <a:solidFill>
                  <a:srgbClr val="ff7c80"/>
                </a:solidFill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51" name="Rectangle 384"/>
                <p:cNvSpPr/>
                <p:nvPr/>
              </p:nvSpPr>
              <p:spPr>
                <a:xfrm>
                  <a:off x="6068520" y="2187720"/>
                  <a:ext cx="32220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ja-JP" sz="1800" spc="-1" strike="noStrike">
                      <a:solidFill>
                        <a:srgbClr val="000000"/>
                      </a:solidFill>
                      <a:latin typeface="Times New Roman"/>
                      <a:ea typeface="MS PGothic"/>
                    </a:rPr>
                    <a:t>＋</a:t>
                  </a:r>
                  <a:endParaRPr b="1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sp>
        <p:nvSpPr>
          <p:cNvPr id="1352" name="Rectangle 3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Arc 4"/>
          <p:cNvSpPr/>
          <p:nvPr/>
        </p:nvSpPr>
        <p:spPr>
          <a:xfrm>
            <a:off x="2411280" y="2120760"/>
            <a:ext cx="2211480" cy="4102200"/>
          </a:xfrm>
          <a:custGeom>
            <a:avLst/>
            <a:gdLst>
              <a:gd name="textAreaLeft" fmla="*/ 0 w 2211480"/>
              <a:gd name="textAreaRight" fmla="*/ 2211840 w 2211480"/>
              <a:gd name="textAreaTop" fmla="*/ 0 h 4102200"/>
              <a:gd name="textAreaBottom" fmla="*/ 4102560 h 4102200"/>
            </a:gdLst>
            <a:ahLst/>
            <a:rect l="textAreaLeft" t="textAreaTop" r="textAreaRight" b="textAreaBottom"/>
            <a:pathLst>
              <a:path fill="none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</a:path>
              <a:path stroke="0" w="21600" h="41531">
                <a:moveTo>
                  <a:pt x="4851" y="0"/>
                </a:moveTo>
                <a:cubicBezTo>
                  <a:pt x="14654" y="2259"/>
                  <a:pt x="21600" y="10987"/>
                  <a:pt x="21600" y="21048"/>
                </a:cubicBezTo>
                <a:cubicBezTo>
                  <a:pt x="21600" y="30335"/>
                  <a:pt x="15663" y="-26953"/>
                  <a:pt x="6856" y="-24005"/>
                </a:cubicBezTo>
                <a:lnTo>
                  <a:pt x="0" y="21048"/>
                </a:lnTo>
                <a:lnTo>
                  <a:pt x="4851" y="0"/>
                </a:lnTo>
                <a:close/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4" name="Group 39"/>
          <p:cNvGrpSpPr/>
          <p:nvPr/>
        </p:nvGrpSpPr>
        <p:grpSpPr>
          <a:xfrm>
            <a:off x="3294000" y="1939680"/>
            <a:ext cx="2624040" cy="4348080"/>
            <a:chOff x="3294000" y="1939680"/>
            <a:chExt cx="2624040" cy="4348080"/>
          </a:xfrm>
        </p:grpSpPr>
        <p:grpSp>
          <p:nvGrpSpPr>
            <p:cNvPr id="1355" name="Group 38"/>
            <p:cNvGrpSpPr/>
            <p:nvPr/>
          </p:nvGrpSpPr>
          <p:grpSpPr>
            <a:xfrm>
              <a:off x="3294000" y="1939680"/>
              <a:ext cx="2624040" cy="2458800"/>
              <a:chOff x="3294000" y="1939680"/>
              <a:chExt cx="2624040" cy="2458800"/>
            </a:xfrm>
          </p:grpSpPr>
          <p:sp>
            <p:nvSpPr>
              <p:cNvPr id="1356" name="Line 5"/>
              <p:cNvSpPr/>
              <p:nvPr/>
            </p:nvSpPr>
            <p:spPr>
              <a:xfrm flipV="1">
                <a:off x="3294000" y="1939680"/>
                <a:ext cx="225360" cy="3013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7" name="Line 6"/>
              <p:cNvSpPr/>
              <p:nvPr/>
            </p:nvSpPr>
            <p:spPr>
              <a:xfrm>
                <a:off x="3396960" y="2165400"/>
                <a:ext cx="149400" cy="6444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640" bIns="1764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8" name="Line 7"/>
              <p:cNvSpPr/>
              <p:nvPr/>
            </p:nvSpPr>
            <p:spPr>
              <a:xfrm flipV="1">
                <a:off x="4014720" y="2396880"/>
                <a:ext cx="1292040" cy="73152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9" name="Line 8"/>
              <p:cNvSpPr/>
              <p:nvPr/>
            </p:nvSpPr>
            <p:spPr>
              <a:xfrm flipH="1" flipV="1">
                <a:off x="4492080" y="2538000"/>
                <a:ext cx="73080" cy="279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0" name="Line 9"/>
              <p:cNvSpPr/>
              <p:nvPr/>
            </p:nvSpPr>
            <p:spPr>
              <a:xfrm>
                <a:off x="4321080" y="2931840"/>
                <a:ext cx="225360" cy="198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1" name="Line 10"/>
              <p:cNvSpPr/>
              <p:nvPr/>
            </p:nvSpPr>
            <p:spPr>
              <a:xfrm>
                <a:off x="4930560" y="2543040"/>
                <a:ext cx="149400" cy="1299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2" name="Line 11"/>
              <p:cNvSpPr/>
              <p:nvPr/>
            </p:nvSpPr>
            <p:spPr>
              <a:xfrm>
                <a:off x="4625640" y="4048200"/>
                <a:ext cx="1292400" cy="723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560" bIns="25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3" name="Line 12"/>
              <p:cNvSpPr/>
              <p:nvPr/>
            </p:nvSpPr>
            <p:spPr>
              <a:xfrm>
                <a:off x="4821120" y="4051080"/>
                <a:ext cx="58680" cy="3474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4" name="Line 13"/>
              <p:cNvSpPr/>
              <p:nvPr/>
            </p:nvSpPr>
            <p:spPr>
              <a:xfrm>
                <a:off x="5472000" y="4100400"/>
                <a:ext cx="84240" cy="20916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5" name="Line 14"/>
              <p:cNvSpPr/>
              <p:nvPr/>
            </p:nvSpPr>
            <p:spPr>
              <a:xfrm flipH="1">
                <a:off x="5209560" y="3844800"/>
                <a:ext cx="73080" cy="225000"/>
              </a:xfrm>
              <a:prstGeom prst="line">
                <a:avLst/>
              </a:prstGeom>
              <a:ln w="2556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366" name="Line 15"/>
            <p:cNvSpPr/>
            <p:nvPr/>
          </p:nvSpPr>
          <p:spPr>
            <a:xfrm>
              <a:off x="4244760" y="5153040"/>
              <a:ext cx="1036800" cy="509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Line 16"/>
            <p:cNvSpPr/>
            <p:nvPr/>
          </p:nvSpPr>
          <p:spPr>
            <a:xfrm>
              <a:off x="3805200" y="5854680"/>
              <a:ext cx="223560" cy="258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Line 17"/>
            <p:cNvSpPr/>
            <p:nvPr/>
          </p:nvSpPr>
          <p:spPr>
            <a:xfrm flipV="1">
              <a:off x="3654360" y="5976720"/>
              <a:ext cx="247680" cy="3110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Line 18"/>
            <p:cNvSpPr/>
            <p:nvPr/>
          </p:nvSpPr>
          <p:spPr>
            <a:xfrm flipH="1">
              <a:off x="4520880" y="5373720"/>
              <a:ext cx="123840" cy="3153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0" name="Line 19"/>
            <p:cNvSpPr/>
            <p:nvPr/>
          </p:nvSpPr>
          <p:spPr>
            <a:xfrm flipH="1">
              <a:off x="4533480" y="5089320"/>
              <a:ext cx="120600" cy="1980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1" name="Line 20"/>
            <p:cNvSpPr/>
            <p:nvPr/>
          </p:nvSpPr>
          <p:spPr>
            <a:xfrm flipH="1">
              <a:off x="4987800" y="5327640"/>
              <a:ext cx="93600" cy="1756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2" name="Rectangle 21"/>
          <p:cNvSpPr/>
          <p:nvPr/>
        </p:nvSpPr>
        <p:spPr>
          <a:xfrm>
            <a:off x="3486240" y="1747800"/>
            <a:ext cx="80784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3" name="Rectangle 22"/>
          <p:cNvSpPr/>
          <p:nvPr/>
        </p:nvSpPr>
        <p:spPr>
          <a:xfrm>
            <a:off x="5333760" y="20988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4" name="Rectangle 23"/>
          <p:cNvSpPr/>
          <p:nvPr/>
        </p:nvSpPr>
        <p:spPr>
          <a:xfrm>
            <a:off x="4417920" y="222408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5" name="Rectangle 24"/>
          <p:cNvSpPr/>
          <p:nvPr/>
        </p:nvSpPr>
        <p:spPr>
          <a:xfrm>
            <a:off x="4593960" y="2989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Rectangle 25"/>
          <p:cNvSpPr/>
          <p:nvPr/>
        </p:nvSpPr>
        <p:spPr>
          <a:xfrm>
            <a:off x="5295600" y="357840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Rectangle 26"/>
          <p:cNvSpPr/>
          <p:nvPr/>
        </p:nvSpPr>
        <p:spPr>
          <a:xfrm>
            <a:off x="4821120" y="437976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Rectangle 27"/>
          <p:cNvSpPr/>
          <p:nvPr/>
        </p:nvSpPr>
        <p:spPr>
          <a:xfrm>
            <a:off x="4644720" y="484344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9" name="Rectangle 28"/>
          <p:cNvSpPr/>
          <p:nvPr/>
        </p:nvSpPr>
        <p:spPr>
          <a:xfrm>
            <a:off x="5322600" y="5533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0" name="Rectangle 29"/>
          <p:cNvSpPr/>
          <p:nvPr/>
        </p:nvSpPr>
        <p:spPr>
          <a:xfrm>
            <a:off x="4070160" y="6019920"/>
            <a:ext cx="6210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MS PGothic"/>
              </a:rPr>
              <a:t>ＣＯＯ</a:t>
            </a:r>
            <a:r>
              <a:rPr b="1" lang="ja-JP" sz="1600" spc="-1" strike="noStrike" baseline="30000">
                <a:solidFill>
                  <a:srgbClr val="009900"/>
                </a:solidFill>
                <a:latin typeface="Tahoma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1" name="Rectangle 30"/>
          <p:cNvSpPr/>
          <p:nvPr/>
        </p:nvSpPr>
        <p:spPr>
          <a:xfrm>
            <a:off x="3596040" y="207504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2" name="Rectangle 31"/>
          <p:cNvSpPr/>
          <p:nvPr/>
        </p:nvSpPr>
        <p:spPr>
          <a:xfrm>
            <a:off x="5099400" y="2550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3" name="Rectangle 32"/>
          <p:cNvSpPr/>
          <p:nvPr/>
        </p:nvSpPr>
        <p:spPr>
          <a:xfrm>
            <a:off x="5951880" y="39672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4" name="Rectangle 33"/>
          <p:cNvSpPr/>
          <p:nvPr/>
        </p:nvSpPr>
        <p:spPr>
          <a:xfrm>
            <a:off x="5551920" y="425592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5" name="Rectangle 34"/>
          <p:cNvSpPr/>
          <p:nvPr/>
        </p:nvSpPr>
        <p:spPr>
          <a:xfrm>
            <a:off x="5113800" y="51069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6" name="Rectangle 35"/>
          <p:cNvSpPr/>
          <p:nvPr/>
        </p:nvSpPr>
        <p:spPr>
          <a:xfrm>
            <a:off x="4437360" y="563400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7" name="Rectangle 36"/>
          <p:cNvSpPr/>
          <p:nvPr/>
        </p:nvSpPr>
        <p:spPr>
          <a:xfrm>
            <a:off x="3521520" y="6235560"/>
            <a:ext cx="69120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99ff"/>
                </a:solidFill>
                <a:latin typeface="Times New Roman"/>
                <a:ea typeface="MS PGothic"/>
              </a:rPr>
              <a:t>ＨＰＯ</a:t>
            </a:r>
            <a:r>
              <a:rPr b="1" lang="ja-JP" sz="1600" spc="-1" strike="noStrike" baseline="-10000">
                <a:solidFill>
                  <a:srgbClr val="3399ff"/>
                </a:solidFill>
                <a:latin typeface="Times New Roman"/>
                <a:ea typeface="MS PGothic"/>
              </a:rPr>
              <a:t>３</a:t>
            </a:r>
            <a:r>
              <a:rPr b="1" lang="ja-JP" sz="1600" spc="-1" strike="noStrike" baseline="30000">
                <a:solidFill>
                  <a:srgbClr val="3399ff"/>
                </a:solidFill>
                <a:latin typeface="Times New Roman"/>
                <a:ea typeface="MS PGothic"/>
              </a:rPr>
              <a:t>－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8" name="Rectangle 37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c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ation exchange resin (Grafted type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9" name="Rectangle 40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4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d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an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Rectangle 5"/>
          <p:cNvSpPr/>
          <p:nvPr/>
        </p:nvSpPr>
        <p:spPr>
          <a:xfrm>
            <a:off x="1571760" y="2179800"/>
            <a:ext cx="6994440" cy="37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Rectangle 6"/>
          <p:cNvSpPr/>
          <p:nvPr/>
        </p:nvSpPr>
        <p:spPr>
          <a:xfrm>
            <a:off x="5014800" y="1773360"/>
            <a:ext cx="3745080" cy="254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840" rIns="42840" tIns="15840" bIns="1584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lumn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IonPa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MS Gothic"/>
                <a:ea typeface="MS Gothic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AG12A / AS12A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Eluent   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2.7mM Na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Aft>
                <a:spcPts val="1125"/>
              </a:spcAft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0.3mM NaHCO</a:t>
            </a:r>
            <a:r>
              <a:rPr b="0" lang="en-US" sz="1800" spc="-1" strike="noStrike" baseline="-10000">
                <a:solidFill>
                  <a:srgbClr val="000000"/>
                </a:solidFill>
                <a:latin typeface="MS Gothic"/>
                <a:ea typeface="MS Gothic"/>
              </a:rPr>
              <a:t>3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Flow rate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1.2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Detection</a:t>
            </a:r>
            <a:r>
              <a:rPr b="0" lang="ja-JP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：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177920"/>
                <a:tab algn="l" pos="1382760"/>
                <a:tab algn="r" pos="2674800"/>
                <a:tab algn="l" pos="2725560"/>
                <a:tab algn="l" pos="2946240"/>
                <a:tab algn="l" pos="3683160"/>
                <a:tab algn="l" pos="4419720"/>
                <a:tab algn="l" pos="5156280"/>
                <a:tab algn="l" pos="5892840"/>
                <a:tab algn="l" pos="6629400"/>
                <a:tab algn="l" pos="7365960"/>
                <a:tab algn="l" pos="8102520"/>
                <a:tab algn="l" pos="8839080"/>
                <a:tab algn="l" pos="9575640"/>
                <a:tab algn="l" pos="103125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(ASRS</a:t>
            </a: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 Recycle mode</a:t>
            </a:r>
            <a:r>
              <a:rPr b="0" lang="en-US" sz="1800" spc="-1" strike="noStrike">
                <a:solidFill>
                  <a:srgbClr val="000000"/>
                </a:solidFill>
                <a:latin typeface="MS Gothic"/>
                <a:ea typeface="MS Gothic"/>
              </a:rPr>
              <a:t>)</a:t>
            </a:r>
            <a:br>
              <a:rPr sz="1800"/>
            </a:b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3" name="Line 7"/>
          <p:cNvSpPr/>
          <p:nvPr/>
        </p:nvSpPr>
        <p:spPr>
          <a:xfrm>
            <a:off x="1343160" y="5737320"/>
            <a:ext cx="468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4" name="Line 8"/>
          <p:cNvSpPr/>
          <p:nvPr/>
        </p:nvSpPr>
        <p:spPr>
          <a:xfrm>
            <a:off x="13431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5" name="Line 9"/>
          <p:cNvSpPr/>
          <p:nvPr/>
        </p:nvSpPr>
        <p:spPr>
          <a:xfrm>
            <a:off x="18939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6" name="Line 10"/>
          <p:cNvSpPr/>
          <p:nvPr/>
        </p:nvSpPr>
        <p:spPr>
          <a:xfrm>
            <a:off x="244476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7" name="Line 11"/>
          <p:cNvSpPr/>
          <p:nvPr/>
        </p:nvSpPr>
        <p:spPr>
          <a:xfrm>
            <a:off x="2995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8" name="Line 12"/>
          <p:cNvSpPr/>
          <p:nvPr/>
        </p:nvSpPr>
        <p:spPr>
          <a:xfrm>
            <a:off x="3546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9" name="Line 13"/>
          <p:cNvSpPr/>
          <p:nvPr/>
        </p:nvSpPr>
        <p:spPr>
          <a:xfrm>
            <a:off x="40971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0" name="Line 14"/>
          <p:cNvSpPr/>
          <p:nvPr/>
        </p:nvSpPr>
        <p:spPr>
          <a:xfrm>
            <a:off x="4648320" y="5670720"/>
            <a:ext cx="144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1" name="Line 15"/>
          <p:cNvSpPr/>
          <p:nvPr/>
        </p:nvSpPr>
        <p:spPr>
          <a:xfrm>
            <a:off x="52005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6"/>
          <p:cNvSpPr/>
          <p:nvPr/>
        </p:nvSpPr>
        <p:spPr>
          <a:xfrm>
            <a:off x="5751360" y="5670720"/>
            <a:ext cx="1800" cy="149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Rectangle 17"/>
          <p:cNvSpPr/>
          <p:nvPr/>
        </p:nvSpPr>
        <p:spPr>
          <a:xfrm>
            <a:off x="12801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Rectangle 18"/>
          <p:cNvSpPr/>
          <p:nvPr/>
        </p:nvSpPr>
        <p:spPr>
          <a:xfrm>
            <a:off x="182160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Rectangle 19"/>
          <p:cNvSpPr/>
          <p:nvPr/>
        </p:nvSpPr>
        <p:spPr>
          <a:xfrm>
            <a:off x="23709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6" name="Rectangle 20"/>
          <p:cNvSpPr/>
          <p:nvPr/>
        </p:nvSpPr>
        <p:spPr>
          <a:xfrm>
            <a:off x="29217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7" name="Rectangle 21"/>
          <p:cNvSpPr/>
          <p:nvPr/>
        </p:nvSpPr>
        <p:spPr>
          <a:xfrm>
            <a:off x="3472560" y="582624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8" name="Rectangle 22"/>
          <p:cNvSpPr/>
          <p:nvPr/>
        </p:nvSpPr>
        <p:spPr>
          <a:xfrm>
            <a:off x="39672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9" name="Rectangle 23"/>
          <p:cNvSpPr/>
          <p:nvPr/>
        </p:nvSpPr>
        <p:spPr>
          <a:xfrm>
            <a:off x="451800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2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0" name="Rectangle 24"/>
          <p:cNvSpPr/>
          <p:nvPr/>
        </p:nvSpPr>
        <p:spPr>
          <a:xfrm>
            <a:off x="50691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4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1" name="Rectangle 25"/>
          <p:cNvSpPr/>
          <p:nvPr/>
        </p:nvSpPr>
        <p:spPr>
          <a:xfrm>
            <a:off x="5619960" y="5826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16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2" name="Rectangle 26"/>
          <p:cNvSpPr/>
          <p:nvPr/>
        </p:nvSpPr>
        <p:spPr>
          <a:xfrm>
            <a:off x="2783160" y="6138720"/>
            <a:ext cx="2317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Retention time(min)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3" name="Freeform 27"/>
          <p:cNvSpPr/>
          <p:nvPr/>
        </p:nvSpPr>
        <p:spPr>
          <a:xfrm>
            <a:off x="1325520" y="2719440"/>
            <a:ext cx="17640" cy="3017880"/>
          </a:xfrm>
          <a:custGeom>
            <a:avLst/>
            <a:gdLst>
              <a:gd name="textAreaLeft" fmla="*/ 0 w 17640"/>
              <a:gd name="textAreaRight" fmla="*/ 18000 w 17640"/>
              <a:gd name="textAreaTop" fmla="*/ 0 h 3017880"/>
              <a:gd name="textAreaBottom" fmla="*/ 3018240 h 3017880"/>
            </a:gdLst>
            <a:ahLst/>
            <a:rect l="textAreaLeft" t="textAreaTop" r="textAreaRight" b="textAreaBottom"/>
            <a:pathLst>
              <a:path w="10" h="1753">
                <a:moveTo>
                  <a:pt x="10" y="1753"/>
                </a:moveTo>
                <a:lnTo>
                  <a:pt x="0" y="0"/>
                </a:lnTo>
              </a:path>
            </a:pathLst>
          </a:custGeom>
          <a:solidFill>
            <a:srgbClr val="ffffff"/>
          </a:solidFill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4" name="Line 28"/>
          <p:cNvSpPr/>
          <p:nvPr/>
        </p:nvSpPr>
        <p:spPr>
          <a:xfrm>
            <a:off x="1312920" y="54021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5" name="Line 29"/>
          <p:cNvSpPr/>
          <p:nvPr/>
        </p:nvSpPr>
        <p:spPr>
          <a:xfrm>
            <a:off x="1312920" y="4730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6" name="Line 30"/>
          <p:cNvSpPr/>
          <p:nvPr/>
        </p:nvSpPr>
        <p:spPr>
          <a:xfrm>
            <a:off x="1312920" y="4057560"/>
            <a:ext cx="6660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7" name="Line 31"/>
          <p:cNvSpPr/>
          <p:nvPr/>
        </p:nvSpPr>
        <p:spPr>
          <a:xfrm>
            <a:off x="1312920" y="33861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8" name="Line 32"/>
          <p:cNvSpPr/>
          <p:nvPr/>
        </p:nvSpPr>
        <p:spPr>
          <a:xfrm>
            <a:off x="1312920" y="2714760"/>
            <a:ext cx="6660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9" name="Rectangle 33"/>
          <p:cNvSpPr/>
          <p:nvPr/>
        </p:nvSpPr>
        <p:spPr>
          <a:xfrm>
            <a:off x="1139040" y="52498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0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0" name="Rectangle 34"/>
          <p:cNvSpPr/>
          <p:nvPr/>
        </p:nvSpPr>
        <p:spPr>
          <a:xfrm>
            <a:off x="1078560" y="2602080"/>
            <a:ext cx="12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S Gothic"/>
                <a:ea typeface="MS Gothic"/>
              </a:rPr>
              <a:t>8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1" name="Line 35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2" name="Line 36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3" name="Line 37"/>
          <p:cNvSpPr/>
          <p:nvPr/>
        </p:nvSpPr>
        <p:spPr>
          <a:xfrm>
            <a:off x="1343160" y="5400720"/>
            <a:ext cx="1440" cy="144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4" name="Freeform 38"/>
          <p:cNvSpPr/>
          <p:nvPr/>
        </p:nvSpPr>
        <p:spPr>
          <a:xfrm>
            <a:off x="1343160" y="3368520"/>
            <a:ext cx="4682880" cy="2119320"/>
          </a:xfrm>
          <a:custGeom>
            <a:avLst/>
            <a:gdLst>
              <a:gd name="textAreaLeft" fmla="*/ 0 w 4682880"/>
              <a:gd name="textAreaRight" fmla="*/ 4683240 w 4682880"/>
              <a:gd name="textAreaTop" fmla="*/ 0 h 2119320"/>
              <a:gd name="textAreaBottom" fmla="*/ 2119680 h 2119320"/>
            </a:gdLst>
            <a:ahLst/>
            <a:rect l="textAreaLeft" t="textAreaTop" r="textAreaRight" b="textAreaBottom"/>
            <a:pathLst>
              <a:path w="10138" h="2036">
                <a:moveTo>
                  <a:pt x="0" y="1952"/>
                </a:moveTo>
                <a:lnTo>
                  <a:pt x="1" y="1952"/>
                </a:lnTo>
                <a:lnTo>
                  <a:pt x="3" y="1952"/>
                </a:lnTo>
                <a:lnTo>
                  <a:pt x="5" y="1952"/>
                </a:lnTo>
                <a:lnTo>
                  <a:pt x="7" y="1952"/>
                </a:lnTo>
                <a:lnTo>
                  <a:pt x="9" y="1952"/>
                </a:lnTo>
                <a:lnTo>
                  <a:pt x="11" y="1952"/>
                </a:lnTo>
                <a:lnTo>
                  <a:pt x="13" y="1952"/>
                </a:lnTo>
                <a:lnTo>
                  <a:pt x="15" y="1952"/>
                </a:lnTo>
                <a:lnTo>
                  <a:pt x="17" y="1952"/>
                </a:lnTo>
                <a:lnTo>
                  <a:pt x="19" y="1952"/>
                </a:lnTo>
                <a:lnTo>
                  <a:pt x="21" y="1952"/>
                </a:lnTo>
                <a:lnTo>
                  <a:pt x="23" y="1952"/>
                </a:lnTo>
                <a:lnTo>
                  <a:pt x="25" y="1952"/>
                </a:lnTo>
                <a:lnTo>
                  <a:pt x="27" y="1952"/>
                </a:lnTo>
                <a:lnTo>
                  <a:pt x="29" y="1952"/>
                </a:lnTo>
                <a:lnTo>
                  <a:pt x="31" y="1952"/>
                </a:lnTo>
                <a:lnTo>
                  <a:pt x="33" y="1952"/>
                </a:lnTo>
                <a:lnTo>
                  <a:pt x="35" y="1952"/>
                </a:lnTo>
                <a:lnTo>
                  <a:pt x="37" y="1952"/>
                </a:lnTo>
                <a:lnTo>
                  <a:pt x="39" y="1952"/>
                </a:lnTo>
                <a:lnTo>
                  <a:pt x="41" y="1952"/>
                </a:lnTo>
                <a:lnTo>
                  <a:pt x="43" y="1952"/>
                </a:lnTo>
                <a:lnTo>
                  <a:pt x="45" y="1952"/>
                </a:lnTo>
                <a:lnTo>
                  <a:pt x="47" y="1952"/>
                </a:lnTo>
                <a:lnTo>
                  <a:pt x="49" y="1952"/>
                </a:lnTo>
                <a:lnTo>
                  <a:pt x="51" y="1952"/>
                </a:lnTo>
                <a:lnTo>
                  <a:pt x="53" y="1952"/>
                </a:lnTo>
                <a:lnTo>
                  <a:pt x="55" y="1952"/>
                </a:lnTo>
                <a:lnTo>
                  <a:pt x="57" y="1952"/>
                </a:lnTo>
                <a:lnTo>
                  <a:pt x="59" y="1952"/>
                </a:lnTo>
                <a:lnTo>
                  <a:pt x="61" y="1952"/>
                </a:lnTo>
                <a:lnTo>
                  <a:pt x="63" y="1952"/>
                </a:lnTo>
                <a:lnTo>
                  <a:pt x="65" y="1952"/>
                </a:lnTo>
                <a:lnTo>
                  <a:pt x="67" y="1952"/>
                </a:lnTo>
                <a:lnTo>
                  <a:pt x="69" y="1952"/>
                </a:lnTo>
                <a:lnTo>
                  <a:pt x="71" y="1952"/>
                </a:lnTo>
                <a:lnTo>
                  <a:pt x="73" y="1952"/>
                </a:lnTo>
                <a:lnTo>
                  <a:pt x="75" y="1952"/>
                </a:lnTo>
                <a:lnTo>
                  <a:pt x="77" y="1952"/>
                </a:lnTo>
                <a:lnTo>
                  <a:pt x="79" y="1952"/>
                </a:lnTo>
                <a:lnTo>
                  <a:pt x="81" y="1952"/>
                </a:lnTo>
                <a:lnTo>
                  <a:pt x="83" y="1952"/>
                </a:lnTo>
                <a:lnTo>
                  <a:pt x="85" y="1952"/>
                </a:lnTo>
                <a:lnTo>
                  <a:pt x="87" y="1952"/>
                </a:lnTo>
                <a:lnTo>
                  <a:pt x="89" y="1952"/>
                </a:lnTo>
                <a:lnTo>
                  <a:pt x="91" y="1952"/>
                </a:lnTo>
                <a:lnTo>
                  <a:pt x="93" y="1952"/>
                </a:lnTo>
                <a:lnTo>
                  <a:pt x="95" y="1952"/>
                </a:lnTo>
                <a:lnTo>
                  <a:pt x="97" y="1952"/>
                </a:lnTo>
                <a:lnTo>
                  <a:pt x="99" y="1952"/>
                </a:lnTo>
                <a:lnTo>
                  <a:pt x="101" y="1952"/>
                </a:lnTo>
                <a:lnTo>
                  <a:pt x="103" y="1952"/>
                </a:lnTo>
                <a:lnTo>
                  <a:pt x="105" y="1952"/>
                </a:lnTo>
                <a:lnTo>
                  <a:pt x="107" y="1952"/>
                </a:lnTo>
                <a:lnTo>
                  <a:pt x="109" y="1952"/>
                </a:lnTo>
                <a:lnTo>
                  <a:pt x="111" y="1952"/>
                </a:lnTo>
                <a:lnTo>
                  <a:pt x="113" y="1951"/>
                </a:lnTo>
                <a:lnTo>
                  <a:pt x="115" y="1951"/>
                </a:lnTo>
                <a:lnTo>
                  <a:pt x="117" y="1951"/>
                </a:lnTo>
                <a:lnTo>
                  <a:pt x="119" y="1951"/>
                </a:lnTo>
                <a:lnTo>
                  <a:pt x="121" y="1951"/>
                </a:lnTo>
                <a:lnTo>
                  <a:pt x="123" y="1951"/>
                </a:lnTo>
                <a:lnTo>
                  <a:pt x="125" y="1951"/>
                </a:lnTo>
                <a:lnTo>
                  <a:pt x="127" y="1951"/>
                </a:lnTo>
                <a:lnTo>
                  <a:pt x="129" y="1951"/>
                </a:lnTo>
                <a:lnTo>
                  <a:pt x="131" y="1951"/>
                </a:lnTo>
                <a:lnTo>
                  <a:pt x="133" y="1951"/>
                </a:lnTo>
                <a:lnTo>
                  <a:pt x="135" y="1951"/>
                </a:lnTo>
                <a:lnTo>
                  <a:pt x="137" y="1951"/>
                </a:lnTo>
                <a:lnTo>
                  <a:pt x="139" y="1951"/>
                </a:lnTo>
                <a:lnTo>
                  <a:pt x="141" y="1951"/>
                </a:lnTo>
                <a:lnTo>
                  <a:pt x="143" y="1951"/>
                </a:lnTo>
                <a:lnTo>
                  <a:pt x="145" y="1951"/>
                </a:lnTo>
                <a:lnTo>
                  <a:pt x="147" y="1951"/>
                </a:lnTo>
                <a:lnTo>
                  <a:pt x="149" y="1951"/>
                </a:lnTo>
                <a:lnTo>
                  <a:pt x="151" y="1951"/>
                </a:lnTo>
                <a:lnTo>
                  <a:pt x="153" y="1951"/>
                </a:lnTo>
                <a:lnTo>
                  <a:pt x="155" y="1951"/>
                </a:lnTo>
                <a:lnTo>
                  <a:pt x="157" y="1951"/>
                </a:lnTo>
                <a:lnTo>
                  <a:pt x="159" y="1951"/>
                </a:lnTo>
                <a:lnTo>
                  <a:pt x="161" y="1951"/>
                </a:lnTo>
                <a:lnTo>
                  <a:pt x="163" y="1951"/>
                </a:lnTo>
                <a:lnTo>
                  <a:pt x="165" y="1951"/>
                </a:lnTo>
                <a:lnTo>
                  <a:pt x="167" y="1951"/>
                </a:lnTo>
                <a:lnTo>
                  <a:pt x="169" y="1951"/>
                </a:lnTo>
                <a:lnTo>
                  <a:pt x="170" y="1951"/>
                </a:lnTo>
                <a:lnTo>
                  <a:pt x="172" y="1951"/>
                </a:lnTo>
                <a:lnTo>
                  <a:pt x="174" y="1951"/>
                </a:lnTo>
                <a:lnTo>
                  <a:pt x="176" y="1951"/>
                </a:lnTo>
                <a:lnTo>
                  <a:pt x="178" y="1951"/>
                </a:lnTo>
                <a:lnTo>
                  <a:pt x="180" y="1951"/>
                </a:lnTo>
                <a:lnTo>
                  <a:pt x="182" y="1951"/>
                </a:lnTo>
                <a:lnTo>
                  <a:pt x="184" y="1951"/>
                </a:lnTo>
                <a:lnTo>
                  <a:pt x="186" y="1951"/>
                </a:lnTo>
                <a:lnTo>
                  <a:pt x="188" y="1951"/>
                </a:lnTo>
                <a:lnTo>
                  <a:pt x="190" y="1951"/>
                </a:lnTo>
                <a:lnTo>
                  <a:pt x="192" y="1951"/>
                </a:lnTo>
                <a:lnTo>
                  <a:pt x="194" y="1951"/>
                </a:lnTo>
                <a:lnTo>
                  <a:pt x="196" y="1951"/>
                </a:lnTo>
                <a:lnTo>
                  <a:pt x="198" y="1951"/>
                </a:lnTo>
                <a:lnTo>
                  <a:pt x="200" y="1951"/>
                </a:lnTo>
                <a:lnTo>
                  <a:pt x="202" y="1951"/>
                </a:lnTo>
                <a:lnTo>
                  <a:pt x="204" y="1951"/>
                </a:lnTo>
                <a:lnTo>
                  <a:pt x="206" y="1951"/>
                </a:lnTo>
                <a:lnTo>
                  <a:pt x="208" y="1951"/>
                </a:lnTo>
                <a:lnTo>
                  <a:pt x="210" y="1951"/>
                </a:lnTo>
                <a:lnTo>
                  <a:pt x="212" y="1951"/>
                </a:lnTo>
                <a:lnTo>
                  <a:pt x="214" y="1951"/>
                </a:lnTo>
                <a:lnTo>
                  <a:pt x="216" y="1951"/>
                </a:lnTo>
                <a:lnTo>
                  <a:pt x="218" y="1951"/>
                </a:lnTo>
                <a:lnTo>
                  <a:pt x="220" y="1951"/>
                </a:lnTo>
                <a:lnTo>
                  <a:pt x="222" y="1951"/>
                </a:lnTo>
                <a:lnTo>
                  <a:pt x="224" y="1951"/>
                </a:lnTo>
                <a:lnTo>
                  <a:pt x="226" y="1951"/>
                </a:lnTo>
                <a:lnTo>
                  <a:pt x="228" y="1952"/>
                </a:lnTo>
                <a:lnTo>
                  <a:pt x="230" y="1952"/>
                </a:lnTo>
                <a:lnTo>
                  <a:pt x="232" y="1952"/>
                </a:lnTo>
                <a:lnTo>
                  <a:pt x="234" y="1952"/>
                </a:lnTo>
                <a:lnTo>
                  <a:pt x="236" y="1952"/>
                </a:lnTo>
                <a:lnTo>
                  <a:pt x="238" y="1952"/>
                </a:lnTo>
                <a:lnTo>
                  <a:pt x="240" y="1952"/>
                </a:lnTo>
                <a:lnTo>
                  <a:pt x="242" y="1951"/>
                </a:lnTo>
                <a:lnTo>
                  <a:pt x="244" y="1952"/>
                </a:lnTo>
                <a:lnTo>
                  <a:pt x="246" y="1951"/>
                </a:lnTo>
                <a:lnTo>
                  <a:pt x="248" y="1951"/>
                </a:lnTo>
                <a:lnTo>
                  <a:pt x="250" y="1951"/>
                </a:lnTo>
                <a:lnTo>
                  <a:pt x="252" y="1951"/>
                </a:lnTo>
                <a:lnTo>
                  <a:pt x="254" y="1951"/>
                </a:lnTo>
                <a:lnTo>
                  <a:pt x="256" y="1951"/>
                </a:lnTo>
                <a:lnTo>
                  <a:pt x="258" y="1951"/>
                </a:lnTo>
                <a:lnTo>
                  <a:pt x="260" y="1951"/>
                </a:lnTo>
                <a:lnTo>
                  <a:pt x="262" y="1951"/>
                </a:lnTo>
                <a:lnTo>
                  <a:pt x="264" y="1951"/>
                </a:lnTo>
                <a:lnTo>
                  <a:pt x="266" y="1951"/>
                </a:lnTo>
                <a:lnTo>
                  <a:pt x="268" y="1951"/>
                </a:lnTo>
                <a:lnTo>
                  <a:pt x="270" y="1951"/>
                </a:lnTo>
                <a:lnTo>
                  <a:pt x="272" y="1951"/>
                </a:lnTo>
                <a:lnTo>
                  <a:pt x="274" y="1951"/>
                </a:lnTo>
                <a:lnTo>
                  <a:pt x="276" y="1952"/>
                </a:lnTo>
                <a:lnTo>
                  <a:pt x="278" y="1952"/>
                </a:lnTo>
                <a:lnTo>
                  <a:pt x="280" y="1952"/>
                </a:lnTo>
                <a:lnTo>
                  <a:pt x="282" y="1952"/>
                </a:lnTo>
                <a:lnTo>
                  <a:pt x="284" y="1952"/>
                </a:lnTo>
                <a:lnTo>
                  <a:pt x="286" y="1952"/>
                </a:lnTo>
                <a:lnTo>
                  <a:pt x="288" y="1952"/>
                </a:lnTo>
                <a:lnTo>
                  <a:pt x="290" y="1952"/>
                </a:lnTo>
                <a:lnTo>
                  <a:pt x="292" y="1952"/>
                </a:lnTo>
                <a:lnTo>
                  <a:pt x="294" y="1952"/>
                </a:lnTo>
                <a:lnTo>
                  <a:pt x="296" y="1952"/>
                </a:lnTo>
                <a:lnTo>
                  <a:pt x="298" y="1952"/>
                </a:lnTo>
                <a:lnTo>
                  <a:pt x="300" y="1952"/>
                </a:lnTo>
                <a:lnTo>
                  <a:pt x="302" y="1952"/>
                </a:lnTo>
                <a:lnTo>
                  <a:pt x="304" y="1952"/>
                </a:lnTo>
                <a:lnTo>
                  <a:pt x="306" y="1952"/>
                </a:lnTo>
                <a:lnTo>
                  <a:pt x="308" y="1952"/>
                </a:lnTo>
                <a:lnTo>
                  <a:pt x="310" y="1952"/>
                </a:lnTo>
                <a:lnTo>
                  <a:pt x="312" y="1952"/>
                </a:lnTo>
                <a:lnTo>
                  <a:pt x="314" y="1952"/>
                </a:lnTo>
                <a:lnTo>
                  <a:pt x="316" y="1951"/>
                </a:lnTo>
                <a:lnTo>
                  <a:pt x="318" y="1951"/>
                </a:lnTo>
                <a:lnTo>
                  <a:pt x="320" y="1951"/>
                </a:lnTo>
                <a:lnTo>
                  <a:pt x="322" y="1951"/>
                </a:lnTo>
                <a:lnTo>
                  <a:pt x="324" y="1951"/>
                </a:lnTo>
                <a:lnTo>
                  <a:pt x="326" y="1951"/>
                </a:lnTo>
                <a:lnTo>
                  <a:pt x="328" y="1951"/>
                </a:lnTo>
                <a:lnTo>
                  <a:pt x="330" y="1951"/>
                </a:lnTo>
                <a:lnTo>
                  <a:pt x="332" y="1951"/>
                </a:lnTo>
                <a:lnTo>
                  <a:pt x="334" y="1951"/>
                </a:lnTo>
                <a:lnTo>
                  <a:pt x="336" y="1951"/>
                </a:lnTo>
                <a:lnTo>
                  <a:pt x="338" y="1951"/>
                </a:lnTo>
                <a:lnTo>
                  <a:pt x="339" y="1951"/>
                </a:lnTo>
                <a:lnTo>
                  <a:pt x="341" y="1951"/>
                </a:lnTo>
                <a:lnTo>
                  <a:pt x="343" y="1951"/>
                </a:lnTo>
                <a:lnTo>
                  <a:pt x="345" y="1951"/>
                </a:lnTo>
                <a:lnTo>
                  <a:pt x="347" y="1951"/>
                </a:lnTo>
                <a:lnTo>
                  <a:pt x="349" y="1951"/>
                </a:lnTo>
                <a:lnTo>
                  <a:pt x="351" y="1951"/>
                </a:lnTo>
                <a:lnTo>
                  <a:pt x="353" y="1951"/>
                </a:lnTo>
                <a:lnTo>
                  <a:pt x="355" y="1951"/>
                </a:lnTo>
                <a:lnTo>
                  <a:pt x="357" y="1951"/>
                </a:lnTo>
                <a:lnTo>
                  <a:pt x="359" y="1951"/>
                </a:lnTo>
                <a:lnTo>
                  <a:pt x="361" y="1951"/>
                </a:lnTo>
                <a:lnTo>
                  <a:pt x="363" y="1951"/>
                </a:lnTo>
                <a:lnTo>
                  <a:pt x="365" y="1951"/>
                </a:lnTo>
                <a:lnTo>
                  <a:pt x="367" y="1951"/>
                </a:lnTo>
                <a:lnTo>
                  <a:pt x="369" y="1951"/>
                </a:lnTo>
                <a:lnTo>
                  <a:pt x="371" y="1951"/>
                </a:lnTo>
                <a:lnTo>
                  <a:pt x="373" y="1951"/>
                </a:lnTo>
                <a:lnTo>
                  <a:pt x="375" y="1951"/>
                </a:lnTo>
                <a:lnTo>
                  <a:pt x="377" y="1951"/>
                </a:lnTo>
                <a:lnTo>
                  <a:pt x="379" y="1951"/>
                </a:lnTo>
                <a:lnTo>
                  <a:pt x="381" y="1951"/>
                </a:lnTo>
                <a:lnTo>
                  <a:pt x="383" y="1951"/>
                </a:lnTo>
                <a:lnTo>
                  <a:pt x="385" y="1951"/>
                </a:lnTo>
                <a:lnTo>
                  <a:pt x="387" y="1951"/>
                </a:lnTo>
                <a:lnTo>
                  <a:pt x="389" y="1951"/>
                </a:lnTo>
                <a:lnTo>
                  <a:pt x="391" y="1951"/>
                </a:lnTo>
                <a:lnTo>
                  <a:pt x="393" y="1951"/>
                </a:lnTo>
                <a:lnTo>
                  <a:pt x="395" y="1951"/>
                </a:lnTo>
                <a:lnTo>
                  <a:pt x="397" y="1951"/>
                </a:lnTo>
                <a:lnTo>
                  <a:pt x="399" y="1951"/>
                </a:lnTo>
                <a:lnTo>
                  <a:pt x="401" y="1951"/>
                </a:lnTo>
                <a:lnTo>
                  <a:pt x="403" y="1951"/>
                </a:lnTo>
                <a:lnTo>
                  <a:pt x="405" y="1951"/>
                </a:lnTo>
                <a:lnTo>
                  <a:pt x="407" y="1951"/>
                </a:lnTo>
                <a:lnTo>
                  <a:pt x="409" y="1951"/>
                </a:lnTo>
                <a:lnTo>
                  <a:pt x="411" y="1951"/>
                </a:lnTo>
                <a:lnTo>
                  <a:pt x="413" y="1951"/>
                </a:lnTo>
                <a:lnTo>
                  <a:pt x="415" y="1951"/>
                </a:lnTo>
                <a:lnTo>
                  <a:pt x="417" y="1951"/>
                </a:lnTo>
                <a:lnTo>
                  <a:pt x="419" y="1950"/>
                </a:lnTo>
                <a:lnTo>
                  <a:pt x="421" y="1950"/>
                </a:lnTo>
                <a:lnTo>
                  <a:pt x="423" y="1950"/>
                </a:lnTo>
                <a:lnTo>
                  <a:pt x="425" y="1950"/>
                </a:lnTo>
                <a:lnTo>
                  <a:pt x="427" y="1950"/>
                </a:lnTo>
                <a:lnTo>
                  <a:pt x="429" y="1950"/>
                </a:lnTo>
                <a:lnTo>
                  <a:pt x="431" y="1951"/>
                </a:lnTo>
                <a:lnTo>
                  <a:pt x="433" y="1951"/>
                </a:lnTo>
                <a:lnTo>
                  <a:pt x="435" y="1951"/>
                </a:lnTo>
                <a:lnTo>
                  <a:pt x="437" y="1951"/>
                </a:lnTo>
                <a:lnTo>
                  <a:pt x="439" y="1951"/>
                </a:lnTo>
                <a:lnTo>
                  <a:pt x="441" y="1951"/>
                </a:lnTo>
                <a:lnTo>
                  <a:pt x="443" y="1950"/>
                </a:lnTo>
                <a:lnTo>
                  <a:pt x="445" y="1951"/>
                </a:lnTo>
                <a:lnTo>
                  <a:pt x="447" y="1950"/>
                </a:lnTo>
                <a:lnTo>
                  <a:pt x="449" y="1950"/>
                </a:lnTo>
                <a:lnTo>
                  <a:pt x="451" y="1950"/>
                </a:lnTo>
                <a:lnTo>
                  <a:pt x="453" y="1950"/>
                </a:lnTo>
                <a:lnTo>
                  <a:pt x="455" y="1950"/>
                </a:lnTo>
                <a:lnTo>
                  <a:pt x="457" y="1950"/>
                </a:lnTo>
                <a:lnTo>
                  <a:pt x="459" y="1950"/>
                </a:lnTo>
                <a:lnTo>
                  <a:pt x="461" y="1950"/>
                </a:lnTo>
                <a:lnTo>
                  <a:pt x="463" y="1950"/>
                </a:lnTo>
                <a:lnTo>
                  <a:pt x="465" y="1950"/>
                </a:lnTo>
                <a:lnTo>
                  <a:pt x="467" y="1950"/>
                </a:lnTo>
                <a:lnTo>
                  <a:pt x="469" y="1950"/>
                </a:lnTo>
                <a:lnTo>
                  <a:pt x="471" y="1950"/>
                </a:lnTo>
                <a:lnTo>
                  <a:pt x="473" y="1950"/>
                </a:lnTo>
                <a:lnTo>
                  <a:pt x="475" y="1951"/>
                </a:lnTo>
                <a:lnTo>
                  <a:pt x="477" y="1951"/>
                </a:lnTo>
                <a:lnTo>
                  <a:pt x="479" y="1951"/>
                </a:lnTo>
                <a:lnTo>
                  <a:pt x="481" y="1951"/>
                </a:lnTo>
                <a:lnTo>
                  <a:pt x="483" y="1951"/>
                </a:lnTo>
                <a:lnTo>
                  <a:pt x="485" y="1951"/>
                </a:lnTo>
                <a:lnTo>
                  <a:pt x="487" y="1951"/>
                </a:lnTo>
                <a:lnTo>
                  <a:pt x="489" y="1951"/>
                </a:lnTo>
                <a:lnTo>
                  <a:pt x="491" y="1951"/>
                </a:lnTo>
                <a:lnTo>
                  <a:pt x="493" y="1951"/>
                </a:lnTo>
                <a:lnTo>
                  <a:pt x="495" y="1951"/>
                </a:lnTo>
                <a:lnTo>
                  <a:pt x="497" y="1951"/>
                </a:lnTo>
                <a:lnTo>
                  <a:pt x="499" y="1951"/>
                </a:lnTo>
                <a:lnTo>
                  <a:pt x="501" y="1951"/>
                </a:lnTo>
                <a:lnTo>
                  <a:pt x="503" y="1951"/>
                </a:lnTo>
                <a:lnTo>
                  <a:pt x="505" y="1951"/>
                </a:lnTo>
                <a:lnTo>
                  <a:pt x="507" y="1951"/>
                </a:lnTo>
                <a:lnTo>
                  <a:pt x="508" y="1951"/>
                </a:lnTo>
                <a:lnTo>
                  <a:pt x="510" y="1951"/>
                </a:lnTo>
                <a:lnTo>
                  <a:pt x="512" y="1951"/>
                </a:lnTo>
                <a:lnTo>
                  <a:pt x="514" y="1951"/>
                </a:lnTo>
                <a:lnTo>
                  <a:pt x="516" y="1951"/>
                </a:lnTo>
                <a:lnTo>
                  <a:pt x="518" y="1951"/>
                </a:lnTo>
                <a:lnTo>
                  <a:pt x="520" y="1951"/>
                </a:lnTo>
                <a:lnTo>
                  <a:pt x="522" y="1951"/>
                </a:lnTo>
                <a:lnTo>
                  <a:pt x="524" y="1951"/>
                </a:lnTo>
                <a:lnTo>
                  <a:pt x="526" y="1951"/>
                </a:lnTo>
                <a:lnTo>
                  <a:pt x="528" y="1951"/>
                </a:lnTo>
                <a:lnTo>
                  <a:pt x="530" y="1951"/>
                </a:lnTo>
                <a:lnTo>
                  <a:pt x="532" y="1951"/>
                </a:lnTo>
                <a:lnTo>
                  <a:pt x="534" y="1951"/>
                </a:lnTo>
                <a:lnTo>
                  <a:pt x="536" y="1951"/>
                </a:lnTo>
                <a:lnTo>
                  <a:pt x="538" y="1951"/>
                </a:lnTo>
                <a:lnTo>
                  <a:pt x="540" y="1951"/>
                </a:lnTo>
                <a:lnTo>
                  <a:pt x="542" y="1951"/>
                </a:lnTo>
                <a:lnTo>
                  <a:pt x="544" y="1951"/>
                </a:lnTo>
                <a:lnTo>
                  <a:pt x="546" y="1951"/>
                </a:lnTo>
                <a:lnTo>
                  <a:pt x="548" y="1951"/>
                </a:lnTo>
                <a:lnTo>
                  <a:pt x="550" y="1951"/>
                </a:lnTo>
                <a:lnTo>
                  <a:pt x="552" y="1951"/>
                </a:lnTo>
                <a:lnTo>
                  <a:pt x="554" y="1951"/>
                </a:lnTo>
                <a:lnTo>
                  <a:pt x="556" y="1951"/>
                </a:lnTo>
                <a:lnTo>
                  <a:pt x="558" y="1951"/>
                </a:lnTo>
                <a:lnTo>
                  <a:pt x="560" y="1951"/>
                </a:lnTo>
                <a:lnTo>
                  <a:pt x="562" y="1951"/>
                </a:lnTo>
                <a:lnTo>
                  <a:pt x="564" y="1950"/>
                </a:lnTo>
                <a:lnTo>
                  <a:pt x="566" y="1951"/>
                </a:lnTo>
                <a:lnTo>
                  <a:pt x="568" y="1951"/>
                </a:lnTo>
                <a:lnTo>
                  <a:pt x="570" y="1951"/>
                </a:lnTo>
                <a:lnTo>
                  <a:pt x="572" y="1951"/>
                </a:lnTo>
                <a:lnTo>
                  <a:pt x="574" y="1950"/>
                </a:lnTo>
                <a:lnTo>
                  <a:pt x="576" y="1951"/>
                </a:lnTo>
                <a:lnTo>
                  <a:pt x="578" y="1951"/>
                </a:lnTo>
                <a:lnTo>
                  <a:pt x="580" y="1951"/>
                </a:lnTo>
                <a:lnTo>
                  <a:pt x="582" y="1951"/>
                </a:lnTo>
                <a:lnTo>
                  <a:pt x="584" y="1951"/>
                </a:lnTo>
                <a:lnTo>
                  <a:pt x="586" y="1950"/>
                </a:lnTo>
                <a:lnTo>
                  <a:pt x="588" y="1950"/>
                </a:lnTo>
                <a:lnTo>
                  <a:pt x="590" y="1950"/>
                </a:lnTo>
                <a:lnTo>
                  <a:pt x="592" y="1950"/>
                </a:lnTo>
                <a:lnTo>
                  <a:pt x="594" y="1950"/>
                </a:lnTo>
                <a:lnTo>
                  <a:pt x="596" y="1950"/>
                </a:lnTo>
                <a:lnTo>
                  <a:pt x="598" y="1950"/>
                </a:lnTo>
                <a:lnTo>
                  <a:pt x="600" y="1950"/>
                </a:lnTo>
                <a:lnTo>
                  <a:pt x="602" y="1950"/>
                </a:lnTo>
                <a:lnTo>
                  <a:pt x="604" y="1950"/>
                </a:lnTo>
                <a:lnTo>
                  <a:pt x="606" y="1950"/>
                </a:lnTo>
                <a:lnTo>
                  <a:pt x="608" y="1950"/>
                </a:lnTo>
                <a:lnTo>
                  <a:pt x="610" y="1950"/>
                </a:lnTo>
                <a:lnTo>
                  <a:pt x="612" y="1951"/>
                </a:lnTo>
                <a:lnTo>
                  <a:pt x="614" y="1950"/>
                </a:lnTo>
                <a:lnTo>
                  <a:pt x="616" y="1951"/>
                </a:lnTo>
                <a:lnTo>
                  <a:pt x="618" y="1951"/>
                </a:lnTo>
                <a:lnTo>
                  <a:pt x="620" y="1950"/>
                </a:lnTo>
                <a:lnTo>
                  <a:pt x="622" y="1950"/>
                </a:lnTo>
                <a:lnTo>
                  <a:pt x="624" y="1950"/>
                </a:lnTo>
                <a:lnTo>
                  <a:pt x="626" y="1950"/>
                </a:lnTo>
                <a:lnTo>
                  <a:pt x="628" y="1950"/>
                </a:lnTo>
                <a:lnTo>
                  <a:pt x="630" y="1950"/>
                </a:lnTo>
                <a:lnTo>
                  <a:pt x="632" y="1950"/>
                </a:lnTo>
                <a:lnTo>
                  <a:pt x="634" y="1950"/>
                </a:lnTo>
                <a:lnTo>
                  <a:pt x="636" y="1950"/>
                </a:lnTo>
                <a:lnTo>
                  <a:pt x="638" y="1950"/>
                </a:lnTo>
                <a:lnTo>
                  <a:pt x="640" y="1950"/>
                </a:lnTo>
                <a:lnTo>
                  <a:pt x="642" y="1950"/>
                </a:lnTo>
                <a:lnTo>
                  <a:pt x="644" y="1950"/>
                </a:lnTo>
                <a:lnTo>
                  <a:pt x="646" y="1950"/>
                </a:lnTo>
                <a:lnTo>
                  <a:pt x="648" y="1950"/>
                </a:lnTo>
                <a:lnTo>
                  <a:pt x="650" y="1950"/>
                </a:lnTo>
                <a:lnTo>
                  <a:pt x="652" y="1950"/>
                </a:lnTo>
                <a:lnTo>
                  <a:pt x="654" y="1950"/>
                </a:lnTo>
                <a:lnTo>
                  <a:pt x="656" y="1950"/>
                </a:lnTo>
                <a:lnTo>
                  <a:pt x="658" y="1951"/>
                </a:lnTo>
                <a:lnTo>
                  <a:pt x="660" y="1950"/>
                </a:lnTo>
                <a:lnTo>
                  <a:pt x="662" y="1950"/>
                </a:lnTo>
                <a:lnTo>
                  <a:pt x="664" y="1950"/>
                </a:lnTo>
                <a:lnTo>
                  <a:pt x="666" y="1950"/>
                </a:lnTo>
                <a:lnTo>
                  <a:pt x="668" y="1950"/>
                </a:lnTo>
                <a:lnTo>
                  <a:pt x="670" y="1950"/>
                </a:lnTo>
                <a:lnTo>
                  <a:pt x="672" y="1950"/>
                </a:lnTo>
                <a:lnTo>
                  <a:pt x="674" y="1950"/>
                </a:lnTo>
                <a:lnTo>
                  <a:pt x="676" y="1950"/>
                </a:lnTo>
                <a:lnTo>
                  <a:pt x="677" y="1950"/>
                </a:lnTo>
                <a:lnTo>
                  <a:pt x="679" y="1950"/>
                </a:lnTo>
                <a:lnTo>
                  <a:pt x="681" y="1950"/>
                </a:lnTo>
                <a:lnTo>
                  <a:pt x="683" y="1951"/>
                </a:lnTo>
                <a:lnTo>
                  <a:pt x="685" y="1951"/>
                </a:lnTo>
                <a:lnTo>
                  <a:pt x="687" y="1951"/>
                </a:lnTo>
                <a:lnTo>
                  <a:pt x="689" y="1951"/>
                </a:lnTo>
                <a:lnTo>
                  <a:pt x="691" y="1951"/>
                </a:lnTo>
                <a:lnTo>
                  <a:pt x="693" y="1951"/>
                </a:lnTo>
                <a:lnTo>
                  <a:pt x="695" y="1951"/>
                </a:lnTo>
                <a:lnTo>
                  <a:pt x="697" y="1951"/>
                </a:lnTo>
                <a:lnTo>
                  <a:pt x="699" y="1951"/>
                </a:lnTo>
                <a:lnTo>
                  <a:pt x="701" y="1951"/>
                </a:lnTo>
                <a:lnTo>
                  <a:pt x="703" y="1951"/>
                </a:lnTo>
                <a:lnTo>
                  <a:pt x="705" y="1950"/>
                </a:lnTo>
                <a:lnTo>
                  <a:pt x="707" y="1950"/>
                </a:lnTo>
                <a:lnTo>
                  <a:pt x="709" y="1950"/>
                </a:lnTo>
                <a:lnTo>
                  <a:pt x="711" y="1950"/>
                </a:lnTo>
                <a:lnTo>
                  <a:pt x="713" y="1950"/>
                </a:lnTo>
                <a:lnTo>
                  <a:pt x="715" y="1950"/>
                </a:lnTo>
                <a:lnTo>
                  <a:pt x="717" y="1950"/>
                </a:lnTo>
                <a:lnTo>
                  <a:pt x="719" y="1950"/>
                </a:lnTo>
                <a:lnTo>
                  <a:pt x="721" y="1950"/>
                </a:lnTo>
                <a:lnTo>
                  <a:pt x="723" y="1950"/>
                </a:lnTo>
                <a:lnTo>
                  <a:pt x="725" y="1951"/>
                </a:lnTo>
                <a:lnTo>
                  <a:pt x="727" y="1950"/>
                </a:lnTo>
                <a:lnTo>
                  <a:pt x="729" y="1951"/>
                </a:lnTo>
                <a:lnTo>
                  <a:pt x="731" y="1951"/>
                </a:lnTo>
                <a:lnTo>
                  <a:pt x="733" y="1951"/>
                </a:lnTo>
                <a:lnTo>
                  <a:pt x="735" y="1951"/>
                </a:lnTo>
                <a:lnTo>
                  <a:pt x="737" y="1951"/>
                </a:lnTo>
                <a:lnTo>
                  <a:pt x="739" y="1951"/>
                </a:lnTo>
                <a:lnTo>
                  <a:pt x="741" y="1951"/>
                </a:lnTo>
                <a:lnTo>
                  <a:pt x="743" y="1951"/>
                </a:lnTo>
                <a:lnTo>
                  <a:pt x="745" y="1951"/>
                </a:lnTo>
                <a:lnTo>
                  <a:pt x="747" y="1951"/>
                </a:lnTo>
                <a:lnTo>
                  <a:pt x="749" y="1951"/>
                </a:lnTo>
                <a:lnTo>
                  <a:pt x="751" y="1951"/>
                </a:lnTo>
                <a:lnTo>
                  <a:pt x="753" y="1951"/>
                </a:lnTo>
                <a:lnTo>
                  <a:pt x="755" y="1951"/>
                </a:lnTo>
                <a:lnTo>
                  <a:pt x="757" y="1951"/>
                </a:lnTo>
                <a:lnTo>
                  <a:pt x="759" y="1951"/>
                </a:lnTo>
                <a:lnTo>
                  <a:pt x="761" y="1951"/>
                </a:lnTo>
                <a:lnTo>
                  <a:pt x="763" y="1951"/>
                </a:lnTo>
                <a:lnTo>
                  <a:pt x="765" y="1951"/>
                </a:lnTo>
                <a:lnTo>
                  <a:pt x="767" y="1951"/>
                </a:lnTo>
                <a:lnTo>
                  <a:pt x="769" y="1951"/>
                </a:lnTo>
                <a:lnTo>
                  <a:pt x="771" y="1951"/>
                </a:lnTo>
                <a:lnTo>
                  <a:pt x="773" y="1951"/>
                </a:lnTo>
                <a:lnTo>
                  <a:pt x="775" y="1951"/>
                </a:lnTo>
                <a:lnTo>
                  <a:pt x="777" y="1951"/>
                </a:lnTo>
                <a:lnTo>
                  <a:pt x="779" y="1951"/>
                </a:lnTo>
                <a:lnTo>
                  <a:pt x="781" y="1951"/>
                </a:lnTo>
                <a:lnTo>
                  <a:pt x="783" y="1951"/>
                </a:lnTo>
                <a:lnTo>
                  <a:pt x="785" y="1951"/>
                </a:lnTo>
                <a:lnTo>
                  <a:pt x="787" y="1951"/>
                </a:lnTo>
                <a:lnTo>
                  <a:pt x="789" y="1951"/>
                </a:lnTo>
                <a:lnTo>
                  <a:pt x="791" y="1951"/>
                </a:lnTo>
                <a:lnTo>
                  <a:pt x="793" y="1951"/>
                </a:lnTo>
                <a:lnTo>
                  <a:pt x="795" y="1951"/>
                </a:lnTo>
                <a:lnTo>
                  <a:pt x="797" y="1951"/>
                </a:lnTo>
                <a:lnTo>
                  <a:pt x="799" y="1951"/>
                </a:lnTo>
                <a:lnTo>
                  <a:pt x="801" y="1951"/>
                </a:lnTo>
                <a:lnTo>
                  <a:pt x="803" y="1951"/>
                </a:lnTo>
                <a:lnTo>
                  <a:pt x="805" y="1951"/>
                </a:lnTo>
                <a:lnTo>
                  <a:pt x="807" y="1951"/>
                </a:lnTo>
                <a:lnTo>
                  <a:pt x="809" y="1951"/>
                </a:lnTo>
                <a:lnTo>
                  <a:pt x="811" y="1951"/>
                </a:lnTo>
                <a:lnTo>
                  <a:pt x="813" y="1951"/>
                </a:lnTo>
                <a:lnTo>
                  <a:pt x="815" y="1951"/>
                </a:lnTo>
                <a:lnTo>
                  <a:pt x="817" y="1951"/>
                </a:lnTo>
                <a:lnTo>
                  <a:pt x="819" y="1951"/>
                </a:lnTo>
                <a:lnTo>
                  <a:pt x="821" y="1951"/>
                </a:lnTo>
                <a:lnTo>
                  <a:pt x="823" y="1951"/>
                </a:lnTo>
                <a:lnTo>
                  <a:pt x="825" y="1951"/>
                </a:lnTo>
                <a:lnTo>
                  <a:pt x="827" y="1951"/>
                </a:lnTo>
                <a:lnTo>
                  <a:pt x="829" y="1951"/>
                </a:lnTo>
                <a:lnTo>
                  <a:pt x="831" y="1951"/>
                </a:lnTo>
                <a:lnTo>
                  <a:pt x="833" y="1951"/>
                </a:lnTo>
                <a:lnTo>
                  <a:pt x="835" y="1951"/>
                </a:lnTo>
                <a:lnTo>
                  <a:pt x="837" y="1951"/>
                </a:lnTo>
                <a:lnTo>
                  <a:pt x="839" y="1951"/>
                </a:lnTo>
                <a:lnTo>
                  <a:pt x="841" y="1951"/>
                </a:lnTo>
                <a:lnTo>
                  <a:pt x="843" y="1951"/>
                </a:lnTo>
                <a:lnTo>
                  <a:pt x="845" y="1951"/>
                </a:lnTo>
                <a:lnTo>
                  <a:pt x="846" y="1951"/>
                </a:lnTo>
                <a:lnTo>
                  <a:pt x="848" y="1951"/>
                </a:lnTo>
                <a:lnTo>
                  <a:pt x="850" y="1951"/>
                </a:lnTo>
                <a:lnTo>
                  <a:pt x="852" y="1951"/>
                </a:lnTo>
                <a:lnTo>
                  <a:pt x="854" y="1951"/>
                </a:lnTo>
                <a:lnTo>
                  <a:pt x="856" y="1951"/>
                </a:lnTo>
                <a:lnTo>
                  <a:pt x="858" y="1951"/>
                </a:lnTo>
                <a:lnTo>
                  <a:pt x="860" y="1951"/>
                </a:lnTo>
                <a:lnTo>
                  <a:pt x="862" y="1950"/>
                </a:lnTo>
                <a:lnTo>
                  <a:pt x="864" y="1950"/>
                </a:lnTo>
                <a:lnTo>
                  <a:pt x="866" y="1950"/>
                </a:lnTo>
                <a:lnTo>
                  <a:pt x="868" y="1950"/>
                </a:lnTo>
                <a:lnTo>
                  <a:pt x="870" y="1950"/>
                </a:lnTo>
                <a:lnTo>
                  <a:pt x="872" y="1950"/>
                </a:lnTo>
                <a:lnTo>
                  <a:pt x="874" y="1950"/>
                </a:lnTo>
                <a:lnTo>
                  <a:pt x="876" y="1950"/>
                </a:lnTo>
                <a:lnTo>
                  <a:pt x="878" y="1950"/>
                </a:lnTo>
                <a:lnTo>
                  <a:pt x="880" y="1951"/>
                </a:lnTo>
                <a:lnTo>
                  <a:pt x="882" y="1951"/>
                </a:lnTo>
                <a:lnTo>
                  <a:pt x="884" y="1951"/>
                </a:lnTo>
                <a:lnTo>
                  <a:pt x="886" y="1951"/>
                </a:lnTo>
                <a:lnTo>
                  <a:pt x="888" y="1951"/>
                </a:lnTo>
                <a:lnTo>
                  <a:pt x="890" y="1951"/>
                </a:lnTo>
                <a:lnTo>
                  <a:pt x="892" y="1951"/>
                </a:lnTo>
                <a:lnTo>
                  <a:pt x="894" y="1951"/>
                </a:lnTo>
                <a:lnTo>
                  <a:pt x="896" y="1951"/>
                </a:lnTo>
                <a:lnTo>
                  <a:pt x="898" y="1951"/>
                </a:lnTo>
                <a:lnTo>
                  <a:pt x="900" y="1951"/>
                </a:lnTo>
                <a:lnTo>
                  <a:pt x="902" y="1951"/>
                </a:lnTo>
                <a:lnTo>
                  <a:pt x="904" y="1951"/>
                </a:lnTo>
                <a:lnTo>
                  <a:pt x="906" y="1951"/>
                </a:lnTo>
                <a:lnTo>
                  <a:pt x="908" y="1951"/>
                </a:lnTo>
                <a:lnTo>
                  <a:pt x="910" y="1951"/>
                </a:lnTo>
                <a:lnTo>
                  <a:pt x="912" y="1951"/>
                </a:lnTo>
                <a:lnTo>
                  <a:pt x="914" y="1951"/>
                </a:lnTo>
                <a:lnTo>
                  <a:pt x="916" y="1951"/>
                </a:lnTo>
                <a:lnTo>
                  <a:pt x="918" y="1951"/>
                </a:lnTo>
                <a:lnTo>
                  <a:pt x="920" y="1951"/>
                </a:lnTo>
                <a:lnTo>
                  <a:pt x="922" y="1951"/>
                </a:lnTo>
                <a:lnTo>
                  <a:pt x="924" y="1951"/>
                </a:lnTo>
                <a:lnTo>
                  <a:pt x="926" y="1951"/>
                </a:lnTo>
                <a:lnTo>
                  <a:pt x="928" y="1951"/>
                </a:lnTo>
                <a:lnTo>
                  <a:pt x="930" y="1951"/>
                </a:lnTo>
                <a:lnTo>
                  <a:pt x="932" y="1951"/>
                </a:lnTo>
                <a:lnTo>
                  <a:pt x="934" y="1951"/>
                </a:lnTo>
                <a:lnTo>
                  <a:pt x="936" y="1951"/>
                </a:lnTo>
                <a:lnTo>
                  <a:pt x="938" y="1951"/>
                </a:lnTo>
                <a:lnTo>
                  <a:pt x="940" y="1951"/>
                </a:lnTo>
                <a:lnTo>
                  <a:pt x="942" y="1951"/>
                </a:lnTo>
                <a:lnTo>
                  <a:pt x="944" y="1951"/>
                </a:lnTo>
                <a:lnTo>
                  <a:pt x="946" y="1951"/>
                </a:lnTo>
                <a:lnTo>
                  <a:pt x="948" y="1951"/>
                </a:lnTo>
                <a:lnTo>
                  <a:pt x="950" y="1951"/>
                </a:lnTo>
                <a:lnTo>
                  <a:pt x="952" y="1951"/>
                </a:lnTo>
                <a:lnTo>
                  <a:pt x="954" y="1951"/>
                </a:lnTo>
                <a:lnTo>
                  <a:pt x="956" y="1951"/>
                </a:lnTo>
                <a:lnTo>
                  <a:pt x="958" y="1951"/>
                </a:lnTo>
                <a:lnTo>
                  <a:pt x="960" y="1951"/>
                </a:lnTo>
                <a:lnTo>
                  <a:pt x="962" y="1951"/>
                </a:lnTo>
                <a:lnTo>
                  <a:pt x="964" y="1951"/>
                </a:lnTo>
                <a:lnTo>
                  <a:pt x="966" y="1951"/>
                </a:lnTo>
                <a:lnTo>
                  <a:pt x="968" y="1951"/>
                </a:lnTo>
                <a:lnTo>
                  <a:pt x="970" y="1951"/>
                </a:lnTo>
                <a:lnTo>
                  <a:pt x="972" y="1950"/>
                </a:lnTo>
                <a:lnTo>
                  <a:pt x="974" y="1950"/>
                </a:lnTo>
                <a:lnTo>
                  <a:pt x="976" y="1950"/>
                </a:lnTo>
                <a:lnTo>
                  <a:pt x="978" y="1950"/>
                </a:lnTo>
                <a:lnTo>
                  <a:pt x="980" y="1950"/>
                </a:lnTo>
                <a:lnTo>
                  <a:pt x="982" y="1950"/>
                </a:lnTo>
                <a:lnTo>
                  <a:pt x="984" y="1950"/>
                </a:lnTo>
                <a:lnTo>
                  <a:pt x="986" y="1950"/>
                </a:lnTo>
                <a:lnTo>
                  <a:pt x="988" y="1950"/>
                </a:lnTo>
                <a:lnTo>
                  <a:pt x="990" y="1950"/>
                </a:lnTo>
                <a:lnTo>
                  <a:pt x="992" y="1951"/>
                </a:lnTo>
                <a:lnTo>
                  <a:pt x="994" y="1951"/>
                </a:lnTo>
                <a:lnTo>
                  <a:pt x="996" y="1950"/>
                </a:lnTo>
                <a:lnTo>
                  <a:pt x="998" y="1950"/>
                </a:lnTo>
                <a:lnTo>
                  <a:pt x="1000" y="1950"/>
                </a:lnTo>
                <a:lnTo>
                  <a:pt x="1002" y="1950"/>
                </a:lnTo>
                <a:lnTo>
                  <a:pt x="1004" y="1950"/>
                </a:lnTo>
                <a:lnTo>
                  <a:pt x="1006" y="1950"/>
                </a:lnTo>
                <a:lnTo>
                  <a:pt x="1008" y="1950"/>
                </a:lnTo>
                <a:lnTo>
                  <a:pt x="1010" y="1950"/>
                </a:lnTo>
                <a:lnTo>
                  <a:pt x="1012" y="1950"/>
                </a:lnTo>
                <a:lnTo>
                  <a:pt x="1014" y="1950"/>
                </a:lnTo>
                <a:lnTo>
                  <a:pt x="1015" y="1950"/>
                </a:lnTo>
                <a:lnTo>
                  <a:pt x="1017" y="1950"/>
                </a:lnTo>
                <a:lnTo>
                  <a:pt x="1019" y="1950"/>
                </a:lnTo>
                <a:lnTo>
                  <a:pt x="1021" y="1950"/>
                </a:lnTo>
                <a:lnTo>
                  <a:pt x="1023" y="1950"/>
                </a:lnTo>
                <a:lnTo>
                  <a:pt x="1025" y="1950"/>
                </a:lnTo>
                <a:lnTo>
                  <a:pt x="1027" y="1950"/>
                </a:lnTo>
                <a:lnTo>
                  <a:pt x="1029" y="1950"/>
                </a:lnTo>
                <a:lnTo>
                  <a:pt x="1031" y="1950"/>
                </a:lnTo>
                <a:lnTo>
                  <a:pt x="1033" y="1951"/>
                </a:lnTo>
                <a:lnTo>
                  <a:pt x="1035" y="1951"/>
                </a:lnTo>
                <a:lnTo>
                  <a:pt x="1037" y="1952"/>
                </a:lnTo>
                <a:lnTo>
                  <a:pt x="1039" y="1953"/>
                </a:lnTo>
                <a:lnTo>
                  <a:pt x="1041" y="1954"/>
                </a:lnTo>
                <a:lnTo>
                  <a:pt x="1043" y="1955"/>
                </a:lnTo>
                <a:lnTo>
                  <a:pt x="1045" y="1957"/>
                </a:lnTo>
                <a:lnTo>
                  <a:pt x="1047" y="1959"/>
                </a:lnTo>
                <a:lnTo>
                  <a:pt x="1049" y="1961"/>
                </a:lnTo>
                <a:lnTo>
                  <a:pt x="1051" y="1964"/>
                </a:lnTo>
                <a:lnTo>
                  <a:pt x="1053" y="1967"/>
                </a:lnTo>
                <a:lnTo>
                  <a:pt x="1055" y="1970"/>
                </a:lnTo>
                <a:lnTo>
                  <a:pt x="1057" y="1973"/>
                </a:lnTo>
                <a:lnTo>
                  <a:pt x="1059" y="1977"/>
                </a:lnTo>
                <a:lnTo>
                  <a:pt x="1061" y="1980"/>
                </a:lnTo>
                <a:lnTo>
                  <a:pt x="1063" y="1984"/>
                </a:lnTo>
                <a:lnTo>
                  <a:pt x="1065" y="1988"/>
                </a:lnTo>
                <a:lnTo>
                  <a:pt x="1067" y="1992"/>
                </a:lnTo>
                <a:lnTo>
                  <a:pt x="1069" y="1996"/>
                </a:lnTo>
                <a:lnTo>
                  <a:pt x="1071" y="1999"/>
                </a:lnTo>
                <a:lnTo>
                  <a:pt x="1073" y="2003"/>
                </a:lnTo>
                <a:lnTo>
                  <a:pt x="1075" y="2006"/>
                </a:lnTo>
                <a:lnTo>
                  <a:pt x="1077" y="2010"/>
                </a:lnTo>
                <a:lnTo>
                  <a:pt x="1079" y="2013"/>
                </a:lnTo>
                <a:lnTo>
                  <a:pt x="1081" y="2016"/>
                </a:lnTo>
                <a:lnTo>
                  <a:pt x="1083" y="2019"/>
                </a:lnTo>
                <a:lnTo>
                  <a:pt x="1085" y="2021"/>
                </a:lnTo>
                <a:lnTo>
                  <a:pt x="1087" y="2024"/>
                </a:lnTo>
                <a:lnTo>
                  <a:pt x="1089" y="2026"/>
                </a:lnTo>
                <a:lnTo>
                  <a:pt x="1091" y="2027"/>
                </a:lnTo>
                <a:lnTo>
                  <a:pt x="1093" y="2029"/>
                </a:lnTo>
                <a:lnTo>
                  <a:pt x="1095" y="2030"/>
                </a:lnTo>
                <a:lnTo>
                  <a:pt x="1097" y="2032"/>
                </a:lnTo>
                <a:lnTo>
                  <a:pt x="1099" y="2033"/>
                </a:lnTo>
                <a:lnTo>
                  <a:pt x="1101" y="2033"/>
                </a:lnTo>
                <a:lnTo>
                  <a:pt x="1103" y="2034"/>
                </a:lnTo>
                <a:lnTo>
                  <a:pt x="1105" y="2035"/>
                </a:lnTo>
                <a:lnTo>
                  <a:pt x="1107" y="2035"/>
                </a:lnTo>
                <a:lnTo>
                  <a:pt x="1109" y="2035"/>
                </a:lnTo>
                <a:lnTo>
                  <a:pt x="1111" y="2036"/>
                </a:lnTo>
                <a:lnTo>
                  <a:pt x="1113" y="2036"/>
                </a:lnTo>
                <a:lnTo>
                  <a:pt x="1115" y="2036"/>
                </a:lnTo>
                <a:lnTo>
                  <a:pt x="1117" y="2035"/>
                </a:lnTo>
                <a:lnTo>
                  <a:pt x="1119" y="2035"/>
                </a:lnTo>
                <a:lnTo>
                  <a:pt x="1121" y="2035"/>
                </a:lnTo>
                <a:lnTo>
                  <a:pt x="1123" y="2035"/>
                </a:lnTo>
                <a:lnTo>
                  <a:pt x="1125" y="2034"/>
                </a:lnTo>
                <a:lnTo>
                  <a:pt x="1127" y="2034"/>
                </a:lnTo>
                <a:lnTo>
                  <a:pt x="1129" y="2033"/>
                </a:lnTo>
                <a:lnTo>
                  <a:pt x="1131" y="2032"/>
                </a:lnTo>
                <a:lnTo>
                  <a:pt x="1133" y="2032"/>
                </a:lnTo>
                <a:lnTo>
                  <a:pt x="1135" y="2031"/>
                </a:lnTo>
                <a:lnTo>
                  <a:pt x="1137" y="2030"/>
                </a:lnTo>
                <a:lnTo>
                  <a:pt x="1139" y="2029"/>
                </a:lnTo>
                <a:lnTo>
                  <a:pt x="1141" y="2028"/>
                </a:lnTo>
                <a:lnTo>
                  <a:pt x="1143" y="2027"/>
                </a:lnTo>
                <a:lnTo>
                  <a:pt x="1145" y="2026"/>
                </a:lnTo>
                <a:lnTo>
                  <a:pt x="1147" y="2025"/>
                </a:lnTo>
                <a:lnTo>
                  <a:pt x="1149" y="2024"/>
                </a:lnTo>
                <a:lnTo>
                  <a:pt x="1151" y="2023"/>
                </a:lnTo>
                <a:lnTo>
                  <a:pt x="1153" y="2022"/>
                </a:lnTo>
                <a:lnTo>
                  <a:pt x="1155" y="2021"/>
                </a:lnTo>
                <a:lnTo>
                  <a:pt x="1157" y="2020"/>
                </a:lnTo>
                <a:lnTo>
                  <a:pt x="1159" y="2019"/>
                </a:lnTo>
                <a:lnTo>
                  <a:pt x="1161" y="2018"/>
                </a:lnTo>
                <a:lnTo>
                  <a:pt x="1163" y="2017"/>
                </a:lnTo>
                <a:lnTo>
                  <a:pt x="1165" y="2016"/>
                </a:lnTo>
                <a:lnTo>
                  <a:pt x="1167" y="2015"/>
                </a:lnTo>
                <a:lnTo>
                  <a:pt x="1169" y="2014"/>
                </a:lnTo>
                <a:lnTo>
                  <a:pt x="1171" y="2013"/>
                </a:lnTo>
                <a:lnTo>
                  <a:pt x="1173" y="2012"/>
                </a:lnTo>
                <a:lnTo>
                  <a:pt x="1175" y="2010"/>
                </a:lnTo>
                <a:lnTo>
                  <a:pt x="1177" y="2009"/>
                </a:lnTo>
                <a:lnTo>
                  <a:pt x="1179" y="2008"/>
                </a:lnTo>
                <a:lnTo>
                  <a:pt x="1181" y="2007"/>
                </a:lnTo>
                <a:lnTo>
                  <a:pt x="1183" y="2006"/>
                </a:lnTo>
                <a:lnTo>
                  <a:pt x="1184" y="2005"/>
                </a:lnTo>
                <a:lnTo>
                  <a:pt x="1186" y="2004"/>
                </a:lnTo>
                <a:lnTo>
                  <a:pt x="1188" y="2003"/>
                </a:lnTo>
                <a:lnTo>
                  <a:pt x="1190" y="2002"/>
                </a:lnTo>
                <a:lnTo>
                  <a:pt x="1192" y="2002"/>
                </a:lnTo>
                <a:lnTo>
                  <a:pt x="1194" y="2001"/>
                </a:lnTo>
                <a:lnTo>
                  <a:pt x="1196" y="2000"/>
                </a:lnTo>
                <a:lnTo>
                  <a:pt x="1198" y="1999"/>
                </a:lnTo>
                <a:lnTo>
                  <a:pt x="1200" y="1998"/>
                </a:lnTo>
                <a:lnTo>
                  <a:pt x="1202" y="1997"/>
                </a:lnTo>
                <a:lnTo>
                  <a:pt x="1204" y="1996"/>
                </a:lnTo>
                <a:lnTo>
                  <a:pt x="1206" y="1995"/>
                </a:lnTo>
                <a:lnTo>
                  <a:pt x="1208" y="1995"/>
                </a:lnTo>
                <a:lnTo>
                  <a:pt x="1210" y="1994"/>
                </a:lnTo>
                <a:lnTo>
                  <a:pt x="1212" y="1993"/>
                </a:lnTo>
                <a:lnTo>
                  <a:pt x="1214" y="1992"/>
                </a:lnTo>
                <a:lnTo>
                  <a:pt x="1216" y="1992"/>
                </a:lnTo>
                <a:lnTo>
                  <a:pt x="1218" y="1991"/>
                </a:lnTo>
                <a:lnTo>
                  <a:pt x="1220" y="1990"/>
                </a:lnTo>
                <a:lnTo>
                  <a:pt x="1222" y="1990"/>
                </a:lnTo>
                <a:lnTo>
                  <a:pt x="1224" y="1989"/>
                </a:lnTo>
                <a:lnTo>
                  <a:pt x="1226" y="1988"/>
                </a:lnTo>
                <a:lnTo>
                  <a:pt x="1228" y="1988"/>
                </a:lnTo>
                <a:lnTo>
                  <a:pt x="1230" y="1987"/>
                </a:lnTo>
                <a:lnTo>
                  <a:pt x="1232" y="1986"/>
                </a:lnTo>
                <a:lnTo>
                  <a:pt x="1234" y="1986"/>
                </a:lnTo>
                <a:lnTo>
                  <a:pt x="1236" y="1985"/>
                </a:lnTo>
                <a:lnTo>
                  <a:pt x="1238" y="1985"/>
                </a:lnTo>
                <a:lnTo>
                  <a:pt x="1240" y="1984"/>
                </a:lnTo>
                <a:lnTo>
                  <a:pt x="1242" y="1983"/>
                </a:lnTo>
                <a:lnTo>
                  <a:pt x="1244" y="1983"/>
                </a:lnTo>
                <a:lnTo>
                  <a:pt x="1246" y="1982"/>
                </a:lnTo>
                <a:lnTo>
                  <a:pt x="1248" y="1982"/>
                </a:lnTo>
                <a:lnTo>
                  <a:pt x="1250" y="1981"/>
                </a:lnTo>
                <a:lnTo>
                  <a:pt x="1252" y="1981"/>
                </a:lnTo>
                <a:lnTo>
                  <a:pt x="1254" y="1980"/>
                </a:lnTo>
                <a:lnTo>
                  <a:pt x="1256" y="1980"/>
                </a:lnTo>
                <a:lnTo>
                  <a:pt x="1258" y="1979"/>
                </a:lnTo>
                <a:lnTo>
                  <a:pt x="1260" y="1979"/>
                </a:lnTo>
                <a:lnTo>
                  <a:pt x="1262" y="1979"/>
                </a:lnTo>
                <a:lnTo>
                  <a:pt x="1264" y="1978"/>
                </a:lnTo>
                <a:lnTo>
                  <a:pt x="1266" y="1978"/>
                </a:lnTo>
                <a:lnTo>
                  <a:pt x="1268" y="1977"/>
                </a:lnTo>
                <a:lnTo>
                  <a:pt x="1270" y="1977"/>
                </a:lnTo>
                <a:lnTo>
                  <a:pt x="1272" y="1977"/>
                </a:lnTo>
                <a:lnTo>
                  <a:pt x="1274" y="1976"/>
                </a:lnTo>
                <a:lnTo>
                  <a:pt x="1276" y="1976"/>
                </a:lnTo>
                <a:lnTo>
                  <a:pt x="1278" y="1976"/>
                </a:lnTo>
                <a:lnTo>
                  <a:pt x="1280" y="1975"/>
                </a:lnTo>
                <a:lnTo>
                  <a:pt x="1282" y="1975"/>
                </a:lnTo>
                <a:lnTo>
                  <a:pt x="1284" y="1975"/>
                </a:lnTo>
                <a:lnTo>
                  <a:pt x="1286" y="1974"/>
                </a:lnTo>
                <a:lnTo>
                  <a:pt x="1288" y="1974"/>
                </a:lnTo>
                <a:lnTo>
                  <a:pt x="1290" y="1974"/>
                </a:lnTo>
                <a:lnTo>
                  <a:pt x="1292" y="1973"/>
                </a:lnTo>
                <a:lnTo>
                  <a:pt x="1294" y="1973"/>
                </a:lnTo>
                <a:lnTo>
                  <a:pt x="1296" y="1973"/>
                </a:lnTo>
                <a:lnTo>
                  <a:pt x="1298" y="1972"/>
                </a:lnTo>
                <a:lnTo>
                  <a:pt x="1300" y="1972"/>
                </a:lnTo>
                <a:lnTo>
                  <a:pt x="1302" y="1972"/>
                </a:lnTo>
                <a:lnTo>
                  <a:pt x="1304" y="1972"/>
                </a:lnTo>
                <a:lnTo>
                  <a:pt x="1306" y="1971"/>
                </a:lnTo>
                <a:lnTo>
                  <a:pt x="1308" y="1971"/>
                </a:lnTo>
                <a:lnTo>
                  <a:pt x="1310" y="1971"/>
                </a:lnTo>
                <a:lnTo>
                  <a:pt x="1312" y="1970"/>
                </a:lnTo>
                <a:lnTo>
                  <a:pt x="1314" y="1970"/>
                </a:lnTo>
                <a:lnTo>
                  <a:pt x="1316" y="1970"/>
                </a:lnTo>
                <a:lnTo>
                  <a:pt x="1318" y="1970"/>
                </a:lnTo>
                <a:lnTo>
                  <a:pt x="1320" y="1969"/>
                </a:lnTo>
                <a:lnTo>
                  <a:pt x="1322" y="1969"/>
                </a:lnTo>
                <a:lnTo>
                  <a:pt x="1324" y="1969"/>
                </a:lnTo>
                <a:lnTo>
                  <a:pt x="1326" y="1969"/>
                </a:lnTo>
                <a:lnTo>
                  <a:pt x="1328" y="1969"/>
                </a:lnTo>
                <a:lnTo>
                  <a:pt x="1330" y="1968"/>
                </a:lnTo>
                <a:lnTo>
                  <a:pt x="1332" y="1968"/>
                </a:lnTo>
                <a:lnTo>
                  <a:pt x="1334" y="1968"/>
                </a:lnTo>
                <a:lnTo>
                  <a:pt x="1336" y="1968"/>
                </a:lnTo>
                <a:lnTo>
                  <a:pt x="1338" y="1968"/>
                </a:lnTo>
                <a:lnTo>
                  <a:pt x="1340" y="1967"/>
                </a:lnTo>
                <a:lnTo>
                  <a:pt x="1342" y="1967"/>
                </a:lnTo>
                <a:lnTo>
                  <a:pt x="1344" y="1967"/>
                </a:lnTo>
                <a:lnTo>
                  <a:pt x="1346" y="1967"/>
                </a:lnTo>
                <a:lnTo>
                  <a:pt x="1348" y="1967"/>
                </a:lnTo>
                <a:lnTo>
                  <a:pt x="1350" y="1966"/>
                </a:lnTo>
                <a:lnTo>
                  <a:pt x="1352" y="1966"/>
                </a:lnTo>
                <a:lnTo>
                  <a:pt x="1353" y="1966"/>
                </a:lnTo>
                <a:lnTo>
                  <a:pt x="1355" y="1966"/>
                </a:lnTo>
                <a:lnTo>
                  <a:pt x="1357" y="1965"/>
                </a:lnTo>
                <a:lnTo>
                  <a:pt x="1359" y="1965"/>
                </a:lnTo>
                <a:lnTo>
                  <a:pt x="1361" y="1965"/>
                </a:lnTo>
                <a:lnTo>
                  <a:pt x="1363" y="1965"/>
                </a:lnTo>
                <a:lnTo>
                  <a:pt x="1365" y="1965"/>
                </a:lnTo>
                <a:lnTo>
                  <a:pt x="1367" y="1965"/>
                </a:lnTo>
                <a:lnTo>
                  <a:pt x="1369" y="1965"/>
                </a:lnTo>
                <a:lnTo>
                  <a:pt x="1371" y="1965"/>
                </a:lnTo>
                <a:lnTo>
                  <a:pt x="1373" y="1964"/>
                </a:lnTo>
                <a:lnTo>
                  <a:pt x="1375" y="1964"/>
                </a:lnTo>
                <a:lnTo>
                  <a:pt x="1377" y="1964"/>
                </a:lnTo>
                <a:lnTo>
                  <a:pt x="1379" y="1964"/>
                </a:lnTo>
                <a:lnTo>
                  <a:pt x="1381" y="1964"/>
                </a:lnTo>
                <a:lnTo>
                  <a:pt x="1383" y="1964"/>
                </a:lnTo>
                <a:lnTo>
                  <a:pt x="1385" y="1964"/>
                </a:lnTo>
                <a:lnTo>
                  <a:pt x="1387" y="1964"/>
                </a:lnTo>
                <a:lnTo>
                  <a:pt x="1389" y="1963"/>
                </a:lnTo>
                <a:lnTo>
                  <a:pt x="1391" y="1963"/>
                </a:lnTo>
                <a:lnTo>
                  <a:pt x="1393" y="1963"/>
                </a:lnTo>
                <a:lnTo>
                  <a:pt x="1395" y="1963"/>
                </a:lnTo>
                <a:lnTo>
                  <a:pt x="1397" y="1963"/>
                </a:lnTo>
                <a:lnTo>
                  <a:pt x="1399" y="1963"/>
                </a:lnTo>
                <a:lnTo>
                  <a:pt x="1401" y="1963"/>
                </a:lnTo>
                <a:lnTo>
                  <a:pt x="1403" y="1963"/>
                </a:lnTo>
                <a:lnTo>
                  <a:pt x="1405" y="1963"/>
                </a:lnTo>
                <a:lnTo>
                  <a:pt x="1407" y="1962"/>
                </a:lnTo>
                <a:lnTo>
                  <a:pt x="1409" y="1962"/>
                </a:lnTo>
                <a:lnTo>
                  <a:pt x="1411" y="1962"/>
                </a:lnTo>
                <a:lnTo>
                  <a:pt x="1413" y="1962"/>
                </a:lnTo>
                <a:lnTo>
                  <a:pt x="1415" y="1962"/>
                </a:lnTo>
                <a:lnTo>
                  <a:pt x="1417" y="1961"/>
                </a:lnTo>
                <a:lnTo>
                  <a:pt x="1419" y="1961"/>
                </a:lnTo>
                <a:lnTo>
                  <a:pt x="1421" y="1960"/>
                </a:lnTo>
                <a:lnTo>
                  <a:pt x="1423" y="1959"/>
                </a:lnTo>
                <a:lnTo>
                  <a:pt x="1425" y="1957"/>
                </a:lnTo>
                <a:lnTo>
                  <a:pt x="1427" y="1955"/>
                </a:lnTo>
                <a:lnTo>
                  <a:pt x="1429" y="1951"/>
                </a:lnTo>
                <a:lnTo>
                  <a:pt x="1431" y="1947"/>
                </a:lnTo>
                <a:lnTo>
                  <a:pt x="1433" y="1941"/>
                </a:lnTo>
                <a:lnTo>
                  <a:pt x="1435" y="1934"/>
                </a:lnTo>
                <a:lnTo>
                  <a:pt x="1437" y="1924"/>
                </a:lnTo>
                <a:lnTo>
                  <a:pt x="1439" y="1911"/>
                </a:lnTo>
                <a:lnTo>
                  <a:pt x="1441" y="1895"/>
                </a:lnTo>
                <a:lnTo>
                  <a:pt x="1443" y="1873"/>
                </a:lnTo>
                <a:lnTo>
                  <a:pt x="1445" y="1849"/>
                </a:lnTo>
                <a:lnTo>
                  <a:pt x="1447" y="1821"/>
                </a:lnTo>
                <a:lnTo>
                  <a:pt x="1449" y="1784"/>
                </a:lnTo>
                <a:lnTo>
                  <a:pt x="1451" y="1745"/>
                </a:lnTo>
                <a:lnTo>
                  <a:pt x="1453" y="1695"/>
                </a:lnTo>
                <a:lnTo>
                  <a:pt x="1455" y="1643"/>
                </a:lnTo>
                <a:lnTo>
                  <a:pt x="1457" y="1580"/>
                </a:lnTo>
                <a:lnTo>
                  <a:pt x="1459" y="1511"/>
                </a:lnTo>
                <a:lnTo>
                  <a:pt x="1461" y="1435"/>
                </a:lnTo>
                <a:lnTo>
                  <a:pt x="1463" y="1353"/>
                </a:lnTo>
                <a:lnTo>
                  <a:pt x="1465" y="1265"/>
                </a:lnTo>
                <a:lnTo>
                  <a:pt x="1467" y="1172"/>
                </a:lnTo>
                <a:lnTo>
                  <a:pt x="1469" y="1074"/>
                </a:lnTo>
                <a:lnTo>
                  <a:pt x="1471" y="974"/>
                </a:lnTo>
                <a:lnTo>
                  <a:pt x="1473" y="871"/>
                </a:lnTo>
                <a:lnTo>
                  <a:pt x="1475" y="768"/>
                </a:lnTo>
                <a:lnTo>
                  <a:pt x="1477" y="665"/>
                </a:lnTo>
                <a:lnTo>
                  <a:pt x="1479" y="564"/>
                </a:lnTo>
                <a:lnTo>
                  <a:pt x="1481" y="468"/>
                </a:lnTo>
                <a:lnTo>
                  <a:pt x="1483" y="377"/>
                </a:lnTo>
                <a:lnTo>
                  <a:pt x="1485" y="293"/>
                </a:lnTo>
                <a:lnTo>
                  <a:pt x="1487" y="217"/>
                </a:lnTo>
                <a:lnTo>
                  <a:pt x="1489" y="152"/>
                </a:lnTo>
                <a:lnTo>
                  <a:pt x="1491" y="96"/>
                </a:lnTo>
                <a:lnTo>
                  <a:pt x="1493" y="55"/>
                </a:lnTo>
                <a:lnTo>
                  <a:pt x="1495" y="24"/>
                </a:lnTo>
                <a:lnTo>
                  <a:pt x="1497" y="3"/>
                </a:lnTo>
                <a:lnTo>
                  <a:pt x="1499" y="0"/>
                </a:lnTo>
                <a:lnTo>
                  <a:pt x="1501" y="6"/>
                </a:lnTo>
                <a:lnTo>
                  <a:pt x="1503" y="26"/>
                </a:lnTo>
                <a:lnTo>
                  <a:pt x="1505" y="57"/>
                </a:lnTo>
                <a:lnTo>
                  <a:pt x="1507" y="98"/>
                </a:lnTo>
                <a:lnTo>
                  <a:pt x="1509" y="151"/>
                </a:lnTo>
                <a:lnTo>
                  <a:pt x="1511" y="212"/>
                </a:lnTo>
                <a:lnTo>
                  <a:pt x="1513" y="281"/>
                </a:lnTo>
                <a:lnTo>
                  <a:pt x="1515" y="356"/>
                </a:lnTo>
                <a:lnTo>
                  <a:pt x="1517" y="436"/>
                </a:lnTo>
                <a:lnTo>
                  <a:pt x="1519" y="521"/>
                </a:lnTo>
                <a:lnTo>
                  <a:pt x="1521" y="607"/>
                </a:lnTo>
                <a:lnTo>
                  <a:pt x="1522" y="695"/>
                </a:lnTo>
                <a:lnTo>
                  <a:pt x="1524" y="783"/>
                </a:lnTo>
                <a:lnTo>
                  <a:pt x="1526" y="870"/>
                </a:lnTo>
                <a:lnTo>
                  <a:pt x="1528" y="955"/>
                </a:lnTo>
                <a:lnTo>
                  <a:pt x="1530" y="1038"/>
                </a:lnTo>
                <a:lnTo>
                  <a:pt x="1532" y="1118"/>
                </a:lnTo>
                <a:lnTo>
                  <a:pt x="1534" y="1193"/>
                </a:lnTo>
                <a:lnTo>
                  <a:pt x="1536" y="1263"/>
                </a:lnTo>
                <a:lnTo>
                  <a:pt x="1538" y="1329"/>
                </a:lnTo>
                <a:lnTo>
                  <a:pt x="1540" y="1390"/>
                </a:lnTo>
                <a:lnTo>
                  <a:pt x="1542" y="1446"/>
                </a:lnTo>
                <a:lnTo>
                  <a:pt x="1544" y="1498"/>
                </a:lnTo>
                <a:lnTo>
                  <a:pt x="1546" y="1544"/>
                </a:lnTo>
                <a:lnTo>
                  <a:pt x="1548" y="1586"/>
                </a:lnTo>
                <a:lnTo>
                  <a:pt x="1550" y="1624"/>
                </a:lnTo>
                <a:lnTo>
                  <a:pt x="1552" y="1659"/>
                </a:lnTo>
                <a:lnTo>
                  <a:pt x="1554" y="1687"/>
                </a:lnTo>
                <a:lnTo>
                  <a:pt x="1556" y="1715"/>
                </a:lnTo>
                <a:lnTo>
                  <a:pt x="1558" y="1739"/>
                </a:lnTo>
                <a:lnTo>
                  <a:pt x="1560" y="1759"/>
                </a:lnTo>
                <a:lnTo>
                  <a:pt x="1562" y="1777"/>
                </a:lnTo>
                <a:lnTo>
                  <a:pt x="1564" y="1795"/>
                </a:lnTo>
                <a:lnTo>
                  <a:pt x="1566" y="1809"/>
                </a:lnTo>
                <a:lnTo>
                  <a:pt x="1568" y="1821"/>
                </a:lnTo>
                <a:lnTo>
                  <a:pt x="1570" y="1832"/>
                </a:lnTo>
                <a:lnTo>
                  <a:pt x="1572" y="1842"/>
                </a:lnTo>
                <a:lnTo>
                  <a:pt x="1574" y="1850"/>
                </a:lnTo>
                <a:lnTo>
                  <a:pt x="1576" y="1858"/>
                </a:lnTo>
                <a:lnTo>
                  <a:pt x="1578" y="1866"/>
                </a:lnTo>
                <a:lnTo>
                  <a:pt x="1580" y="1872"/>
                </a:lnTo>
                <a:lnTo>
                  <a:pt x="1582" y="1878"/>
                </a:lnTo>
                <a:lnTo>
                  <a:pt x="1584" y="1883"/>
                </a:lnTo>
                <a:lnTo>
                  <a:pt x="1586" y="1887"/>
                </a:lnTo>
                <a:lnTo>
                  <a:pt x="1588" y="1891"/>
                </a:lnTo>
                <a:lnTo>
                  <a:pt x="1590" y="1895"/>
                </a:lnTo>
                <a:lnTo>
                  <a:pt x="1592" y="1898"/>
                </a:lnTo>
                <a:lnTo>
                  <a:pt x="1594" y="1901"/>
                </a:lnTo>
                <a:lnTo>
                  <a:pt x="1596" y="1903"/>
                </a:lnTo>
                <a:lnTo>
                  <a:pt x="1598" y="1906"/>
                </a:lnTo>
                <a:lnTo>
                  <a:pt x="1600" y="1908"/>
                </a:lnTo>
                <a:lnTo>
                  <a:pt x="1602" y="1910"/>
                </a:lnTo>
                <a:lnTo>
                  <a:pt x="1604" y="1912"/>
                </a:lnTo>
                <a:lnTo>
                  <a:pt x="1606" y="1913"/>
                </a:lnTo>
                <a:lnTo>
                  <a:pt x="1608" y="1915"/>
                </a:lnTo>
                <a:lnTo>
                  <a:pt x="1610" y="1916"/>
                </a:lnTo>
                <a:lnTo>
                  <a:pt x="1612" y="1917"/>
                </a:lnTo>
                <a:lnTo>
                  <a:pt x="1614" y="1919"/>
                </a:lnTo>
                <a:lnTo>
                  <a:pt x="1616" y="1920"/>
                </a:lnTo>
                <a:lnTo>
                  <a:pt x="1618" y="1921"/>
                </a:lnTo>
                <a:lnTo>
                  <a:pt x="1620" y="1922"/>
                </a:lnTo>
                <a:lnTo>
                  <a:pt x="1622" y="1923"/>
                </a:lnTo>
                <a:lnTo>
                  <a:pt x="1624" y="1924"/>
                </a:lnTo>
                <a:lnTo>
                  <a:pt x="1626" y="1924"/>
                </a:lnTo>
                <a:lnTo>
                  <a:pt x="1628" y="1925"/>
                </a:lnTo>
                <a:lnTo>
                  <a:pt x="1630" y="1926"/>
                </a:lnTo>
                <a:lnTo>
                  <a:pt x="1632" y="1927"/>
                </a:lnTo>
                <a:lnTo>
                  <a:pt x="1634" y="1927"/>
                </a:lnTo>
                <a:lnTo>
                  <a:pt x="1636" y="1928"/>
                </a:lnTo>
                <a:lnTo>
                  <a:pt x="1638" y="1928"/>
                </a:lnTo>
                <a:lnTo>
                  <a:pt x="1640" y="1929"/>
                </a:lnTo>
                <a:lnTo>
                  <a:pt x="1642" y="1929"/>
                </a:lnTo>
                <a:lnTo>
                  <a:pt x="1644" y="1930"/>
                </a:lnTo>
                <a:lnTo>
                  <a:pt x="1646" y="1930"/>
                </a:lnTo>
                <a:lnTo>
                  <a:pt x="1648" y="1930"/>
                </a:lnTo>
                <a:lnTo>
                  <a:pt x="1650" y="1931"/>
                </a:lnTo>
                <a:lnTo>
                  <a:pt x="1652" y="1931"/>
                </a:lnTo>
                <a:lnTo>
                  <a:pt x="1654" y="1931"/>
                </a:lnTo>
                <a:lnTo>
                  <a:pt x="1656" y="1931"/>
                </a:lnTo>
                <a:lnTo>
                  <a:pt x="1658" y="1932"/>
                </a:lnTo>
                <a:lnTo>
                  <a:pt x="1660" y="1932"/>
                </a:lnTo>
                <a:lnTo>
                  <a:pt x="1662" y="1932"/>
                </a:lnTo>
                <a:lnTo>
                  <a:pt x="1664" y="1932"/>
                </a:lnTo>
                <a:lnTo>
                  <a:pt x="1666" y="1932"/>
                </a:lnTo>
                <a:lnTo>
                  <a:pt x="1668" y="1932"/>
                </a:lnTo>
                <a:lnTo>
                  <a:pt x="1670" y="1933"/>
                </a:lnTo>
                <a:lnTo>
                  <a:pt x="1672" y="1933"/>
                </a:lnTo>
                <a:lnTo>
                  <a:pt x="1674" y="1933"/>
                </a:lnTo>
                <a:lnTo>
                  <a:pt x="1676" y="1933"/>
                </a:lnTo>
                <a:lnTo>
                  <a:pt x="1678" y="1933"/>
                </a:lnTo>
                <a:lnTo>
                  <a:pt x="1680" y="1934"/>
                </a:lnTo>
                <a:lnTo>
                  <a:pt x="1682" y="1934"/>
                </a:lnTo>
                <a:lnTo>
                  <a:pt x="1684" y="1934"/>
                </a:lnTo>
                <a:lnTo>
                  <a:pt x="1686" y="1934"/>
                </a:lnTo>
                <a:lnTo>
                  <a:pt x="1688" y="1934"/>
                </a:lnTo>
                <a:lnTo>
                  <a:pt x="1690" y="1935"/>
                </a:lnTo>
                <a:lnTo>
                  <a:pt x="1691" y="1935"/>
                </a:lnTo>
                <a:lnTo>
                  <a:pt x="1693" y="1935"/>
                </a:lnTo>
                <a:lnTo>
                  <a:pt x="1695" y="1935"/>
                </a:lnTo>
                <a:lnTo>
                  <a:pt x="1697" y="1935"/>
                </a:lnTo>
                <a:lnTo>
                  <a:pt x="1699" y="1935"/>
                </a:lnTo>
                <a:lnTo>
                  <a:pt x="1701" y="1935"/>
                </a:lnTo>
                <a:lnTo>
                  <a:pt x="1703" y="1936"/>
                </a:lnTo>
                <a:lnTo>
                  <a:pt x="1705" y="1936"/>
                </a:lnTo>
                <a:lnTo>
                  <a:pt x="1707" y="1936"/>
                </a:lnTo>
                <a:lnTo>
                  <a:pt x="1709" y="1936"/>
                </a:lnTo>
                <a:lnTo>
                  <a:pt x="1711" y="1936"/>
                </a:lnTo>
                <a:lnTo>
                  <a:pt x="1713" y="1937"/>
                </a:lnTo>
                <a:lnTo>
                  <a:pt x="1715" y="1937"/>
                </a:lnTo>
                <a:lnTo>
                  <a:pt x="1717" y="1937"/>
                </a:lnTo>
                <a:lnTo>
                  <a:pt x="1719" y="1937"/>
                </a:lnTo>
                <a:lnTo>
                  <a:pt x="1721" y="1937"/>
                </a:lnTo>
                <a:lnTo>
                  <a:pt x="1723" y="1938"/>
                </a:lnTo>
                <a:lnTo>
                  <a:pt x="1725" y="1938"/>
                </a:lnTo>
                <a:lnTo>
                  <a:pt x="1727" y="1938"/>
                </a:lnTo>
                <a:lnTo>
                  <a:pt x="1729" y="1938"/>
                </a:lnTo>
                <a:lnTo>
                  <a:pt x="1731" y="1938"/>
                </a:lnTo>
                <a:lnTo>
                  <a:pt x="1733" y="1940"/>
                </a:lnTo>
                <a:lnTo>
                  <a:pt x="1735" y="1940"/>
                </a:lnTo>
                <a:lnTo>
                  <a:pt x="1737" y="1941"/>
                </a:lnTo>
                <a:lnTo>
                  <a:pt x="1739" y="1941"/>
                </a:lnTo>
                <a:lnTo>
                  <a:pt x="1741" y="1941"/>
                </a:lnTo>
                <a:lnTo>
                  <a:pt x="1743" y="1941"/>
                </a:lnTo>
                <a:lnTo>
                  <a:pt x="1745" y="1941"/>
                </a:lnTo>
                <a:lnTo>
                  <a:pt x="1747" y="1942"/>
                </a:lnTo>
                <a:lnTo>
                  <a:pt x="1749" y="1942"/>
                </a:lnTo>
                <a:lnTo>
                  <a:pt x="1751" y="1942"/>
                </a:lnTo>
                <a:lnTo>
                  <a:pt x="1753" y="1942"/>
                </a:lnTo>
                <a:lnTo>
                  <a:pt x="1755" y="1942"/>
                </a:lnTo>
                <a:lnTo>
                  <a:pt x="1757" y="1943"/>
                </a:lnTo>
                <a:lnTo>
                  <a:pt x="1759" y="1943"/>
                </a:lnTo>
                <a:lnTo>
                  <a:pt x="1761" y="1943"/>
                </a:lnTo>
                <a:lnTo>
                  <a:pt x="1763" y="1943"/>
                </a:lnTo>
                <a:lnTo>
                  <a:pt x="1765" y="1944"/>
                </a:lnTo>
                <a:lnTo>
                  <a:pt x="1767" y="1944"/>
                </a:lnTo>
                <a:lnTo>
                  <a:pt x="1769" y="1944"/>
                </a:lnTo>
                <a:lnTo>
                  <a:pt x="1771" y="1944"/>
                </a:lnTo>
                <a:lnTo>
                  <a:pt x="1773" y="1944"/>
                </a:lnTo>
                <a:lnTo>
                  <a:pt x="1775" y="1945"/>
                </a:lnTo>
                <a:lnTo>
                  <a:pt x="1777" y="1945"/>
                </a:lnTo>
                <a:lnTo>
                  <a:pt x="1779" y="1945"/>
                </a:lnTo>
                <a:lnTo>
                  <a:pt x="1781" y="1945"/>
                </a:lnTo>
                <a:lnTo>
                  <a:pt x="1783" y="1945"/>
                </a:lnTo>
                <a:lnTo>
                  <a:pt x="1785" y="1945"/>
                </a:lnTo>
                <a:lnTo>
                  <a:pt x="1787" y="1946"/>
                </a:lnTo>
                <a:lnTo>
                  <a:pt x="1789" y="1946"/>
                </a:lnTo>
                <a:lnTo>
                  <a:pt x="1791" y="1946"/>
                </a:lnTo>
                <a:lnTo>
                  <a:pt x="1793" y="1946"/>
                </a:lnTo>
                <a:lnTo>
                  <a:pt x="1795" y="1946"/>
                </a:lnTo>
                <a:lnTo>
                  <a:pt x="1797" y="1946"/>
                </a:lnTo>
                <a:lnTo>
                  <a:pt x="1799" y="1947"/>
                </a:lnTo>
                <a:lnTo>
                  <a:pt x="1801" y="1947"/>
                </a:lnTo>
                <a:lnTo>
                  <a:pt x="1803" y="1947"/>
                </a:lnTo>
                <a:lnTo>
                  <a:pt x="1805" y="1947"/>
                </a:lnTo>
                <a:lnTo>
                  <a:pt x="1807" y="1947"/>
                </a:lnTo>
                <a:lnTo>
                  <a:pt x="1809" y="1947"/>
                </a:lnTo>
                <a:lnTo>
                  <a:pt x="1811" y="1947"/>
                </a:lnTo>
                <a:lnTo>
                  <a:pt x="1813" y="1947"/>
                </a:lnTo>
                <a:lnTo>
                  <a:pt x="1815" y="1947"/>
                </a:lnTo>
                <a:lnTo>
                  <a:pt x="1817" y="1947"/>
                </a:lnTo>
                <a:lnTo>
                  <a:pt x="1819" y="1947"/>
                </a:lnTo>
                <a:lnTo>
                  <a:pt x="1821" y="1947"/>
                </a:lnTo>
                <a:lnTo>
                  <a:pt x="1823" y="1948"/>
                </a:lnTo>
                <a:lnTo>
                  <a:pt x="1825" y="1948"/>
                </a:lnTo>
                <a:lnTo>
                  <a:pt x="1827" y="1948"/>
                </a:lnTo>
                <a:lnTo>
                  <a:pt x="1829" y="1948"/>
                </a:lnTo>
                <a:lnTo>
                  <a:pt x="1831" y="1948"/>
                </a:lnTo>
                <a:lnTo>
                  <a:pt x="1833" y="1948"/>
                </a:lnTo>
                <a:lnTo>
                  <a:pt x="1835" y="1948"/>
                </a:lnTo>
                <a:lnTo>
                  <a:pt x="1837" y="1948"/>
                </a:lnTo>
                <a:lnTo>
                  <a:pt x="1839" y="1948"/>
                </a:lnTo>
                <a:lnTo>
                  <a:pt x="1841" y="1948"/>
                </a:lnTo>
                <a:lnTo>
                  <a:pt x="1843" y="1948"/>
                </a:lnTo>
                <a:lnTo>
                  <a:pt x="1845" y="1948"/>
                </a:lnTo>
                <a:lnTo>
                  <a:pt x="1847" y="1948"/>
                </a:lnTo>
                <a:lnTo>
                  <a:pt x="1849" y="1948"/>
                </a:lnTo>
                <a:lnTo>
                  <a:pt x="1851" y="1948"/>
                </a:lnTo>
                <a:lnTo>
                  <a:pt x="1853" y="1948"/>
                </a:lnTo>
                <a:lnTo>
                  <a:pt x="1855" y="1948"/>
                </a:lnTo>
                <a:lnTo>
                  <a:pt x="1857" y="1948"/>
                </a:lnTo>
                <a:lnTo>
                  <a:pt x="1859" y="1948"/>
                </a:lnTo>
                <a:lnTo>
                  <a:pt x="1860" y="1948"/>
                </a:lnTo>
                <a:lnTo>
                  <a:pt x="1862" y="1949"/>
                </a:lnTo>
                <a:lnTo>
                  <a:pt x="1864" y="1949"/>
                </a:lnTo>
                <a:lnTo>
                  <a:pt x="1866" y="1949"/>
                </a:lnTo>
                <a:lnTo>
                  <a:pt x="1868" y="1949"/>
                </a:lnTo>
                <a:lnTo>
                  <a:pt x="1870" y="1949"/>
                </a:lnTo>
                <a:lnTo>
                  <a:pt x="1872" y="1949"/>
                </a:lnTo>
                <a:lnTo>
                  <a:pt x="1874" y="1949"/>
                </a:lnTo>
                <a:lnTo>
                  <a:pt x="1876" y="1949"/>
                </a:lnTo>
                <a:lnTo>
                  <a:pt x="1878" y="1949"/>
                </a:lnTo>
                <a:lnTo>
                  <a:pt x="1880" y="1949"/>
                </a:lnTo>
                <a:lnTo>
                  <a:pt x="1882" y="1949"/>
                </a:lnTo>
                <a:lnTo>
                  <a:pt x="1884" y="1950"/>
                </a:lnTo>
                <a:lnTo>
                  <a:pt x="1886" y="1950"/>
                </a:lnTo>
                <a:lnTo>
                  <a:pt x="1888" y="1950"/>
                </a:lnTo>
                <a:lnTo>
                  <a:pt x="1890" y="1950"/>
                </a:lnTo>
                <a:lnTo>
                  <a:pt x="1892" y="1950"/>
                </a:lnTo>
                <a:lnTo>
                  <a:pt x="1894" y="1950"/>
                </a:lnTo>
                <a:lnTo>
                  <a:pt x="1896" y="1950"/>
                </a:lnTo>
                <a:lnTo>
                  <a:pt x="1898" y="1950"/>
                </a:lnTo>
                <a:lnTo>
                  <a:pt x="1900" y="1950"/>
                </a:lnTo>
                <a:lnTo>
                  <a:pt x="1902" y="1950"/>
                </a:lnTo>
                <a:lnTo>
                  <a:pt x="1904" y="1950"/>
                </a:lnTo>
                <a:lnTo>
                  <a:pt x="1906" y="1950"/>
                </a:lnTo>
                <a:lnTo>
                  <a:pt x="1908" y="1950"/>
                </a:lnTo>
                <a:lnTo>
                  <a:pt x="1910" y="1950"/>
                </a:lnTo>
                <a:lnTo>
                  <a:pt x="1912" y="1950"/>
                </a:lnTo>
                <a:lnTo>
                  <a:pt x="1914" y="1950"/>
                </a:lnTo>
                <a:lnTo>
                  <a:pt x="1916" y="1950"/>
                </a:lnTo>
                <a:lnTo>
                  <a:pt x="1918" y="1950"/>
                </a:lnTo>
                <a:lnTo>
                  <a:pt x="1920" y="1951"/>
                </a:lnTo>
                <a:lnTo>
                  <a:pt x="1922" y="1951"/>
                </a:lnTo>
                <a:lnTo>
                  <a:pt x="1924" y="1951"/>
                </a:lnTo>
                <a:lnTo>
                  <a:pt x="1926" y="1951"/>
                </a:lnTo>
                <a:lnTo>
                  <a:pt x="1928" y="1951"/>
                </a:lnTo>
                <a:lnTo>
                  <a:pt x="1930" y="1951"/>
                </a:lnTo>
                <a:lnTo>
                  <a:pt x="1932" y="1951"/>
                </a:lnTo>
                <a:lnTo>
                  <a:pt x="1934" y="1951"/>
                </a:lnTo>
                <a:lnTo>
                  <a:pt x="1936" y="1951"/>
                </a:lnTo>
                <a:lnTo>
                  <a:pt x="1938" y="1951"/>
                </a:lnTo>
                <a:lnTo>
                  <a:pt x="1940" y="1951"/>
                </a:lnTo>
                <a:lnTo>
                  <a:pt x="1942" y="1951"/>
                </a:lnTo>
                <a:lnTo>
                  <a:pt x="1944" y="1951"/>
                </a:lnTo>
                <a:lnTo>
                  <a:pt x="1946" y="1951"/>
                </a:lnTo>
                <a:lnTo>
                  <a:pt x="1948" y="1951"/>
                </a:lnTo>
                <a:lnTo>
                  <a:pt x="1950" y="1952"/>
                </a:lnTo>
                <a:lnTo>
                  <a:pt x="1952" y="1952"/>
                </a:lnTo>
                <a:lnTo>
                  <a:pt x="1954" y="1952"/>
                </a:lnTo>
                <a:lnTo>
                  <a:pt x="1956" y="1952"/>
                </a:lnTo>
                <a:lnTo>
                  <a:pt x="1958" y="1952"/>
                </a:lnTo>
                <a:lnTo>
                  <a:pt x="1960" y="1952"/>
                </a:lnTo>
                <a:lnTo>
                  <a:pt x="1962" y="1952"/>
                </a:lnTo>
                <a:lnTo>
                  <a:pt x="1964" y="1952"/>
                </a:lnTo>
                <a:lnTo>
                  <a:pt x="1966" y="1952"/>
                </a:lnTo>
                <a:lnTo>
                  <a:pt x="1968" y="1952"/>
                </a:lnTo>
                <a:lnTo>
                  <a:pt x="1970" y="1952"/>
                </a:lnTo>
                <a:lnTo>
                  <a:pt x="1972" y="1952"/>
                </a:lnTo>
                <a:lnTo>
                  <a:pt x="1974" y="1952"/>
                </a:lnTo>
                <a:lnTo>
                  <a:pt x="1976" y="1952"/>
                </a:lnTo>
                <a:lnTo>
                  <a:pt x="1978" y="1952"/>
                </a:lnTo>
                <a:lnTo>
                  <a:pt x="1980" y="1952"/>
                </a:lnTo>
                <a:lnTo>
                  <a:pt x="1982" y="1952"/>
                </a:lnTo>
                <a:lnTo>
                  <a:pt x="1984" y="1952"/>
                </a:lnTo>
                <a:lnTo>
                  <a:pt x="1986" y="1952"/>
                </a:lnTo>
                <a:lnTo>
                  <a:pt x="1988" y="1952"/>
                </a:lnTo>
                <a:lnTo>
                  <a:pt x="1990" y="1952"/>
                </a:lnTo>
                <a:lnTo>
                  <a:pt x="1992" y="1952"/>
                </a:lnTo>
                <a:lnTo>
                  <a:pt x="1994" y="1952"/>
                </a:lnTo>
                <a:lnTo>
                  <a:pt x="1996" y="1952"/>
                </a:lnTo>
                <a:lnTo>
                  <a:pt x="1998" y="1952"/>
                </a:lnTo>
                <a:lnTo>
                  <a:pt x="2000" y="1952"/>
                </a:lnTo>
                <a:lnTo>
                  <a:pt x="2002" y="1952"/>
                </a:lnTo>
                <a:lnTo>
                  <a:pt x="2004" y="1953"/>
                </a:lnTo>
                <a:lnTo>
                  <a:pt x="2006" y="1953"/>
                </a:lnTo>
                <a:lnTo>
                  <a:pt x="2008" y="1953"/>
                </a:lnTo>
                <a:lnTo>
                  <a:pt x="2010" y="1953"/>
                </a:lnTo>
                <a:lnTo>
                  <a:pt x="2012" y="1953"/>
                </a:lnTo>
                <a:lnTo>
                  <a:pt x="2014" y="1953"/>
                </a:lnTo>
                <a:lnTo>
                  <a:pt x="2016" y="1953"/>
                </a:lnTo>
                <a:lnTo>
                  <a:pt x="2018" y="1953"/>
                </a:lnTo>
                <a:lnTo>
                  <a:pt x="2020" y="1953"/>
                </a:lnTo>
                <a:lnTo>
                  <a:pt x="2022" y="1953"/>
                </a:lnTo>
                <a:lnTo>
                  <a:pt x="2024" y="1953"/>
                </a:lnTo>
                <a:lnTo>
                  <a:pt x="2026" y="1953"/>
                </a:lnTo>
                <a:lnTo>
                  <a:pt x="2028" y="1953"/>
                </a:lnTo>
                <a:lnTo>
                  <a:pt x="2029" y="1953"/>
                </a:lnTo>
                <a:lnTo>
                  <a:pt x="2031" y="1953"/>
                </a:lnTo>
                <a:lnTo>
                  <a:pt x="2033" y="1953"/>
                </a:lnTo>
                <a:lnTo>
                  <a:pt x="2035" y="1953"/>
                </a:lnTo>
                <a:lnTo>
                  <a:pt x="2037" y="1953"/>
                </a:lnTo>
                <a:lnTo>
                  <a:pt x="2039" y="1953"/>
                </a:lnTo>
                <a:lnTo>
                  <a:pt x="2041" y="1953"/>
                </a:lnTo>
                <a:lnTo>
                  <a:pt x="2043" y="1953"/>
                </a:lnTo>
                <a:lnTo>
                  <a:pt x="2045" y="1953"/>
                </a:lnTo>
                <a:lnTo>
                  <a:pt x="2047" y="1953"/>
                </a:lnTo>
                <a:lnTo>
                  <a:pt x="2049" y="1953"/>
                </a:lnTo>
                <a:lnTo>
                  <a:pt x="2051" y="1953"/>
                </a:lnTo>
                <a:lnTo>
                  <a:pt x="2053" y="1953"/>
                </a:lnTo>
                <a:lnTo>
                  <a:pt x="2055" y="1953"/>
                </a:lnTo>
                <a:lnTo>
                  <a:pt x="2057" y="1953"/>
                </a:lnTo>
                <a:lnTo>
                  <a:pt x="2059" y="1953"/>
                </a:lnTo>
                <a:lnTo>
                  <a:pt x="2061" y="1953"/>
                </a:lnTo>
                <a:lnTo>
                  <a:pt x="2063" y="1953"/>
                </a:lnTo>
                <a:lnTo>
                  <a:pt x="2065" y="1953"/>
                </a:lnTo>
                <a:lnTo>
                  <a:pt x="2067" y="1953"/>
                </a:lnTo>
                <a:lnTo>
                  <a:pt x="2069" y="1953"/>
                </a:lnTo>
                <a:lnTo>
                  <a:pt x="2071" y="1953"/>
                </a:lnTo>
                <a:lnTo>
                  <a:pt x="2073" y="1953"/>
                </a:lnTo>
                <a:lnTo>
                  <a:pt x="2075" y="1953"/>
                </a:lnTo>
                <a:lnTo>
                  <a:pt x="2077" y="1953"/>
                </a:lnTo>
                <a:lnTo>
                  <a:pt x="2079" y="1953"/>
                </a:lnTo>
                <a:lnTo>
                  <a:pt x="2081" y="1953"/>
                </a:lnTo>
                <a:lnTo>
                  <a:pt x="2083" y="1953"/>
                </a:lnTo>
                <a:lnTo>
                  <a:pt x="2085" y="1953"/>
                </a:lnTo>
                <a:lnTo>
                  <a:pt x="2087" y="1953"/>
                </a:lnTo>
                <a:lnTo>
                  <a:pt x="2089" y="1953"/>
                </a:lnTo>
                <a:lnTo>
                  <a:pt x="2091" y="1953"/>
                </a:lnTo>
                <a:lnTo>
                  <a:pt x="2093" y="1953"/>
                </a:lnTo>
                <a:lnTo>
                  <a:pt x="2095" y="1953"/>
                </a:lnTo>
                <a:lnTo>
                  <a:pt x="2097" y="1953"/>
                </a:lnTo>
                <a:lnTo>
                  <a:pt x="2099" y="1953"/>
                </a:lnTo>
                <a:lnTo>
                  <a:pt x="2101" y="1953"/>
                </a:lnTo>
                <a:lnTo>
                  <a:pt x="2103" y="1953"/>
                </a:lnTo>
                <a:lnTo>
                  <a:pt x="2105" y="1953"/>
                </a:lnTo>
                <a:lnTo>
                  <a:pt x="2107" y="1953"/>
                </a:lnTo>
                <a:lnTo>
                  <a:pt x="2109" y="1954"/>
                </a:lnTo>
                <a:lnTo>
                  <a:pt x="2111" y="1954"/>
                </a:lnTo>
                <a:lnTo>
                  <a:pt x="2113" y="1954"/>
                </a:lnTo>
                <a:lnTo>
                  <a:pt x="2115" y="1954"/>
                </a:lnTo>
                <a:lnTo>
                  <a:pt x="2117" y="1954"/>
                </a:lnTo>
                <a:lnTo>
                  <a:pt x="2119" y="1954"/>
                </a:lnTo>
                <a:lnTo>
                  <a:pt x="2121" y="1954"/>
                </a:lnTo>
                <a:lnTo>
                  <a:pt x="2123" y="1954"/>
                </a:lnTo>
                <a:lnTo>
                  <a:pt x="2125" y="1954"/>
                </a:lnTo>
                <a:lnTo>
                  <a:pt x="2127" y="1953"/>
                </a:lnTo>
                <a:lnTo>
                  <a:pt x="2129" y="1953"/>
                </a:lnTo>
                <a:lnTo>
                  <a:pt x="2131" y="1953"/>
                </a:lnTo>
                <a:lnTo>
                  <a:pt x="2133" y="1953"/>
                </a:lnTo>
                <a:lnTo>
                  <a:pt x="2135" y="1953"/>
                </a:lnTo>
                <a:lnTo>
                  <a:pt x="2137" y="1953"/>
                </a:lnTo>
                <a:lnTo>
                  <a:pt x="2139" y="1953"/>
                </a:lnTo>
                <a:lnTo>
                  <a:pt x="2141" y="1953"/>
                </a:lnTo>
                <a:lnTo>
                  <a:pt x="2143" y="1953"/>
                </a:lnTo>
                <a:lnTo>
                  <a:pt x="2145" y="1953"/>
                </a:lnTo>
                <a:lnTo>
                  <a:pt x="2147" y="1953"/>
                </a:lnTo>
                <a:lnTo>
                  <a:pt x="2149" y="1953"/>
                </a:lnTo>
                <a:lnTo>
                  <a:pt x="2151" y="1953"/>
                </a:lnTo>
                <a:lnTo>
                  <a:pt x="2153" y="1953"/>
                </a:lnTo>
                <a:lnTo>
                  <a:pt x="2155" y="1953"/>
                </a:lnTo>
                <a:lnTo>
                  <a:pt x="2157" y="1953"/>
                </a:lnTo>
                <a:lnTo>
                  <a:pt x="2159" y="1953"/>
                </a:lnTo>
                <a:lnTo>
                  <a:pt x="2161" y="1953"/>
                </a:lnTo>
                <a:lnTo>
                  <a:pt x="2163" y="1953"/>
                </a:lnTo>
                <a:lnTo>
                  <a:pt x="2165" y="1953"/>
                </a:lnTo>
                <a:lnTo>
                  <a:pt x="2167" y="1953"/>
                </a:lnTo>
                <a:lnTo>
                  <a:pt x="2169" y="1954"/>
                </a:lnTo>
                <a:lnTo>
                  <a:pt x="2171" y="1954"/>
                </a:lnTo>
                <a:lnTo>
                  <a:pt x="2173" y="1954"/>
                </a:lnTo>
                <a:lnTo>
                  <a:pt x="2175" y="1954"/>
                </a:lnTo>
                <a:lnTo>
                  <a:pt x="2177" y="1954"/>
                </a:lnTo>
                <a:lnTo>
                  <a:pt x="2179" y="1954"/>
                </a:lnTo>
                <a:lnTo>
                  <a:pt x="2181" y="1954"/>
                </a:lnTo>
                <a:lnTo>
                  <a:pt x="2183" y="1954"/>
                </a:lnTo>
                <a:lnTo>
                  <a:pt x="2185" y="1954"/>
                </a:lnTo>
                <a:lnTo>
                  <a:pt x="2187" y="1954"/>
                </a:lnTo>
                <a:lnTo>
                  <a:pt x="2189" y="1954"/>
                </a:lnTo>
                <a:lnTo>
                  <a:pt x="2191" y="1954"/>
                </a:lnTo>
                <a:lnTo>
                  <a:pt x="2193" y="1954"/>
                </a:lnTo>
                <a:lnTo>
                  <a:pt x="2195" y="1954"/>
                </a:lnTo>
                <a:lnTo>
                  <a:pt x="2197" y="1954"/>
                </a:lnTo>
                <a:lnTo>
                  <a:pt x="2198" y="1954"/>
                </a:lnTo>
                <a:lnTo>
                  <a:pt x="2200" y="1954"/>
                </a:lnTo>
                <a:lnTo>
                  <a:pt x="2202" y="1954"/>
                </a:lnTo>
                <a:lnTo>
                  <a:pt x="2204" y="1954"/>
                </a:lnTo>
                <a:lnTo>
                  <a:pt x="2206" y="1954"/>
                </a:lnTo>
                <a:lnTo>
                  <a:pt x="2208" y="1954"/>
                </a:lnTo>
                <a:lnTo>
                  <a:pt x="2210" y="1954"/>
                </a:lnTo>
                <a:lnTo>
                  <a:pt x="2212" y="1954"/>
                </a:lnTo>
                <a:lnTo>
                  <a:pt x="2214" y="1954"/>
                </a:lnTo>
                <a:lnTo>
                  <a:pt x="2216" y="1954"/>
                </a:lnTo>
                <a:lnTo>
                  <a:pt x="2218" y="1953"/>
                </a:lnTo>
                <a:lnTo>
                  <a:pt x="2220" y="1954"/>
                </a:lnTo>
                <a:lnTo>
                  <a:pt x="2222" y="1953"/>
                </a:lnTo>
                <a:lnTo>
                  <a:pt x="2224" y="1953"/>
                </a:lnTo>
                <a:lnTo>
                  <a:pt x="2226" y="1953"/>
                </a:lnTo>
                <a:lnTo>
                  <a:pt x="2228" y="1953"/>
                </a:lnTo>
                <a:lnTo>
                  <a:pt x="2230" y="1953"/>
                </a:lnTo>
                <a:lnTo>
                  <a:pt x="2232" y="1953"/>
                </a:lnTo>
                <a:lnTo>
                  <a:pt x="2234" y="1953"/>
                </a:lnTo>
                <a:lnTo>
                  <a:pt x="2236" y="1953"/>
                </a:lnTo>
                <a:lnTo>
                  <a:pt x="2238" y="1953"/>
                </a:lnTo>
                <a:lnTo>
                  <a:pt x="2240" y="1953"/>
                </a:lnTo>
                <a:lnTo>
                  <a:pt x="2242" y="1953"/>
                </a:lnTo>
                <a:lnTo>
                  <a:pt x="2244" y="1953"/>
                </a:lnTo>
                <a:lnTo>
                  <a:pt x="2246" y="1953"/>
                </a:lnTo>
                <a:lnTo>
                  <a:pt x="2248" y="1953"/>
                </a:lnTo>
                <a:lnTo>
                  <a:pt x="2250" y="1953"/>
                </a:lnTo>
                <a:lnTo>
                  <a:pt x="2252" y="1953"/>
                </a:lnTo>
                <a:lnTo>
                  <a:pt x="2254" y="1953"/>
                </a:lnTo>
                <a:lnTo>
                  <a:pt x="2256" y="1953"/>
                </a:lnTo>
                <a:lnTo>
                  <a:pt x="2258" y="1953"/>
                </a:lnTo>
                <a:lnTo>
                  <a:pt x="2260" y="1953"/>
                </a:lnTo>
                <a:lnTo>
                  <a:pt x="2262" y="1953"/>
                </a:lnTo>
                <a:lnTo>
                  <a:pt x="2264" y="1953"/>
                </a:lnTo>
                <a:lnTo>
                  <a:pt x="2266" y="1953"/>
                </a:lnTo>
                <a:lnTo>
                  <a:pt x="2268" y="1953"/>
                </a:lnTo>
                <a:lnTo>
                  <a:pt x="2270" y="1953"/>
                </a:lnTo>
                <a:lnTo>
                  <a:pt x="2272" y="1953"/>
                </a:lnTo>
                <a:lnTo>
                  <a:pt x="2274" y="1953"/>
                </a:lnTo>
                <a:lnTo>
                  <a:pt x="2276" y="1953"/>
                </a:lnTo>
                <a:lnTo>
                  <a:pt x="2278" y="1953"/>
                </a:lnTo>
                <a:lnTo>
                  <a:pt x="2280" y="1953"/>
                </a:lnTo>
                <a:lnTo>
                  <a:pt x="2282" y="1953"/>
                </a:lnTo>
                <a:lnTo>
                  <a:pt x="2284" y="1953"/>
                </a:lnTo>
                <a:lnTo>
                  <a:pt x="2286" y="1953"/>
                </a:lnTo>
                <a:lnTo>
                  <a:pt x="2288" y="1953"/>
                </a:lnTo>
                <a:lnTo>
                  <a:pt x="2290" y="1953"/>
                </a:lnTo>
                <a:lnTo>
                  <a:pt x="2292" y="1953"/>
                </a:lnTo>
                <a:lnTo>
                  <a:pt x="2294" y="1952"/>
                </a:lnTo>
                <a:lnTo>
                  <a:pt x="2296" y="1952"/>
                </a:lnTo>
                <a:lnTo>
                  <a:pt x="2298" y="1952"/>
                </a:lnTo>
                <a:lnTo>
                  <a:pt x="2300" y="1951"/>
                </a:lnTo>
                <a:lnTo>
                  <a:pt x="2302" y="1951"/>
                </a:lnTo>
                <a:lnTo>
                  <a:pt x="2304" y="1950"/>
                </a:lnTo>
                <a:lnTo>
                  <a:pt x="2306" y="1949"/>
                </a:lnTo>
                <a:lnTo>
                  <a:pt x="2308" y="1947"/>
                </a:lnTo>
                <a:lnTo>
                  <a:pt x="2310" y="1946"/>
                </a:lnTo>
                <a:lnTo>
                  <a:pt x="2312" y="1944"/>
                </a:lnTo>
                <a:lnTo>
                  <a:pt x="2314" y="1942"/>
                </a:lnTo>
                <a:lnTo>
                  <a:pt x="2316" y="1939"/>
                </a:lnTo>
                <a:lnTo>
                  <a:pt x="2318" y="1935"/>
                </a:lnTo>
                <a:lnTo>
                  <a:pt x="2320" y="1931"/>
                </a:lnTo>
                <a:lnTo>
                  <a:pt x="2322" y="1926"/>
                </a:lnTo>
                <a:lnTo>
                  <a:pt x="2324" y="1921"/>
                </a:lnTo>
                <a:lnTo>
                  <a:pt x="2326" y="1914"/>
                </a:lnTo>
                <a:lnTo>
                  <a:pt x="2328" y="1906"/>
                </a:lnTo>
                <a:lnTo>
                  <a:pt x="2330" y="1897"/>
                </a:lnTo>
                <a:lnTo>
                  <a:pt x="2332" y="1886"/>
                </a:lnTo>
                <a:lnTo>
                  <a:pt x="2334" y="1874"/>
                </a:lnTo>
                <a:lnTo>
                  <a:pt x="2336" y="1859"/>
                </a:lnTo>
                <a:lnTo>
                  <a:pt x="2338" y="1843"/>
                </a:lnTo>
                <a:lnTo>
                  <a:pt x="2340" y="1826"/>
                </a:lnTo>
                <a:lnTo>
                  <a:pt x="2342" y="1807"/>
                </a:lnTo>
                <a:lnTo>
                  <a:pt x="2344" y="1784"/>
                </a:lnTo>
                <a:lnTo>
                  <a:pt x="2346" y="1759"/>
                </a:lnTo>
                <a:lnTo>
                  <a:pt x="2348" y="1735"/>
                </a:lnTo>
                <a:lnTo>
                  <a:pt x="2350" y="1706"/>
                </a:lnTo>
                <a:lnTo>
                  <a:pt x="2352" y="1673"/>
                </a:lnTo>
                <a:lnTo>
                  <a:pt x="2354" y="1641"/>
                </a:lnTo>
                <a:lnTo>
                  <a:pt x="2356" y="1602"/>
                </a:lnTo>
                <a:lnTo>
                  <a:pt x="2358" y="1566"/>
                </a:lnTo>
                <a:lnTo>
                  <a:pt x="2360" y="1522"/>
                </a:lnTo>
                <a:lnTo>
                  <a:pt x="2362" y="1481"/>
                </a:lnTo>
                <a:lnTo>
                  <a:pt x="2364" y="1433"/>
                </a:lnTo>
                <a:lnTo>
                  <a:pt x="2366" y="1389"/>
                </a:lnTo>
                <a:lnTo>
                  <a:pt x="2367" y="1338"/>
                </a:lnTo>
                <a:lnTo>
                  <a:pt x="2369" y="1290"/>
                </a:lnTo>
                <a:lnTo>
                  <a:pt x="2371" y="1238"/>
                </a:lnTo>
                <a:lnTo>
                  <a:pt x="2373" y="1187"/>
                </a:lnTo>
                <a:lnTo>
                  <a:pt x="2375" y="1137"/>
                </a:lnTo>
                <a:lnTo>
                  <a:pt x="2377" y="1084"/>
                </a:lnTo>
                <a:lnTo>
                  <a:pt x="2379" y="1036"/>
                </a:lnTo>
                <a:lnTo>
                  <a:pt x="2381" y="985"/>
                </a:lnTo>
                <a:lnTo>
                  <a:pt x="2383" y="937"/>
                </a:lnTo>
                <a:lnTo>
                  <a:pt x="2385" y="892"/>
                </a:lnTo>
                <a:lnTo>
                  <a:pt x="2387" y="847"/>
                </a:lnTo>
                <a:lnTo>
                  <a:pt x="2389" y="808"/>
                </a:lnTo>
                <a:lnTo>
                  <a:pt x="2391" y="770"/>
                </a:lnTo>
                <a:lnTo>
                  <a:pt x="2393" y="737"/>
                </a:lnTo>
                <a:lnTo>
                  <a:pt x="2395" y="708"/>
                </a:lnTo>
                <a:lnTo>
                  <a:pt x="2397" y="681"/>
                </a:lnTo>
                <a:lnTo>
                  <a:pt x="2399" y="661"/>
                </a:lnTo>
                <a:lnTo>
                  <a:pt x="2401" y="645"/>
                </a:lnTo>
                <a:lnTo>
                  <a:pt x="2403" y="634"/>
                </a:lnTo>
                <a:lnTo>
                  <a:pt x="2405" y="628"/>
                </a:lnTo>
                <a:lnTo>
                  <a:pt x="2407" y="627"/>
                </a:lnTo>
                <a:lnTo>
                  <a:pt x="2409" y="631"/>
                </a:lnTo>
                <a:lnTo>
                  <a:pt x="2411" y="640"/>
                </a:lnTo>
                <a:lnTo>
                  <a:pt x="2413" y="654"/>
                </a:lnTo>
                <a:lnTo>
                  <a:pt x="2415" y="673"/>
                </a:lnTo>
                <a:lnTo>
                  <a:pt x="2417" y="697"/>
                </a:lnTo>
                <a:lnTo>
                  <a:pt x="2419" y="724"/>
                </a:lnTo>
                <a:lnTo>
                  <a:pt x="2421" y="755"/>
                </a:lnTo>
                <a:lnTo>
                  <a:pt x="2423" y="791"/>
                </a:lnTo>
                <a:lnTo>
                  <a:pt x="2425" y="829"/>
                </a:lnTo>
                <a:lnTo>
                  <a:pt x="2427" y="870"/>
                </a:lnTo>
                <a:lnTo>
                  <a:pt x="2429" y="913"/>
                </a:lnTo>
                <a:lnTo>
                  <a:pt x="2431" y="958"/>
                </a:lnTo>
                <a:lnTo>
                  <a:pt x="2433" y="1005"/>
                </a:lnTo>
                <a:lnTo>
                  <a:pt x="2435" y="1052"/>
                </a:lnTo>
                <a:lnTo>
                  <a:pt x="2437" y="1100"/>
                </a:lnTo>
                <a:lnTo>
                  <a:pt x="2439" y="1149"/>
                </a:lnTo>
                <a:lnTo>
                  <a:pt x="2441" y="1196"/>
                </a:lnTo>
                <a:lnTo>
                  <a:pt x="2443" y="1244"/>
                </a:lnTo>
                <a:lnTo>
                  <a:pt x="2445" y="1291"/>
                </a:lnTo>
                <a:lnTo>
                  <a:pt x="2447" y="1335"/>
                </a:lnTo>
                <a:lnTo>
                  <a:pt x="2449" y="1380"/>
                </a:lnTo>
                <a:lnTo>
                  <a:pt x="2451" y="1422"/>
                </a:lnTo>
                <a:lnTo>
                  <a:pt x="2453" y="1463"/>
                </a:lnTo>
                <a:lnTo>
                  <a:pt x="2455" y="1501"/>
                </a:lnTo>
                <a:lnTo>
                  <a:pt x="2457" y="1538"/>
                </a:lnTo>
                <a:lnTo>
                  <a:pt x="2459" y="1574"/>
                </a:lnTo>
                <a:lnTo>
                  <a:pt x="2461" y="1605"/>
                </a:lnTo>
                <a:lnTo>
                  <a:pt x="2463" y="1637"/>
                </a:lnTo>
                <a:lnTo>
                  <a:pt x="2465" y="1665"/>
                </a:lnTo>
                <a:lnTo>
                  <a:pt x="2467" y="1691"/>
                </a:lnTo>
                <a:lnTo>
                  <a:pt x="2469" y="1716"/>
                </a:lnTo>
                <a:lnTo>
                  <a:pt x="2471" y="1739"/>
                </a:lnTo>
                <a:lnTo>
                  <a:pt x="2473" y="1758"/>
                </a:lnTo>
                <a:lnTo>
                  <a:pt x="2475" y="1777"/>
                </a:lnTo>
                <a:lnTo>
                  <a:pt x="2477" y="1796"/>
                </a:lnTo>
                <a:lnTo>
                  <a:pt x="2479" y="1811"/>
                </a:lnTo>
                <a:lnTo>
                  <a:pt x="2481" y="1825"/>
                </a:lnTo>
                <a:lnTo>
                  <a:pt x="2483" y="1838"/>
                </a:lnTo>
                <a:lnTo>
                  <a:pt x="2485" y="1848"/>
                </a:lnTo>
                <a:lnTo>
                  <a:pt x="2487" y="1858"/>
                </a:lnTo>
                <a:lnTo>
                  <a:pt x="2489" y="1869"/>
                </a:lnTo>
                <a:lnTo>
                  <a:pt x="2491" y="1877"/>
                </a:lnTo>
                <a:lnTo>
                  <a:pt x="2493" y="1884"/>
                </a:lnTo>
                <a:lnTo>
                  <a:pt x="2495" y="1891"/>
                </a:lnTo>
                <a:lnTo>
                  <a:pt x="2497" y="1896"/>
                </a:lnTo>
                <a:lnTo>
                  <a:pt x="2499" y="1901"/>
                </a:lnTo>
                <a:lnTo>
                  <a:pt x="2501" y="1906"/>
                </a:lnTo>
                <a:lnTo>
                  <a:pt x="2503" y="1910"/>
                </a:lnTo>
                <a:lnTo>
                  <a:pt x="2505" y="1913"/>
                </a:lnTo>
                <a:lnTo>
                  <a:pt x="2507" y="1916"/>
                </a:lnTo>
                <a:lnTo>
                  <a:pt x="2509" y="1919"/>
                </a:lnTo>
                <a:lnTo>
                  <a:pt x="2511" y="1922"/>
                </a:lnTo>
                <a:lnTo>
                  <a:pt x="2513" y="1924"/>
                </a:lnTo>
                <a:lnTo>
                  <a:pt x="2515" y="1926"/>
                </a:lnTo>
                <a:lnTo>
                  <a:pt x="2517" y="1927"/>
                </a:lnTo>
                <a:lnTo>
                  <a:pt x="2519" y="1929"/>
                </a:lnTo>
                <a:lnTo>
                  <a:pt x="2521" y="1930"/>
                </a:lnTo>
                <a:lnTo>
                  <a:pt x="2523" y="1932"/>
                </a:lnTo>
                <a:lnTo>
                  <a:pt x="2525" y="1933"/>
                </a:lnTo>
                <a:lnTo>
                  <a:pt x="2527" y="1934"/>
                </a:lnTo>
                <a:lnTo>
                  <a:pt x="2529" y="1935"/>
                </a:lnTo>
                <a:lnTo>
                  <a:pt x="2531" y="1935"/>
                </a:lnTo>
                <a:lnTo>
                  <a:pt x="2533" y="1936"/>
                </a:lnTo>
                <a:lnTo>
                  <a:pt x="2535" y="1937"/>
                </a:lnTo>
                <a:lnTo>
                  <a:pt x="2536" y="1937"/>
                </a:lnTo>
                <a:lnTo>
                  <a:pt x="2538" y="1938"/>
                </a:lnTo>
                <a:lnTo>
                  <a:pt x="2540" y="1937"/>
                </a:lnTo>
                <a:lnTo>
                  <a:pt x="2542" y="1940"/>
                </a:lnTo>
                <a:lnTo>
                  <a:pt x="2544" y="1941"/>
                </a:lnTo>
                <a:lnTo>
                  <a:pt x="2546" y="1942"/>
                </a:lnTo>
                <a:lnTo>
                  <a:pt x="2548" y="1942"/>
                </a:lnTo>
                <a:lnTo>
                  <a:pt x="2550" y="1942"/>
                </a:lnTo>
                <a:lnTo>
                  <a:pt x="2552" y="1943"/>
                </a:lnTo>
                <a:lnTo>
                  <a:pt x="2554" y="1943"/>
                </a:lnTo>
                <a:lnTo>
                  <a:pt x="2556" y="1943"/>
                </a:lnTo>
                <a:lnTo>
                  <a:pt x="2558" y="1944"/>
                </a:lnTo>
                <a:lnTo>
                  <a:pt x="2560" y="1944"/>
                </a:lnTo>
                <a:lnTo>
                  <a:pt x="2562" y="1944"/>
                </a:lnTo>
                <a:lnTo>
                  <a:pt x="2564" y="1945"/>
                </a:lnTo>
                <a:lnTo>
                  <a:pt x="2566" y="1945"/>
                </a:lnTo>
                <a:lnTo>
                  <a:pt x="2568" y="1945"/>
                </a:lnTo>
                <a:lnTo>
                  <a:pt x="2570" y="1945"/>
                </a:lnTo>
                <a:lnTo>
                  <a:pt x="2572" y="1946"/>
                </a:lnTo>
                <a:lnTo>
                  <a:pt x="2574" y="1946"/>
                </a:lnTo>
                <a:lnTo>
                  <a:pt x="2576" y="1946"/>
                </a:lnTo>
                <a:lnTo>
                  <a:pt x="2578" y="1946"/>
                </a:lnTo>
                <a:lnTo>
                  <a:pt x="2580" y="1946"/>
                </a:lnTo>
                <a:lnTo>
                  <a:pt x="2582" y="1946"/>
                </a:lnTo>
                <a:lnTo>
                  <a:pt x="2584" y="1946"/>
                </a:lnTo>
                <a:lnTo>
                  <a:pt x="2586" y="1947"/>
                </a:lnTo>
                <a:lnTo>
                  <a:pt x="2588" y="1947"/>
                </a:lnTo>
                <a:lnTo>
                  <a:pt x="2590" y="1947"/>
                </a:lnTo>
                <a:lnTo>
                  <a:pt x="2592" y="1947"/>
                </a:lnTo>
                <a:lnTo>
                  <a:pt x="2594" y="1947"/>
                </a:lnTo>
                <a:lnTo>
                  <a:pt x="2596" y="1947"/>
                </a:lnTo>
                <a:lnTo>
                  <a:pt x="2598" y="1947"/>
                </a:lnTo>
                <a:lnTo>
                  <a:pt x="2600" y="1947"/>
                </a:lnTo>
                <a:lnTo>
                  <a:pt x="2602" y="1947"/>
                </a:lnTo>
                <a:lnTo>
                  <a:pt x="2604" y="1948"/>
                </a:lnTo>
                <a:lnTo>
                  <a:pt x="2606" y="1948"/>
                </a:lnTo>
                <a:lnTo>
                  <a:pt x="2608" y="1948"/>
                </a:lnTo>
                <a:lnTo>
                  <a:pt x="2610" y="1948"/>
                </a:lnTo>
                <a:lnTo>
                  <a:pt x="2612" y="1948"/>
                </a:lnTo>
                <a:lnTo>
                  <a:pt x="2614" y="1948"/>
                </a:lnTo>
                <a:lnTo>
                  <a:pt x="2616" y="1948"/>
                </a:lnTo>
                <a:lnTo>
                  <a:pt x="2618" y="1948"/>
                </a:lnTo>
                <a:lnTo>
                  <a:pt x="2620" y="1948"/>
                </a:lnTo>
                <a:lnTo>
                  <a:pt x="2622" y="1948"/>
                </a:lnTo>
                <a:lnTo>
                  <a:pt x="2624" y="1948"/>
                </a:lnTo>
                <a:lnTo>
                  <a:pt x="2626" y="1948"/>
                </a:lnTo>
                <a:lnTo>
                  <a:pt x="2628" y="1948"/>
                </a:lnTo>
                <a:lnTo>
                  <a:pt x="2630" y="1948"/>
                </a:lnTo>
                <a:lnTo>
                  <a:pt x="2632" y="1948"/>
                </a:lnTo>
                <a:lnTo>
                  <a:pt x="2634" y="1948"/>
                </a:lnTo>
                <a:lnTo>
                  <a:pt x="2636" y="1948"/>
                </a:lnTo>
                <a:lnTo>
                  <a:pt x="2638" y="1948"/>
                </a:lnTo>
                <a:lnTo>
                  <a:pt x="2640" y="1948"/>
                </a:lnTo>
                <a:lnTo>
                  <a:pt x="2642" y="1948"/>
                </a:lnTo>
                <a:lnTo>
                  <a:pt x="2644" y="1948"/>
                </a:lnTo>
                <a:lnTo>
                  <a:pt x="2646" y="1948"/>
                </a:lnTo>
                <a:lnTo>
                  <a:pt x="2648" y="1948"/>
                </a:lnTo>
                <a:lnTo>
                  <a:pt x="2650" y="1949"/>
                </a:lnTo>
                <a:lnTo>
                  <a:pt x="2652" y="1949"/>
                </a:lnTo>
                <a:lnTo>
                  <a:pt x="2654" y="1949"/>
                </a:lnTo>
                <a:lnTo>
                  <a:pt x="2656" y="1949"/>
                </a:lnTo>
                <a:lnTo>
                  <a:pt x="2658" y="1949"/>
                </a:lnTo>
                <a:lnTo>
                  <a:pt x="2660" y="1949"/>
                </a:lnTo>
                <a:lnTo>
                  <a:pt x="2662" y="1949"/>
                </a:lnTo>
                <a:lnTo>
                  <a:pt x="2664" y="1949"/>
                </a:lnTo>
                <a:lnTo>
                  <a:pt x="2666" y="1949"/>
                </a:lnTo>
                <a:lnTo>
                  <a:pt x="2668" y="1949"/>
                </a:lnTo>
                <a:lnTo>
                  <a:pt x="2670" y="1949"/>
                </a:lnTo>
                <a:lnTo>
                  <a:pt x="2672" y="1949"/>
                </a:lnTo>
                <a:lnTo>
                  <a:pt x="2674" y="1949"/>
                </a:lnTo>
                <a:lnTo>
                  <a:pt x="2676" y="1949"/>
                </a:lnTo>
                <a:lnTo>
                  <a:pt x="2678" y="1949"/>
                </a:lnTo>
                <a:lnTo>
                  <a:pt x="2680" y="1949"/>
                </a:lnTo>
                <a:lnTo>
                  <a:pt x="2682" y="1949"/>
                </a:lnTo>
                <a:lnTo>
                  <a:pt x="2684" y="1949"/>
                </a:lnTo>
                <a:lnTo>
                  <a:pt x="2686" y="1949"/>
                </a:lnTo>
                <a:lnTo>
                  <a:pt x="2688" y="1949"/>
                </a:lnTo>
                <a:lnTo>
                  <a:pt x="2690" y="1949"/>
                </a:lnTo>
                <a:lnTo>
                  <a:pt x="2692" y="1949"/>
                </a:lnTo>
                <a:lnTo>
                  <a:pt x="2694" y="1949"/>
                </a:lnTo>
                <a:lnTo>
                  <a:pt x="2696" y="1949"/>
                </a:lnTo>
                <a:lnTo>
                  <a:pt x="2698" y="1949"/>
                </a:lnTo>
                <a:lnTo>
                  <a:pt x="2700" y="1949"/>
                </a:lnTo>
                <a:lnTo>
                  <a:pt x="2702" y="1949"/>
                </a:lnTo>
                <a:lnTo>
                  <a:pt x="2704" y="1949"/>
                </a:lnTo>
                <a:lnTo>
                  <a:pt x="2705" y="1950"/>
                </a:lnTo>
                <a:lnTo>
                  <a:pt x="2707" y="1950"/>
                </a:lnTo>
                <a:lnTo>
                  <a:pt x="2709" y="1950"/>
                </a:lnTo>
                <a:lnTo>
                  <a:pt x="2711" y="1950"/>
                </a:lnTo>
                <a:lnTo>
                  <a:pt x="2713" y="1950"/>
                </a:lnTo>
                <a:lnTo>
                  <a:pt x="2715" y="1950"/>
                </a:lnTo>
                <a:lnTo>
                  <a:pt x="2717" y="1950"/>
                </a:lnTo>
                <a:lnTo>
                  <a:pt x="2719" y="1950"/>
                </a:lnTo>
                <a:lnTo>
                  <a:pt x="2721" y="1950"/>
                </a:lnTo>
                <a:lnTo>
                  <a:pt x="2723" y="1950"/>
                </a:lnTo>
                <a:lnTo>
                  <a:pt x="2725" y="1950"/>
                </a:lnTo>
                <a:lnTo>
                  <a:pt x="2727" y="1950"/>
                </a:lnTo>
                <a:lnTo>
                  <a:pt x="2729" y="1950"/>
                </a:lnTo>
                <a:lnTo>
                  <a:pt x="2731" y="1950"/>
                </a:lnTo>
                <a:lnTo>
                  <a:pt x="2733" y="1950"/>
                </a:lnTo>
                <a:lnTo>
                  <a:pt x="2735" y="1950"/>
                </a:lnTo>
                <a:lnTo>
                  <a:pt x="2737" y="1950"/>
                </a:lnTo>
                <a:lnTo>
                  <a:pt x="2739" y="1950"/>
                </a:lnTo>
                <a:lnTo>
                  <a:pt x="2741" y="1950"/>
                </a:lnTo>
                <a:lnTo>
                  <a:pt x="2743" y="1950"/>
                </a:lnTo>
                <a:lnTo>
                  <a:pt x="2745" y="1950"/>
                </a:lnTo>
                <a:lnTo>
                  <a:pt x="2747" y="1950"/>
                </a:lnTo>
                <a:lnTo>
                  <a:pt x="2749" y="1950"/>
                </a:lnTo>
                <a:lnTo>
                  <a:pt x="2751" y="1950"/>
                </a:lnTo>
                <a:lnTo>
                  <a:pt x="2753" y="1950"/>
                </a:lnTo>
                <a:lnTo>
                  <a:pt x="2755" y="1950"/>
                </a:lnTo>
                <a:lnTo>
                  <a:pt x="2757" y="1950"/>
                </a:lnTo>
                <a:lnTo>
                  <a:pt x="2759" y="1950"/>
                </a:lnTo>
                <a:lnTo>
                  <a:pt x="2761" y="1950"/>
                </a:lnTo>
                <a:lnTo>
                  <a:pt x="2763" y="1950"/>
                </a:lnTo>
                <a:lnTo>
                  <a:pt x="2765" y="1950"/>
                </a:lnTo>
                <a:lnTo>
                  <a:pt x="2767" y="1950"/>
                </a:lnTo>
                <a:lnTo>
                  <a:pt x="2769" y="1950"/>
                </a:lnTo>
                <a:lnTo>
                  <a:pt x="2771" y="1950"/>
                </a:lnTo>
                <a:lnTo>
                  <a:pt x="2773" y="1950"/>
                </a:lnTo>
                <a:lnTo>
                  <a:pt x="2775" y="1950"/>
                </a:lnTo>
                <a:lnTo>
                  <a:pt x="2777" y="1950"/>
                </a:lnTo>
                <a:lnTo>
                  <a:pt x="2779" y="1950"/>
                </a:lnTo>
                <a:lnTo>
                  <a:pt x="2781" y="1950"/>
                </a:lnTo>
                <a:lnTo>
                  <a:pt x="2783" y="1950"/>
                </a:lnTo>
                <a:lnTo>
                  <a:pt x="2785" y="1950"/>
                </a:lnTo>
                <a:lnTo>
                  <a:pt x="2787" y="1950"/>
                </a:lnTo>
                <a:lnTo>
                  <a:pt x="2789" y="1950"/>
                </a:lnTo>
                <a:lnTo>
                  <a:pt x="2791" y="1950"/>
                </a:lnTo>
                <a:lnTo>
                  <a:pt x="2793" y="1950"/>
                </a:lnTo>
                <a:lnTo>
                  <a:pt x="2795" y="1950"/>
                </a:lnTo>
                <a:lnTo>
                  <a:pt x="2797" y="1950"/>
                </a:lnTo>
                <a:lnTo>
                  <a:pt x="2799" y="1950"/>
                </a:lnTo>
                <a:lnTo>
                  <a:pt x="2801" y="1950"/>
                </a:lnTo>
                <a:lnTo>
                  <a:pt x="2803" y="1950"/>
                </a:lnTo>
                <a:lnTo>
                  <a:pt x="2805" y="1950"/>
                </a:lnTo>
                <a:lnTo>
                  <a:pt x="2807" y="1950"/>
                </a:lnTo>
                <a:lnTo>
                  <a:pt x="2809" y="1950"/>
                </a:lnTo>
                <a:lnTo>
                  <a:pt x="2811" y="1950"/>
                </a:lnTo>
                <a:lnTo>
                  <a:pt x="2813" y="1950"/>
                </a:lnTo>
                <a:lnTo>
                  <a:pt x="2815" y="1950"/>
                </a:lnTo>
                <a:lnTo>
                  <a:pt x="2817" y="1950"/>
                </a:lnTo>
                <a:lnTo>
                  <a:pt x="2819" y="1950"/>
                </a:lnTo>
                <a:lnTo>
                  <a:pt x="2821" y="1950"/>
                </a:lnTo>
                <a:lnTo>
                  <a:pt x="2823" y="1949"/>
                </a:lnTo>
                <a:lnTo>
                  <a:pt x="2825" y="1949"/>
                </a:lnTo>
                <a:lnTo>
                  <a:pt x="2827" y="1948"/>
                </a:lnTo>
                <a:lnTo>
                  <a:pt x="2829" y="1947"/>
                </a:lnTo>
                <a:lnTo>
                  <a:pt x="2831" y="1947"/>
                </a:lnTo>
                <a:lnTo>
                  <a:pt x="2833" y="1945"/>
                </a:lnTo>
                <a:lnTo>
                  <a:pt x="2835" y="1944"/>
                </a:lnTo>
                <a:lnTo>
                  <a:pt x="2837" y="1942"/>
                </a:lnTo>
                <a:lnTo>
                  <a:pt x="2839" y="1940"/>
                </a:lnTo>
                <a:lnTo>
                  <a:pt x="2841" y="1938"/>
                </a:lnTo>
                <a:lnTo>
                  <a:pt x="2843" y="1936"/>
                </a:lnTo>
                <a:lnTo>
                  <a:pt x="2845" y="1932"/>
                </a:lnTo>
                <a:lnTo>
                  <a:pt x="2847" y="1929"/>
                </a:lnTo>
                <a:lnTo>
                  <a:pt x="2849" y="1924"/>
                </a:lnTo>
                <a:lnTo>
                  <a:pt x="2851" y="1919"/>
                </a:lnTo>
                <a:lnTo>
                  <a:pt x="2853" y="1913"/>
                </a:lnTo>
                <a:lnTo>
                  <a:pt x="2855" y="1907"/>
                </a:lnTo>
                <a:lnTo>
                  <a:pt x="2857" y="1899"/>
                </a:lnTo>
                <a:lnTo>
                  <a:pt x="2859" y="1890"/>
                </a:lnTo>
                <a:lnTo>
                  <a:pt x="2861" y="1881"/>
                </a:lnTo>
                <a:lnTo>
                  <a:pt x="2863" y="1870"/>
                </a:lnTo>
                <a:lnTo>
                  <a:pt x="2865" y="1855"/>
                </a:lnTo>
                <a:lnTo>
                  <a:pt x="2867" y="1842"/>
                </a:lnTo>
                <a:lnTo>
                  <a:pt x="2869" y="1827"/>
                </a:lnTo>
                <a:lnTo>
                  <a:pt x="2871" y="1810"/>
                </a:lnTo>
                <a:lnTo>
                  <a:pt x="2873" y="1791"/>
                </a:lnTo>
                <a:lnTo>
                  <a:pt x="2874" y="1767"/>
                </a:lnTo>
                <a:lnTo>
                  <a:pt x="2876" y="1747"/>
                </a:lnTo>
                <a:lnTo>
                  <a:pt x="2878" y="1722"/>
                </a:lnTo>
                <a:lnTo>
                  <a:pt x="2880" y="1693"/>
                </a:lnTo>
                <a:lnTo>
                  <a:pt x="2882" y="1664"/>
                </a:lnTo>
                <a:lnTo>
                  <a:pt x="2884" y="1634"/>
                </a:lnTo>
                <a:lnTo>
                  <a:pt x="2886" y="1597"/>
                </a:lnTo>
                <a:lnTo>
                  <a:pt x="2888" y="1564"/>
                </a:lnTo>
                <a:lnTo>
                  <a:pt x="2890" y="1524"/>
                </a:lnTo>
                <a:lnTo>
                  <a:pt x="2892" y="1485"/>
                </a:lnTo>
                <a:lnTo>
                  <a:pt x="2894" y="1441"/>
                </a:lnTo>
                <a:lnTo>
                  <a:pt x="2896" y="1398"/>
                </a:lnTo>
                <a:lnTo>
                  <a:pt x="2898" y="1349"/>
                </a:lnTo>
                <a:lnTo>
                  <a:pt x="2900" y="1302"/>
                </a:lnTo>
                <a:lnTo>
                  <a:pt x="2902" y="1250"/>
                </a:lnTo>
                <a:lnTo>
                  <a:pt x="2904" y="1199"/>
                </a:lnTo>
                <a:lnTo>
                  <a:pt x="2906" y="1146"/>
                </a:lnTo>
                <a:lnTo>
                  <a:pt x="2908" y="1090"/>
                </a:lnTo>
                <a:lnTo>
                  <a:pt x="2910" y="1037"/>
                </a:lnTo>
                <a:lnTo>
                  <a:pt x="2912" y="980"/>
                </a:lnTo>
                <a:lnTo>
                  <a:pt x="2914" y="923"/>
                </a:lnTo>
                <a:lnTo>
                  <a:pt x="2916" y="868"/>
                </a:lnTo>
                <a:lnTo>
                  <a:pt x="2918" y="812"/>
                </a:lnTo>
                <a:lnTo>
                  <a:pt x="2920" y="755"/>
                </a:lnTo>
                <a:lnTo>
                  <a:pt x="2922" y="702"/>
                </a:lnTo>
                <a:lnTo>
                  <a:pt x="2924" y="648"/>
                </a:lnTo>
                <a:lnTo>
                  <a:pt x="2926" y="595"/>
                </a:lnTo>
                <a:lnTo>
                  <a:pt x="2928" y="546"/>
                </a:lnTo>
                <a:lnTo>
                  <a:pt x="2930" y="495"/>
                </a:lnTo>
                <a:lnTo>
                  <a:pt x="2932" y="450"/>
                </a:lnTo>
                <a:lnTo>
                  <a:pt x="2934" y="405"/>
                </a:lnTo>
                <a:lnTo>
                  <a:pt x="2936" y="365"/>
                </a:lnTo>
                <a:lnTo>
                  <a:pt x="2938" y="326"/>
                </a:lnTo>
                <a:lnTo>
                  <a:pt x="2940" y="294"/>
                </a:lnTo>
                <a:lnTo>
                  <a:pt x="2942" y="262"/>
                </a:lnTo>
                <a:lnTo>
                  <a:pt x="2944" y="237"/>
                </a:lnTo>
                <a:lnTo>
                  <a:pt x="2946" y="215"/>
                </a:lnTo>
                <a:lnTo>
                  <a:pt x="2948" y="197"/>
                </a:lnTo>
                <a:lnTo>
                  <a:pt x="2950" y="183"/>
                </a:lnTo>
                <a:lnTo>
                  <a:pt x="2952" y="171"/>
                </a:lnTo>
                <a:lnTo>
                  <a:pt x="2954" y="167"/>
                </a:lnTo>
                <a:lnTo>
                  <a:pt x="2956" y="166"/>
                </a:lnTo>
                <a:lnTo>
                  <a:pt x="2958" y="169"/>
                </a:lnTo>
                <a:lnTo>
                  <a:pt x="2960" y="177"/>
                </a:lnTo>
                <a:lnTo>
                  <a:pt x="2962" y="189"/>
                </a:lnTo>
                <a:lnTo>
                  <a:pt x="2964" y="205"/>
                </a:lnTo>
                <a:lnTo>
                  <a:pt x="2966" y="225"/>
                </a:lnTo>
                <a:lnTo>
                  <a:pt x="2968" y="248"/>
                </a:lnTo>
                <a:lnTo>
                  <a:pt x="2970" y="276"/>
                </a:lnTo>
                <a:lnTo>
                  <a:pt x="2972" y="308"/>
                </a:lnTo>
                <a:lnTo>
                  <a:pt x="2974" y="341"/>
                </a:lnTo>
                <a:lnTo>
                  <a:pt x="2976" y="380"/>
                </a:lnTo>
                <a:lnTo>
                  <a:pt x="2978" y="419"/>
                </a:lnTo>
                <a:lnTo>
                  <a:pt x="2980" y="462"/>
                </a:lnTo>
                <a:lnTo>
                  <a:pt x="2982" y="506"/>
                </a:lnTo>
                <a:lnTo>
                  <a:pt x="2984" y="553"/>
                </a:lnTo>
                <a:lnTo>
                  <a:pt x="2986" y="600"/>
                </a:lnTo>
                <a:lnTo>
                  <a:pt x="2988" y="650"/>
                </a:lnTo>
                <a:lnTo>
                  <a:pt x="2990" y="699"/>
                </a:lnTo>
                <a:lnTo>
                  <a:pt x="2992" y="750"/>
                </a:lnTo>
                <a:lnTo>
                  <a:pt x="2994" y="801"/>
                </a:lnTo>
                <a:lnTo>
                  <a:pt x="2996" y="852"/>
                </a:lnTo>
                <a:lnTo>
                  <a:pt x="2998" y="903"/>
                </a:lnTo>
                <a:lnTo>
                  <a:pt x="3000" y="954"/>
                </a:lnTo>
                <a:lnTo>
                  <a:pt x="3002" y="1004"/>
                </a:lnTo>
                <a:lnTo>
                  <a:pt x="3004" y="1054"/>
                </a:lnTo>
                <a:lnTo>
                  <a:pt x="3006" y="1102"/>
                </a:lnTo>
                <a:lnTo>
                  <a:pt x="3008" y="1150"/>
                </a:lnTo>
                <a:lnTo>
                  <a:pt x="3010" y="1196"/>
                </a:lnTo>
                <a:lnTo>
                  <a:pt x="3012" y="1240"/>
                </a:lnTo>
                <a:lnTo>
                  <a:pt x="3014" y="1284"/>
                </a:lnTo>
                <a:lnTo>
                  <a:pt x="3016" y="1325"/>
                </a:lnTo>
                <a:lnTo>
                  <a:pt x="3018" y="1365"/>
                </a:lnTo>
                <a:lnTo>
                  <a:pt x="3020" y="1404"/>
                </a:lnTo>
                <a:lnTo>
                  <a:pt x="3022" y="1439"/>
                </a:lnTo>
                <a:lnTo>
                  <a:pt x="3024" y="1475"/>
                </a:lnTo>
                <a:lnTo>
                  <a:pt x="3026" y="1506"/>
                </a:lnTo>
                <a:lnTo>
                  <a:pt x="3028" y="1537"/>
                </a:lnTo>
                <a:lnTo>
                  <a:pt x="3030" y="1567"/>
                </a:lnTo>
                <a:lnTo>
                  <a:pt x="3032" y="1593"/>
                </a:lnTo>
                <a:lnTo>
                  <a:pt x="3034" y="1619"/>
                </a:lnTo>
                <a:lnTo>
                  <a:pt x="3036" y="1644"/>
                </a:lnTo>
                <a:lnTo>
                  <a:pt x="3038" y="1665"/>
                </a:lnTo>
                <a:lnTo>
                  <a:pt x="3040" y="1684"/>
                </a:lnTo>
                <a:lnTo>
                  <a:pt x="3042" y="1705"/>
                </a:lnTo>
                <a:lnTo>
                  <a:pt x="3043" y="1723"/>
                </a:lnTo>
                <a:lnTo>
                  <a:pt x="3045" y="1739"/>
                </a:lnTo>
                <a:lnTo>
                  <a:pt x="3047" y="1754"/>
                </a:lnTo>
                <a:lnTo>
                  <a:pt x="3049" y="1767"/>
                </a:lnTo>
                <a:lnTo>
                  <a:pt x="3051" y="1781"/>
                </a:lnTo>
                <a:lnTo>
                  <a:pt x="3053" y="1794"/>
                </a:lnTo>
                <a:lnTo>
                  <a:pt x="3055" y="1805"/>
                </a:lnTo>
                <a:lnTo>
                  <a:pt x="3057" y="1815"/>
                </a:lnTo>
                <a:lnTo>
                  <a:pt x="3059" y="1824"/>
                </a:lnTo>
                <a:lnTo>
                  <a:pt x="3061" y="1832"/>
                </a:lnTo>
                <a:lnTo>
                  <a:pt x="3063" y="1840"/>
                </a:lnTo>
                <a:lnTo>
                  <a:pt x="3065" y="1846"/>
                </a:lnTo>
                <a:lnTo>
                  <a:pt x="3067" y="1852"/>
                </a:lnTo>
                <a:lnTo>
                  <a:pt x="3069" y="1858"/>
                </a:lnTo>
                <a:lnTo>
                  <a:pt x="3071" y="1865"/>
                </a:lnTo>
                <a:lnTo>
                  <a:pt x="3073" y="1870"/>
                </a:lnTo>
                <a:lnTo>
                  <a:pt x="3075" y="1874"/>
                </a:lnTo>
                <a:lnTo>
                  <a:pt x="3077" y="1878"/>
                </a:lnTo>
                <a:lnTo>
                  <a:pt x="3079" y="1882"/>
                </a:lnTo>
                <a:lnTo>
                  <a:pt x="3081" y="1885"/>
                </a:lnTo>
                <a:lnTo>
                  <a:pt x="3083" y="1888"/>
                </a:lnTo>
                <a:lnTo>
                  <a:pt x="3085" y="1891"/>
                </a:lnTo>
                <a:lnTo>
                  <a:pt x="3087" y="1894"/>
                </a:lnTo>
                <a:lnTo>
                  <a:pt x="3089" y="1896"/>
                </a:lnTo>
                <a:lnTo>
                  <a:pt x="3091" y="1898"/>
                </a:lnTo>
                <a:lnTo>
                  <a:pt x="3093" y="1900"/>
                </a:lnTo>
                <a:lnTo>
                  <a:pt x="3095" y="1902"/>
                </a:lnTo>
                <a:lnTo>
                  <a:pt x="3097" y="1904"/>
                </a:lnTo>
                <a:lnTo>
                  <a:pt x="3099" y="1906"/>
                </a:lnTo>
                <a:lnTo>
                  <a:pt x="3101" y="1907"/>
                </a:lnTo>
                <a:lnTo>
                  <a:pt x="3103" y="1908"/>
                </a:lnTo>
                <a:lnTo>
                  <a:pt x="3105" y="1910"/>
                </a:lnTo>
                <a:lnTo>
                  <a:pt x="3107" y="1911"/>
                </a:lnTo>
                <a:lnTo>
                  <a:pt x="3109" y="1912"/>
                </a:lnTo>
                <a:lnTo>
                  <a:pt x="3111" y="1913"/>
                </a:lnTo>
                <a:lnTo>
                  <a:pt x="3113" y="1914"/>
                </a:lnTo>
                <a:lnTo>
                  <a:pt x="3115" y="1915"/>
                </a:lnTo>
                <a:lnTo>
                  <a:pt x="3117" y="1916"/>
                </a:lnTo>
                <a:lnTo>
                  <a:pt x="3119" y="1916"/>
                </a:lnTo>
                <a:lnTo>
                  <a:pt x="3121" y="1917"/>
                </a:lnTo>
                <a:lnTo>
                  <a:pt x="3123" y="1918"/>
                </a:lnTo>
                <a:lnTo>
                  <a:pt x="3125" y="1919"/>
                </a:lnTo>
                <a:lnTo>
                  <a:pt x="3127" y="1919"/>
                </a:lnTo>
                <a:lnTo>
                  <a:pt x="3129" y="1920"/>
                </a:lnTo>
                <a:lnTo>
                  <a:pt x="3131" y="1921"/>
                </a:lnTo>
                <a:lnTo>
                  <a:pt x="3133" y="1921"/>
                </a:lnTo>
                <a:lnTo>
                  <a:pt x="3135" y="1922"/>
                </a:lnTo>
                <a:lnTo>
                  <a:pt x="3137" y="1923"/>
                </a:lnTo>
                <a:lnTo>
                  <a:pt x="3139" y="1923"/>
                </a:lnTo>
                <a:lnTo>
                  <a:pt x="3141" y="1924"/>
                </a:lnTo>
                <a:lnTo>
                  <a:pt x="3143" y="1924"/>
                </a:lnTo>
                <a:lnTo>
                  <a:pt x="3145" y="1925"/>
                </a:lnTo>
                <a:lnTo>
                  <a:pt x="3147" y="1925"/>
                </a:lnTo>
                <a:lnTo>
                  <a:pt x="3149" y="1926"/>
                </a:lnTo>
                <a:lnTo>
                  <a:pt x="3151" y="1926"/>
                </a:lnTo>
                <a:lnTo>
                  <a:pt x="3153" y="1927"/>
                </a:lnTo>
                <a:lnTo>
                  <a:pt x="3155" y="1927"/>
                </a:lnTo>
                <a:lnTo>
                  <a:pt x="3157" y="1928"/>
                </a:lnTo>
                <a:lnTo>
                  <a:pt x="3159" y="1928"/>
                </a:lnTo>
                <a:lnTo>
                  <a:pt x="3161" y="1929"/>
                </a:lnTo>
                <a:lnTo>
                  <a:pt x="3163" y="1929"/>
                </a:lnTo>
                <a:lnTo>
                  <a:pt x="3165" y="1929"/>
                </a:lnTo>
                <a:lnTo>
                  <a:pt x="3167" y="1930"/>
                </a:lnTo>
                <a:lnTo>
                  <a:pt x="3169" y="1930"/>
                </a:lnTo>
                <a:lnTo>
                  <a:pt x="3171" y="1931"/>
                </a:lnTo>
                <a:lnTo>
                  <a:pt x="3173" y="1931"/>
                </a:lnTo>
                <a:lnTo>
                  <a:pt x="3175" y="1931"/>
                </a:lnTo>
                <a:lnTo>
                  <a:pt x="3177" y="1932"/>
                </a:lnTo>
                <a:lnTo>
                  <a:pt x="3179" y="1932"/>
                </a:lnTo>
                <a:lnTo>
                  <a:pt x="3181" y="1932"/>
                </a:lnTo>
                <a:lnTo>
                  <a:pt x="3183" y="1933"/>
                </a:lnTo>
                <a:lnTo>
                  <a:pt x="3185" y="1933"/>
                </a:lnTo>
                <a:lnTo>
                  <a:pt x="3187" y="1933"/>
                </a:lnTo>
                <a:lnTo>
                  <a:pt x="3189" y="1934"/>
                </a:lnTo>
                <a:lnTo>
                  <a:pt x="3191" y="1934"/>
                </a:lnTo>
                <a:lnTo>
                  <a:pt x="3193" y="1934"/>
                </a:lnTo>
                <a:lnTo>
                  <a:pt x="3195" y="1935"/>
                </a:lnTo>
                <a:lnTo>
                  <a:pt x="3197" y="1935"/>
                </a:lnTo>
                <a:lnTo>
                  <a:pt x="3199" y="1935"/>
                </a:lnTo>
                <a:lnTo>
                  <a:pt x="3201" y="1935"/>
                </a:lnTo>
                <a:lnTo>
                  <a:pt x="3203" y="1936"/>
                </a:lnTo>
                <a:lnTo>
                  <a:pt x="3205" y="1936"/>
                </a:lnTo>
                <a:lnTo>
                  <a:pt x="3207" y="1936"/>
                </a:lnTo>
                <a:lnTo>
                  <a:pt x="3209" y="1936"/>
                </a:lnTo>
                <a:lnTo>
                  <a:pt x="3211" y="1937"/>
                </a:lnTo>
                <a:lnTo>
                  <a:pt x="3212" y="1937"/>
                </a:lnTo>
                <a:lnTo>
                  <a:pt x="3214" y="1937"/>
                </a:lnTo>
                <a:lnTo>
                  <a:pt x="3216" y="1937"/>
                </a:lnTo>
                <a:lnTo>
                  <a:pt x="3218" y="1938"/>
                </a:lnTo>
                <a:lnTo>
                  <a:pt x="3220" y="1938"/>
                </a:lnTo>
                <a:lnTo>
                  <a:pt x="3222" y="1938"/>
                </a:lnTo>
                <a:lnTo>
                  <a:pt x="3224" y="1938"/>
                </a:lnTo>
                <a:lnTo>
                  <a:pt x="3226" y="1938"/>
                </a:lnTo>
                <a:lnTo>
                  <a:pt x="3228" y="1937"/>
                </a:lnTo>
                <a:lnTo>
                  <a:pt x="3230" y="1940"/>
                </a:lnTo>
                <a:lnTo>
                  <a:pt x="3232" y="1940"/>
                </a:lnTo>
                <a:lnTo>
                  <a:pt x="3234" y="1941"/>
                </a:lnTo>
                <a:lnTo>
                  <a:pt x="3236" y="1941"/>
                </a:lnTo>
                <a:lnTo>
                  <a:pt x="3238" y="1941"/>
                </a:lnTo>
                <a:lnTo>
                  <a:pt x="3240" y="1941"/>
                </a:lnTo>
                <a:lnTo>
                  <a:pt x="3242" y="1941"/>
                </a:lnTo>
                <a:lnTo>
                  <a:pt x="3244" y="1941"/>
                </a:lnTo>
                <a:lnTo>
                  <a:pt x="3246" y="1942"/>
                </a:lnTo>
                <a:lnTo>
                  <a:pt x="3248" y="1942"/>
                </a:lnTo>
                <a:lnTo>
                  <a:pt x="3250" y="1942"/>
                </a:lnTo>
                <a:lnTo>
                  <a:pt x="3252" y="1942"/>
                </a:lnTo>
                <a:lnTo>
                  <a:pt x="3254" y="1942"/>
                </a:lnTo>
                <a:lnTo>
                  <a:pt x="3256" y="1942"/>
                </a:lnTo>
                <a:lnTo>
                  <a:pt x="3258" y="1943"/>
                </a:lnTo>
                <a:lnTo>
                  <a:pt x="3260" y="1943"/>
                </a:lnTo>
                <a:lnTo>
                  <a:pt x="3262" y="1943"/>
                </a:lnTo>
                <a:lnTo>
                  <a:pt x="3264" y="1943"/>
                </a:lnTo>
                <a:lnTo>
                  <a:pt x="3266" y="1943"/>
                </a:lnTo>
                <a:lnTo>
                  <a:pt x="3268" y="1943"/>
                </a:lnTo>
                <a:lnTo>
                  <a:pt x="3270" y="1943"/>
                </a:lnTo>
                <a:lnTo>
                  <a:pt x="3272" y="1943"/>
                </a:lnTo>
                <a:lnTo>
                  <a:pt x="3274" y="1943"/>
                </a:lnTo>
                <a:lnTo>
                  <a:pt x="3276" y="1944"/>
                </a:lnTo>
                <a:lnTo>
                  <a:pt x="3278" y="1944"/>
                </a:lnTo>
                <a:lnTo>
                  <a:pt x="3280" y="1944"/>
                </a:lnTo>
                <a:lnTo>
                  <a:pt x="3282" y="1944"/>
                </a:lnTo>
                <a:lnTo>
                  <a:pt x="3284" y="1944"/>
                </a:lnTo>
                <a:lnTo>
                  <a:pt x="3286" y="1944"/>
                </a:lnTo>
                <a:lnTo>
                  <a:pt x="3288" y="1945"/>
                </a:lnTo>
                <a:lnTo>
                  <a:pt x="3290" y="1945"/>
                </a:lnTo>
                <a:lnTo>
                  <a:pt x="3292" y="1945"/>
                </a:lnTo>
                <a:lnTo>
                  <a:pt x="3294" y="1945"/>
                </a:lnTo>
                <a:lnTo>
                  <a:pt x="3296" y="1945"/>
                </a:lnTo>
                <a:lnTo>
                  <a:pt x="3298" y="1945"/>
                </a:lnTo>
                <a:lnTo>
                  <a:pt x="3300" y="1945"/>
                </a:lnTo>
                <a:lnTo>
                  <a:pt x="3302" y="1946"/>
                </a:lnTo>
                <a:lnTo>
                  <a:pt x="3304" y="1946"/>
                </a:lnTo>
                <a:lnTo>
                  <a:pt x="3306" y="1946"/>
                </a:lnTo>
                <a:lnTo>
                  <a:pt x="3308" y="1946"/>
                </a:lnTo>
                <a:lnTo>
                  <a:pt x="3310" y="1946"/>
                </a:lnTo>
                <a:lnTo>
                  <a:pt x="3312" y="1946"/>
                </a:lnTo>
                <a:lnTo>
                  <a:pt x="3314" y="1946"/>
                </a:lnTo>
                <a:lnTo>
                  <a:pt x="3316" y="1946"/>
                </a:lnTo>
                <a:lnTo>
                  <a:pt x="3318" y="1946"/>
                </a:lnTo>
                <a:lnTo>
                  <a:pt x="3320" y="1946"/>
                </a:lnTo>
                <a:lnTo>
                  <a:pt x="3322" y="1946"/>
                </a:lnTo>
                <a:lnTo>
                  <a:pt x="3324" y="1946"/>
                </a:lnTo>
                <a:lnTo>
                  <a:pt x="3326" y="1947"/>
                </a:lnTo>
                <a:lnTo>
                  <a:pt x="3328" y="1947"/>
                </a:lnTo>
                <a:lnTo>
                  <a:pt x="3330" y="1947"/>
                </a:lnTo>
                <a:lnTo>
                  <a:pt x="3332" y="1947"/>
                </a:lnTo>
                <a:lnTo>
                  <a:pt x="3334" y="1947"/>
                </a:lnTo>
                <a:lnTo>
                  <a:pt x="3336" y="1947"/>
                </a:lnTo>
                <a:lnTo>
                  <a:pt x="3338" y="1947"/>
                </a:lnTo>
                <a:lnTo>
                  <a:pt x="3340" y="1947"/>
                </a:lnTo>
                <a:lnTo>
                  <a:pt x="3342" y="1947"/>
                </a:lnTo>
                <a:lnTo>
                  <a:pt x="3344" y="1947"/>
                </a:lnTo>
                <a:lnTo>
                  <a:pt x="3346" y="1947"/>
                </a:lnTo>
                <a:lnTo>
                  <a:pt x="3348" y="1947"/>
                </a:lnTo>
                <a:lnTo>
                  <a:pt x="3350" y="1947"/>
                </a:lnTo>
                <a:lnTo>
                  <a:pt x="3352" y="1947"/>
                </a:lnTo>
                <a:lnTo>
                  <a:pt x="3354" y="1947"/>
                </a:lnTo>
                <a:lnTo>
                  <a:pt x="3356" y="1947"/>
                </a:lnTo>
                <a:lnTo>
                  <a:pt x="3358" y="1947"/>
                </a:lnTo>
                <a:lnTo>
                  <a:pt x="3360" y="1947"/>
                </a:lnTo>
                <a:lnTo>
                  <a:pt x="3362" y="1947"/>
                </a:lnTo>
                <a:lnTo>
                  <a:pt x="3364" y="1947"/>
                </a:lnTo>
                <a:lnTo>
                  <a:pt x="3366" y="1948"/>
                </a:lnTo>
                <a:lnTo>
                  <a:pt x="3368" y="1948"/>
                </a:lnTo>
                <a:lnTo>
                  <a:pt x="3370" y="1948"/>
                </a:lnTo>
                <a:lnTo>
                  <a:pt x="3372" y="1948"/>
                </a:lnTo>
                <a:lnTo>
                  <a:pt x="3374" y="1948"/>
                </a:lnTo>
                <a:lnTo>
                  <a:pt x="3376" y="1948"/>
                </a:lnTo>
                <a:lnTo>
                  <a:pt x="3378" y="1948"/>
                </a:lnTo>
                <a:lnTo>
                  <a:pt x="3380" y="1948"/>
                </a:lnTo>
                <a:lnTo>
                  <a:pt x="3381" y="1948"/>
                </a:lnTo>
                <a:lnTo>
                  <a:pt x="3383" y="1948"/>
                </a:lnTo>
                <a:lnTo>
                  <a:pt x="3385" y="1948"/>
                </a:lnTo>
                <a:lnTo>
                  <a:pt x="3387" y="1948"/>
                </a:lnTo>
                <a:lnTo>
                  <a:pt x="3389" y="1948"/>
                </a:lnTo>
                <a:lnTo>
                  <a:pt x="3391" y="1948"/>
                </a:lnTo>
                <a:lnTo>
                  <a:pt x="3393" y="1949"/>
                </a:lnTo>
                <a:lnTo>
                  <a:pt x="3395" y="1949"/>
                </a:lnTo>
                <a:lnTo>
                  <a:pt x="3397" y="1949"/>
                </a:lnTo>
                <a:lnTo>
                  <a:pt x="3399" y="1949"/>
                </a:lnTo>
                <a:lnTo>
                  <a:pt x="3401" y="1949"/>
                </a:lnTo>
                <a:lnTo>
                  <a:pt x="3403" y="1949"/>
                </a:lnTo>
                <a:lnTo>
                  <a:pt x="3405" y="1949"/>
                </a:lnTo>
                <a:lnTo>
                  <a:pt x="3407" y="1949"/>
                </a:lnTo>
                <a:lnTo>
                  <a:pt x="3409" y="1949"/>
                </a:lnTo>
                <a:lnTo>
                  <a:pt x="3411" y="1949"/>
                </a:lnTo>
                <a:lnTo>
                  <a:pt x="3413" y="1949"/>
                </a:lnTo>
                <a:lnTo>
                  <a:pt x="3415" y="1949"/>
                </a:lnTo>
                <a:lnTo>
                  <a:pt x="3417" y="1949"/>
                </a:lnTo>
                <a:lnTo>
                  <a:pt x="3419" y="1949"/>
                </a:lnTo>
                <a:lnTo>
                  <a:pt x="3421" y="1949"/>
                </a:lnTo>
                <a:lnTo>
                  <a:pt x="3423" y="1949"/>
                </a:lnTo>
                <a:lnTo>
                  <a:pt x="3425" y="1949"/>
                </a:lnTo>
                <a:lnTo>
                  <a:pt x="3427" y="1950"/>
                </a:lnTo>
                <a:lnTo>
                  <a:pt x="3429" y="1950"/>
                </a:lnTo>
                <a:lnTo>
                  <a:pt x="3431" y="1950"/>
                </a:lnTo>
                <a:lnTo>
                  <a:pt x="3433" y="1950"/>
                </a:lnTo>
                <a:lnTo>
                  <a:pt x="3435" y="1950"/>
                </a:lnTo>
                <a:lnTo>
                  <a:pt x="3437" y="1950"/>
                </a:lnTo>
                <a:lnTo>
                  <a:pt x="3439" y="1950"/>
                </a:lnTo>
                <a:lnTo>
                  <a:pt x="3441" y="1950"/>
                </a:lnTo>
                <a:lnTo>
                  <a:pt x="3443" y="1950"/>
                </a:lnTo>
                <a:lnTo>
                  <a:pt x="3445" y="1950"/>
                </a:lnTo>
                <a:lnTo>
                  <a:pt x="3447" y="1950"/>
                </a:lnTo>
                <a:lnTo>
                  <a:pt x="3449" y="1950"/>
                </a:lnTo>
                <a:lnTo>
                  <a:pt x="3451" y="1950"/>
                </a:lnTo>
                <a:lnTo>
                  <a:pt x="3453" y="1950"/>
                </a:lnTo>
                <a:lnTo>
                  <a:pt x="3455" y="1950"/>
                </a:lnTo>
                <a:lnTo>
                  <a:pt x="3457" y="1950"/>
                </a:lnTo>
                <a:lnTo>
                  <a:pt x="3459" y="1950"/>
                </a:lnTo>
                <a:lnTo>
                  <a:pt x="3461" y="1950"/>
                </a:lnTo>
                <a:lnTo>
                  <a:pt x="3463" y="1950"/>
                </a:lnTo>
                <a:lnTo>
                  <a:pt x="3465" y="1950"/>
                </a:lnTo>
                <a:lnTo>
                  <a:pt x="3467" y="1950"/>
                </a:lnTo>
                <a:lnTo>
                  <a:pt x="3469" y="1950"/>
                </a:lnTo>
                <a:lnTo>
                  <a:pt x="3471" y="1950"/>
                </a:lnTo>
                <a:lnTo>
                  <a:pt x="3473" y="1950"/>
                </a:lnTo>
                <a:lnTo>
                  <a:pt x="3475" y="1950"/>
                </a:lnTo>
                <a:lnTo>
                  <a:pt x="3477" y="1950"/>
                </a:lnTo>
                <a:lnTo>
                  <a:pt x="3479" y="1950"/>
                </a:lnTo>
                <a:lnTo>
                  <a:pt x="3481" y="1950"/>
                </a:lnTo>
                <a:lnTo>
                  <a:pt x="3483" y="1950"/>
                </a:lnTo>
                <a:lnTo>
                  <a:pt x="3485" y="1950"/>
                </a:lnTo>
                <a:lnTo>
                  <a:pt x="3487" y="1950"/>
                </a:lnTo>
                <a:lnTo>
                  <a:pt x="3489" y="1950"/>
                </a:lnTo>
                <a:lnTo>
                  <a:pt x="3491" y="1950"/>
                </a:lnTo>
                <a:lnTo>
                  <a:pt x="3493" y="1951"/>
                </a:lnTo>
                <a:lnTo>
                  <a:pt x="3495" y="1951"/>
                </a:lnTo>
                <a:lnTo>
                  <a:pt x="3497" y="1951"/>
                </a:lnTo>
                <a:lnTo>
                  <a:pt x="3499" y="1951"/>
                </a:lnTo>
                <a:lnTo>
                  <a:pt x="3501" y="1951"/>
                </a:lnTo>
                <a:lnTo>
                  <a:pt x="3503" y="1951"/>
                </a:lnTo>
                <a:lnTo>
                  <a:pt x="3505" y="1951"/>
                </a:lnTo>
                <a:lnTo>
                  <a:pt x="3507" y="1951"/>
                </a:lnTo>
                <a:lnTo>
                  <a:pt x="3509" y="1951"/>
                </a:lnTo>
                <a:lnTo>
                  <a:pt x="3511" y="1951"/>
                </a:lnTo>
                <a:lnTo>
                  <a:pt x="3513" y="1951"/>
                </a:lnTo>
                <a:lnTo>
                  <a:pt x="3515" y="1951"/>
                </a:lnTo>
                <a:lnTo>
                  <a:pt x="3517" y="1951"/>
                </a:lnTo>
                <a:lnTo>
                  <a:pt x="3519" y="1951"/>
                </a:lnTo>
                <a:lnTo>
                  <a:pt x="3521" y="1951"/>
                </a:lnTo>
                <a:lnTo>
                  <a:pt x="3523" y="1951"/>
                </a:lnTo>
                <a:lnTo>
                  <a:pt x="3525" y="1951"/>
                </a:lnTo>
                <a:lnTo>
                  <a:pt x="3527" y="1951"/>
                </a:lnTo>
                <a:lnTo>
                  <a:pt x="3529" y="1951"/>
                </a:lnTo>
                <a:lnTo>
                  <a:pt x="3531" y="1951"/>
                </a:lnTo>
                <a:lnTo>
                  <a:pt x="3533" y="1951"/>
                </a:lnTo>
                <a:lnTo>
                  <a:pt x="3535" y="1951"/>
                </a:lnTo>
                <a:lnTo>
                  <a:pt x="3537" y="1951"/>
                </a:lnTo>
                <a:lnTo>
                  <a:pt x="3539" y="1951"/>
                </a:lnTo>
                <a:lnTo>
                  <a:pt x="3541" y="1951"/>
                </a:lnTo>
                <a:lnTo>
                  <a:pt x="3543" y="1952"/>
                </a:lnTo>
                <a:lnTo>
                  <a:pt x="3545" y="1952"/>
                </a:lnTo>
                <a:lnTo>
                  <a:pt x="3547" y="1952"/>
                </a:lnTo>
                <a:lnTo>
                  <a:pt x="3549" y="1952"/>
                </a:lnTo>
                <a:lnTo>
                  <a:pt x="3550" y="1952"/>
                </a:lnTo>
                <a:lnTo>
                  <a:pt x="3552" y="1952"/>
                </a:lnTo>
                <a:lnTo>
                  <a:pt x="3554" y="1952"/>
                </a:lnTo>
                <a:lnTo>
                  <a:pt x="3556" y="1952"/>
                </a:lnTo>
                <a:lnTo>
                  <a:pt x="3558" y="1952"/>
                </a:lnTo>
                <a:lnTo>
                  <a:pt x="3560" y="1952"/>
                </a:lnTo>
                <a:lnTo>
                  <a:pt x="3562" y="1952"/>
                </a:lnTo>
                <a:lnTo>
                  <a:pt x="3564" y="1952"/>
                </a:lnTo>
                <a:lnTo>
                  <a:pt x="3566" y="1952"/>
                </a:lnTo>
                <a:lnTo>
                  <a:pt x="3568" y="1952"/>
                </a:lnTo>
                <a:lnTo>
                  <a:pt x="3570" y="1952"/>
                </a:lnTo>
                <a:lnTo>
                  <a:pt x="3572" y="1952"/>
                </a:lnTo>
                <a:lnTo>
                  <a:pt x="3574" y="1952"/>
                </a:lnTo>
                <a:lnTo>
                  <a:pt x="3576" y="1952"/>
                </a:lnTo>
                <a:lnTo>
                  <a:pt x="3578" y="1952"/>
                </a:lnTo>
                <a:lnTo>
                  <a:pt x="3580" y="1952"/>
                </a:lnTo>
                <a:lnTo>
                  <a:pt x="3582" y="1952"/>
                </a:lnTo>
                <a:lnTo>
                  <a:pt x="3584" y="1952"/>
                </a:lnTo>
                <a:lnTo>
                  <a:pt x="3586" y="1952"/>
                </a:lnTo>
                <a:lnTo>
                  <a:pt x="3588" y="1952"/>
                </a:lnTo>
                <a:lnTo>
                  <a:pt x="3590" y="1952"/>
                </a:lnTo>
                <a:lnTo>
                  <a:pt x="3592" y="1952"/>
                </a:lnTo>
                <a:lnTo>
                  <a:pt x="3594" y="1952"/>
                </a:lnTo>
                <a:lnTo>
                  <a:pt x="3596" y="1952"/>
                </a:lnTo>
                <a:lnTo>
                  <a:pt x="3598" y="1952"/>
                </a:lnTo>
                <a:lnTo>
                  <a:pt x="3600" y="1952"/>
                </a:lnTo>
                <a:lnTo>
                  <a:pt x="3602" y="1952"/>
                </a:lnTo>
                <a:lnTo>
                  <a:pt x="3604" y="1952"/>
                </a:lnTo>
                <a:lnTo>
                  <a:pt x="3606" y="1952"/>
                </a:lnTo>
                <a:lnTo>
                  <a:pt x="3608" y="1952"/>
                </a:lnTo>
                <a:lnTo>
                  <a:pt x="3610" y="1952"/>
                </a:lnTo>
                <a:lnTo>
                  <a:pt x="3612" y="1952"/>
                </a:lnTo>
                <a:lnTo>
                  <a:pt x="3614" y="1952"/>
                </a:lnTo>
                <a:lnTo>
                  <a:pt x="3616" y="1952"/>
                </a:lnTo>
                <a:lnTo>
                  <a:pt x="3618" y="1952"/>
                </a:lnTo>
                <a:lnTo>
                  <a:pt x="3620" y="1952"/>
                </a:lnTo>
                <a:lnTo>
                  <a:pt x="3622" y="1952"/>
                </a:lnTo>
                <a:lnTo>
                  <a:pt x="3624" y="1952"/>
                </a:lnTo>
                <a:lnTo>
                  <a:pt x="3626" y="1952"/>
                </a:lnTo>
                <a:lnTo>
                  <a:pt x="3628" y="1952"/>
                </a:lnTo>
                <a:lnTo>
                  <a:pt x="3630" y="1952"/>
                </a:lnTo>
                <a:lnTo>
                  <a:pt x="3632" y="1952"/>
                </a:lnTo>
                <a:lnTo>
                  <a:pt x="3634" y="1952"/>
                </a:lnTo>
                <a:lnTo>
                  <a:pt x="3636" y="1952"/>
                </a:lnTo>
                <a:lnTo>
                  <a:pt x="3638" y="1952"/>
                </a:lnTo>
                <a:lnTo>
                  <a:pt x="3640" y="1952"/>
                </a:lnTo>
                <a:lnTo>
                  <a:pt x="3642" y="1952"/>
                </a:lnTo>
                <a:lnTo>
                  <a:pt x="3644" y="1952"/>
                </a:lnTo>
                <a:lnTo>
                  <a:pt x="3646" y="1952"/>
                </a:lnTo>
                <a:lnTo>
                  <a:pt x="3648" y="1952"/>
                </a:lnTo>
                <a:lnTo>
                  <a:pt x="3650" y="1952"/>
                </a:lnTo>
                <a:lnTo>
                  <a:pt x="3652" y="1952"/>
                </a:lnTo>
                <a:lnTo>
                  <a:pt x="3654" y="1952"/>
                </a:lnTo>
                <a:lnTo>
                  <a:pt x="3656" y="1952"/>
                </a:lnTo>
                <a:lnTo>
                  <a:pt x="3658" y="1952"/>
                </a:lnTo>
                <a:lnTo>
                  <a:pt x="3660" y="1952"/>
                </a:lnTo>
                <a:lnTo>
                  <a:pt x="3662" y="1951"/>
                </a:lnTo>
                <a:lnTo>
                  <a:pt x="3664" y="1951"/>
                </a:lnTo>
                <a:lnTo>
                  <a:pt x="3666" y="1951"/>
                </a:lnTo>
                <a:lnTo>
                  <a:pt x="3668" y="1951"/>
                </a:lnTo>
                <a:lnTo>
                  <a:pt x="3670" y="1951"/>
                </a:lnTo>
                <a:lnTo>
                  <a:pt x="3672" y="1951"/>
                </a:lnTo>
                <a:lnTo>
                  <a:pt x="3674" y="1951"/>
                </a:lnTo>
                <a:lnTo>
                  <a:pt x="3676" y="1951"/>
                </a:lnTo>
                <a:lnTo>
                  <a:pt x="3678" y="1951"/>
                </a:lnTo>
                <a:lnTo>
                  <a:pt x="3680" y="1951"/>
                </a:lnTo>
                <a:lnTo>
                  <a:pt x="3682" y="1951"/>
                </a:lnTo>
                <a:lnTo>
                  <a:pt x="3684" y="1951"/>
                </a:lnTo>
                <a:lnTo>
                  <a:pt x="3686" y="1951"/>
                </a:lnTo>
                <a:lnTo>
                  <a:pt x="3688" y="1951"/>
                </a:lnTo>
                <a:lnTo>
                  <a:pt x="3690" y="1951"/>
                </a:lnTo>
                <a:lnTo>
                  <a:pt x="3692" y="1951"/>
                </a:lnTo>
                <a:lnTo>
                  <a:pt x="3694" y="1951"/>
                </a:lnTo>
                <a:lnTo>
                  <a:pt x="3696" y="1951"/>
                </a:lnTo>
                <a:lnTo>
                  <a:pt x="3698" y="1951"/>
                </a:lnTo>
                <a:lnTo>
                  <a:pt x="3700" y="1951"/>
                </a:lnTo>
                <a:lnTo>
                  <a:pt x="3702" y="1951"/>
                </a:lnTo>
                <a:lnTo>
                  <a:pt x="3704" y="1951"/>
                </a:lnTo>
                <a:lnTo>
                  <a:pt x="3706" y="1951"/>
                </a:lnTo>
                <a:lnTo>
                  <a:pt x="3708" y="1951"/>
                </a:lnTo>
                <a:lnTo>
                  <a:pt x="3710" y="1951"/>
                </a:lnTo>
                <a:lnTo>
                  <a:pt x="3712" y="1951"/>
                </a:lnTo>
                <a:lnTo>
                  <a:pt x="3714" y="1951"/>
                </a:lnTo>
                <a:lnTo>
                  <a:pt x="3716" y="1951"/>
                </a:lnTo>
                <a:lnTo>
                  <a:pt x="3718" y="1951"/>
                </a:lnTo>
                <a:lnTo>
                  <a:pt x="3719" y="1951"/>
                </a:lnTo>
                <a:lnTo>
                  <a:pt x="3721" y="1951"/>
                </a:lnTo>
                <a:lnTo>
                  <a:pt x="3723" y="1951"/>
                </a:lnTo>
                <a:lnTo>
                  <a:pt x="3725" y="1951"/>
                </a:lnTo>
                <a:lnTo>
                  <a:pt x="3727" y="1951"/>
                </a:lnTo>
                <a:lnTo>
                  <a:pt x="3729" y="1951"/>
                </a:lnTo>
                <a:lnTo>
                  <a:pt x="3731" y="1951"/>
                </a:lnTo>
                <a:lnTo>
                  <a:pt x="3733" y="1951"/>
                </a:lnTo>
                <a:lnTo>
                  <a:pt x="3735" y="1951"/>
                </a:lnTo>
                <a:lnTo>
                  <a:pt x="3737" y="1951"/>
                </a:lnTo>
                <a:lnTo>
                  <a:pt x="3739" y="1951"/>
                </a:lnTo>
                <a:lnTo>
                  <a:pt x="3741" y="1951"/>
                </a:lnTo>
                <a:lnTo>
                  <a:pt x="3743" y="1951"/>
                </a:lnTo>
                <a:lnTo>
                  <a:pt x="3745" y="1951"/>
                </a:lnTo>
                <a:lnTo>
                  <a:pt x="3747" y="1951"/>
                </a:lnTo>
                <a:lnTo>
                  <a:pt x="3749" y="1951"/>
                </a:lnTo>
                <a:lnTo>
                  <a:pt x="3751" y="1951"/>
                </a:lnTo>
                <a:lnTo>
                  <a:pt x="3753" y="1951"/>
                </a:lnTo>
                <a:lnTo>
                  <a:pt x="3755" y="1951"/>
                </a:lnTo>
                <a:lnTo>
                  <a:pt x="3757" y="1951"/>
                </a:lnTo>
                <a:lnTo>
                  <a:pt x="3759" y="1951"/>
                </a:lnTo>
                <a:lnTo>
                  <a:pt x="3761" y="1951"/>
                </a:lnTo>
                <a:lnTo>
                  <a:pt x="3763" y="1951"/>
                </a:lnTo>
                <a:lnTo>
                  <a:pt x="3765" y="1951"/>
                </a:lnTo>
                <a:lnTo>
                  <a:pt x="3767" y="1951"/>
                </a:lnTo>
                <a:lnTo>
                  <a:pt x="3769" y="1951"/>
                </a:lnTo>
                <a:lnTo>
                  <a:pt x="3771" y="1951"/>
                </a:lnTo>
                <a:lnTo>
                  <a:pt x="3773" y="1951"/>
                </a:lnTo>
                <a:lnTo>
                  <a:pt x="3775" y="1951"/>
                </a:lnTo>
                <a:lnTo>
                  <a:pt x="3777" y="1951"/>
                </a:lnTo>
                <a:lnTo>
                  <a:pt x="3779" y="1951"/>
                </a:lnTo>
                <a:lnTo>
                  <a:pt x="3781" y="1951"/>
                </a:lnTo>
                <a:lnTo>
                  <a:pt x="3783" y="1951"/>
                </a:lnTo>
                <a:lnTo>
                  <a:pt x="3785" y="1951"/>
                </a:lnTo>
                <a:lnTo>
                  <a:pt x="3787" y="1951"/>
                </a:lnTo>
                <a:lnTo>
                  <a:pt x="3789" y="1951"/>
                </a:lnTo>
                <a:lnTo>
                  <a:pt x="3791" y="1951"/>
                </a:lnTo>
                <a:lnTo>
                  <a:pt x="3793" y="1952"/>
                </a:lnTo>
                <a:lnTo>
                  <a:pt x="3795" y="1952"/>
                </a:lnTo>
                <a:lnTo>
                  <a:pt x="3797" y="1952"/>
                </a:lnTo>
                <a:lnTo>
                  <a:pt x="3799" y="1952"/>
                </a:lnTo>
                <a:lnTo>
                  <a:pt x="3801" y="1952"/>
                </a:lnTo>
                <a:lnTo>
                  <a:pt x="3803" y="1952"/>
                </a:lnTo>
                <a:lnTo>
                  <a:pt x="3805" y="1952"/>
                </a:lnTo>
                <a:lnTo>
                  <a:pt x="3807" y="1952"/>
                </a:lnTo>
                <a:lnTo>
                  <a:pt x="3809" y="1952"/>
                </a:lnTo>
                <a:lnTo>
                  <a:pt x="3811" y="1952"/>
                </a:lnTo>
                <a:lnTo>
                  <a:pt x="3813" y="1952"/>
                </a:lnTo>
                <a:lnTo>
                  <a:pt x="3815" y="1952"/>
                </a:lnTo>
                <a:lnTo>
                  <a:pt x="3817" y="1952"/>
                </a:lnTo>
                <a:lnTo>
                  <a:pt x="3819" y="1952"/>
                </a:lnTo>
                <a:lnTo>
                  <a:pt x="3821" y="1952"/>
                </a:lnTo>
                <a:lnTo>
                  <a:pt x="3823" y="1952"/>
                </a:lnTo>
                <a:lnTo>
                  <a:pt x="3825" y="1952"/>
                </a:lnTo>
                <a:lnTo>
                  <a:pt x="3827" y="1952"/>
                </a:lnTo>
                <a:lnTo>
                  <a:pt x="3829" y="1952"/>
                </a:lnTo>
                <a:lnTo>
                  <a:pt x="3831" y="1952"/>
                </a:lnTo>
                <a:lnTo>
                  <a:pt x="3833" y="1952"/>
                </a:lnTo>
                <a:lnTo>
                  <a:pt x="3835" y="1952"/>
                </a:lnTo>
                <a:lnTo>
                  <a:pt x="3837" y="1952"/>
                </a:lnTo>
                <a:lnTo>
                  <a:pt x="3839" y="1952"/>
                </a:lnTo>
                <a:lnTo>
                  <a:pt x="3841" y="1952"/>
                </a:lnTo>
                <a:lnTo>
                  <a:pt x="3843" y="1952"/>
                </a:lnTo>
                <a:lnTo>
                  <a:pt x="3845" y="1952"/>
                </a:lnTo>
                <a:lnTo>
                  <a:pt x="3847" y="1952"/>
                </a:lnTo>
                <a:lnTo>
                  <a:pt x="3849" y="1952"/>
                </a:lnTo>
                <a:lnTo>
                  <a:pt x="3851" y="1952"/>
                </a:lnTo>
                <a:lnTo>
                  <a:pt x="3853" y="1952"/>
                </a:lnTo>
                <a:lnTo>
                  <a:pt x="3855" y="1952"/>
                </a:lnTo>
                <a:lnTo>
                  <a:pt x="3857" y="1952"/>
                </a:lnTo>
                <a:lnTo>
                  <a:pt x="3859" y="1952"/>
                </a:lnTo>
                <a:lnTo>
                  <a:pt x="3861" y="1952"/>
                </a:lnTo>
                <a:lnTo>
                  <a:pt x="3863" y="1952"/>
                </a:lnTo>
                <a:lnTo>
                  <a:pt x="3865" y="1952"/>
                </a:lnTo>
                <a:lnTo>
                  <a:pt x="3867" y="1952"/>
                </a:lnTo>
                <a:lnTo>
                  <a:pt x="3869" y="1953"/>
                </a:lnTo>
                <a:lnTo>
                  <a:pt x="3871" y="1952"/>
                </a:lnTo>
                <a:lnTo>
                  <a:pt x="3873" y="1953"/>
                </a:lnTo>
                <a:lnTo>
                  <a:pt x="3875" y="1953"/>
                </a:lnTo>
                <a:lnTo>
                  <a:pt x="3877" y="1953"/>
                </a:lnTo>
                <a:lnTo>
                  <a:pt x="3879" y="1953"/>
                </a:lnTo>
                <a:lnTo>
                  <a:pt x="3881" y="1953"/>
                </a:lnTo>
                <a:lnTo>
                  <a:pt x="3883" y="1953"/>
                </a:lnTo>
                <a:lnTo>
                  <a:pt x="3885" y="1953"/>
                </a:lnTo>
                <a:lnTo>
                  <a:pt x="3887" y="1953"/>
                </a:lnTo>
                <a:lnTo>
                  <a:pt x="3888" y="1953"/>
                </a:lnTo>
                <a:lnTo>
                  <a:pt x="3890" y="1953"/>
                </a:lnTo>
                <a:lnTo>
                  <a:pt x="3892" y="1953"/>
                </a:lnTo>
                <a:lnTo>
                  <a:pt x="3894" y="1953"/>
                </a:lnTo>
                <a:lnTo>
                  <a:pt x="3896" y="1953"/>
                </a:lnTo>
                <a:lnTo>
                  <a:pt x="3898" y="1953"/>
                </a:lnTo>
                <a:lnTo>
                  <a:pt x="3900" y="1953"/>
                </a:lnTo>
                <a:lnTo>
                  <a:pt x="3902" y="1953"/>
                </a:lnTo>
                <a:lnTo>
                  <a:pt x="3904" y="1953"/>
                </a:lnTo>
                <a:lnTo>
                  <a:pt x="3906" y="1953"/>
                </a:lnTo>
                <a:lnTo>
                  <a:pt x="3908" y="1953"/>
                </a:lnTo>
                <a:lnTo>
                  <a:pt x="3910" y="1953"/>
                </a:lnTo>
                <a:lnTo>
                  <a:pt x="3912" y="1953"/>
                </a:lnTo>
                <a:lnTo>
                  <a:pt x="3914" y="1953"/>
                </a:lnTo>
                <a:lnTo>
                  <a:pt x="3916" y="1953"/>
                </a:lnTo>
                <a:lnTo>
                  <a:pt x="3918" y="1953"/>
                </a:lnTo>
                <a:lnTo>
                  <a:pt x="3920" y="1953"/>
                </a:lnTo>
                <a:lnTo>
                  <a:pt x="3922" y="1953"/>
                </a:lnTo>
                <a:lnTo>
                  <a:pt x="3924" y="1953"/>
                </a:lnTo>
                <a:lnTo>
                  <a:pt x="3926" y="1953"/>
                </a:lnTo>
                <a:lnTo>
                  <a:pt x="3928" y="1953"/>
                </a:lnTo>
                <a:lnTo>
                  <a:pt x="3930" y="1952"/>
                </a:lnTo>
                <a:lnTo>
                  <a:pt x="3932" y="1952"/>
                </a:lnTo>
                <a:lnTo>
                  <a:pt x="3934" y="1952"/>
                </a:lnTo>
                <a:lnTo>
                  <a:pt x="3936" y="1952"/>
                </a:lnTo>
                <a:lnTo>
                  <a:pt x="3938" y="1952"/>
                </a:lnTo>
                <a:lnTo>
                  <a:pt x="3940" y="1952"/>
                </a:lnTo>
                <a:lnTo>
                  <a:pt x="3942" y="1952"/>
                </a:lnTo>
                <a:lnTo>
                  <a:pt x="3944" y="1952"/>
                </a:lnTo>
                <a:lnTo>
                  <a:pt x="3946" y="1952"/>
                </a:lnTo>
                <a:lnTo>
                  <a:pt x="3948" y="1952"/>
                </a:lnTo>
                <a:lnTo>
                  <a:pt x="3950" y="1952"/>
                </a:lnTo>
                <a:lnTo>
                  <a:pt x="3952" y="1952"/>
                </a:lnTo>
                <a:lnTo>
                  <a:pt x="3954" y="1952"/>
                </a:lnTo>
                <a:lnTo>
                  <a:pt x="3956" y="1952"/>
                </a:lnTo>
                <a:lnTo>
                  <a:pt x="3958" y="1952"/>
                </a:lnTo>
                <a:lnTo>
                  <a:pt x="3960" y="1952"/>
                </a:lnTo>
                <a:lnTo>
                  <a:pt x="3962" y="1952"/>
                </a:lnTo>
                <a:lnTo>
                  <a:pt x="3964" y="1952"/>
                </a:lnTo>
                <a:lnTo>
                  <a:pt x="3966" y="1952"/>
                </a:lnTo>
                <a:lnTo>
                  <a:pt x="3968" y="1952"/>
                </a:lnTo>
                <a:lnTo>
                  <a:pt x="3970" y="1952"/>
                </a:lnTo>
                <a:lnTo>
                  <a:pt x="3972" y="1952"/>
                </a:lnTo>
                <a:lnTo>
                  <a:pt x="3974" y="1952"/>
                </a:lnTo>
                <a:lnTo>
                  <a:pt x="3976" y="1952"/>
                </a:lnTo>
                <a:lnTo>
                  <a:pt x="3978" y="1952"/>
                </a:lnTo>
                <a:lnTo>
                  <a:pt x="3980" y="1952"/>
                </a:lnTo>
                <a:lnTo>
                  <a:pt x="3982" y="1952"/>
                </a:lnTo>
                <a:lnTo>
                  <a:pt x="3984" y="1952"/>
                </a:lnTo>
                <a:lnTo>
                  <a:pt x="3986" y="1952"/>
                </a:lnTo>
                <a:lnTo>
                  <a:pt x="3988" y="1952"/>
                </a:lnTo>
                <a:lnTo>
                  <a:pt x="3990" y="1952"/>
                </a:lnTo>
                <a:lnTo>
                  <a:pt x="3992" y="1952"/>
                </a:lnTo>
                <a:lnTo>
                  <a:pt x="3994" y="1952"/>
                </a:lnTo>
                <a:lnTo>
                  <a:pt x="3996" y="1952"/>
                </a:lnTo>
                <a:lnTo>
                  <a:pt x="3998" y="1952"/>
                </a:lnTo>
                <a:lnTo>
                  <a:pt x="4000" y="1952"/>
                </a:lnTo>
                <a:lnTo>
                  <a:pt x="4002" y="1952"/>
                </a:lnTo>
                <a:lnTo>
                  <a:pt x="4004" y="1952"/>
                </a:lnTo>
                <a:lnTo>
                  <a:pt x="4006" y="1952"/>
                </a:lnTo>
                <a:lnTo>
                  <a:pt x="4008" y="1952"/>
                </a:lnTo>
                <a:lnTo>
                  <a:pt x="4010" y="1952"/>
                </a:lnTo>
                <a:lnTo>
                  <a:pt x="4012" y="1951"/>
                </a:lnTo>
                <a:lnTo>
                  <a:pt x="4014" y="1952"/>
                </a:lnTo>
                <a:lnTo>
                  <a:pt x="4016" y="1951"/>
                </a:lnTo>
                <a:lnTo>
                  <a:pt x="4018" y="1951"/>
                </a:lnTo>
                <a:lnTo>
                  <a:pt x="4020" y="1951"/>
                </a:lnTo>
                <a:lnTo>
                  <a:pt x="4022" y="1951"/>
                </a:lnTo>
                <a:lnTo>
                  <a:pt x="4024" y="1951"/>
                </a:lnTo>
                <a:lnTo>
                  <a:pt x="4026" y="1951"/>
                </a:lnTo>
                <a:lnTo>
                  <a:pt x="4028" y="1951"/>
                </a:lnTo>
                <a:lnTo>
                  <a:pt x="4030" y="1951"/>
                </a:lnTo>
                <a:lnTo>
                  <a:pt x="4032" y="1951"/>
                </a:lnTo>
                <a:lnTo>
                  <a:pt x="4034" y="1951"/>
                </a:lnTo>
                <a:lnTo>
                  <a:pt x="4036" y="1951"/>
                </a:lnTo>
                <a:lnTo>
                  <a:pt x="4038" y="1951"/>
                </a:lnTo>
                <a:lnTo>
                  <a:pt x="4040" y="1951"/>
                </a:lnTo>
                <a:lnTo>
                  <a:pt x="4042" y="1951"/>
                </a:lnTo>
                <a:lnTo>
                  <a:pt x="4044" y="1951"/>
                </a:lnTo>
                <a:lnTo>
                  <a:pt x="4046" y="1951"/>
                </a:lnTo>
                <a:lnTo>
                  <a:pt x="4048" y="1951"/>
                </a:lnTo>
                <a:lnTo>
                  <a:pt x="4050" y="1951"/>
                </a:lnTo>
                <a:lnTo>
                  <a:pt x="4052" y="1951"/>
                </a:lnTo>
                <a:lnTo>
                  <a:pt x="4054" y="1951"/>
                </a:lnTo>
                <a:lnTo>
                  <a:pt x="4056" y="1951"/>
                </a:lnTo>
                <a:lnTo>
                  <a:pt x="4057" y="1951"/>
                </a:lnTo>
                <a:lnTo>
                  <a:pt x="4059" y="1951"/>
                </a:lnTo>
                <a:lnTo>
                  <a:pt x="4061" y="1951"/>
                </a:lnTo>
                <a:lnTo>
                  <a:pt x="4063" y="1952"/>
                </a:lnTo>
                <a:lnTo>
                  <a:pt x="4065" y="1952"/>
                </a:lnTo>
                <a:lnTo>
                  <a:pt x="4067" y="1952"/>
                </a:lnTo>
                <a:lnTo>
                  <a:pt x="4069" y="1951"/>
                </a:lnTo>
                <a:lnTo>
                  <a:pt x="4071" y="1951"/>
                </a:lnTo>
                <a:lnTo>
                  <a:pt x="4073" y="1951"/>
                </a:lnTo>
                <a:lnTo>
                  <a:pt x="4075" y="1951"/>
                </a:lnTo>
                <a:lnTo>
                  <a:pt x="4077" y="1951"/>
                </a:lnTo>
                <a:lnTo>
                  <a:pt x="4079" y="1951"/>
                </a:lnTo>
                <a:lnTo>
                  <a:pt x="4081" y="1951"/>
                </a:lnTo>
                <a:lnTo>
                  <a:pt x="4083" y="1951"/>
                </a:lnTo>
                <a:lnTo>
                  <a:pt x="4085" y="1951"/>
                </a:lnTo>
                <a:lnTo>
                  <a:pt x="4087" y="1951"/>
                </a:lnTo>
                <a:lnTo>
                  <a:pt x="4089" y="1951"/>
                </a:lnTo>
                <a:lnTo>
                  <a:pt x="4091" y="1951"/>
                </a:lnTo>
                <a:lnTo>
                  <a:pt x="4093" y="1951"/>
                </a:lnTo>
                <a:lnTo>
                  <a:pt x="4095" y="1951"/>
                </a:lnTo>
                <a:lnTo>
                  <a:pt x="4097" y="1951"/>
                </a:lnTo>
                <a:lnTo>
                  <a:pt x="4099" y="1951"/>
                </a:lnTo>
                <a:lnTo>
                  <a:pt x="4101" y="1951"/>
                </a:lnTo>
                <a:lnTo>
                  <a:pt x="4103" y="1951"/>
                </a:lnTo>
                <a:lnTo>
                  <a:pt x="4105" y="1951"/>
                </a:lnTo>
                <a:lnTo>
                  <a:pt x="4107" y="1951"/>
                </a:lnTo>
                <a:lnTo>
                  <a:pt x="4109" y="1951"/>
                </a:lnTo>
                <a:lnTo>
                  <a:pt x="4111" y="1951"/>
                </a:lnTo>
                <a:lnTo>
                  <a:pt x="4113" y="1951"/>
                </a:lnTo>
                <a:lnTo>
                  <a:pt x="4115" y="1951"/>
                </a:lnTo>
                <a:lnTo>
                  <a:pt x="4117" y="1951"/>
                </a:lnTo>
                <a:lnTo>
                  <a:pt x="4119" y="1951"/>
                </a:lnTo>
                <a:lnTo>
                  <a:pt x="4121" y="1951"/>
                </a:lnTo>
                <a:lnTo>
                  <a:pt x="4123" y="1951"/>
                </a:lnTo>
                <a:lnTo>
                  <a:pt x="4125" y="1951"/>
                </a:lnTo>
                <a:lnTo>
                  <a:pt x="4127" y="1951"/>
                </a:lnTo>
                <a:lnTo>
                  <a:pt x="4129" y="1951"/>
                </a:lnTo>
                <a:lnTo>
                  <a:pt x="4131" y="1951"/>
                </a:lnTo>
                <a:lnTo>
                  <a:pt x="4133" y="1951"/>
                </a:lnTo>
                <a:lnTo>
                  <a:pt x="4135" y="1951"/>
                </a:lnTo>
                <a:lnTo>
                  <a:pt x="4137" y="1952"/>
                </a:lnTo>
                <a:lnTo>
                  <a:pt x="4139" y="1952"/>
                </a:lnTo>
                <a:lnTo>
                  <a:pt x="4141" y="1952"/>
                </a:lnTo>
                <a:lnTo>
                  <a:pt x="4143" y="1952"/>
                </a:lnTo>
                <a:lnTo>
                  <a:pt x="4145" y="1952"/>
                </a:lnTo>
                <a:lnTo>
                  <a:pt x="4147" y="1952"/>
                </a:lnTo>
                <a:lnTo>
                  <a:pt x="4149" y="1952"/>
                </a:lnTo>
                <a:lnTo>
                  <a:pt x="4151" y="1952"/>
                </a:lnTo>
                <a:lnTo>
                  <a:pt x="4153" y="1952"/>
                </a:lnTo>
                <a:lnTo>
                  <a:pt x="4155" y="1952"/>
                </a:lnTo>
                <a:lnTo>
                  <a:pt x="4157" y="1952"/>
                </a:lnTo>
                <a:lnTo>
                  <a:pt x="4159" y="1952"/>
                </a:lnTo>
                <a:lnTo>
                  <a:pt x="4161" y="1952"/>
                </a:lnTo>
                <a:lnTo>
                  <a:pt x="4163" y="1952"/>
                </a:lnTo>
                <a:lnTo>
                  <a:pt x="4165" y="1952"/>
                </a:lnTo>
                <a:lnTo>
                  <a:pt x="4167" y="1952"/>
                </a:lnTo>
                <a:lnTo>
                  <a:pt x="4169" y="1953"/>
                </a:lnTo>
                <a:lnTo>
                  <a:pt x="4171" y="1953"/>
                </a:lnTo>
                <a:lnTo>
                  <a:pt x="4173" y="1953"/>
                </a:lnTo>
                <a:lnTo>
                  <a:pt x="4175" y="1953"/>
                </a:lnTo>
                <a:lnTo>
                  <a:pt x="4177" y="1953"/>
                </a:lnTo>
                <a:lnTo>
                  <a:pt x="4179" y="1953"/>
                </a:lnTo>
                <a:lnTo>
                  <a:pt x="4181" y="1953"/>
                </a:lnTo>
                <a:lnTo>
                  <a:pt x="4183" y="1953"/>
                </a:lnTo>
                <a:lnTo>
                  <a:pt x="4185" y="1953"/>
                </a:lnTo>
                <a:lnTo>
                  <a:pt x="4187" y="1953"/>
                </a:lnTo>
                <a:lnTo>
                  <a:pt x="4189" y="1953"/>
                </a:lnTo>
                <a:lnTo>
                  <a:pt x="4191" y="1952"/>
                </a:lnTo>
                <a:lnTo>
                  <a:pt x="4193" y="1952"/>
                </a:lnTo>
                <a:lnTo>
                  <a:pt x="4195" y="1952"/>
                </a:lnTo>
                <a:lnTo>
                  <a:pt x="4197" y="1952"/>
                </a:lnTo>
                <a:lnTo>
                  <a:pt x="4199" y="1952"/>
                </a:lnTo>
                <a:lnTo>
                  <a:pt x="4201" y="1952"/>
                </a:lnTo>
                <a:lnTo>
                  <a:pt x="4203" y="1952"/>
                </a:lnTo>
                <a:lnTo>
                  <a:pt x="4205" y="1952"/>
                </a:lnTo>
                <a:lnTo>
                  <a:pt x="4207" y="1952"/>
                </a:lnTo>
                <a:lnTo>
                  <a:pt x="4209" y="1952"/>
                </a:lnTo>
                <a:lnTo>
                  <a:pt x="4211" y="1952"/>
                </a:lnTo>
                <a:lnTo>
                  <a:pt x="4213" y="1952"/>
                </a:lnTo>
                <a:lnTo>
                  <a:pt x="4215" y="1952"/>
                </a:lnTo>
                <a:lnTo>
                  <a:pt x="4217" y="1952"/>
                </a:lnTo>
                <a:lnTo>
                  <a:pt x="4219" y="1952"/>
                </a:lnTo>
                <a:lnTo>
                  <a:pt x="4221" y="1951"/>
                </a:lnTo>
                <a:lnTo>
                  <a:pt x="4223" y="1951"/>
                </a:lnTo>
                <a:lnTo>
                  <a:pt x="4225" y="1951"/>
                </a:lnTo>
                <a:lnTo>
                  <a:pt x="4226" y="1951"/>
                </a:lnTo>
                <a:lnTo>
                  <a:pt x="4228" y="1950"/>
                </a:lnTo>
                <a:lnTo>
                  <a:pt x="4230" y="1950"/>
                </a:lnTo>
                <a:lnTo>
                  <a:pt x="4232" y="1950"/>
                </a:lnTo>
                <a:lnTo>
                  <a:pt x="4234" y="1949"/>
                </a:lnTo>
                <a:lnTo>
                  <a:pt x="4236" y="1948"/>
                </a:lnTo>
                <a:lnTo>
                  <a:pt x="4238" y="1948"/>
                </a:lnTo>
                <a:lnTo>
                  <a:pt x="4240" y="1947"/>
                </a:lnTo>
                <a:lnTo>
                  <a:pt x="4242" y="1946"/>
                </a:lnTo>
                <a:lnTo>
                  <a:pt x="4244" y="1945"/>
                </a:lnTo>
                <a:lnTo>
                  <a:pt x="4246" y="1944"/>
                </a:lnTo>
                <a:lnTo>
                  <a:pt x="4248" y="1943"/>
                </a:lnTo>
                <a:lnTo>
                  <a:pt x="4250" y="1942"/>
                </a:lnTo>
                <a:lnTo>
                  <a:pt x="4252" y="1941"/>
                </a:lnTo>
                <a:lnTo>
                  <a:pt x="4254" y="1939"/>
                </a:lnTo>
                <a:lnTo>
                  <a:pt x="4256" y="1938"/>
                </a:lnTo>
                <a:lnTo>
                  <a:pt x="4258" y="1936"/>
                </a:lnTo>
                <a:lnTo>
                  <a:pt x="4260" y="1934"/>
                </a:lnTo>
                <a:lnTo>
                  <a:pt x="4262" y="1931"/>
                </a:lnTo>
                <a:lnTo>
                  <a:pt x="4264" y="1929"/>
                </a:lnTo>
                <a:lnTo>
                  <a:pt x="4266" y="1926"/>
                </a:lnTo>
                <a:lnTo>
                  <a:pt x="4268" y="1923"/>
                </a:lnTo>
                <a:lnTo>
                  <a:pt x="4270" y="1920"/>
                </a:lnTo>
                <a:lnTo>
                  <a:pt x="4272" y="1916"/>
                </a:lnTo>
                <a:lnTo>
                  <a:pt x="4274" y="1912"/>
                </a:lnTo>
                <a:lnTo>
                  <a:pt x="4276" y="1908"/>
                </a:lnTo>
                <a:lnTo>
                  <a:pt x="4278" y="1903"/>
                </a:lnTo>
                <a:lnTo>
                  <a:pt x="4280" y="1898"/>
                </a:lnTo>
                <a:lnTo>
                  <a:pt x="4282" y="1892"/>
                </a:lnTo>
                <a:lnTo>
                  <a:pt x="4284" y="1886"/>
                </a:lnTo>
                <a:lnTo>
                  <a:pt x="4286" y="1880"/>
                </a:lnTo>
                <a:lnTo>
                  <a:pt x="4288" y="1873"/>
                </a:lnTo>
                <a:lnTo>
                  <a:pt x="4290" y="1866"/>
                </a:lnTo>
                <a:lnTo>
                  <a:pt x="4292" y="1856"/>
                </a:lnTo>
                <a:lnTo>
                  <a:pt x="4294" y="1848"/>
                </a:lnTo>
                <a:lnTo>
                  <a:pt x="4296" y="1840"/>
                </a:lnTo>
                <a:lnTo>
                  <a:pt x="4298" y="1831"/>
                </a:lnTo>
                <a:lnTo>
                  <a:pt x="4300" y="1821"/>
                </a:lnTo>
                <a:lnTo>
                  <a:pt x="4302" y="1811"/>
                </a:lnTo>
                <a:lnTo>
                  <a:pt x="4304" y="1800"/>
                </a:lnTo>
                <a:lnTo>
                  <a:pt x="4306" y="1789"/>
                </a:lnTo>
                <a:lnTo>
                  <a:pt x="4308" y="1776"/>
                </a:lnTo>
                <a:lnTo>
                  <a:pt x="4310" y="1763"/>
                </a:lnTo>
                <a:lnTo>
                  <a:pt x="4312" y="1751"/>
                </a:lnTo>
                <a:lnTo>
                  <a:pt x="4314" y="1738"/>
                </a:lnTo>
                <a:lnTo>
                  <a:pt x="4316" y="1724"/>
                </a:lnTo>
                <a:lnTo>
                  <a:pt x="4318" y="1710"/>
                </a:lnTo>
                <a:lnTo>
                  <a:pt x="4320" y="1695"/>
                </a:lnTo>
                <a:lnTo>
                  <a:pt x="4322" y="1679"/>
                </a:lnTo>
                <a:lnTo>
                  <a:pt x="4324" y="1665"/>
                </a:lnTo>
                <a:lnTo>
                  <a:pt x="4326" y="1650"/>
                </a:lnTo>
                <a:lnTo>
                  <a:pt x="4328" y="1634"/>
                </a:lnTo>
                <a:lnTo>
                  <a:pt x="4330" y="1618"/>
                </a:lnTo>
                <a:lnTo>
                  <a:pt x="4332" y="1599"/>
                </a:lnTo>
                <a:lnTo>
                  <a:pt x="4334" y="1584"/>
                </a:lnTo>
                <a:lnTo>
                  <a:pt x="4336" y="1567"/>
                </a:lnTo>
                <a:lnTo>
                  <a:pt x="4338" y="1550"/>
                </a:lnTo>
                <a:lnTo>
                  <a:pt x="4340" y="1533"/>
                </a:lnTo>
                <a:lnTo>
                  <a:pt x="4342" y="1513"/>
                </a:lnTo>
                <a:lnTo>
                  <a:pt x="4344" y="1498"/>
                </a:lnTo>
                <a:lnTo>
                  <a:pt x="4346" y="1480"/>
                </a:lnTo>
                <a:lnTo>
                  <a:pt x="4348" y="1463"/>
                </a:lnTo>
                <a:lnTo>
                  <a:pt x="4350" y="1445"/>
                </a:lnTo>
                <a:lnTo>
                  <a:pt x="4352" y="1427"/>
                </a:lnTo>
                <a:lnTo>
                  <a:pt x="4354" y="1411"/>
                </a:lnTo>
                <a:lnTo>
                  <a:pt x="4356" y="1394"/>
                </a:lnTo>
                <a:lnTo>
                  <a:pt x="4358" y="1377"/>
                </a:lnTo>
                <a:lnTo>
                  <a:pt x="4360" y="1360"/>
                </a:lnTo>
                <a:lnTo>
                  <a:pt x="4362" y="1342"/>
                </a:lnTo>
                <a:lnTo>
                  <a:pt x="4364" y="1328"/>
                </a:lnTo>
                <a:lnTo>
                  <a:pt x="4366" y="1313"/>
                </a:lnTo>
                <a:lnTo>
                  <a:pt x="4368" y="1298"/>
                </a:lnTo>
                <a:lnTo>
                  <a:pt x="4370" y="1284"/>
                </a:lnTo>
                <a:lnTo>
                  <a:pt x="4372" y="1269"/>
                </a:lnTo>
                <a:lnTo>
                  <a:pt x="4374" y="1257"/>
                </a:lnTo>
                <a:lnTo>
                  <a:pt x="4376" y="1245"/>
                </a:lnTo>
                <a:lnTo>
                  <a:pt x="4378" y="1233"/>
                </a:lnTo>
                <a:lnTo>
                  <a:pt x="4380" y="1223"/>
                </a:lnTo>
                <a:lnTo>
                  <a:pt x="4382" y="1213"/>
                </a:lnTo>
                <a:lnTo>
                  <a:pt x="4384" y="1204"/>
                </a:lnTo>
                <a:lnTo>
                  <a:pt x="4386" y="1195"/>
                </a:lnTo>
                <a:lnTo>
                  <a:pt x="4388" y="1187"/>
                </a:lnTo>
                <a:lnTo>
                  <a:pt x="4390" y="1179"/>
                </a:lnTo>
                <a:lnTo>
                  <a:pt x="4392" y="1174"/>
                </a:lnTo>
                <a:lnTo>
                  <a:pt x="4394" y="1169"/>
                </a:lnTo>
                <a:lnTo>
                  <a:pt x="4395" y="1165"/>
                </a:lnTo>
                <a:lnTo>
                  <a:pt x="4397" y="1162"/>
                </a:lnTo>
                <a:lnTo>
                  <a:pt x="4399" y="1160"/>
                </a:lnTo>
                <a:lnTo>
                  <a:pt x="4401" y="1159"/>
                </a:lnTo>
                <a:lnTo>
                  <a:pt x="4403" y="1158"/>
                </a:lnTo>
                <a:lnTo>
                  <a:pt x="4405" y="1159"/>
                </a:lnTo>
                <a:lnTo>
                  <a:pt x="4407" y="1160"/>
                </a:lnTo>
                <a:lnTo>
                  <a:pt x="4409" y="1163"/>
                </a:lnTo>
                <a:lnTo>
                  <a:pt x="4411" y="1166"/>
                </a:lnTo>
                <a:lnTo>
                  <a:pt x="4413" y="1171"/>
                </a:lnTo>
                <a:lnTo>
                  <a:pt x="4415" y="1176"/>
                </a:lnTo>
                <a:lnTo>
                  <a:pt x="4417" y="1182"/>
                </a:lnTo>
                <a:lnTo>
                  <a:pt x="4419" y="1189"/>
                </a:lnTo>
                <a:lnTo>
                  <a:pt x="4421" y="1197"/>
                </a:lnTo>
                <a:lnTo>
                  <a:pt x="4423" y="1206"/>
                </a:lnTo>
                <a:lnTo>
                  <a:pt x="4425" y="1215"/>
                </a:lnTo>
                <a:lnTo>
                  <a:pt x="4427" y="1225"/>
                </a:lnTo>
                <a:lnTo>
                  <a:pt x="4429" y="1236"/>
                </a:lnTo>
                <a:lnTo>
                  <a:pt x="4431" y="1247"/>
                </a:lnTo>
                <a:lnTo>
                  <a:pt x="4433" y="1258"/>
                </a:lnTo>
                <a:lnTo>
                  <a:pt x="4435" y="1271"/>
                </a:lnTo>
                <a:lnTo>
                  <a:pt x="4437" y="1286"/>
                </a:lnTo>
                <a:lnTo>
                  <a:pt x="4439" y="1300"/>
                </a:lnTo>
                <a:lnTo>
                  <a:pt x="4441" y="1314"/>
                </a:lnTo>
                <a:lnTo>
                  <a:pt x="4443" y="1328"/>
                </a:lnTo>
                <a:lnTo>
                  <a:pt x="4445" y="1342"/>
                </a:lnTo>
                <a:lnTo>
                  <a:pt x="4447" y="1358"/>
                </a:lnTo>
                <a:lnTo>
                  <a:pt x="4449" y="1374"/>
                </a:lnTo>
                <a:lnTo>
                  <a:pt x="4451" y="1390"/>
                </a:lnTo>
                <a:lnTo>
                  <a:pt x="4453" y="1406"/>
                </a:lnTo>
                <a:lnTo>
                  <a:pt x="4455" y="1421"/>
                </a:lnTo>
                <a:lnTo>
                  <a:pt x="4457" y="1436"/>
                </a:lnTo>
                <a:lnTo>
                  <a:pt x="4459" y="1454"/>
                </a:lnTo>
                <a:lnTo>
                  <a:pt x="4461" y="1470"/>
                </a:lnTo>
                <a:lnTo>
                  <a:pt x="4463" y="1485"/>
                </a:lnTo>
                <a:lnTo>
                  <a:pt x="4465" y="1501"/>
                </a:lnTo>
                <a:lnTo>
                  <a:pt x="4467" y="1515"/>
                </a:lnTo>
                <a:lnTo>
                  <a:pt x="4469" y="1532"/>
                </a:lnTo>
                <a:lnTo>
                  <a:pt x="4471" y="1548"/>
                </a:lnTo>
                <a:lnTo>
                  <a:pt x="4473" y="1563"/>
                </a:lnTo>
                <a:lnTo>
                  <a:pt x="4475" y="1578"/>
                </a:lnTo>
                <a:lnTo>
                  <a:pt x="4477" y="1592"/>
                </a:lnTo>
                <a:lnTo>
                  <a:pt x="4479" y="1606"/>
                </a:lnTo>
                <a:lnTo>
                  <a:pt x="4481" y="1622"/>
                </a:lnTo>
                <a:lnTo>
                  <a:pt x="4483" y="1636"/>
                </a:lnTo>
                <a:lnTo>
                  <a:pt x="4485" y="1650"/>
                </a:lnTo>
                <a:lnTo>
                  <a:pt x="4487" y="1663"/>
                </a:lnTo>
                <a:lnTo>
                  <a:pt x="4489" y="1676"/>
                </a:lnTo>
                <a:lnTo>
                  <a:pt x="4491" y="1687"/>
                </a:lnTo>
                <a:lnTo>
                  <a:pt x="4493" y="1701"/>
                </a:lnTo>
                <a:lnTo>
                  <a:pt x="4495" y="1713"/>
                </a:lnTo>
                <a:lnTo>
                  <a:pt x="4497" y="1724"/>
                </a:lnTo>
                <a:lnTo>
                  <a:pt x="4499" y="1735"/>
                </a:lnTo>
                <a:lnTo>
                  <a:pt x="4501" y="1745"/>
                </a:lnTo>
                <a:lnTo>
                  <a:pt x="4503" y="1756"/>
                </a:lnTo>
                <a:lnTo>
                  <a:pt x="4505" y="1765"/>
                </a:lnTo>
                <a:lnTo>
                  <a:pt x="4507" y="1774"/>
                </a:lnTo>
                <a:lnTo>
                  <a:pt x="4509" y="1785"/>
                </a:lnTo>
                <a:lnTo>
                  <a:pt x="4511" y="1794"/>
                </a:lnTo>
                <a:lnTo>
                  <a:pt x="4513" y="1802"/>
                </a:lnTo>
                <a:lnTo>
                  <a:pt x="4515" y="1810"/>
                </a:lnTo>
                <a:lnTo>
                  <a:pt x="4517" y="1818"/>
                </a:lnTo>
                <a:lnTo>
                  <a:pt x="4519" y="1825"/>
                </a:lnTo>
                <a:lnTo>
                  <a:pt x="4521" y="1832"/>
                </a:lnTo>
                <a:lnTo>
                  <a:pt x="4523" y="1838"/>
                </a:lnTo>
                <a:lnTo>
                  <a:pt x="4525" y="1845"/>
                </a:lnTo>
                <a:lnTo>
                  <a:pt x="4527" y="1850"/>
                </a:lnTo>
                <a:lnTo>
                  <a:pt x="4529" y="1855"/>
                </a:lnTo>
                <a:lnTo>
                  <a:pt x="4531" y="1863"/>
                </a:lnTo>
                <a:lnTo>
                  <a:pt x="4533" y="1868"/>
                </a:lnTo>
                <a:lnTo>
                  <a:pt x="4535" y="1873"/>
                </a:lnTo>
                <a:lnTo>
                  <a:pt x="4537" y="1878"/>
                </a:lnTo>
                <a:lnTo>
                  <a:pt x="4539" y="1882"/>
                </a:lnTo>
                <a:lnTo>
                  <a:pt x="4541" y="1886"/>
                </a:lnTo>
                <a:lnTo>
                  <a:pt x="4543" y="1890"/>
                </a:lnTo>
                <a:lnTo>
                  <a:pt x="4545" y="1894"/>
                </a:lnTo>
                <a:lnTo>
                  <a:pt x="4547" y="1897"/>
                </a:lnTo>
                <a:lnTo>
                  <a:pt x="4549" y="1900"/>
                </a:lnTo>
                <a:lnTo>
                  <a:pt x="4551" y="1903"/>
                </a:lnTo>
                <a:lnTo>
                  <a:pt x="4553" y="1906"/>
                </a:lnTo>
                <a:lnTo>
                  <a:pt x="4555" y="1909"/>
                </a:lnTo>
                <a:lnTo>
                  <a:pt x="4557" y="1911"/>
                </a:lnTo>
                <a:lnTo>
                  <a:pt x="4559" y="1914"/>
                </a:lnTo>
                <a:lnTo>
                  <a:pt x="4561" y="1916"/>
                </a:lnTo>
                <a:lnTo>
                  <a:pt x="4563" y="1918"/>
                </a:lnTo>
                <a:lnTo>
                  <a:pt x="4564" y="1920"/>
                </a:lnTo>
                <a:lnTo>
                  <a:pt x="4566" y="1922"/>
                </a:lnTo>
                <a:lnTo>
                  <a:pt x="4568" y="1923"/>
                </a:lnTo>
                <a:lnTo>
                  <a:pt x="4570" y="1925"/>
                </a:lnTo>
                <a:lnTo>
                  <a:pt x="4572" y="1926"/>
                </a:lnTo>
                <a:lnTo>
                  <a:pt x="4574" y="1928"/>
                </a:lnTo>
                <a:lnTo>
                  <a:pt x="4576" y="1929"/>
                </a:lnTo>
                <a:lnTo>
                  <a:pt x="4578" y="1930"/>
                </a:lnTo>
                <a:lnTo>
                  <a:pt x="4580" y="1931"/>
                </a:lnTo>
                <a:lnTo>
                  <a:pt x="4582" y="1932"/>
                </a:lnTo>
                <a:lnTo>
                  <a:pt x="4584" y="1933"/>
                </a:lnTo>
                <a:lnTo>
                  <a:pt x="4586" y="1934"/>
                </a:lnTo>
                <a:lnTo>
                  <a:pt x="4588" y="1935"/>
                </a:lnTo>
                <a:lnTo>
                  <a:pt x="4590" y="1936"/>
                </a:lnTo>
                <a:lnTo>
                  <a:pt x="4592" y="1936"/>
                </a:lnTo>
                <a:lnTo>
                  <a:pt x="4594" y="1937"/>
                </a:lnTo>
                <a:lnTo>
                  <a:pt x="4596" y="1938"/>
                </a:lnTo>
                <a:lnTo>
                  <a:pt x="4598" y="1938"/>
                </a:lnTo>
                <a:lnTo>
                  <a:pt x="4600" y="1937"/>
                </a:lnTo>
                <a:lnTo>
                  <a:pt x="4602" y="1939"/>
                </a:lnTo>
                <a:lnTo>
                  <a:pt x="4604" y="1941"/>
                </a:lnTo>
                <a:lnTo>
                  <a:pt x="4606" y="1941"/>
                </a:lnTo>
                <a:lnTo>
                  <a:pt x="4608" y="1942"/>
                </a:lnTo>
                <a:lnTo>
                  <a:pt x="4610" y="1942"/>
                </a:lnTo>
                <a:lnTo>
                  <a:pt x="4612" y="1943"/>
                </a:lnTo>
                <a:lnTo>
                  <a:pt x="4614" y="1943"/>
                </a:lnTo>
                <a:lnTo>
                  <a:pt x="4616" y="1943"/>
                </a:lnTo>
                <a:lnTo>
                  <a:pt x="4618" y="1944"/>
                </a:lnTo>
                <a:lnTo>
                  <a:pt x="4620" y="1944"/>
                </a:lnTo>
                <a:lnTo>
                  <a:pt x="4622" y="1944"/>
                </a:lnTo>
                <a:lnTo>
                  <a:pt x="4624" y="1945"/>
                </a:lnTo>
                <a:lnTo>
                  <a:pt x="4626" y="1945"/>
                </a:lnTo>
                <a:lnTo>
                  <a:pt x="4628" y="1945"/>
                </a:lnTo>
                <a:lnTo>
                  <a:pt x="4630" y="1945"/>
                </a:lnTo>
                <a:lnTo>
                  <a:pt x="4632" y="1946"/>
                </a:lnTo>
                <a:lnTo>
                  <a:pt x="4634" y="1946"/>
                </a:lnTo>
                <a:lnTo>
                  <a:pt x="4636" y="1946"/>
                </a:lnTo>
                <a:lnTo>
                  <a:pt x="4638" y="1946"/>
                </a:lnTo>
                <a:lnTo>
                  <a:pt x="4640" y="1946"/>
                </a:lnTo>
                <a:lnTo>
                  <a:pt x="4642" y="1946"/>
                </a:lnTo>
                <a:lnTo>
                  <a:pt x="4644" y="1947"/>
                </a:lnTo>
                <a:lnTo>
                  <a:pt x="4646" y="1947"/>
                </a:lnTo>
                <a:lnTo>
                  <a:pt x="4648" y="1947"/>
                </a:lnTo>
                <a:lnTo>
                  <a:pt x="4650" y="1947"/>
                </a:lnTo>
                <a:lnTo>
                  <a:pt x="4652" y="1947"/>
                </a:lnTo>
                <a:lnTo>
                  <a:pt x="4654" y="1947"/>
                </a:lnTo>
                <a:lnTo>
                  <a:pt x="4656" y="1948"/>
                </a:lnTo>
                <a:lnTo>
                  <a:pt x="4658" y="1948"/>
                </a:lnTo>
                <a:lnTo>
                  <a:pt x="4660" y="1948"/>
                </a:lnTo>
                <a:lnTo>
                  <a:pt x="4662" y="1948"/>
                </a:lnTo>
                <a:lnTo>
                  <a:pt x="4664" y="1948"/>
                </a:lnTo>
                <a:lnTo>
                  <a:pt x="4666" y="1948"/>
                </a:lnTo>
                <a:lnTo>
                  <a:pt x="4668" y="1948"/>
                </a:lnTo>
                <a:lnTo>
                  <a:pt x="4670" y="1948"/>
                </a:lnTo>
                <a:lnTo>
                  <a:pt x="4672" y="1948"/>
                </a:lnTo>
                <a:lnTo>
                  <a:pt x="4674" y="1948"/>
                </a:lnTo>
                <a:lnTo>
                  <a:pt x="4676" y="1949"/>
                </a:lnTo>
                <a:lnTo>
                  <a:pt x="4678" y="1949"/>
                </a:lnTo>
                <a:lnTo>
                  <a:pt x="4680" y="1949"/>
                </a:lnTo>
                <a:lnTo>
                  <a:pt x="4682" y="1949"/>
                </a:lnTo>
                <a:lnTo>
                  <a:pt x="4684" y="1949"/>
                </a:lnTo>
                <a:lnTo>
                  <a:pt x="4686" y="1949"/>
                </a:lnTo>
                <a:lnTo>
                  <a:pt x="4688" y="1949"/>
                </a:lnTo>
                <a:lnTo>
                  <a:pt x="4690" y="1949"/>
                </a:lnTo>
                <a:lnTo>
                  <a:pt x="4692" y="1949"/>
                </a:lnTo>
                <a:lnTo>
                  <a:pt x="4694" y="1949"/>
                </a:lnTo>
                <a:lnTo>
                  <a:pt x="4696" y="1949"/>
                </a:lnTo>
                <a:lnTo>
                  <a:pt x="4698" y="1950"/>
                </a:lnTo>
                <a:lnTo>
                  <a:pt x="4700" y="1950"/>
                </a:lnTo>
                <a:lnTo>
                  <a:pt x="4702" y="1950"/>
                </a:lnTo>
                <a:lnTo>
                  <a:pt x="4704" y="1950"/>
                </a:lnTo>
                <a:lnTo>
                  <a:pt x="4706" y="1950"/>
                </a:lnTo>
                <a:lnTo>
                  <a:pt x="4708" y="1950"/>
                </a:lnTo>
                <a:lnTo>
                  <a:pt x="4710" y="1950"/>
                </a:lnTo>
                <a:lnTo>
                  <a:pt x="4712" y="1950"/>
                </a:lnTo>
                <a:lnTo>
                  <a:pt x="4714" y="1950"/>
                </a:lnTo>
                <a:lnTo>
                  <a:pt x="4716" y="1950"/>
                </a:lnTo>
                <a:lnTo>
                  <a:pt x="4718" y="1950"/>
                </a:lnTo>
                <a:lnTo>
                  <a:pt x="4720" y="1950"/>
                </a:lnTo>
                <a:lnTo>
                  <a:pt x="4722" y="1950"/>
                </a:lnTo>
                <a:lnTo>
                  <a:pt x="4724" y="1950"/>
                </a:lnTo>
                <a:lnTo>
                  <a:pt x="4726" y="1950"/>
                </a:lnTo>
                <a:lnTo>
                  <a:pt x="4728" y="1950"/>
                </a:lnTo>
                <a:lnTo>
                  <a:pt x="4730" y="1950"/>
                </a:lnTo>
                <a:lnTo>
                  <a:pt x="4732" y="1950"/>
                </a:lnTo>
                <a:lnTo>
                  <a:pt x="4733" y="1951"/>
                </a:lnTo>
                <a:lnTo>
                  <a:pt x="4735" y="1951"/>
                </a:lnTo>
                <a:lnTo>
                  <a:pt x="4737" y="1951"/>
                </a:lnTo>
                <a:lnTo>
                  <a:pt x="4739" y="1951"/>
                </a:lnTo>
                <a:lnTo>
                  <a:pt x="4741" y="1951"/>
                </a:lnTo>
                <a:lnTo>
                  <a:pt x="4743" y="1951"/>
                </a:lnTo>
                <a:lnTo>
                  <a:pt x="4745" y="1951"/>
                </a:lnTo>
                <a:lnTo>
                  <a:pt x="4747" y="1951"/>
                </a:lnTo>
                <a:lnTo>
                  <a:pt x="4749" y="1951"/>
                </a:lnTo>
                <a:lnTo>
                  <a:pt x="4751" y="1951"/>
                </a:lnTo>
                <a:lnTo>
                  <a:pt x="4753" y="1951"/>
                </a:lnTo>
                <a:lnTo>
                  <a:pt x="4755" y="1951"/>
                </a:lnTo>
                <a:lnTo>
                  <a:pt x="4757" y="1951"/>
                </a:lnTo>
                <a:lnTo>
                  <a:pt x="4759" y="1951"/>
                </a:lnTo>
                <a:lnTo>
                  <a:pt x="4761" y="1951"/>
                </a:lnTo>
                <a:lnTo>
                  <a:pt x="4763" y="1951"/>
                </a:lnTo>
                <a:lnTo>
                  <a:pt x="4765" y="1951"/>
                </a:lnTo>
                <a:lnTo>
                  <a:pt x="4767" y="1951"/>
                </a:lnTo>
                <a:lnTo>
                  <a:pt x="4769" y="1951"/>
                </a:lnTo>
                <a:lnTo>
                  <a:pt x="4771" y="1951"/>
                </a:lnTo>
                <a:lnTo>
                  <a:pt x="4773" y="1951"/>
                </a:lnTo>
                <a:lnTo>
                  <a:pt x="4775" y="1951"/>
                </a:lnTo>
                <a:lnTo>
                  <a:pt x="4777" y="1951"/>
                </a:lnTo>
                <a:lnTo>
                  <a:pt x="4779" y="1951"/>
                </a:lnTo>
                <a:lnTo>
                  <a:pt x="4781" y="1951"/>
                </a:lnTo>
                <a:lnTo>
                  <a:pt x="4783" y="1951"/>
                </a:lnTo>
                <a:lnTo>
                  <a:pt x="4785" y="1952"/>
                </a:lnTo>
                <a:lnTo>
                  <a:pt x="4787" y="1952"/>
                </a:lnTo>
                <a:lnTo>
                  <a:pt x="4789" y="1952"/>
                </a:lnTo>
                <a:lnTo>
                  <a:pt x="4791" y="1952"/>
                </a:lnTo>
                <a:lnTo>
                  <a:pt x="4793" y="1952"/>
                </a:lnTo>
                <a:lnTo>
                  <a:pt x="4795" y="1952"/>
                </a:lnTo>
                <a:lnTo>
                  <a:pt x="4797" y="1952"/>
                </a:lnTo>
                <a:lnTo>
                  <a:pt x="4799" y="1951"/>
                </a:lnTo>
                <a:lnTo>
                  <a:pt x="4801" y="1952"/>
                </a:lnTo>
                <a:lnTo>
                  <a:pt x="4803" y="1951"/>
                </a:lnTo>
                <a:lnTo>
                  <a:pt x="4805" y="1951"/>
                </a:lnTo>
                <a:lnTo>
                  <a:pt x="4807" y="1951"/>
                </a:lnTo>
                <a:lnTo>
                  <a:pt x="4809" y="1951"/>
                </a:lnTo>
                <a:lnTo>
                  <a:pt x="4811" y="1951"/>
                </a:lnTo>
                <a:lnTo>
                  <a:pt x="4813" y="1951"/>
                </a:lnTo>
                <a:lnTo>
                  <a:pt x="4815" y="1951"/>
                </a:lnTo>
                <a:lnTo>
                  <a:pt x="4817" y="1951"/>
                </a:lnTo>
                <a:lnTo>
                  <a:pt x="4819" y="1951"/>
                </a:lnTo>
                <a:lnTo>
                  <a:pt x="4821" y="1951"/>
                </a:lnTo>
                <a:lnTo>
                  <a:pt x="4823" y="1951"/>
                </a:lnTo>
                <a:lnTo>
                  <a:pt x="4825" y="1951"/>
                </a:lnTo>
                <a:lnTo>
                  <a:pt x="4827" y="1951"/>
                </a:lnTo>
                <a:lnTo>
                  <a:pt x="4829" y="1951"/>
                </a:lnTo>
                <a:lnTo>
                  <a:pt x="4831" y="1951"/>
                </a:lnTo>
                <a:lnTo>
                  <a:pt x="4833" y="1951"/>
                </a:lnTo>
                <a:lnTo>
                  <a:pt x="4835" y="1951"/>
                </a:lnTo>
                <a:lnTo>
                  <a:pt x="4837" y="1951"/>
                </a:lnTo>
                <a:lnTo>
                  <a:pt x="4839" y="1951"/>
                </a:lnTo>
                <a:lnTo>
                  <a:pt x="4841" y="1951"/>
                </a:lnTo>
                <a:lnTo>
                  <a:pt x="4843" y="1951"/>
                </a:lnTo>
                <a:lnTo>
                  <a:pt x="4845" y="1951"/>
                </a:lnTo>
                <a:lnTo>
                  <a:pt x="4847" y="1951"/>
                </a:lnTo>
                <a:lnTo>
                  <a:pt x="4849" y="1951"/>
                </a:lnTo>
                <a:lnTo>
                  <a:pt x="4851" y="1951"/>
                </a:lnTo>
                <a:lnTo>
                  <a:pt x="4853" y="1951"/>
                </a:lnTo>
                <a:lnTo>
                  <a:pt x="4855" y="1951"/>
                </a:lnTo>
                <a:lnTo>
                  <a:pt x="4857" y="1951"/>
                </a:lnTo>
                <a:lnTo>
                  <a:pt x="4859" y="1951"/>
                </a:lnTo>
                <a:lnTo>
                  <a:pt x="4861" y="1951"/>
                </a:lnTo>
                <a:lnTo>
                  <a:pt x="4863" y="1951"/>
                </a:lnTo>
                <a:lnTo>
                  <a:pt x="4865" y="1951"/>
                </a:lnTo>
                <a:lnTo>
                  <a:pt x="4867" y="1951"/>
                </a:lnTo>
                <a:lnTo>
                  <a:pt x="4869" y="1951"/>
                </a:lnTo>
                <a:lnTo>
                  <a:pt x="4871" y="1951"/>
                </a:lnTo>
                <a:lnTo>
                  <a:pt x="4873" y="1951"/>
                </a:lnTo>
                <a:lnTo>
                  <a:pt x="4875" y="1952"/>
                </a:lnTo>
                <a:lnTo>
                  <a:pt x="4877" y="1952"/>
                </a:lnTo>
                <a:lnTo>
                  <a:pt x="4879" y="1952"/>
                </a:lnTo>
                <a:lnTo>
                  <a:pt x="4881" y="1952"/>
                </a:lnTo>
                <a:lnTo>
                  <a:pt x="4883" y="1952"/>
                </a:lnTo>
                <a:lnTo>
                  <a:pt x="4885" y="1952"/>
                </a:lnTo>
                <a:lnTo>
                  <a:pt x="4887" y="1952"/>
                </a:lnTo>
                <a:lnTo>
                  <a:pt x="4889" y="1952"/>
                </a:lnTo>
                <a:lnTo>
                  <a:pt x="4891" y="1951"/>
                </a:lnTo>
                <a:lnTo>
                  <a:pt x="4893" y="1951"/>
                </a:lnTo>
                <a:lnTo>
                  <a:pt x="4895" y="1951"/>
                </a:lnTo>
                <a:lnTo>
                  <a:pt x="4897" y="1951"/>
                </a:lnTo>
                <a:lnTo>
                  <a:pt x="4899" y="1951"/>
                </a:lnTo>
                <a:lnTo>
                  <a:pt x="4901" y="1951"/>
                </a:lnTo>
                <a:lnTo>
                  <a:pt x="4902" y="1951"/>
                </a:lnTo>
                <a:lnTo>
                  <a:pt x="4904" y="1951"/>
                </a:lnTo>
                <a:lnTo>
                  <a:pt x="4906" y="1951"/>
                </a:lnTo>
                <a:lnTo>
                  <a:pt x="4908" y="1951"/>
                </a:lnTo>
                <a:lnTo>
                  <a:pt x="4910" y="1951"/>
                </a:lnTo>
                <a:lnTo>
                  <a:pt x="4912" y="1951"/>
                </a:lnTo>
                <a:lnTo>
                  <a:pt x="4914" y="1951"/>
                </a:lnTo>
                <a:lnTo>
                  <a:pt x="4916" y="1951"/>
                </a:lnTo>
                <a:lnTo>
                  <a:pt x="4918" y="1951"/>
                </a:lnTo>
                <a:lnTo>
                  <a:pt x="4920" y="1951"/>
                </a:lnTo>
                <a:lnTo>
                  <a:pt x="4922" y="1951"/>
                </a:lnTo>
                <a:lnTo>
                  <a:pt x="4924" y="1951"/>
                </a:lnTo>
                <a:lnTo>
                  <a:pt x="4926" y="1951"/>
                </a:lnTo>
                <a:lnTo>
                  <a:pt x="4928" y="1951"/>
                </a:lnTo>
                <a:lnTo>
                  <a:pt x="4930" y="1951"/>
                </a:lnTo>
                <a:lnTo>
                  <a:pt x="4932" y="1951"/>
                </a:lnTo>
                <a:lnTo>
                  <a:pt x="4934" y="1951"/>
                </a:lnTo>
                <a:lnTo>
                  <a:pt x="4936" y="1951"/>
                </a:lnTo>
                <a:lnTo>
                  <a:pt x="4938" y="1951"/>
                </a:lnTo>
                <a:lnTo>
                  <a:pt x="4940" y="1951"/>
                </a:lnTo>
                <a:lnTo>
                  <a:pt x="4942" y="1951"/>
                </a:lnTo>
                <a:lnTo>
                  <a:pt x="4944" y="1951"/>
                </a:lnTo>
                <a:lnTo>
                  <a:pt x="4946" y="1951"/>
                </a:lnTo>
                <a:lnTo>
                  <a:pt x="4948" y="1951"/>
                </a:lnTo>
                <a:lnTo>
                  <a:pt x="4950" y="1951"/>
                </a:lnTo>
                <a:lnTo>
                  <a:pt x="4952" y="1951"/>
                </a:lnTo>
                <a:lnTo>
                  <a:pt x="4954" y="1951"/>
                </a:lnTo>
                <a:lnTo>
                  <a:pt x="4956" y="1951"/>
                </a:lnTo>
                <a:lnTo>
                  <a:pt x="4958" y="1951"/>
                </a:lnTo>
                <a:lnTo>
                  <a:pt x="4960" y="1950"/>
                </a:lnTo>
                <a:lnTo>
                  <a:pt x="4962" y="1950"/>
                </a:lnTo>
                <a:lnTo>
                  <a:pt x="4964" y="1950"/>
                </a:lnTo>
                <a:lnTo>
                  <a:pt x="4966" y="1950"/>
                </a:lnTo>
                <a:lnTo>
                  <a:pt x="4968" y="1950"/>
                </a:lnTo>
                <a:lnTo>
                  <a:pt x="4970" y="1950"/>
                </a:lnTo>
                <a:lnTo>
                  <a:pt x="4972" y="1950"/>
                </a:lnTo>
                <a:lnTo>
                  <a:pt x="4974" y="1950"/>
                </a:lnTo>
                <a:lnTo>
                  <a:pt x="4976" y="1950"/>
                </a:lnTo>
                <a:lnTo>
                  <a:pt x="4978" y="1950"/>
                </a:lnTo>
                <a:lnTo>
                  <a:pt x="4980" y="1950"/>
                </a:lnTo>
                <a:lnTo>
                  <a:pt x="4982" y="1949"/>
                </a:lnTo>
                <a:lnTo>
                  <a:pt x="4984" y="1949"/>
                </a:lnTo>
                <a:lnTo>
                  <a:pt x="4986" y="1949"/>
                </a:lnTo>
                <a:lnTo>
                  <a:pt x="4988" y="1949"/>
                </a:lnTo>
                <a:lnTo>
                  <a:pt x="4990" y="1949"/>
                </a:lnTo>
                <a:lnTo>
                  <a:pt x="4992" y="1948"/>
                </a:lnTo>
                <a:lnTo>
                  <a:pt x="4994" y="1948"/>
                </a:lnTo>
                <a:lnTo>
                  <a:pt x="4996" y="1947"/>
                </a:lnTo>
                <a:lnTo>
                  <a:pt x="4998" y="1947"/>
                </a:lnTo>
                <a:lnTo>
                  <a:pt x="5000" y="1946"/>
                </a:lnTo>
                <a:lnTo>
                  <a:pt x="5002" y="1945"/>
                </a:lnTo>
                <a:lnTo>
                  <a:pt x="5004" y="1944"/>
                </a:lnTo>
                <a:lnTo>
                  <a:pt x="5006" y="1943"/>
                </a:lnTo>
                <a:lnTo>
                  <a:pt x="5008" y="1942"/>
                </a:lnTo>
                <a:lnTo>
                  <a:pt x="5010" y="1940"/>
                </a:lnTo>
                <a:lnTo>
                  <a:pt x="5012" y="1939"/>
                </a:lnTo>
                <a:lnTo>
                  <a:pt x="5014" y="1937"/>
                </a:lnTo>
                <a:lnTo>
                  <a:pt x="5016" y="1935"/>
                </a:lnTo>
                <a:lnTo>
                  <a:pt x="5018" y="1933"/>
                </a:lnTo>
                <a:lnTo>
                  <a:pt x="5020" y="1930"/>
                </a:lnTo>
                <a:lnTo>
                  <a:pt x="5022" y="1927"/>
                </a:lnTo>
                <a:lnTo>
                  <a:pt x="5024" y="1924"/>
                </a:lnTo>
                <a:lnTo>
                  <a:pt x="5026" y="1921"/>
                </a:lnTo>
                <a:lnTo>
                  <a:pt x="5028" y="1917"/>
                </a:lnTo>
                <a:lnTo>
                  <a:pt x="5030" y="1913"/>
                </a:lnTo>
                <a:lnTo>
                  <a:pt x="5032" y="1909"/>
                </a:lnTo>
                <a:lnTo>
                  <a:pt x="5034" y="1904"/>
                </a:lnTo>
                <a:lnTo>
                  <a:pt x="5036" y="1898"/>
                </a:lnTo>
                <a:lnTo>
                  <a:pt x="5038" y="1892"/>
                </a:lnTo>
                <a:lnTo>
                  <a:pt x="5040" y="1886"/>
                </a:lnTo>
                <a:lnTo>
                  <a:pt x="5042" y="1879"/>
                </a:lnTo>
                <a:lnTo>
                  <a:pt x="5044" y="1871"/>
                </a:lnTo>
                <a:lnTo>
                  <a:pt x="5046" y="1863"/>
                </a:lnTo>
                <a:lnTo>
                  <a:pt x="5048" y="1852"/>
                </a:lnTo>
                <a:lnTo>
                  <a:pt x="5050" y="1845"/>
                </a:lnTo>
                <a:lnTo>
                  <a:pt x="5052" y="1834"/>
                </a:lnTo>
                <a:lnTo>
                  <a:pt x="5054" y="1824"/>
                </a:lnTo>
                <a:lnTo>
                  <a:pt x="5056" y="1813"/>
                </a:lnTo>
                <a:lnTo>
                  <a:pt x="5058" y="1801"/>
                </a:lnTo>
                <a:lnTo>
                  <a:pt x="5060" y="1789"/>
                </a:lnTo>
                <a:lnTo>
                  <a:pt x="5062" y="1774"/>
                </a:lnTo>
                <a:lnTo>
                  <a:pt x="5064" y="1761"/>
                </a:lnTo>
                <a:lnTo>
                  <a:pt x="5066" y="1747"/>
                </a:lnTo>
                <a:lnTo>
                  <a:pt x="5068" y="1732"/>
                </a:lnTo>
                <a:lnTo>
                  <a:pt x="5070" y="1717"/>
                </a:lnTo>
                <a:lnTo>
                  <a:pt x="5071" y="1701"/>
                </a:lnTo>
                <a:lnTo>
                  <a:pt x="5073" y="1682"/>
                </a:lnTo>
                <a:lnTo>
                  <a:pt x="5075" y="1667"/>
                </a:lnTo>
                <a:lnTo>
                  <a:pt x="5077" y="1649"/>
                </a:lnTo>
                <a:lnTo>
                  <a:pt x="5079" y="1632"/>
                </a:lnTo>
                <a:lnTo>
                  <a:pt x="5081" y="1612"/>
                </a:lnTo>
                <a:lnTo>
                  <a:pt x="5083" y="1593"/>
                </a:lnTo>
                <a:lnTo>
                  <a:pt x="5085" y="1575"/>
                </a:lnTo>
                <a:lnTo>
                  <a:pt x="5087" y="1555"/>
                </a:lnTo>
                <a:lnTo>
                  <a:pt x="5089" y="1534"/>
                </a:lnTo>
                <a:lnTo>
                  <a:pt x="5091" y="1511"/>
                </a:lnTo>
                <a:lnTo>
                  <a:pt x="5093" y="1492"/>
                </a:lnTo>
                <a:lnTo>
                  <a:pt x="5095" y="1471"/>
                </a:lnTo>
                <a:lnTo>
                  <a:pt x="5097" y="1449"/>
                </a:lnTo>
                <a:lnTo>
                  <a:pt x="5099" y="1425"/>
                </a:lnTo>
                <a:lnTo>
                  <a:pt x="5101" y="1404"/>
                </a:lnTo>
                <a:lnTo>
                  <a:pt x="5103" y="1382"/>
                </a:lnTo>
                <a:lnTo>
                  <a:pt x="5105" y="1357"/>
                </a:lnTo>
                <a:lnTo>
                  <a:pt x="5107" y="1334"/>
                </a:lnTo>
                <a:lnTo>
                  <a:pt x="5109" y="1312"/>
                </a:lnTo>
                <a:lnTo>
                  <a:pt x="5111" y="1288"/>
                </a:lnTo>
                <a:lnTo>
                  <a:pt x="5113" y="1262"/>
                </a:lnTo>
                <a:lnTo>
                  <a:pt x="5115" y="1241"/>
                </a:lnTo>
                <a:lnTo>
                  <a:pt x="5117" y="1217"/>
                </a:lnTo>
                <a:lnTo>
                  <a:pt x="5119" y="1193"/>
                </a:lnTo>
                <a:lnTo>
                  <a:pt x="5121" y="1169"/>
                </a:lnTo>
                <a:lnTo>
                  <a:pt x="5123" y="1147"/>
                </a:lnTo>
                <a:lnTo>
                  <a:pt x="5125" y="1124"/>
                </a:lnTo>
                <a:lnTo>
                  <a:pt x="5127" y="1099"/>
                </a:lnTo>
                <a:lnTo>
                  <a:pt x="5129" y="1078"/>
                </a:lnTo>
                <a:lnTo>
                  <a:pt x="5131" y="1056"/>
                </a:lnTo>
                <a:lnTo>
                  <a:pt x="5133" y="1035"/>
                </a:lnTo>
                <a:lnTo>
                  <a:pt x="5135" y="1011"/>
                </a:lnTo>
                <a:lnTo>
                  <a:pt x="5137" y="992"/>
                </a:lnTo>
                <a:lnTo>
                  <a:pt x="5139" y="971"/>
                </a:lnTo>
                <a:lnTo>
                  <a:pt x="5141" y="951"/>
                </a:lnTo>
                <a:lnTo>
                  <a:pt x="5143" y="929"/>
                </a:lnTo>
                <a:lnTo>
                  <a:pt x="5145" y="912"/>
                </a:lnTo>
                <a:lnTo>
                  <a:pt x="5147" y="894"/>
                </a:lnTo>
                <a:lnTo>
                  <a:pt x="5149" y="876"/>
                </a:lnTo>
                <a:lnTo>
                  <a:pt x="5151" y="859"/>
                </a:lnTo>
                <a:lnTo>
                  <a:pt x="5153" y="841"/>
                </a:lnTo>
                <a:lnTo>
                  <a:pt x="5155" y="827"/>
                </a:lnTo>
                <a:lnTo>
                  <a:pt x="5157" y="812"/>
                </a:lnTo>
                <a:lnTo>
                  <a:pt x="5159" y="799"/>
                </a:lnTo>
                <a:lnTo>
                  <a:pt x="5161" y="786"/>
                </a:lnTo>
                <a:lnTo>
                  <a:pt x="5163" y="774"/>
                </a:lnTo>
                <a:lnTo>
                  <a:pt x="5165" y="760"/>
                </a:lnTo>
                <a:lnTo>
                  <a:pt x="5167" y="752"/>
                </a:lnTo>
                <a:lnTo>
                  <a:pt x="5169" y="743"/>
                </a:lnTo>
                <a:lnTo>
                  <a:pt x="5171" y="735"/>
                </a:lnTo>
                <a:lnTo>
                  <a:pt x="5173" y="729"/>
                </a:lnTo>
                <a:lnTo>
                  <a:pt x="5175" y="723"/>
                </a:lnTo>
                <a:lnTo>
                  <a:pt x="5177" y="718"/>
                </a:lnTo>
                <a:lnTo>
                  <a:pt x="5179" y="715"/>
                </a:lnTo>
                <a:lnTo>
                  <a:pt x="5181" y="712"/>
                </a:lnTo>
                <a:lnTo>
                  <a:pt x="5183" y="710"/>
                </a:lnTo>
                <a:lnTo>
                  <a:pt x="5185" y="709"/>
                </a:lnTo>
                <a:lnTo>
                  <a:pt x="5187" y="710"/>
                </a:lnTo>
                <a:lnTo>
                  <a:pt x="5189" y="712"/>
                </a:lnTo>
                <a:lnTo>
                  <a:pt x="5191" y="714"/>
                </a:lnTo>
                <a:lnTo>
                  <a:pt x="5193" y="718"/>
                </a:lnTo>
                <a:lnTo>
                  <a:pt x="5195" y="723"/>
                </a:lnTo>
                <a:lnTo>
                  <a:pt x="5197" y="730"/>
                </a:lnTo>
                <a:lnTo>
                  <a:pt x="5199" y="736"/>
                </a:lnTo>
                <a:lnTo>
                  <a:pt x="5201" y="744"/>
                </a:lnTo>
                <a:lnTo>
                  <a:pt x="5203" y="753"/>
                </a:lnTo>
                <a:lnTo>
                  <a:pt x="5205" y="762"/>
                </a:lnTo>
                <a:lnTo>
                  <a:pt x="5207" y="772"/>
                </a:lnTo>
                <a:lnTo>
                  <a:pt x="5209" y="783"/>
                </a:lnTo>
                <a:lnTo>
                  <a:pt x="5211" y="794"/>
                </a:lnTo>
                <a:lnTo>
                  <a:pt x="5213" y="806"/>
                </a:lnTo>
                <a:lnTo>
                  <a:pt x="5215" y="819"/>
                </a:lnTo>
                <a:lnTo>
                  <a:pt x="5217" y="832"/>
                </a:lnTo>
                <a:lnTo>
                  <a:pt x="5219" y="845"/>
                </a:lnTo>
                <a:lnTo>
                  <a:pt x="5221" y="861"/>
                </a:lnTo>
                <a:lnTo>
                  <a:pt x="5223" y="877"/>
                </a:lnTo>
                <a:lnTo>
                  <a:pt x="5225" y="892"/>
                </a:lnTo>
                <a:lnTo>
                  <a:pt x="5227" y="908"/>
                </a:lnTo>
                <a:lnTo>
                  <a:pt x="5229" y="923"/>
                </a:lnTo>
                <a:lnTo>
                  <a:pt x="5231" y="940"/>
                </a:lnTo>
                <a:lnTo>
                  <a:pt x="5233" y="958"/>
                </a:lnTo>
                <a:lnTo>
                  <a:pt x="5235" y="974"/>
                </a:lnTo>
                <a:lnTo>
                  <a:pt x="5237" y="991"/>
                </a:lnTo>
                <a:lnTo>
                  <a:pt x="5239" y="1008"/>
                </a:lnTo>
                <a:lnTo>
                  <a:pt x="5240" y="1026"/>
                </a:lnTo>
                <a:lnTo>
                  <a:pt x="5242" y="1045"/>
                </a:lnTo>
                <a:lnTo>
                  <a:pt x="5244" y="1063"/>
                </a:lnTo>
                <a:lnTo>
                  <a:pt x="5246" y="1081"/>
                </a:lnTo>
                <a:lnTo>
                  <a:pt x="5248" y="1098"/>
                </a:lnTo>
                <a:lnTo>
                  <a:pt x="5250" y="1118"/>
                </a:lnTo>
                <a:lnTo>
                  <a:pt x="5252" y="1136"/>
                </a:lnTo>
                <a:lnTo>
                  <a:pt x="5254" y="1154"/>
                </a:lnTo>
                <a:lnTo>
                  <a:pt x="5256" y="1171"/>
                </a:lnTo>
                <a:lnTo>
                  <a:pt x="5258" y="1189"/>
                </a:lnTo>
                <a:lnTo>
                  <a:pt x="5260" y="1208"/>
                </a:lnTo>
                <a:lnTo>
                  <a:pt x="5262" y="1226"/>
                </a:lnTo>
                <a:lnTo>
                  <a:pt x="5264" y="1243"/>
                </a:lnTo>
                <a:lnTo>
                  <a:pt x="5266" y="1260"/>
                </a:lnTo>
                <a:lnTo>
                  <a:pt x="5268" y="1278"/>
                </a:lnTo>
                <a:lnTo>
                  <a:pt x="5270" y="1296"/>
                </a:lnTo>
                <a:lnTo>
                  <a:pt x="5272" y="1313"/>
                </a:lnTo>
                <a:lnTo>
                  <a:pt x="5274" y="1330"/>
                </a:lnTo>
                <a:lnTo>
                  <a:pt x="5276" y="1345"/>
                </a:lnTo>
                <a:lnTo>
                  <a:pt x="5278" y="1363"/>
                </a:lnTo>
                <a:lnTo>
                  <a:pt x="5280" y="1380"/>
                </a:lnTo>
                <a:lnTo>
                  <a:pt x="5282" y="1395"/>
                </a:lnTo>
                <a:lnTo>
                  <a:pt x="5284" y="1411"/>
                </a:lnTo>
                <a:lnTo>
                  <a:pt x="5286" y="1425"/>
                </a:lnTo>
                <a:lnTo>
                  <a:pt x="5288" y="1441"/>
                </a:lnTo>
                <a:lnTo>
                  <a:pt x="5290" y="1457"/>
                </a:lnTo>
                <a:lnTo>
                  <a:pt x="5292" y="1472"/>
                </a:lnTo>
                <a:lnTo>
                  <a:pt x="5294" y="1486"/>
                </a:lnTo>
                <a:lnTo>
                  <a:pt x="5296" y="1500"/>
                </a:lnTo>
                <a:lnTo>
                  <a:pt x="5298" y="1512"/>
                </a:lnTo>
                <a:lnTo>
                  <a:pt x="5300" y="1526"/>
                </a:lnTo>
                <a:lnTo>
                  <a:pt x="5302" y="1540"/>
                </a:lnTo>
                <a:lnTo>
                  <a:pt x="5304" y="1553"/>
                </a:lnTo>
                <a:lnTo>
                  <a:pt x="5306" y="1566"/>
                </a:lnTo>
                <a:lnTo>
                  <a:pt x="5308" y="1578"/>
                </a:lnTo>
                <a:lnTo>
                  <a:pt x="5310" y="1590"/>
                </a:lnTo>
                <a:lnTo>
                  <a:pt x="5312" y="1601"/>
                </a:lnTo>
                <a:lnTo>
                  <a:pt x="5314" y="1614"/>
                </a:lnTo>
                <a:lnTo>
                  <a:pt x="5316" y="1626"/>
                </a:lnTo>
                <a:lnTo>
                  <a:pt x="5318" y="1637"/>
                </a:lnTo>
                <a:lnTo>
                  <a:pt x="5320" y="1647"/>
                </a:lnTo>
                <a:lnTo>
                  <a:pt x="5322" y="1658"/>
                </a:lnTo>
                <a:lnTo>
                  <a:pt x="5324" y="1667"/>
                </a:lnTo>
                <a:lnTo>
                  <a:pt x="5326" y="1677"/>
                </a:lnTo>
                <a:lnTo>
                  <a:pt x="5328" y="1685"/>
                </a:lnTo>
                <a:lnTo>
                  <a:pt x="5330" y="1696"/>
                </a:lnTo>
                <a:lnTo>
                  <a:pt x="5332" y="1706"/>
                </a:lnTo>
                <a:lnTo>
                  <a:pt x="5334" y="1714"/>
                </a:lnTo>
                <a:lnTo>
                  <a:pt x="5336" y="1723"/>
                </a:lnTo>
                <a:lnTo>
                  <a:pt x="5338" y="1731"/>
                </a:lnTo>
                <a:lnTo>
                  <a:pt x="5340" y="1739"/>
                </a:lnTo>
                <a:lnTo>
                  <a:pt x="5342" y="1747"/>
                </a:lnTo>
                <a:lnTo>
                  <a:pt x="5344" y="1754"/>
                </a:lnTo>
                <a:lnTo>
                  <a:pt x="5346" y="1761"/>
                </a:lnTo>
                <a:lnTo>
                  <a:pt x="5348" y="1768"/>
                </a:lnTo>
                <a:lnTo>
                  <a:pt x="5350" y="1775"/>
                </a:lnTo>
                <a:lnTo>
                  <a:pt x="5352" y="1783"/>
                </a:lnTo>
                <a:lnTo>
                  <a:pt x="5354" y="1790"/>
                </a:lnTo>
                <a:lnTo>
                  <a:pt x="5356" y="1796"/>
                </a:lnTo>
                <a:lnTo>
                  <a:pt x="5358" y="1802"/>
                </a:lnTo>
                <a:lnTo>
                  <a:pt x="5360" y="1808"/>
                </a:lnTo>
                <a:lnTo>
                  <a:pt x="5362" y="1813"/>
                </a:lnTo>
                <a:lnTo>
                  <a:pt x="5364" y="1819"/>
                </a:lnTo>
                <a:lnTo>
                  <a:pt x="5366" y="1824"/>
                </a:lnTo>
                <a:lnTo>
                  <a:pt x="5368" y="1829"/>
                </a:lnTo>
                <a:lnTo>
                  <a:pt x="5370" y="1834"/>
                </a:lnTo>
                <a:lnTo>
                  <a:pt x="5372" y="1838"/>
                </a:lnTo>
                <a:lnTo>
                  <a:pt x="5374" y="1843"/>
                </a:lnTo>
                <a:lnTo>
                  <a:pt x="5376" y="1847"/>
                </a:lnTo>
                <a:lnTo>
                  <a:pt x="5378" y="1851"/>
                </a:lnTo>
                <a:lnTo>
                  <a:pt x="5380" y="1854"/>
                </a:lnTo>
                <a:lnTo>
                  <a:pt x="5382" y="1860"/>
                </a:lnTo>
                <a:lnTo>
                  <a:pt x="5384" y="1864"/>
                </a:lnTo>
                <a:lnTo>
                  <a:pt x="5386" y="1867"/>
                </a:lnTo>
                <a:lnTo>
                  <a:pt x="5388" y="1870"/>
                </a:lnTo>
                <a:lnTo>
                  <a:pt x="5390" y="1874"/>
                </a:lnTo>
                <a:lnTo>
                  <a:pt x="5392" y="1877"/>
                </a:lnTo>
                <a:lnTo>
                  <a:pt x="5394" y="1880"/>
                </a:lnTo>
                <a:lnTo>
                  <a:pt x="5396" y="1882"/>
                </a:lnTo>
                <a:lnTo>
                  <a:pt x="5398" y="1885"/>
                </a:lnTo>
                <a:lnTo>
                  <a:pt x="5400" y="1888"/>
                </a:lnTo>
                <a:lnTo>
                  <a:pt x="5402" y="1890"/>
                </a:lnTo>
                <a:lnTo>
                  <a:pt x="5404" y="1893"/>
                </a:lnTo>
                <a:lnTo>
                  <a:pt x="5406" y="1895"/>
                </a:lnTo>
                <a:lnTo>
                  <a:pt x="5408" y="1897"/>
                </a:lnTo>
                <a:lnTo>
                  <a:pt x="5409" y="1899"/>
                </a:lnTo>
                <a:lnTo>
                  <a:pt x="5411" y="1901"/>
                </a:lnTo>
                <a:lnTo>
                  <a:pt x="5413" y="1903"/>
                </a:lnTo>
                <a:lnTo>
                  <a:pt x="5415" y="1905"/>
                </a:lnTo>
                <a:lnTo>
                  <a:pt x="5417" y="1907"/>
                </a:lnTo>
                <a:lnTo>
                  <a:pt x="5419" y="1909"/>
                </a:lnTo>
                <a:lnTo>
                  <a:pt x="5421" y="1910"/>
                </a:lnTo>
                <a:lnTo>
                  <a:pt x="5423" y="1912"/>
                </a:lnTo>
                <a:lnTo>
                  <a:pt x="5425" y="1913"/>
                </a:lnTo>
                <a:lnTo>
                  <a:pt x="5427" y="1915"/>
                </a:lnTo>
                <a:lnTo>
                  <a:pt x="5429" y="1916"/>
                </a:lnTo>
                <a:lnTo>
                  <a:pt x="5431" y="1917"/>
                </a:lnTo>
                <a:lnTo>
                  <a:pt x="5433" y="1919"/>
                </a:lnTo>
                <a:lnTo>
                  <a:pt x="5435" y="1920"/>
                </a:lnTo>
                <a:lnTo>
                  <a:pt x="5437" y="1921"/>
                </a:lnTo>
                <a:lnTo>
                  <a:pt x="5439" y="1922"/>
                </a:lnTo>
                <a:lnTo>
                  <a:pt x="5441" y="1923"/>
                </a:lnTo>
                <a:lnTo>
                  <a:pt x="5443" y="1924"/>
                </a:lnTo>
                <a:lnTo>
                  <a:pt x="5445" y="1925"/>
                </a:lnTo>
                <a:lnTo>
                  <a:pt x="5447" y="1926"/>
                </a:lnTo>
                <a:lnTo>
                  <a:pt x="5449" y="1927"/>
                </a:lnTo>
                <a:lnTo>
                  <a:pt x="5451" y="1927"/>
                </a:lnTo>
                <a:lnTo>
                  <a:pt x="5453" y="1928"/>
                </a:lnTo>
                <a:lnTo>
                  <a:pt x="5455" y="1929"/>
                </a:lnTo>
                <a:lnTo>
                  <a:pt x="5457" y="1929"/>
                </a:lnTo>
                <a:lnTo>
                  <a:pt x="5459" y="1930"/>
                </a:lnTo>
                <a:lnTo>
                  <a:pt x="5461" y="1931"/>
                </a:lnTo>
                <a:lnTo>
                  <a:pt x="5463" y="1931"/>
                </a:lnTo>
                <a:lnTo>
                  <a:pt x="5465" y="1932"/>
                </a:lnTo>
                <a:lnTo>
                  <a:pt x="5467" y="1932"/>
                </a:lnTo>
                <a:lnTo>
                  <a:pt x="5469" y="1933"/>
                </a:lnTo>
                <a:lnTo>
                  <a:pt x="5471" y="1933"/>
                </a:lnTo>
                <a:lnTo>
                  <a:pt x="5473" y="1934"/>
                </a:lnTo>
                <a:lnTo>
                  <a:pt x="5475" y="1934"/>
                </a:lnTo>
                <a:lnTo>
                  <a:pt x="5477" y="1935"/>
                </a:lnTo>
                <a:lnTo>
                  <a:pt x="5479" y="1935"/>
                </a:lnTo>
                <a:lnTo>
                  <a:pt x="5481" y="1935"/>
                </a:lnTo>
                <a:lnTo>
                  <a:pt x="5483" y="1936"/>
                </a:lnTo>
                <a:lnTo>
                  <a:pt x="5485" y="1936"/>
                </a:lnTo>
                <a:lnTo>
                  <a:pt x="5487" y="1937"/>
                </a:lnTo>
                <a:lnTo>
                  <a:pt x="5489" y="1937"/>
                </a:lnTo>
                <a:lnTo>
                  <a:pt x="5491" y="1937"/>
                </a:lnTo>
                <a:lnTo>
                  <a:pt x="5493" y="1937"/>
                </a:lnTo>
                <a:lnTo>
                  <a:pt x="5495" y="1938"/>
                </a:lnTo>
                <a:lnTo>
                  <a:pt x="5497" y="1938"/>
                </a:lnTo>
                <a:lnTo>
                  <a:pt x="5499" y="1938"/>
                </a:lnTo>
                <a:lnTo>
                  <a:pt x="5501" y="1937"/>
                </a:lnTo>
                <a:lnTo>
                  <a:pt x="5503" y="1939"/>
                </a:lnTo>
                <a:lnTo>
                  <a:pt x="5505" y="1940"/>
                </a:lnTo>
                <a:lnTo>
                  <a:pt x="5507" y="1941"/>
                </a:lnTo>
                <a:lnTo>
                  <a:pt x="5509" y="1941"/>
                </a:lnTo>
                <a:lnTo>
                  <a:pt x="5511" y="1941"/>
                </a:lnTo>
                <a:lnTo>
                  <a:pt x="5513" y="1941"/>
                </a:lnTo>
                <a:lnTo>
                  <a:pt x="5515" y="1941"/>
                </a:lnTo>
                <a:lnTo>
                  <a:pt x="5517" y="1941"/>
                </a:lnTo>
                <a:lnTo>
                  <a:pt x="5519" y="1942"/>
                </a:lnTo>
                <a:lnTo>
                  <a:pt x="5521" y="1942"/>
                </a:lnTo>
                <a:lnTo>
                  <a:pt x="5523" y="1942"/>
                </a:lnTo>
                <a:lnTo>
                  <a:pt x="5525" y="1942"/>
                </a:lnTo>
                <a:lnTo>
                  <a:pt x="5527" y="1942"/>
                </a:lnTo>
                <a:lnTo>
                  <a:pt x="5529" y="1942"/>
                </a:lnTo>
                <a:lnTo>
                  <a:pt x="5531" y="1943"/>
                </a:lnTo>
                <a:lnTo>
                  <a:pt x="5533" y="1943"/>
                </a:lnTo>
                <a:lnTo>
                  <a:pt x="5535" y="1943"/>
                </a:lnTo>
                <a:lnTo>
                  <a:pt x="5537" y="1943"/>
                </a:lnTo>
                <a:lnTo>
                  <a:pt x="5539" y="1943"/>
                </a:lnTo>
                <a:lnTo>
                  <a:pt x="5541" y="1943"/>
                </a:lnTo>
                <a:lnTo>
                  <a:pt x="5543" y="1943"/>
                </a:lnTo>
                <a:lnTo>
                  <a:pt x="5545" y="1943"/>
                </a:lnTo>
                <a:lnTo>
                  <a:pt x="5547" y="1944"/>
                </a:lnTo>
                <a:lnTo>
                  <a:pt x="5549" y="1944"/>
                </a:lnTo>
                <a:lnTo>
                  <a:pt x="5551" y="1944"/>
                </a:lnTo>
                <a:lnTo>
                  <a:pt x="5553" y="1944"/>
                </a:lnTo>
                <a:lnTo>
                  <a:pt x="5555" y="1944"/>
                </a:lnTo>
                <a:lnTo>
                  <a:pt x="5557" y="1944"/>
                </a:lnTo>
                <a:lnTo>
                  <a:pt x="5559" y="1944"/>
                </a:lnTo>
                <a:lnTo>
                  <a:pt x="5561" y="1944"/>
                </a:lnTo>
                <a:lnTo>
                  <a:pt x="5563" y="1944"/>
                </a:lnTo>
                <a:lnTo>
                  <a:pt x="5565" y="1944"/>
                </a:lnTo>
                <a:lnTo>
                  <a:pt x="5567" y="1944"/>
                </a:lnTo>
                <a:lnTo>
                  <a:pt x="5569" y="1944"/>
                </a:lnTo>
                <a:lnTo>
                  <a:pt x="5571" y="1945"/>
                </a:lnTo>
                <a:lnTo>
                  <a:pt x="5573" y="1945"/>
                </a:lnTo>
                <a:lnTo>
                  <a:pt x="5575" y="1945"/>
                </a:lnTo>
                <a:lnTo>
                  <a:pt x="5577" y="1945"/>
                </a:lnTo>
                <a:lnTo>
                  <a:pt x="5578" y="1945"/>
                </a:lnTo>
                <a:lnTo>
                  <a:pt x="5580" y="1945"/>
                </a:lnTo>
                <a:lnTo>
                  <a:pt x="5582" y="1945"/>
                </a:lnTo>
                <a:lnTo>
                  <a:pt x="5584" y="1945"/>
                </a:lnTo>
                <a:lnTo>
                  <a:pt x="5586" y="1946"/>
                </a:lnTo>
                <a:lnTo>
                  <a:pt x="5588" y="1946"/>
                </a:lnTo>
                <a:lnTo>
                  <a:pt x="5590" y="1946"/>
                </a:lnTo>
                <a:lnTo>
                  <a:pt x="5592" y="1946"/>
                </a:lnTo>
                <a:lnTo>
                  <a:pt x="5594" y="1946"/>
                </a:lnTo>
                <a:lnTo>
                  <a:pt x="5596" y="1946"/>
                </a:lnTo>
                <a:lnTo>
                  <a:pt x="5598" y="1946"/>
                </a:lnTo>
                <a:lnTo>
                  <a:pt x="5600" y="1946"/>
                </a:lnTo>
                <a:lnTo>
                  <a:pt x="5602" y="1946"/>
                </a:lnTo>
                <a:lnTo>
                  <a:pt x="5604" y="1946"/>
                </a:lnTo>
                <a:lnTo>
                  <a:pt x="5606" y="1946"/>
                </a:lnTo>
                <a:lnTo>
                  <a:pt x="5608" y="1947"/>
                </a:lnTo>
                <a:lnTo>
                  <a:pt x="5610" y="1947"/>
                </a:lnTo>
                <a:lnTo>
                  <a:pt x="5612" y="1947"/>
                </a:lnTo>
                <a:lnTo>
                  <a:pt x="5614" y="1947"/>
                </a:lnTo>
                <a:lnTo>
                  <a:pt x="5616" y="1947"/>
                </a:lnTo>
                <a:lnTo>
                  <a:pt x="5618" y="1947"/>
                </a:lnTo>
                <a:lnTo>
                  <a:pt x="5620" y="1947"/>
                </a:lnTo>
                <a:lnTo>
                  <a:pt x="5622" y="1947"/>
                </a:lnTo>
                <a:lnTo>
                  <a:pt x="5624" y="1947"/>
                </a:lnTo>
                <a:lnTo>
                  <a:pt x="5626" y="1948"/>
                </a:lnTo>
                <a:lnTo>
                  <a:pt x="5628" y="1948"/>
                </a:lnTo>
                <a:lnTo>
                  <a:pt x="5630" y="1948"/>
                </a:lnTo>
                <a:lnTo>
                  <a:pt x="5632" y="1948"/>
                </a:lnTo>
                <a:lnTo>
                  <a:pt x="5634" y="1948"/>
                </a:lnTo>
                <a:lnTo>
                  <a:pt x="5636" y="1948"/>
                </a:lnTo>
                <a:lnTo>
                  <a:pt x="5638" y="1948"/>
                </a:lnTo>
                <a:lnTo>
                  <a:pt x="5640" y="1948"/>
                </a:lnTo>
                <a:lnTo>
                  <a:pt x="5642" y="1948"/>
                </a:lnTo>
                <a:lnTo>
                  <a:pt x="5644" y="1948"/>
                </a:lnTo>
                <a:lnTo>
                  <a:pt x="5646" y="1948"/>
                </a:lnTo>
                <a:lnTo>
                  <a:pt x="5648" y="1948"/>
                </a:lnTo>
                <a:lnTo>
                  <a:pt x="5650" y="1948"/>
                </a:lnTo>
                <a:lnTo>
                  <a:pt x="5652" y="1949"/>
                </a:lnTo>
                <a:lnTo>
                  <a:pt x="5654" y="1949"/>
                </a:lnTo>
                <a:lnTo>
                  <a:pt x="5656" y="1949"/>
                </a:lnTo>
                <a:lnTo>
                  <a:pt x="5658" y="1949"/>
                </a:lnTo>
                <a:lnTo>
                  <a:pt x="5660" y="1949"/>
                </a:lnTo>
                <a:lnTo>
                  <a:pt x="5662" y="1949"/>
                </a:lnTo>
                <a:lnTo>
                  <a:pt x="5664" y="1949"/>
                </a:lnTo>
                <a:lnTo>
                  <a:pt x="5666" y="1949"/>
                </a:lnTo>
                <a:lnTo>
                  <a:pt x="5668" y="1949"/>
                </a:lnTo>
                <a:lnTo>
                  <a:pt x="5670" y="1949"/>
                </a:lnTo>
                <a:lnTo>
                  <a:pt x="5672" y="1949"/>
                </a:lnTo>
                <a:lnTo>
                  <a:pt x="5674" y="1949"/>
                </a:lnTo>
                <a:lnTo>
                  <a:pt x="5676" y="1949"/>
                </a:lnTo>
                <a:lnTo>
                  <a:pt x="5678" y="1949"/>
                </a:lnTo>
                <a:lnTo>
                  <a:pt x="5680" y="1949"/>
                </a:lnTo>
                <a:lnTo>
                  <a:pt x="5682" y="1949"/>
                </a:lnTo>
                <a:lnTo>
                  <a:pt x="5684" y="1949"/>
                </a:lnTo>
                <a:lnTo>
                  <a:pt x="5686" y="1949"/>
                </a:lnTo>
                <a:lnTo>
                  <a:pt x="5688" y="1949"/>
                </a:lnTo>
                <a:lnTo>
                  <a:pt x="5690" y="1949"/>
                </a:lnTo>
                <a:lnTo>
                  <a:pt x="5692" y="1949"/>
                </a:lnTo>
                <a:lnTo>
                  <a:pt x="5694" y="1949"/>
                </a:lnTo>
                <a:lnTo>
                  <a:pt x="5696" y="1949"/>
                </a:lnTo>
                <a:lnTo>
                  <a:pt x="5698" y="1949"/>
                </a:lnTo>
                <a:lnTo>
                  <a:pt x="5700" y="1949"/>
                </a:lnTo>
                <a:lnTo>
                  <a:pt x="5702" y="1949"/>
                </a:lnTo>
                <a:lnTo>
                  <a:pt x="5704" y="1949"/>
                </a:lnTo>
                <a:lnTo>
                  <a:pt x="5706" y="1949"/>
                </a:lnTo>
                <a:lnTo>
                  <a:pt x="5708" y="1949"/>
                </a:lnTo>
                <a:lnTo>
                  <a:pt x="5710" y="1949"/>
                </a:lnTo>
                <a:lnTo>
                  <a:pt x="5712" y="1949"/>
                </a:lnTo>
                <a:lnTo>
                  <a:pt x="5714" y="1949"/>
                </a:lnTo>
                <a:lnTo>
                  <a:pt x="5716" y="1949"/>
                </a:lnTo>
                <a:lnTo>
                  <a:pt x="5718" y="1949"/>
                </a:lnTo>
                <a:lnTo>
                  <a:pt x="5720" y="1949"/>
                </a:lnTo>
                <a:lnTo>
                  <a:pt x="5722" y="1950"/>
                </a:lnTo>
                <a:lnTo>
                  <a:pt x="5724" y="1950"/>
                </a:lnTo>
                <a:lnTo>
                  <a:pt x="5726" y="1950"/>
                </a:lnTo>
                <a:lnTo>
                  <a:pt x="5728" y="1950"/>
                </a:lnTo>
                <a:lnTo>
                  <a:pt x="5730" y="1950"/>
                </a:lnTo>
                <a:lnTo>
                  <a:pt x="5732" y="1950"/>
                </a:lnTo>
                <a:lnTo>
                  <a:pt x="5734" y="1950"/>
                </a:lnTo>
                <a:lnTo>
                  <a:pt x="5736" y="1950"/>
                </a:lnTo>
                <a:lnTo>
                  <a:pt x="5738" y="1950"/>
                </a:lnTo>
                <a:lnTo>
                  <a:pt x="5740" y="1950"/>
                </a:lnTo>
                <a:lnTo>
                  <a:pt x="5742" y="1950"/>
                </a:lnTo>
                <a:lnTo>
                  <a:pt x="5744" y="1950"/>
                </a:lnTo>
                <a:lnTo>
                  <a:pt x="5746" y="1950"/>
                </a:lnTo>
                <a:lnTo>
                  <a:pt x="5747" y="1950"/>
                </a:lnTo>
                <a:lnTo>
                  <a:pt x="5749" y="1950"/>
                </a:lnTo>
                <a:lnTo>
                  <a:pt x="5751" y="1950"/>
                </a:lnTo>
                <a:lnTo>
                  <a:pt x="5753" y="1950"/>
                </a:lnTo>
                <a:lnTo>
                  <a:pt x="5755" y="1950"/>
                </a:lnTo>
                <a:lnTo>
                  <a:pt x="5757" y="1950"/>
                </a:lnTo>
                <a:lnTo>
                  <a:pt x="5759" y="1950"/>
                </a:lnTo>
                <a:lnTo>
                  <a:pt x="5761" y="1950"/>
                </a:lnTo>
                <a:lnTo>
                  <a:pt x="5763" y="1950"/>
                </a:lnTo>
                <a:lnTo>
                  <a:pt x="5765" y="1950"/>
                </a:lnTo>
                <a:lnTo>
                  <a:pt x="5767" y="1950"/>
                </a:lnTo>
                <a:lnTo>
                  <a:pt x="5769" y="1950"/>
                </a:lnTo>
                <a:lnTo>
                  <a:pt x="5771" y="1950"/>
                </a:lnTo>
                <a:lnTo>
                  <a:pt x="5773" y="1950"/>
                </a:lnTo>
                <a:lnTo>
                  <a:pt x="5775" y="1950"/>
                </a:lnTo>
                <a:lnTo>
                  <a:pt x="5777" y="1950"/>
                </a:lnTo>
                <a:lnTo>
                  <a:pt x="5779" y="1951"/>
                </a:lnTo>
                <a:lnTo>
                  <a:pt x="5781" y="1951"/>
                </a:lnTo>
                <a:lnTo>
                  <a:pt x="5783" y="1951"/>
                </a:lnTo>
                <a:lnTo>
                  <a:pt x="5785" y="1951"/>
                </a:lnTo>
                <a:lnTo>
                  <a:pt x="5787" y="1951"/>
                </a:lnTo>
                <a:lnTo>
                  <a:pt x="5789" y="1951"/>
                </a:lnTo>
                <a:lnTo>
                  <a:pt x="5791" y="1951"/>
                </a:lnTo>
                <a:lnTo>
                  <a:pt x="5793" y="1951"/>
                </a:lnTo>
                <a:lnTo>
                  <a:pt x="5795" y="1951"/>
                </a:lnTo>
                <a:lnTo>
                  <a:pt x="5797" y="1951"/>
                </a:lnTo>
                <a:lnTo>
                  <a:pt x="5799" y="1951"/>
                </a:lnTo>
                <a:lnTo>
                  <a:pt x="5801" y="1951"/>
                </a:lnTo>
                <a:lnTo>
                  <a:pt x="5803" y="1951"/>
                </a:lnTo>
                <a:lnTo>
                  <a:pt x="5805" y="1951"/>
                </a:lnTo>
                <a:lnTo>
                  <a:pt x="5807" y="1951"/>
                </a:lnTo>
                <a:lnTo>
                  <a:pt x="5809" y="1951"/>
                </a:lnTo>
                <a:lnTo>
                  <a:pt x="5811" y="1951"/>
                </a:lnTo>
                <a:lnTo>
                  <a:pt x="5813" y="1951"/>
                </a:lnTo>
                <a:lnTo>
                  <a:pt x="5815" y="1951"/>
                </a:lnTo>
                <a:lnTo>
                  <a:pt x="5817" y="1951"/>
                </a:lnTo>
                <a:lnTo>
                  <a:pt x="5819" y="1951"/>
                </a:lnTo>
                <a:lnTo>
                  <a:pt x="5821" y="1951"/>
                </a:lnTo>
                <a:lnTo>
                  <a:pt x="5823" y="1951"/>
                </a:lnTo>
                <a:lnTo>
                  <a:pt x="5825" y="1951"/>
                </a:lnTo>
                <a:lnTo>
                  <a:pt x="5827" y="1951"/>
                </a:lnTo>
                <a:lnTo>
                  <a:pt x="5829" y="1951"/>
                </a:lnTo>
                <a:lnTo>
                  <a:pt x="5831" y="1951"/>
                </a:lnTo>
                <a:lnTo>
                  <a:pt x="5833" y="1951"/>
                </a:lnTo>
                <a:lnTo>
                  <a:pt x="5835" y="1951"/>
                </a:lnTo>
                <a:lnTo>
                  <a:pt x="5837" y="1951"/>
                </a:lnTo>
                <a:lnTo>
                  <a:pt x="5839" y="1951"/>
                </a:lnTo>
                <a:lnTo>
                  <a:pt x="5841" y="1951"/>
                </a:lnTo>
                <a:lnTo>
                  <a:pt x="5843" y="1951"/>
                </a:lnTo>
                <a:lnTo>
                  <a:pt x="5845" y="1951"/>
                </a:lnTo>
                <a:lnTo>
                  <a:pt x="5847" y="1951"/>
                </a:lnTo>
                <a:lnTo>
                  <a:pt x="5849" y="1951"/>
                </a:lnTo>
                <a:lnTo>
                  <a:pt x="5851" y="1951"/>
                </a:lnTo>
                <a:lnTo>
                  <a:pt x="5853" y="1951"/>
                </a:lnTo>
                <a:lnTo>
                  <a:pt x="5855" y="1951"/>
                </a:lnTo>
                <a:lnTo>
                  <a:pt x="5857" y="1951"/>
                </a:lnTo>
                <a:lnTo>
                  <a:pt x="5859" y="1951"/>
                </a:lnTo>
                <a:lnTo>
                  <a:pt x="5861" y="1951"/>
                </a:lnTo>
                <a:lnTo>
                  <a:pt x="5863" y="1951"/>
                </a:lnTo>
                <a:lnTo>
                  <a:pt x="5865" y="1951"/>
                </a:lnTo>
                <a:lnTo>
                  <a:pt x="5867" y="1951"/>
                </a:lnTo>
                <a:lnTo>
                  <a:pt x="5869" y="1951"/>
                </a:lnTo>
                <a:lnTo>
                  <a:pt x="5871" y="1951"/>
                </a:lnTo>
                <a:lnTo>
                  <a:pt x="5873" y="1951"/>
                </a:lnTo>
                <a:lnTo>
                  <a:pt x="5875" y="1951"/>
                </a:lnTo>
                <a:lnTo>
                  <a:pt x="5877" y="1951"/>
                </a:lnTo>
                <a:lnTo>
                  <a:pt x="5879" y="1951"/>
                </a:lnTo>
                <a:lnTo>
                  <a:pt x="5881" y="1951"/>
                </a:lnTo>
                <a:lnTo>
                  <a:pt x="5883" y="1951"/>
                </a:lnTo>
                <a:lnTo>
                  <a:pt x="5885" y="1951"/>
                </a:lnTo>
                <a:lnTo>
                  <a:pt x="5887" y="1951"/>
                </a:lnTo>
                <a:lnTo>
                  <a:pt x="5889" y="1951"/>
                </a:lnTo>
                <a:lnTo>
                  <a:pt x="5891" y="1951"/>
                </a:lnTo>
                <a:lnTo>
                  <a:pt x="5893" y="1951"/>
                </a:lnTo>
                <a:lnTo>
                  <a:pt x="5895" y="1951"/>
                </a:lnTo>
                <a:lnTo>
                  <a:pt x="5897" y="1951"/>
                </a:lnTo>
                <a:lnTo>
                  <a:pt x="5899" y="1951"/>
                </a:lnTo>
                <a:lnTo>
                  <a:pt x="5901" y="1951"/>
                </a:lnTo>
                <a:lnTo>
                  <a:pt x="5903" y="1951"/>
                </a:lnTo>
                <a:lnTo>
                  <a:pt x="5905" y="1951"/>
                </a:lnTo>
                <a:lnTo>
                  <a:pt x="5907" y="1951"/>
                </a:lnTo>
                <a:lnTo>
                  <a:pt x="5909" y="1951"/>
                </a:lnTo>
                <a:lnTo>
                  <a:pt x="5911" y="1951"/>
                </a:lnTo>
                <a:lnTo>
                  <a:pt x="5913" y="1951"/>
                </a:lnTo>
                <a:lnTo>
                  <a:pt x="5915" y="1951"/>
                </a:lnTo>
                <a:lnTo>
                  <a:pt x="5916" y="1951"/>
                </a:lnTo>
                <a:lnTo>
                  <a:pt x="5918" y="1951"/>
                </a:lnTo>
                <a:lnTo>
                  <a:pt x="5920" y="1951"/>
                </a:lnTo>
                <a:lnTo>
                  <a:pt x="5922" y="1951"/>
                </a:lnTo>
                <a:lnTo>
                  <a:pt x="5924" y="1951"/>
                </a:lnTo>
                <a:lnTo>
                  <a:pt x="5926" y="1951"/>
                </a:lnTo>
                <a:lnTo>
                  <a:pt x="5928" y="1951"/>
                </a:lnTo>
                <a:lnTo>
                  <a:pt x="5930" y="1951"/>
                </a:lnTo>
                <a:lnTo>
                  <a:pt x="5932" y="1951"/>
                </a:lnTo>
                <a:lnTo>
                  <a:pt x="5934" y="1951"/>
                </a:lnTo>
                <a:lnTo>
                  <a:pt x="5936" y="1951"/>
                </a:lnTo>
                <a:lnTo>
                  <a:pt x="5938" y="1951"/>
                </a:lnTo>
                <a:lnTo>
                  <a:pt x="5940" y="1951"/>
                </a:lnTo>
                <a:lnTo>
                  <a:pt x="5942" y="1951"/>
                </a:lnTo>
                <a:lnTo>
                  <a:pt x="5944" y="1951"/>
                </a:lnTo>
                <a:lnTo>
                  <a:pt x="5946" y="1951"/>
                </a:lnTo>
                <a:lnTo>
                  <a:pt x="5948" y="1951"/>
                </a:lnTo>
                <a:lnTo>
                  <a:pt x="5950" y="1951"/>
                </a:lnTo>
                <a:lnTo>
                  <a:pt x="5952" y="1951"/>
                </a:lnTo>
                <a:lnTo>
                  <a:pt x="5954" y="1951"/>
                </a:lnTo>
                <a:lnTo>
                  <a:pt x="5956" y="1951"/>
                </a:lnTo>
                <a:lnTo>
                  <a:pt x="5958" y="1951"/>
                </a:lnTo>
                <a:lnTo>
                  <a:pt x="5960" y="1951"/>
                </a:lnTo>
                <a:lnTo>
                  <a:pt x="5962" y="1951"/>
                </a:lnTo>
                <a:lnTo>
                  <a:pt x="5964" y="1951"/>
                </a:lnTo>
                <a:lnTo>
                  <a:pt x="5966" y="1951"/>
                </a:lnTo>
                <a:lnTo>
                  <a:pt x="5968" y="1951"/>
                </a:lnTo>
                <a:lnTo>
                  <a:pt x="5970" y="1951"/>
                </a:lnTo>
                <a:lnTo>
                  <a:pt x="5972" y="1951"/>
                </a:lnTo>
                <a:lnTo>
                  <a:pt x="5974" y="1950"/>
                </a:lnTo>
                <a:lnTo>
                  <a:pt x="5976" y="1950"/>
                </a:lnTo>
                <a:lnTo>
                  <a:pt x="5978" y="1950"/>
                </a:lnTo>
                <a:lnTo>
                  <a:pt x="5980" y="1950"/>
                </a:lnTo>
                <a:lnTo>
                  <a:pt x="5982" y="1950"/>
                </a:lnTo>
                <a:lnTo>
                  <a:pt x="5984" y="1950"/>
                </a:lnTo>
                <a:lnTo>
                  <a:pt x="5986" y="1950"/>
                </a:lnTo>
                <a:lnTo>
                  <a:pt x="5988" y="1950"/>
                </a:lnTo>
                <a:lnTo>
                  <a:pt x="5990" y="1950"/>
                </a:lnTo>
                <a:lnTo>
                  <a:pt x="5992" y="1950"/>
                </a:lnTo>
                <a:lnTo>
                  <a:pt x="5994" y="1951"/>
                </a:lnTo>
                <a:lnTo>
                  <a:pt x="5996" y="1951"/>
                </a:lnTo>
                <a:lnTo>
                  <a:pt x="5998" y="1951"/>
                </a:lnTo>
                <a:lnTo>
                  <a:pt x="6000" y="1951"/>
                </a:lnTo>
                <a:lnTo>
                  <a:pt x="6002" y="1951"/>
                </a:lnTo>
                <a:lnTo>
                  <a:pt x="6004" y="1951"/>
                </a:lnTo>
                <a:lnTo>
                  <a:pt x="6006" y="1951"/>
                </a:lnTo>
                <a:lnTo>
                  <a:pt x="6008" y="1951"/>
                </a:lnTo>
                <a:lnTo>
                  <a:pt x="6010" y="1951"/>
                </a:lnTo>
                <a:lnTo>
                  <a:pt x="6012" y="1951"/>
                </a:lnTo>
                <a:lnTo>
                  <a:pt x="6014" y="1951"/>
                </a:lnTo>
                <a:lnTo>
                  <a:pt x="6016" y="1951"/>
                </a:lnTo>
                <a:lnTo>
                  <a:pt x="6018" y="1951"/>
                </a:lnTo>
                <a:lnTo>
                  <a:pt x="6020" y="1951"/>
                </a:lnTo>
                <a:lnTo>
                  <a:pt x="6022" y="1951"/>
                </a:lnTo>
                <a:lnTo>
                  <a:pt x="6024" y="1951"/>
                </a:lnTo>
                <a:lnTo>
                  <a:pt x="6026" y="1951"/>
                </a:lnTo>
                <a:lnTo>
                  <a:pt x="6028" y="1951"/>
                </a:lnTo>
                <a:lnTo>
                  <a:pt x="6030" y="1951"/>
                </a:lnTo>
                <a:lnTo>
                  <a:pt x="6032" y="1951"/>
                </a:lnTo>
                <a:lnTo>
                  <a:pt x="6034" y="1951"/>
                </a:lnTo>
                <a:lnTo>
                  <a:pt x="6036" y="1951"/>
                </a:lnTo>
                <a:lnTo>
                  <a:pt x="6038" y="1951"/>
                </a:lnTo>
                <a:lnTo>
                  <a:pt x="6040" y="1951"/>
                </a:lnTo>
                <a:lnTo>
                  <a:pt x="6042" y="1951"/>
                </a:lnTo>
                <a:lnTo>
                  <a:pt x="6044" y="1951"/>
                </a:lnTo>
                <a:lnTo>
                  <a:pt x="6046" y="1951"/>
                </a:lnTo>
                <a:lnTo>
                  <a:pt x="6048" y="1951"/>
                </a:lnTo>
                <a:lnTo>
                  <a:pt x="6050" y="1951"/>
                </a:lnTo>
                <a:lnTo>
                  <a:pt x="6052" y="1951"/>
                </a:lnTo>
                <a:lnTo>
                  <a:pt x="6054" y="1951"/>
                </a:lnTo>
                <a:lnTo>
                  <a:pt x="6056" y="1951"/>
                </a:lnTo>
                <a:lnTo>
                  <a:pt x="6058" y="1951"/>
                </a:lnTo>
                <a:lnTo>
                  <a:pt x="6060" y="1951"/>
                </a:lnTo>
                <a:lnTo>
                  <a:pt x="6062" y="1951"/>
                </a:lnTo>
                <a:lnTo>
                  <a:pt x="6064" y="1951"/>
                </a:lnTo>
                <a:lnTo>
                  <a:pt x="6066" y="1951"/>
                </a:lnTo>
                <a:lnTo>
                  <a:pt x="6068" y="1951"/>
                </a:lnTo>
                <a:lnTo>
                  <a:pt x="6070" y="1951"/>
                </a:lnTo>
                <a:lnTo>
                  <a:pt x="6072" y="1951"/>
                </a:lnTo>
                <a:lnTo>
                  <a:pt x="6074" y="1951"/>
                </a:lnTo>
                <a:lnTo>
                  <a:pt x="6076" y="1951"/>
                </a:lnTo>
                <a:lnTo>
                  <a:pt x="6078" y="1951"/>
                </a:lnTo>
                <a:lnTo>
                  <a:pt x="6080" y="1951"/>
                </a:lnTo>
                <a:lnTo>
                  <a:pt x="6082" y="1951"/>
                </a:lnTo>
                <a:lnTo>
                  <a:pt x="6084" y="1951"/>
                </a:lnTo>
                <a:lnTo>
                  <a:pt x="6085" y="1951"/>
                </a:lnTo>
                <a:lnTo>
                  <a:pt x="6087" y="1951"/>
                </a:lnTo>
                <a:lnTo>
                  <a:pt x="6089" y="1951"/>
                </a:lnTo>
                <a:lnTo>
                  <a:pt x="6091" y="1951"/>
                </a:lnTo>
                <a:lnTo>
                  <a:pt x="6093" y="1951"/>
                </a:lnTo>
                <a:lnTo>
                  <a:pt x="6095" y="1951"/>
                </a:lnTo>
                <a:lnTo>
                  <a:pt x="6097" y="1951"/>
                </a:lnTo>
                <a:lnTo>
                  <a:pt x="6099" y="1951"/>
                </a:lnTo>
                <a:lnTo>
                  <a:pt x="6101" y="1951"/>
                </a:lnTo>
                <a:lnTo>
                  <a:pt x="6103" y="1951"/>
                </a:lnTo>
                <a:lnTo>
                  <a:pt x="6105" y="1952"/>
                </a:lnTo>
                <a:lnTo>
                  <a:pt x="6107" y="1952"/>
                </a:lnTo>
                <a:lnTo>
                  <a:pt x="6109" y="1951"/>
                </a:lnTo>
                <a:lnTo>
                  <a:pt x="6111" y="1952"/>
                </a:lnTo>
                <a:lnTo>
                  <a:pt x="6113" y="1951"/>
                </a:lnTo>
                <a:lnTo>
                  <a:pt x="6115" y="1951"/>
                </a:lnTo>
                <a:lnTo>
                  <a:pt x="6117" y="1951"/>
                </a:lnTo>
                <a:lnTo>
                  <a:pt x="6119" y="1951"/>
                </a:lnTo>
                <a:lnTo>
                  <a:pt x="6121" y="1951"/>
                </a:lnTo>
                <a:lnTo>
                  <a:pt x="6123" y="1951"/>
                </a:lnTo>
                <a:lnTo>
                  <a:pt x="6125" y="1951"/>
                </a:lnTo>
                <a:lnTo>
                  <a:pt x="6127" y="1951"/>
                </a:lnTo>
                <a:lnTo>
                  <a:pt x="6129" y="1951"/>
                </a:lnTo>
                <a:lnTo>
                  <a:pt x="6131" y="1951"/>
                </a:lnTo>
                <a:lnTo>
                  <a:pt x="6133" y="1951"/>
                </a:lnTo>
                <a:lnTo>
                  <a:pt x="6135" y="1951"/>
                </a:lnTo>
                <a:lnTo>
                  <a:pt x="6137" y="1951"/>
                </a:lnTo>
                <a:lnTo>
                  <a:pt x="6139" y="1951"/>
                </a:lnTo>
                <a:lnTo>
                  <a:pt x="6141" y="1951"/>
                </a:lnTo>
                <a:lnTo>
                  <a:pt x="6143" y="1951"/>
                </a:lnTo>
                <a:lnTo>
                  <a:pt x="6145" y="1951"/>
                </a:lnTo>
                <a:lnTo>
                  <a:pt x="6147" y="1951"/>
                </a:lnTo>
                <a:lnTo>
                  <a:pt x="6149" y="1951"/>
                </a:lnTo>
                <a:lnTo>
                  <a:pt x="6151" y="1951"/>
                </a:lnTo>
                <a:lnTo>
                  <a:pt x="6153" y="1951"/>
                </a:lnTo>
                <a:lnTo>
                  <a:pt x="6155" y="1951"/>
                </a:lnTo>
                <a:lnTo>
                  <a:pt x="6157" y="1951"/>
                </a:lnTo>
                <a:lnTo>
                  <a:pt x="6159" y="1951"/>
                </a:lnTo>
                <a:lnTo>
                  <a:pt x="6161" y="1951"/>
                </a:lnTo>
                <a:lnTo>
                  <a:pt x="6163" y="1951"/>
                </a:lnTo>
                <a:lnTo>
                  <a:pt x="6165" y="1951"/>
                </a:lnTo>
                <a:lnTo>
                  <a:pt x="6167" y="1951"/>
                </a:lnTo>
                <a:lnTo>
                  <a:pt x="6169" y="1952"/>
                </a:lnTo>
                <a:lnTo>
                  <a:pt x="6171" y="1952"/>
                </a:lnTo>
                <a:lnTo>
                  <a:pt x="6173" y="1951"/>
                </a:lnTo>
                <a:lnTo>
                  <a:pt x="6175" y="1951"/>
                </a:lnTo>
                <a:lnTo>
                  <a:pt x="6177" y="1951"/>
                </a:lnTo>
                <a:lnTo>
                  <a:pt x="6179" y="1951"/>
                </a:lnTo>
                <a:lnTo>
                  <a:pt x="6181" y="1951"/>
                </a:lnTo>
                <a:lnTo>
                  <a:pt x="6183" y="1951"/>
                </a:lnTo>
                <a:lnTo>
                  <a:pt x="6185" y="1951"/>
                </a:lnTo>
                <a:lnTo>
                  <a:pt x="6187" y="1951"/>
                </a:lnTo>
                <a:lnTo>
                  <a:pt x="6189" y="1951"/>
                </a:lnTo>
                <a:lnTo>
                  <a:pt x="6191" y="1951"/>
                </a:lnTo>
                <a:lnTo>
                  <a:pt x="6193" y="1951"/>
                </a:lnTo>
                <a:lnTo>
                  <a:pt x="6195" y="1951"/>
                </a:lnTo>
                <a:lnTo>
                  <a:pt x="6197" y="1951"/>
                </a:lnTo>
                <a:lnTo>
                  <a:pt x="6199" y="1951"/>
                </a:lnTo>
                <a:lnTo>
                  <a:pt x="6201" y="1951"/>
                </a:lnTo>
                <a:lnTo>
                  <a:pt x="6203" y="1951"/>
                </a:lnTo>
                <a:lnTo>
                  <a:pt x="6205" y="1951"/>
                </a:lnTo>
                <a:lnTo>
                  <a:pt x="6207" y="1951"/>
                </a:lnTo>
                <a:lnTo>
                  <a:pt x="6209" y="1951"/>
                </a:lnTo>
                <a:lnTo>
                  <a:pt x="6211" y="1951"/>
                </a:lnTo>
                <a:lnTo>
                  <a:pt x="6213" y="1952"/>
                </a:lnTo>
                <a:lnTo>
                  <a:pt x="6215" y="1952"/>
                </a:lnTo>
                <a:lnTo>
                  <a:pt x="6217" y="1952"/>
                </a:lnTo>
                <a:lnTo>
                  <a:pt x="6219" y="1952"/>
                </a:lnTo>
                <a:lnTo>
                  <a:pt x="6221" y="1952"/>
                </a:lnTo>
                <a:lnTo>
                  <a:pt x="6223" y="1952"/>
                </a:lnTo>
                <a:lnTo>
                  <a:pt x="6225" y="1952"/>
                </a:lnTo>
                <a:lnTo>
                  <a:pt x="6227" y="1952"/>
                </a:lnTo>
                <a:lnTo>
                  <a:pt x="6229" y="1952"/>
                </a:lnTo>
                <a:lnTo>
                  <a:pt x="6231" y="1952"/>
                </a:lnTo>
                <a:lnTo>
                  <a:pt x="6233" y="1952"/>
                </a:lnTo>
                <a:lnTo>
                  <a:pt x="6235" y="1952"/>
                </a:lnTo>
                <a:lnTo>
                  <a:pt x="6237" y="1952"/>
                </a:lnTo>
                <a:lnTo>
                  <a:pt x="6239" y="1952"/>
                </a:lnTo>
                <a:lnTo>
                  <a:pt x="6241" y="1952"/>
                </a:lnTo>
                <a:lnTo>
                  <a:pt x="6243" y="1952"/>
                </a:lnTo>
                <a:lnTo>
                  <a:pt x="6245" y="1952"/>
                </a:lnTo>
                <a:lnTo>
                  <a:pt x="6247" y="1952"/>
                </a:lnTo>
                <a:lnTo>
                  <a:pt x="6249" y="1951"/>
                </a:lnTo>
                <a:lnTo>
                  <a:pt x="6251" y="1951"/>
                </a:lnTo>
                <a:lnTo>
                  <a:pt x="6253" y="1951"/>
                </a:lnTo>
                <a:lnTo>
                  <a:pt x="6254" y="1951"/>
                </a:lnTo>
                <a:lnTo>
                  <a:pt x="6256" y="1951"/>
                </a:lnTo>
                <a:lnTo>
                  <a:pt x="6258" y="1951"/>
                </a:lnTo>
                <a:lnTo>
                  <a:pt x="6260" y="1951"/>
                </a:lnTo>
                <a:lnTo>
                  <a:pt x="6262" y="1951"/>
                </a:lnTo>
                <a:lnTo>
                  <a:pt x="6264" y="1951"/>
                </a:lnTo>
                <a:lnTo>
                  <a:pt x="6266" y="1951"/>
                </a:lnTo>
                <a:lnTo>
                  <a:pt x="6268" y="1951"/>
                </a:lnTo>
                <a:lnTo>
                  <a:pt x="6270" y="1951"/>
                </a:lnTo>
                <a:lnTo>
                  <a:pt x="6272" y="1951"/>
                </a:lnTo>
                <a:lnTo>
                  <a:pt x="6274" y="1951"/>
                </a:lnTo>
                <a:lnTo>
                  <a:pt x="6276" y="1951"/>
                </a:lnTo>
                <a:lnTo>
                  <a:pt x="6278" y="1951"/>
                </a:lnTo>
                <a:lnTo>
                  <a:pt x="6280" y="1951"/>
                </a:lnTo>
                <a:lnTo>
                  <a:pt x="6282" y="1951"/>
                </a:lnTo>
                <a:lnTo>
                  <a:pt x="6284" y="1951"/>
                </a:lnTo>
                <a:lnTo>
                  <a:pt x="6286" y="1951"/>
                </a:lnTo>
                <a:lnTo>
                  <a:pt x="6288" y="1951"/>
                </a:lnTo>
                <a:lnTo>
                  <a:pt x="6290" y="1951"/>
                </a:lnTo>
                <a:lnTo>
                  <a:pt x="6292" y="1951"/>
                </a:lnTo>
                <a:lnTo>
                  <a:pt x="6294" y="1951"/>
                </a:lnTo>
                <a:lnTo>
                  <a:pt x="6296" y="1951"/>
                </a:lnTo>
                <a:lnTo>
                  <a:pt x="6298" y="1951"/>
                </a:lnTo>
                <a:lnTo>
                  <a:pt x="6300" y="1951"/>
                </a:lnTo>
                <a:lnTo>
                  <a:pt x="6302" y="1951"/>
                </a:lnTo>
                <a:lnTo>
                  <a:pt x="6304" y="1951"/>
                </a:lnTo>
                <a:lnTo>
                  <a:pt x="6306" y="1951"/>
                </a:lnTo>
                <a:lnTo>
                  <a:pt x="6308" y="1951"/>
                </a:lnTo>
                <a:lnTo>
                  <a:pt x="6310" y="1951"/>
                </a:lnTo>
                <a:lnTo>
                  <a:pt x="6312" y="1951"/>
                </a:lnTo>
                <a:lnTo>
                  <a:pt x="6314" y="1951"/>
                </a:lnTo>
                <a:lnTo>
                  <a:pt x="6316" y="1951"/>
                </a:lnTo>
                <a:lnTo>
                  <a:pt x="6318" y="1951"/>
                </a:lnTo>
                <a:lnTo>
                  <a:pt x="6320" y="1951"/>
                </a:lnTo>
                <a:lnTo>
                  <a:pt x="6322" y="1951"/>
                </a:lnTo>
                <a:lnTo>
                  <a:pt x="6324" y="1951"/>
                </a:lnTo>
                <a:lnTo>
                  <a:pt x="6326" y="1951"/>
                </a:lnTo>
                <a:lnTo>
                  <a:pt x="6328" y="1951"/>
                </a:lnTo>
                <a:lnTo>
                  <a:pt x="6330" y="1951"/>
                </a:lnTo>
                <a:lnTo>
                  <a:pt x="6332" y="1951"/>
                </a:lnTo>
                <a:lnTo>
                  <a:pt x="6334" y="1951"/>
                </a:lnTo>
                <a:lnTo>
                  <a:pt x="6336" y="1951"/>
                </a:lnTo>
                <a:lnTo>
                  <a:pt x="6338" y="1951"/>
                </a:lnTo>
                <a:lnTo>
                  <a:pt x="6340" y="1951"/>
                </a:lnTo>
                <a:lnTo>
                  <a:pt x="6342" y="1951"/>
                </a:lnTo>
                <a:lnTo>
                  <a:pt x="6344" y="1951"/>
                </a:lnTo>
                <a:lnTo>
                  <a:pt x="6346" y="1951"/>
                </a:lnTo>
                <a:lnTo>
                  <a:pt x="6348" y="1951"/>
                </a:lnTo>
                <a:lnTo>
                  <a:pt x="6350" y="1951"/>
                </a:lnTo>
                <a:lnTo>
                  <a:pt x="6352" y="1951"/>
                </a:lnTo>
                <a:lnTo>
                  <a:pt x="6354" y="1951"/>
                </a:lnTo>
                <a:lnTo>
                  <a:pt x="6356" y="1951"/>
                </a:lnTo>
                <a:lnTo>
                  <a:pt x="6358" y="1951"/>
                </a:lnTo>
                <a:lnTo>
                  <a:pt x="6360" y="1951"/>
                </a:lnTo>
                <a:lnTo>
                  <a:pt x="6362" y="1951"/>
                </a:lnTo>
                <a:lnTo>
                  <a:pt x="6364" y="1951"/>
                </a:lnTo>
                <a:lnTo>
                  <a:pt x="6366" y="1951"/>
                </a:lnTo>
                <a:lnTo>
                  <a:pt x="6368" y="1951"/>
                </a:lnTo>
                <a:lnTo>
                  <a:pt x="6370" y="1951"/>
                </a:lnTo>
                <a:lnTo>
                  <a:pt x="6372" y="1951"/>
                </a:lnTo>
                <a:lnTo>
                  <a:pt x="6374" y="1951"/>
                </a:lnTo>
                <a:lnTo>
                  <a:pt x="6376" y="1951"/>
                </a:lnTo>
                <a:lnTo>
                  <a:pt x="6378" y="1951"/>
                </a:lnTo>
                <a:lnTo>
                  <a:pt x="6380" y="1951"/>
                </a:lnTo>
                <a:lnTo>
                  <a:pt x="6382" y="1951"/>
                </a:lnTo>
                <a:lnTo>
                  <a:pt x="6384" y="1951"/>
                </a:lnTo>
                <a:lnTo>
                  <a:pt x="6386" y="1951"/>
                </a:lnTo>
                <a:lnTo>
                  <a:pt x="6388" y="1951"/>
                </a:lnTo>
                <a:lnTo>
                  <a:pt x="6390" y="1951"/>
                </a:lnTo>
                <a:lnTo>
                  <a:pt x="6392" y="1951"/>
                </a:lnTo>
                <a:lnTo>
                  <a:pt x="6394" y="1951"/>
                </a:lnTo>
                <a:lnTo>
                  <a:pt x="6396" y="1951"/>
                </a:lnTo>
                <a:lnTo>
                  <a:pt x="6398" y="1951"/>
                </a:lnTo>
                <a:lnTo>
                  <a:pt x="6400" y="1951"/>
                </a:lnTo>
                <a:lnTo>
                  <a:pt x="6402" y="1951"/>
                </a:lnTo>
                <a:lnTo>
                  <a:pt x="6404" y="1951"/>
                </a:lnTo>
                <a:lnTo>
                  <a:pt x="6406" y="1951"/>
                </a:lnTo>
                <a:lnTo>
                  <a:pt x="6408" y="1951"/>
                </a:lnTo>
                <a:lnTo>
                  <a:pt x="6410" y="1951"/>
                </a:lnTo>
                <a:lnTo>
                  <a:pt x="6412" y="1951"/>
                </a:lnTo>
                <a:lnTo>
                  <a:pt x="6414" y="1951"/>
                </a:lnTo>
                <a:lnTo>
                  <a:pt x="6416" y="1951"/>
                </a:lnTo>
                <a:lnTo>
                  <a:pt x="6418" y="1951"/>
                </a:lnTo>
                <a:lnTo>
                  <a:pt x="6420" y="1951"/>
                </a:lnTo>
                <a:lnTo>
                  <a:pt x="6422" y="1951"/>
                </a:lnTo>
                <a:lnTo>
                  <a:pt x="6423" y="1951"/>
                </a:lnTo>
                <a:lnTo>
                  <a:pt x="6425" y="1950"/>
                </a:lnTo>
                <a:lnTo>
                  <a:pt x="6427" y="1950"/>
                </a:lnTo>
                <a:lnTo>
                  <a:pt x="6429" y="1950"/>
                </a:lnTo>
                <a:lnTo>
                  <a:pt x="6431" y="1950"/>
                </a:lnTo>
                <a:lnTo>
                  <a:pt x="6433" y="1950"/>
                </a:lnTo>
                <a:lnTo>
                  <a:pt x="6435" y="1950"/>
                </a:lnTo>
                <a:lnTo>
                  <a:pt x="6437" y="1950"/>
                </a:lnTo>
                <a:lnTo>
                  <a:pt x="6439" y="1950"/>
                </a:lnTo>
                <a:lnTo>
                  <a:pt x="6441" y="1950"/>
                </a:lnTo>
                <a:lnTo>
                  <a:pt x="6443" y="1950"/>
                </a:lnTo>
                <a:lnTo>
                  <a:pt x="6445" y="1950"/>
                </a:lnTo>
                <a:lnTo>
                  <a:pt x="6447" y="1950"/>
                </a:lnTo>
                <a:lnTo>
                  <a:pt x="6449" y="1951"/>
                </a:lnTo>
                <a:lnTo>
                  <a:pt x="6451" y="1951"/>
                </a:lnTo>
                <a:lnTo>
                  <a:pt x="6453" y="1951"/>
                </a:lnTo>
                <a:lnTo>
                  <a:pt x="6455" y="1951"/>
                </a:lnTo>
                <a:lnTo>
                  <a:pt x="6457" y="1951"/>
                </a:lnTo>
                <a:lnTo>
                  <a:pt x="6459" y="1951"/>
                </a:lnTo>
                <a:lnTo>
                  <a:pt x="6461" y="1951"/>
                </a:lnTo>
                <a:lnTo>
                  <a:pt x="6463" y="1951"/>
                </a:lnTo>
                <a:lnTo>
                  <a:pt x="6465" y="1951"/>
                </a:lnTo>
                <a:lnTo>
                  <a:pt x="6467" y="1951"/>
                </a:lnTo>
                <a:lnTo>
                  <a:pt x="6469" y="1951"/>
                </a:lnTo>
                <a:lnTo>
                  <a:pt x="6471" y="1951"/>
                </a:lnTo>
                <a:lnTo>
                  <a:pt x="6473" y="1951"/>
                </a:lnTo>
                <a:lnTo>
                  <a:pt x="6475" y="1951"/>
                </a:lnTo>
                <a:lnTo>
                  <a:pt x="6477" y="1951"/>
                </a:lnTo>
                <a:lnTo>
                  <a:pt x="6479" y="1951"/>
                </a:lnTo>
                <a:lnTo>
                  <a:pt x="6481" y="1951"/>
                </a:lnTo>
                <a:lnTo>
                  <a:pt x="6483" y="1951"/>
                </a:lnTo>
                <a:lnTo>
                  <a:pt x="6485" y="1951"/>
                </a:lnTo>
                <a:lnTo>
                  <a:pt x="6487" y="1951"/>
                </a:lnTo>
                <a:lnTo>
                  <a:pt x="6489" y="1951"/>
                </a:lnTo>
                <a:lnTo>
                  <a:pt x="6491" y="1950"/>
                </a:lnTo>
                <a:lnTo>
                  <a:pt x="6493" y="1950"/>
                </a:lnTo>
                <a:lnTo>
                  <a:pt x="6495" y="1950"/>
                </a:lnTo>
                <a:lnTo>
                  <a:pt x="6497" y="1950"/>
                </a:lnTo>
                <a:lnTo>
                  <a:pt x="6499" y="1950"/>
                </a:lnTo>
                <a:lnTo>
                  <a:pt x="6501" y="1950"/>
                </a:lnTo>
                <a:lnTo>
                  <a:pt x="6503" y="1950"/>
                </a:lnTo>
                <a:lnTo>
                  <a:pt x="6505" y="1950"/>
                </a:lnTo>
                <a:lnTo>
                  <a:pt x="6507" y="1950"/>
                </a:lnTo>
                <a:lnTo>
                  <a:pt x="6509" y="1950"/>
                </a:lnTo>
                <a:lnTo>
                  <a:pt x="6511" y="1950"/>
                </a:lnTo>
                <a:lnTo>
                  <a:pt x="6513" y="1950"/>
                </a:lnTo>
                <a:lnTo>
                  <a:pt x="6515" y="1950"/>
                </a:lnTo>
                <a:lnTo>
                  <a:pt x="6517" y="1950"/>
                </a:lnTo>
                <a:lnTo>
                  <a:pt x="6519" y="1950"/>
                </a:lnTo>
                <a:lnTo>
                  <a:pt x="6521" y="1950"/>
                </a:lnTo>
                <a:lnTo>
                  <a:pt x="6523" y="1950"/>
                </a:lnTo>
                <a:lnTo>
                  <a:pt x="6525" y="1950"/>
                </a:lnTo>
                <a:lnTo>
                  <a:pt x="6527" y="1950"/>
                </a:lnTo>
                <a:lnTo>
                  <a:pt x="6529" y="1950"/>
                </a:lnTo>
                <a:lnTo>
                  <a:pt x="6531" y="1950"/>
                </a:lnTo>
                <a:lnTo>
                  <a:pt x="6533" y="1950"/>
                </a:lnTo>
                <a:lnTo>
                  <a:pt x="6535" y="1950"/>
                </a:lnTo>
                <a:lnTo>
                  <a:pt x="6537" y="1950"/>
                </a:lnTo>
                <a:lnTo>
                  <a:pt x="6539" y="1950"/>
                </a:lnTo>
                <a:lnTo>
                  <a:pt x="6541" y="1950"/>
                </a:lnTo>
                <a:lnTo>
                  <a:pt x="6543" y="1950"/>
                </a:lnTo>
                <a:lnTo>
                  <a:pt x="6545" y="1950"/>
                </a:lnTo>
                <a:lnTo>
                  <a:pt x="6547" y="1950"/>
                </a:lnTo>
                <a:lnTo>
                  <a:pt x="6549" y="1950"/>
                </a:lnTo>
                <a:lnTo>
                  <a:pt x="6551" y="1950"/>
                </a:lnTo>
                <a:lnTo>
                  <a:pt x="6553" y="1950"/>
                </a:lnTo>
                <a:lnTo>
                  <a:pt x="6555" y="1950"/>
                </a:lnTo>
                <a:lnTo>
                  <a:pt x="6557" y="1950"/>
                </a:lnTo>
                <a:lnTo>
                  <a:pt x="6559" y="1950"/>
                </a:lnTo>
                <a:lnTo>
                  <a:pt x="6561" y="1950"/>
                </a:lnTo>
                <a:lnTo>
                  <a:pt x="6563" y="1949"/>
                </a:lnTo>
                <a:lnTo>
                  <a:pt x="6565" y="1949"/>
                </a:lnTo>
                <a:lnTo>
                  <a:pt x="6567" y="1949"/>
                </a:lnTo>
                <a:lnTo>
                  <a:pt x="6569" y="1949"/>
                </a:lnTo>
                <a:lnTo>
                  <a:pt x="6571" y="1949"/>
                </a:lnTo>
                <a:lnTo>
                  <a:pt x="6573" y="1949"/>
                </a:lnTo>
                <a:lnTo>
                  <a:pt x="6575" y="1949"/>
                </a:lnTo>
                <a:lnTo>
                  <a:pt x="6577" y="1949"/>
                </a:lnTo>
                <a:lnTo>
                  <a:pt x="6579" y="1949"/>
                </a:lnTo>
                <a:lnTo>
                  <a:pt x="6581" y="1949"/>
                </a:lnTo>
                <a:lnTo>
                  <a:pt x="6583" y="1948"/>
                </a:lnTo>
                <a:lnTo>
                  <a:pt x="6585" y="1948"/>
                </a:lnTo>
                <a:lnTo>
                  <a:pt x="6587" y="1948"/>
                </a:lnTo>
                <a:lnTo>
                  <a:pt x="6589" y="1948"/>
                </a:lnTo>
                <a:lnTo>
                  <a:pt x="6591" y="1947"/>
                </a:lnTo>
                <a:lnTo>
                  <a:pt x="6592" y="1947"/>
                </a:lnTo>
                <a:lnTo>
                  <a:pt x="6594" y="1947"/>
                </a:lnTo>
                <a:lnTo>
                  <a:pt x="6596" y="1946"/>
                </a:lnTo>
                <a:lnTo>
                  <a:pt x="6598" y="1946"/>
                </a:lnTo>
                <a:lnTo>
                  <a:pt x="6600" y="1946"/>
                </a:lnTo>
                <a:lnTo>
                  <a:pt x="6602" y="1945"/>
                </a:lnTo>
                <a:lnTo>
                  <a:pt x="6604" y="1945"/>
                </a:lnTo>
                <a:lnTo>
                  <a:pt x="6606" y="1944"/>
                </a:lnTo>
                <a:lnTo>
                  <a:pt x="6608" y="1944"/>
                </a:lnTo>
                <a:lnTo>
                  <a:pt x="6610" y="1943"/>
                </a:lnTo>
                <a:lnTo>
                  <a:pt x="6612" y="1943"/>
                </a:lnTo>
                <a:lnTo>
                  <a:pt x="6614" y="1942"/>
                </a:lnTo>
                <a:lnTo>
                  <a:pt x="6616" y="1941"/>
                </a:lnTo>
                <a:lnTo>
                  <a:pt x="6618" y="1941"/>
                </a:lnTo>
                <a:lnTo>
                  <a:pt x="6620" y="1940"/>
                </a:lnTo>
                <a:lnTo>
                  <a:pt x="6622" y="1939"/>
                </a:lnTo>
                <a:lnTo>
                  <a:pt x="6624" y="1938"/>
                </a:lnTo>
                <a:lnTo>
                  <a:pt x="6626" y="1937"/>
                </a:lnTo>
                <a:lnTo>
                  <a:pt x="6628" y="1936"/>
                </a:lnTo>
                <a:lnTo>
                  <a:pt x="6630" y="1935"/>
                </a:lnTo>
                <a:lnTo>
                  <a:pt x="6632" y="1934"/>
                </a:lnTo>
                <a:lnTo>
                  <a:pt x="6634" y="1933"/>
                </a:lnTo>
                <a:lnTo>
                  <a:pt x="6636" y="1931"/>
                </a:lnTo>
                <a:lnTo>
                  <a:pt x="6638" y="1930"/>
                </a:lnTo>
                <a:lnTo>
                  <a:pt x="6640" y="1928"/>
                </a:lnTo>
                <a:lnTo>
                  <a:pt x="6642" y="1927"/>
                </a:lnTo>
                <a:lnTo>
                  <a:pt x="6644" y="1925"/>
                </a:lnTo>
                <a:lnTo>
                  <a:pt x="6646" y="1923"/>
                </a:lnTo>
                <a:lnTo>
                  <a:pt x="6648" y="1921"/>
                </a:lnTo>
                <a:lnTo>
                  <a:pt x="6650" y="1919"/>
                </a:lnTo>
                <a:lnTo>
                  <a:pt x="6652" y="1917"/>
                </a:lnTo>
                <a:lnTo>
                  <a:pt x="6654" y="1915"/>
                </a:lnTo>
                <a:lnTo>
                  <a:pt x="6656" y="1913"/>
                </a:lnTo>
                <a:lnTo>
                  <a:pt x="6658" y="1910"/>
                </a:lnTo>
                <a:lnTo>
                  <a:pt x="6660" y="1908"/>
                </a:lnTo>
                <a:lnTo>
                  <a:pt x="6662" y="1905"/>
                </a:lnTo>
                <a:lnTo>
                  <a:pt x="6664" y="1902"/>
                </a:lnTo>
                <a:lnTo>
                  <a:pt x="6666" y="1899"/>
                </a:lnTo>
                <a:lnTo>
                  <a:pt x="6668" y="1896"/>
                </a:lnTo>
                <a:lnTo>
                  <a:pt x="6670" y="1893"/>
                </a:lnTo>
                <a:lnTo>
                  <a:pt x="6672" y="1890"/>
                </a:lnTo>
                <a:lnTo>
                  <a:pt x="6674" y="1886"/>
                </a:lnTo>
                <a:lnTo>
                  <a:pt x="6676" y="1882"/>
                </a:lnTo>
                <a:lnTo>
                  <a:pt x="6678" y="1879"/>
                </a:lnTo>
                <a:lnTo>
                  <a:pt x="6680" y="1875"/>
                </a:lnTo>
                <a:lnTo>
                  <a:pt x="6682" y="1871"/>
                </a:lnTo>
                <a:lnTo>
                  <a:pt x="6684" y="1866"/>
                </a:lnTo>
                <a:lnTo>
                  <a:pt x="6686" y="1862"/>
                </a:lnTo>
                <a:lnTo>
                  <a:pt x="6688" y="1856"/>
                </a:lnTo>
                <a:lnTo>
                  <a:pt x="6690" y="1851"/>
                </a:lnTo>
                <a:lnTo>
                  <a:pt x="6692" y="1846"/>
                </a:lnTo>
                <a:lnTo>
                  <a:pt x="6694" y="1841"/>
                </a:lnTo>
                <a:lnTo>
                  <a:pt x="6696" y="1836"/>
                </a:lnTo>
                <a:lnTo>
                  <a:pt x="6698" y="1831"/>
                </a:lnTo>
                <a:lnTo>
                  <a:pt x="6700" y="1825"/>
                </a:lnTo>
                <a:lnTo>
                  <a:pt x="6702" y="1819"/>
                </a:lnTo>
                <a:lnTo>
                  <a:pt x="6704" y="1813"/>
                </a:lnTo>
                <a:lnTo>
                  <a:pt x="6706" y="1807"/>
                </a:lnTo>
                <a:lnTo>
                  <a:pt x="6708" y="1800"/>
                </a:lnTo>
                <a:lnTo>
                  <a:pt x="6710" y="1794"/>
                </a:lnTo>
                <a:lnTo>
                  <a:pt x="6712" y="1787"/>
                </a:lnTo>
                <a:lnTo>
                  <a:pt x="6714" y="1780"/>
                </a:lnTo>
                <a:lnTo>
                  <a:pt x="6716" y="1771"/>
                </a:lnTo>
                <a:lnTo>
                  <a:pt x="6718" y="1765"/>
                </a:lnTo>
                <a:lnTo>
                  <a:pt x="6720" y="1758"/>
                </a:lnTo>
                <a:lnTo>
                  <a:pt x="6722" y="1750"/>
                </a:lnTo>
                <a:lnTo>
                  <a:pt x="6724" y="1743"/>
                </a:lnTo>
                <a:lnTo>
                  <a:pt x="6726" y="1735"/>
                </a:lnTo>
                <a:lnTo>
                  <a:pt x="6728" y="1727"/>
                </a:lnTo>
                <a:lnTo>
                  <a:pt x="6730" y="1719"/>
                </a:lnTo>
                <a:lnTo>
                  <a:pt x="6732" y="1711"/>
                </a:lnTo>
                <a:lnTo>
                  <a:pt x="6734" y="1703"/>
                </a:lnTo>
                <a:lnTo>
                  <a:pt x="6736" y="1694"/>
                </a:lnTo>
                <a:lnTo>
                  <a:pt x="6738" y="1683"/>
                </a:lnTo>
                <a:lnTo>
                  <a:pt x="6740" y="1676"/>
                </a:lnTo>
                <a:lnTo>
                  <a:pt x="6742" y="1667"/>
                </a:lnTo>
                <a:lnTo>
                  <a:pt x="6744" y="1658"/>
                </a:lnTo>
                <a:lnTo>
                  <a:pt x="6746" y="1649"/>
                </a:lnTo>
                <a:lnTo>
                  <a:pt x="6748" y="1640"/>
                </a:lnTo>
                <a:lnTo>
                  <a:pt x="6750" y="1630"/>
                </a:lnTo>
                <a:lnTo>
                  <a:pt x="6752" y="1621"/>
                </a:lnTo>
                <a:lnTo>
                  <a:pt x="6754" y="1611"/>
                </a:lnTo>
                <a:lnTo>
                  <a:pt x="6756" y="1599"/>
                </a:lnTo>
                <a:lnTo>
                  <a:pt x="6758" y="1591"/>
                </a:lnTo>
                <a:lnTo>
                  <a:pt x="6760" y="1581"/>
                </a:lnTo>
                <a:lnTo>
                  <a:pt x="6761" y="1571"/>
                </a:lnTo>
                <a:lnTo>
                  <a:pt x="6763" y="1561"/>
                </a:lnTo>
                <a:lnTo>
                  <a:pt x="6765" y="1551"/>
                </a:lnTo>
                <a:lnTo>
                  <a:pt x="6767" y="1541"/>
                </a:lnTo>
                <a:lnTo>
                  <a:pt x="6769" y="1531"/>
                </a:lnTo>
                <a:lnTo>
                  <a:pt x="6771" y="1519"/>
                </a:lnTo>
                <a:lnTo>
                  <a:pt x="6773" y="1510"/>
                </a:lnTo>
                <a:lnTo>
                  <a:pt x="6775" y="1500"/>
                </a:lnTo>
                <a:lnTo>
                  <a:pt x="6777" y="1490"/>
                </a:lnTo>
                <a:lnTo>
                  <a:pt x="6779" y="1480"/>
                </a:lnTo>
                <a:lnTo>
                  <a:pt x="6781" y="1470"/>
                </a:lnTo>
                <a:lnTo>
                  <a:pt x="6783" y="1460"/>
                </a:lnTo>
                <a:lnTo>
                  <a:pt x="6785" y="1450"/>
                </a:lnTo>
                <a:lnTo>
                  <a:pt x="6787" y="1439"/>
                </a:lnTo>
                <a:lnTo>
                  <a:pt x="6789" y="1428"/>
                </a:lnTo>
                <a:lnTo>
                  <a:pt x="6791" y="1419"/>
                </a:lnTo>
                <a:lnTo>
                  <a:pt x="6793" y="1410"/>
                </a:lnTo>
                <a:lnTo>
                  <a:pt x="6795" y="1400"/>
                </a:lnTo>
                <a:lnTo>
                  <a:pt x="6797" y="1391"/>
                </a:lnTo>
                <a:lnTo>
                  <a:pt x="6799" y="1381"/>
                </a:lnTo>
                <a:lnTo>
                  <a:pt x="6801" y="1372"/>
                </a:lnTo>
                <a:lnTo>
                  <a:pt x="6803" y="1363"/>
                </a:lnTo>
                <a:lnTo>
                  <a:pt x="6805" y="1352"/>
                </a:lnTo>
                <a:lnTo>
                  <a:pt x="6807" y="1343"/>
                </a:lnTo>
                <a:lnTo>
                  <a:pt x="6809" y="1335"/>
                </a:lnTo>
                <a:lnTo>
                  <a:pt x="6811" y="1326"/>
                </a:lnTo>
                <a:lnTo>
                  <a:pt x="6813" y="1318"/>
                </a:lnTo>
                <a:lnTo>
                  <a:pt x="6815" y="1309"/>
                </a:lnTo>
                <a:lnTo>
                  <a:pt x="6817" y="1301"/>
                </a:lnTo>
                <a:lnTo>
                  <a:pt x="6819" y="1293"/>
                </a:lnTo>
                <a:lnTo>
                  <a:pt x="6821" y="1286"/>
                </a:lnTo>
                <a:lnTo>
                  <a:pt x="6823" y="1278"/>
                </a:lnTo>
                <a:lnTo>
                  <a:pt x="6825" y="1270"/>
                </a:lnTo>
                <a:lnTo>
                  <a:pt x="6827" y="1262"/>
                </a:lnTo>
                <a:lnTo>
                  <a:pt x="6829" y="1257"/>
                </a:lnTo>
                <a:lnTo>
                  <a:pt x="6831" y="1250"/>
                </a:lnTo>
                <a:lnTo>
                  <a:pt x="6833" y="1244"/>
                </a:lnTo>
                <a:lnTo>
                  <a:pt x="6835" y="1238"/>
                </a:lnTo>
                <a:lnTo>
                  <a:pt x="6837" y="1232"/>
                </a:lnTo>
                <a:lnTo>
                  <a:pt x="6839" y="1227"/>
                </a:lnTo>
                <a:lnTo>
                  <a:pt x="6841" y="1222"/>
                </a:lnTo>
                <a:lnTo>
                  <a:pt x="6843" y="1217"/>
                </a:lnTo>
                <a:lnTo>
                  <a:pt x="6845" y="1212"/>
                </a:lnTo>
                <a:lnTo>
                  <a:pt x="6847" y="1208"/>
                </a:lnTo>
                <a:lnTo>
                  <a:pt x="6849" y="1205"/>
                </a:lnTo>
                <a:lnTo>
                  <a:pt x="6851" y="1201"/>
                </a:lnTo>
                <a:lnTo>
                  <a:pt x="6853" y="1198"/>
                </a:lnTo>
                <a:lnTo>
                  <a:pt x="6855" y="1196"/>
                </a:lnTo>
                <a:lnTo>
                  <a:pt x="6857" y="1193"/>
                </a:lnTo>
                <a:lnTo>
                  <a:pt x="6859" y="1191"/>
                </a:lnTo>
                <a:lnTo>
                  <a:pt x="6861" y="1189"/>
                </a:lnTo>
                <a:lnTo>
                  <a:pt x="6863" y="1187"/>
                </a:lnTo>
                <a:lnTo>
                  <a:pt x="6865" y="1186"/>
                </a:lnTo>
                <a:lnTo>
                  <a:pt x="6867" y="1185"/>
                </a:lnTo>
                <a:lnTo>
                  <a:pt x="6869" y="1184"/>
                </a:lnTo>
                <a:lnTo>
                  <a:pt x="6871" y="1184"/>
                </a:lnTo>
                <a:lnTo>
                  <a:pt x="6873" y="1182"/>
                </a:lnTo>
                <a:lnTo>
                  <a:pt x="6875" y="1183"/>
                </a:lnTo>
                <a:lnTo>
                  <a:pt x="6877" y="1184"/>
                </a:lnTo>
                <a:lnTo>
                  <a:pt x="6879" y="1185"/>
                </a:lnTo>
                <a:lnTo>
                  <a:pt x="6881" y="1186"/>
                </a:lnTo>
                <a:lnTo>
                  <a:pt x="6883" y="1187"/>
                </a:lnTo>
                <a:lnTo>
                  <a:pt x="6885" y="1189"/>
                </a:lnTo>
                <a:lnTo>
                  <a:pt x="6887" y="1192"/>
                </a:lnTo>
                <a:lnTo>
                  <a:pt x="6889" y="1194"/>
                </a:lnTo>
                <a:lnTo>
                  <a:pt x="6891" y="1197"/>
                </a:lnTo>
                <a:lnTo>
                  <a:pt x="6893" y="1201"/>
                </a:lnTo>
                <a:lnTo>
                  <a:pt x="6895" y="1204"/>
                </a:lnTo>
                <a:lnTo>
                  <a:pt x="6897" y="1208"/>
                </a:lnTo>
                <a:lnTo>
                  <a:pt x="6899" y="1212"/>
                </a:lnTo>
                <a:lnTo>
                  <a:pt x="6901" y="1217"/>
                </a:lnTo>
                <a:lnTo>
                  <a:pt x="6903" y="1221"/>
                </a:lnTo>
                <a:lnTo>
                  <a:pt x="6905" y="1226"/>
                </a:lnTo>
                <a:lnTo>
                  <a:pt x="6907" y="1231"/>
                </a:lnTo>
                <a:lnTo>
                  <a:pt x="6909" y="1237"/>
                </a:lnTo>
                <a:lnTo>
                  <a:pt x="6911" y="1242"/>
                </a:lnTo>
                <a:lnTo>
                  <a:pt x="6913" y="1248"/>
                </a:lnTo>
                <a:lnTo>
                  <a:pt x="6915" y="1254"/>
                </a:lnTo>
                <a:lnTo>
                  <a:pt x="6917" y="1260"/>
                </a:lnTo>
                <a:lnTo>
                  <a:pt x="6919" y="1265"/>
                </a:lnTo>
                <a:lnTo>
                  <a:pt x="6921" y="1274"/>
                </a:lnTo>
                <a:lnTo>
                  <a:pt x="6923" y="1282"/>
                </a:lnTo>
                <a:lnTo>
                  <a:pt x="6925" y="1289"/>
                </a:lnTo>
                <a:lnTo>
                  <a:pt x="6927" y="1296"/>
                </a:lnTo>
                <a:lnTo>
                  <a:pt x="6929" y="1303"/>
                </a:lnTo>
                <a:lnTo>
                  <a:pt x="6930" y="1310"/>
                </a:lnTo>
                <a:lnTo>
                  <a:pt x="6932" y="1318"/>
                </a:lnTo>
                <a:lnTo>
                  <a:pt x="6934" y="1325"/>
                </a:lnTo>
                <a:lnTo>
                  <a:pt x="6936" y="1333"/>
                </a:lnTo>
                <a:lnTo>
                  <a:pt x="6938" y="1341"/>
                </a:lnTo>
                <a:lnTo>
                  <a:pt x="6940" y="1348"/>
                </a:lnTo>
                <a:lnTo>
                  <a:pt x="6942" y="1357"/>
                </a:lnTo>
                <a:lnTo>
                  <a:pt x="6944" y="1367"/>
                </a:lnTo>
                <a:lnTo>
                  <a:pt x="6946" y="1375"/>
                </a:lnTo>
                <a:lnTo>
                  <a:pt x="6948" y="1383"/>
                </a:lnTo>
                <a:lnTo>
                  <a:pt x="6950" y="1392"/>
                </a:lnTo>
                <a:lnTo>
                  <a:pt x="6952" y="1400"/>
                </a:lnTo>
                <a:lnTo>
                  <a:pt x="6954" y="1409"/>
                </a:lnTo>
                <a:lnTo>
                  <a:pt x="6956" y="1418"/>
                </a:lnTo>
                <a:lnTo>
                  <a:pt x="6958" y="1426"/>
                </a:lnTo>
                <a:lnTo>
                  <a:pt x="6960" y="1434"/>
                </a:lnTo>
                <a:lnTo>
                  <a:pt x="6962" y="1445"/>
                </a:lnTo>
                <a:lnTo>
                  <a:pt x="6964" y="1454"/>
                </a:lnTo>
                <a:lnTo>
                  <a:pt x="6966" y="1463"/>
                </a:lnTo>
                <a:lnTo>
                  <a:pt x="6968" y="1471"/>
                </a:lnTo>
                <a:lnTo>
                  <a:pt x="6970" y="1480"/>
                </a:lnTo>
                <a:lnTo>
                  <a:pt x="6972" y="1488"/>
                </a:lnTo>
                <a:lnTo>
                  <a:pt x="6974" y="1497"/>
                </a:lnTo>
                <a:lnTo>
                  <a:pt x="6976" y="1505"/>
                </a:lnTo>
                <a:lnTo>
                  <a:pt x="6978" y="1513"/>
                </a:lnTo>
                <a:lnTo>
                  <a:pt x="6980" y="1522"/>
                </a:lnTo>
                <a:lnTo>
                  <a:pt x="6982" y="1531"/>
                </a:lnTo>
                <a:lnTo>
                  <a:pt x="6984" y="1540"/>
                </a:lnTo>
                <a:lnTo>
                  <a:pt x="6986" y="1548"/>
                </a:lnTo>
                <a:lnTo>
                  <a:pt x="6988" y="1557"/>
                </a:lnTo>
                <a:lnTo>
                  <a:pt x="6990" y="1565"/>
                </a:lnTo>
                <a:lnTo>
                  <a:pt x="6992" y="1573"/>
                </a:lnTo>
                <a:lnTo>
                  <a:pt x="6994" y="1581"/>
                </a:lnTo>
                <a:lnTo>
                  <a:pt x="6996" y="1589"/>
                </a:lnTo>
                <a:lnTo>
                  <a:pt x="6998" y="1597"/>
                </a:lnTo>
                <a:lnTo>
                  <a:pt x="7000" y="1604"/>
                </a:lnTo>
                <a:lnTo>
                  <a:pt x="7002" y="1613"/>
                </a:lnTo>
                <a:lnTo>
                  <a:pt x="7004" y="1622"/>
                </a:lnTo>
                <a:lnTo>
                  <a:pt x="7006" y="1629"/>
                </a:lnTo>
                <a:lnTo>
                  <a:pt x="7008" y="1637"/>
                </a:lnTo>
                <a:lnTo>
                  <a:pt x="7010" y="1644"/>
                </a:lnTo>
                <a:lnTo>
                  <a:pt x="7012" y="1651"/>
                </a:lnTo>
                <a:lnTo>
                  <a:pt x="7014" y="1659"/>
                </a:lnTo>
                <a:lnTo>
                  <a:pt x="7016" y="1666"/>
                </a:lnTo>
                <a:lnTo>
                  <a:pt x="7018" y="1673"/>
                </a:lnTo>
                <a:lnTo>
                  <a:pt x="7020" y="1680"/>
                </a:lnTo>
                <a:lnTo>
                  <a:pt x="7022" y="1685"/>
                </a:lnTo>
                <a:lnTo>
                  <a:pt x="7024" y="1694"/>
                </a:lnTo>
                <a:lnTo>
                  <a:pt x="7026" y="1701"/>
                </a:lnTo>
                <a:lnTo>
                  <a:pt x="7028" y="1707"/>
                </a:lnTo>
                <a:lnTo>
                  <a:pt x="7030" y="1714"/>
                </a:lnTo>
                <a:lnTo>
                  <a:pt x="7032" y="1720"/>
                </a:lnTo>
                <a:lnTo>
                  <a:pt x="7034" y="1726"/>
                </a:lnTo>
                <a:lnTo>
                  <a:pt x="7036" y="1732"/>
                </a:lnTo>
                <a:lnTo>
                  <a:pt x="7038" y="1738"/>
                </a:lnTo>
                <a:lnTo>
                  <a:pt x="7040" y="1744"/>
                </a:lnTo>
                <a:lnTo>
                  <a:pt x="7042" y="1749"/>
                </a:lnTo>
                <a:lnTo>
                  <a:pt x="7044" y="1755"/>
                </a:lnTo>
                <a:lnTo>
                  <a:pt x="7046" y="1760"/>
                </a:lnTo>
                <a:lnTo>
                  <a:pt x="7048" y="1766"/>
                </a:lnTo>
                <a:lnTo>
                  <a:pt x="7050" y="1769"/>
                </a:lnTo>
                <a:lnTo>
                  <a:pt x="7052" y="1777"/>
                </a:lnTo>
                <a:lnTo>
                  <a:pt x="7054" y="1782"/>
                </a:lnTo>
                <a:lnTo>
                  <a:pt x="7056" y="1787"/>
                </a:lnTo>
                <a:lnTo>
                  <a:pt x="7058" y="1792"/>
                </a:lnTo>
                <a:lnTo>
                  <a:pt x="7060" y="1796"/>
                </a:lnTo>
                <a:lnTo>
                  <a:pt x="7062" y="1801"/>
                </a:lnTo>
                <a:lnTo>
                  <a:pt x="7064" y="1805"/>
                </a:lnTo>
                <a:lnTo>
                  <a:pt x="7066" y="1810"/>
                </a:lnTo>
                <a:lnTo>
                  <a:pt x="7068" y="1814"/>
                </a:lnTo>
                <a:lnTo>
                  <a:pt x="7070" y="1818"/>
                </a:lnTo>
                <a:lnTo>
                  <a:pt x="7072" y="1822"/>
                </a:lnTo>
                <a:lnTo>
                  <a:pt x="7074" y="1826"/>
                </a:lnTo>
                <a:lnTo>
                  <a:pt x="7076" y="1830"/>
                </a:lnTo>
                <a:lnTo>
                  <a:pt x="7078" y="1834"/>
                </a:lnTo>
                <a:lnTo>
                  <a:pt x="7080" y="1837"/>
                </a:lnTo>
                <a:lnTo>
                  <a:pt x="7082" y="1841"/>
                </a:lnTo>
                <a:lnTo>
                  <a:pt x="7084" y="1844"/>
                </a:lnTo>
                <a:lnTo>
                  <a:pt x="7086" y="1848"/>
                </a:lnTo>
                <a:lnTo>
                  <a:pt x="7088" y="1851"/>
                </a:lnTo>
                <a:lnTo>
                  <a:pt x="7090" y="1853"/>
                </a:lnTo>
                <a:lnTo>
                  <a:pt x="7092" y="1857"/>
                </a:lnTo>
                <a:lnTo>
                  <a:pt x="7094" y="1861"/>
                </a:lnTo>
                <a:lnTo>
                  <a:pt x="7096" y="1864"/>
                </a:lnTo>
                <a:lnTo>
                  <a:pt x="7098" y="1867"/>
                </a:lnTo>
                <a:lnTo>
                  <a:pt x="7099" y="1870"/>
                </a:lnTo>
                <a:lnTo>
                  <a:pt x="7101" y="1873"/>
                </a:lnTo>
                <a:lnTo>
                  <a:pt x="7103" y="1875"/>
                </a:lnTo>
                <a:lnTo>
                  <a:pt x="7105" y="1878"/>
                </a:lnTo>
                <a:lnTo>
                  <a:pt x="7107" y="1880"/>
                </a:lnTo>
                <a:lnTo>
                  <a:pt x="7109" y="1883"/>
                </a:lnTo>
                <a:lnTo>
                  <a:pt x="7111" y="1885"/>
                </a:lnTo>
                <a:lnTo>
                  <a:pt x="7113" y="1887"/>
                </a:lnTo>
                <a:lnTo>
                  <a:pt x="7115" y="1889"/>
                </a:lnTo>
                <a:lnTo>
                  <a:pt x="7117" y="1891"/>
                </a:lnTo>
                <a:lnTo>
                  <a:pt x="7119" y="1893"/>
                </a:lnTo>
                <a:lnTo>
                  <a:pt x="7121" y="1895"/>
                </a:lnTo>
                <a:lnTo>
                  <a:pt x="7123" y="1897"/>
                </a:lnTo>
                <a:lnTo>
                  <a:pt x="7125" y="1899"/>
                </a:lnTo>
                <a:lnTo>
                  <a:pt x="7127" y="1901"/>
                </a:lnTo>
                <a:lnTo>
                  <a:pt x="7129" y="1903"/>
                </a:lnTo>
                <a:lnTo>
                  <a:pt x="7131" y="1904"/>
                </a:lnTo>
                <a:lnTo>
                  <a:pt x="7133" y="1906"/>
                </a:lnTo>
                <a:lnTo>
                  <a:pt x="7135" y="1908"/>
                </a:lnTo>
                <a:lnTo>
                  <a:pt x="7137" y="1909"/>
                </a:lnTo>
                <a:lnTo>
                  <a:pt x="7139" y="1910"/>
                </a:lnTo>
                <a:lnTo>
                  <a:pt x="7141" y="1912"/>
                </a:lnTo>
                <a:lnTo>
                  <a:pt x="7143" y="1913"/>
                </a:lnTo>
                <a:lnTo>
                  <a:pt x="7145" y="1915"/>
                </a:lnTo>
                <a:lnTo>
                  <a:pt x="7147" y="1916"/>
                </a:lnTo>
                <a:lnTo>
                  <a:pt x="7149" y="1917"/>
                </a:lnTo>
                <a:lnTo>
                  <a:pt x="7151" y="1918"/>
                </a:lnTo>
                <a:lnTo>
                  <a:pt x="7153" y="1919"/>
                </a:lnTo>
                <a:lnTo>
                  <a:pt x="7155" y="1921"/>
                </a:lnTo>
                <a:lnTo>
                  <a:pt x="7157" y="1922"/>
                </a:lnTo>
                <a:lnTo>
                  <a:pt x="7159" y="1923"/>
                </a:lnTo>
                <a:lnTo>
                  <a:pt x="7161" y="1924"/>
                </a:lnTo>
                <a:lnTo>
                  <a:pt x="7163" y="1925"/>
                </a:lnTo>
                <a:lnTo>
                  <a:pt x="7165" y="1926"/>
                </a:lnTo>
                <a:lnTo>
                  <a:pt x="7167" y="1927"/>
                </a:lnTo>
                <a:lnTo>
                  <a:pt x="7169" y="1927"/>
                </a:lnTo>
                <a:lnTo>
                  <a:pt x="7171" y="1928"/>
                </a:lnTo>
                <a:lnTo>
                  <a:pt x="7173" y="1929"/>
                </a:lnTo>
                <a:lnTo>
                  <a:pt x="7175" y="1930"/>
                </a:lnTo>
                <a:lnTo>
                  <a:pt x="7177" y="1931"/>
                </a:lnTo>
                <a:lnTo>
                  <a:pt x="7179" y="1931"/>
                </a:lnTo>
                <a:lnTo>
                  <a:pt x="7181" y="1932"/>
                </a:lnTo>
                <a:lnTo>
                  <a:pt x="7183" y="1933"/>
                </a:lnTo>
                <a:lnTo>
                  <a:pt x="7185" y="1933"/>
                </a:lnTo>
                <a:lnTo>
                  <a:pt x="7187" y="1934"/>
                </a:lnTo>
                <a:lnTo>
                  <a:pt x="7189" y="1934"/>
                </a:lnTo>
                <a:lnTo>
                  <a:pt x="7191" y="1935"/>
                </a:lnTo>
                <a:lnTo>
                  <a:pt x="7193" y="1935"/>
                </a:lnTo>
                <a:lnTo>
                  <a:pt x="7195" y="1936"/>
                </a:lnTo>
                <a:lnTo>
                  <a:pt x="7197" y="1936"/>
                </a:lnTo>
                <a:lnTo>
                  <a:pt x="7199" y="1937"/>
                </a:lnTo>
                <a:lnTo>
                  <a:pt x="7201" y="1937"/>
                </a:lnTo>
                <a:lnTo>
                  <a:pt x="7203" y="1937"/>
                </a:lnTo>
                <a:lnTo>
                  <a:pt x="7205" y="1938"/>
                </a:lnTo>
                <a:lnTo>
                  <a:pt x="7207" y="1938"/>
                </a:lnTo>
                <a:lnTo>
                  <a:pt x="7209" y="1938"/>
                </a:lnTo>
                <a:lnTo>
                  <a:pt x="7211" y="1938"/>
                </a:lnTo>
                <a:lnTo>
                  <a:pt x="7213" y="1940"/>
                </a:lnTo>
                <a:lnTo>
                  <a:pt x="7215" y="1941"/>
                </a:lnTo>
                <a:lnTo>
                  <a:pt x="7217" y="1941"/>
                </a:lnTo>
                <a:lnTo>
                  <a:pt x="7219" y="1941"/>
                </a:lnTo>
                <a:lnTo>
                  <a:pt x="7221" y="1942"/>
                </a:lnTo>
                <a:lnTo>
                  <a:pt x="7223" y="1942"/>
                </a:lnTo>
                <a:lnTo>
                  <a:pt x="7225" y="1942"/>
                </a:lnTo>
                <a:lnTo>
                  <a:pt x="7227" y="1942"/>
                </a:lnTo>
                <a:lnTo>
                  <a:pt x="7229" y="1943"/>
                </a:lnTo>
                <a:lnTo>
                  <a:pt x="7231" y="1943"/>
                </a:lnTo>
                <a:lnTo>
                  <a:pt x="7233" y="1943"/>
                </a:lnTo>
                <a:lnTo>
                  <a:pt x="7235" y="1943"/>
                </a:lnTo>
                <a:lnTo>
                  <a:pt x="7237" y="1943"/>
                </a:lnTo>
                <a:lnTo>
                  <a:pt x="7239" y="1943"/>
                </a:lnTo>
                <a:lnTo>
                  <a:pt x="7241" y="1943"/>
                </a:lnTo>
                <a:lnTo>
                  <a:pt x="7243" y="1944"/>
                </a:lnTo>
                <a:lnTo>
                  <a:pt x="7245" y="1944"/>
                </a:lnTo>
                <a:lnTo>
                  <a:pt x="7247" y="1944"/>
                </a:lnTo>
                <a:lnTo>
                  <a:pt x="7249" y="1944"/>
                </a:lnTo>
                <a:lnTo>
                  <a:pt x="7251" y="1944"/>
                </a:lnTo>
                <a:lnTo>
                  <a:pt x="7253" y="1945"/>
                </a:lnTo>
                <a:lnTo>
                  <a:pt x="7255" y="1945"/>
                </a:lnTo>
                <a:lnTo>
                  <a:pt x="7257" y="1945"/>
                </a:lnTo>
                <a:lnTo>
                  <a:pt x="7259" y="1945"/>
                </a:lnTo>
                <a:lnTo>
                  <a:pt x="7261" y="1945"/>
                </a:lnTo>
                <a:lnTo>
                  <a:pt x="7263" y="1945"/>
                </a:lnTo>
                <a:lnTo>
                  <a:pt x="7265" y="1945"/>
                </a:lnTo>
                <a:lnTo>
                  <a:pt x="7267" y="1945"/>
                </a:lnTo>
                <a:lnTo>
                  <a:pt x="7268" y="1946"/>
                </a:lnTo>
                <a:lnTo>
                  <a:pt x="7270" y="1946"/>
                </a:lnTo>
                <a:lnTo>
                  <a:pt x="7272" y="1946"/>
                </a:lnTo>
                <a:lnTo>
                  <a:pt x="7274" y="1946"/>
                </a:lnTo>
                <a:lnTo>
                  <a:pt x="7276" y="1946"/>
                </a:lnTo>
                <a:lnTo>
                  <a:pt x="7278" y="1946"/>
                </a:lnTo>
                <a:lnTo>
                  <a:pt x="7280" y="1946"/>
                </a:lnTo>
                <a:lnTo>
                  <a:pt x="7282" y="1946"/>
                </a:lnTo>
                <a:lnTo>
                  <a:pt x="7284" y="1946"/>
                </a:lnTo>
                <a:lnTo>
                  <a:pt x="7286" y="1946"/>
                </a:lnTo>
                <a:lnTo>
                  <a:pt x="7288" y="1946"/>
                </a:lnTo>
                <a:lnTo>
                  <a:pt x="7290" y="1946"/>
                </a:lnTo>
                <a:lnTo>
                  <a:pt x="7292" y="1946"/>
                </a:lnTo>
                <a:lnTo>
                  <a:pt x="7294" y="1946"/>
                </a:lnTo>
                <a:lnTo>
                  <a:pt x="7296" y="1946"/>
                </a:lnTo>
                <a:lnTo>
                  <a:pt x="7298" y="1946"/>
                </a:lnTo>
                <a:lnTo>
                  <a:pt x="7300" y="1947"/>
                </a:lnTo>
                <a:lnTo>
                  <a:pt x="7302" y="1947"/>
                </a:lnTo>
                <a:lnTo>
                  <a:pt x="7304" y="1947"/>
                </a:lnTo>
                <a:lnTo>
                  <a:pt x="7306" y="1947"/>
                </a:lnTo>
                <a:lnTo>
                  <a:pt x="7308" y="1947"/>
                </a:lnTo>
                <a:lnTo>
                  <a:pt x="7310" y="1947"/>
                </a:lnTo>
                <a:lnTo>
                  <a:pt x="7312" y="1947"/>
                </a:lnTo>
                <a:lnTo>
                  <a:pt x="7314" y="1947"/>
                </a:lnTo>
                <a:lnTo>
                  <a:pt x="7316" y="1947"/>
                </a:lnTo>
                <a:lnTo>
                  <a:pt x="7318" y="1947"/>
                </a:lnTo>
                <a:lnTo>
                  <a:pt x="7320" y="1947"/>
                </a:lnTo>
                <a:lnTo>
                  <a:pt x="7322" y="1947"/>
                </a:lnTo>
                <a:lnTo>
                  <a:pt x="7324" y="1948"/>
                </a:lnTo>
                <a:lnTo>
                  <a:pt x="7326" y="1948"/>
                </a:lnTo>
                <a:lnTo>
                  <a:pt x="7328" y="1948"/>
                </a:lnTo>
                <a:lnTo>
                  <a:pt x="7330" y="1948"/>
                </a:lnTo>
                <a:lnTo>
                  <a:pt x="7332" y="1948"/>
                </a:lnTo>
                <a:lnTo>
                  <a:pt x="7334" y="1948"/>
                </a:lnTo>
                <a:lnTo>
                  <a:pt x="7336" y="1948"/>
                </a:lnTo>
                <a:lnTo>
                  <a:pt x="7338" y="1948"/>
                </a:lnTo>
                <a:lnTo>
                  <a:pt x="7340" y="1948"/>
                </a:lnTo>
                <a:lnTo>
                  <a:pt x="7342" y="1948"/>
                </a:lnTo>
                <a:lnTo>
                  <a:pt x="7344" y="1948"/>
                </a:lnTo>
                <a:lnTo>
                  <a:pt x="7346" y="1948"/>
                </a:lnTo>
                <a:lnTo>
                  <a:pt x="7348" y="1948"/>
                </a:lnTo>
                <a:lnTo>
                  <a:pt x="7350" y="1948"/>
                </a:lnTo>
                <a:lnTo>
                  <a:pt x="7352" y="1948"/>
                </a:lnTo>
                <a:lnTo>
                  <a:pt x="7354" y="1948"/>
                </a:lnTo>
                <a:lnTo>
                  <a:pt x="7356" y="1948"/>
                </a:lnTo>
                <a:lnTo>
                  <a:pt x="7358" y="1948"/>
                </a:lnTo>
                <a:lnTo>
                  <a:pt x="7360" y="1948"/>
                </a:lnTo>
                <a:lnTo>
                  <a:pt x="7362" y="1948"/>
                </a:lnTo>
                <a:lnTo>
                  <a:pt x="7364" y="1948"/>
                </a:lnTo>
                <a:lnTo>
                  <a:pt x="7366" y="1948"/>
                </a:lnTo>
                <a:lnTo>
                  <a:pt x="7368" y="1948"/>
                </a:lnTo>
                <a:lnTo>
                  <a:pt x="7370" y="1948"/>
                </a:lnTo>
                <a:lnTo>
                  <a:pt x="7372" y="1948"/>
                </a:lnTo>
                <a:lnTo>
                  <a:pt x="7374" y="1948"/>
                </a:lnTo>
                <a:lnTo>
                  <a:pt x="7376" y="1948"/>
                </a:lnTo>
                <a:lnTo>
                  <a:pt x="7378" y="1948"/>
                </a:lnTo>
                <a:lnTo>
                  <a:pt x="7380" y="1948"/>
                </a:lnTo>
                <a:lnTo>
                  <a:pt x="7382" y="1948"/>
                </a:lnTo>
                <a:lnTo>
                  <a:pt x="7384" y="1948"/>
                </a:lnTo>
                <a:lnTo>
                  <a:pt x="7386" y="1948"/>
                </a:lnTo>
                <a:lnTo>
                  <a:pt x="7388" y="1948"/>
                </a:lnTo>
                <a:lnTo>
                  <a:pt x="7390" y="1948"/>
                </a:lnTo>
                <a:lnTo>
                  <a:pt x="7392" y="1948"/>
                </a:lnTo>
                <a:lnTo>
                  <a:pt x="7394" y="1948"/>
                </a:lnTo>
                <a:lnTo>
                  <a:pt x="7396" y="1948"/>
                </a:lnTo>
                <a:lnTo>
                  <a:pt x="7398" y="1948"/>
                </a:lnTo>
                <a:lnTo>
                  <a:pt x="7400" y="1948"/>
                </a:lnTo>
                <a:lnTo>
                  <a:pt x="7402" y="1949"/>
                </a:lnTo>
                <a:lnTo>
                  <a:pt x="7404" y="1948"/>
                </a:lnTo>
                <a:lnTo>
                  <a:pt x="7406" y="1949"/>
                </a:lnTo>
                <a:lnTo>
                  <a:pt x="7408" y="1949"/>
                </a:lnTo>
                <a:lnTo>
                  <a:pt x="7410" y="1949"/>
                </a:lnTo>
                <a:lnTo>
                  <a:pt x="7412" y="1949"/>
                </a:lnTo>
                <a:lnTo>
                  <a:pt x="7414" y="1949"/>
                </a:lnTo>
                <a:lnTo>
                  <a:pt x="7416" y="1949"/>
                </a:lnTo>
                <a:lnTo>
                  <a:pt x="7418" y="1949"/>
                </a:lnTo>
                <a:lnTo>
                  <a:pt x="7420" y="1949"/>
                </a:lnTo>
                <a:lnTo>
                  <a:pt x="7422" y="1949"/>
                </a:lnTo>
                <a:lnTo>
                  <a:pt x="7424" y="1949"/>
                </a:lnTo>
                <a:lnTo>
                  <a:pt x="7426" y="1949"/>
                </a:lnTo>
                <a:lnTo>
                  <a:pt x="7428" y="1949"/>
                </a:lnTo>
                <a:lnTo>
                  <a:pt x="7430" y="1949"/>
                </a:lnTo>
                <a:lnTo>
                  <a:pt x="7432" y="1949"/>
                </a:lnTo>
                <a:lnTo>
                  <a:pt x="7434" y="1949"/>
                </a:lnTo>
                <a:lnTo>
                  <a:pt x="7436" y="1949"/>
                </a:lnTo>
                <a:lnTo>
                  <a:pt x="7437" y="1949"/>
                </a:lnTo>
                <a:lnTo>
                  <a:pt x="7439" y="1949"/>
                </a:lnTo>
                <a:lnTo>
                  <a:pt x="7441" y="1949"/>
                </a:lnTo>
                <a:lnTo>
                  <a:pt x="7443" y="1948"/>
                </a:lnTo>
                <a:lnTo>
                  <a:pt x="7445" y="1948"/>
                </a:lnTo>
                <a:lnTo>
                  <a:pt x="7447" y="1948"/>
                </a:lnTo>
                <a:lnTo>
                  <a:pt x="7449" y="1948"/>
                </a:lnTo>
                <a:lnTo>
                  <a:pt x="7451" y="1948"/>
                </a:lnTo>
                <a:lnTo>
                  <a:pt x="7453" y="1949"/>
                </a:lnTo>
                <a:lnTo>
                  <a:pt x="7455" y="1949"/>
                </a:lnTo>
                <a:lnTo>
                  <a:pt x="7457" y="1949"/>
                </a:lnTo>
                <a:lnTo>
                  <a:pt x="7459" y="1949"/>
                </a:lnTo>
                <a:lnTo>
                  <a:pt x="7461" y="1949"/>
                </a:lnTo>
                <a:lnTo>
                  <a:pt x="7463" y="1949"/>
                </a:lnTo>
                <a:lnTo>
                  <a:pt x="7465" y="1949"/>
                </a:lnTo>
                <a:lnTo>
                  <a:pt x="7467" y="1949"/>
                </a:lnTo>
                <a:lnTo>
                  <a:pt x="7469" y="1949"/>
                </a:lnTo>
                <a:lnTo>
                  <a:pt x="7471" y="1949"/>
                </a:lnTo>
                <a:lnTo>
                  <a:pt x="7473" y="1949"/>
                </a:lnTo>
                <a:lnTo>
                  <a:pt x="7475" y="1949"/>
                </a:lnTo>
                <a:lnTo>
                  <a:pt x="7477" y="1949"/>
                </a:lnTo>
                <a:lnTo>
                  <a:pt x="7479" y="1949"/>
                </a:lnTo>
                <a:lnTo>
                  <a:pt x="7481" y="1949"/>
                </a:lnTo>
                <a:lnTo>
                  <a:pt x="7483" y="1949"/>
                </a:lnTo>
                <a:lnTo>
                  <a:pt x="7485" y="1949"/>
                </a:lnTo>
                <a:lnTo>
                  <a:pt x="7487" y="1949"/>
                </a:lnTo>
                <a:lnTo>
                  <a:pt x="7489" y="1949"/>
                </a:lnTo>
                <a:lnTo>
                  <a:pt x="7491" y="1949"/>
                </a:lnTo>
                <a:lnTo>
                  <a:pt x="7493" y="1949"/>
                </a:lnTo>
                <a:lnTo>
                  <a:pt x="7495" y="1949"/>
                </a:lnTo>
                <a:lnTo>
                  <a:pt x="7497" y="1949"/>
                </a:lnTo>
                <a:lnTo>
                  <a:pt x="7499" y="1949"/>
                </a:lnTo>
                <a:lnTo>
                  <a:pt x="7501" y="1949"/>
                </a:lnTo>
                <a:lnTo>
                  <a:pt x="7503" y="1949"/>
                </a:lnTo>
                <a:lnTo>
                  <a:pt x="7505" y="1949"/>
                </a:lnTo>
                <a:lnTo>
                  <a:pt x="7507" y="1949"/>
                </a:lnTo>
                <a:lnTo>
                  <a:pt x="7509" y="1950"/>
                </a:lnTo>
                <a:lnTo>
                  <a:pt x="7511" y="1950"/>
                </a:lnTo>
                <a:lnTo>
                  <a:pt x="7513" y="1950"/>
                </a:lnTo>
                <a:lnTo>
                  <a:pt x="7515" y="1950"/>
                </a:lnTo>
                <a:lnTo>
                  <a:pt x="7517" y="1950"/>
                </a:lnTo>
                <a:lnTo>
                  <a:pt x="7519" y="1950"/>
                </a:lnTo>
                <a:lnTo>
                  <a:pt x="7521" y="1950"/>
                </a:lnTo>
                <a:lnTo>
                  <a:pt x="7523" y="1950"/>
                </a:lnTo>
                <a:lnTo>
                  <a:pt x="7525" y="1950"/>
                </a:lnTo>
                <a:lnTo>
                  <a:pt x="7527" y="1950"/>
                </a:lnTo>
                <a:lnTo>
                  <a:pt x="7529" y="1950"/>
                </a:lnTo>
                <a:lnTo>
                  <a:pt x="7531" y="1950"/>
                </a:lnTo>
                <a:lnTo>
                  <a:pt x="7533" y="1950"/>
                </a:lnTo>
                <a:lnTo>
                  <a:pt x="7535" y="1950"/>
                </a:lnTo>
                <a:lnTo>
                  <a:pt x="7537" y="1950"/>
                </a:lnTo>
                <a:lnTo>
                  <a:pt x="7539" y="1950"/>
                </a:lnTo>
                <a:lnTo>
                  <a:pt x="7541" y="1950"/>
                </a:lnTo>
                <a:lnTo>
                  <a:pt x="7543" y="1950"/>
                </a:lnTo>
                <a:lnTo>
                  <a:pt x="7545" y="1950"/>
                </a:lnTo>
                <a:lnTo>
                  <a:pt x="7547" y="1950"/>
                </a:lnTo>
                <a:lnTo>
                  <a:pt x="7549" y="1950"/>
                </a:lnTo>
                <a:lnTo>
                  <a:pt x="7551" y="1950"/>
                </a:lnTo>
                <a:lnTo>
                  <a:pt x="7553" y="1950"/>
                </a:lnTo>
                <a:lnTo>
                  <a:pt x="7555" y="1950"/>
                </a:lnTo>
                <a:lnTo>
                  <a:pt x="7557" y="1950"/>
                </a:lnTo>
                <a:lnTo>
                  <a:pt x="7559" y="1950"/>
                </a:lnTo>
                <a:lnTo>
                  <a:pt x="7561" y="1950"/>
                </a:lnTo>
                <a:lnTo>
                  <a:pt x="7563" y="1950"/>
                </a:lnTo>
                <a:lnTo>
                  <a:pt x="7565" y="1951"/>
                </a:lnTo>
                <a:lnTo>
                  <a:pt x="7567" y="1950"/>
                </a:lnTo>
                <a:lnTo>
                  <a:pt x="7569" y="1950"/>
                </a:lnTo>
                <a:lnTo>
                  <a:pt x="7571" y="1950"/>
                </a:lnTo>
                <a:lnTo>
                  <a:pt x="7573" y="1950"/>
                </a:lnTo>
                <a:lnTo>
                  <a:pt x="7575" y="1950"/>
                </a:lnTo>
                <a:lnTo>
                  <a:pt x="7577" y="1950"/>
                </a:lnTo>
                <a:lnTo>
                  <a:pt x="7579" y="1950"/>
                </a:lnTo>
                <a:lnTo>
                  <a:pt x="7581" y="1950"/>
                </a:lnTo>
                <a:lnTo>
                  <a:pt x="7583" y="1950"/>
                </a:lnTo>
                <a:lnTo>
                  <a:pt x="7585" y="1950"/>
                </a:lnTo>
                <a:lnTo>
                  <a:pt x="7587" y="1950"/>
                </a:lnTo>
                <a:lnTo>
                  <a:pt x="7589" y="1950"/>
                </a:lnTo>
                <a:lnTo>
                  <a:pt x="7591" y="1951"/>
                </a:lnTo>
                <a:lnTo>
                  <a:pt x="7593" y="1951"/>
                </a:lnTo>
                <a:lnTo>
                  <a:pt x="7595" y="1951"/>
                </a:lnTo>
                <a:lnTo>
                  <a:pt x="7597" y="1951"/>
                </a:lnTo>
                <a:lnTo>
                  <a:pt x="7599" y="1951"/>
                </a:lnTo>
                <a:lnTo>
                  <a:pt x="7601" y="1951"/>
                </a:lnTo>
                <a:lnTo>
                  <a:pt x="7603" y="1951"/>
                </a:lnTo>
                <a:lnTo>
                  <a:pt x="7605" y="1951"/>
                </a:lnTo>
                <a:lnTo>
                  <a:pt x="7606" y="1951"/>
                </a:lnTo>
                <a:lnTo>
                  <a:pt x="7608" y="1951"/>
                </a:lnTo>
                <a:lnTo>
                  <a:pt x="7610" y="1951"/>
                </a:lnTo>
                <a:lnTo>
                  <a:pt x="7612" y="1951"/>
                </a:lnTo>
                <a:lnTo>
                  <a:pt x="7614" y="1951"/>
                </a:lnTo>
                <a:lnTo>
                  <a:pt x="7616" y="1951"/>
                </a:lnTo>
                <a:lnTo>
                  <a:pt x="7618" y="1951"/>
                </a:lnTo>
                <a:lnTo>
                  <a:pt x="7620" y="1951"/>
                </a:lnTo>
                <a:lnTo>
                  <a:pt x="7622" y="1951"/>
                </a:lnTo>
                <a:lnTo>
                  <a:pt x="7624" y="1951"/>
                </a:lnTo>
                <a:lnTo>
                  <a:pt x="7626" y="1951"/>
                </a:lnTo>
                <a:lnTo>
                  <a:pt x="7628" y="1951"/>
                </a:lnTo>
                <a:lnTo>
                  <a:pt x="7630" y="1951"/>
                </a:lnTo>
                <a:lnTo>
                  <a:pt x="7632" y="1951"/>
                </a:lnTo>
                <a:lnTo>
                  <a:pt x="7634" y="1951"/>
                </a:lnTo>
                <a:lnTo>
                  <a:pt x="7636" y="1951"/>
                </a:lnTo>
                <a:lnTo>
                  <a:pt x="7638" y="1951"/>
                </a:lnTo>
                <a:lnTo>
                  <a:pt x="7640" y="1951"/>
                </a:lnTo>
                <a:lnTo>
                  <a:pt x="7642" y="1951"/>
                </a:lnTo>
                <a:lnTo>
                  <a:pt x="7644" y="1951"/>
                </a:lnTo>
                <a:lnTo>
                  <a:pt x="7646" y="1951"/>
                </a:lnTo>
                <a:lnTo>
                  <a:pt x="7648" y="1951"/>
                </a:lnTo>
                <a:lnTo>
                  <a:pt x="7650" y="1951"/>
                </a:lnTo>
                <a:lnTo>
                  <a:pt x="7652" y="1951"/>
                </a:lnTo>
                <a:lnTo>
                  <a:pt x="7654" y="1951"/>
                </a:lnTo>
                <a:lnTo>
                  <a:pt x="7656" y="1951"/>
                </a:lnTo>
                <a:lnTo>
                  <a:pt x="7658" y="1951"/>
                </a:lnTo>
                <a:lnTo>
                  <a:pt x="7660" y="1951"/>
                </a:lnTo>
                <a:lnTo>
                  <a:pt x="7662" y="1951"/>
                </a:lnTo>
                <a:lnTo>
                  <a:pt x="7664" y="1951"/>
                </a:lnTo>
                <a:lnTo>
                  <a:pt x="7666" y="1951"/>
                </a:lnTo>
                <a:lnTo>
                  <a:pt x="7668" y="1951"/>
                </a:lnTo>
                <a:lnTo>
                  <a:pt x="7670" y="1951"/>
                </a:lnTo>
                <a:lnTo>
                  <a:pt x="7672" y="1951"/>
                </a:lnTo>
                <a:lnTo>
                  <a:pt x="7674" y="1951"/>
                </a:lnTo>
                <a:lnTo>
                  <a:pt x="7676" y="1951"/>
                </a:lnTo>
                <a:lnTo>
                  <a:pt x="7678" y="1951"/>
                </a:lnTo>
                <a:lnTo>
                  <a:pt x="7680" y="1951"/>
                </a:lnTo>
                <a:lnTo>
                  <a:pt x="7682" y="1951"/>
                </a:lnTo>
                <a:lnTo>
                  <a:pt x="7684" y="1951"/>
                </a:lnTo>
                <a:lnTo>
                  <a:pt x="7686" y="1951"/>
                </a:lnTo>
                <a:lnTo>
                  <a:pt x="7688" y="1951"/>
                </a:lnTo>
                <a:lnTo>
                  <a:pt x="7690" y="1951"/>
                </a:lnTo>
                <a:lnTo>
                  <a:pt x="7692" y="1951"/>
                </a:lnTo>
                <a:lnTo>
                  <a:pt x="7694" y="1951"/>
                </a:lnTo>
                <a:lnTo>
                  <a:pt x="7696" y="1951"/>
                </a:lnTo>
                <a:lnTo>
                  <a:pt x="7698" y="1951"/>
                </a:lnTo>
                <a:lnTo>
                  <a:pt x="7700" y="1951"/>
                </a:lnTo>
                <a:lnTo>
                  <a:pt x="7702" y="1951"/>
                </a:lnTo>
                <a:lnTo>
                  <a:pt x="7704" y="1951"/>
                </a:lnTo>
                <a:lnTo>
                  <a:pt x="7706" y="1951"/>
                </a:lnTo>
                <a:lnTo>
                  <a:pt x="7708" y="1951"/>
                </a:lnTo>
                <a:lnTo>
                  <a:pt x="7710" y="1951"/>
                </a:lnTo>
                <a:lnTo>
                  <a:pt x="7712" y="1951"/>
                </a:lnTo>
                <a:lnTo>
                  <a:pt x="7714" y="1951"/>
                </a:lnTo>
                <a:lnTo>
                  <a:pt x="7716" y="1951"/>
                </a:lnTo>
                <a:lnTo>
                  <a:pt x="7718" y="1951"/>
                </a:lnTo>
                <a:lnTo>
                  <a:pt x="7720" y="1951"/>
                </a:lnTo>
                <a:lnTo>
                  <a:pt x="7722" y="1951"/>
                </a:lnTo>
                <a:lnTo>
                  <a:pt x="7724" y="1951"/>
                </a:lnTo>
                <a:lnTo>
                  <a:pt x="7726" y="1951"/>
                </a:lnTo>
                <a:lnTo>
                  <a:pt x="7728" y="1951"/>
                </a:lnTo>
                <a:lnTo>
                  <a:pt x="7730" y="1951"/>
                </a:lnTo>
                <a:lnTo>
                  <a:pt x="7732" y="1951"/>
                </a:lnTo>
                <a:lnTo>
                  <a:pt x="7734" y="1951"/>
                </a:lnTo>
                <a:lnTo>
                  <a:pt x="7736" y="1951"/>
                </a:lnTo>
                <a:lnTo>
                  <a:pt x="7738" y="1951"/>
                </a:lnTo>
                <a:lnTo>
                  <a:pt x="7740" y="1950"/>
                </a:lnTo>
                <a:lnTo>
                  <a:pt x="7742" y="1950"/>
                </a:lnTo>
                <a:lnTo>
                  <a:pt x="7744" y="1950"/>
                </a:lnTo>
                <a:lnTo>
                  <a:pt x="7746" y="1950"/>
                </a:lnTo>
                <a:lnTo>
                  <a:pt x="7748" y="1950"/>
                </a:lnTo>
                <a:lnTo>
                  <a:pt x="7750" y="1951"/>
                </a:lnTo>
                <a:lnTo>
                  <a:pt x="7752" y="1951"/>
                </a:lnTo>
                <a:lnTo>
                  <a:pt x="7754" y="1951"/>
                </a:lnTo>
                <a:lnTo>
                  <a:pt x="7756" y="1951"/>
                </a:lnTo>
                <a:lnTo>
                  <a:pt x="7758" y="1951"/>
                </a:lnTo>
                <a:lnTo>
                  <a:pt x="7760" y="1951"/>
                </a:lnTo>
                <a:lnTo>
                  <a:pt x="7762" y="1951"/>
                </a:lnTo>
                <a:lnTo>
                  <a:pt x="7764" y="1951"/>
                </a:lnTo>
                <a:lnTo>
                  <a:pt x="7766" y="1951"/>
                </a:lnTo>
                <a:lnTo>
                  <a:pt x="7768" y="1951"/>
                </a:lnTo>
                <a:lnTo>
                  <a:pt x="7770" y="1951"/>
                </a:lnTo>
                <a:lnTo>
                  <a:pt x="7772" y="1951"/>
                </a:lnTo>
                <a:lnTo>
                  <a:pt x="7774" y="1951"/>
                </a:lnTo>
                <a:lnTo>
                  <a:pt x="7775" y="1951"/>
                </a:lnTo>
                <a:lnTo>
                  <a:pt x="7777" y="1951"/>
                </a:lnTo>
                <a:lnTo>
                  <a:pt x="7779" y="1951"/>
                </a:lnTo>
                <a:lnTo>
                  <a:pt x="7781" y="1951"/>
                </a:lnTo>
                <a:lnTo>
                  <a:pt x="7783" y="1951"/>
                </a:lnTo>
                <a:lnTo>
                  <a:pt x="7785" y="1951"/>
                </a:lnTo>
                <a:lnTo>
                  <a:pt x="7787" y="1951"/>
                </a:lnTo>
                <a:lnTo>
                  <a:pt x="7789" y="1951"/>
                </a:lnTo>
                <a:lnTo>
                  <a:pt x="7791" y="1951"/>
                </a:lnTo>
                <a:lnTo>
                  <a:pt x="7793" y="1951"/>
                </a:lnTo>
                <a:lnTo>
                  <a:pt x="7795" y="1951"/>
                </a:lnTo>
                <a:lnTo>
                  <a:pt x="7797" y="1951"/>
                </a:lnTo>
                <a:lnTo>
                  <a:pt x="7799" y="1951"/>
                </a:lnTo>
                <a:lnTo>
                  <a:pt x="7801" y="1951"/>
                </a:lnTo>
                <a:lnTo>
                  <a:pt x="7803" y="1951"/>
                </a:lnTo>
                <a:lnTo>
                  <a:pt x="7805" y="1951"/>
                </a:lnTo>
                <a:lnTo>
                  <a:pt x="7807" y="1951"/>
                </a:lnTo>
                <a:lnTo>
                  <a:pt x="7809" y="1951"/>
                </a:lnTo>
                <a:lnTo>
                  <a:pt x="7811" y="1951"/>
                </a:lnTo>
                <a:lnTo>
                  <a:pt x="7813" y="1951"/>
                </a:lnTo>
                <a:lnTo>
                  <a:pt x="7815" y="1951"/>
                </a:lnTo>
                <a:lnTo>
                  <a:pt x="7817" y="1951"/>
                </a:lnTo>
                <a:lnTo>
                  <a:pt x="7819" y="1951"/>
                </a:lnTo>
                <a:lnTo>
                  <a:pt x="7821" y="1951"/>
                </a:lnTo>
                <a:lnTo>
                  <a:pt x="7823" y="1951"/>
                </a:lnTo>
                <a:lnTo>
                  <a:pt x="7825" y="1951"/>
                </a:lnTo>
                <a:lnTo>
                  <a:pt x="7827" y="1951"/>
                </a:lnTo>
                <a:lnTo>
                  <a:pt x="7829" y="1951"/>
                </a:lnTo>
                <a:lnTo>
                  <a:pt x="7831" y="1951"/>
                </a:lnTo>
                <a:lnTo>
                  <a:pt x="7833" y="1951"/>
                </a:lnTo>
                <a:lnTo>
                  <a:pt x="7835" y="1951"/>
                </a:lnTo>
                <a:lnTo>
                  <a:pt x="7837" y="1951"/>
                </a:lnTo>
                <a:lnTo>
                  <a:pt x="7839" y="1951"/>
                </a:lnTo>
                <a:lnTo>
                  <a:pt x="7841" y="1951"/>
                </a:lnTo>
                <a:lnTo>
                  <a:pt x="7843" y="1951"/>
                </a:lnTo>
                <a:lnTo>
                  <a:pt x="7845" y="1951"/>
                </a:lnTo>
                <a:lnTo>
                  <a:pt x="7847" y="1951"/>
                </a:lnTo>
                <a:lnTo>
                  <a:pt x="7849" y="1951"/>
                </a:lnTo>
                <a:lnTo>
                  <a:pt x="7851" y="1951"/>
                </a:lnTo>
                <a:lnTo>
                  <a:pt x="7853" y="1951"/>
                </a:lnTo>
                <a:lnTo>
                  <a:pt x="7855" y="1951"/>
                </a:lnTo>
                <a:lnTo>
                  <a:pt x="7857" y="1951"/>
                </a:lnTo>
                <a:lnTo>
                  <a:pt x="7859" y="1951"/>
                </a:lnTo>
                <a:lnTo>
                  <a:pt x="7861" y="1951"/>
                </a:lnTo>
                <a:lnTo>
                  <a:pt x="7863" y="1951"/>
                </a:lnTo>
                <a:lnTo>
                  <a:pt x="7865" y="1951"/>
                </a:lnTo>
                <a:lnTo>
                  <a:pt x="7867" y="1951"/>
                </a:lnTo>
                <a:lnTo>
                  <a:pt x="7869" y="1951"/>
                </a:lnTo>
                <a:lnTo>
                  <a:pt x="7871" y="1951"/>
                </a:lnTo>
                <a:lnTo>
                  <a:pt x="7873" y="1951"/>
                </a:lnTo>
                <a:lnTo>
                  <a:pt x="7875" y="1951"/>
                </a:lnTo>
                <a:lnTo>
                  <a:pt x="7877" y="1951"/>
                </a:lnTo>
                <a:lnTo>
                  <a:pt x="7879" y="1951"/>
                </a:lnTo>
                <a:lnTo>
                  <a:pt x="7881" y="1951"/>
                </a:lnTo>
                <a:lnTo>
                  <a:pt x="7883" y="1951"/>
                </a:lnTo>
                <a:lnTo>
                  <a:pt x="7885" y="1951"/>
                </a:lnTo>
                <a:lnTo>
                  <a:pt x="7887" y="1951"/>
                </a:lnTo>
                <a:lnTo>
                  <a:pt x="7889" y="1951"/>
                </a:lnTo>
                <a:lnTo>
                  <a:pt x="7891" y="1952"/>
                </a:lnTo>
                <a:lnTo>
                  <a:pt x="7893" y="1952"/>
                </a:lnTo>
                <a:lnTo>
                  <a:pt x="7895" y="1952"/>
                </a:lnTo>
                <a:lnTo>
                  <a:pt x="7897" y="1952"/>
                </a:lnTo>
                <a:lnTo>
                  <a:pt x="7899" y="1952"/>
                </a:lnTo>
                <a:lnTo>
                  <a:pt x="7901" y="1952"/>
                </a:lnTo>
                <a:lnTo>
                  <a:pt x="7903" y="1952"/>
                </a:lnTo>
                <a:lnTo>
                  <a:pt x="7905" y="1952"/>
                </a:lnTo>
                <a:lnTo>
                  <a:pt x="7907" y="1952"/>
                </a:lnTo>
                <a:lnTo>
                  <a:pt x="7909" y="1952"/>
                </a:lnTo>
                <a:lnTo>
                  <a:pt x="7911" y="1952"/>
                </a:lnTo>
                <a:lnTo>
                  <a:pt x="7913" y="1952"/>
                </a:lnTo>
                <a:lnTo>
                  <a:pt x="7915" y="1952"/>
                </a:lnTo>
                <a:lnTo>
                  <a:pt x="7917" y="1952"/>
                </a:lnTo>
                <a:lnTo>
                  <a:pt x="7919" y="1952"/>
                </a:lnTo>
                <a:lnTo>
                  <a:pt x="7921" y="1952"/>
                </a:lnTo>
                <a:lnTo>
                  <a:pt x="7923" y="1952"/>
                </a:lnTo>
                <a:lnTo>
                  <a:pt x="7925" y="1952"/>
                </a:lnTo>
                <a:lnTo>
                  <a:pt x="7927" y="1953"/>
                </a:lnTo>
                <a:lnTo>
                  <a:pt x="7929" y="1953"/>
                </a:lnTo>
                <a:lnTo>
                  <a:pt x="7931" y="1953"/>
                </a:lnTo>
                <a:lnTo>
                  <a:pt x="7933" y="1953"/>
                </a:lnTo>
                <a:lnTo>
                  <a:pt x="7935" y="1953"/>
                </a:lnTo>
                <a:lnTo>
                  <a:pt x="7937" y="1953"/>
                </a:lnTo>
                <a:lnTo>
                  <a:pt x="7939" y="1953"/>
                </a:lnTo>
                <a:lnTo>
                  <a:pt x="7941" y="1953"/>
                </a:lnTo>
                <a:lnTo>
                  <a:pt x="7943" y="1953"/>
                </a:lnTo>
                <a:lnTo>
                  <a:pt x="7944" y="1953"/>
                </a:lnTo>
                <a:lnTo>
                  <a:pt x="7946" y="1953"/>
                </a:lnTo>
                <a:lnTo>
                  <a:pt x="7948" y="1953"/>
                </a:lnTo>
                <a:lnTo>
                  <a:pt x="7950" y="1953"/>
                </a:lnTo>
                <a:lnTo>
                  <a:pt x="7952" y="1953"/>
                </a:lnTo>
                <a:lnTo>
                  <a:pt x="7954" y="1953"/>
                </a:lnTo>
                <a:lnTo>
                  <a:pt x="7956" y="1953"/>
                </a:lnTo>
                <a:lnTo>
                  <a:pt x="7958" y="1953"/>
                </a:lnTo>
                <a:lnTo>
                  <a:pt x="7960" y="1953"/>
                </a:lnTo>
                <a:lnTo>
                  <a:pt x="7962" y="1953"/>
                </a:lnTo>
                <a:lnTo>
                  <a:pt x="7964" y="1953"/>
                </a:lnTo>
                <a:lnTo>
                  <a:pt x="7966" y="1953"/>
                </a:lnTo>
                <a:lnTo>
                  <a:pt x="7968" y="1953"/>
                </a:lnTo>
                <a:lnTo>
                  <a:pt x="7970" y="1953"/>
                </a:lnTo>
                <a:lnTo>
                  <a:pt x="7972" y="1953"/>
                </a:lnTo>
                <a:lnTo>
                  <a:pt x="7974" y="1953"/>
                </a:lnTo>
                <a:lnTo>
                  <a:pt x="7976" y="1953"/>
                </a:lnTo>
                <a:lnTo>
                  <a:pt x="7978" y="1953"/>
                </a:lnTo>
                <a:lnTo>
                  <a:pt x="7980" y="1953"/>
                </a:lnTo>
                <a:lnTo>
                  <a:pt x="7982" y="1953"/>
                </a:lnTo>
                <a:lnTo>
                  <a:pt x="7984" y="1953"/>
                </a:lnTo>
                <a:lnTo>
                  <a:pt x="7986" y="1953"/>
                </a:lnTo>
                <a:lnTo>
                  <a:pt x="7988" y="1953"/>
                </a:lnTo>
                <a:lnTo>
                  <a:pt x="7990" y="1953"/>
                </a:lnTo>
                <a:lnTo>
                  <a:pt x="7992" y="1953"/>
                </a:lnTo>
                <a:lnTo>
                  <a:pt x="7994" y="1953"/>
                </a:lnTo>
                <a:lnTo>
                  <a:pt x="7996" y="1953"/>
                </a:lnTo>
                <a:lnTo>
                  <a:pt x="7998" y="1953"/>
                </a:lnTo>
                <a:lnTo>
                  <a:pt x="8000" y="1953"/>
                </a:lnTo>
                <a:lnTo>
                  <a:pt x="8002" y="1953"/>
                </a:lnTo>
                <a:lnTo>
                  <a:pt x="8004" y="1953"/>
                </a:lnTo>
                <a:lnTo>
                  <a:pt x="8006" y="1953"/>
                </a:lnTo>
                <a:lnTo>
                  <a:pt x="8008" y="1953"/>
                </a:lnTo>
                <a:lnTo>
                  <a:pt x="8010" y="1953"/>
                </a:lnTo>
                <a:lnTo>
                  <a:pt x="8012" y="1953"/>
                </a:lnTo>
                <a:lnTo>
                  <a:pt x="8014" y="1953"/>
                </a:lnTo>
                <a:lnTo>
                  <a:pt x="8016" y="1953"/>
                </a:lnTo>
                <a:lnTo>
                  <a:pt x="8018" y="1953"/>
                </a:lnTo>
                <a:lnTo>
                  <a:pt x="8020" y="1953"/>
                </a:lnTo>
                <a:lnTo>
                  <a:pt x="8022" y="1953"/>
                </a:lnTo>
                <a:lnTo>
                  <a:pt x="8024" y="1953"/>
                </a:lnTo>
                <a:lnTo>
                  <a:pt x="8026" y="1953"/>
                </a:lnTo>
                <a:lnTo>
                  <a:pt x="8028" y="1953"/>
                </a:lnTo>
                <a:lnTo>
                  <a:pt x="8030" y="1953"/>
                </a:lnTo>
                <a:lnTo>
                  <a:pt x="8032" y="1953"/>
                </a:lnTo>
                <a:lnTo>
                  <a:pt x="8034" y="1953"/>
                </a:lnTo>
                <a:lnTo>
                  <a:pt x="8036" y="1953"/>
                </a:lnTo>
                <a:lnTo>
                  <a:pt x="8038" y="1953"/>
                </a:lnTo>
                <a:lnTo>
                  <a:pt x="8040" y="1953"/>
                </a:lnTo>
                <a:lnTo>
                  <a:pt x="8042" y="1953"/>
                </a:lnTo>
                <a:lnTo>
                  <a:pt x="8044" y="1953"/>
                </a:lnTo>
                <a:lnTo>
                  <a:pt x="8046" y="1953"/>
                </a:lnTo>
                <a:lnTo>
                  <a:pt x="8048" y="1953"/>
                </a:lnTo>
                <a:lnTo>
                  <a:pt x="8050" y="1953"/>
                </a:lnTo>
                <a:lnTo>
                  <a:pt x="8052" y="1953"/>
                </a:lnTo>
                <a:lnTo>
                  <a:pt x="8054" y="1953"/>
                </a:lnTo>
                <a:lnTo>
                  <a:pt x="8056" y="1953"/>
                </a:lnTo>
                <a:lnTo>
                  <a:pt x="8058" y="1953"/>
                </a:lnTo>
                <a:lnTo>
                  <a:pt x="8060" y="1953"/>
                </a:lnTo>
                <a:lnTo>
                  <a:pt x="8062" y="1953"/>
                </a:lnTo>
                <a:lnTo>
                  <a:pt x="8064" y="1953"/>
                </a:lnTo>
                <a:lnTo>
                  <a:pt x="8066" y="1953"/>
                </a:lnTo>
                <a:lnTo>
                  <a:pt x="8068" y="1953"/>
                </a:lnTo>
                <a:lnTo>
                  <a:pt x="8070" y="1953"/>
                </a:lnTo>
                <a:lnTo>
                  <a:pt x="8072" y="1953"/>
                </a:lnTo>
                <a:lnTo>
                  <a:pt x="8074" y="1953"/>
                </a:lnTo>
                <a:lnTo>
                  <a:pt x="8076" y="1953"/>
                </a:lnTo>
                <a:lnTo>
                  <a:pt x="8078" y="1953"/>
                </a:lnTo>
                <a:lnTo>
                  <a:pt x="8080" y="1953"/>
                </a:lnTo>
                <a:lnTo>
                  <a:pt x="8082" y="1953"/>
                </a:lnTo>
                <a:lnTo>
                  <a:pt x="8084" y="1953"/>
                </a:lnTo>
                <a:lnTo>
                  <a:pt x="8086" y="1953"/>
                </a:lnTo>
                <a:lnTo>
                  <a:pt x="8088" y="1953"/>
                </a:lnTo>
                <a:lnTo>
                  <a:pt x="8090" y="1953"/>
                </a:lnTo>
                <a:lnTo>
                  <a:pt x="8092" y="1953"/>
                </a:lnTo>
                <a:lnTo>
                  <a:pt x="8094" y="1953"/>
                </a:lnTo>
                <a:lnTo>
                  <a:pt x="8096" y="1953"/>
                </a:lnTo>
                <a:lnTo>
                  <a:pt x="8098" y="1953"/>
                </a:lnTo>
                <a:lnTo>
                  <a:pt x="8100" y="1953"/>
                </a:lnTo>
                <a:lnTo>
                  <a:pt x="8102" y="1953"/>
                </a:lnTo>
                <a:lnTo>
                  <a:pt x="8104" y="1953"/>
                </a:lnTo>
                <a:lnTo>
                  <a:pt x="8106" y="1953"/>
                </a:lnTo>
                <a:lnTo>
                  <a:pt x="8108" y="1953"/>
                </a:lnTo>
                <a:lnTo>
                  <a:pt x="8110" y="1953"/>
                </a:lnTo>
                <a:lnTo>
                  <a:pt x="8112" y="1953"/>
                </a:lnTo>
                <a:lnTo>
                  <a:pt x="8113" y="1953"/>
                </a:lnTo>
                <a:lnTo>
                  <a:pt x="8115" y="1953"/>
                </a:lnTo>
                <a:lnTo>
                  <a:pt x="8117" y="1953"/>
                </a:lnTo>
                <a:lnTo>
                  <a:pt x="8119" y="1953"/>
                </a:lnTo>
                <a:lnTo>
                  <a:pt x="8121" y="1953"/>
                </a:lnTo>
                <a:lnTo>
                  <a:pt x="8123" y="1953"/>
                </a:lnTo>
                <a:lnTo>
                  <a:pt x="8125" y="1953"/>
                </a:lnTo>
                <a:lnTo>
                  <a:pt x="8127" y="1953"/>
                </a:lnTo>
                <a:lnTo>
                  <a:pt x="8129" y="1953"/>
                </a:lnTo>
                <a:lnTo>
                  <a:pt x="8131" y="1953"/>
                </a:lnTo>
                <a:lnTo>
                  <a:pt x="8133" y="1953"/>
                </a:lnTo>
                <a:lnTo>
                  <a:pt x="8135" y="1953"/>
                </a:lnTo>
                <a:lnTo>
                  <a:pt x="8137" y="1953"/>
                </a:lnTo>
                <a:lnTo>
                  <a:pt x="8139" y="1953"/>
                </a:lnTo>
                <a:lnTo>
                  <a:pt x="8141" y="1953"/>
                </a:lnTo>
                <a:lnTo>
                  <a:pt x="8143" y="1953"/>
                </a:lnTo>
                <a:lnTo>
                  <a:pt x="8145" y="1953"/>
                </a:lnTo>
                <a:lnTo>
                  <a:pt x="8147" y="1953"/>
                </a:lnTo>
                <a:lnTo>
                  <a:pt x="8149" y="1953"/>
                </a:lnTo>
                <a:lnTo>
                  <a:pt x="8151" y="1953"/>
                </a:lnTo>
                <a:lnTo>
                  <a:pt x="8153" y="1953"/>
                </a:lnTo>
                <a:lnTo>
                  <a:pt x="8155" y="1953"/>
                </a:lnTo>
                <a:lnTo>
                  <a:pt x="8157" y="1953"/>
                </a:lnTo>
                <a:lnTo>
                  <a:pt x="8159" y="1953"/>
                </a:lnTo>
                <a:lnTo>
                  <a:pt x="8161" y="1953"/>
                </a:lnTo>
                <a:lnTo>
                  <a:pt x="8163" y="1953"/>
                </a:lnTo>
                <a:lnTo>
                  <a:pt x="8165" y="1953"/>
                </a:lnTo>
                <a:lnTo>
                  <a:pt x="8167" y="1953"/>
                </a:lnTo>
                <a:lnTo>
                  <a:pt x="8169" y="1953"/>
                </a:lnTo>
                <a:lnTo>
                  <a:pt x="8171" y="1953"/>
                </a:lnTo>
                <a:lnTo>
                  <a:pt x="8173" y="1953"/>
                </a:lnTo>
                <a:lnTo>
                  <a:pt x="8175" y="1953"/>
                </a:lnTo>
                <a:lnTo>
                  <a:pt x="8177" y="1953"/>
                </a:lnTo>
                <a:lnTo>
                  <a:pt x="8179" y="1953"/>
                </a:lnTo>
                <a:lnTo>
                  <a:pt x="8181" y="1953"/>
                </a:lnTo>
                <a:lnTo>
                  <a:pt x="8183" y="1953"/>
                </a:lnTo>
                <a:lnTo>
                  <a:pt x="8185" y="1953"/>
                </a:lnTo>
                <a:lnTo>
                  <a:pt x="8187" y="1953"/>
                </a:lnTo>
                <a:lnTo>
                  <a:pt x="8189" y="1953"/>
                </a:lnTo>
                <a:lnTo>
                  <a:pt x="8191" y="1953"/>
                </a:lnTo>
                <a:lnTo>
                  <a:pt x="8193" y="1953"/>
                </a:lnTo>
                <a:lnTo>
                  <a:pt x="8195" y="1953"/>
                </a:lnTo>
                <a:lnTo>
                  <a:pt x="8197" y="1953"/>
                </a:lnTo>
                <a:lnTo>
                  <a:pt x="8199" y="1953"/>
                </a:lnTo>
                <a:lnTo>
                  <a:pt x="8201" y="1953"/>
                </a:lnTo>
                <a:lnTo>
                  <a:pt x="8203" y="1953"/>
                </a:lnTo>
                <a:lnTo>
                  <a:pt x="8205" y="1953"/>
                </a:lnTo>
                <a:lnTo>
                  <a:pt x="8207" y="1953"/>
                </a:lnTo>
                <a:lnTo>
                  <a:pt x="8209" y="1953"/>
                </a:lnTo>
                <a:lnTo>
                  <a:pt x="8211" y="1953"/>
                </a:lnTo>
                <a:lnTo>
                  <a:pt x="8213" y="1953"/>
                </a:lnTo>
                <a:lnTo>
                  <a:pt x="8215" y="1953"/>
                </a:lnTo>
                <a:lnTo>
                  <a:pt x="8217" y="1953"/>
                </a:lnTo>
                <a:lnTo>
                  <a:pt x="8219" y="1952"/>
                </a:lnTo>
                <a:lnTo>
                  <a:pt x="8221" y="1952"/>
                </a:lnTo>
                <a:lnTo>
                  <a:pt x="8223" y="1952"/>
                </a:lnTo>
                <a:lnTo>
                  <a:pt x="8225" y="1952"/>
                </a:lnTo>
                <a:lnTo>
                  <a:pt x="8227" y="1952"/>
                </a:lnTo>
                <a:lnTo>
                  <a:pt x="8229" y="1952"/>
                </a:lnTo>
                <a:lnTo>
                  <a:pt x="8231" y="1952"/>
                </a:lnTo>
                <a:lnTo>
                  <a:pt x="8233" y="1952"/>
                </a:lnTo>
                <a:lnTo>
                  <a:pt x="8235" y="1952"/>
                </a:lnTo>
                <a:lnTo>
                  <a:pt x="8237" y="1952"/>
                </a:lnTo>
                <a:lnTo>
                  <a:pt x="8239" y="1952"/>
                </a:lnTo>
                <a:lnTo>
                  <a:pt x="8241" y="1952"/>
                </a:lnTo>
                <a:lnTo>
                  <a:pt x="8243" y="1952"/>
                </a:lnTo>
                <a:lnTo>
                  <a:pt x="8245" y="1952"/>
                </a:lnTo>
                <a:lnTo>
                  <a:pt x="8247" y="1952"/>
                </a:lnTo>
                <a:lnTo>
                  <a:pt x="8249" y="1952"/>
                </a:lnTo>
                <a:lnTo>
                  <a:pt x="8251" y="1952"/>
                </a:lnTo>
                <a:lnTo>
                  <a:pt x="8253" y="1952"/>
                </a:lnTo>
                <a:lnTo>
                  <a:pt x="8255" y="1952"/>
                </a:lnTo>
                <a:lnTo>
                  <a:pt x="8257" y="1952"/>
                </a:lnTo>
                <a:lnTo>
                  <a:pt x="8259" y="1952"/>
                </a:lnTo>
                <a:lnTo>
                  <a:pt x="8261" y="1952"/>
                </a:lnTo>
                <a:lnTo>
                  <a:pt x="8263" y="1952"/>
                </a:lnTo>
                <a:lnTo>
                  <a:pt x="8265" y="1952"/>
                </a:lnTo>
                <a:lnTo>
                  <a:pt x="8267" y="1952"/>
                </a:lnTo>
                <a:lnTo>
                  <a:pt x="8269" y="1952"/>
                </a:lnTo>
                <a:lnTo>
                  <a:pt x="8271" y="1952"/>
                </a:lnTo>
                <a:lnTo>
                  <a:pt x="8273" y="1952"/>
                </a:lnTo>
                <a:lnTo>
                  <a:pt x="8275" y="1952"/>
                </a:lnTo>
                <a:lnTo>
                  <a:pt x="8277" y="1952"/>
                </a:lnTo>
                <a:lnTo>
                  <a:pt x="8279" y="1951"/>
                </a:lnTo>
                <a:lnTo>
                  <a:pt x="8281" y="1951"/>
                </a:lnTo>
                <a:lnTo>
                  <a:pt x="8282" y="1951"/>
                </a:lnTo>
                <a:lnTo>
                  <a:pt x="8284" y="1952"/>
                </a:lnTo>
                <a:lnTo>
                  <a:pt x="8286" y="1952"/>
                </a:lnTo>
                <a:lnTo>
                  <a:pt x="8288" y="1952"/>
                </a:lnTo>
                <a:lnTo>
                  <a:pt x="8290" y="1952"/>
                </a:lnTo>
                <a:lnTo>
                  <a:pt x="8292" y="1952"/>
                </a:lnTo>
                <a:lnTo>
                  <a:pt x="8294" y="1952"/>
                </a:lnTo>
                <a:lnTo>
                  <a:pt x="8296" y="1952"/>
                </a:lnTo>
                <a:lnTo>
                  <a:pt x="8298" y="1952"/>
                </a:lnTo>
                <a:lnTo>
                  <a:pt x="8300" y="1952"/>
                </a:lnTo>
                <a:lnTo>
                  <a:pt x="8302" y="1952"/>
                </a:lnTo>
                <a:lnTo>
                  <a:pt x="8304" y="1952"/>
                </a:lnTo>
                <a:lnTo>
                  <a:pt x="8306" y="1952"/>
                </a:lnTo>
                <a:lnTo>
                  <a:pt x="8308" y="1952"/>
                </a:lnTo>
                <a:lnTo>
                  <a:pt x="8310" y="1952"/>
                </a:lnTo>
                <a:lnTo>
                  <a:pt x="8312" y="1952"/>
                </a:lnTo>
                <a:lnTo>
                  <a:pt x="8314" y="1952"/>
                </a:lnTo>
                <a:lnTo>
                  <a:pt x="8316" y="1952"/>
                </a:lnTo>
                <a:lnTo>
                  <a:pt x="8318" y="1952"/>
                </a:lnTo>
                <a:lnTo>
                  <a:pt x="8320" y="1952"/>
                </a:lnTo>
                <a:lnTo>
                  <a:pt x="8322" y="1952"/>
                </a:lnTo>
                <a:lnTo>
                  <a:pt x="8324" y="1951"/>
                </a:lnTo>
                <a:lnTo>
                  <a:pt x="8326" y="1951"/>
                </a:lnTo>
                <a:lnTo>
                  <a:pt x="8328" y="1951"/>
                </a:lnTo>
                <a:lnTo>
                  <a:pt x="8330" y="1951"/>
                </a:lnTo>
                <a:lnTo>
                  <a:pt x="8332" y="1951"/>
                </a:lnTo>
                <a:lnTo>
                  <a:pt x="8334" y="1951"/>
                </a:lnTo>
                <a:lnTo>
                  <a:pt x="8336" y="1951"/>
                </a:lnTo>
                <a:lnTo>
                  <a:pt x="8338" y="1951"/>
                </a:lnTo>
                <a:lnTo>
                  <a:pt x="8340" y="1951"/>
                </a:lnTo>
                <a:lnTo>
                  <a:pt x="8342" y="1951"/>
                </a:lnTo>
                <a:lnTo>
                  <a:pt x="8344" y="1950"/>
                </a:lnTo>
                <a:lnTo>
                  <a:pt x="8346" y="1950"/>
                </a:lnTo>
                <a:lnTo>
                  <a:pt x="8348" y="1950"/>
                </a:lnTo>
                <a:lnTo>
                  <a:pt x="8350" y="1950"/>
                </a:lnTo>
                <a:lnTo>
                  <a:pt x="8352" y="1950"/>
                </a:lnTo>
                <a:lnTo>
                  <a:pt x="8354" y="1950"/>
                </a:lnTo>
                <a:lnTo>
                  <a:pt x="8356" y="1950"/>
                </a:lnTo>
                <a:lnTo>
                  <a:pt x="8358" y="1950"/>
                </a:lnTo>
                <a:lnTo>
                  <a:pt x="8360" y="1949"/>
                </a:lnTo>
                <a:lnTo>
                  <a:pt x="8362" y="1949"/>
                </a:lnTo>
                <a:lnTo>
                  <a:pt x="8364" y="1949"/>
                </a:lnTo>
                <a:lnTo>
                  <a:pt x="8366" y="1949"/>
                </a:lnTo>
                <a:lnTo>
                  <a:pt x="8368" y="1949"/>
                </a:lnTo>
                <a:lnTo>
                  <a:pt x="8370" y="1948"/>
                </a:lnTo>
                <a:lnTo>
                  <a:pt x="8372" y="1948"/>
                </a:lnTo>
                <a:lnTo>
                  <a:pt x="8374" y="1948"/>
                </a:lnTo>
                <a:lnTo>
                  <a:pt x="8376" y="1947"/>
                </a:lnTo>
                <a:lnTo>
                  <a:pt x="8378" y="1947"/>
                </a:lnTo>
                <a:lnTo>
                  <a:pt x="8380" y="1946"/>
                </a:lnTo>
                <a:lnTo>
                  <a:pt x="8382" y="1946"/>
                </a:lnTo>
                <a:lnTo>
                  <a:pt x="8384" y="1946"/>
                </a:lnTo>
                <a:lnTo>
                  <a:pt x="8386" y="1945"/>
                </a:lnTo>
                <a:lnTo>
                  <a:pt x="8388" y="1945"/>
                </a:lnTo>
                <a:lnTo>
                  <a:pt x="8390" y="1944"/>
                </a:lnTo>
                <a:lnTo>
                  <a:pt x="8392" y="1944"/>
                </a:lnTo>
                <a:lnTo>
                  <a:pt x="8394" y="1943"/>
                </a:lnTo>
                <a:lnTo>
                  <a:pt x="8396" y="1942"/>
                </a:lnTo>
                <a:lnTo>
                  <a:pt x="8398" y="1942"/>
                </a:lnTo>
                <a:lnTo>
                  <a:pt x="8400" y="1941"/>
                </a:lnTo>
                <a:lnTo>
                  <a:pt x="8402" y="1941"/>
                </a:lnTo>
                <a:lnTo>
                  <a:pt x="8404" y="1940"/>
                </a:lnTo>
                <a:lnTo>
                  <a:pt x="8406" y="1939"/>
                </a:lnTo>
                <a:lnTo>
                  <a:pt x="8408" y="1938"/>
                </a:lnTo>
                <a:lnTo>
                  <a:pt x="8410" y="1938"/>
                </a:lnTo>
                <a:lnTo>
                  <a:pt x="8412" y="1937"/>
                </a:lnTo>
                <a:lnTo>
                  <a:pt x="8414" y="1936"/>
                </a:lnTo>
                <a:lnTo>
                  <a:pt x="8416" y="1935"/>
                </a:lnTo>
                <a:lnTo>
                  <a:pt x="8418" y="1934"/>
                </a:lnTo>
                <a:lnTo>
                  <a:pt x="8420" y="1932"/>
                </a:lnTo>
                <a:lnTo>
                  <a:pt x="8422" y="1931"/>
                </a:lnTo>
                <a:lnTo>
                  <a:pt x="8424" y="1930"/>
                </a:lnTo>
                <a:lnTo>
                  <a:pt x="8426" y="1929"/>
                </a:lnTo>
                <a:lnTo>
                  <a:pt x="8428" y="1927"/>
                </a:lnTo>
                <a:lnTo>
                  <a:pt x="8430" y="1926"/>
                </a:lnTo>
                <a:lnTo>
                  <a:pt x="8432" y="1924"/>
                </a:lnTo>
                <a:lnTo>
                  <a:pt x="8434" y="1923"/>
                </a:lnTo>
                <a:lnTo>
                  <a:pt x="8436" y="1921"/>
                </a:lnTo>
                <a:lnTo>
                  <a:pt x="8438" y="1920"/>
                </a:lnTo>
                <a:lnTo>
                  <a:pt x="8440" y="1918"/>
                </a:lnTo>
                <a:lnTo>
                  <a:pt x="8442" y="1916"/>
                </a:lnTo>
                <a:lnTo>
                  <a:pt x="8444" y="1914"/>
                </a:lnTo>
                <a:lnTo>
                  <a:pt x="8446" y="1912"/>
                </a:lnTo>
                <a:lnTo>
                  <a:pt x="8448" y="1910"/>
                </a:lnTo>
                <a:lnTo>
                  <a:pt x="8450" y="1907"/>
                </a:lnTo>
                <a:lnTo>
                  <a:pt x="8451" y="1905"/>
                </a:lnTo>
                <a:lnTo>
                  <a:pt x="8453" y="1902"/>
                </a:lnTo>
                <a:lnTo>
                  <a:pt x="8455" y="1900"/>
                </a:lnTo>
                <a:lnTo>
                  <a:pt x="8457" y="1897"/>
                </a:lnTo>
                <a:lnTo>
                  <a:pt x="8459" y="1894"/>
                </a:lnTo>
                <a:lnTo>
                  <a:pt x="8461" y="1891"/>
                </a:lnTo>
                <a:lnTo>
                  <a:pt x="8463" y="1888"/>
                </a:lnTo>
                <a:lnTo>
                  <a:pt x="8465" y="1884"/>
                </a:lnTo>
                <a:lnTo>
                  <a:pt x="8467" y="1881"/>
                </a:lnTo>
                <a:lnTo>
                  <a:pt x="8469" y="1877"/>
                </a:lnTo>
                <a:lnTo>
                  <a:pt x="8471" y="1874"/>
                </a:lnTo>
                <a:lnTo>
                  <a:pt x="8473" y="1870"/>
                </a:lnTo>
                <a:lnTo>
                  <a:pt x="8475" y="1866"/>
                </a:lnTo>
                <a:lnTo>
                  <a:pt x="8477" y="1862"/>
                </a:lnTo>
                <a:lnTo>
                  <a:pt x="8479" y="1855"/>
                </a:lnTo>
                <a:lnTo>
                  <a:pt x="8481" y="1851"/>
                </a:lnTo>
                <a:lnTo>
                  <a:pt x="8483" y="1847"/>
                </a:lnTo>
                <a:lnTo>
                  <a:pt x="8485" y="1842"/>
                </a:lnTo>
                <a:lnTo>
                  <a:pt x="8487" y="1837"/>
                </a:lnTo>
                <a:lnTo>
                  <a:pt x="8489" y="1832"/>
                </a:lnTo>
                <a:lnTo>
                  <a:pt x="8491" y="1826"/>
                </a:lnTo>
                <a:lnTo>
                  <a:pt x="8493" y="1821"/>
                </a:lnTo>
                <a:lnTo>
                  <a:pt x="8495" y="1815"/>
                </a:lnTo>
                <a:lnTo>
                  <a:pt x="8497" y="1809"/>
                </a:lnTo>
                <a:lnTo>
                  <a:pt x="8499" y="1803"/>
                </a:lnTo>
                <a:lnTo>
                  <a:pt x="8501" y="1797"/>
                </a:lnTo>
                <a:lnTo>
                  <a:pt x="8503" y="1790"/>
                </a:lnTo>
                <a:lnTo>
                  <a:pt x="8505" y="1784"/>
                </a:lnTo>
                <a:lnTo>
                  <a:pt x="8507" y="1777"/>
                </a:lnTo>
                <a:lnTo>
                  <a:pt x="8509" y="1768"/>
                </a:lnTo>
                <a:lnTo>
                  <a:pt x="8511" y="1762"/>
                </a:lnTo>
                <a:lnTo>
                  <a:pt x="8513" y="1754"/>
                </a:lnTo>
                <a:lnTo>
                  <a:pt x="8515" y="1746"/>
                </a:lnTo>
                <a:lnTo>
                  <a:pt x="8517" y="1738"/>
                </a:lnTo>
                <a:lnTo>
                  <a:pt x="8519" y="1730"/>
                </a:lnTo>
                <a:lnTo>
                  <a:pt x="8521" y="1722"/>
                </a:lnTo>
                <a:lnTo>
                  <a:pt x="8523" y="1713"/>
                </a:lnTo>
                <a:lnTo>
                  <a:pt x="8525" y="1704"/>
                </a:lnTo>
                <a:lnTo>
                  <a:pt x="8527" y="1695"/>
                </a:lnTo>
                <a:lnTo>
                  <a:pt x="8529" y="1684"/>
                </a:lnTo>
                <a:lnTo>
                  <a:pt x="8531" y="1676"/>
                </a:lnTo>
                <a:lnTo>
                  <a:pt x="8533" y="1666"/>
                </a:lnTo>
                <a:lnTo>
                  <a:pt x="8535" y="1657"/>
                </a:lnTo>
                <a:lnTo>
                  <a:pt x="8537" y="1647"/>
                </a:lnTo>
                <a:lnTo>
                  <a:pt x="8539" y="1637"/>
                </a:lnTo>
                <a:lnTo>
                  <a:pt x="8541" y="1627"/>
                </a:lnTo>
                <a:lnTo>
                  <a:pt x="8543" y="1616"/>
                </a:lnTo>
                <a:lnTo>
                  <a:pt x="8545" y="1604"/>
                </a:lnTo>
                <a:lnTo>
                  <a:pt x="8547" y="1594"/>
                </a:lnTo>
                <a:lnTo>
                  <a:pt x="8549" y="1583"/>
                </a:lnTo>
                <a:lnTo>
                  <a:pt x="8551" y="1572"/>
                </a:lnTo>
                <a:lnTo>
                  <a:pt x="8553" y="1560"/>
                </a:lnTo>
                <a:lnTo>
                  <a:pt x="8555" y="1549"/>
                </a:lnTo>
                <a:lnTo>
                  <a:pt x="8557" y="1537"/>
                </a:lnTo>
                <a:lnTo>
                  <a:pt x="8559" y="1524"/>
                </a:lnTo>
                <a:lnTo>
                  <a:pt x="8561" y="1510"/>
                </a:lnTo>
                <a:lnTo>
                  <a:pt x="8563" y="1499"/>
                </a:lnTo>
                <a:lnTo>
                  <a:pt x="8565" y="1486"/>
                </a:lnTo>
                <a:lnTo>
                  <a:pt x="8567" y="1473"/>
                </a:lnTo>
                <a:lnTo>
                  <a:pt x="8569" y="1461"/>
                </a:lnTo>
                <a:lnTo>
                  <a:pt x="8571" y="1448"/>
                </a:lnTo>
                <a:lnTo>
                  <a:pt x="8573" y="1432"/>
                </a:lnTo>
                <a:lnTo>
                  <a:pt x="8575" y="1421"/>
                </a:lnTo>
                <a:lnTo>
                  <a:pt x="8577" y="1408"/>
                </a:lnTo>
                <a:lnTo>
                  <a:pt x="8579" y="1395"/>
                </a:lnTo>
                <a:lnTo>
                  <a:pt x="8581" y="1382"/>
                </a:lnTo>
                <a:lnTo>
                  <a:pt x="8583" y="1369"/>
                </a:lnTo>
                <a:lnTo>
                  <a:pt x="8585" y="1353"/>
                </a:lnTo>
                <a:lnTo>
                  <a:pt x="8587" y="1340"/>
                </a:lnTo>
                <a:lnTo>
                  <a:pt x="8589" y="1327"/>
                </a:lnTo>
                <a:lnTo>
                  <a:pt x="8591" y="1313"/>
                </a:lnTo>
                <a:lnTo>
                  <a:pt x="8593" y="1299"/>
                </a:lnTo>
                <a:lnTo>
                  <a:pt x="8595" y="1285"/>
                </a:lnTo>
                <a:lnTo>
                  <a:pt x="8597" y="1270"/>
                </a:lnTo>
                <a:lnTo>
                  <a:pt x="8599" y="1256"/>
                </a:lnTo>
                <a:lnTo>
                  <a:pt x="8601" y="1242"/>
                </a:lnTo>
                <a:lnTo>
                  <a:pt x="8603" y="1228"/>
                </a:lnTo>
                <a:lnTo>
                  <a:pt x="8605" y="1214"/>
                </a:lnTo>
                <a:lnTo>
                  <a:pt x="8607" y="1200"/>
                </a:lnTo>
                <a:lnTo>
                  <a:pt x="8609" y="1183"/>
                </a:lnTo>
                <a:lnTo>
                  <a:pt x="8611" y="1170"/>
                </a:lnTo>
                <a:lnTo>
                  <a:pt x="8613" y="1155"/>
                </a:lnTo>
                <a:lnTo>
                  <a:pt x="8615" y="1141"/>
                </a:lnTo>
                <a:lnTo>
                  <a:pt x="8617" y="1126"/>
                </a:lnTo>
                <a:lnTo>
                  <a:pt x="8619" y="1111"/>
                </a:lnTo>
                <a:lnTo>
                  <a:pt x="8620" y="1094"/>
                </a:lnTo>
                <a:lnTo>
                  <a:pt x="8622" y="1082"/>
                </a:lnTo>
                <a:lnTo>
                  <a:pt x="8624" y="1067"/>
                </a:lnTo>
                <a:lnTo>
                  <a:pt x="8626" y="1053"/>
                </a:lnTo>
                <a:lnTo>
                  <a:pt x="8628" y="1039"/>
                </a:lnTo>
                <a:lnTo>
                  <a:pt x="8630" y="1025"/>
                </a:lnTo>
                <a:lnTo>
                  <a:pt x="8632" y="1009"/>
                </a:lnTo>
                <a:lnTo>
                  <a:pt x="8634" y="996"/>
                </a:lnTo>
                <a:lnTo>
                  <a:pt x="8636" y="983"/>
                </a:lnTo>
                <a:lnTo>
                  <a:pt x="8638" y="969"/>
                </a:lnTo>
                <a:lnTo>
                  <a:pt x="8640" y="956"/>
                </a:lnTo>
                <a:lnTo>
                  <a:pt x="8642" y="943"/>
                </a:lnTo>
                <a:lnTo>
                  <a:pt x="8644" y="927"/>
                </a:lnTo>
                <a:lnTo>
                  <a:pt x="8646" y="917"/>
                </a:lnTo>
                <a:lnTo>
                  <a:pt x="8648" y="904"/>
                </a:lnTo>
                <a:lnTo>
                  <a:pt x="8650" y="891"/>
                </a:lnTo>
                <a:lnTo>
                  <a:pt x="8652" y="879"/>
                </a:lnTo>
                <a:lnTo>
                  <a:pt x="8654" y="866"/>
                </a:lnTo>
                <a:lnTo>
                  <a:pt x="8656" y="853"/>
                </a:lnTo>
                <a:lnTo>
                  <a:pt x="8658" y="840"/>
                </a:lnTo>
                <a:lnTo>
                  <a:pt x="8660" y="829"/>
                </a:lnTo>
                <a:lnTo>
                  <a:pt x="8662" y="817"/>
                </a:lnTo>
                <a:lnTo>
                  <a:pt x="8664" y="806"/>
                </a:lnTo>
                <a:lnTo>
                  <a:pt x="8666" y="794"/>
                </a:lnTo>
                <a:lnTo>
                  <a:pt x="8668" y="783"/>
                </a:lnTo>
                <a:lnTo>
                  <a:pt x="8670" y="771"/>
                </a:lnTo>
                <a:lnTo>
                  <a:pt x="8672" y="759"/>
                </a:lnTo>
                <a:lnTo>
                  <a:pt x="8674" y="750"/>
                </a:lnTo>
                <a:lnTo>
                  <a:pt x="8676" y="740"/>
                </a:lnTo>
                <a:lnTo>
                  <a:pt x="8678" y="730"/>
                </a:lnTo>
                <a:lnTo>
                  <a:pt x="8680" y="720"/>
                </a:lnTo>
                <a:lnTo>
                  <a:pt x="8682" y="711"/>
                </a:lnTo>
                <a:lnTo>
                  <a:pt x="8684" y="702"/>
                </a:lnTo>
                <a:lnTo>
                  <a:pt x="8686" y="694"/>
                </a:lnTo>
                <a:lnTo>
                  <a:pt x="8688" y="686"/>
                </a:lnTo>
                <a:lnTo>
                  <a:pt x="8690" y="675"/>
                </a:lnTo>
                <a:lnTo>
                  <a:pt x="8692" y="670"/>
                </a:lnTo>
                <a:lnTo>
                  <a:pt x="8694" y="662"/>
                </a:lnTo>
                <a:lnTo>
                  <a:pt x="8696" y="655"/>
                </a:lnTo>
                <a:lnTo>
                  <a:pt x="8698" y="649"/>
                </a:lnTo>
                <a:lnTo>
                  <a:pt x="8700" y="643"/>
                </a:lnTo>
                <a:lnTo>
                  <a:pt x="8702" y="638"/>
                </a:lnTo>
                <a:lnTo>
                  <a:pt x="8704" y="633"/>
                </a:lnTo>
                <a:lnTo>
                  <a:pt x="8706" y="628"/>
                </a:lnTo>
                <a:lnTo>
                  <a:pt x="8708" y="624"/>
                </a:lnTo>
                <a:lnTo>
                  <a:pt x="8710" y="620"/>
                </a:lnTo>
                <a:lnTo>
                  <a:pt x="8712" y="616"/>
                </a:lnTo>
                <a:lnTo>
                  <a:pt x="8714" y="613"/>
                </a:lnTo>
                <a:lnTo>
                  <a:pt x="8716" y="610"/>
                </a:lnTo>
                <a:lnTo>
                  <a:pt x="8718" y="607"/>
                </a:lnTo>
                <a:lnTo>
                  <a:pt x="8720" y="605"/>
                </a:lnTo>
                <a:lnTo>
                  <a:pt x="8722" y="603"/>
                </a:lnTo>
                <a:lnTo>
                  <a:pt x="8724" y="601"/>
                </a:lnTo>
                <a:lnTo>
                  <a:pt x="8726" y="600"/>
                </a:lnTo>
                <a:lnTo>
                  <a:pt x="8728" y="599"/>
                </a:lnTo>
                <a:lnTo>
                  <a:pt x="8730" y="599"/>
                </a:lnTo>
                <a:lnTo>
                  <a:pt x="8732" y="600"/>
                </a:lnTo>
                <a:lnTo>
                  <a:pt x="8734" y="600"/>
                </a:lnTo>
                <a:lnTo>
                  <a:pt x="8736" y="602"/>
                </a:lnTo>
                <a:lnTo>
                  <a:pt x="8738" y="603"/>
                </a:lnTo>
                <a:lnTo>
                  <a:pt x="8740" y="605"/>
                </a:lnTo>
                <a:lnTo>
                  <a:pt x="8742" y="607"/>
                </a:lnTo>
                <a:lnTo>
                  <a:pt x="8744" y="609"/>
                </a:lnTo>
                <a:lnTo>
                  <a:pt x="8746" y="612"/>
                </a:lnTo>
                <a:lnTo>
                  <a:pt x="8748" y="615"/>
                </a:lnTo>
                <a:lnTo>
                  <a:pt x="8750" y="619"/>
                </a:lnTo>
                <a:lnTo>
                  <a:pt x="8752" y="623"/>
                </a:lnTo>
                <a:lnTo>
                  <a:pt x="8754" y="627"/>
                </a:lnTo>
                <a:lnTo>
                  <a:pt x="8756" y="632"/>
                </a:lnTo>
                <a:lnTo>
                  <a:pt x="8758" y="638"/>
                </a:lnTo>
                <a:lnTo>
                  <a:pt x="8760" y="644"/>
                </a:lnTo>
                <a:lnTo>
                  <a:pt x="8762" y="650"/>
                </a:lnTo>
                <a:lnTo>
                  <a:pt x="8764" y="656"/>
                </a:lnTo>
                <a:lnTo>
                  <a:pt x="8766" y="662"/>
                </a:lnTo>
                <a:lnTo>
                  <a:pt x="8768" y="669"/>
                </a:lnTo>
                <a:lnTo>
                  <a:pt x="8770" y="676"/>
                </a:lnTo>
                <a:lnTo>
                  <a:pt x="8772" y="683"/>
                </a:lnTo>
                <a:lnTo>
                  <a:pt x="8774" y="691"/>
                </a:lnTo>
                <a:lnTo>
                  <a:pt x="8776" y="699"/>
                </a:lnTo>
                <a:lnTo>
                  <a:pt x="8778" y="707"/>
                </a:lnTo>
                <a:lnTo>
                  <a:pt x="8780" y="715"/>
                </a:lnTo>
                <a:lnTo>
                  <a:pt x="8782" y="724"/>
                </a:lnTo>
                <a:lnTo>
                  <a:pt x="8784" y="733"/>
                </a:lnTo>
                <a:lnTo>
                  <a:pt x="8786" y="742"/>
                </a:lnTo>
                <a:lnTo>
                  <a:pt x="8788" y="752"/>
                </a:lnTo>
                <a:lnTo>
                  <a:pt x="8789" y="760"/>
                </a:lnTo>
                <a:lnTo>
                  <a:pt x="8791" y="772"/>
                </a:lnTo>
                <a:lnTo>
                  <a:pt x="8793" y="783"/>
                </a:lnTo>
                <a:lnTo>
                  <a:pt x="8795" y="794"/>
                </a:lnTo>
                <a:lnTo>
                  <a:pt x="8797" y="804"/>
                </a:lnTo>
                <a:lnTo>
                  <a:pt x="8799" y="815"/>
                </a:lnTo>
                <a:lnTo>
                  <a:pt x="8801" y="826"/>
                </a:lnTo>
                <a:lnTo>
                  <a:pt x="8803" y="837"/>
                </a:lnTo>
                <a:lnTo>
                  <a:pt x="8805" y="847"/>
                </a:lnTo>
                <a:lnTo>
                  <a:pt x="8807" y="861"/>
                </a:lnTo>
                <a:lnTo>
                  <a:pt x="8809" y="873"/>
                </a:lnTo>
                <a:lnTo>
                  <a:pt x="8811" y="884"/>
                </a:lnTo>
                <a:lnTo>
                  <a:pt x="8813" y="896"/>
                </a:lnTo>
                <a:lnTo>
                  <a:pt x="8815" y="908"/>
                </a:lnTo>
                <a:lnTo>
                  <a:pt x="8817" y="919"/>
                </a:lnTo>
                <a:lnTo>
                  <a:pt x="8819" y="930"/>
                </a:lnTo>
                <a:lnTo>
                  <a:pt x="8821" y="944"/>
                </a:lnTo>
                <a:lnTo>
                  <a:pt x="8823" y="957"/>
                </a:lnTo>
                <a:lnTo>
                  <a:pt x="8825" y="969"/>
                </a:lnTo>
                <a:lnTo>
                  <a:pt x="8827" y="981"/>
                </a:lnTo>
                <a:lnTo>
                  <a:pt x="8829" y="993"/>
                </a:lnTo>
                <a:lnTo>
                  <a:pt x="8831" y="1005"/>
                </a:lnTo>
                <a:lnTo>
                  <a:pt x="8833" y="1017"/>
                </a:lnTo>
                <a:lnTo>
                  <a:pt x="8835" y="1031"/>
                </a:lnTo>
                <a:lnTo>
                  <a:pt x="8837" y="1044"/>
                </a:lnTo>
                <a:lnTo>
                  <a:pt x="8839" y="1057"/>
                </a:lnTo>
                <a:lnTo>
                  <a:pt x="8841" y="1070"/>
                </a:lnTo>
                <a:lnTo>
                  <a:pt x="8843" y="1083"/>
                </a:lnTo>
                <a:lnTo>
                  <a:pt x="8845" y="1095"/>
                </a:lnTo>
                <a:lnTo>
                  <a:pt x="8847" y="1109"/>
                </a:lnTo>
                <a:lnTo>
                  <a:pt x="8849" y="1123"/>
                </a:lnTo>
                <a:lnTo>
                  <a:pt x="8851" y="1136"/>
                </a:lnTo>
                <a:lnTo>
                  <a:pt x="8853" y="1149"/>
                </a:lnTo>
                <a:lnTo>
                  <a:pt x="8855" y="1161"/>
                </a:lnTo>
                <a:lnTo>
                  <a:pt x="8857" y="1173"/>
                </a:lnTo>
                <a:lnTo>
                  <a:pt x="8859" y="1185"/>
                </a:lnTo>
                <a:lnTo>
                  <a:pt x="8861" y="1199"/>
                </a:lnTo>
                <a:lnTo>
                  <a:pt x="8863" y="1212"/>
                </a:lnTo>
                <a:lnTo>
                  <a:pt x="8865" y="1224"/>
                </a:lnTo>
                <a:lnTo>
                  <a:pt x="8867" y="1237"/>
                </a:lnTo>
                <a:lnTo>
                  <a:pt x="8869" y="1249"/>
                </a:lnTo>
                <a:lnTo>
                  <a:pt x="8871" y="1260"/>
                </a:lnTo>
                <a:lnTo>
                  <a:pt x="8873" y="1273"/>
                </a:lnTo>
                <a:lnTo>
                  <a:pt x="8875" y="1286"/>
                </a:lnTo>
                <a:lnTo>
                  <a:pt x="8877" y="1298"/>
                </a:lnTo>
                <a:lnTo>
                  <a:pt x="8879" y="1309"/>
                </a:lnTo>
                <a:lnTo>
                  <a:pt x="8881" y="1321"/>
                </a:lnTo>
                <a:lnTo>
                  <a:pt x="8883" y="1333"/>
                </a:lnTo>
                <a:lnTo>
                  <a:pt x="8885" y="1343"/>
                </a:lnTo>
                <a:lnTo>
                  <a:pt x="8887" y="1355"/>
                </a:lnTo>
                <a:lnTo>
                  <a:pt x="8889" y="1367"/>
                </a:lnTo>
                <a:lnTo>
                  <a:pt x="8891" y="1379"/>
                </a:lnTo>
                <a:lnTo>
                  <a:pt x="8893" y="1389"/>
                </a:lnTo>
                <a:lnTo>
                  <a:pt x="8895" y="1400"/>
                </a:lnTo>
                <a:lnTo>
                  <a:pt x="8897" y="1411"/>
                </a:lnTo>
                <a:lnTo>
                  <a:pt x="8899" y="1421"/>
                </a:lnTo>
                <a:lnTo>
                  <a:pt x="8901" y="1431"/>
                </a:lnTo>
                <a:lnTo>
                  <a:pt x="8903" y="1443"/>
                </a:lnTo>
                <a:lnTo>
                  <a:pt x="8905" y="1454"/>
                </a:lnTo>
                <a:lnTo>
                  <a:pt x="8907" y="1465"/>
                </a:lnTo>
                <a:lnTo>
                  <a:pt x="8909" y="1475"/>
                </a:lnTo>
                <a:lnTo>
                  <a:pt x="8911" y="1485"/>
                </a:lnTo>
                <a:lnTo>
                  <a:pt x="8913" y="1495"/>
                </a:lnTo>
                <a:lnTo>
                  <a:pt x="8915" y="1505"/>
                </a:lnTo>
                <a:lnTo>
                  <a:pt x="8917" y="1513"/>
                </a:lnTo>
                <a:lnTo>
                  <a:pt x="8919" y="1524"/>
                </a:lnTo>
                <a:lnTo>
                  <a:pt x="8921" y="1534"/>
                </a:lnTo>
                <a:lnTo>
                  <a:pt x="8923" y="1543"/>
                </a:lnTo>
                <a:lnTo>
                  <a:pt x="8925" y="1552"/>
                </a:lnTo>
                <a:lnTo>
                  <a:pt x="8927" y="1561"/>
                </a:lnTo>
                <a:lnTo>
                  <a:pt x="8929" y="1570"/>
                </a:lnTo>
                <a:lnTo>
                  <a:pt x="8931" y="1578"/>
                </a:lnTo>
                <a:lnTo>
                  <a:pt x="8933" y="1587"/>
                </a:lnTo>
                <a:lnTo>
                  <a:pt x="8935" y="1595"/>
                </a:lnTo>
                <a:lnTo>
                  <a:pt x="8937" y="1602"/>
                </a:lnTo>
                <a:lnTo>
                  <a:pt x="8939" y="1613"/>
                </a:lnTo>
                <a:lnTo>
                  <a:pt x="8941" y="1621"/>
                </a:lnTo>
                <a:lnTo>
                  <a:pt x="8943" y="1629"/>
                </a:lnTo>
                <a:lnTo>
                  <a:pt x="8945" y="1637"/>
                </a:lnTo>
                <a:lnTo>
                  <a:pt x="8947" y="1644"/>
                </a:lnTo>
                <a:lnTo>
                  <a:pt x="8949" y="1652"/>
                </a:lnTo>
                <a:lnTo>
                  <a:pt x="8951" y="1659"/>
                </a:lnTo>
                <a:lnTo>
                  <a:pt x="8953" y="1666"/>
                </a:lnTo>
                <a:lnTo>
                  <a:pt x="8955" y="1673"/>
                </a:lnTo>
                <a:lnTo>
                  <a:pt x="8957" y="1680"/>
                </a:lnTo>
                <a:lnTo>
                  <a:pt x="8958" y="1686"/>
                </a:lnTo>
                <a:lnTo>
                  <a:pt x="8960" y="1694"/>
                </a:lnTo>
                <a:lnTo>
                  <a:pt x="8962" y="1701"/>
                </a:lnTo>
                <a:lnTo>
                  <a:pt x="8964" y="1708"/>
                </a:lnTo>
                <a:lnTo>
                  <a:pt x="8966" y="1714"/>
                </a:lnTo>
                <a:lnTo>
                  <a:pt x="8968" y="1720"/>
                </a:lnTo>
                <a:lnTo>
                  <a:pt x="8970" y="1726"/>
                </a:lnTo>
                <a:lnTo>
                  <a:pt x="8972" y="1731"/>
                </a:lnTo>
                <a:lnTo>
                  <a:pt x="8974" y="1737"/>
                </a:lnTo>
                <a:lnTo>
                  <a:pt x="8976" y="1743"/>
                </a:lnTo>
                <a:lnTo>
                  <a:pt x="8978" y="1748"/>
                </a:lnTo>
                <a:lnTo>
                  <a:pt x="8980" y="1753"/>
                </a:lnTo>
                <a:lnTo>
                  <a:pt x="8982" y="1759"/>
                </a:lnTo>
                <a:lnTo>
                  <a:pt x="8984" y="1764"/>
                </a:lnTo>
                <a:lnTo>
                  <a:pt x="8986" y="1768"/>
                </a:lnTo>
                <a:lnTo>
                  <a:pt x="8988" y="1773"/>
                </a:lnTo>
                <a:lnTo>
                  <a:pt x="8990" y="1780"/>
                </a:lnTo>
                <a:lnTo>
                  <a:pt x="8992" y="1784"/>
                </a:lnTo>
                <a:lnTo>
                  <a:pt x="8994" y="1789"/>
                </a:lnTo>
                <a:lnTo>
                  <a:pt x="8996" y="1793"/>
                </a:lnTo>
                <a:lnTo>
                  <a:pt x="8998" y="1798"/>
                </a:lnTo>
                <a:lnTo>
                  <a:pt x="9000" y="1802"/>
                </a:lnTo>
                <a:lnTo>
                  <a:pt x="9002" y="1806"/>
                </a:lnTo>
                <a:lnTo>
                  <a:pt x="9004" y="1810"/>
                </a:lnTo>
                <a:lnTo>
                  <a:pt x="9006" y="1814"/>
                </a:lnTo>
                <a:lnTo>
                  <a:pt x="9008" y="1818"/>
                </a:lnTo>
                <a:lnTo>
                  <a:pt x="9010" y="1822"/>
                </a:lnTo>
                <a:lnTo>
                  <a:pt x="9012" y="1826"/>
                </a:lnTo>
                <a:lnTo>
                  <a:pt x="9014" y="1829"/>
                </a:lnTo>
                <a:lnTo>
                  <a:pt x="9016" y="1833"/>
                </a:lnTo>
                <a:lnTo>
                  <a:pt x="9018" y="1836"/>
                </a:lnTo>
                <a:lnTo>
                  <a:pt x="9020" y="1839"/>
                </a:lnTo>
                <a:lnTo>
                  <a:pt x="9022" y="1843"/>
                </a:lnTo>
                <a:lnTo>
                  <a:pt x="9024" y="1846"/>
                </a:lnTo>
                <a:lnTo>
                  <a:pt x="9026" y="1849"/>
                </a:lnTo>
                <a:lnTo>
                  <a:pt x="9028" y="1852"/>
                </a:lnTo>
                <a:lnTo>
                  <a:pt x="9030" y="1853"/>
                </a:lnTo>
                <a:lnTo>
                  <a:pt x="9032" y="1858"/>
                </a:lnTo>
                <a:lnTo>
                  <a:pt x="9034" y="1861"/>
                </a:lnTo>
                <a:lnTo>
                  <a:pt x="9036" y="1864"/>
                </a:lnTo>
                <a:lnTo>
                  <a:pt x="9038" y="1866"/>
                </a:lnTo>
                <a:lnTo>
                  <a:pt x="9040" y="1869"/>
                </a:lnTo>
                <a:lnTo>
                  <a:pt x="9042" y="1871"/>
                </a:lnTo>
                <a:lnTo>
                  <a:pt x="9044" y="1874"/>
                </a:lnTo>
                <a:lnTo>
                  <a:pt x="9046" y="1876"/>
                </a:lnTo>
                <a:lnTo>
                  <a:pt x="9048" y="1878"/>
                </a:lnTo>
                <a:lnTo>
                  <a:pt x="9050" y="1881"/>
                </a:lnTo>
                <a:lnTo>
                  <a:pt x="9052" y="1883"/>
                </a:lnTo>
                <a:lnTo>
                  <a:pt x="9054" y="1885"/>
                </a:lnTo>
                <a:lnTo>
                  <a:pt x="9056" y="1887"/>
                </a:lnTo>
                <a:lnTo>
                  <a:pt x="9058" y="1889"/>
                </a:lnTo>
                <a:lnTo>
                  <a:pt x="9060" y="1891"/>
                </a:lnTo>
                <a:lnTo>
                  <a:pt x="9062" y="1892"/>
                </a:lnTo>
                <a:lnTo>
                  <a:pt x="9064" y="1894"/>
                </a:lnTo>
                <a:lnTo>
                  <a:pt x="9066" y="1896"/>
                </a:lnTo>
                <a:lnTo>
                  <a:pt x="9068" y="1898"/>
                </a:lnTo>
                <a:lnTo>
                  <a:pt x="9070" y="1899"/>
                </a:lnTo>
                <a:lnTo>
                  <a:pt x="9072" y="1901"/>
                </a:lnTo>
                <a:lnTo>
                  <a:pt x="9074" y="1902"/>
                </a:lnTo>
                <a:lnTo>
                  <a:pt x="9076" y="1904"/>
                </a:lnTo>
                <a:lnTo>
                  <a:pt x="9078" y="1905"/>
                </a:lnTo>
                <a:lnTo>
                  <a:pt x="9080" y="1906"/>
                </a:lnTo>
                <a:lnTo>
                  <a:pt x="9082" y="1908"/>
                </a:lnTo>
                <a:lnTo>
                  <a:pt x="9084" y="1909"/>
                </a:lnTo>
                <a:lnTo>
                  <a:pt x="9086" y="1910"/>
                </a:lnTo>
                <a:lnTo>
                  <a:pt x="9088" y="1911"/>
                </a:lnTo>
                <a:lnTo>
                  <a:pt x="9090" y="1912"/>
                </a:lnTo>
                <a:lnTo>
                  <a:pt x="9092" y="1913"/>
                </a:lnTo>
                <a:lnTo>
                  <a:pt x="9094" y="1915"/>
                </a:lnTo>
                <a:lnTo>
                  <a:pt x="9096" y="1916"/>
                </a:lnTo>
                <a:lnTo>
                  <a:pt x="9098" y="1917"/>
                </a:lnTo>
                <a:lnTo>
                  <a:pt x="9100" y="1918"/>
                </a:lnTo>
                <a:lnTo>
                  <a:pt x="9102" y="1918"/>
                </a:lnTo>
                <a:lnTo>
                  <a:pt x="9104" y="1919"/>
                </a:lnTo>
                <a:lnTo>
                  <a:pt x="9106" y="1920"/>
                </a:lnTo>
                <a:lnTo>
                  <a:pt x="9108" y="1921"/>
                </a:lnTo>
                <a:lnTo>
                  <a:pt x="9110" y="1922"/>
                </a:lnTo>
                <a:lnTo>
                  <a:pt x="9112" y="1923"/>
                </a:lnTo>
                <a:lnTo>
                  <a:pt x="9114" y="1923"/>
                </a:lnTo>
                <a:lnTo>
                  <a:pt x="9116" y="1924"/>
                </a:lnTo>
                <a:lnTo>
                  <a:pt x="9118" y="1925"/>
                </a:lnTo>
                <a:lnTo>
                  <a:pt x="9120" y="1925"/>
                </a:lnTo>
                <a:lnTo>
                  <a:pt x="9122" y="1926"/>
                </a:lnTo>
                <a:lnTo>
                  <a:pt x="9124" y="1927"/>
                </a:lnTo>
                <a:lnTo>
                  <a:pt x="9126" y="1927"/>
                </a:lnTo>
                <a:lnTo>
                  <a:pt x="9127" y="1928"/>
                </a:lnTo>
                <a:lnTo>
                  <a:pt x="9129" y="1928"/>
                </a:lnTo>
                <a:lnTo>
                  <a:pt x="9131" y="1929"/>
                </a:lnTo>
                <a:lnTo>
                  <a:pt x="9133" y="1929"/>
                </a:lnTo>
                <a:lnTo>
                  <a:pt x="9135" y="1930"/>
                </a:lnTo>
                <a:lnTo>
                  <a:pt x="9137" y="1931"/>
                </a:lnTo>
                <a:lnTo>
                  <a:pt x="9139" y="1931"/>
                </a:lnTo>
                <a:lnTo>
                  <a:pt x="9141" y="1932"/>
                </a:lnTo>
                <a:lnTo>
                  <a:pt x="9143" y="1932"/>
                </a:lnTo>
                <a:lnTo>
                  <a:pt x="9145" y="1933"/>
                </a:lnTo>
                <a:lnTo>
                  <a:pt x="9147" y="1933"/>
                </a:lnTo>
                <a:lnTo>
                  <a:pt x="9149" y="1933"/>
                </a:lnTo>
                <a:lnTo>
                  <a:pt x="9151" y="1934"/>
                </a:lnTo>
                <a:lnTo>
                  <a:pt x="9153" y="1934"/>
                </a:lnTo>
                <a:lnTo>
                  <a:pt x="9155" y="1935"/>
                </a:lnTo>
                <a:lnTo>
                  <a:pt x="9157" y="1935"/>
                </a:lnTo>
                <a:lnTo>
                  <a:pt x="9159" y="1935"/>
                </a:lnTo>
                <a:lnTo>
                  <a:pt x="9161" y="1936"/>
                </a:lnTo>
                <a:lnTo>
                  <a:pt x="9163" y="1936"/>
                </a:lnTo>
                <a:lnTo>
                  <a:pt x="9165" y="1936"/>
                </a:lnTo>
                <a:lnTo>
                  <a:pt x="9167" y="1936"/>
                </a:lnTo>
                <a:lnTo>
                  <a:pt x="9169" y="1937"/>
                </a:lnTo>
                <a:lnTo>
                  <a:pt x="9171" y="1937"/>
                </a:lnTo>
                <a:lnTo>
                  <a:pt x="9173" y="1937"/>
                </a:lnTo>
                <a:lnTo>
                  <a:pt x="9175" y="1938"/>
                </a:lnTo>
                <a:lnTo>
                  <a:pt x="9177" y="1938"/>
                </a:lnTo>
                <a:lnTo>
                  <a:pt x="9179" y="1938"/>
                </a:lnTo>
                <a:lnTo>
                  <a:pt x="9181" y="1938"/>
                </a:lnTo>
                <a:lnTo>
                  <a:pt x="9183" y="1937"/>
                </a:lnTo>
                <a:lnTo>
                  <a:pt x="9185" y="1938"/>
                </a:lnTo>
                <a:lnTo>
                  <a:pt x="9187" y="1940"/>
                </a:lnTo>
                <a:lnTo>
                  <a:pt x="9189" y="1941"/>
                </a:lnTo>
                <a:lnTo>
                  <a:pt x="9191" y="1941"/>
                </a:lnTo>
                <a:lnTo>
                  <a:pt x="9193" y="1941"/>
                </a:lnTo>
                <a:lnTo>
                  <a:pt x="9195" y="1941"/>
                </a:lnTo>
                <a:lnTo>
                  <a:pt x="9197" y="1942"/>
                </a:lnTo>
                <a:lnTo>
                  <a:pt x="9199" y="1942"/>
                </a:lnTo>
                <a:lnTo>
                  <a:pt x="9201" y="1942"/>
                </a:lnTo>
                <a:lnTo>
                  <a:pt x="9203" y="1942"/>
                </a:lnTo>
                <a:lnTo>
                  <a:pt x="9205" y="1942"/>
                </a:lnTo>
                <a:lnTo>
                  <a:pt x="9207" y="1943"/>
                </a:lnTo>
                <a:lnTo>
                  <a:pt x="9209" y="1943"/>
                </a:lnTo>
                <a:lnTo>
                  <a:pt x="9211" y="1943"/>
                </a:lnTo>
                <a:lnTo>
                  <a:pt x="9213" y="1943"/>
                </a:lnTo>
                <a:lnTo>
                  <a:pt x="9215" y="1943"/>
                </a:lnTo>
                <a:lnTo>
                  <a:pt x="9217" y="1943"/>
                </a:lnTo>
                <a:lnTo>
                  <a:pt x="9219" y="1943"/>
                </a:lnTo>
                <a:lnTo>
                  <a:pt x="9221" y="1944"/>
                </a:lnTo>
                <a:lnTo>
                  <a:pt x="9223" y="1944"/>
                </a:lnTo>
                <a:lnTo>
                  <a:pt x="9225" y="1944"/>
                </a:lnTo>
                <a:lnTo>
                  <a:pt x="9227" y="1944"/>
                </a:lnTo>
                <a:lnTo>
                  <a:pt x="9229" y="1944"/>
                </a:lnTo>
                <a:lnTo>
                  <a:pt x="9231" y="1944"/>
                </a:lnTo>
                <a:lnTo>
                  <a:pt x="9233" y="1944"/>
                </a:lnTo>
                <a:lnTo>
                  <a:pt x="9235" y="1944"/>
                </a:lnTo>
                <a:lnTo>
                  <a:pt x="9237" y="1944"/>
                </a:lnTo>
                <a:lnTo>
                  <a:pt x="9239" y="1945"/>
                </a:lnTo>
                <a:lnTo>
                  <a:pt x="9241" y="1945"/>
                </a:lnTo>
                <a:lnTo>
                  <a:pt x="9243" y="1945"/>
                </a:lnTo>
                <a:lnTo>
                  <a:pt x="9245" y="1945"/>
                </a:lnTo>
                <a:lnTo>
                  <a:pt x="9247" y="1945"/>
                </a:lnTo>
                <a:lnTo>
                  <a:pt x="9249" y="1945"/>
                </a:lnTo>
                <a:lnTo>
                  <a:pt x="9251" y="1945"/>
                </a:lnTo>
                <a:lnTo>
                  <a:pt x="9253" y="1945"/>
                </a:lnTo>
                <a:lnTo>
                  <a:pt x="9255" y="1946"/>
                </a:lnTo>
                <a:lnTo>
                  <a:pt x="9257" y="1946"/>
                </a:lnTo>
                <a:lnTo>
                  <a:pt x="9259" y="1946"/>
                </a:lnTo>
                <a:lnTo>
                  <a:pt x="9261" y="1946"/>
                </a:lnTo>
                <a:lnTo>
                  <a:pt x="9263" y="1946"/>
                </a:lnTo>
                <a:lnTo>
                  <a:pt x="9265" y="1946"/>
                </a:lnTo>
                <a:lnTo>
                  <a:pt x="9267" y="1946"/>
                </a:lnTo>
                <a:lnTo>
                  <a:pt x="9269" y="1946"/>
                </a:lnTo>
                <a:lnTo>
                  <a:pt x="9271" y="1946"/>
                </a:lnTo>
                <a:lnTo>
                  <a:pt x="9273" y="1946"/>
                </a:lnTo>
                <a:lnTo>
                  <a:pt x="9275" y="1946"/>
                </a:lnTo>
                <a:lnTo>
                  <a:pt x="9277" y="1946"/>
                </a:lnTo>
                <a:lnTo>
                  <a:pt x="9279" y="1946"/>
                </a:lnTo>
                <a:lnTo>
                  <a:pt x="9281" y="1946"/>
                </a:lnTo>
                <a:lnTo>
                  <a:pt x="9283" y="1946"/>
                </a:lnTo>
                <a:lnTo>
                  <a:pt x="9285" y="1946"/>
                </a:lnTo>
                <a:lnTo>
                  <a:pt x="9287" y="1946"/>
                </a:lnTo>
                <a:lnTo>
                  <a:pt x="9289" y="1946"/>
                </a:lnTo>
                <a:lnTo>
                  <a:pt x="9291" y="1946"/>
                </a:lnTo>
                <a:lnTo>
                  <a:pt x="9293" y="1946"/>
                </a:lnTo>
                <a:lnTo>
                  <a:pt x="9295" y="1947"/>
                </a:lnTo>
                <a:lnTo>
                  <a:pt x="9296" y="1947"/>
                </a:lnTo>
                <a:lnTo>
                  <a:pt x="9298" y="1947"/>
                </a:lnTo>
                <a:lnTo>
                  <a:pt x="9300" y="1947"/>
                </a:lnTo>
                <a:lnTo>
                  <a:pt x="9302" y="1947"/>
                </a:lnTo>
                <a:lnTo>
                  <a:pt x="9304" y="1947"/>
                </a:lnTo>
                <a:lnTo>
                  <a:pt x="9306" y="1947"/>
                </a:lnTo>
                <a:lnTo>
                  <a:pt x="9308" y="1947"/>
                </a:lnTo>
                <a:lnTo>
                  <a:pt x="9310" y="1947"/>
                </a:lnTo>
                <a:lnTo>
                  <a:pt x="9312" y="1947"/>
                </a:lnTo>
                <a:lnTo>
                  <a:pt x="9314" y="1947"/>
                </a:lnTo>
                <a:lnTo>
                  <a:pt x="9316" y="1947"/>
                </a:lnTo>
                <a:lnTo>
                  <a:pt x="9318" y="1947"/>
                </a:lnTo>
                <a:lnTo>
                  <a:pt x="9320" y="1947"/>
                </a:lnTo>
                <a:lnTo>
                  <a:pt x="9322" y="1947"/>
                </a:lnTo>
                <a:lnTo>
                  <a:pt x="9324" y="1947"/>
                </a:lnTo>
                <a:lnTo>
                  <a:pt x="9326" y="1947"/>
                </a:lnTo>
                <a:lnTo>
                  <a:pt x="9328" y="1947"/>
                </a:lnTo>
                <a:lnTo>
                  <a:pt x="9330" y="1947"/>
                </a:lnTo>
                <a:lnTo>
                  <a:pt x="9332" y="1947"/>
                </a:lnTo>
                <a:lnTo>
                  <a:pt x="9334" y="1947"/>
                </a:lnTo>
                <a:lnTo>
                  <a:pt x="9336" y="1947"/>
                </a:lnTo>
                <a:lnTo>
                  <a:pt x="9338" y="1947"/>
                </a:lnTo>
                <a:lnTo>
                  <a:pt x="9340" y="1947"/>
                </a:lnTo>
                <a:lnTo>
                  <a:pt x="9342" y="1947"/>
                </a:lnTo>
                <a:lnTo>
                  <a:pt x="9344" y="1947"/>
                </a:lnTo>
                <a:lnTo>
                  <a:pt x="9346" y="1947"/>
                </a:lnTo>
                <a:lnTo>
                  <a:pt x="9348" y="1947"/>
                </a:lnTo>
                <a:lnTo>
                  <a:pt x="9350" y="1947"/>
                </a:lnTo>
                <a:lnTo>
                  <a:pt x="9352" y="1947"/>
                </a:lnTo>
                <a:lnTo>
                  <a:pt x="9354" y="1947"/>
                </a:lnTo>
                <a:lnTo>
                  <a:pt x="9356" y="1947"/>
                </a:lnTo>
                <a:lnTo>
                  <a:pt x="9358" y="1947"/>
                </a:lnTo>
                <a:lnTo>
                  <a:pt x="9360" y="1947"/>
                </a:lnTo>
                <a:lnTo>
                  <a:pt x="9362" y="1947"/>
                </a:lnTo>
                <a:lnTo>
                  <a:pt x="9364" y="1948"/>
                </a:lnTo>
                <a:lnTo>
                  <a:pt x="9366" y="1948"/>
                </a:lnTo>
                <a:lnTo>
                  <a:pt x="9368" y="1948"/>
                </a:lnTo>
                <a:lnTo>
                  <a:pt x="9370" y="1948"/>
                </a:lnTo>
                <a:lnTo>
                  <a:pt x="9372" y="1948"/>
                </a:lnTo>
                <a:lnTo>
                  <a:pt x="9374" y="1948"/>
                </a:lnTo>
                <a:lnTo>
                  <a:pt x="9376" y="1948"/>
                </a:lnTo>
                <a:lnTo>
                  <a:pt x="9378" y="1948"/>
                </a:lnTo>
                <a:lnTo>
                  <a:pt x="9380" y="1948"/>
                </a:lnTo>
                <a:lnTo>
                  <a:pt x="9382" y="1948"/>
                </a:lnTo>
                <a:lnTo>
                  <a:pt x="9384" y="1948"/>
                </a:lnTo>
                <a:lnTo>
                  <a:pt x="9386" y="1948"/>
                </a:lnTo>
                <a:lnTo>
                  <a:pt x="9388" y="1948"/>
                </a:lnTo>
                <a:lnTo>
                  <a:pt x="9390" y="1948"/>
                </a:lnTo>
                <a:lnTo>
                  <a:pt x="9392" y="1948"/>
                </a:lnTo>
                <a:lnTo>
                  <a:pt x="9394" y="1949"/>
                </a:lnTo>
                <a:lnTo>
                  <a:pt x="9396" y="1949"/>
                </a:lnTo>
                <a:lnTo>
                  <a:pt x="9398" y="1949"/>
                </a:lnTo>
                <a:lnTo>
                  <a:pt x="9400" y="1949"/>
                </a:lnTo>
                <a:lnTo>
                  <a:pt x="9402" y="1949"/>
                </a:lnTo>
                <a:lnTo>
                  <a:pt x="9404" y="1949"/>
                </a:lnTo>
                <a:lnTo>
                  <a:pt x="9406" y="1949"/>
                </a:lnTo>
                <a:lnTo>
                  <a:pt x="9408" y="1949"/>
                </a:lnTo>
                <a:lnTo>
                  <a:pt x="9410" y="1949"/>
                </a:lnTo>
                <a:lnTo>
                  <a:pt x="9412" y="1949"/>
                </a:lnTo>
                <a:lnTo>
                  <a:pt x="9414" y="1949"/>
                </a:lnTo>
                <a:lnTo>
                  <a:pt x="9416" y="1949"/>
                </a:lnTo>
                <a:lnTo>
                  <a:pt x="9418" y="1949"/>
                </a:lnTo>
                <a:lnTo>
                  <a:pt x="9420" y="1949"/>
                </a:lnTo>
                <a:lnTo>
                  <a:pt x="9422" y="1949"/>
                </a:lnTo>
                <a:lnTo>
                  <a:pt x="9424" y="1949"/>
                </a:lnTo>
                <a:lnTo>
                  <a:pt x="9426" y="1949"/>
                </a:lnTo>
                <a:lnTo>
                  <a:pt x="9428" y="1949"/>
                </a:lnTo>
                <a:lnTo>
                  <a:pt x="9430" y="1950"/>
                </a:lnTo>
                <a:lnTo>
                  <a:pt x="9432" y="1950"/>
                </a:lnTo>
                <a:lnTo>
                  <a:pt x="9434" y="1950"/>
                </a:lnTo>
                <a:lnTo>
                  <a:pt x="9436" y="1950"/>
                </a:lnTo>
                <a:lnTo>
                  <a:pt x="9438" y="1950"/>
                </a:lnTo>
                <a:lnTo>
                  <a:pt x="9440" y="1950"/>
                </a:lnTo>
                <a:lnTo>
                  <a:pt x="9442" y="1950"/>
                </a:lnTo>
                <a:lnTo>
                  <a:pt x="9444" y="1950"/>
                </a:lnTo>
                <a:lnTo>
                  <a:pt x="9446" y="1950"/>
                </a:lnTo>
                <a:lnTo>
                  <a:pt x="9448" y="1950"/>
                </a:lnTo>
                <a:lnTo>
                  <a:pt x="9450" y="1950"/>
                </a:lnTo>
                <a:lnTo>
                  <a:pt x="9452" y="1950"/>
                </a:lnTo>
                <a:lnTo>
                  <a:pt x="9454" y="1950"/>
                </a:lnTo>
                <a:lnTo>
                  <a:pt x="9456" y="1950"/>
                </a:lnTo>
                <a:lnTo>
                  <a:pt x="9458" y="1950"/>
                </a:lnTo>
                <a:lnTo>
                  <a:pt x="9460" y="1950"/>
                </a:lnTo>
                <a:lnTo>
                  <a:pt x="9462" y="1950"/>
                </a:lnTo>
                <a:lnTo>
                  <a:pt x="9464" y="1950"/>
                </a:lnTo>
                <a:lnTo>
                  <a:pt x="9465" y="1950"/>
                </a:lnTo>
                <a:lnTo>
                  <a:pt x="9467" y="1950"/>
                </a:lnTo>
                <a:lnTo>
                  <a:pt x="9469" y="1950"/>
                </a:lnTo>
                <a:lnTo>
                  <a:pt x="9471" y="1950"/>
                </a:lnTo>
                <a:lnTo>
                  <a:pt x="9473" y="1950"/>
                </a:lnTo>
                <a:lnTo>
                  <a:pt x="9475" y="1950"/>
                </a:lnTo>
                <a:lnTo>
                  <a:pt x="9477" y="1950"/>
                </a:lnTo>
                <a:lnTo>
                  <a:pt x="9479" y="1950"/>
                </a:lnTo>
                <a:lnTo>
                  <a:pt x="9481" y="1950"/>
                </a:lnTo>
                <a:lnTo>
                  <a:pt x="9483" y="1950"/>
                </a:lnTo>
                <a:lnTo>
                  <a:pt x="9485" y="1950"/>
                </a:lnTo>
                <a:lnTo>
                  <a:pt x="9487" y="1950"/>
                </a:lnTo>
                <a:lnTo>
                  <a:pt x="9489" y="1950"/>
                </a:lnTo>
                <a:lnTo>
                  <a:pt x="9491" y="1950"/>
                </a:lnTo>
                <a:lnTo>
                  <a:pt x="9493" y="1950"/>
                </a:lnTo>
                <a:lnTo>
                  <a:pt x="9495" y="1950"/>
                </a:lnTo>
                <a:lnTo>
                  <a:pt x="9497" y="1950"/>
                </a:lnTo>
                <a:lnTo>
                  <a:pt x="9499" y="1950"/>
                </a:lnTo>
                <a:lnTo>
                  <a:pt x="9501" y="1950"/>
                </a:lnTo>
                <a:lnTo>
                  <a:pt x="9503" y="1951"/>
                </a:lnTo>
                <a:lnTo>
                  <a:pt x="9505" y="1951"/>
                </a:lnTo>
                <a:lnTo>
                  <a:pt x="9507" y="1951"/>
                </a:lnTo>
                <a:lnTo>
                  <a:pt x="9509" y="1951"/>
                </a:lnTo>
                <a:lnTo>
                  <a:pt x="9511" y="1951"/>
                </a:lnTo>
                <a:lnTo>
                  <a:pt x="9513" y="1951"/>
                </a:lnTo>
                <a:lnTo>
                  <a:pt x="9515" y="1951"/>
                </a:lnTo>
                <a:lnTo>
                  <a:pt x="9517" y="1951"/>
                </a:lnTo>
                <a:lnTo>
                  <a:pt x="9519" y="1951"/>
                </a:lnTo>
                <a:lnTo>
                  <a:pt x="9521" y="1951"/>
                </a:lnTo>
                <a:lnTo>
                  <a:pt x="9523" y="1951"/>
                </a:lnTo>
                <a:lnTo>
                  <a:pt x="9525" y="1951"/>
                </a:lnTo>
                <a:lnTo>
                  <a:pt x="9527" y="1951"/>
                </a:lnTo>
                <a:lnTo>
                  <a:pt x="9529" y="1951"/>
                </a:lnTo>
                <a:lnTo>
                  <a:pt x="9531" y="1951"/>
                </a:lnTo>
                <a:lnTo>
                  <a:pt x="9533" y="1951"/>
                </a:lnTo>
                <a:lnTo>
                  <a:pt x="9535" y="1951"/>
                </a:lnTo>
                <a:lnTo>
                  <a:pt x="9537" y="1951"/>
                </a:lnTo>
                <a:lnTo>
                  <a:pt x="9539" y="1951"/>
                </a:lnTo>
                <a:lnTo>
                  <a:pt x="9541" y="1951"/>
                </a:lnTo>
                <a:lnTo>
                  <a:pt x="9543" y="1951"/>
                </a:lnTo>
                <a:lnTo>
                  <a:pt x="9545" y="1951"/>
                </a:lnTo>
                <a:lnTo>
                  <a:pt x="9547" y="1951"/>
                </a:lnTo>
                <a:lnTo>
                  <a:pt x="9549" y="1951"/>
                </a:lnTo>
                <a:lnTo>
                  <a:pt x="9551" y="1951"/>
                </a:lnTo>
                <a:lnTo>
                  <a:pt x="9553" y="1951"/>
                </a:lnTo>
                <a:lnTo>
                  <a:pt x="9555" y="1950"/>
                </a:lnTo>
                <a:lnTo>
                  <a:pt x="9557" y="1950"/>
                </a:lnTo>
                <a:lnTo>
                  <a:pt x="9559" y="1950"/>
                </a:lnTo>
                <a:lnTo>
                  <a:pt x="9561" y="1950"/>
                </a:lnTo>
                <a:lnTo>
                  <a:pt x="9563" y="1950"/>
                </a:lnTo>
                <a:lnTo>
                  <a:pt x="9565" y="1950"/>
                </a:lnTo>
                <a:lnTo>
                  <a:pt x="9567" y="1950"/>
                </a:lnTo>
                <a:lnTo>
                  <a:pt x="9569" y="1950"/>
                </a:lnTo>
                <a:lnTo>
                  <a:pt x="9571" y="1950"/>
                </a:lnTo>
                <a:lnTo>
                  <a:pt x="9573" y="1950"/>
                </a:lnTo>
                <a:lnTo>
                  <a:pt x="9575" y="1950"/>
                </a:lnTo>
                <a:lnTo>
                  <a:pt x="9577" y="1950"/>
                </a:lnTo>
                <a:lnTo>
                  <a:pt x="9579" y="1950"/>
                </a:lnTo>
                <a:lnTo>
                  <a:pt x="9581" y="1950"/>
                </a:lnTo>
                <a:lnTo>
                  <a:pt x="9583" y="1950"/>
                </a:lnTo>
                <a:lnTo>
                  <a:pt x="9585" y="1950"/>
                </a:lnTo>
                <a:lnTo>
                  <a:pt x="9587" y="1950"/>
                </a:lnTo>
                <a:lnTo>
                  <a:pt x="9589" y="1950"/>
                </a:lnTo>
                <a:lnTo>
                  <a:pt x="9591" y="1950"/>
                </a:lnTo>
                <a:lnTo>
                  <a:pt x="9593" y="1950"/>
                </a:lnTo>
                <a:lnTo>
                  <a:pt x="9595" y="1950"/>
                </a:lnTo>
                <a:lnTo>
                  <a:pt x="9597" y="1950"/>
                </a:lnTo>
                <a:lnTo>
                  <a:pt x="9599" y="1950"/>
                </a:lnTo>
                <a:lnTo>
                  <a:pt x="9601" y="1950"/>
                </a:lnTo>
                <a:lnTo>
                  <a:pt x="9603" y="1950"/>
                </a:lnTo>
                <a:lnTo>
                  <a:pt x="9605" y="1950"/>
                </a:lnTo>
                <a:lnTo>
                  <a:pt x="9607" y="1950"/>
                </a:lnTo>
                <a:lnTo>
                  <a:pt x="9609" y="1950"/>
                </a:lnTo>
                <a:lnTo>
                  <a:pt x="9611" y="1950"/>
                </a:lnTo>
                <a:lnTo>
                  <a:pt x="9613" y="1950"/>
                </a:lnTo>
                <a:lnTo>
                  <a:pt x="9615" y="1950"/>
                </a:lnTo>
                <a:lnTo>
                  <a:pt x="9617" y="1950"/>
                </a:lnTo>
                <a:lnTo>
                  <a:pt x="9619" y="1950"/>
                </a:lnTo>
                <a:lnTo>
                  <a:pt x="9621" y="1950"/>
                </a:lnTo>
                <a:lnTo>
                  <a:pt x="9623" y="1950"/>
                </a:lnTo>
                <a:lnTo>
                  <a:pt x="9625" y="1950"/>
                </a:lnTo>
                <a:lnTo>
                  <a:pt x="9627" y="1950"/>
                </a:lnTo>
                <a:lnTo>
                  <a:pt x="9629" y="1950"/>
                </a:lnTo>
                <a:lnTo>
                  <a:pt x="9631" y="1951"/>
                </a:lnTo>
                <a:lnTo>
                  <a:pt x="9633" y="1951"/>
                </a:lnTo>
                <a:lnTo>
                  <a:pt x="9634" y="1951"/>
                </a:lnTo>
                <a:lnTo>
                  <a:pt x="9636" y="1951"/>
                </a:lnTo>
                <a:lnTo>
                  <a:pt x="9638" y="1951"/>
                </a:lnTo>
                <a:lnTo>
                  <a:pt x="9640" y="1951"/>
                </a:lnTo>
                <a:lnTo>
                  <a:pt x="9642" y="1951"/>
                </a:lnTo>
                <a:lnTo>
                  <a:pt x="9644" y="1951"/>
                </a:lnTo>
                <a:lnTo>
                  <a:pt x="9646" y="1951"/>
                </a:lnTo>
                <a:lnTo>
                  <a:pt x="9648" y="1951"/>
                </a:lnTo>
                <a:lnTo>
                  <a:pt x="9650" y="1951"/>
                </a:lnTo>
                <a:lnTo>
                  <a:pt x="9652" y="1951"/>
                </a:lnTo>
                <a:lnTo>
                  <a:pt x="9654" y="1951"/>
                </a:lnTo>
                <a:lnTo>
                  <a:pt x="9656" y="1951"/>
                </a:lnTo>
                <a:lnTo>
                  <a:pt x="9658" y="1951"/>
                </a:lnTo>
                <a:lnTo>
                  <a:pt x="9660" y="1951"/>
                </a:lnTo>
                <a:lnTo>
                  <a:pt x="9662" y="1951"/>
                </a:lnTo>
                <a:lnTo>
                  <a:pt x="9664" y="1951"/>
                </a:lnTo>
                <a:lnTo>
                  <a:pt x="9666" y="1951"/>
                </a:lnTo>
                <a:lnTo>
                  <a:pt x="9668" y="1951"/>
                </a:lnTo>
                <a:lnTo>
                  <a:pt x="9670" y="1951"/>
                </a:lnTo>
                <a:lnTo>
                  <a:pt x="9672" y="1951"/>
                </a:lnTo>
                <a:lnTo>
                  <a:pt x="9674" y="1951"/>
                </a:lnTo>
                <a:lnTo>
                  <a:pt x="9676" y="1951"/>
                </a:lnTo>
                <a:lnTo>
                  <a:pt x="9678" y="1951"/>
                </a:lnTo>
                <a:lnTo>
                  <a:pt x="9680" y="1951"/>
                </a:lnTo>
                <a:lnTo>
                  <a:pt x="9682" y="1951"/>
                </a:lnTo>
                <a:lnTo>
                  <a:pt x="9684" y="1951"/>
                </a:lnTo>
                <a:lnTo>
                  <a:pt x="9686" y="1951"/>
                </a:lnTo>
                <a:lnTo>
                  <a:pt x="9688" y="1951"/>
                </a:lnTo>
                <a:lnTo>
                  <a:pt x="9690" y="1951"/>
                </a:lnTo>
                <a:lnTo>
                  <a:pt x="9692" y="1951"/>
                </a:lnTo>
                <a:lnTo>
                  <a:pt x="9694" y="1951"/>
                </a:lnTo>
                <a:lnTo>
                  <a:pt x="9696" y="1951"/>
                </a:lnTo>
                <a:lnTo>
                  <a:pt x="9698" y="1952"/>
                </a:lnTo>
                <a:lnTo>
                  <a:pt x="9700" y="1952"/>
                </a:lnTo>
                <a:lnTo>
                  <a:pt x="9702" y="1952"/>
                </a:lnTo>
                <a:lnTo>
                  <a:pt x="9704" y="1952"/>
                </a:lnTo>
                <a:lnTo>
                  <a:pt x="9706" y="1952"/>
                </a:lnTo>
                <a:lnTo>
                  <a:pt x="9708" y="1952"/>
                </a:lnTo>
                <a:lnTo>
                  <a:pt x="9710" y="1952"/>
                </a:lnTo>
                <a:lnTo>
                  <a:pt x="9712" y="1952"/>
                </a:lnTo>
                <a:lnTo>
                  <a:pt x="9714" y="1952"/>
                </a:lnTo>
                <a:lnTo>
                  <a:pt x="9716" y="1952"/>
                </a:lnTo>
                <a:lnTo>
                  <a:pt x="9718" y="1952"/>
                </a:lnTo>
                <a:lnTo>
                  <a:pt x="9720" y="1952"/>
                </a:lnTo>
                <a:lnTo>
                  <a:pt x="9722" y="1952"/>
                </a:lnTo>
                <a:lnTo>
                  <a:pt x="9724" y="1952"/>
                </a:lnTo>
                <a:lnTo>
                  <a:pt x="9726" y="1952"/>
                </a:lnTo>
                <a:lnTo>
                  <a:pt x="9728" y="1952"/>
                </a:lnTo>
                <a:lnTo>
                  <a:pt x="9730" y="1952"/>
                </a:lnTo>
                <a:lnTo>
                  <a:pt x="9732" y="1952"/>
                </a:lnTo>
                <a:lnTo>
                  <a:pt x="9734" y="1952"/>
                </a:lnTo>
                <a:lnTo>
                  <a:pt x="9736" y="1952"/>
                </a:lnTo>
                <a:lnTo>
                  <a:pt x="9738" y="1952"/>
                </a:lnTo>
                <a:lnTo>
                  <a:pt x="9740" y="1952"/>
                </a:lnTo>
                <a:lnTo>
                  <a:pt x="9742" y="1952"/>
                </a:lnTo>
                <a:lnTo>
                  <a:pt x="9744" y="1952"/>
                </a:lnTo>
                <a:lnTo>
                  <a:pt x="9746" y="1952"/>
                </a:lnTo>
                <a:lnTo>
                  <a:pt x="9748" y="1952"/>
                </a:lnTo>
                <a:lnTo>
                  <a:pt x="9750" y="1952"/>
                </a:lnTo>
                <a:lnTo>
                  <a:pt x="9752" y="1952"/>
                </a:lnTo>
                <a:lnTo>
                  <a:pt x="9754" y="1952"/>
                </a:lnTo>
                <a:lnTo>
                  <a:pt x="9756" y="1952"/>
                </a:lnTo>
                <a:lnTo>
                  <a:pt x="9758" y="1952"/>
                </a:lnTo>
                <a:lnTo>
                  <a:pt x="9760" y="1952"/>
                </a:lnTo>
                <a:lnTo>
                  <a:pt x="9762" y="1952"/>
                </a:lnTo>
                <a:lnTo>
                  <a:pt x="9764" y="1952"/>
                </a:lnTo>
                <a:lnTo>
                  <a:pt x="9766" y="1952"/>
                </a:lnTo>
                <a:lnTo>
                  <a:pt x="9768" y="1952"/>
                </a:lnTo>
                <a:lnTo>
                  <a:pt x="9770" y="1952"/>
                </a:lnTo>
                <a:lnTo>
                  <a:pt x="9772" y="1952"/>
                </a:lnTo>
                <a:lnTo>
                  <a:pt x="9774" y="1952"/>
                </a:lnTo>
                <a:lnTo>
                  <a:pt x="9776" y="1952"/>
                </a:lnTo>
                <a:lnTo>
                  <a:pt x="9778" y="1952"/>
                </a:lnTo>
                <a:lnTo>
                  <a:pt x="9780" y="1952"/>
                </a:lnTo>
                <a:lnTo>
                  <a:pt x="9782" y="1952"/>
                </a:lnTo>
                <a:lnTo>
                  <a:pt x="9784" y="1952"/>
                </a:lnTo>
                <a:lnTo>
                  <a:pt x="9786" y="1952"/>
                </a:lnTo>
                <a:lnTo>
                  <a:pt x="9788" y="1952"/>
                </a:lnTo>
                <a:lnTo>
                  <a:pt x="9790" y="1952"/>
                </a:lnTo>
                <a:lnTo>
                  <a:pt x="9792" y="1952"/>
                </a:lnTo>
                <a:lnTo>
                  <a:pt x="9794" y="1952"/>
                </a:lnTo>
                <a:lnTo>
                  <a:pt x="9796" y="1952"/>
                </a:lnTo>
                <a:lnTo>
                  <a:pt x="9798" y="1952"/>
                </a:lnTo>
                <a:lnTo>
                  <a:pt x="9800" y="1952"/>
                </a:lnTo>
                <a:lnTo>
                  <a:pt x="9802" y="1952"/>
                </a:lnTo>
                <a:lnTo>
                  <a:pt x="9803" y="1952"/>
                </a:lnTo>
                <a:lnTo>
                  <a:pt x="9805" y="1952"/>
                </a:lnTo>
                <a:lnTo>
                  <a:pt x="9807" y="1952"/>
                </a:lnTo>
                <a:lnTo>
                  <a:pt x="9809" y="1952"/>
                </a:lnTo>
                <a:lnTo>
                  <a:pt x="9811" y="1952"/>
                </a:lnTo>
                <a:lnTo>
                  <a:pt x="9813" y="1952"/>
                </a:lnTo>
                <a:lnTo>
                  <a:pt x="9815" y="1952"/>
                </a:lnTo>
                <a:lnTo>
                  <a:pt x="9817" y="1952"/>
                </a:lnTo>
                <a:lnTo>
                  <a:pt x="9819" y="1952"/>
                </a:lnTo>
                <a:lnTo>
                  <a:pt x="9821" y="1952"/>
                </a:lnTo>
                <a:lnTo>
                  <a:pt x="9823" y="1952"/>
                </a:lnTo>
                <a:lnTo>
                  <a:pt x="9825" y="1952"/>
                </a:lnTo>
                <a:lnTo>
                  <a:pt x="9827" y="1952"/>
                </a:lnTo>
                <a:lnTo>
                  <a:pt x="9829" y="1952"/>
                </a:lnTo>
                <a:lnTo>
                  <a:pt x="9831" y="1952"/>
                </a:lnTo>
                <a:lnTo>
                  <a:pt x="9833" y="1952"/>
                </a:lnTo>
                <a:lnTo>
                  <a:pt x="9835" y="1952"/>
                </a:lnTo>
                <a:lnTo>
                  <a:pt x="9837" y="1952"/>
                </a:lnTo>
                <a:lnTo>
                  <a:pt x="9839" y="1952"/>
                </a:lnTo>
                <a:lnTo>
                  <a:pt x="9841" y="1952"/>
                </a:lnTo>
                <a:lnTo>
                  <a:pt x="9843" y="1952"/>
                </a:lnTo>
                <a:lnTo>
                  <a:pt x="9845" y="1952"/>
                </a:lnTo>
                <a:lnTo>
                  <a:pt x="9847" y="1952"/>
                </a:lnTo>
                <a:lnTo>
                  <a:pt x="9849" y="1952"/>
                </a:lnTo>
                <a:lnTo>
                  <a:pt x="9851" y="1952"/>
                </a:lnTo>
                <a:lnTo>
                  <a:pt x="9853" y="1952"/>
                </a:lnTo>
                <a:lnTo>
                  <a:pt x="9855" y="1952"/>
                </a:lnTo>
                <a:lnTo>
                  <a:pt x="9857" y="1952"/>
                </a:lnTo>
                <a:lnTo>
                  <a:pt x="9859" y="1952"/>
                </a:lnTo>
                <a:lnTo>
                  <a:pt x="9861" y="1952"/>
                </a:lnTo>
                <a:lnTo>
                  <a:pt x="9863" y="1952"/>
                </a:lnTo>
                <a:lnTo>
                  <a:pt x="9865" y="1952"/>
                </a:lnTo>
                <a:lnTo>
                  <a:pt x="9867" y="1952"/>
                </a:lnTo>
                <a:lnTo>
                  <a:pt x="9869" y="1952"/>
                </a:lnTo>
                <a:lnTo>
                  <a:pt x="9871" y="1952"/>
                </a:lnTo>
                <a:lnTo>
                  <a:pt x="9873" y="1952"/>
                </a:lnTo>
                <a:lnTo>
                  <a:pt x="9875" y="1952"/>
                </a:lnTo>
                <a:lnTo>
                  <a:pt x="9877" y="1952"/>
                </a:lnTo>
                <a:lnTo>
                  <a:pt x="9879" y="1952"/>
                </a:lnTo>
                <a:lnTo>
                  <a:pt x="9881" y="1952"/>
                </a:lnTo>
                <a:lnTo>
                  <a:pt x="9883" y="1952"/>
                </a:lnTo>
                <a:lnTo>
                  <a:pt x="9885" y="1952"/>
                </a:lnTo>
                <a:lnTo>
                  <a:pt x="9887" y="1952"/>
                </a:lnTo>
                <a:lnTo>
                  <a:pt x="9889" y="1952"/>
                </a:lnTo>
                <a:lnTo>
                  <a:pt x="9891" y="1952"/>
                </a:lnTo>
                <a:lnTo>
                  <a:pt x="9893" y="1952"/>
                </a:lnTo>
                <a:lnTo>
                  <a:pt x="9895" y="1952"/>
                </a:lnTo>
                <a:lnTo>
                  <a:pt x="9897" y="1952"/>
                </a:lnTo>
                <a:lnTo>
                  <a:pt x="9899" y="1952"/>
                </a:lnTo>
                <a:lnTo>
                  <a:pt x="9901" y="1952"/>
                </a:lnTo>
                <a:lnTo>
                  <a:pt x="9903" y="1952"/>
                </a:lnTo>
                <a:lnTo>
                  <a:pt x="9905" y="1952"/>
                </a:lnTo>
                <a:lnTo>
                  <a:pt x="9907" y="1952"/>
                </a:lnTo>
                <a:lnTo>
                  <a:pt x="9909" y="1952"/>
                </a:lnTo>
                <a:lnTo>
                  <a:pt x="9911" y="1952"/>
                </a:lnTo>
                <a:lnTo>
                  <a:pt x="9913" y="1952"/>
                </a:lnTo>
                <a:lnTo>
                  <a:pt x="9915" y="1952"/>
                </a:lnTo>
                <a:lnTo>
                  <a:pt x="9917" y="1952"/>
                </a:lnTo>
                <a:lnTo>
                  <a:pt x="9919" y="1952"/>
                </a:lnTo>
                <a:lnTo>
                  <a:pt x="9921" y="1951"/>
                </a:lnTo>
                <a:lnTo>
                  <a:pt x="9923" y="1951"/>
                </a:lnTo>
                <a:lnTo>
                  <a:pt x="9925" y="1951"/>
                </a:lnTo>
                <a:lnTo>
                  <a:pt x="9927" y="1951"/>
                </a:lnTo>
                <a:lnTo>
                  <a:pt x="9929" y="1951"/>
                </a:lnTo>
                <a:lnTo>
                  <a:pt x="9931" y="1951"/>
                </a:lnTo>
                <a:lnTo>
                  <a:pt x="9933" y="1951"/>
                </a:lnTo>
                <a:lnTo>
                  <a:pt x="9935" y="1951"/>
                </a:lnTo>
                <a:lnTo>
                  <a:pt x="9937" y="1951"/>
                </a:lnTo>
                <a:lnTo>
                  <a:pt x="9939" y="1951"/>
                </a:lnTo>
                <a:lnTo>
                  <a:pt x="9941" y="1951"/>
                </a:lnTo>
                <a:lnTo>
                  <a:pt x="9943" y="1951"/>
                </a:lnTo>
                <a:lnTo>
                  <a:pt x="9945" y="1951"/>
                </a:lnTo>
                <a:lnTo>
                  <a:pt x="9947" y="1951"/>
                </a:lnTo>
                <a:lnTo>
                  <a:pt x="9949" y="1951"/>
                </a:lnTo>
                <a:lnTo>
                  <a:pt x="9951" y="1951"/>
                </a:lnTo>
                <a:lnTo>
                  <a:pt x="9953" y="1951"/>
                </a:lnTo>
                <a:lnTo>
                  <a:pt x="9955" y="1952"/>
                </a:lnTo>
                <a:lnTo>
                  <a:pt x="9957" y="1952"/>
                </a:lnTo>
                <a:lnTo>
                  <a:pt x="9959" y="1952"/>
                </a:lnTo>
                <a:lnTo>
                  <a:pt x="9961" y="1952"/>
                </a:lnTo>
                <a:lnTo>
                  <a:pt x="9963" y="1952"/>
                </a:lnTo>
                <a:lnTo>
                  <a:pt x="9965" y="1952"/>
                </a:lnTo>
                <a:lnTo>
                  <a:pt x="9967" y="1952"/>
                </a:lnTo>
                <a:lnTo>
                  <a:pt x="9969" y="1952"/>
                </a:lnTo>
                <a:lnTo>
                  <a:pt x="9971" y="1952"/>
                </a:lnTo>
                <a:lnTo>
                  <a:pt x="9972" y="1951"/>
                </a:lnTo>
                <a:lnTo>
                  <a:pt x="9974" y="1951"/>
                </a:lnTo>
                <a:lnTo>
                  <a:pt x="9976" y="1951"/>
                </a:lnTo>
                <a:lnTo>
                  <a:pt x="9978" y="1951"/>
                </a:lnTo>
                <a:lnTo>
                  <a:pt x="9980" y="1951"/>
                </a:lnTo>
                <a:lnTo>
                  <a:pt x="9982" y="1951"/>
                </a:lnTo>
                <a:lnTo>
                  <a:pt x="9984" y="1951"/>
                </a:lnTo>
                <a:lnTo>
                  <a:pt x="9986" y="1951"/>
                </a:lnTo>
                <a:lnTo>
                  <a:pt x="9988" y="1951"/>
                </a:lnTo>
                <a:lnTo>
                  <a:pt x="9990" y="1951"/>
                </a:lnTo>
                <a:lnTo>
                  <a:pt x="9992" y="1951"/>
                </a:lnTo>
                <a:lnTo>
                  <a:pt x="9994" y="1951"/>
                </a:lnTo>
                <a:lnTo>
                  <a:pt x="9996" y="1951"/>
                </a:lnTo>
                <a:lnTo>
                  <a:pt x="9998" y="1951"/>
                </a:lnTo>
                <a:lnTo>
                  <a:pt x="10000" y="1951"/>
                </a:lnTo>
                <a:lnTo>
                  <a:pt x="10002" y="1951"/>
                </a:lnTo>
                <a:lnTo>
                  <a:pt x="10004" y="1951"/>
                </a:lnTo>
                <a:lnTo>
                  <a:pt x="10006" y="1950"/>
                </a:lnTo>
                <a:lnTo>
                  <a:pt x="10008" y="1950"/>
                </a:lnTo>
                <a:lnTo>
                  <a:pt x="10010" y="1950"/>
                </a:lnTo>
                <a:lnTo>
                  <a:pt x="10012" y="1950"/>
                </a:lnTo>
                <a:lnTo>
                  <a:pt x="10014" y="1950"/>
                </a:lnTo>
                <a:lnTo>
                  <a:pt x="10016" y="1950"/>
                </a:lnTo>
                <a:lnTo>
                  <a:pt x="10018" y="1950"/>
                </a:lnTo>
                <a:lnTo>
                  <a:pt x="10020" y="1950"/>
                </a:lnTo>
                <a:lnTo>
                  <a:pt x="10022" y="1950"/>
                </a:lnTo>
                <a:lnTo>
                  <a:pt x="10024" y="1950"/>
                </a:lnTo>
                <a:lnTo>
                  <a:pt x="10026" y="1950"/>
                </a:lnTo>
                <a:lnTo>
                  <a:pt x="10028" y="1950"/>
                </a:lnTo>
                <a:lnTo>
                  <a:pt x="10030" y="1950"/>
                </a:lnTo>
                <a:lnTo>
                  <a:pt x="10032" y="1950"/>
                </a:lnTo>
                <a:lnTo>
                  <a:pt x="10034" y="1950"/>
                </a:lnTo>
                <a:lnTo>
                  <a:pt x="10036" y="1950"/>
                </a:lnTo>
                <a:lnTo>
                  <a:pt x="10038" y="1950"/>
                </a:lnTo>
                <a:lnTo>
                  <a:pt x="10040" y="1950"/>
                </a:lnTo>
                <a:lnTo>
                  <a:pt x="10042" y="1950"/>
                </a:lnTo>
                <a:lnTo>
                  <a:pt x="10044" y="1950"/>
                </a:lnTo>
                <a:lnTo>
                  <a:pt x="10046" y="1950"/>
                </a:lnTo>
                <a:lnTo>
                  <a:pt x="10048" y="1950"/>
                </a:lnTo>
                <a:lnTo>
                  <a:pt x="10050" y="1950"/>
                </a:lnTo>
                <a:lnTo>
                  <a:pt x="10052" y="1950"/>
                </a:lnTo>
                <a:lnTo>
                  <a:pt x="10054" y="1950"/>
                </a:lnTo>
                <a:lnTo>
                  <a:pt x="10056" y="1950"/>
                </a:lnTo>
                <a:lnTo>
                  <a:pt x="10058" y="1950"/>
                </a:lnTo>
                <a:lnTo>
                  <a:pt x="10060" y="1950"/>
                </a:lnTo>
                <a:lnTo>
                  <a:pt x="10062" y="1950"/>
                </a:lnTo>
                <a:lnTo>
                  <a:pt x="10064" y="1950"/>
                </a:lnTo>
                <a:lnTo>
                  <a:pt x="10066" y="1950"/>
                </a:lnTo>
                <a:lnTo>
                  <a:pt x="10068" y="1950"/>
                </a:lnTo>
                <a:lnTo>
                  <a:pt x="10070" y="1950"/>
                </a:lnTo>
                <a:lnTo>
                  <a:pt x="10072" y="1950"/>
                </a:lnTo>
                <a:lnTo>
                  <a:pt x="10074" y="1950"/>
                </a:lnTo>
                <a:lnTo>
                  <a:pt x="10076" y="1950"/>
                </a:lnTo>
                <a:lnTo>
                  <a:pt x="10078" y="1950"/>
                </a:lnTo>
                <a:lnTo>
                  <a:pt x="10080" y="1950"/>
                </a:lnTo>
                <a:lnTo>
                  <a:pt x="10082" y="1950"/>
                </a:lnTo>
                <a:lnTo>
                  <a:pt x="10084" y="1950"/>
                </a:lnTo>
                <a:lnTo>
                  <a:pt x="10086" y="1950"/>
                </a:lnTo>
                <a:lnTo>
                  <a:pt x="10088" y="1950"/>
                </a:lnTo>
                <a:lnTo>
                  <a:pt x="10090" y="1950"/>
                </a:lnTo>
                <a:lnTo>
                  <a:pt x="10092" y="1950"/>
                </a:lnTo>
                <a:lnTo>
                  <a:pt x="10094" y="1950"/>
                </a:lnTo>
                <a:lnTo>
                  <a:pt x="10096" y="1950"/>
                </a:lnTo>
                <a:lnTo>
                  <a:pt x="10098" y="1950"/>
                </a:lnTo>
                <a:lnTo>
                  <a:pt x="10100" y="1950"/>
                </a:lnTo>
                <a:lnTo>
                  <a:pt x="10102" y="1950"/>
                </a:lnTo>
                <a:lnTo>
                  <a:pt x="10104" y="1950"/>
                </a:lnTo>
                <a:lnTo>
                  <a:pt x="10106" y="1950"/>
                </a:lnTo>
                <a:lnTo>
                  <a:pt x="10108" y="1950"/>
                </a:lnTo>
                <a:lnTo>
                  <a:pt x="10110" y="1950"/>
                </a:lnTo>
                <a:lnTo>
                  <a:pt x="10112" y="1950"/>
                </a:lnTo>
                <a:lnTo>
                  <a:pt x="10114" y="1950"/>
                </a:lnTo>
                <a:lnTo>
                  <a:pt x="10116" y="1950"/>
                </a:lnTo>
                <a:lnTo>
                  <a:pt x="10118" y="1950"/>
                </a:lnTo>
                <a:lnTo>
                  <a:pt x="10120" y="1950"/>
                </a:lnTo>
                <a:lnTo>
                  <a:pt x="10122" y="1950"/>
                </a:lnTo>
                <a:lnTo>
                  <a:pt x="10124" y="1950"/>
                </a:lnTo>
                <a:lnTo>
                  <a:pt x="10126" y="1950"/>
                </a:lnTo>
                <a:lnTo>
                  <a:pt x="10128" y="1950"/>
                </a:lnTo>
                <a:lnTo>
                  <a:pt x="10130" y="1950"/>
                </a:lnTo>
                <a:lnTo>
                  <a:pt x="10132" y="1950"/>
                </a:lnTo>
                <a:lnTo>
                  <a:pt x="10134" y="1950"/>
                </a:lnTo>
                <a:lnTo>
                  <a:pt x="10136" y="1950"/>
                </a:lnTo>
                <a:lnTo>
                  <a:pt x="10138" y="195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5" name="Rectangle 39"/>
          <p:cNvSpPr/>
          <p:nvPr/>
        </p:nvSpPr>
        <p:spPr>
          <a:xfrm>
            <a:off x="762120" y="3970440"/>
            <a:ext cx="4842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S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26" name="Group 40"/>
          <p:cNvGrpSpPr/>
          <p:nvPr/>
        </p:nvGrpSpPr>
        <p:grpSpPr>
          <a:xfrm>
            <a:off x="1869480" y="2990880"/>
            <a:ext cx="3959280" cy="1647720"/>
            <a:chOff x="1869480" y="2990880"/>
            <a:chExt cx="3959280" cy="1647720"/>
          </a:xfrm>
        </p:grpSpPr>
        <p:sp>
          <p:nvSpPr>
            <p:cNvPr id="1427" name="Rectangle 41"/>
            <p:cNvSpPr/>
            <p:nvPr/>
          </p:nvSpPr>
          <p:spPr>
            <a:xfrm>
              <a:off x="1869480" y="2990880"/>
              <a:ext cx="40140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F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8" name="Rectangle 42"/>
            <p:cNvSpPr/>
            <p:nvPr/>
          </p:nvSpPr>
          <p:spPr>
            <a:xfrm>
              <a:off x="3507480" y="375120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3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Rectangle 43"/>
            <p:cNvSpPr/>
            <p:nvPr/>
          </p:nvSpPr>
          <p:spPr>
            <a:xfrm>
              <a:off x="5131800" y="3664080"/>
              <a:ext cx="6969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S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Rectangle 44"/>
            <p:cNvSpPr/>
            <p:nvPr/>
          </p:nvSpPr>
          <p:spPr>
            <a:xfrm>
              <a:off x="2186640" y="363708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Cl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Rectangle 45"/>
            <p:cNvSpPr/>
            <p:nvPr/>
          </p:nvSpPr>
          <p:spPr>
            <a:xfrm>
              <a:off x="2486880" y="3165480"/>
              <a:ext cx="61776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N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2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Rectangle 46"/>
            <p:cNvSpPr/>
            <p:nvPr/>
          </p:nvSpPr>
          <p:spPr>
            <a:xfrm>
              <a:off x="3178800" y="4199040"/>
              <a:ext cx="538560" cy="33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Br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Rectangle 47"/>
            <p:cNvSpPr/>
            <p:nvPr/>
          </p:nvSpPr>
          <p:spPr>
            <a:xfrm>
              <a:off x="4258080" y="4265640"/>
              <a:ext cx="834120" cy="37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Gothic"/>
                  <a:ea typeface="MS Gothic"/>
                </a:rPr>
                <a:t>HPO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MS Gothic"/>
                  <a:ea typeface="MS 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Gothic"/>
                  <a:ea typeface="MS Gothic"/>
                </a:rPr>
                <a:t>2-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34" name="Rectangle 4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2" dur="500"/>
                                        <p:tgtEl>
                                          <p:spTgt spid="1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Rectangle 2"/>
          <p:cNvSpPr/>
          <p:nvPr/>
        </p:nvSpPr>
        <p:spPr>
          <a:xfrm>
            <a:off x="406440" y="228600"/>
            <a:ext cx="8629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3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ample of cation measuremen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6" name="Rectangle 46"/>
          <p:cNvSpPr/>
          <p:nvPr/>
        </p:nvSpPr>
        <p:spPr>
          <a:xfrm>
            <a:off x="1015920" y="21718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7" name="Rectangle 47"/>
          <p:cNvSpPr/>
          <p:nvPr/>
        </p:nvSpPr>
        <p:spPr>
          <a:xfrm>
            <a:off x="5292720" y="1827360"/>
            <a:ext cx="3454560" cy="227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onPac CS12A, CG12A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    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20 mM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Methanesulfonic acid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Flow rate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1.0 mL/mi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: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onductivit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</a:t>
            </a:r>
            <a:r>
              <a:rPr b="0" lang="ja-JP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CSRS </a:t>
            </a: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Recycle mode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71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8" name="Line 48"/>
          <p:cNvSpPr/>
          <p:nvPr/>
        </p:nvSpPr>
        <p:spPr>
          <a:xfrm>
            <a:off x="1422360" y="5813280"/>
            <a:ext cx="48387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9" name="Line 49"/>
          <p:cNvSpPr/>
          <p:nvPr/>
        </p:nvSpPr>
        <p:spPr>
          <a:xfrm>
            <a:off x="142236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0" name="Line 50"/>
          <p:cNvSpPr/>
          <p:nvPr/>
        </p:nvSpPr>
        <p:spPr>
          <a:xfrm>
            <a:off x="20653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1" name="Line 51"/>
          <p:cNvSpPr/>
          <p:nvPr/>
        </p:nvSpPr>
        <p:spPr>
          <a:xfrm>
            <a:off x="27115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2" name="Line 52"/>
          <p:cNvSpPr/>
          <p:nvPr/>
        </p:nvSpPr>
        <p:spPr>
          <a:xfrm>
            <a:off x="3357720" y="5751360"/>
            <a:ext cx="288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3" name="Line 53"/>
          <p:cNvSpPr/>
          <p:nvPr/>
        </p:nvSpPr>
        <p:spPr>
          <a:xfrm>
            <a:off x="4002120" y="5751360"/>
            <a:ext cx="32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4" name="Line 54"/>
          <p:cNvSpPr/>
          <p:nvPr/>
        </p:nvSpPr>
        <p:spPr>
          <a:xfrm>
            <a:off x="4646520" y="5751360"/>
            <a:ext cx="180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5" name="Line 55"/>
          <p:cNvSpPr/>
          <p:nvPr/>
        </p:nvSpPr>
        <p:spPr>
          <a:xfrm>
            <a:off x="52927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Line 56"/>
          <p:cNvSpPr/>
          <p:nvPr/>
        </p:nvSpPr>
        <p:spPr>
          <a:xfrm>
            <a:off x="5938920" y="5751360"/>
            <a:ext cx="1440" cy="138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Rectangle 57"/>
          <p:cNvSpPr/>
          <p:nvPr/>
        </p:nvSpPr>
        <p:spPr>
          <a:xfrm>
            <a:off x="130752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8" name="Rectangle 58"/>
          <p:cNvSpPr/>
          <p:nvPr/>
        </p:nvSpPr>
        <p:spPr>
          <a:xfrm>
            <a:off x="19980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Rectangle 59"/>
          <p:cNvSpPr/>
          <p:nvPr/>
        </p:nvSpPr>
        <p:spPr>
          <a:xfrm>
            <a:off x="26442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60"/>
          <p:cNvSpPr/>
          <p:nvPr/>
        </p:nvSpPr>
        <p:spPr>
          <a:xfrm>
            <a:off x="329004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6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61"/>
          <p:cNvSpPr/>
          <p:nvPr/>
        </p:nvSpPr>
        <p:spPr>
          <a:xfrm>
            <a:off x="3934800" y="58960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8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Rectangle 62"/>
          <p:cNvSpPr/>
          <p:nvPr/>
        </p:nvSpPr>
        <p:spPr>
          <a:xfrm>
            <a:off x="45075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Rectangle 63"/>
          <p:cNvSpPr/>
          <p:nvPr/>
        </p:nvSpPr>
        <p:spPr>
          <a:xfrm>
            <a:off x="51519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Rectangle 64"/>
          <p:cNvSpPr/>
          <p:nvPr/>
        </p:nvSpPr>
        <p:spPr>
          <a:xfrm>
            <a:off x="5798160" y="5896080"/>
            <a:ext cx="262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Rectangle 65"/>
          <p:cNvSpPr/>
          <p:nvPr/>
        </p:nvSpPr>
        <p:spPr>
          <a:xfrm>
            <a:off x="2838960" y="6178680"/>
            <a:ext cx="220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Retention time (min)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66"/>
          <p:cNvSpPr/>
          <p:nvPr/>
        </p:nvSpPr>
        <p:spPr>
          <a:xfrm flipV="1">
            <a:off x="1422360" y="2435040"/>
            <a:ext cx="1800" cy="3377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Line 67"/>
          <p:cNvSpPr/>
          <p:nvPr/>
        </p:nvSpPr>
        <p:spPr>
          <a:xfrm>
            <a:off x="1390680" y="5773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Line 68"/>
          <p:cNvSpPr/>
          <p:nvPr/>
        </p:nvSpPr>
        <p:spPr>
          <a:xfrm>
            <a:off x="1390680" y="5430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Line 69"/>
          <p:cNvSpPr/>
          <p:nvPr/>
        </p:nvSpPr>
        <p:spPr>
          <a:xfrm>
            <a:off x="1390680" y="5089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Line 70"/>
          <p:cNvSpPr/>
          <p:nvPr/>
        </p:nvSpPr>
        <p:spPr>
          <a:xfrm>
            <a:off x="1390680" y="474660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Line 71"/>
          <p:cNvSpPr/>
          <p:nvPr/>
        </p:nvSpPr>
        <p:spPr>
          <a:xfrm>
            <a:off x="1390680" y="440532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2" name="Line 72"/>
          <p:cNvSpPr/>
          <p:nvPr/>
        </p:nvSpPr>
        <p:spPr>
          <a:xfrm>
            <a:off x="1390680" y="406224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3" name="Line 73"/>
          <p:cNvSpPr/>
          <p:nvPr/>
        </p:nvSpPr>
        <p:spPr>
          <a:xfrm>
            <a:off x="1390680" y="372096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4" name="Line 74"/>
          <p:cNvSpPr/>
          <p:nvPr/>
        </p:nvSpPr>
        <p:spPr>
          <a:xfrm>
            <a:off x="1390680" y="3379680"/>
            <a:ext cx="684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5" name="Line 75"/>
          <p:cNvSpPr/>
          <p:nvPr/>
        </p:nvSpPr>
        <p:spPr>
          <a:xfrm>
            <a:off x="1390680" y="303696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6" name="Line 76"/>
          <p:cNvSpPr/>
          <p:nvPr/>
        </p:nvSpPr>
        <p:spPr>
          <a:xfrm>
            <a:off x="1390680" y="2695680"/>
            <a:ext cx="684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7" name="Rectangle 77"/>
          <p:cNvSpPr/>
          <p:nvPr/>
        </p:nvSpPr>
        <p:spPr>
          <a:xfrm>
            <a:off x="1166040" y="53103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0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78"/>
          <p:cNvSpPr/>
          <p:nvPr/>
        </p:nvSpPr>
        <p:spPr>
          <a:xfrm>
            <a:off x="1152000" y="462276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1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Rectangle 79"/>
          <p:cNvSpPr/>
          <p:nvPr/>
        </p:nvSpPr>
        <p:spPr>
          <a:xfrm>
            <a:off x="1152000" y="393552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Rectangle 80"/>
          <p:cNvSpPr/>
          <p:nvPr/>
        </p:nvSpPr>
        <p:spPr>
          <a:xfrm>
            <a:off x="1152000" y="32464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3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Rectangle 81"/>
          <p:cNvSpPr/>
          <p:nvPr/>
        </p:nvSpPr>
        <p:spPr>
          <a:xfrm>
            <a:off x="1152000" y="2558880"/>
            <a:ext cx="13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S PGothic"/>
                <a:ea typeface="MS PGothic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Freeform 82"/>
          <p:cNvSpPr/>
          <p:nvPr/>
        </p:nvSpPr>
        <p:spPr>
          <a:xfrm>
            <a:off x="1422360" y="2975040"/>
            <a:ext cx="4838760" cy="2701800"/>
          </a:xfrm>
          <a:custGeom>
            <a:avLst/>
            <a:gdLst>
              <a:gd name="textAreaLeft" fmla="*/ 0 w 4838760"/>
              <a:gd name="textAreaRight" fmla="*/ 4838760 w 4838760"/>
              <a:gd name="textAreaTop" fmla="*/ 0 h 2701800"/>
              <a:gd name="textAreaBottom" fmla="*/ 2702160 h 2701800"/>
            </a:gdLst>
            <a:ahLst/>
            <a:rect l="textAreaLeft" t="textAreaTop" r="textAreaRight" b="textAreaBottom"/>
            <a:pathLst>
              <a:path w="10137" h="2844">
                <a:moveTo>
                  <a:pt x="0" y="2582"/>
                </a:moveTo>
                <a:lnTo>
                  <a:pt x="2" y="2582"/>
                </a:lnTo>
                <a:lnTo>
                  <a:pt x="4" y="2582"/>
                </a:lnTo>
                <a:lnTo>
                  <a:pt x="6" y="2581"/>
                </a:lnTo>
                <a:lnTo>
                  <a:pt x="9" y="2581"/>
                </a:lnTo>
                <a:lnTo>
                  <a:pt x="11" y="2581"/>
                </a:lnTo>
                <a:lnTo>
                  <a:pt x="13" y="2581"/>
                </a:lnTo>
                <a:lnTo>
                  <a:pt x="15" y="2581"/>
                </a:lnTo>
                <a:lnTo>
                  <a:pt x="18" y="2581"/>
                </a:lnTo>
                <a:lnTo>
                  <a:pt x="20" y="2581"/>
                </a:lnTo>
                <a:lnTo>
                  <a:pt x="22" y="2581"/>
                </a:lnTo>
                <a:lnTo>
                  <a:pt x="24" y="2581"/>
                </a:lnTo>
                <a:lnTo>
                  <a:pt x="27" y="2581"/>
                </a:lnTo>
                <a:lnTo>
                  <a:pt x="29" y="2581"/>
                </a:lnTo>
                <a:lnTo>
                  <a:pt x="31" y="2581"/>
                </a:lnTo>
                <a:lnTo>
                  <a:pt x="33" y="2582"/>
                </a:lnTo>
                <a:lnTo>
                  <a:pt x="36" y="2582"/>
                </a:lnTo>
                <a:lnTo>
                  <a:pt x="38" y="2582"/>
                </a:lnTo>
                <a:lnTo>
                  <a:pt x="40" y="2582"/>
                </a:lnTo>
                <a:lnTo>
                  <a:pt x="42" y="2582"/>
                </a:lnTo>
                <a:lnTo>
                  <a:pt x="45" y="2582"/>
                </a:lnTo>
                <a:lnTo>
                  <a:pt x="47" y="2582"/>
                </a:lnTo>
                <a:lnTo>
                  <a:pt x="49" y="2582"/>
                </a:lnTo>
                <a:lnTo>
                  <a:pt x="51" y="2581"/>
                </a:lnTo>
                <a:lnTo>
                  <a:pt x="54" y="2581"/>
                </a:lnTo>
                <a:lnTo>
                  <a:pt x="56" y="2581"/>
                </a:lnTo>
                <a:lnTo>
                  <a:pt x="58" y="2581"/>
                </a:lnTo>
                <a:lnTo>
                  <a:pt x="60" y="2581"/>
                </a:lnTo>
                <a:lnTo>
                  <a:pt x="63" y="2581"/>
                </a:lnTo>
                <a:lnTo>
                  <a:pt x="65" y="2581"/>
                </a:lnTo>
                <a:lnTo>
                  <a:pt x="67" y="2582"/>
                </a:lnTo>
                <a:lnTo>
                  <a:pt x="69" y="2581"/>
                </a:lnTo>
                <a:lnTo>
                  <a:pt x="72" y="2582"/>
                </a:lnTo>
                <a:lnTo>
                  <a:pt x="74" y="2582"/>
                </a:lnTo>
                <a:lnTo>
                  <a:pt x="76" y="2582"/>
                </a:lnTo>
                <a:lnTo>
                  <a:pt x="78" y="2581"/>
                </a:lnTo>
                <a:lnTo>
                  <a:pt x="81" y="2581"/>
                </a:lnTo>
                <a:lnTo>
                  <a:pt x="83" y="2581"/>
                </a:lnTo>
                <a:lnTo>
                  <a:pt x="85" y="2581"/>
                </a:lnTo>
                <a:lnTo>
                  <a:pt x="87" y="2581"/>
                </a:lnTo>
                <a:lnTo>
                  <a:pt x="90" y="2581"/>
                </a:lnTo>
                <a:lnTo>
                  <a:pt x="92" y="2582"/>
                </a:lnTo>
                <a:lnTo>
                  <a:pt x="94" y="2582"/>
                </a:lnTo>
                <a:lnTo>
                  <a:pt x="96" y="2582"/>
                </a:lnTo>
                <a:lnTo>
                  <a:pt x="99" y="2582"/>
                </a:lnTo>
                <a:lnTo>
                  <a:pt x="101" y="2582"/>
                </a:lnTo>
                <a:lnTo>
                  <a:pt x="103" y="2582"/>
                </a:lnTo>
                <a:lnTo>
                  <a:pt x="105" y="2582"/>
                </a:lnTo>
                <a:lnTo>
                  <a:pt x="108" y="2582"/>
                </a:lnTo>
                <a:lnTo>
                  <a:pt x="110" y="2582"/>
                </a:lnTo>
                <a:lnTo>
                  <a:pt x="112" y="2582"/>
                </a:lnTo>
                <a:lnTo>
                  <a:pt x="114" y="2582"/>
                </a:lnTo>
                <a:lnTo>
                  <a:pt x="117" y="2582"/>
                </a:lnTo>
                <a:lnTo>
                  <a:pt x="119" y="2582"/>
                </a:lnTo>
                <a:lnTo>
                  <a:pt x="121" y="2582"/>
                </a:lnTo>
                <a:lnTo>
                  <a:pt x="123" y="2582"/>
                </a:lnTo>
                <a:lnTo>
                  <a:pt x="126" y="2582"/>
                </a:lnTo>
                <a:lnTo>
                  <a:pt x="128" y="2582"/>
                </a:lnTo>
                <a:lnTo>
                  <a:pt x="130" y="2582"/>
                </a:lnTo>
                <a:lnTo>
                  <a:pt x="132" y="2583"/>
                </a:lnTo>
                <a:lnTo>
                  <a:pt x="135" y="2583"/>
                </a:lnTo>
                <a:lnTo>
                  <a:pt x="137" y="2583"/>
                </a:lnTo>
                <a:lnTo>
                  <a:pt x="139" y="2583"/>
                </a:lnTo>
                <a:lnTo>
                  <a:pt x="141" y="2583"/>
                </a:lnTo>
                <a:lnTo>
                  <a:pt x="144" y="2583"/>
                </a:lnTo>
                <a:lnTo>
                  <a:pt x="146" y="2583"/>
                </a:lnTo>
                <a:lnTo>
                  <a:pt x="148" y="2583"/>
                </a:lnTo>
                <a:lnTo>
                  <a:pt x="150" y="2583"/>
                </a:lnTo>
                <a:lnTo>
                  <a:pt x="153" y="2583"/>
                </a:lnTo>
                <a:lnTo>
                  <a:pt x="155" y="2583"/>
                </a:lnTo>
                <a:lnTo>
                  <a:pt x="157" y="2583"/>
                </a:lnTo>
                <a:lnTo>
                  <a:pt x="159" y="2583"/>
                </a:lnTo>
                <a:lnTo>
                  <a:pt x="162" y="2583"/>
                </a:lnTo>
                <a:lnTo>
                  <a:pt x="164" y="2583"/>
                </a:lnTo>
                <a:lnTo>
                  <a:pt x="166" y="2583"/>
                </a:lnTo>
                <a:lnTo>
                  <a:pt x="169" y="2583"/>
                </a:lnTo>
                <a:lnTo>
                  <a:pt x="171" y="2583"/>
                </a:lnTo>
                <a:lnTo>
                  <a:pt x="173" y="2583"/>
                </a:lnTo>
                <a:lnTo>
                  <a:pt x="175" y="2583"/>
                </a:lnTo>
                <a:lnTo>
                  <a:pt x="178" y="2583"/>
                </a:lnTo>
                <a:lnTo>
                  <a:pt x="180" y="2583"/>
                </a:lnTo>
                <a:lnTo>
                  <a:pt x="182" y="2583"/>
                </a:lnTo>
                <a:lnTo>
                  <a:pt x="184" y="2583"/>
                </a:lnTo>
                <a:lnTo>
                  <a:pt x="187" y="2582"/>
                </a:lnTo>
                <a:lnTo>
                  <a:pt x="189" y="2582"/>
                </a:lnTo>
                <a:lnTo>
                  <a:pt x="191" y="2582"/>
                </a:lnTo>
                <a:lnTo>
                  <a:pt x="193" y="2582"/>
                </a:lnTo>
                <a:lnTo>
                  <a:pt x="196" y="2583"/>
                </a:lnTo>
                <a:lnTo>
                  <a:pt x="198" y="2583"/>
                </a:lnTo>
                <a:lnTo>
                  <a:pt x="200" y="2583"/>
                </a:lnTo>
                <a:lnTo>
                  <a:pt x="202" y="2583"/>
                </a:lnTo>
                <a:lnTo>
                  <a:pt x="205" y="2583"/>
                </a:lnTo>
                <a:lnTo>
                  <a:pt x="207" y="2583"/>
                </a:lnTo>
                <a:lnTo>
                  <a:pt x="209" y="2583"/>
                </a:lnTo>
                <a:lnTo>
                  <a:pt x="211" y="2583"/>
                </a:lnTo>
                <a:lnTo>
                  <a:pt x="214" y="2583"/>
                </a:lnTo>
                <a:lnTo>
                  <a:pt x="216" y="2583"/>
                </a:lnTo>
                <a:lnTo>
                  <a:pt x="218" y="2583"/>
                </a:lnTo>
                <a:lnTo>
                  <a:pt x="220" y="2583"/>
                </a:lnTo>
                <a:lnTo>
                  <a:pt x="223" y="2583"/>
                </a:lnTo>
                <a:lnTo>
                  <a:pt x="225" y="2583"/>
                </a:lnTo>
                <a:lnTo>
                  <a:pt x="227" y="2583"/>
                </a:lnTo>
                <a:lnTo>
                  <a:pt x="229" y="2583"/>
                </a:lnTo>
                <a:lnTo>
                  <a:pt x="232" y="2583"/>
                </a:lnTo>
                <a:lnTo>
                  <a:pt x="234" y="2584"/>
                </a:lnTo>
                <a:lnTo>
                  <a:pt x="236" y="2584"/>
                </a:lnTo>
                <a:lnTo>
                  <a:pt x="238" y="2584"/>
                </a:lnTo>
                <a:lnTo>
                  <a:pt x="241" y="2584"/>
                </a:lnTo>
                <a:lnTo>
                  <a:pt x="243" y="2584"/>
                </a:lnTo>
                <a:lnTo>
                  <a:pt x="245" y="2584"/>
                </a:lnTo>
                <a:lnTo>
                  <a:pt x="247" y="2584"/>
                </a:lnTo>
                <a:lnTo>
                  <a:pt x="250" y="2584"/>
                </a:lnTo>
                <a:lnTo>
                  <a:pt x="252" y="2584"/>
                </a:lnTo>
                <a:lnTo>
                  <a:pt x="254" y="2584"/>
                </a:lnTo>
                <a:lnTo>
                  <a:pt x="256" y="2584"/>
                </a:lnTo>
                <a:lnTo>
                  <a:pt x="259" y="2584"/>
                </a:lnTo>
                <a:lnTo>
                  <a:pt x="261" y="2584"/>
                </a:lnTo>
                <a:lnTo>
                  <a:pt x="263" y="2584"/>
                </a:lnTo>
                <a:lnTo>
                  <a:pt x="265" y="2584"/>
                </a:lnTo>
                <a:lnTo>
                  <a:pt x="268" y="2584"/>
                </a:lnTo>
                <a:lnTo>
                  <a:pt x="270" y="2584"/>
                </a:lnTo>
                <a:lnTo>
                  <a:pt x="272" y="2584"/>
                </a:lnTo>
                <a:lnTo>
                  <a:pt x="274" y="2584"/>
                </a:lnTo>
                <a:lnTo>
                  <a:pt x="277" y="2584"/>
                </a:lnTo>
                <a:lnTo>
                  <a:pt x="279" y="2584"/>
                </a:lnTo>
                <a:lnTo>
                  <a:pt x="281" y="2584"/>
                </a:lnTo>
                <a:lnTo>
                  <a:pt x="283" y="2584"/>
                </a:lnTo>
                <a:lnTo>
                  <a:pt x="286" y="2584"/>
                </a:lnTo>
                <a:lnTo>
                  <a:pt x="288" y="2584"/>
                </a:lnTo>
                <a:lnTo>
                  <a:pt x="290" y="2584"/>
                </a:lnTo>
                <a:lnTo>
                  <a:pt x="292" y="2584"/>
                </a:lnTo>
                <a:lnTo>
                  <a:pt x="295" y="2584"/>
                </a:lnTo>
                <a:lnTo>
                  <a:pt x="297" y="2584"/>
                </a:lnTo>
                <a:lnTo>
                  <a:pt x="299" y="2584"/>
                </a:lnTo>
                <a:lnTo>
                  <a:pt x="301" y="2585"/>
                </a:lnTo>
                <a:lnTo>
                  <a:pt x="304" y="2585"/>
                </a:lnTo>
                <a:lnTo>
                  <a:pt x="306" y="2585"/>
                </a:lnTo>
                <a:lnTo>
                  <a:pt x="308" y="2584"/>
                </a:lnTo>
                <a:lnTo>
                  <a:pt x="310" y="2585"/>
                </a:lnTo>
                <a:lnTo>
                  <a:pt x="313" y="2585"/>
                </a:lnTo>
                <a:lnTo>
                  <a:pt x="315" y="2584"/>
                </a:lnTo>
                <a:lnTo>
                  <a:pt x="317" y="2584"/>
                </a:lnTo>
                <a:lnTo>
                  <a:pt x="319" y="2584"/>
                </a:lnTo>
                <a:lnTo>
                  <a:pt x="322" y="2584"/>
                </a:lnTo>
                <a:lnTo>
                  <a:pt x="324" y="2584"/>
                </a:lnTo>
                <a:lnTo>
                  <a:pt x="326" y="2584"/>
                </a:lnTo>
                <a:lnTo>
                  <a:pt x="328" y="2584"/>
                </a:lnTo>
                <a:lnTo>
                  <a:pt x="331" y="2584"/>
                </a:lnTo>
                <a:lnTo>
                  <a:pt x="333" y="2584"/>
                </a:lnTo>
                <a:lnTo>
                  <a:pt x="335" y="2584"/>
                </a:lnTo>
                <a:lnTo>
                  <a:pt x="338" y="2584"/>
                </a:lnTo>
                <a:lnTo>
                  <a:pt x="340" y="2584"/>
                </a:lnTo>
                <a:lnTo>
                  <a:pt x="342" y="2584"/>
                </a:lnTo>
                <a:lnTo>
                  <a:pt x="344" y="2584"/>
                </a:lnTo>
                <a:lnTo>
                  <a:pt x="347" y="2584"/>
                </a:lnTo>
                <a:lnTo>
                  <a:pt x="349" y="2584"/>
                </a:lnTo>
                <a:lnTo>
                  <a:pt x="351" y="2584"/>
                </a:lnTo>
                <a:lnTo>
                  <a:pt x="353" y="2584"/>
                </a:lnTo>
                <a:lnTo>
                  <a:pt x="356" y="2584"/>
                </a:lnTo>
                <a:lnTo>
                  <a:pt x="358" y="2584"/>
                </a:lnTo>
                <a:lnTo>
                  <a:pt x="360" y="2584"/>
                </a:lnTo>
                <a:lnTo>
                  <a:pt x="362" y="2584"/>
                </a:lnTo>
                <a:lnTo>
                  <a:pt x="365" y="2584"/>
                </a:lnTo>
                <a:lnTo>
                  <a:pt x="367" y="2584"/>
                </a:lnTo>
                <a:lnTo>
                  <a:pt x="369" y="2584"/>
                </a:lnTo>
                <a:lnTo>
                  <a:pt x="371" y="2584"/>
                </a:lnTo>
                <a:lnTo>
                  <a:pt x="374" y="2584"/>
                </a:lnTo>
                <a:lnTo>
                  <a:pt x="376" y="2584"/>
                </a:lnTo>
                <a:lnTo>
                  <a:pt x="378" y="2584"/>
                </a:lnTo>
                <a:lnTo>
                  <a:pt x="380" y="2584"/>
                </a:lnTo>
                <a:lnTo>
                  <a:pt x="383" y="2584"/>
                </a:lnTo>
                <a:lnTo>
                  <a:pt x="385" y="2584"/>
                </a:lnTo>
                <a:lnTo>
                  <a:pt x="387" y="2584"/>
                </a:lnTo>
                <a:lnTo>
                  <a:pt x="389" y="2584"/>
                </a:lnTo>
                <a:lnTo>
                  <a:pt x="392" y="2584"/>
                </a:lnTo>
                <a:lnTo>
                  <a:pt x="394" y="2584"/>
                </a:lnTo>
                <a:lnTo>
                  <a:pt x="396" y="2584"/>
                </a:lnTo>
                <a:lnTo>
                  <a:pt x="398" y="2584"/>
                </a:lnTo>
                <a:lnTo>
                  <a:pt x="401" y="2584"/>
                </a:lnTo>
                <a:lnTo>
                  <a:pt x="403" y="2584"/>
                </a:lnTo>
                <a:lnTo>
                  <a:pt x="405" y="2584"/>
                </a:lnTo>
                <a:lnTo>
                  <a:pt x="407" y="2584"/>
                </a:lnTo>
                <a:lnTo>
                  <a:pt x="410" y="2584"/>
                </a:lnTo>
                <a:lnTo>
                  <a:pt x="412" y="2584"/>
                </a:lnTo>
                <a:lnTo>
                  <a:pt x="414" y="2584"/>
                </a:lnTo>
                <a:lnTo>
                  <a:pt x="416" y="2584"/>
                </a:lnTo>
                <a:lnTo>
                  <a:pt x="419" y="2584"/>
                </a:lnTo>
                <a:lnTo>
                  <a:pt x="421" y="2584"/>
                </a:lnTo>
                <a:lnTo>
                  <a:pt x="423" y="2584"/>
                </a:lnTo>
                <a:lnTo>
                  <a:pt x="425" y="2584"/>
                </a:lnTo>
                <a:lnTo>
                  <a:pt x="428" y="2583"/>
                </a:lnTo>
                <a:lnTo>
                  <a:pt x="430" y="2584"/>
                </a:lnTo>
                <a:lnTo>
                  <a:pt x="432" y="2584"/>
                </a:lnTo>
                <a:lnTo>
                  <a:pt x="434" y="2584"/>
                </a:lnTo>
                <a:lnTo>
                  <a:pt x="437" y="2584"/>
                </a:lnTo>
                <a:lnTo>
                  <a:pt x="439" y="2584"/>
                </a:lnTo>
                <a:lnTo>
                  <a:pt x="441" y="2584"/>
                </a:lnTo>
                <a:lnTo>
                  <a:pt x="443" y="2584"/>
                </a:lnTo>
                <a:lnTo>
                  <a:pt x="446" y="2584"/>
                </a:lnTo>
                <a:lnTo>
                  <a:pt x="448" y="2584"/>
                </a:lnTo>
                <a:lnTo>
                  <a:pt x="450" y="2584"/>
                </a:lnTo>
                <a:lnTo>
                  <a:pt x="452" y="2584"/>
                </a:lnTo>
                <a:lnTo>
                  <a:pt x="455" y="2583"/>
                </a:lnTo>
                <a:lnTo>
                  <a:pt x="457" y="2583"/>
                </a:lnTo>
                <a:lnTo>
                  <a:pt x="459" y="2583"/>
                </a:lnTo>
                <a:lnTo>
                  <a:pt x="461" y="2583"/>
                </a:lnTo>
                <a:lnTo>
                  <a:pt x="464" y="2583"/>
                </a:lnTo>
                <a:lnTo>
                  <a:pt x="466" y="2583"/>
                </a:lnTo>
                <a:lnTo>
                  <a:pt x="468" y="2584"/>
                </a:lnTo>
                <a:lnTo>
                  <a:pt x="470" y="2584"/>
                </a:lnTo>
                <a:lnTo>
                  <a:pt x="473" y="2584"/>
                </a:lnTo>
                <a:lnTo>
                  <a:pt x="475" y="2584"/>
                </a:lnTo>
                <a:lnTo>
                  <a:pt x="477" y="2584"/>
                </a:lnTo>
                <a:lnTo>
                  <a:pt x="479" y="2584"/>
                </a:lnTo>
                <a:lnTo>
                  <a:pt x="482" y="2584"/>
                </a:lnTo>
                <a:lnTo>
                  <a:pt x="484" y="2583"/>
                </a:lnTo>
                <a:lnTo>
                  <a:pt x="486" y="2583"/>
                </a:lnTo>
                <a:lnTo>
                  <a:pt x="488" y="2583"/>
                </a:lnTo>
                <a:lnTo>
                  <a:pt x="491" y="2583"/>
                </a:lnTo>
                <a:lnTo>
                  <a:pt x="493" y="2583"/>
                </a:lnTo>
                <a:lnTo>
                  <a:pt x="495" y="2583"/>
                </a:lnTo>
                <a:lnTo>
                  <a:pt x="497" y="2583"/>
                </a:lnTo>
                <a:lnTo>
                  <a:pt x="500" y="2583"/>
                </a:lnTo>
                <a:lnTo>
                  <a:pt x="502" y="2583"/>
                </a:lnTo>
                <a:lnTo>
                  <a:pt x="504" y="2583"/>
                </a:lnTo>
                <a:lnTo>
                  <a:pt x="507" y="2583"/>
                </a:lnTo>
                <a:lnTo>
                  <a:pt x="509" y="2583"/>
                </a:lnTo>
                <a:lnTo>
                  <a:pt x="511" y="2583"/>
                </a:lnTo>
                <a:lnTo>
                  <a:pt x="513" y="2583"/>
                </a:lnTo>
                <a:lnTo>
                  <a:pt x="516" y="2583"/>
                </a:lnTo>
                <a:lnTo>
                  <a:pt x="518" y="2583"/>
                </a:lnTo>
                <a:lnTo>
                  <a:pt x="520" y="2583"/>
                </a:lnTo>
                <a:lnTo>
                  <a:pt x="522" y="2583"/>
                </a:lnTo>
                <a:lnTo>
                  <a:pt x="525" y="2583"/>
                </a:lnTo>
                <a:lnTo>
                  <a:pt x="527" y="2583"/>
                </a:lnTo>
                <a:lnTo>
                  <a:pt x="529" y="2583"/>
                </a:lnTo>
                <a:lnTo>
                  <a:pt x="531" y="2583"/>
                </a:lnTo>
                <a:lnTo>
                  <a:pt x="534" y="2583"/>
                </a:lnTo>
                <a:lnTo>
                  <a:pt x="536" y="2583"/>
                </a:lnTo>
                <a:lnTo>
                  <a:pt x="538" y="2583"/>
                </a:lnTo>
                <a:lnTo>
                  <a:pt x="540" y="2583"/>
                </a:lnTo>
                <a:lnTo>
                  <a:pt x="543" y="2583"/>
                </a:lnTo>
                <a:lnTo>
                  <a:pt x="545" y="2583"/>
                </a:lnTo>
                <a:lnTo>
                  <a:pt x="547" y="2583"/>
                </a:lnTo>
                <a:lnTo>
                  <a:pt x="549" y="2583"/>
                </a:lnTo>
                <a:lnTo>
                  <a:pt x="552" y="2583"/>
                </a:lnTo>
                <a:lnTo>
                  <a:pt x="554" y="2583"/>
                </a:lnTo>
                <a:lnTo>
                  <a:pt x="556" y="2583"/>
                </a:lnTo>
                <a:lnTo>
                  <a:pt x="558" y="2583"/>
                </a:lnTo>
                <a:lnTo>
                  <a:pt x="561" y="2583"/>
                </a:lnTo>
                <a:lnTo>
                  <a:pt x="563" y="2583"/>
                </a:lnTo>
                <a:lnTo>
                  <a:pt x="565" y="2584"/>
                </a:lnTo>
                <a:lnTo>
                  <a:pt x="567" y="2584"/>
                </a:lnTo>
                <a:lnTo>
                  <a:pt x="570" y="2584"/>
                </a:lnTo>
                <a:lnTo>
                  <a:pt x="572" y="2584"/>
                </a:lnTo>
                <a:lnTo>
                  <a:pt x="574" y="2584"/>
                </a:lnTo>
                <a:lnTo>
                  <a:pt x="576" y="2583"/>
                </a:lnTo>
                <a:lnTo>
                  <a:pt x="579" y="2583"/>
                </a:lnTo>
                <a:lnTo>
                  <a:pt x="581" y="2583"/>
                </a:lnTo>
                <a:lnTo>
                  <a:pt x="583" y="2583"/>
                </a:lnTo>
                <a:lnTo>
                  <a:pt x="585" y="2583"/>
                </a:lnTo>
                <a:lnTo>
                  <a:pt x="588" y="2583"/>
                </a:lnTo>
                <a:lnTo>
                  <a:pt x="590" y="2583"/>
                </a:lnTo>
                <a:lnTo>
                  <a:pt x="592" y="2583"/>
                </a:lnTo>
                <a:lnTo>
                  <a:pt x="594" y="2584"/>
                </a:lnTo>
                <a:lnTo>
                  <a:pt x="597" y="2584"/>
                </a:lnTo>
                <a:lnTo>
                  <a:pt x="599" y="2584"/>
                </a:lnTo>
                <a:lnTo>
                  <a:pt x="601" y="2584"/>
                </a:lnTo>
                <a:lnTo>
                  <a:pt x="603" y="2584"/>
                </a:lnTo>
                <a:lnTo>
                  <a:pt x="606" y="2584"/>
                </a:lnTo>
                <a:lnTo>
                  <a:pt x="608" y="2584"/>
                </a:lnTo>
                <a:lnTo>
                  <a:pt x="610" y="2584"/>
                </a:lnTo>
                <a:lnTo>
                  <a:pt x="612" y="2583"/>
                </a:lnTo>
                <a:lnTo>
                  <a:pt x="615" y="2583"/>
                </a:lnTo>
                <a:lnTo>
                  <a:pt x="617" y="2583"/>
                </a:lnTo>
                <a:lnTo>
                  <a:pt x="619" y="2583"/>
                </a:lnTo>
                <a:lnTo>
                  <a:pt x="621" y="2583"/>
                </a:lnTo>
                <a:lnTo>
                  <a:pt x="624" y="2583"/>
                </a:lnTo>
                <a:lnTo>
                  <a:pt x="626" y="2583"/>
                </a:lnTo>
                <a:lnTo>
                  <a:pt x="628" y="2583"/>
                </a:lnTo>
                <a:lnTo>
                  <a:pt x="630" y="2584"/>
                </a:lnTo>
                <a:lnTo>
                  <a:pt x="633" y="2584"/>
                </a:lnTo>
                <a:lnTo>
                  <a:pt x="635" y="2584"/>
                </a:lnTo>
                <a:lnTo>
                  <a:pt x="637" y="2584"/>
                </a:lnTo>
                <a:lnTo>
                  <a:pt x="639" y="2584"/>
                </a:lnTo>
                <a:lnTo>
                  <a:pt x="642" y="2584"/>
                </a:lnTo>
                <a:lnTo>
                  <a:pt x="644" y="2584"/>
                </a:lnTo>
                <a:lnTo>
                  <a:pt x="646" y="2584"/>
                </a:lnTo>
                <a:lnTo>
                  <a:pt x="648" y="2583"/>
                </a:lnTo>
                <a:lnTo>
                  <a:pt x="651" y="2583"/>
                </a:lnTo>
                <a:lnTo>
                  <a:pt x="653" y="2583"/>
                </a:lnTo>
                <a:lnTo>
                  <a:pt x="655" y="2584"/>
                </a:lnTo>
                <a:lnTo>
                  <a:pt x="657" y="2584"/>
                </a:lnTo>
                <a:lnTo>
                  <a:pt x="660" y="2584"/>
                </a:lnTo>
                <a:lnTo>
                  <a:pt x="662" y="2584"/>
                </a:lnTo>
                <a:lnTo>
                  <a:pt x="664" y="2584"/>
                </a:lnTo>
                <a:lnTo>
                  <a:pt x="666" y="2584"/>
                </a:lnTo>
                <a:lnTo>
                  <a:pt x="669" y="2584"/>
                </a:lnTo>
                <a:lnTo>
                  <a:pt x="671" y="2585"/>
                </a:lnTo>
                <a:lnTo>
                  <a:pt x="673" y="2584"/>
                </a:lnTo>
                <a:lnTo>
                  <a:pt x="676" y="2584"/>
                </a:lnTo>
                <a:lnTo>
                  <a:pt x="678" y="2584"/>
                </a:lnTo>
                <a:lnTo>
                  <a:pt x="680" y="2584"/>
                </a:lnTo>
                <a:lnTo>
                  <a:pt x="682" y="2584"/>
                </a:lnTo>
                <a:lnTo>
                  <a:pt x="685" y="2584"/>
                </a:lnTo>
                <a:lnTo>
                  <a:pt x="687" y="2584"/>
                </a:lnTo>
                <a:lnTo>
                  <a:pt x="689" y="2584"/>
                </a:lnTo>
                <a:lnTo>
                  <a:pt x="691" y="2585"/>
                </a:lnTo>
                <a:lnTo>
                  <a:pt x="694" y="2585"/>
                </a:lnTo>
                <a:lnTo>
                  <a:pt x="696" y="2585"/>
                </a:lnTo>
                <a:lnTo>
                  <a:pt x="698" y="2585"/>
                </a:lnTo>
                <a:lnTo>
                  <a:pt x="700" y="2585"/>
                </a:lnTo>
                <a:lnTo>
                  <a:pt x="703" y="2585"/>
                </a:lnTo>
                <a:lnTo>
                  <a:pt x="705" y="2585"/>
                </a:lnTo>
                <a:lnTo>
                  <a:pt x="707" y="2585"/>
                </a:lnTo>
                <a:lnTo>
                  <a:pt x="709" y="2585"/>
                </a:lnTo>
                <a:lnTo>
                  <a:pt x="712" y="2586"/>
                </a:lnTo>
                <a:lnTo>
                  <a:pt x="714" y="2586"/>
                </a:lnTo>
                <a:lnTo>
                  <a:pt x="716" y="2585"/>
                </a:lnTo>
                <a:lnTo>
                  <a:pt x="718" y="2585"/>
                </a:lnTo>
                <a:lnTo>
                  <a:pt x="721" y="2585"/>
                </a:lnTo>
                <a:lnTo>
                  <a:pt x="723" y="2585"/>
                </a:lnTo>
                <a:lnTo>
                  <a:pt x="725" y="2585"/>
                </a:lnTo>
                <a:lnTo>
                  <a:pt x="727" y="2585"/>
                </a:lnTo>
                <a:lnTo>
                  <a:pt x="730" y="2586"/>
                </a:lnTo>
                <a:lnTo>
                  <a:pt x="732" y="2586"/>
                </a:lnTo>
                <a:lnTo>
                  <a:pt x="734" y="2586"/>
                </a:lnTo>
                <a:lnTo>
                  <a:pt x="736" y="2586"/>
                </a:lnTo>
                <a:lnTo>
                  <a:pt x="739" y="2586"/>
                </a:lnTo>
                <a:lnTo>
                  <a:pt x="741" y="2587"/>
                </a:lnTo>
                <a:lnTo>
                  <a:pt x="743" y="2587"/>
                </a:lnTo>
                <a:lnTo>
                  <a:pt x="745" y="2587"/>
                </a:lnTo>
                <a:lnTo>
                  <a:pt x="748" y="2587"/>
                </a:lnTo>
                <a:lnTo>
                  <a:pt x="750" y="2586"/>
                </a:lnTo>
                <a:lnTo>
                  <a:pt x="752" y="2587"/>
                </a:lnTo>
                <a:lnTo>
                  <a:pt x="754" y="2587"/>
                </a:lnTo>
                <a:lnTo>
                  <a:pt x="757" y="2586"/>
                </a:lnTo>
                <a:lnTo>
                  <a:pt x="759" y="2586"/>
                </a:lnTo>
                <a:lnTo>
                  <a:pt x="761" y="2586"/>
                </a:lnTo>
                <a:lnTo>
                  <a:pt x="763" y="2586"/>
                </a:lnTo>
                <a:lnTo>
                  <a:pt x="766" y="2586"/>
                </a:lnTo>
                <a:lnTo>
                  <a:pt x="768" y="2586"/>
                </a:lnTo>
                <a:lnTo>
                  <a:pt x="770" y="2587"/>
                </a:lnTo>
                <a:lnTo>
                  <a:pt x="772" y="2587"/>
                </a:lnTo>
                <a:lnTo>
                  <a:pt x="775" y="2587"/>
                </a:lnTo>
                <a:lnTo>
                  <a:pt x="777" y="2587"/>
                </a:lnTo>
                <a:lnTo>
                  <a:pt x="779" y="2587"/>
                </a:lnTo>
                <a:lnTo>
                  <a:pt x="781" y="2587"/>
                </a:lnTo>
                <a:lnTo>
                  <a:pt x="784" y="2587"/>
                </a:lnTo>
                <a:lnTo>
                  <a:pt x="786" y="2587"/>
                </a:lnTo>
                <a:lnTo>
                  <a:pt x="788" y="2587"/>
                </a:lnTo>
                <a:lnTo>
                  <a:pt x="790" y="2587"/>
                </a:lnTo>
                <a:lnTo>
                  <a:pt x="793" y="2587"/>
                </a:lnTo>
                <a:lnTo>
                  <a:pt x="795" y="2587"/>
                </a:lnTo>
                <a:lnTo>
                  <a:pt x="797" y="2587"/>
                </a:lnTo>
                <a:lnTo>
                  <a:pt x="799" y="2587"/>
                </a:lnTo>
                <a:lnTo>
                  <a:pt x="802" y="2587"/>
                </a:lnTo>
                <a:lnTo>
                  <a:pt x="804" y="2587"/>
                </a:lnTo>
                <a:lnTo>
                  <a:pt x="806" y="2587"/>
                </a:lnTo>
                <a:lnTo>
                  <a:pt x="808" y="2587"/>
                </a:lnTo>
                <a:lnTo>
                  <a:pt x="811" y="2587"/>
                </a:lnTo>
                <a:lnTo>
                  <a:pt x="813" y="2587"/>
                </a:lnTo>
                <a:lnTo>
                  <a:pt x="815" y="2587"/>
                </a:lnTo>
                <a:lnTo>
                  <a:pt x="817" y="2587"/>
                </a:lnTo>
                <a:lnTo>
                  <a:pt x="820" y="2587"/>
                </a:lnTo>
                <a:lnTo>
                  <a:pt x="822" y="2587"/>
                </a:lnTo>
                <a:lnTo>
                  <a:pt x="824" y="2587"/>
                </a:lnTo>
                <a:lnTo>
                  <a:pt x="826" y="2587"/>
                </a:lnTo>
                <a:lnTo>
                  <a:pt x="829" y="2587"/>
                </a:lnTo>
                <a:lnTo>
                  <a:pt x="831" y="2587"/>
                </a:lnTo>
                <a:lnTo>
                  <a:pt x="833" y="2587"/>
                </a:lnTo>
                <a:lnTo>
                  <a:pt x="835" y="2587"/>
                </a:lnTo>
                <a:lnTo>
                  <a:pt x="838" y="2587"/>
                </a:lnTo>
                <a:lnTo>
                  <a:pt x="840" y="2588"/>
                </a:lnTo>
                <a:lnTo>
                  <a:pt x="842" y="2588"/>
                </a:lnTo>
                <a:lnTo>
                  <a:pt x="845" y="2588"/>
                </a:lnTo>
                <a:lnTo>
                  <a:pt x="847" y="2588"/>
                </a:lnTo>
                <a:lnTo>
                  <a:pt x="849" y="2588"/>
                </a:lnTo>
                <a:lnTo>
                  <a:pt x="851" y="2588"/>
                </a:lnTo>
                <a:lnTo>
                  <a:pt x="854" y="2588"/>
                </a:lnTo>
                <a:lnTo>
                  <a:pt x="856" y="2588"/>
                </a:lnTo>
                <a:lnTo>
                  <a:pt x="858" y="2587"/>
                </a:lnTo>
                <a:lnTo>
                  <a:pt x="860" y="2587"/>
                </a:lnTo>
                <a:lnTo>
                  <a:pt x="863" y="2587"/>
                </a:lnTo>
                <a:lnTo>
                  <a:pt x="865" y="2587"/>
                </a:lnTo>
                <a:lnTo>
                  <a:pt x="867" y="2587"/>
                </a:lnTo>
                <a:lnTo>
                  <a:pt x="869" y="2587"/>
                </a:lnTo>
                <a:lnTo>
                  <a:pt x="872" y="2587"/>
                </a:lnTo>
                <a:lnTo>
                  <a:pt x="874" y="2588"/>
                </a:lnTo>
                <a:lnTo>
                  <a:pt x="876" y="2588"/>
                </a:lnTo>
                <a:lnTo>
                  <a:pt x="878" y="2588"/>
                </a:lnTo>
                <a:lnTo>
                  <a:pt x="881" y="2588"/>
                </a:lnTo>
                <a:lnTo>
                  <a:pt x="883" y="2588"/>
                </a:lnTo>
                <a:lnTo>
                  <a:pt x="885" y="2588"/>
                </a:lnTo>
                <a:lnTo>
                  <a:pt x="887" y="2588"/>
                </a:lnTo>
                <a:lnTo>
                  <a:pt x="890" y="2588"/>
                </a:lnTo>
                <a:lnTo>
                  <a:pt x="892" y="2587"/>
                </a:lnTo>
                <a:lnTo>
                  <a:pt x="894" y="2587"/>
                </a:lnTo>
                <a:lnTo>
                  <a:pt x="896" y="2587"/>
                </a:lnTo>
                <a:lnTo>
                  <a:pt x="899" y="2587"/>
                </a:lnTo>
                <a:lnTo>
                  <a:pt x="901" y="2587"/>
                </a:lnTo>
                <a:lnTo>
                  <a:pt x="903" y="2587"/>
                </a:lnTo>
                <a:lnTo>
                  <a:pt x="905" y="2587"/>
                </a:lnTo>
                <a:lnTo>
                  <a:pt x="908" y="2587"/>
                </a:lnTo>
                <a:lnTo>
                  <a:pt x="910" y="2587"/>
                </a:lnTo>
                <a:lnTo>
                  <a:pt x="912" y="2588"/>
                </a:lnTo>
                <a:lnTo>
                  <a:pt x="914" y="2588"/>
                </a:lnTo>
                <a:lnTo>
                  <a:pt x="917" y="2588"/>
                </a:lnTo>
                <a:lnTo>
                  <a:pt x="919" y="2588"/>
                </a:lnTo>
                <a:lnTo>
                  <a:pt x="921" y="2588"/>
                </a:lnTo>
                <a:lnTo>
                  <a:pt x="923" y="2587"/>
                </a:lnTo>
                <a:lnTo>
                  <a:pt x="926" y="2588"/>
                </a:lnTo>
                <a:lnTo>
                  <a:pt x="928" y="2588"/>
                </a:lnTo>
                <a:lnTo>
                  <a:pt x="930" y="2587"/>
                </a:lnTo>
                <a:lnTo>
                  <a:pt x="932" y="2587"/>
                </a:lnTo>
                <a:lnTo>
                  <a:pt x="935" y="2587"/>
                </a:lnTo>
                <a:lnTo>
                  <a:pt x="937" y="2587"/>
                </a:lnTo>
                <a:lnTo>
                  <a:pt x="939" y="2587"/>
                </a:lnTo>
                <a:lnTo>
                  <a:pt x="941" y="2587"/>
                </a:lnTo>
                <a:lnTo>
                  <a:pt x="944" y="2588"/>
                </a:lnTo>
                <a:lnTo>
                  <a:pt x="946" y="2588"/>
                </a:lnTo>
                <a:lnTo>
                  <a:pt x="948" y="2588"/>
                </a:lnTo>
                <a:lnTo>
                  <a:pt x="950" y="2588"/>
                </a:lnTo>
                <a:lnTo>
                  <a:pt x="953" y="2588"/>
                </a:lnTo>
                <a:lnTo>
                  <a:pt x="955" y="2588"/>
                </a:lnTo>
                <a:lnTo>
                  <a:pt x="957" y="2588"/>
                </a:lnTo>
                <a:lnTo>
                  <a:pt x="959" y="2588"/>
                </a:lnTo>
                <a:lnTo>
                  <a:pt x="962" y="2588"/>
                </a:lnTo>
                <a:lnTo>
                  <a:pt x="964" y="2588"/>
                </a:lnTo>
                <a:lnTo>
                  <a:pt x="966" y="2587"/>
                </a:lnTo>
                <a:lnTo>
                  <a:pt x="968" y="2587"/>
                </a:lnTo>
                <a:lnTo>
                  <a:pt x="971" y="2587"/>
                </a:lnTo>
                <a:lnTo>
                  <a:pt x="973" y="2587"/>
                </a:lnTo>
                <a:lnTo>
                  <a:pt x="975" y="2588"/>
                </a:lnTo>
                <a:lnTo>
                  <a:pt x="977" y="2588"/>
                </a:lnTo>
                <a:lnTo>
                  <a:pt x="980" y="2588"/>
                </a:lnTo>
                <a:lnTo>
                  <a:pt x="982" y="2588"/>
                </a:lnTo>
                <a:lnTo>
                  <a:pt x="984" y="2588"/>
                </a:lnTo>
                <a:lnTo>
                  <a:pt x="986" y="2588"/>
                </a:lnTo>
                <a:lnTo>
                  <a:pt x="989" y="2588"/>
                </a:lnTo>
                <a:lnTo>
                  <a:pt x="991" y="2588"/>
                </a:lnTo>
                <a:lnTo>
                  <a:pt x="993" y="2588"/>
                </a:lnTo>
                <a:lnTo>
                  <a:pt x="995" y="2587"/>
                </a:lnTo>
                <a:lnTo>
                  <a:pt x="998" y="2587"/>
                </a:lnTo>
                <a:lnTo>
                  <a:pt x="1000" y="2587"/>
                </a:lnTo>
                <a:lnTo>
                  <a:pt x="1002" y="2587"/>
                </a:lnTo>
                <a:lnTo>
                  <a:pt x="1004" y="2587"/>
                </a:lnTo>
                <a:lnTo>
                  <a:pt x="1007" y="2587"/>
                </a:lnTo>
                <a:lnTo>
                  <a:pt x="1009" y="2587"/>
                </a:lnTo>
                <a:lnTo>
                  <a:pt x="1011" y="2587"/>
                </a:lnTo>
                <a:lnTo>
                  <a:pt x="1014" y="2588"/>
                </a:lnTo>
                <a:lnTo>
                  <a:pt x="1016" y="2588"/>
                </a:lnTo>
                <a:lnTo>
                  <a:pt x="1018" y="2588"/>
                </a:lnTo>
                <a:lnTo>
                  <a:pt x="1020" y="2588"/>
                </a:lnTo>
                <a:lnTo>
                  <a:pt x="1023" y="2588"/>
                </a:lnTo>
                <a:lnTo>
                  <a:pt x="1025" y="2588"/>
                </a:lnTo>
                <a:lnTo>
                  <a:pt x="1027" y="2588"/>
                </a:lnTo>
                <a:lnTo>
                  <a:pt x="1029" y="2587"/>
                </a:lnTo>
                <a:lnTo>
                  <a:pt x="1032" y="2587"/>
                </a:lnTo>
                <a:lnTo>
                  <a:pt x="1034" y="2587"/>
                </a:lnTo>
                <a:lnTo>
                  <a:pt x="1036" y="2587"/>
                </a:lnTo>
                <a:lnTo>
                  <a:pt x="1038" y="2587"/>
                </a:lnTo>
                <a:lnTo>
                  <a:pt x="1041" y="2587"/>
                </a:lnTo>
                <a:lnTo>
                  <a:pt x="1043" y="2587"/>
                </a:lnTo>
                <a:lnTo>
                  <a:pt x="1045" y="2587"/>
                </a:lnTo>
                <a:lnTo>
                  <a:pt x="1047" y="2587"/>
                </a:lnTo>
                <a:lnTo>
                  <a:pt x="1050" y="2587"/>
                </a:lnTo>
                <a:lnTo>
                  <a:pt x="1052" y="2587"/>
                </a:lnTo>
                <a:lnTo>
                  <a:pt x="1054" y="2587"/>
                </a:lnTo>
                <a:lnTo>
                  <a:pt x="1056" y="2587"/>
                </a:lnTo>
                <a:lnTo>
                  <a:pt x="1059" y="2587"/>
                </a:lnTo>
                <a:lnTo>
                  <a:pt x="1061" y="2587"/>
                </a:lnTo>
                <a:lnTo>
                  <a:pt x="1063" y="2587"/>
                </a:lnTo>
                <a:lnTo>
                  <a:pt x="1065" y="2587"/>
                </a:lnTo>
                <a:lnTo>
                  <a:pt x="1068" y="2587"/>
                </a:lnTo>
                <a:lnTo>
                  <a:pt x="1070" y="2587"/>
                </a:lnTo>
                <a:lnTo>
                  <a:pt x="1072" y="2587"/>
                </a:lnTo>
                <a:lnTo>
                  <a:pt x="1074" y="2587"/>
                </a:lnTo>
                <a:lnTo>
                  <a:pt x="1077" y="2587"/>
                </a:lnTo>
                <a:lnTo>
                  <a:pt x="1079" y="2587"/>
                </a:lnTo>
                <a:lnTo>
                  <a:pt x="1081" y="2587"/>
                </a:lnTo>
                <a:lnTo>
                  <a:pt x="1083" y="2587"/>
                </a:lnTo>
                <a:lnTo>
                  <a:pt x="1086" y="2587"/>
                </a:lnTo>
                <a:lnTo>
                  <a:pt x="1088" y="2587"/>
                </a:lnTo>
                <a:lnTo>
                  <a:pt x="1090" y="2587"/>
                </a:lnTo>
                <a:lnTo>
                  <a:pt x="1092" y="2587"/>
                </a:lnTo>
                <a:lnTo>
                  <a:pt x="1095" y="2588"/>
                </a:lnTo>
                <a:lnTo>
                  <a:pt x="1097" y="2588"/>
                </a:lnTo>
                <a:lnTo>
                  <a:pt x="1099" y="2587"/>
                </a:lnTo>
                <a:lnTo>
                  <a:pt x="1101" y="2587"/>
                </a:lnTo>
                <a:lnTo>
                  <a:pt x="1104" y="2587"/>
                </a:lnTo>
                <a:lnTo>
                  <a:pt x="1106" y="2587"/>
                </a:lnTo>
                <a:lnTo>
                  <a:pt x="1108" y="2587"/>
                </a:lnTo>
                <a:lnTo>
                  <a:pt x="1110" y="2587"/>
                </a:lnTo>
                <a:lnTo>
                  <a:pt x="1113" y="2588"/>
                </a:lnTo>
                <a:lnTo>
                  <a:pt x="1115" y="2588"/>
                </a:lnTo>
                <a:lnTo>
                  <a:pt x="1117" y="2588"/>
                </a:lnTo>
                <a:lnTo>
                  <a:pt x="1119" y="2588"/>
                </a:lnTo>
                <a:lnTo>
                  <a:pt x="1122" y="2588"/>
                </a:lnTo>
                <a:lnTo>
                  <a:pt x="1124" y="2588"/>
                </a:lnTo>
                <a:lnTo>
                  <a:pt x="1126" y="2588"/>
                </a:lnTo>
                <a:lnTo>
                  <a:pt x="1128" y="2588"/>
                </a:lnTo>
                <a:lnTo>
                  <a:pt x="1131" y="2587"/>
                </a:lnTo>
                <a:lnTo>
                  <a:pt x="1133" y="2587"/>
                </a:lnTo>
                <a:lnTo>
                  <a:pt x="1135" y="2587"/>
                </a:lnTo>
                <a:lnTo>
                  <a:pt x="1137" y="2587"/>
                </a:lnTo>
                <a:lnTo>
                  <a:pt x="1140" y="2587"/>
                </a:lnTo>
                <a:lnTo>
                  <a:pt x="1142" y="2588"/>
                </a:lnTo>
                <a:lnTo>
                  <a:pt x="1144" y="2588"/>
                </a:lnTo>
                <a:lnTo>
                  <a:pt x="1146" y="2588"/>
                </a:lnTo>
                <a:lnTo>
                  <a:pt x="1149" y="2588"/>
                </a:lnTo>
                <a:lnTo>
                  <a:pt x="1151" y="2588"/>
                </a:lnTo>
                <a:lnTo>
                  <a:pt x="1153" y="2588"/>
                </a:lnTo>
                <a:lnTo>
                  <a:pt x="1155" y="2588"/>
                </a:lnTo>
                <a:lnTo>
                  <a:pt x="1158" y="2588"/>
                </a:lnTo>
                <a:lnTo>
                  <a:pt x="1160" y="2588"/>
                </a:lnTo>
                <a:lnTo>
                  <a:pt x="1162" y="2588"/>
                </a:lnTo>
                <a:lnTo>
                  <a:pt x="1164" y="2588"/>
                </a:lnTo>
                <a:lnTo>
                  <a:pt x="1167" y="2588"/>
                </a:lnTo>
                <a:lnTo>
                  <a:pt x="1169" y="2587"/>
                </a:lnTo>
                <a:lnTo>
                  <a:pt x="1171" y="2587"/>
                </a:lnTo>
                <a:lnTo>
                  <a:pt x="1173" y="2588"/>
                </a:lnTo>
                <a:lnTo>
                  <a:pt x="1176" y="2588"/>
                </a:lnTo>
                <a:lnTo>
                  <a:pt x="1178" y="2588"/>
                </a:lnTo>
                <a:lnTo>
                  <a:pt x="1180" y="2588"/>
                </a:lnTo>
                <a:lnTo>
                  <a:pt x="1183" y="2588"/>
                </a:lnTo>
                <a:lnTo>
                  <a:pt x="1185" y="2588"/>
                </a:lnTo>
                <a:lnTo>
                  <a:pt x="1187" y="2588"/>
                </a:lnTo>
                <a:lnTo>
                  <a:pt x="1189" y="2588"/>
                </a:lnTo>
                <a:lnTo>
                  <a:pt x="1192" y="2588"/>
                </a:lnTo>
                <a:lnTo>
                  <a:pt x="1194" y="2588"/>
                </a:lnTo>
                <a:lnTo>
                  <a:pt x="1196" y="2588"/>
                </a:lnTo>
                <a:lnTo>
                  <a:pt x="1198" y="2588"/>
                </a:lnTo>
                <a:lnTo>
                  <a:pt x="1201" y="2588"/>
                </a:lnTo>
                <a:lnTo>
                  <a:pt x="1203" y="2588"/>
                </a:lnTo>
                <a:lnTo>
                  <a:pt x="1205" y="2588"/>
                </a:lnTo>
                <a:lnTo>
                  <a:pt x="1207" y="2588"/>
                </a:lnTo>
                <a:lnTo>
                  <a:pt x="1210" y="2588"/>
                </a:lnTo>
                <a:lnTo>
                  <a:pt x="1212" y="2588"/>
                </a:lnTo>
                <a:lnTo>
                  <a:pt x="1214" y="2588"/>
                </a:lnTo>
                <a:lnTo>
                  <a:pt x="1216" y="2589"/>
                </a:lnTo>
                <a:lnTo>
                  <a:pt x="1219" y="2589"/>
                </a:lnTo>
                <a:lnTo>
                  <a:pt x="1221" y="2589"/>
                </a:lnTo>
                <a:lnTo>
                  <a:pt x="1223" y="2589"/>
                </a:lnTo>
                <a:lnTo>
                  <a:pt x="1225" y="2588"/>
                </a:lnTo>
                <a:lnTo>
                  <a:pt x="1228" y="2588"/>
                </a:lnTo>
                <a:lnTo>
                  <a:pt x="1230" y="2588"/>
                </a:lnTo>
                <a:lnTo>
                  <a:pt x="1232" y="2588"/>
                </a:lnTo>
                <a:lnTo>
                  <a:pt x="1234" y="2588"/>
                </a:lnTo>
                <a:lnTo>
                  <a:pt x="1237" y="2588"/>
                </a:lnTo>
                <a:lnTo>
                  <a:pt x="1239" y="2588"/>
                </a:lnTo>
                <a:lnTo>
                  <a:pt x="1241" y="2588"/>
                </a:lnTo>
                <a:lnTo>
                  <a:pt x="1243" y="2589"/>
                </a:lnTo>
                <a:lnTo>
                  <a:pt x="1246" y="2589"/>
                </a:lnTo>
                <a:lnTo>
                  <a:pt x="1248" y="2589"/>
                </a:lnTo>
                <a:lnTo>
                  <a:pt x="1250" y="2589"/>
                </a:lnTo>
                <a:lnTo>
                  <a:pt x="1252" y="2589"/>
                </a:lnTo>
                <a:lnTo>
                  <a:pt x="1255" y="2589"/>
                </a:lnTo>
                <a:lnTo>
                  <a:pt x="1257" y="2589"/>
                </a:lnTo>
                <a:lnTo>
                  <a:pt x="1259" y="2589"/>
                </a:lnTo>
                <a:lnTo>
                  <a:pt x="1261" y="2589"/>
                </a:lnTo>
                <a:lnTo>
                  <a:pt x="1264" y="2589"/>
                </a:lnTo>
                <a:lnTo>
                  <a:pt x="1266" y="2589"/>
                </a:lnTo>
                <a:lnTo>
                  <a:pt x="1268" y="2589"/>
                </a:lnTo>
                <a:lnTo>
                  <a:pt x="1270" y="2589"/>
                </a:lnTo>
                <a:lnTo>
                  <a:pt x="1273" y="2589"/>
                </a:lnTo>
                <a:lnTo>
                  <a:pt x="1275" y="2589"/>
                </a:lnTo>
                <a:lnTo>
                  <a:pt x="1277" y="2589"/>
                </a:lnTo>
                <a:lnTo>
                  <a:pt x="1279" y="2590"/>
                </a:lnTo>
                <a:lnTo>
                  <a:pt x="1282" y="2590"/>
                </a:lnTo>
                <a:lnTo>
                  <a:pt x="1284" y="2590"/>
                </a:lnTo>
                <a:lnTo>
                  <a:pt x="1286" y="2590"/>
                </a:lnTo>
                <a:lnTo>
                  <a:pt x="1288" y="2590"/>
                </a:lnTo>
                <a:lnTo>
                  <a:pt x="1291" y="2590"/>
                </a:lnTo>
                <a:lnTo>
                  <a:pt x="1293" y="2590"/>
                </a:lnTo>
                <a:lnTo>
                  <a:pt x="1295" y="2590"/>
                </a:lnTo>
                <a:lnTo>
                  <a:pt x="1297" y="2591"/>
                </a:lnTo>
                <a:lnTo>
                  <a:pt x="1300" y="2590"/>
                </a:lnTo>
                <a:lnTo>
                  <a:pt x="1302" y="2590"/>
                </a:lnTo>
                <a:lnTo>
                  <a:pt x="1304" y="2590"/>
                </a:lnTo>
                <a:lnTo>
                  <a:pt x="1306" y="2590"/>
                </a:lnTo>
                <a:lnTo>
                  <a:pt x="1309" y="2590"/>
                </a:lnTo>
                <a:lnTo>
                  <a:pt x="1311" y="2590"/>
                </a:lnTo>
                <a:lnTo>
                  <a:pt x="1313" y="2590"/>
                </a:lnTo>
                <a:lnTo>
                  <a:pt x="1315" y="2591"/>
                </a:lnTo>
                <a:lnTo>
                  <a:pt x="1318" y="2591"/>
                </a:lnTo>
                <a:lnTo>
                  <a:pt x="1320" y="2591"/>
                </a:lnTo>
                <a:lnTo>
                  <a:pt x="1322" y="2591"/>
                </a:lnTo>
                <a:lnTo>
                  <a:pt x="1324" y="2591"/>
                </a:lnTo>
                <a:lnTo>
                  <a:pt x="1327" y="2591"/>
                </a:lnTo>
                <a:lnTo>
                  <a:pt x="1329" y="2591"/>
                </a:lnTo>
                <a:lnTo>
                  <a:pt x="1331" y="2591"/>
                </a:lnTo>
                <a:lnTo>
                  <a:pt x="1333" y="2591"/>
                </a:lnTo>
                <a:lnTo>
                  <a:pt x="1336" y="2591"/>
                </a:lnTo>
                <a:lnTo>
                  <a:pt x="1338" y="2591"/>
                </a:lnTo>
                <a:lnTo>
                  <a:pt x="1340" y="2591"/>
                </a:lnTo>
                <a:lnTo>
                  <a:pt x="1342" y="2591"/>
                </a:lnTo>
                <a:lnTo>
                  <a:pt x="1345" y="2591"/>
                </a:lnTo>
                <a:lnTo>
                  <a:pt x="1347" y="2591"/>
                </a:lnTo>
                <a:lnTo>
                  <a:pt x="1349" y="2591"/>
                </a:lnTo>
                <a:lnTo>
                  <a:pt x="1352" y="2591"/>
                </a:lnTo>
                <a:lnTo>
                  <a:pt x="1354" y="2591"/>
                </a:lnTo>
                <a:lnTo>
                  <a:pt x="1356" y="2591"/>
                </a:lnTo>
                <a:lnTo>
                  <a:pt x="1358" y="2591"/>
                </a:lnTo>
                <a:lnTo>
                  <a:pt x="1361" y="2591"/>
                </a:lnTo>
                <a:lnTo>
                  <a:pt x="1363" y="2591"/>
                </a:lnTo>
                <a:lnTo>
                  <a:pt x="1365" y="2591"/>
                </a:lnTo>
                <a:lnTo>
                  <a:pt x="1367" y="2591"/>
                </a:lnTo>
                <a:lnTo>
                  <a:pt x="1370" y="2591"/>
                </a:lnTo>
                <a:lnTo>
                  <a:pt x="1372" y="2591"/>
                </a:lnTo>
                <a:lnTo>
                  <a:pt x="1374" y="2591"/>
                </a:lnTo>
                <a:lnTo>
                  <a:pt x="1376" y="2591"/>
                </a:lnTo>
                <a:lnTo>
                  <a:pt x="1379" y="2591"/>
                </a:lnTo>
                <a:lnTo>
                  <a:pt x="1381" y="2591"/>
                </a:lnTo>
                <a:lnTo>
                  <a:pt x="1383" y="2591"/>
                </a:lnTo>
                <a:lnTo>
                  <a:pt x="1385" y="2591"/>
                </a:lnTo>
                <a:lnTo>
                  <a:pt x="1388" y="2591"/>
                </a:lnTo>
                <a:lnTo>
                  <a:pt x="1390" y="2591"/>
                </a:lnTo>
                <a:lnTo>
                  <a:pt x="1392" y="2591"/>
                </a:lnTo>
                <a:lnTo>
                  <a:pt x="1394" y="2591"/>
                </a:lnTo>
                <a:lnTo>
                  <a:pt x="1397" y="2591"/>
                </a:lnTo>
                <a:lnTo>
                  <a:pt x="1399" y="2591"/>
                </a:lnTo>
                <a:lnTo>
                  <a:pt x="1401" y="2591"/>
                </a:lnTo>
                <a:lnTo>
                  <a:pt x="1403" y="2591"/>
                </a:lnTo>
                <a:lnTo>
                  <a:pt x="1406" y="2591"/>
                </a:lnTo>
                <a:lnTo>
                  <a:pt x="1408" y="2591"/>
                </a:lnTo>
                <a:lnTo>
                  <a:pt x="1410" y="2591"/>
                </a:lnTo>
                <a:lnTo>
                  <a:pt x="1412" y="2591"/>
                </a:lnTo>
                <a:lnTo>
                  <a:pt x="1415" y="2591"/>
                </a:lnTo>
                <a:lnTo>
                  <a:pt x="1417" y="2591"/>
                </a:lnTo>
                <a:lnTo>
                  <a:pt x="1419" y="2591"/>
                </a:lnTo>
                <a:lnTo>
                  <a:pt x="1421" y="2591"/>
                </a:lnTo>
                <a:lnTo>
                  <a:pt x="1424" y="2591"/>
                </a:lnTo>
                <a:lnTo>
                  <a:pt x="1426" y="2591"/>
                </a:lnTo>
                <a:lnTo>
                  <a:pt x="1428" y="2591"/>
                </a:lnTo>
                <a:lnTo>
                  <a:pt x="1430" y="2591"/>
                </a:lnTo>
                <a:lnTo>
                  <a:pt x="1433" y="2591"/>
                </a:lnTo>
                <a:lnTo>
                  <a:pt x="1435" y="2591"/>
                </a:lnTo>
                <a:lnTo>
                  <a:pt x="1437" y="2591"/>
                </a:lnTo>
                <a:lnTo>
                  <a:pt x="1439" y="2591"/>
                </a:lnTo>
                <a:lnTo>
                  <a:pt x="1442" y="2591"/>
                </a:lnTo>
                <a:lnTo>
                  <a:pt x="1444" y="2591"/>
                </a:lnTo>
                <a:lnTo>
                  <a:pt x="1446" y="2591"/>
                </a:lnTo>
                <a:lnTo>
                  <a:pt x="1448" y="2591"/>
                </a:lnTo>
                <a:lnTo>
                  <a:pt x="1451" y="2591"/>
                </a:lnTo>
                <a:lnTo>
                  <a:pt x="1453" y="2591"/>
                </a:lnTo>
                <a:lnTo>
                  <a:pt x="1455" y="2591"/>
                </a:lnTo>
                <a:lnTo>
                  <a:pt x="1457" y="2591"/>
                </a:lnTo>
                <a:lnTo>
                  <a:pt x="1460" y="2591"/>
                </a:lnTo>
                <a:lnTo>
                  <a:pt x="1462" y="2591"/>
                </a:lnTo>
                <a:lnTo>
                  <a:pt x="1464" y="2591"/>
                </a:lnTo>
                <a:lnTo>
                  <a:pt x="1466" y="2591"/>
                </a:lnTo>
                <a:lnTo>
                  <a:pt x="1469" y="2591"/>
                </a:lnTo>
                <a:lnTo>
                  <a:pt x="1471" y="2591"/>
                </a:lnTo>
                <a:lnTo>
                  <a:pt x="1473" y="2591"/>
                </a:lnTo>
                <a:lnTo>
                  <a:pt x="1475" y="2591"/>
                </a:lnTo>
                <a:lnTo>
                  <a:pt x="1478" y="2591"/>
                </a:lnTo>
                <a:lnTo>
                  <a:pt x="1480" y="2591"/>
                </a:lnTo>
                <a:lnTo>
                  <a:pt x="1482" y="2591"/>
                </a:lnTo>
                <a:lnTo>
                  <a:pt x="1484" y="2591"/>
                </a:lnTo>
                <a:lnTo>
                  <a:pt x="1487" y="2591"/>
                </a:lnTo>
                <a:lnTo>
                  <a:pt x="1489" y="2591"/>
                </a:lnTo>
                <a:lnTo>
                  <a:pt x="1491" y="2591"/>
                </a:lnTo>
                <a:lnTo>
                  <a:pt x="1493" y="2591"/>
                </a:lnTo>
                <a:lnTo>
                  <a:pt x="1496" y="2591"/>
                </a:lnTo>
                <a:lnTo>
                  <a:pt x="1498" y="2591"/>
                </a:lnTo>
                <a:lnTo>
                  <a:pt x="1500" y="2591"/>
                </a:lnTo>
                <a:lnTo>
                  <a:pt x="1502" y="2591"/>
                </a:lnTo>
                <a:lnTo>
                  <a:pt x="1505" y="2591"/>
                </a:lnTo>
                <a:lnTo>
                  <a:pt x="1507" y="2591"/>
                </a:lnTo>
                <a:lnTo>
                  <a:pt x="1509" y="2591"/>
                </a:lnTo>
                <a:lnTo>
                  <a:pt x="1511" y="2590"/>
                </a:lnTo>
                <a:lnTo>
                  <a:pt x="1514" y="2590"/>
                </a:lnTo>
                <a:lnTo>
                  <a:pt x="1516" y="2590"/>
                </a:lnTo>
                <a:lnTo>
                  <a:pt x="1518" y="2590"/>
                </a:lnTo>
                <a:lnTo>
                  <a:pt x="1521" y="2590"/>
                </a:lnTo>
                <a:lnTo>
                  <a:pt x="1523" y="2590"/>
                </a:lnTo>
                <a:lnTo>
                  <a:pt x="1525" y="2590"/>
                </a:lnTo>
                <a:lnTo>
                  <a:pt x="1527" y="2590"/>
                </a:lnTo>
                <a:lnTo>
                  <a:pt x="1530" y="2590"/>
                </a:lnTo>
                <a:lnTo>
                  <a:pt x="1532" y="2590"/>
                </a:lnTo>
                <a:lnTo>
                  <a:pt x="1534" y="2590"/>
                </a:lnTo>
                <a:lnTo>
                  <a:pt x="1536" y="2590"/>
                </a:lnTo>
                <a:lnTo>
                  <a:pt x="1539" y="2590"/>
                </a:lnTo>
                <a:lnTo>
                  <a:pt x="1541" y="2590"/>
                </a:lnTo>
                <a:lnTo>
                  <a:pt x="1543" y="2590"/>
                </a:lnTo>
                <a:lnTo>
                  <a:pt x="1545" y="2590"/>
                </a:lnTo>
                <a:lnTo>
                  <a:pt x="1548" y="2590"/>
                </a:lnTo>
                <a:lnTo>
                  <a:pt x="1550" y="2590"/>
                </a:lnTo>
                <a:lnTo>
                  <a:pt x="1552" y="2590"/>
                </a:lnTo>
                <a:lnTo>
                  <a:pt x="1554" y="2590"/>
                </a:lnTo>
                <a:lnTo>
                  <a:pt x="1557" y="2590"/>
                </a:lnTo>
                <a:lnTo>
                  <a:pt x="1559" y="2590"/>
                </a:lnTo>
                <a:lnTo>
                  <a:pt x="1561" y="2590"/>
                </a:lnTo>
                <a:lnTo>
                  <a:pt x="1563" y="2590"/>
                </a:lnTo>
                <a:lnTo>
                  <a:pt x="1566" y="2591"/>
                </a:lnTo>
                <a:lnTo>
                  <a:pt x="1568" y="2591"/>
                </a:lnTo>
                <a:lnTo>
                  <a:pt x="1570" y="2591"/>
                </a:lnTo>
                <a:lnTo>
                  <a:pt x="1572" y="2592"/>
                </a:lnTo>
                <a:lnTo>
                  <a:pt x="1575" y="2593"/>
                </a:lnTo>
                <a:lnTo>
                  <a:pt x="1577" y="2594"/>
                </a:lnTo>
                <a:lnTo>
                  <a:pt x="1579" y="2596"/>
                </a:lnTo>
                <a:lnTo>
                  <a:pt x="1581" y="2597"/>
                </a:lnTo>
                <a:lnTo>
                  <a:pt x="1584" y="2600"/>
                </a:lnTo>
                <a:lnTo>
                  <a:pt x="1586" y="2603"/>
                </a:lnTo>
                <a:lnTo>
                  <a:pt x="1588" y="2607"/>
                </a:lnTo>
                <a:lnTo>
                  <a:pt x="1590" y="2611"/>
                </a:lnTo>
                <a:lnTo>
                  <a:pt x="1593" y="2617"/>
                </a:lnTo>
                <a:lnTo>
                  <a:pt x="1595" y="2623"/>
                </a:lnTo>
                <a:lnTo>
                  <a:pt x="1597" y="2630"/>
                </a:lnTo>
                <a:lnTo>
                  <a:pt x="1599" y="2638"/>
                </a:lnTo>
                <a:lnTo>
                  <a:pt x="1602" y="2647"/>
                </a:lnTo>
                <a:lnTo>
                  <a:pt x="1604" y="2656"/>
                </a:lnTo>
                <a:lnTo>
                  <a:pt x="1606" y="2666"/>
                </a:lnTo>
                <a:lnTo>
                  <a:pt x="1608" y="2676"/>
                </a:lnTo>
                <a:lnTo>
                  <a:pt x="1611" y="2690"/>
                </a:lnTo>
                <a:lnTo>
                  <a:pt x="1613" y="2702"/>
                </a:lnTo>
                <a:lnTo>
                  <a:pt x="1615" y="2714"/>
                </a:lnTo>
                <a:lnTo>
                  <a:pt x="1617" y="2726"/>
                </a:lnTo>
                <a:lnTo>
                  <a:pt x="1620" y="2738"/>
                </a:lnTo>
                <a:lnTo>
                  <a:pt x="1622" y="2749"/>
                </a:lnTo>
                <a:lnTo>
                  <a:pt x="1624" y="2761"/>
                </a:lnTo>
                <a:lnTo>
                  <a:pt x="1626" y="2771"/>
                </a:lnTo>
                <a:lnTo>
                  <a:pt x="1629" y="2783"/>
                </a:lnTo>
                <a:lnTo>
                  <a:pt x="1631" y="2793"/>
                </a:lnTo>
                <a:lnTo>
                  <a:pt x="1633" y="2802"/>
                </a:lnTo>
                <a:lnTo>
                  <a:pt x="1635" y="2811"/>
                </a:lnTo>
                <a:lnTo>
                  <a:pt x="1638" y="2818"/>
                </a:lnTo>
                <a:lnTo>
                  <a:pt x="1640" y="2825"/>
                </a:lnTo>
                <a:lnTo>
                  <a:pt x="1642" y="2830"/>
                </a:lnTo>
                <a:lnTo>
                  <a:pt x="1644" y="2835"/>
                </a:lnTo>
                <a:lnTo>
                  <a:pt x="1647" y="2839"/>
                </a:lnTo>
                <a:lnTo>
                  <a:pt x="1649" y="2842"/>
                </a:lnTo>
                <a:lnTo>
                  <a:pt x="1651" y="2843"/>
                </a:lnTo>
                <a:lnTo>
                  <a:pt x="1653" y="2844"/>
                </a:lnTo>
                <a:lnTo>
                  <a:pt x="1656" y="2844"/>
                </a:lnTo>
                <a:lnTo>
                  <a:pt x="1658" y="2844"/>
                </a:lnTo>
                <a:lnTo>
                  <a:pt x="1660" y="2842"/>
                </a:lnTo>
                <a:lnTo>
                  <a:pt x="1662" y="2840"/>
                </a:lnTo>
                <a:lnTo>
                  <a:pt x="1665" y="2838"/>
                </a:lnTo>
                <a:lnTo>
                  <a:pt x="1667" y="2835"/>
                </a:lnTo>
                <a:lnTo>
                  <a:pt x="1669" y="2831"/>
                </a:lnTo>
                <a:lnTo>
                  <a:pt x="1671" y="2827"/>
                </a:lnTo>
                <a:lnTo>
                  <a:pt x="1674" y="2823"/>
                </a:lnTo>
                <a:lnTo>
                  <a:pt x="1676" y="2818"/>
                </a:lnTo>
                <a:lnTo>
                  <a:pt x="1678" y="2813"/>
                </a:lnTo>
                <a:lnTo>
                  <a:pt x="1680" y="2807"/>
                </a:lnTo>
                <a:lnTo>
                  <a:pt x="1683" y="2802"/>
                </a:lnTo>
                <a:lnTo>
                  <a:pt x="1685" y="2796"/>
                </a:lnTo>
                <a:lnTo>
                  <a:pt x="1687" y="2790"/>
                </a:lnTo>
                <a:lnTo>
                  <a:pt x="1690" y="2784"/>
                </a:lnTo>
                <a:lnTo>
                  <a:pt x="1692" y="2778"/>
                </a:lnTo>
                <a:lnTo>
                  <a:pt x="1694" y="2772"/>
                </a:lnTo>
                <a:lnTo>
                  <a:pt x="1696" y="2766"/>
                </a:lnTo>
                <a:lnTo>
                  <a:pt x="1699" y="2760"/>
                </a:lnTo>
                <a:lnTo>
                  <a:pt x="1701" y="2754"/>
                </a:lnTo>
                <a:lnTo>
                  <a:pt x="1703" y="2748"/>
                </a:lnTo>
                <a:lnTo>
                  <a:pt x="1705" y="2743"/>
                </a:lnTo>
                <a:lnTo>
                  <a:pt x="1708" y="2737"/>
                </a:lnTo>
                <a:lnTo>
                  <a:pt x="1710" y="2731"/>
                </a:lnTo>
                <a:lnTo>
                  <a:pt x="1712" y="2726"/>
                </a:lnTo>
                <a:lnTo>
                  <a:pt x="1714" y="2721"/>
                </a:lnTo>
                <a:lnTo>
                  <a:pt x="1717" y="2716"/>
                </a:lnTo>
                <a:lnTo>
                  <a:pt x="1719" y="2711"/>
                </a:lnTo>
                <a:lnTo>
                  <a:pt x="1721" y="2706"/>
                </a:lnTo>
                <a:lnTo>
                  <a:pt x="1723" y="2701"/>
                </a:lnTo>
                <a:lnTo>
                  <a:pt x="1726" y="2696"/>
                </a:lnTo>
                <a:lnTo>
                  <a:pt x="1728" y="2692"/>
                </a:lnTo>
                <a:lnTo>
                  <a:pt x="1730" y="2688"/>
                </a:lnTo>
                <a:lnTo>
                  <a:pt x="1732" y="2684"/>
                </a:lnTo>
                <a:lnTo>
                  <a:pt x="1735" y="2681"/>
                </a:lnTo>
                <a:lnTo>
                  <a:pt x="1737" y="2675"/>
                </a:lnTo>
                <a:lnTo>
                  <a:pt x="1739" y="2672"/>
                </a:lnTo>
                <a:lnTo>
                  <a:pt x="1741" y="2669"/>
                </a:lnTo>
                <a:lnTo>
                  <a:pt x="1744" y="2666"/>
                </a:lnTo>
                <a:lnTo>
                  <a:pt x="1746" y="2663"/>
                </a:lnTo>
                <a:lnTo>
                  <a:pt x="1748" y="2660"/>
                </a:lnTo>
                <a:lnTo>
                  <a:pt x="1750" y="2658"/>
                </a:lnTo>
                <a:lnTo>
                  <a:pt x="1753" y="2655"/>
                </a:lnTo>
                <a:lnTo>
                  <a:pt x="1755" y="2653"/>
                </a:lnTo>
                <a:lnTo>
                  <a:pt x="1757" y="2650"/>
                </a:lnTo>
                <a:lnTo>
                  <a:pt x="1759" y="2647"/>
                </a:lnTo>
                <a:lnTo>
                  <a:pt x="1762" y="2645"/>
                </a:lnTo>
                <a:lnTo>
                  <a:pt x="1764" y="2643"/>
                </a:lnTo>
                <a:lnTo>
                  <a:pt x="1766" y="2642"/>
                </a:lnTo>
                <a:lnTo>
                  <a:pt x="1768" y="2640"/>
                </a:lnTo>
                <a:lnTo>
                  <a:pt x="1771" y="2638"/>
                </a:lnTo>
                <a:lnTo>
                  <a:pt x="1773" y="2636"/>
                </a:lnTo>
                <a:lnTo>
                  <a:pt x="1775" y="2635"/>
                </a:lnTo>
                <a:lnTo>
                  <a:pt x="1777" y="2633"/>
                </a:lnTo>
                <a:lnTo>
                  <a:pt x="1780" y="2632"/>
                </a:lnTo>
                <a:lnTo>
                  <a:pt x="1782" y="2630"/>
                </a:lnTo>
                <a:lnTo>
                  <a:pt x="1784" y="2629"/>
                </a:lnTo>
                <a:lnTo>
                  <a:pt x="1786" y="2628"/>
                </a:lnTo>
                <a:lnTo>
                  <a:pt x="1789" y="2626"/>
                </a:lnTo>
                <a:lnTo>
                  <a:pt x="1791" y="2625"/>
                </a:lnTo>
                <a:lnTo>
                  <a:pt x="1793" y="2624"/>
                </a:lnTo>
                <a:lnTo>
                  <a:pt x="1795" y="2623"/>
                </a:lnTo>
                <a:lnTo>
                  <a:pt x="1798" y="2622"/>
                </a:lnTo>
                <a:lnTo>
                  <a:pt x="1800" y="2621"/>
                </a:lnTo>
                <a:lnTo>
                  <a:pt x="1802" y="2620"/>
                </a:lnTo>
                <a:lnTo>
                  <a:pt x="1804" y="2619"/>
                </a:lnTo>
                <a:lnTo>
                  <a:pt x="1807" y="2619"/>
                </a:lnTo>
                <a:lnTo>
                  <a:pt x="1809" y="2618"/>
                </a:lnTo>
                <a:lnTo>
                  <a:pt x="1811" y="2617"/>
                </a:lnTo>
                <a:lnTo>
                  <a:pt x="1813" y="2616"/>
                </a:lnTo>
                <a:lnTo>
                  <a:pt x="1816" y="2615"/>
                </a:lnTo>
                <a:lnTo>
                  <a:pt x="1818" y="2614"/>
                </a:lnTo>
                <a:lnTo>
                  <a:pt x="1820" y="2614"/>
                </a:lnTo>
                <a:lnTo>
                  <a:pt x="1822" y="2613"/>
                </a:lnTo>
                <a:lnTo>
                  <a:pt x="1825" y="2612"/>
                </a:lnTo>
                <a:lnTo>
                  <a:pt x="1827" y="2611"/>
                </a:lnTo>
                <a:lnTo>
                  <a:pt x="1829" y="2611"/>
                </a:lnTo>
                <a:lnTo>
                  <a:pt x="1831" y="2611"/>
                </a:lnTo>
                <a:lnTo>
                  <a:pt x="1834" y="2610"/>
                </a:lnTo>
                <a:lnTo>
                  <a:pt x="1836" y="2610"/>
                </a:lnTo>
                <a:lnTo>
                  <a:pt x="1838" y="2609"/>
                </a:lnTo>
                <a:lnTo>
                  <a:pt x="1840" y="2609"/>
                </a:lnTo>
                <a:lnTo>
                  <a:pt x="1843" y="2608"/>
                </a:lnTo>
                <a:lnTo>
                  <a:pt x="1845" y="2608"/>
                </a:lnTo>
                <a:lnTo>
                  <a:pt x="1847" y="2607"/>
                </a:lnTo>
                <a:lnTo>
                  <a:pt x="1849" y="2607"/>
                </a:lnTo>
                <a:lnTo>
                  <a:pt x="1852" y="2606"/>
                </a:lnTo>
                <a:lnTo>
                  <a:pt x="1854" y="2606"/>
                </a:lnTo>
                <a:lnTo>
                  <a:pt x="1856" y="2605"/>
                </a:lnTo>
                <a:lnTo>
                  <a:pt x="1859" y="2605"/>
                </a:lnTo>
                <a:lnTo>
                  <a:pt x="1861" y="2604"/>
                </a:lnTo>
                <a:lnTo>
                  <a:pt x="1863" y="2604"/>
                </a:lnTo>
                <a:lnTo>
                  <a:pt x="1865" y="2604"/>
                </a:lnTo>
                <a:lnTo>
                  <a:pt x="1868" y="2604"/>
                </a:lnTo>
                <a:lnTo>
                  <a:pt x="1870" y="2604"/>
                </a:lnTo>
                <a:lnTo>
                  <a:pt x="1872" y="2603"/>
                </a:lnTo>
                <a:lnTo>
                  <a:pt x="1874" y="2603"/>
                </a:lnTo>
                <a:lnTo>
                  <a:pt x="1877" y="2603"/>
                </a:lnTo>
                <a:lnTo>
                  <a:pt x="1879" y="2602"/>
                </a:lnTo>
                <a:lnTo>
                  <a:pt x="1881" y="2602"/>
                </a:lnTo>
                <a:lnTo>
                  <a:pt x="1883" y="2602"/>
                </a:lnTo>
                <a:lnTo>
                  <a:pt x="1886" y="2601"/>
                </a:lnTo>
                <a:lnTo>
                  <a:pt x="1888" y="2601"/>
                </a:lnTo>
                <a:lnTo>
                  <a:pt x="1890" y="2600"/>
                </a:lnTo>
                <a:lnTo>
                  <a:pt x="1892" y="2600"/>
                </a:lnTo>
                <a:lnTo>
                  <a:pt x="1895" y="2600"/>
                </a:lnTo>
                <a:lnTo>
                  <a:pt x="1897" y="2600"/>
                </a:lnTo>
                <a:lnTo>
                  <a:pt x="1899" y="2599"/>
                </a:lnTo>
                <a:lnTo>
                  <a:pt x="1901" y="2599"/>
                </a:lnTo>
                <a:lnTo>
                  <a:pt x="1904" y="2599"/>
                </a:lnTo>
                <a:lnTo>
                  <a:pt x="1906" y="2599"/>
                </a:lnTo>
                <a:lnTo>
                  <a:pt x="1908" y="2599"/>
                </a:lnTo>
                <a:lnTo>
                  <a:pt x="1910" y="2599"/>
                </a:lnTo>
                <a:lnTo>
                  <a:pt x="1913" y="2599"/>
                </a:lnTo>
                <a:lnTo>
                  <a:pt x="1915" y="2598"/>
                </a:lnTo>
                <a:lnTo>
                  <a:pt x="1917" y="2598"/>
                </a:lnTo>
                <a:lnTo>
                  <a:pt x="1919" y="2598"/>
                </a:lnTo>
                <a:lnTo>
                  <a:pt x="1922" y="2597"/>
                </a:lnTo>
                <a:lnTo>
                  <a:pt x="1924" y="2597"/>
                </a:lnTo>
                <a:lnTo>
                  <a:pt x="1926" y="2597"/>
                </a:lnTo>
                <a:lnTo>
                  <a:pt x="1928" y="2596"/>
                </a:lnTo>
                <a:lnTo>
                  <a:pt x="1931" y="2596"/>
                </a:lnTo>
                <a:lnTo>
                  <a:pt x="1933" y="2596"/>
                </a:lnTo>
                <a:lnTo>
                  <a:pt x="1935" y="2596"/>
                </a:lnTo>
                <a:lnTo>
                  <a:pt x="1937" y="2596"/>
                </a:lnTo>
                <a:lnTo>
                  <a:pt x="1940" y="2596"/>
                </a:lnTo>
                <a:lnTo>
                  <a:pt x="1942" y="2596"/>
                </a:lnTo>
                <a:lnTo>
                  <a:pt x="1944" y="2596"/>
                </a:lnTo>
                <a:lnTo>
                  <a:pt x="1946" y="2596"/>
                </a:lnTo>
                <a:lnTo>
                  <a:pt x="1949" y="2595"/>
                </a:lnTo>
                <a:lnTo>
                  <a:pt x="1951" y="2595"/>
                </a:lnTo>
                <a:lnTo>
                  <a:pt x="1953" y="2595"/>
                </a:lnTo>
                <a:lnTo>
                  <a:pt x="1955" y="2595"/>
                </a:lnTo>
                <a:lnTo>
                  <a:pt x="1958" y="2594"/>
                </a:lnTo>
                <a:lnTo>
                  <a:pt x="1960" y="2594"/>
                </a:lnTo>
                <a:lnTo>
                  <a:pt x="1962" y="2594"/>
                </a:lnTo>
                <a:lnTo>
                  <a:pt x="1964" y="2594"/>
                </a:lnTo>
                <a:lnTo>
                  <a:pt x="1967" y="2594"/>
                </a:lnTo>
                <a:lnTo>
                  <a:pt x="1969" y="2594"/>
                </a:lnTo>
                <a:lnTo>
                  <a:pt x="1971" y="2594"/>
                </a:lnTo>
                <a:lnTo>
                  <a:pt x="1973" y="2594"/>
                </a:lnTo>
                <a:lnTo>
                  <a:pt x="1976" y="2594"/>
                </a:lnTo>
                <a:lnTo>
                  <a:pt x="1978" y="2594"/>
                </a:lnTo>
                <a:lnTo>
                  <a:pt x="1980" y="2594"/>
                </a:lnTo>
                <a:lnTo>
                  <a:pt x="1982" y="2594"/>
                </a:lnTo>
                <a:lnTo>
                  <a:pt x="1985" y="2594"/>
                </a:lnTo>
                <a:lnTo>
                  <a:pt x="1987" y="2594"/>
                </a:lnTo>
                <a:lnTo>
                  <a:pt x="1989" y="2594"/>
                </a:lnTo>
                <a:lnTo>
                  <a:pt x="1991" y="2593"/>
                </a:lnTo>
                <a:lnTo>
                  <a:pt x="1994" y="2593"/>
                </a:lnTo>
                <a:lnTo>
                  <a:pt x="1996" y="2593"/>
                </a:lnTo>
                <a:lnTo>
                  <a:pt x="1998" y="2593"/>
                </a:lnTo>
                <a:lnTo>
                  <a:pt x="2000" y="2593"/>
                </a:lnTo>
                <a:lnTo>
                  <a:pt x="2003" y="2593"/>
                </a:lnTo>
                <a:lnTo>
                  <a:pt x="2005" y="2593"/>
                </a:lnTo>
                <a:lnTo>
                  <a:pt x="2007" y="2593"/>
                </a:lnTo>
                <a:lnTo>
                  <a:pt x="2009" y="2593"/>
                </a:lnTo>
                <a:lnTo>
                  <a:pt x="2012" y="2593"/>
                </a:lnTo>
                <a:lnTo>
                  <a:pt x="2014" y="2593"/>
                </a:lnTo>
                <a:lnTo>
                  <a:pt x="2016" y="2593"/>
                </a:lnTo>
                <a:lnTo>
                  <a:pt x="2018" y="2593"/>
                </a:lnTo>
                <a:lnTo>
                  <a:pt x="2021" y="2593"/>
                </a:lnTo>
                <a:lnTo>
                  <a:pt x="2023" y="2593"/>
                </a:lnTo>
                <a:lnTo>
                  <a:pt x="2025" y="2593"/>
                </a:lnTo>
                <a:lnTo>
                  <a:pt x="2028" y="2592"/>
                </a:lnTo>
                <a:lnTo>
                  <a:pt x="2030" y="2592"/>
                </a:lnTo>
                <a:lnTo>
                  <a:pt x="2032" y="2592"/>
                </a:lnTo>
                <a:lnTo>
                  <a:pt x="2034" y="2592"/>
                </a:lnTo>
                <a:lnTo>
                  <a:pt x="2037" y="2592"/>
                </a:lnTo>
                <a:lnTo>
                  <a:pt x="2039" y="2592"/>
                </a:lnTo>
                <a:lnTo>
                  <a:pt x="2041" y="2592"/>
                </a:lnTo>
                <a:lnTo>
                  <a:pt x="2043" y="2592"/>
                </a:lnTo>
                <a:lnTo>
                  <a:pt x="2046" y="2592"/>
                </a:lnTo>
                <a:lnTo>
                  <a:pt x="2048" y="2592"/>
                </a:lnTo>
                <a:lnTo>
                  <a:pt x="2050" y="2592"/>
                </a:lnTo>
                <a:lnTo>
                  <a:pt x="2052" y="2592"/>
                </a:lnTo>
                <a:lnTo>
                  <a:pt x="2055" y="2592"/>
                </a:lnTo>
                <a:lnTo>
                  <a:pt x="2057" y="2592"/>
                </a:lnTo>
                <a:lnTo>
                  <a:pt x="2059" y="2592"/>
                </a:lnTo>
                <a:lnTo>
                  <a:pt x="2061" y="2592"/>
                </a:lnTo>
                <a:lnTo>
                  <a:pt x="2064" y="2592"/>
                </a:lnTo>
                <a:lnTo>
                  <a:pt x="2066" y="2591"/>
                </a:lnTo>
                <a:lnTo>
                  <a:pt x="2068" y="2591"/>
                </a:lnTo>
                <a:lnTo>
                  <a:pt x="2070" y="2591"/>
                </a:lnTo>
                <a:lnTo>
                  <a:pt x="2073" y="2591"/>
                </a:lnTo>
                <a:lnTo>
                  <a:pt x="2075" y="2591"/>
                </a:lnTo>
                <a:lnTo>
                  <a:pt x="2077" y="2591"/>
                </a:lnTo>
                <a:lnTo>
                  <a:pt x="2079" y="2591"/>
                </a:lnTo>
                <a:lnTo>
                  <a:pt x="2082" y="2591"/>
                </a:lnTo>
                <a:lnTo>
                  <a:pt x="2084" y="2591"/>
                </a:lnTo>
                <a:lnTo>
                  <a:pt x="2086" y="2591"/>
                </a:lnTo>
                <a:lnTo>
                  <a:pt x="2088" y="2591"/>
                </a:lnTo>
                <a:lnTo>
                  <a:pt x="2091" y="2591"/>
                </a:lnTo>
                <a:lnTo>
                  <a:pt x="2093" y="2591"/>
                </a:lnTo>
                <a:lnTo>
                  <a:pt x="2095" y="2591"/>
                </a:lnTo>
                <a:lnTo>
                  <a:pt x="2097" y="2591"/>
                </a:lnTo>
                <a:lnTo>
                  <a:pt x="2100" y="2590"/>
                </a:lnTo>
                <a:lnTo>
                  <a:pt x="2102" y="2590"/>
                </a:lnTo>
                <a:lnTo>
                  <a:pt x="2104" y="2590"/>
                </a:lnTo>
                <a:lnTo>
                  <a:pt x="2106" y="2590"/>
                </a:lnTo>
                <a:lnTo>
                  <a:pt x="2109" y="2591"/>
                </a:lnTo>
                <a:lnTo>
                  <a:pt x="2111" y="2591"/>
                </a:lnTo>
                <a:lnTo>
                  <a:pt x="2113" y="2591"/>
                </a:lnTo>
                <a:lnTo>
                  <a:pt x="2115" y="2591"/>
                </a:lnTo>
                <a:lnTo>
                  <a:pt x="2118" y="2591"/>
                </a:lnTo>
                <a:lnTo>
                  <a:pt x="2120" y="2591"/>
                </a:lnTo>
                <a:lnTo>
                  <a:pt x="2122" y="2591"/>
                </a:lnTo>
                <a:lnTo>
                  <a:pt x="2124" y="2590"/>
                </a:lnTo>
                <a:lnTo>
                  <a:pt x="2127" y="2590"/>
                </a:lnTo>
                <a:lnTo>
                  <a:pt x="2129" y="2590"/>
                </a:lnTo>
                <a:lnTo>
                  <a:pt x="2131" y="2590"/>
                </a:lnTo>
                <a:lnTo>
                  <a:pt x="2133" y="2590"/>
                </a:lnTo>
                <a:lnTo>
                  <a:pt x="2136" y="2590"/>
                </a:lnTo>
                <a:lnTo>
                  <a:pt x="2138" y="2589"/>
                </a:lnTo>
                <a:lnTo>
                  <a:pt x="2140" y="2589"/>
                </a:lnTo>
                <a:lnTo>
                  <a:pt x="2142" y="2589"/>
                </a:lnTo>
                <a:lnTo>
                  <a:pt x="2145" y="2590"/>
                </a:lnTo>
                <a:lnTo>
                  <a:pt x="2147" y="2590"/>
                </a:lnTo>
                <a:lnTo>
                  <a:pt x="2149" y="2590"/>
                </a:lnTo>
                <a:lnTo>
                  <a:pt x="2151" y="2590"/>
                </a:lnTo>
                <a:lnTo>
                  <a:pt x="2154" y="2590"/>
                </a:lnTo>
                <a:lnTo>
                  <a:pt x="2156" y="2590"/>
                </a:lnTo>
                <a:lnTo>
                  <a:pt x="2158" y="2590"/>
                </a:lnTo>
                <a:lnTo>
                  <a:pt x="2160" y="2590"/>
                </a:lnTo>
                <a:lnTo>
                  <a:pt x="2163" y="2590"/>
                </a:lnTo>
                <a:lnTo>
                  <a:pt x="2165" y="2590"/>
                </a:lnTo>
                <a:lnTo>
                  <a:pt x="2167" y="2589"/>
                </a:lnTo>
                <a:lnTo>
                  <a:pt x="2169" y="2589"/>
                </a:lnTo>
                <a:lnTo>
                  <a:pt x="2172" y="2589"/>
                </a:lnTo>
                <a:lnTo>
                  <a:pt x="2174" y="2589"/>
                </a:lnTo>
                <a:lnTo>
                  <a:pt x="2176" y="2589"/>
                </a:lnTo>
                <a:lnTo>
                  <a:pt x="2178" y="2589"/>
                </a:lnTo>
                <a:lnTo>
                  <a:pt x="2181" y="2589"/>
                </a:lnTo>
                <a:lnTo>
                  <a:pt x="2183" y="2589"/>
                </a:lnTo>
                <a:lnTo>
                  <a:pt x="2185" y="2589"/>
                </a:lnTo>
                <a:lnTo>
                  <a:pt x="2187" y="2589"/>
                </a:lnTo>
                <a:lnTo>
                  <a:pt x="2190" y="2589"/>
                </a:lnTo>
                <a:lnTo>
                  <a:pt x="2192" y="2589"/>
                </a:lnTo>
                <a:lnTo>
                  <a:pt x="2194" y="2589"/>
                </a:lnTo>
                <a:lnTo>
                  <a:pt x="2197" y="2589"/>
                </a:lnTo>
                <a:lnTo>
                  <a:pt x="2199" y="2589"/>
                </a:lnTo>
                <a:lnTo>
                  <a:pt x="2201" y="2589"/>
                </a:lnTo>
                <a:lnTo>
                  <a:pt x="2203" y="2589"/>
                </a:lnTo>
                <a:lnTo>
                  <a:pt x="2206" y="2589"/>
                </a:lnTo>
                <a:lnTo>
                  <a:pt x="2208" y="2589"/>
                </a:lnTo>
                <a:lnTo>
                  <a:pt x="2210" y="2589"/>
                </a:lnTo>
                <a:lnTo>
                  <a:pt x="2212" y="2589"/>
                </a:lnTo>
                <a:lnTo>
                  <a:pt x="2215" y="2589"/>
                </a:lnTo>
                <a:lnTo>
                  <a:pt x="2217" y="2589"/>
                </a:lnTo>
                <a:lnTo>
                  <a:pt x="2219" y="2589"/>
                </a:lnTo>
                <a:lnTo>
                  <a:pt x="2221" y="2589"/>
                </a:lnTo>
                <a:lnTo>
                  <a:pt x="2224" y="2589"/>
                </a:lnTo>
                <a:lnTo>
                  <a:pt x="2226" y="2589"/>
                </a:lnTo>
                <a:lnTo>
                  <a:pt x="2228" y="2589"/>
                </a:lnTo>
                <a:lnTo>
                  <a:pt x="2230" y="2589"/>
                </a:lnTo>
                <a:lnTo>
                  <a:pt x="2233" y="2588"/>
                </a:lnTo>
                <a:lnTo>
                  <a:pt x="2235" y="2588"/>
                </a:lnTo>
                <a:lnTo>
                  <a:pt x="2237" y="2588"/>
                </a:lnTo>
                <a:lnTo>
                  <a:pt x="2239" y="2588"/>
                </a:lnTo>
                <a:lnTo>
                  <a:pt x="2242" y="2588"/>
                </a:lnTo>
                <a:lnTo>
                  <a:pt x="2244" y="2588"/>
                </a:lnTo>
                <a:lnTo>
                  <a:pt x="2246" y="2589"/>
                </a:lnTo>
                <a:lnTo>
                  <a:pt x="2248" y="2589"/>
                </a:lnTo>
                <a:lnTo>
                  <a:pt x="2251" y="2589"/>
                </a:lnTo>
                <a:lnTo>
                  <a:pt x="2253" y="2589"/>
                </a:lnTo>
                <a:lnTo>
                  <a:pt x="2255" y="2589"/>
                </a:lnTo>
                <a:lnTo>
                  <a:pt x="2257" y="2589"/>
                </a:lnTo>
                <a:lnTo>
                  <a:pt x="2260" y="2589"/>
                </a:lnTo>
                <a:lnTo>
                  <a:pt x="2262" y="2589"/>
                </a:lnTo>
                <a:lnTo>
                  <a:pt x="2264" y="2589"/>
                </a:lnTo>
                <a:lnTo>
                  <a:pt x="2266" y="2589"/>
                </a:lnTo>
                <a:lnTo>
                  <a:pt x="2269" y="2589"/>
                </a:lnTo>
                <a:lnTo>
                  <a:pt x="2271" y="2589"/>
                </a:lnTo>
                <a:lnTo>
                  <a:pt x="2273" y="2589"/>
                </a:lnTo>
                <a:lnTo>
                  <a:pt x="2275" y="2589"/>
                </a:lnTo>
                <a:lnTo>
                  <a:pt x="2278" y="2589"/>
                </a:lnTo>
                <a:lnTo>
                  <a:pt x="2280" y="2589"/>
                </a:lnTo>
                <a:lnTo>
                  <a:pt x="2282" y="2589"/>
                </a:lnTo>
                <a:lnTo>
                  <a:pt x="2284" y="2589"/>
                </a:lnTo>
                <a:lnTo>
                  <a:pt x="2287" y="2590"/>
                </a:lnTo>
                <a:lnTo>
                  <a:pt x="2289" y="2590"/>
                </a:lnTo>
                <a:lnTo>
                  <a:pt x="2291" y="2590"/>
                </a:lnTo>
                <a:lnTo>
                  <a:pt x="2293" y="2590"/>
                </a:lnTo>
                <a:lnTo>
                  <a:pt x="2296" y="2590"/>
                </a:lnTo>
                <a:lnTo>
                  <a:pt x="2298" y="2590"/>
                </a:lnTo>
                <a:lnTo>
                  <a:pt x="2300" y="2590"/>
                </a:lnTo>
                <a:lnTo>
                  <a:pt x="2302" y="2590"/>
                </a:lnTo>
                <a:lnTo>
                  <a:pt x="2305" y="2590"/>
                </a:lnTo>
                <a:lnTo>
                  <a:pt x="2307" y="2590"/>
                </a:lnTo>
                <a:lnTo>
                  <a:pt x="2309" y="2590"/>
                </a:lnTo>
                <a:lnTo>
                  <a:pt x="2311" y="2590"/>
                </a:lnTo>
                <a:lnTo>
                  <a:pt x="2314" y="2590"/>
                </a:lnTo>
                <a:lnTo>
                  <a:pt x="2316" y="2590"/>
                </a:lnTo>
                <a:lnTo>
                  <a:pt x="2318" y="2590"/>
                </a:lnTo>
                <a:lnTo>
                  <a:pt x="2320" y="2590"/>
                </a:lnTo>
                <a:lnTo>
                  <a:pt x="2323" y="2591"/>
                </a:lnTo>
                <a:lnTo>
                  <a:pt x="2325" y="2591"/>
                </a:lnTo>
                <a:lnTo>
                  <a:pt x="2327" y="2591"/>
                </a:lnTo>
                <a:lnTo>
                  <a:pt x="2329" y="2591"/>
                </a:lnTo>
                <a:lnTo>
                  <a:pt x="2332" y="2591"/>
                </a:lnTo>
                <a:lnTo>
                  <a:pt x="2334" y="2591"/>
                </a:lnTo>
                <a:lnTo>
                  <a:pt x="2336" y="2591"/>
                </a:lnTo>
                <a:lnTo>
                  <a:pt x="2338" y="2591"/>
                </a:lnTo>
                <a:lnTo>
                  <a:pt x="2341" y="2591"/>
                </a:lnTo>
                <a:lnTo>
                  <a:pt x="2343" y="2591"/>
                </a:lnTo>
                <a:lnTo>
                  <a:pt x="2345" y="2591"/>
                </a:lnTo>
                <a:lnTo>
                  <a:pt x="2347" y="2591"/>
                </a:lnTo>
                <a:lnTo>
                  <a:pt x="2350" y="2591"/>
                </a:lnTo>
                <a:lnTo>
                  <a:pt x="2352" y="2591"/>
                </a:lnTo>
                <a:lnTo>
                  <a:pt x="2354" y="2591"/>
                </a:lnTo>
                <a:lnTo>
                  <a:pt x="2356" y="2591"/>
                </a:lnTo>
                <a:lnTo>
                  <a:pt x="2359" y="2591"/>
                </a:lnTo>
                <a:lnTo>
                  <a:pt x="2361" y="2592"/>
                </a:lnTo>
                <a:lnTo>
                  <a:pt x="2363" y="2592"/>
                </a:lnTo>
                <a:lnTo>
                  <a:pt x="2366" y="2592"/>
                </a:lnTo>
                <a:lnTo>
                  <a:pt x="2368" y="2592"/>
                </a:lnTo>
                <a:lnTo>
                  <a:pt x="2370" y="2592"/>
                </a:lnTo>
                <a:lnTo>
                  <a:pt x="2372" y="2592"/>
                </a:lnTo>
                <a:lnTo>
                  <a:pt x="2375" y="2592"/>
                </a:lnTo>
                <a:lnTo>
                  <a:pt x="2377" y="2592"/>
                </a:lnTo>
                <a:lnTo>
                  <a:pt x="2379" y="2592"/>
                </a:lnTo>
                <a:lnTo>
                  <a:pt x="2381" y="2592"/>
                </a:lnTo>
                <a:lnTo>
                  <a:pt x="2384" y="2592"/>
                </a:lnTo>
                <a:lnTo>
                  <a:pt x="2386" y="2592"/>
                </a:lnTo>
                <a:lnTo>
                  <a:pt x="2388" y="2592"/>
                </a:lnTo>
                <a:lnTo>
                  <a:pt x="2390" y="2592"/>
                </a:lnTo>
                <a:lnTo>
                  <a:pt x="2393" y="2592"/>
                </a:lnTo>
                <a:lnTo>
                  <a:pt x="2395" y="2592"/>
                </a:lnTo>
                <a:lnTo>
                  <a:pt x="2397" y="2593"/>
                </a:lnTo>
                <a:lnTo>
                  <a:pt x="2399" y="2593"/>
                </a:lnTo>
                <a:lnTo>
                  <a:pt x="2402" y="2593"/>
                </a:lnTo>
                <a:lnTo>
                  <a:pt x="2404" y="2593"/>
                </a:lnTo>
                <a:lnTo>
                  <a:pt x="2406" y="2593"/>
                </a:lnTo>
                <a:lnTo>
                  <a:pt x="2408" y="2593"/>
                </a:lnTo>
                <a:lnTo>
                  <a:pt x="2411" y="2593"/>
                </a:lnTo>
                <a:lnTo>
                  <a:pt x="2413" y="2593"/>
                </a:lnTo>
                <a:lnTo>
                  <a:pt x="2415" y="2593"/>
                </a:lnTo>
                <a:lnTo>
                  <a:pt x="2417" y="2592"/>
                </a:lnTo>
                <a:lnTo>
                  <a:pt x="2420" y="2592"/>
                </a:lnTo>
                <a:lnTo>
                  <a:pt x="2422" y="2592"/>
                </a:lnTo>
                <a:lnTo>
                  <a:pt x="2424" y="2593"/>
                </a:lnTo>
                <a:lnTo>
                  <a:pt x="2426" y="2593"/>
                </a:lnTo>
                <a:lnTo>
                  <a:pt x="2429" y="2593"/>
                </a:lnTo>
                <a:lnTo>
                  <a:pt x="2431" y="2593"/>
                </a:lnTo>
                <a:lnTo>
                  <a:pt x="2433" y="2593"/>
                </a:lnTo>
                <a:lnTo>
                  <a:pt x="2435" y="2593"/>
                </a:lnTo>
                <a:lnTo>
                  <a:pt x="2438" y="2593"/>
                </a:lnTo>
                <a:lnTo>
                  <a:pt x="2440" y="2593"/>
                </a:lnTo>
                <a:lnTo>
                  <a:pt x="2442" y="2593"/>
                </a:lnTo>
                <a:lnTo>
                  <a:pt x="2444" y="2593"/>
                </a:lnTo>
                <a:lnTo>
                  <a:pt x="2447" y="2593"/>
                </a:lnTo>
                <a:lnTo>
                  <a:pt x="2449" y="2593"/>
                </a:lnTo>
                <a:lnTo>
                  <a:pt x="2451" y="2593"/>
                </a:lnTo>
                <a:lnTo>
                  <a:pt x="2453" y="2593"/>
                </a:lnTo>
                <a:lnTo>
                  <a:pt x="2456" y="2593"/>
                </a:lnTo>
                <a:lnTo>
                  <a:pt x="2458" y="2593"/>
                </a:lnTo>
                <a:lnTo>
                  <a:pt x="2460" y="2593"/>
                </a:lnTo>
                <a:lnTo>
                  <a:pt x="2462" y="2593"/>
                </a:lnTo>
                <a:lnTo>
                  <a:pt x="2465" y="2593"/>
                </a:lnTo>
                <a:lnTo>
                  <a:pt x="2467" y="2593"/>
                </a:lnTo>
                <a:lnTo>
                  <a:pt x="2469" y="2594"/>
                </a:lnTo>
                <a:lnTo>
                  <a:pt x="2471" y="2594"/>
                </a:lnTo>
                <a:lnTo>
                  <a:pt x="2474" y="2593"/>
                </a:lnTo>
                <a:lnTo>
                  <a:pt x="2476" y="2593"/>
                </a:lnTo>
                <a:lnTo>
                  <a:pt x="2478" y="2593"/>
                </a:lnTo>
                <a:lnTo>
                  <a:pt x="2480" y="2593"/>
                </a:lnTo>
                <a:lnTo>
                  <a:pt x="2483" y="2593"/>
                </a:lnTo>
                <a:lnTo>
                  <a:pt x="2485" y="2593"/>
                </a:lnTo>
                <a:lnTo>
                  <a:pt x="2487" y="2593"/>
                </a:lnTo>
                <a:lnTo>
                  <a:pt x="2489" y="2593"/>
                </a:lnTo>
                <a:lnTo>
                  <a:pt x="2492" y="2593"/>
                </a:lnTo>
                <a:lnTo>
                  <a:pt x="2494" y="2594"/>
                </a:lnTo>
                <a:lnTo>
                  <a:pt x="2496" y="2594"/>
                </a:lnTo>
                <a:lnTo>
                  <a:pt x="2498" y="2594"/>
                </a:lnTo>
                <a:lnTo>
                  <a:pt x="2501" y="2594"/>
                </a:lnTo>
                <a:lnTo>
                  <a:pt x="2503" y="2594"/>
                </a:lnTo>
                <a:lnTo>
                  <a:pt x="2505" y="2593"/>
                </a:lnTo>
                <a:lnTo>
                  <a:pt x="2507" y="2593"/>
                </a:lnTo>
                <a:lnTo>
                  <a:pt x="2510" y="2593"/>
                </a:lnTo>
                <a:lnTo>
                  <a:pt x="2512" y="2593"/>
                </a:lnTo>
                <a:lnTo>
                  <a:pt x="2514" y="2593"/>
                </a:lnTo>
                <a:lnTo>
                  <a:pt x="2516" y="2593"/>
                </a:lnTo>
                <a:lnTo>
                  <a:pt x="2519" y="2594"/>
                </a:lnTo>
                <a:lnTo>
                  <a:pt x="2521" y="2594"/>
                </a:lnTo>
                <a:lnTo>
                  <a:pt x="2523" y="2594"/>
                </a:lnTo>
                <a:lnTo>
                  <a:pt x="2525" y="2594"/>
                </a:lnTo>
                <a:lnTo>
                  <a:pt x="2528" y="2594"/>
                </a:lnTo>
                <a:lnTo>
                  <a:pt x="2530" y="2594"/>
                </a:lnTo>
                <a:lnTo>
                  <a:pt x="2532" y="2594"/>
                </a:lnTo>
                <a:lnTo>
                  <a:pt x="2535" y="2594"/>
                </a:lnTo>
                <a:lnTo>
                  <a:pt x="2537" y="2594"/>
                </a:lnTo>
                <a:lnTo>
                  <a:pt x="2539" y="2594"/>
                </a:lnTo>
                <a:lnTo>
                  <a:pt x="2541" y="2593"/>
                </a:lnTo>
                <a:lnTo>
                  <a:pt x="2544" y="2593"/>
                </a:lnTo>
                <a:lnTo>
                  <a:pt x="2546" y="2594"/>
                </a:lnTo>
                <a:lnTo>
                  <a:pt x="2548" y="2594"/>
                </a:lnTo>
                <a:lnTo>
                  <a:pt x="2550" y="2594"/>
                </a:lnTo>
                <a:lnTo>
                  <a:pt x="2553" y="2594"/>
                </a:lnTo>
                <a:lnTo>
                  <a:pt x="2555" y="2594"/>
                </a:lnTo>
                <a:lnTo>
                  <a:pt x="2557" y="2594"/>
                </a:lnTo>
                <a:lnTo>
                  <a:pt x="2559" y="2594"/>
                </a:lnTo>
                <a:lnTo>
                  <a:pt x="2562" y="2594"/>
                </a:lnTo>
                <a:lnTo>
                  <a:pt x="2564" y="2594"/>
                </a:lnTo>
                <a:lnTo>
                  <a:pt x="2566" y="2594"/>
                </a:lnTo>
                <a:lnTo>
                  <a:pt x="2568" y="2594"/>
                </a:lnTo>
                <a:lnTo>
                  <a:pt x="2571" y="2593"/>
                </a:lnTo>
                <a:lnTo>
                  <a:pt x="2573" y="2593"/>
                </a:lnTo>
                <a:lnTo>
                  <a:pt x="2575" y="2593"/>
                </a:lnTo>
                <a:lnTo>
                  <a:pt x="2577" y="2593"/>
                </a:lnTo>
                <a:lnTo>
                  <a:pt x="2580" y="2593"/>
                </a:lnTo>
                <a:lnTo>
                  <a:pt x="2582" y="2594"/>
                </a:lnTo>
                <a:lnTo>
                  <a:pt x="2584" y="2594"/>
                </a:lnTo>
                <a:lnTo>
                  <a:pt x="2586" y="2594"/>
                </a:lnTo>
                <a:lnTo>
                  <a:pt x="2589" y="2594"/>
                </a:lnTo>
                <a:lnTo>
                  <a:pt x="2591" y="2594"/>
                </a:lnTo>
                <a:lnTo>
                  <a:pt x="2593" y="2594"/>
                </a:lnTo>
                <a:lnTo>
                  <a:pt x="2595" y="2594"/>
                </a:lnTo>
                <a:lnTo>
                  <a:pt x="2598" y="2594"/>
                </a:lnTo>
                <a:lnTo>
                  <a:pt x="2600" y="2593"/>
                </a:lnTo>
                <a:lnTo>
                  <a:pt x="2602" y="2593"/>
                </a:lnTo>
                <a:lnTo>
                  <a:pt x="2604" y="2593"/>
                </a:lnTo>
                <a:lnTo>
                  <a:pt x="2607" y="2593"/>
                </a:lnTo>
                <a:lnTo>
                  <a:pt x="2609" y="2594"/>
                </a:lnTo>
                <a:lnTo>
                  <a:pt x="2611" y="2594"/>
                </a:lnTo>
                <a:lnTo>
                  <a:pt x="2613" y="2594"/>
                </a:lnTo>
                <a:lnTo>
                  <a:pt x="2616" y="2594"/>
                </a:lnTo>
                <a:lnTo>
                  <a:pt x="2618" y="2594"/>
                </a:lnTo>
                <a:lnTo>
                  <a:pt x="2620" y="2594"/>
                </a:lnTo>
                <a:lnTo>
                  <a:pt x="2622" y="2594"/>
                </a:lnTo>
                <a:lnTo>
                  <a:pt x="2625" y="2594"/>
                </a:lnTo>
                <a:lnTo>
                  <a:pt x="2627" y="2593"/>
                </a:lnTo>
                <a:lnTo>
                  <a:pt x="2629" y="2593"/>
                </a:lnTo>
                <a:lnTo>
                  <a:pt x="2631" y="2593"/>
                </a:lnTo>
                <a:lnTo>
                  <a:pt x="2634" y="2593"/>
                </a:lnTo>
                <a:lnTo>
                  <a:pt x="2636" y="2593"/>
                </a:lnTo>
                <a:lnTo>
                  <a:pt x="2638" y="2593"/>
                </a:lnTo>
                <a:lnTo>
                  <a:pt x="2640" y="2593"/>
                </a:lnTo>
                <a:lnTo>
                  <a:pt x="2643" y="2593"/>
                </a:lnTo>
                <a:lnTo>
                  <a:pt x="2645" y="2593"/>
                </a:lnTo>
                <a:lnTo>
                  <a:pt x="2647" y="2593"/>
                </a:lnTo>
                <a:lnTo>
                  <a:pt x="2649" y="2593"/>
                </a:lnTo>
                <a:lnTo>
                  <a:pt x="2652" y="2593"/>
                </a:lnTo>
                <a:lnTo>
                  <a:pt x="2654" y="2593"/>
                </a:lnTo>
                <a:lnTo>
                  <a:pt x="2656" y="2593"/>
                </a:lnTo>
                <a:lnTo>
                  <a:pt x="2658" y="2592"/>
                </a:lnTo>
                <a:lnTo>
                  <a:pt x="2661" y="2592"/>
                </a:lnTo>
                <a:lnTo>
                  <a:pt x="2663" y="2592"/>
                </a:lnTo>
                <a:lnTo>
                  <a:pt x="2665" y="2592"/>
                </a:lnTo>
                <a:lnTo>
                  <a:pt x="2667" y="2592"/>
                </a:lnTo>
                <a:lnTo>
                  <a:pt x="2670" y="2592"/>
                </a:lnTo>
                <a:lnTo>
                  <a:pt x="2672" y="2592"/>
                </a:lnTo>
                <a:lnTo>
                  <a:pt x="2674" y="2592"/>
                </a:lnTo>
                <a:lnTo>
                  <a:pt x="2676" y="2592"/>
                </a:lnTo>
                <a:lnTo>
                  <a:pt x="2679" y="2592"/>
                </a:lnTo>
                <a:lnTo>
                  <a:pt x="2681" y="2592"/>
                </a:lnTo>
                <a:lnTo>
                  <a:pt x="2683" y="2592"/>
                </a:lnTo>
                <a:lnTo>
                  <a:pt x="2685" y="2592"/>
                </a:lnTo>
                <a:lnTo>
                  <a:pt x="2688" y="2592"/>
                </a:lnTo>
                <a:lnTo>
                  <a:pt x="2690" y="2592"/>
                </a:lnTo>
                <a:lnTo>
                  <a:pt x="2692" y="2592"/>
                </a:lnTo>
                <a:lnTo>
                  <a:pt x="2694" y="2592"/>
                </a:lnTo>
                <a:lnTo>
                  <a:pt x="2697" y="2592"/>
                </a:lnTo>
                <a:lnTo>
                  <a:pt x="2699" y="2592"/>
                </a:lnTo>
                <a:lnTo>
                  <a:pt x="2701" y="2591"/>
                </a:lnTo>
                <a:lnTo>
                  <a:pt x="2704" y="2591"/>
                </a:lnTo>
                <a:lnTo>
                  <a:pt x="2706" y="2591"/>
                </a:lnTo>
                <a:lnTo>
                  <a:pt x="2708" y="2591"/>
                </a:lnTo>
                <a:lnTo>
                  <a:pt x="2710" y="2591"/>
                </a:lnTo>
                <a:lnTo>
                  <a:pt x="2713" y="2591"/>
                </a:lnTo>
                <a:lnTo>
                  <a:pt x="2715" y="2591"/>
                </a:lnTo>
                <a:lnTo>
                  <a:pt x="2717" y="2591"/>
                </a:lnTo>
                <a:lnTo>
                  <a:pt x="2719" y="2590"/>
                </a:lnTo>
                <a:lnTo>
                  <a:pt x="2722" y="2589"/>
                </a:lnTo>
                <a:lnTo>
                  <a:pt x="2724" y="2589"/>
                </a:lnTo>
                <a:lnTo>
                  <a:pt x="2726" y="2587"/>
                </a:lnTo>
                <a:lnTo>
                  <a:pt x="2728" y="2586"/>
                </a:lnTo>
                <a:lnTo>
                  <a:pt x="2731" y="2585"/>
                </a:lnTo>
                <a:lnTo>
                  <a:pt x="2733" y="2583"/>
                </a:lnTo>
                <a:lnTo>
                  <a:pt x="2735" y="2579"/>
                </a:lnTo>
                <a:lnTo>
                  <a:pt x="2737" y="2579"/>
                </a:lnTo>
                <a:lnTo>
                  <a:pt x="2740" y="2576"/>
                </a:lnTo>
                <a:lnTo>
                  <a:pt x="2742" y="2573"/>
                </a:lnTo>
                <a:lnTo>
                  <a:pt x="2744" y="2569"/>
                </a:lnTo>
                <a:lnTo>
                  <a:pt x="2746" y="2565"/>
                </a:lnTo>
                <a:lnTo>
                  <a:pt x="2749" y="2560"/>
                </a:lnTo>
                <a:lnTo>
                  <a:pt x="2751" y="2554"/>
                </a:lnTo>
                <a:lnTo>
                  <a:pt x="2753" y="2547"/>
                </a:lnTo>
                <a:lnTo>
                  <a:pt x="2755" y="2538"/>
                </a:lnTo>
                <a:lnTo>
                  <a:pt x="2758" y="2529"/>
                </a:lnTo>
                <a:lnTo>
                  <a:pt x="2760" y="2518"/>
                </a:lnTo>
                <a:lnTo>
                  <a:pt x="2762" y="2506"/>
                </a:lnTo>
                <a:lnTo>
                  <a:pt x="2764" y="2491"/>
                </a:lnTo>
                <a:lnTo>
                  <a:pt x="2767" y="2475"/>
                </a:lnTo>
                <a:lnTo>
                  <a:pt x="2769" y="2458"/>
                </a:lnTo>
                <a:lnTo>
                  <a:pt x="2771" y="2438"/>
                </a:lnTo>
                <a:lnTo>
                  <a:pt x="2773" y="2416"/>
                </a:lnTo>
                <a:lnTo>
                  <a:pt x="2776" y="2388"/>
                </a:lnTo>
                <a:lnTo>
                  <a:pt x="2778" y="2363"/>
                </a:lnTo>
                <a:lnTo>
                  <a:pt x="2780" y="2332"/>
                </a:lnTo>
                <a:lnTo>
                  <a:pt x="2782" y="2296"/>
                </a:lnTo>
                <a:lnTo>
                  <a:pt x="2785" y="2261"/>
                </a:lnTo>
                <a:lnTo>
                  <a:pt x="2787" y="2220"/>
                </a:lnTo>
                <a:lnTo>
                  <a:pt x="2789" y="2176"/>
                </a:lnTo>
                <a:lnTo>
                  <a:pt x="2791" y="2129"/>
                </a:lnTo>
                <a:lnTo>
                  <a:pt x="2794" y="2078"/>
                </a:lnTo>
                <a:lnTo>
                  <a:pt x="2796" y="2024"/>
                </a:lnTo>
                <a:lnTo>
                  <a:pt x="2798" y="1969"/>
                </a:lnTo>
                <a:lnTo>
                  <a:pt x="2800" y="1907"/>
                </a:lnTo>
                <a:lnTo>
                  <a:pt x="2803" y="1846"/>
                </a:lnTo>
                <a:lnTo>
                  <a:pt x="2805" y="1781"/>
                </a:lnTo>
                <a:lnTo>
                  <a:pt x="2807" y="1712"/>
                </a:lnTo>
                <a:lnTo>
                  <a:pt x="2809" y="1642"/>
                </a:lnTo>
                <a:lnTo>
                  <a:pt x="2812" y="1571"/>
                </a:lnTo>
                <a:lnTo>
                  <a:pt x="2814" y="1497"/>
                </a:lnTo>
                <a:lnTo>
                  <a:pt x="2816" y="1423"/>
                </a:lnTo>
                <a:lnTo>
                  <a:pt x="2818" y="1348"/>
                </a:lnTo>
                <a:lnTo>
                  <a:pt x="2821" y="1274"/>
                </a:lnTo>
                <a:lnTo>
                  <a:pt x="2823" y="1201"/>
                </a:lnTo>
                <a:lnTo>
                  <a:pt x="2825" y="1127"/>
                </a:lnTo>
                <a:lnTo>
                  <a:pt x="2827" y="1056"/>
                </a:lnTo>
                <a:lnTo>
                  <a:pt x="2830" y="988"/>
                </a:lnTo>
                <a:lnTo>
                  <a:pt x="2832" y="923"/>
                </a:lnTo>
                <a:lnTo>
                  <a:pt x="2834" y="860"/>
                </a:lnTo>
                <a:lnTo>
                  <a:pt x="2836" y="803"/>
                </a:lnTo>
                <a:lnTo>
                  <a:pt x="2839" y="750"/>
                </a:lnTo>
                <a:lnTo>
                  <a:pt x="2841" y="701"/>
                </a:lnTo>
                <a:lnTo>
                  <a:pt x="2843" y="659"/>
                </a:lnTo>
                <a:lnTo>
                  <a:pt x="2845" y="622"/>
                </a:lnTo>
                <a:lnTo>
                  <a:pt x="2848" y="589"/>
                </a:lnTo>
                <a:lnTo>
                  <a:pt x="2850" y="565"/>
                </a:lnTo>
                <a:lnTo>
                  <a:pt x="2852" y="546"/>
                </a:lnTo>
                <a:lnTo>
                  <a:pt x="2854" y="534"/>
                </a:lnTo>
                <a:lnTo>
                  <a:pt x="2857" y="528"/>
                </a:lnTo>
                <a:lnTo>
                  <a:pt x="2859" y="527"/>
                </a:lnTo>
                <a:lnTo>
                  <a:pt x="2861" y="533"/>
                </a:lnTo>
                <a:lnTo>
                  <a:pt x="2863" y="546"/>
                </a:lnTo>
                <a:lnTo>
                  <a:pt x="2866" y="564"/>
                </a:lnTo>
                <a:lnTo>
                  <a:pt x="2868" y="587"/>
                </a:lnTo>
                <a:lnTo>
                  <a:pt x="2870" y="616"/>
                </a:lnTo>
                <a:lnTo>
                  <a:pt x="2873" y="650"/>
                </a:lnTo>
                <a:lnTo>
                  <a:pt x="2875" y="688"/>
                </a:lnTo>
                <a:lnTo>
                  <a:pt x="2877" y="731"/>
                </a:lnTo>
                <a:lnTo>
                  <a:pt x="2879" y="778"/>
                </a:lnTo>
                <a:lnTo>
                  <a:pt x="2882" y="828"/>
                </a:lnTo>
                <a:lnTo>
                  <a:pt x="2884" y="880"/>
                </a:lnTo>
                <a:lnTo>
                  <a:pt x="2886" y="936"/>
                </a:lnTo>
                <a:lnTo>
                  <a:pt x="2888" y="992"/>
                </a:lnTo>
                <a:lnTo>
                  <a:pt x="2891" y="1050"/>
                </a:lnTo>
                <a:lnTo>
                  <a:pt x="2893" y="1109"/>
                </a:lnTo>
                <a:lnTo>
                  <a:pt x="2895" y="1168"/>
                </a:lnTo>
                <a:lnTo>
                  <a:pt x="2897" y="1227"/>
                </a:lnTo>
                <a:lnTo>
                  <a:pt x="2900" y="1287"/>
                </a:lnTo>
                <a:lnTo>
                  <a:pt x="2902" y="1345"/>
                </a:lnTo>
                <a:lnTo>
                  <a:pt x="2904" y="1403"/>
                </a:lnTo>
                <a:lnTo>
                  <a:pt x="2906" y="1460"/>
                </a:lnTo>
                <a:lnTo>
                  <a:pt x="2909" y="1516"/>
                </a:lnTo>
                <a:lnTo>
                  <a:pt x="2911" y="1570"/>
                </a:lnTo>
                <a:lnTo>
                  <a:pt x="2913" y="1622"/>
                </a:lnTo>
                <a:lnTo>
                  <a:pt x="2915" y="1673"/>
                </a:lnTo>
                <a:lnTo>
                  <a:pt x="2918" y="1722"/>
                </a:lnTo>
                <a:lnTo>
                  <a:pt x="2920" y="1769"/>
                </a:lnTo>
                <a:lnTo>
                  <a:pt x="2922" y="1813"/>
                </a:lnTo>
                <a:lnTo>
                  <a:pt x="2924" y="1857"/>
                </a:lnTo>
                <a:lnTo>
                  <a:pt x="2927" y="1897"/>
                </a:lnTo>
                <a:lnTo>
                  <a:pt x="2929" y="1935"/>
                </a:lnTo>
                <a:lnTo>
                  <a:pt x="2931" y="1971"/>
                </a:lnTo>
                <a:lnTo>
                  <a:pt x="2933" y="2004"/>
                </a:lnTo>
                <a:lnTo>
                  <a:pt x="2936" y="2036"/>
                </a:lnTo>
                <a:lnTo>
                  <a:pt x="2938" y="2067"/>
                </a:lnTo>
                <a:lnTo>
                  <a:pt x="2940" y="2094"/>
                </a:lnTo>
                <a:lnTo>
                  <a:pt x="2942" y="2122"/>
                </a:lnTo>
                <a:lnTo>
                  <a:pt x="2945" y="2147"/>
                </a:lnTo>
                <a:lnTo>
                  <a:pt x="2947" y="2170"/>
                </a:lnTo>
                <a:lnTo>
                  <a:pt x="2949" y="2191"/>
                </a:lnTo>
                <a:lnTo>
                  <a:pt x="2951" y="2212"/>
                </a:lnTo>
                <a:lnTo>
                  <a:pt x="2954" y="2232"/>
                </a:lnTo>
                <a:lnTo>
                  <a:pt x="2956" y="2249"/>
                </a:lnTo>
                <a:lnTo>
                  <a:pt x="2958" y="2265"/>
                </a:lnTo>
                <a:lnTo>
                  <a:pt x="2960" y="2280"/>
                </a:lnTo>
                <a:lnTo>
                  <a:pt x="2963" y="2293"/>
                </a:lnTo>
                <a:lnTo>
                  <a:pt x="2965" y="2307"/>
                </a:lnTo>
                <a:lnTo>
                  <a:pt x="2967" y="2320"/>
                </a:lnTo>
                <a:lnTo>
                  <a:pt x="2969" y="2331"/>
                </a:lnTo>
                <a:lnTo>
                  <a:pt x="2972" y="2342"/>
                </a:lnTo>
                <a:lnTo>
                  <a:pt x="2974" y="2352"/>
                </a:lnTo>
                <a:lnTo>
                  <a:pt x="2976" y="2361"/>
                </a:lnTo>
                <a:lnTo>
                  <a:pt x="2978" y="2370"/>
                </a:lnTo>
                <a:lnTo>
                  <a:pt x="2981" y="2378"/>
                </a:lnTo>
                <a:lnTo>
                  <a:pt x="2983" y="2386"/>
                </a:lnTo>
                <a:lnTo>
                  <a:pt x="2985" y="2391"/>
                </a:lnTo>
                <a:lnTo>
                  <a:pt x="2987" y="2401"/>
                </a:lnTo>
                <a:lnTo>
                  <a:pt x="2990" y="2408"/>
                </a:lnTo>
                <a:lnTo>
                  <a:pt x="2992" y="2413"/>
                </a:lnTo>
                <a:lnTo>
                  <a:pt x="2994" y="2419"/>
                </a:lnTo>
                <a:lnTo>
                  <a:pt x="2996" y="2424"/>
                </a:lnTo>
                <a:lnTo>
                  <a:pt x="2999" y="2429"/>
                </a:lnTo>
                <a:lnTo>
                  <a:pt x="3001" y="2434"/>
                </a:lnTo>
                <a:lnTo>
                  <a:pt x="3003" y="2438"/>
                </a:lnTo>
                <a:lnTo>
                  <a:pt x="3005" y="2443"/>
                </a:lnTo>
                <a:lnTo>
                  <a:pt x="3008" y="2447"/>
                </a:lnTo>
                <a:lnTo>
                  <a:pt x="3010" y="2451"/>
                </a:lnTo>
                <a:lnTo>
                  <a:pt x="3012" y="2454"/>
                </a:lnTo>
                <a:lnTo>
                  <a:pt x="3014" y="2458"/>
                </a:lnTo>
                <a:lnTo>
                  <a:pt x="3017" y="2462"/>
                </a:lnTo>
                <a:lnTo>
                  <a:pt x="3019" y="2465"/>
                </a:lnTo>
                <a:lnTo>
                  <a:pt x="3021" y="2468"/>
                </a:lnTo>
                <a:lnTo>
                  <a:pt x="3023" y="2472"/>
                </a:lnTo>
                <a:lnTo>
                  <a:pt x="3026" y="2475"/>
                </a:lnTo>
                <a:lnTo>
                  <a:pt x="3028" y="2477"/>
                </a:lnTo>
                <a:lnTo>
                  <a:pt x="3030" y="2480"/>
                </a:lnTo>
                <a:lnTo>
                  <a:pt x="3032" y="2483"/>
                </a:lnTo>
                <a:lnTo>
                  <a:pt x="3035" y="2484"/>
                </a:lnTo>
                <a:lnTo>
                  <a:pt x="3037" y="2488"/>
                </a:lnTo>
                <a:lnTo>
                  <a:pt x="3039" y="2491"/>
                </a:lnTo>
                <a:lnTo>
                  <a:pt x="3042" y="2494"/>
                </a:lnTo>
                <a:lnTo>
                  <a:pt x="3044" y="2496"/>
                </a:lnTo>
                <a:lnTo>
                  <a:pt x="3046" y="2498"/>
                </a:lnTo>
                <a:lnTo>
                  <a:pt x="3048" y="2501"/>
                </a:lnTo>
                <a:lnTo>
                  <a:pt x="3051" y="2503"/>
                </a:lnTo>
                <a:lnTo>
                  <a:pt x="3053" y="2505"/>
                </a:lnTo>
                <a:lnTo>
                  <a:pt x="3055" y="2507"/>
                </a:lnTo>
                <a:lnTo>
                  <a:pt x="3057" y="2509"/>
                </a:lnTo>
                <a:lnTo>
                  <a:pt x="3060" y="2511"/>
                </a:lnTo>
                <a:lnTo>
                  <a:pt x="3062" y="2512"/>
                </a:lnTo>
                <a:lnTo>
                  <a:pt x="3064" y="2514"/>
                </a:lnTo>
                <a:lnTo>
                  <a:pt x="3066" y="2515"/>
                </a:lnTo>
                <a:lnTo>
                  <a:pt x="3069" y="2517"/>
                </a:lnTo>
                <a:lnTo>
                  <a:pt x="3071" y="2518"/>
                </a:lnTo>
                <a:lnTo>
                  <a:pt x="3073" y="2519"/>
                </a:lnTo>
                <a:lnTo>
                  <a:pt x="3075" y="2520"/>
                </a:lnTo>
                <a:lnTo>
                  <a:pt x="3078" y="2521"/>
                </a:lnTo>
                <a:lnTo>
                  <a:pt x="3080" y="2522"/>
                </a:lnTo>
                <a:lnTo>
                  <a:pt x="3082" y="2523"/>
                </a:lnTo>
                <a:lnTo>
                  <a:pt x="3084" y="2524"/>
                </a:lnTo>
                <a:lnTo>
                  <a:pt x="3087" y="2524"/>
                </a:lnTo>
                <a:lnTo>
                  <a:pt x="3089" y="2524"/>
                </a:lnTo>
                <a:lnTo>
                  <a:pt x="3091" y="2524"/>
                </a:lnTo>
                <a:lnTo>
                  <a:pt x="3093" y="2524"/>
                </a:lnTo>
                <a:lnTo>
                  <a:pt x="3096" y="2523"/>
                </a:lnTo>
                <a:lnTo>
                  <a:pt x="3098" y="2522"/>
                </a:lnTo>
                <a:lnTo>
                  <a:pt x="3100" y="2520"/>
                </a:lnTo>
                <a:lnTo>
                  <a:pt x="3102" y="2518"/>
                </a:lnTo>
                <a:lnTo>
                  <a:pt x="3105" y="2515"/>
                </a:lnTo>
                <a:lnTo>
                  <a:pt x="3107" y="2512"/>
                </a:lnTo>
                <a:lnTo>
                  <a:pt x="3109" y="2507"/>
                </a:lnTo>
                <a:lnTo>
                  <a:pt x="3111" y="2503"/>
                </a:lnTo>
                <a:lnTo>
                  <a:pt x="3114" y="2497"/>
                </a:lnTo>
                <a:lnTo>
                  <a:pt x="3116" y="2490"/>
                </a:lnTo>
                <a:lnTo>
                  <a:pt x="3118" y="2482"/>
                </a:lnTo>
                <a:lnTo>
                  <a:pt x="3120" y="2473"/>
                </a:lnTo>
                <a:lnTo>
                  <a:pt x="3123" y="2462"/>
                </a:lnTo>
                <a:lnTo>
                  <a:pt x="3125" y="2449"/>
                </a:lnTo>
                <a:lnTo>
                  <a:pt x="3127" y="2435"/>
                </a:lnTo>
                <a:lnTo>
                  <a:pt x="3129" y="2419"/>
                </a:lnTo>
                <a:lnTo>
                  <a:pt x="3132" y="2399"/>
                </a:lnTo>
                <a:lnTo>
                  <a:pt x="3134" y="2378"/>
                </a:lnTo>
                <a:lnTo>
                  <a:pt x="3136" y="2356"/>
                </a:lnTo>
                <a:lnTo>
                  <a:pt x="3138" y="2330"/>
                </a:lnTo>
                <a:lnTo>
                  <a:pt x="3141" y="2300"/>
                </a:lnTo>
                <a:lnTo>
                  <a:pt x="3143" y="2271"/>
                </a:lnTo>
                <a:lnTo>
                  <a:pt x="3145" y="2239"/>
                </a:lnTo>
                <a:lnTo>
                  <a:pt x="3147" y="2201"/>
                </a:lnTo>
                <a:lnTo>
                  <a:pt x="3150" y="2165"/>
                </a:lnTo>
                <a:lnTo>
                  <a:pt x="3152" y="2122"/>
                </a:lnTo>
                <a:lnTo>
                  <a:pt x="3154" y="2078"/>
                </a:lnTo>
                <a:lnTo>
                  <a:pt x="3156" y="2031"/>
                </a:lnTo>
                <a:lnTo>
                  <a:pt x="3159" y="1982"/>
                </a:lnTo>
                <a:lnTo>
                  <a:pt x="3161" y="1929"/>
                </a:lnTo>
                <a:lnTo>
                  <a:pt x="3163" y="1876"/>
                </a:lnTo>
                <a:lnTo>
                  <a:pt x="3165" y="1817"/>
                </a:lnTo>
                <a:lnTo>
                  <a:pt x="3168" y="1760"/>
                </a:lnTo>
                <a:lnTo>
                  <a:pt x="3170" y="1699"/>
                </a:lnTo>
                <a:lnTo>
                  <a:pt x="3172" y="1635"/>
                </a:lnTo>
                <a:lnTo>
                  <a:pt x="3174" y="1572"/>
                </a:lnTo>
                <a:lnTo>
                  <a:pt x="3177" y="1506"/>
                </a:lnTo>
                <a:lnTo>
                  <a:pt x="3179" y="1440"/>
                </a:lnTo>
                <a:lnTo>
                  <a:pt x="3181" y="1375"/>
                </a:lnTo>
                <a:lnTo>
                  <a:pt x="3183" y="1308"/>
                </a:lnTo>
                <a:lnTo>
                  <a:pt x="3186" y="1241"/>
                </a:lnTo>
                <a:lnTo>
                  <a:pt x="3188" y="1175"/>
                </a:lnTo>
                <a:lnTo>
                  <a:pt x="3190" y="1110"/>
                </a:lnTo>
                <a:lnTo>
                  <a:pt x="3192" y="1044"/>
                </a:lnTo>
                <a:lnTo>
                  <a:pt x="3195" y="980"/>
                </a:lnTo>
                <a:lnTo>
                  <a:pt x="3197" y="918"/>
                </a:lnTo>
                <a:lnTo>
                  <a:pt x="3199" y="856"/>
                </a:lnTo>
                <a:lnTo>
                  <a:pt x="3201" y="796"/>
                </a:lnTo>
                <a:lnTo>
                  <a:pt x="3204" y="741"/>
                </a:lnTo>
                <a:lnTo>
                  <a:pt x="3206" y="684"/>
                </a:lnTo>
                <a:lnTo>
                  <a:pt x="3208" y="635"/>
                </a:lnTo>
                <a:lnTo>
                  <a:pt x="3211" y="584"/>
                </a:lnTo>
                <a:lnTo>
                  <a:pt x="3213" y="541"/>
                </a:lnTo>
                <a:lnTo>
                  <a:pt x="3215" y="496"/>
                </a:lnTo>
                <a:lnTo>
                  <a:pt x="3217" y="461"/>
                </a:lnTo>
                <a:lnTo>
                  <a:pt x="3220" y="426"/>
                </a:lnTo>
                <a:lnTo>
                  <a:pt x="3222" y="395"/>
                </a:lnTo>
                <a:lnTo>
                  <a:pt x="3224" y="370"/>
                </a:lnTo>
                <a:lnTo>
                  <a:pt x="3226" y="348"/>
                </a:lnTo>
                <a:lnTo>
                  <a:pt x="3229" y="330"/>
                </a:lnTo>
                <a:lnTo>
                  <a:pt x="3231" y="314"/>
                </a:lnTo>
                <a:lnTo>
                  <a:pt x="3233" y="306"/>
                </a:lnTo>
                <a:lnTo>
                  <a:pt x="3235" y="300"/>
                </a:lnTo>
                <a:lnTo>
                  <a:pt x="3238" y="299"/>
                </a:lnTo>
                <a:lnTo>
                  <a:pt x="3240" y="302"/>
                </a:lnTo>
                <a:lnTo>
                  <a:pt x="3242" y="308"/>
                </a:lnTo>
                <a:lnTo>
                  <a:pt x="3244" y="319"/>
                </a:lnTo>
                <a:lnTo>
                  <a:pt x="3247" y="333"/>
                </a:lnTo>
                <a:lnTo>
                  <a:pt x="3249" y="351"/>
                </a:lnTo>
                <a:lnTo>
                  <a:pt x="3251" y="372"/>
                </a:lnTo>
                <a:lnTo>
                  <a:pt x="3253" y="396"/>
                </a:lnTo>
                <a:lnTo>
                  <a:pt x="3256" y="424"/>
                </a:lnTo>
                <a:lnTo>
                  <a:pt x="3258" y="457"/>
                </a:lnTo>
                <a:lnTo>
                  <a:pt x="3260" y="490"/>
                </a:lnTo>
                <a:lnTo>
                  <a:pt x="3262" y="527"/>
                </a:lnTo>
                <a:lnTo>
                  <a:pt x="3265" y="567"/>
                </a:lnTo>
                <a:lnTo>
                  <a:pt x="3267" y="607"/>
                </a:lnTo>
                <a:lnTo>
                  <a:pt x="3269" y="652"/>
                </a:lnTo>
                <a:lnTo>
                  <a:pt x="3271" y="695"/>
                </a:lnTo>
                <a:lnTo>
                  <a:pt x="3274" y="743"/>
                </a:lnTo>
                <a:lnTo>
                  <a:pt x="3276" y="789"/>
                </a:lnTo>
                <a:lnTo>
                  <a:pt x="3278" y="839"/>
                </a:lnTo>
                <a:lnTo>
                  <a:pt x="3280" y="887"/>
                </a:lnTo>
                <a:lnTo>
                  <a:pt x="3283" y="937"/>
                </a:lnTo>
                <a:lnTo>
                  <a:pt x="3285" y="986"/>
                </a:lnTo>
                <a:lnTo>
                  <a:pt x="3287" y="1037"/>
                </a:lnTo>
                <a:lnTo>
                  <a:pt x="3289" y="1086"/>
                </a:lnTo>
                <a:lnTo>
                  <a:pt x="3292" y="1136"/>
                </a:lnTo>
                <a:lnTo>
                  <a:pt x="3294" y="1184"/>
                </a:lnTo>
                <a:lnTo>
                  <a:pt x="3296" y="1233"/>
                </a:lnTo>
                <a:lnTo>
                  <a:pt x="3298" y="1281"/>
                </a:lnTo>
                <a:lnTo>
                  <a:pt x="3301" y="1328"/>
                </a:lnTo>
                <a:lnTo>
                  <a:pt x="3303" y="1375"/>
                </a:lnTo>
                <a:lnTo>
                  <a:pt x="3305" y="1420"/>
                </a:lnTo>
                <a:lnTo>
                  <a:pt x="3307" y="1463"/>
                </a:lnTo>
                <a:lnTo>
                  <a:pt x="3310" y="1507"/>
                </a:lnTo>
                <a:lnTo>
                  <a:pt x="3312" y="1547"/>
                </a:lnTo>
                <a:lnTo>
                  <a:pt x="3314" y="1587"/>
                </a:lnTo>
                <a:lnTo>
                  <a:pt x="3316" y="1625"/>
                </a:lnTo>
                <a:lnTo>
                  <a:pt x="3319" y="1662"/>
                </a:lnTo>
                <a:lnTo>
                  <a:pt x="3321" y="1698"/>
                </a:lnTo>
                <a:lnTo>
                  <a:pt x="3323" y="1730"/>
                </a:lnTo>
                <a:lnTo>
                  <a:pt x="3325" y="1764"/>
                </a:lnTo>
                <a:lnTo>
                  <a:pt x="3328" y="1796"/>
                </a:lnTo>
                <a:lnTo>
                  <a:pt x="3330" y="1824"/>
                </a:lnTo>
                <a:lnTo>
                  <a:pt x="3332" y="1854"/>
                </a:lnTo>
                <a:lnTo>
                  <a:pt x="3334" y="1882"/>
                </a:lnTo>
                <a:lnTo>
                  <a:pt x="3337" y="1907"/>
                </a:lnTo>
                <a:lnTo>
                  <a:pt x="3339" y="1932"/>
                </a:lnTo>
                <a:lnTo>
                  <a:pt x="3341" y="1957"/>
                </a:lnTo>
                <a:lnTo>
                  <a:pt x="3343" y="1979"/>
                </a:lnTo>
                <a:lnTo>
                  <a:pt x="3346" y="2000"/>
                </a:lnTo>
                <a:lnTo>
                  <a:pt x="3348" y="2019"/>
                </a:lnTo>
                <a:lnTo>
                  <a:pt x="3350" y="2040"/>
                </a:lnTo>
                <a:lnTo>
                  <a:pt x="3352" y="2059"/>
                </a:lnTo>
                <a:lnTo>
                  <a:pt x="3355" y="2076"/>
                </a:lnTo>
                <a:lnTo>
                  <a:pt x="3357" y="2092"/>
                </a:lnTo>
                <a:lnTo>
                  <a:pt x="3359" y="2107"/>
                </a:lnTo>
                <a:lnTo>
                  <a:pt x="3361" y="2124"/>
                </a:lnTo>
                <a:lnTo>
                  <a:pt x="3364" y="2139"/>
                </a:lnTo>
                <a:lnTo>
                  <a:pt x="3366" y="2153"/>
                </a:lnTo>
                <a:lnTo>
                  <a:pt x="3368" y="2166"/>
                </a:lnTo>
                <a:lnTo>
                  <a:pt x="3370" y="2179"/>
                </a:lnTo>
                <a:lnTo>
                  <a:pt x="3373" y="2191"/>
                </a:lnTo>
                <a:lnTo>
                  <a:pt x="3375" y="2201"/>
                </a:lnTo>
                <a:lnTo>
                  <a:pt x="3377" y="2214"/>
                </a:lnTo>
                <a:lnTo>
                  <a:pt x="3380" y="2225"/>
                </a:lnTo>
                <a:lnTo>
                  <a:pt x="3382" y="2235"/>
                </a:lnTo>
                <a:lnTo>
                  <a:pt x="3384" y="2245"/>
                </a:lnTo>
                <a:lnTo>
                  <a:pt x="3386" y="2254"/>
                </a:lnTo>
                <a:lnTo>
                  <a:pt x="3389" y="2263"/>
                </a:lnTo>
                <a:lnTo>
                  <a:pt x="3391" y="2271"/>
                </a:lnTo>
                <a:lnTo>
                  <a:pt x="3393" y="2280"/>
                </a:lnTo>
                <a:lnTo>
                  <a:pt x="3395" y="2288"/>
                </a:lnTo>
                <a:lnTo>
                  <a:pt x="3398" y="2295"/>
                </a:lnTo>
                <a:lnTo>
                  <a:pt x="3400" y="2303"/>
                </a:lnTo>
                <a:lnTo>
                  <a:pt x="3402" y="2312"/>
                </a:lnTo>
                <a:lnTo>
                  <a:pt x="3404" y="2319"/>
                </a:lnTo>
                <a:lnTo>
                  <a:pt x="3407" y="2326"/>
                </a:lnTo>
                <a:lnTo>
                  <a:pt x="3409" y="2332"/>
                </a:lnTo>
                <a:lnTo>
                  <a:pt x="3411" y="2338"/>
                </a:lnTo>
                <a:lnTo>
                  <a:pt x="3413" y="2344"/>
                </a:lnTo>
                <a:lnTo>
                  <a:pt x="3416" y="2350"/>
                </a:lnTo>
                <a:lnTo>
                  <a:pt x="3418" y="2356"/>
                </a:lnTo>
                <a:lnTo>
                  <a:pt x="3420" y="2361"/>
                </a:lnTo>
                <a:lnTo>
                  <a:pt x="3422" y="2366"/>
                </a:lnTo>
                <a:lnTo>
                  <a:pt x="3425" y="2371"/>
                </a:lnTo>
                <a:lnTo>
                  <a:pt x="3427" y="2376"/>
                </a:lnTo>
                <a:lnTo>
                  <a:pt x="3429" y="2381"/>
                </a:lnTo>
                <a:lnTo>
                  <a:pt x="3431" y="2386"/>
                </a:lnTo>
                <a:lnTo>
                  <a:pt x="3434" y="2389"/>
                </a:lnTo>
                <a:lnTo>
                  <a:pt x="3436" y="2394"/>
                </a:lnTo>
                <a:lnTo>
                  <a:pt x="3438" y="2400"/>
                </a:lnTo>
                <a:lnTo>
                  <a:pt x="3440" y="2405"/>
                </a:lnTo>
                <a:lnTo>
                  <a:pt x="3443" y="2409"/>
                </a:lnTo>
                <a:lnTo>
                  <a:pt x="3445" y="2413"/>
                </a:lnTo>
                <a:lnTo>
                  <a:pt x="3447" y="2417"/>
                </a:lnTo>
                <a:lnTo>
                  <a:pt x="3449" y="2420"/>
                </a:lnTo>
                <a:lnTo>
                  <a:pt x="3452" y="2424"/>
                </a:lnTo>
                <a:lnTo>
                  <a:pt x="3454" y="2427"/>
                </a:lnTo>
                <a:lnTo>
                  <a:pt x="3456" y="2431"/>
                </a:lnTo>
                <a:lnTo>
                  <a:pt x="3458" y="2434"/>
                </a:lnTo>
                <a:lnTo>
                  <a:pt x="3461" y="2437"/>
                </a:lnTo>
                <a:lnTo>
                  <a:pt x="3463" y="2440"/>
                </a:lnTo>
                <a:lnTo>
                  <a:pt x="3465" y="2443"/>
                </a:lnTo>
                <a:lnTo>
                  <a:pt x="3467" y="2446"/>
                </a:lnTo>
                <a:lnTo>
                  <a:pt x="3470" y="2449"/>
                </a:lnTo>
                <a:lnTo>
                  <a:pt x="3472" y="2452"/>
                </a:lnTo>
                <a:lnTo>
                  <a:pt x="3474" y="2454"/>
                </a:lnTo>
                <a:lnTo>
                  <a:pt x="3476" y="2457"/>
                </a:lnTo>
                <a:lnTo>
                  <a:pt x="3479" y="2460"/>
                </a:lnTo>
                <a:lnTo>
                  <a:pt x="3481" y="2462"/>
                </a:lnTo>
                <a:lnTo>
                  <a:pt x="3483" y="2465"/>
                </a:lnTo>
                <a:lnTo>
                  <a:pt x="3485" y="2467"/>
                </a:lnTo>
                <a:lnTo>
                  <a:pt x="3488" y="2470"/>
                </a:lnTo>
                <a:lnTo>
                  <a:pt x="3490" y="2472"/>
                </a:lnTo>
                <a:lnTo>
                  <a:pt x="3492" y="2474"/>
                </a:lnTo>
                <a:lnTo>
                  <a:pt x="3494" y="2476"/>
                </a:lnTo>
                <a:lnTo>
                  <a:pt x="3497" y="2478"/>
                </a:lnTo>
                <a:lnTo>
                  <a:pt x="3499" y="2480"/>
                </a:lnTo>
                <a:lnTo>
                  <a:pt x="3501" y="2482"/>
                </a:lnTo>
                <a:lnTo>
                  <a:pt x="3503" y="2484"/>
                </a:lnTo>
                <a:lnTo>
                  <a:pt x="3506" y="2484"/>
                </a:lnTo>
                <a:lnTo>
                  <a:pt x="3508" y="2488"/>
                </a:lnTo>
                <a:lnTo>
                  <a:pt x="3510" y="2491"/>
                </a:lnTo>
                <a:lnTo>
                  <a:pt x="3512" y="2493"/>
                </a:lnTo>
                <a:lnTo>
                  <a:pt x="3515" y="2495"/>
                </a:lnTo>
                <a:lnTo>
                  <a:pt x="3517" y="2496"/>
                </a:lnTo>
                <a:lnTo>
                  <a:pt x="3519" y="2498"/>
                </a:lnTo>
                <a:lnTo>
                  <a:pt x="3521" y="2499"/>
                </a:lnTo>
                <a:lnTo>
                  <a:pt x="3524" y="2501"/>
                </a:lnTo>
                <a:lnTo>
                  <a:pt x="3526" y="2502"/>
                </a:lnTo>
                <a:lnTo>
                  <a:pt x="3528" y="2503"/>
                </a:lnTo>
                <a:lnTo>
                  <a:pt x="3530" y="2505"/>
                </a:lnTo>
                <a:lnTo>
                  <a:pt x="3533" y="2506"/>
                </a:lnTo>
                <a:lnTo>
                  <a:pt x="3535" y="2508"/>
                </a:lnTo>
                <a:lnTo>
                  <a:pt x="3537" y="2509"/>
                </a:lnTo>
                <a:lnTo>
                  <a:pt x="3539" y="2510"/>
                </a:lnTo>
                <a:lnTo>
                  <a:pt x="3542" y="2512"/>
                </a:lnTo>
                <a:lnTo>
                  <a:pt x="3544" y="2513"/>
                </a:lnTo>
                <a:lnTo>
                  <a:pt x="3546" y="2514"/>
                </a:lnTo>
                <a:lnTo>
                  <a:pt x="3549" y="2515"/>
                </a:lnTo>
                <a:lnTo>
                  <a:pt x="3551" y="2517"/>
                </a:lnTo>
                <a:lnTo>
                  <a:pt x="3553" y="2518"/>
                </a:lnTo>
                <a:lnTo>
                  <a:pt x="3555" y="2519"/>
                </a:lnTo>
                <a:lnTo>
                  <a:pt x="3558" y="2520"/>
                </a:lnTo>
                <a:lnTo>
                  <a:pt x="3560" y="2520"/>
                </a:lnTo>
                <a:lnTo>
                  <a:pt x="3562" y="2521"/>
                </a:lnTo>
                <a:lnTo>
                  <a:pt x="3564" y="2522"/>
                </a:lnTo>
                <a:lnTo>
                  <a:pt x="3567" y="2523"/>
                </a:lnTo>
                <a:lnTo>
                  <a:pt x="3569" y="2524"/>
                </a:lnTo>
                <a:lnTo>
                  <a:pt x="3571" y="2525"/>
                </a:lnTo>
                <a:lnTo>
                  <a:pt x="3573" y="2526"/>
                </a:lnTo>
                <a:lnTo>
                  <a:pt x="3576" y="2527"/>
                </a:lnTo>
                <a:lnTo>
                  <a:pt x="3578" y="2528"/>
                </a:lnTo>
                <a:lnTo>
                  <a:pt x="3580" y="2529"/>
                </a:lnTo>
                <a:lnTo>
                  <a:pt x="3582" y="2529"/>
                </a:lnTo>
                <a:lnTo>
                  <a:pt x="3585" y="2530"/>
                </a:lnTo>
                <a:lnTo>
                  <a:pt x="3587" y="2531"/>
                </a:lnTo>
                <a:lnTo>
                  <a:pt x="3589" y="2532"/>
                </a:lnTo>
                <a:lnTo>
                  <a:pt x="3591" y="2533"/>
                </a:lnTo>
                <a:lnTo>
                  <a:pt x="3594" y="2533"/>
                </a:lnTo>
                <a:lnTo>
                  <a:pt x="3596" y="2534"/>
                </a:lnTo>
                <a:lnTo>
                  <a:pt x="3598" y="2534"/>
                </a:lnTo>
                <a:lnTo>
                  <a:pt x="3600" y="2535"/>
                </a:lnTo>
                <a:lnTo>
                  <a:pt x="3603" y="2536"/>
                </a:lnTo>
                <a:lnTo>
                  <a:pt x="3605" y="2537"/>
                </a:lnTo>
                <a:lnTo>
                  <a:pt x="3607" y="2537"/>
                </a:lnTo>
                <a:lnTo>
                  <a:pt x="3609" y="2538"/>
                </a:lnTo>
                <a:lnTo>
                  <a:pt x="3612" y="2539"/>
                </a:lnTo>
                <a:lnTo>
                  <a:pt x="3614" y="2539"/>
                </a:lnTo>
                <a:lnTo>
                  <a:pt x="3616" y="2540"/>
                </a:lnTo>
                <a:lnTo>
                  <a:pt x="3618" y="2540"/>
                </a:lnTo>
                <a:lnTo>
                  <a:pt x="3621" y="2541"/>
                </a:lnTo>
                <a:lnTo>
                  <a:pt x="3623" y="2541"/>
                </a:lnTo>
                <a:lnTo>
                  <a:pt x="3625" y="2542"/>
                </a:lnTo>
                <a:lnTo>
                  <a:pt x="3627" y="2542"/>
                </a:lnTo>
                <a:lnTo>
                  <a:pt x="3630" y="2542"/>
                </a:lnTo>
                <a:lnTo>
                  <a:pt x="3632" y="2543"/>
                </a:lnTo>
                <a:lnTo>
                  <a:pt x="3634" y="2543"/>
                </a:lnTo>
                <a:lnTo>
                  <a:pt x="3636" y="2544"/>
                </a:lnTo>
                <a:lnTo>
                  <a:pt x="3639" y="2544"/>
                </a:lnTo>
                <a:lnTo>
                  <a:pt x="3641" y="2545"/>
                </a:lnTo>
                <a:lnTo>
                  <a:pt x="3643" y="2546"/>
                </a:lnTo>
                <a:lnTo>
                  <a:pt x="3645" y="2546"/>
                </a:lnTo>
                <a:lnTo>
                  <a:pt x="3648" y="2547"/>
                </a:lnTo>
                <a:lnTo>
                  <a:pt x="3650" y="2547"/>
                </a:lnTo>
                <a:lnTo>
                  <a:pt x="3652" y="2547"/>
                </a:lnTo>
                <a:lnTo>
                  <a:pt x="3654" y="2548"/>
                </a:lnTo>
                <a:lnTo>
                  <a:pt x="3657" y="2548"/>
                </a:lnTo>
                <a:lnTo>
                  <a:pt x="3659" y="2548"/>
                </a:lnTo>
                <a:lnTo>
                  <a:pt x="3661" y="2549"/>
                </a:lnTo>
                <a:lnTo>
                  <a:pt x="3663" y="2549"/>
                </a:lnTo>
                <a:lnTo>
                  <a:pt x="3666" y="2549"/>
                </a:lnTo>
                <a:lnTo>
                  <a:pt x="3668" y="2550"/>
                </a:lnTo>
                <a:lnTo>
                  <a:pt x="3670" y="2550"/>
                </a:lnTo>
                <a:lnTo>
                  <a:pt x="3672" y="2551"/>
                </a:lnTo>
                <a:lnTo>
                  <a:pt x="3675" y="2551"/>
                </a:lnTo>
                <a:lnTo>
                  <a:pt x="3677" y="2552"/>
                </a:lnTo>
                <a:lnTo>
                  <a:pt x="3679" y="2552"/>
                </a:lnTo>
                <a:lnTo>
                  <a:pt x="3681" y="2552"/>
                </a:lnTo>
                <a:lnTo>
                  <a:pt x="3684" y="2553"/>
                </a:lnTo>
                <a:lnTo>
                  <a:pt x="3686" y="2553"/>
                </a:lnTo>
                <a:lnTo>
                  <a:pt x="3688" y="2553"/>
                </a:lnTo>
                <a:lnTo>
                  <a:pt x="3690" y="2554"/>
                </a:lnTo>
                <a:lnTo>
                  <a:pt x="3693" y="2554"/>
                </a:lnTo>
                <a:lnTo>
                  <a:pt x="3695" y="2554"/>
                </a:lnTo>
                <a:lnTo>
                  <a:pt x="3697" y="2554"/>
                </a:lnTo>
                <a:lnTo>
                  <a:pt x="3699" y="2554"/>
                </a:lnTo>
                <a:lnTo>
                  <a:pt x="3702" y="2555"/>
                </a:lnTo>
                <a:lnTo>
                  <a:pt x="3704" y="2555"/>
                </a:lnTo>
                <a:lnTo>
                  <a:pt x="3706" y="2556"/>
                </a:lnTo>
                <a:lnTo>
                  <a:pt x="3708" y="2556"/>
                </a:lnTo>
                <a:lnTo>
                  <a:pt x="3711" y="2556"/>
                </a:lnTo>
                <a:lnTo>
                  <a:pt x="3713" y="2557"/>
                </a:lnTo>
                <a:lnTo>
                  <a:pt x="3715" y="2557"/>
                </a:lnTo>
                <a:lnTo>
                  <a:pt x="3718" y="2557"/>
                </a:lnTo>
                <a:lnTo>
                  <a:pt x="3720" y="2557"/>
                </a:lnTo>
                <a:lnTo>
                  <a:pt x="3722" y="2557"/>
                </a:lnTo>
                <a:lnTo>
                  <a:pt x="3724" y="2557"/>
                </a:lnTo>
                <a:lnTo>
                  <a:pt x="3727" y="2557"/>
                </a:lnTo>
                <a:lnTo>
                  <a:pt x="3729" y="2557"/>
                </a:lnTo>
                <a:lnTo>
                  <a:pt x="3731" y="2557"/>
                </a:lnTo>
                <a:lnTo>
                  <a:pt x="3733" y="2557"/>
                </a:lnTo>
                <a:lnTo>
                  <a:pt x="3736" y="2557"/>
                </a:lnTo>
                <a:lnTo>
                  <a:pt x="3738" y="2557"/>
                </a:lnTo>
                <a:lnTo>
                  <a:pt x="3740" y="2558"/>
                </a:lnTo>
                <a:lnTo>
                  <a:pt x="3742" y="2557"/>
                </a:lnTo>
                <a:lnTo>
                  <a:pt x="3745" y="2557"/>
                </a:lnTo>
                <a:lnTo>
                  <a:pt x="3747" y="2557"/>
                </a:lnTo>
                <a:lnTo>
                  <a:pt x="3749" y="2557"/>
                </a:lnTo>
                <a:lnTo>
                  <a:pt x="3751" y="2557"/>
                </a:lnTo>
                <a:lnTo>
                  <a:pt x="3754" y="2556"/>
                </a:lnTo>
                <a:lnTo>
                  <a:pt x="3756" y="2555"/>
                </a:lnTo>
                <a:lnTo>
                  <a:pt x="3758" y="2555"/>
                </a:lnTo>
                <a:lnTo>
                  <a:pt x="3760" y="2553"/>
                </a:lnTo>
                <a:lnTo>
                  <a:pt x="3763" y="2553"/>
                </a:lnTo>
                <a:lnTo>
                  <a:pt x="3765" y="2551"/>
                </a:lnTo>
                <a:lnTo>
                  <a:pt x="3767" y="2550"/>
                </a:lnTo>
                <a:lnTo>
                  <a:pt x="3769" y="2548"/>
                </a:lnTo>
                <a:lnTo>
                  <a:pt x="3772" y="2547"/>
                </a:lnTo>
                <a:lnTo>
                  <a:pt x="3774" y="2544"/>
                </a:lnTo>
                <a:lnTo>
                  <a:pt x="3776" y="2542"/>
                </a:lnTo>
                <a:lnTo>
                  <a:pt x="3778" y="2539"/>
                </a:lnTo>
                <a:lnTo>
                  <a:pt x="3781" y="2535"/>
                </a:lnTo>
                <a:lnTo>
                  <a:pt x="3783" y="2531"/>
                </a:lnTo>
                <a:lnTo>
                  <a:pt x="3785" y="2527"/>
                </a:lnTo>
                <a:lnTo>
                  <a:pt x="3787" y="2521"/>
                </a:lnTo>
                <a:lnTo>
                  <a:pt x="3790" y="2515"/>
                </a:lnTo>
                <a:lnTo>
                  <a:pt x="3792" y="2508"/>
                </a:lnTo>
                <a:lnTo>
                  <a:pt x="3794" y="2501"/>
                </a:lnTo>
                <a:lnTo>
                  <a:pt x="3796" y="2492"/>
                </a:lnTo>
                <a:lnTo>
                  <a:pt x="3799" y="2483"/>
                </a:lnTo>
                <a:lnTo>
                  <a:pt x="3801" y="2473"/>
                </a:lnTo>
                <a:lnTo>
                  <a:pt x="3803" y="2461"/>
                </a:lnTo>
                <a:lnTo>
                  <a:pt x="3805" y="2448"/>
                </a:lnTo>
                <a:lnTo>
                  <a:pt x="3808" y="2434"/>
                </a:lnTo>
                <a:lnTo>
                  <a:pt x="3810" y="2418"/>
                </a:lnTo>
                <a:lnTo>
                  <a:pt x="3812" y="2399"/>
                </a:lnTo>
                <a:lnTo>
                  <a:pt x="3814" y="2378"/>
                </a:lnTo>
                <a:lnTo>
                  <a:pt x="3817" y="2358"/>
                </a:lnTo>
                <a:lnTo>
                  <a:pt x="3819" y="2334"/>
                </a:lnTo>
                <a:lnTo>
                  <a:pt x="3821" y="2307"/>
                </a:lnTo>
                <a:lnTo>
                  <a:pt x="3823" y="2278"/>
                </a:lnTo>
                <a:lnTo>
                  <a:pt x="3826" y="2249"/>
                </a:lnTo>
                <a:lnTo>
                  <a:pt x="3828" y="2214"/>
                </a:lnTo>
                <a:lnTo>
                  <a:pt x="3830" y="2179"/>
                </a:lnTo>
                <a:lnTo>
                  <a:pt x="3832" y="2142"/>
                </a:lnTo>
                <a:lnTo>
                  <a:pt x="3835" y="2100"/>
                </a:lnTo>
                <a:lnTo>
                  <a:pt x="3837" y="2059"/>
                </a:lnTo>
                <a:lnTo>
                  <a:pt x="3839" y="2010"/>
                </a:lnTo>
                <a:lnTo>
                  <a:pt x="3841" y="1964"/>
                </a:lnTo>
                <a:lnTo>
                  <a:pt x="3844" y="1910"/>
                </a:lnTo>
                <a:lnTo>
                  <a:pt x="3846" y="1858"/>
                </a:lnTo>
                <a:lnTo>
                  <a:pt x="3848" y="1799"/>
                </a:lnTo>
                <a:lnTo>
                  <a:pt x="3850" y="1740"/>
                </a:lnTo>
                <a:lnTo>
                  <a:pt x="3853" y="1678"/>
                </a:lnTo>
                <a:lnTo>
                  <a:pt x="3855" y="1613"/>
                </a:lnTo>
                <a:lnTo>
                  <a:pt x="3857" y="1546"/>
                </a:lnTo>
                <a:lnTo>
                  <a:pt x="3859" y="1479"/>
                </a:lnTo>
                <a:lnTo>
                  <a:pt x="3862" y="1409"/>
                </a:lnTo>
                <a:lnTo>
                  <a:pt x="3864" y="1338"/>
                </a:lnTo>
                <a:lnTo>
                  <a:pt x="3866" y="1266"/>
                </a:lnTo>
                <a:lnTo>
                  <a:pt x="3868" y="1193"/>
                </a:lnTo>
                <a:lnTo>
                  <a:pt x="3871" y="1119"/>
                </a:lnTo>
                <a:lnTo>
                  <a:pt x="3873" y="1045"/>
                </a:lnTo>
                <a:lnTo>
                  <a:pt x="3875" y="970"/>
                </a:lnTo>
                <a:lnTo>
                  <a:pt x="3877" y="897"/>
                </a:lnTo>
                <a:lnTo>
                  <a:pt x="3880" y="824"/>
                </a:lnTo>
                <a:lnTo>
                  <a:pt x="3882" y="751"/>
                </a:lnTo>
                <a:lnTo>
                  <a:pt x="3884" y="680"/>
                </a:lnTo>
                <a:lnTo>
                  <a:pt x="3887" y="611"/>
                </a:lnTo>
                <a:lnTo>
                  <a:pt x="3889" y="545"/>
                </a:lnTo>
                <a:lnTo>
                  <a:pt x="3891" y="479"/>
                </a:lnTo>
                <a:lnTo>
                  <a:pt x="3893" y="418"/>
                </a:lnTo>
                <a:lnTo>
                  <a:pt x="3896" y="361"/>
                </a:lnTo>
                <a:lnTo>
                  <a:pt x="3898" y="305"/>
                </a:lnTo>
                <a:lnTo>
                  <a:pt x="3900" y="257"/>
                </a:lnTo>
                <a:lnTo>
                  <a:pt x="3902" y="209"/>
                </a:lnTo>
                <a:lnTo>
                  <a:pt x="3905" y="169"/>
                </a:lnTo>
                <a:lnTo>
                  <a:pt x="3907" y="128"/>
                </a:lnTo>
                <a:lnTo>
                  <a:pt x="3909" y="97"/>
                </a:lnTo>
                <a:lnTo>
                  <a:pt x="3911" y="69"/>
                </a:lnTo>
                <a:lnTo>
                  <a:pt x="3914" y="44"/>
                </a:lnTo>
                <a:lnTo>
                  <a:pt x="3916" y="25"/>
                </a:lnTo>
                <a:lnTo>
                  <a:pt x="3918" y="12"/>
                </a:lnTo>
                <a:lnTo>
                  <a:pt x="3920" y="4"/>
                </a:lnTo>
                <a:lnTo>
                  <a:pt x="3923" y="0"/>
                </a:lnTo>
                <a:lnTo>
                  <a:pt x="3925" y="2"/>
                </a:lnTo>
                <a:lnTo>
                  <a:pt x="3927" y="8"/>
                </a:lnTo>
                <a:lnTo>
                  <a:pt x="3929" y="19"/>
                </a:lnTo>
                <a:lnTo>
                  <a:pt x="3932" y="35"/>
                </a:lnTo>
                <a:lnTo>
                  <a:pt x="3934" y="55"/>
                </a:lnTo>
                <a:lnTo>
                  <a:pt x="3936" y="80"/>
                </a:lnTo>
                <a:lnTo>
                  <a:pt x="3938" y="109"/>
                </a:lnTo>
                <a:lnTo>
                  <a:pt x="3941" y="141"/>
                </a:lnTo>
                <a:lnTo>
                  <a:pt x="3943" y="179"/>
                </a:lnTo>
                <a:lnTo>
                  <a:pt x="3945" y="218"/>
                </a:lnTo>
                <a:lnTo>
                  <a:pt x="3947" y="262"/>
                </a:lnTo>
                <a:lnTo>
                  <a:pt x="3950" y="308"/>
                </a:lnTo>
                <a:lnTo>
                  <a:pt x="3952" y="357"/>
                </a:lnTo>
                <a:lnTo>
                  <a:pt x="3954" y="408"/>
                </a:lnTo>
                <a:lnTo>
                  <a:pt x="3956" y="461"/>
                </a:lnTo>
                <a:lnTo>
                  <a:pt x="3959" y="515"/>
                </a:lnTo>
                <a:lnTo>
                  <a:pt x="3961" y="571"/>
                </a:lnTo>
                <a:lnTo>
                  <a:pt x="3963" y="628"/>
                </a:lnTo>
                <a:lnTo>
                  <a:pt x="3965" y="686"/>
                </a:lnTo>
                <a:lnTo>
                  <a:pt x="3968" y="744"/>
                </a:lnTo>
                <a:lnTo>
                  <a:pt x="3970" y="803"/>
                </a:lnTo>
                <a:lnTo>
                  <a:pt x="3972" y="862"/>
                </a:lnTo>
                <a:lnTo>
                  <a:pt x="3974" y="921"/>
                </a:lnTo>
                <a:lnTo>
                  <a:pt x="3977" y="980"/>
                </a:lnTo>
                <a:lnTo>
                  <a:pt x="3979" y="1039"/>
                </a:lnTo>
                <a:lnTo>
                  <a:pt x="3981" y="1096"/>
                </a:lnTo>
                <a:lnTo>
                  <a:pt x="3983" y="1153"/>
                </a:lnTo>
                <a:lnTo>
                  <a:pt x="3986" y="1209"/>
                </a:lnTo>
                <a:lnTo>
                  <a:pt x="3988" y="1264"/>
                </a:lnTo>
                <a:lnTo>
                  <a:pt x="3990" y="1318"/>
                </a:lnTo>
                <a:lnTo>
                  <a:pt x="3992" y="1370"/>
                </a:lnTo>
                <a:lnTo>
                  <a:pt x="3995" y="1421"/>
                </a:lnTo>
                <a:lnTo>
                  <a:pt x="3997" y="1470"/>
                </a:lnTo>
                <a:lnTo>
                  <a:pt x="3999" y="1517"/>
                </a:lnTo>
                <a:lnTo>
                  <a:pt x="4001" y="1563"/>
                </a:lnTo>
                <a:lnTo>
                  <a:pt x="4004" y="1607"/>
                </a:lnTo>
                <a:lnTo>
                  <a:pt x="4006" y="1650"/>
                </a:lnTo>
                <a:lnTo>
                  <a:pt x="4008" y="1692"/>
                </a:lnTo>
                <a:lnTo>
                  <a:pt x="4010" y="1730"/>
                </a:lnTo>
                <a:lnTo>
                  <a:pt x="4013" y="1770"/>
                </a:lnTo>
                <a:lnTo>
                  <a:pt x="4015" y="1806"/>
                </a:lnTo>
                <a:lnTo>
                  <a:pt x="4017" y="1840"/>
                </a:lnTo>
                <a:lnTo>
                  <a:pt x="4019" y="1874"/>
                </a:lnTo>
                <a:lnTo>
                  <a:pt x="4022" y="1905"/>
                </a:lnTo>
                <a:lnTo>
                  <a:pt x="4024" y="1935"/>
                </a:lnTo>
                <a:lnTo>
                  <a:pt x="4026" y="1965"/>
                </a:lnTo>
                <a:lnTo>
                  <a:pt x="4028" y="1992"/>
                </a:lnTo>
                <a:lnTo>
                  <a:pt x="4031" y="2016"/>
                </a:lnTo>
                <a:lnTo>
                  <a:pt x="4033" y="2041"/>
                </a:lnTo>
                <a:lnTo>
                  <a:pt x="4035" y="2065"/>
                </a:lnTo>
                <a:lnTo>
                  <a:pt x="4037" y="2086"/>
                </a:lnTo>
                <a:lnTo>
                  <a:pt x="4040" y="2106"/>
                </a:lnTo>
                <a:lnTo>
                  <a:pt x="4042" y="2127"/>
                </a:lnTo>
                <a:lnTo>
                  <a:pt x="4044" y="2147"/>
                </a:lnTo>
                <a:lnTo>
                  <a:pt x="4046" y="2164"/>
                </a:lnTo>
                <a:lnTo>
                  <a:pt x="4049" y="2181"/>
                </a:lnTo>
                <a:lnTo>
                  <a:pt x="4051" y="2195"/>
                </a:lnTo>
                <a:lnTo>
                  <a:pt x="4053" y="2211"/>
                </a:lnTo>
                <a:lnTo>
                  <a:pt x="4056" y="2226"/>
                </a:lnTo>
                <a:lnTo>
                  <a:pt x="4058" y="2240"/>
                </a:lnTo>
                <a:lnTo>
                  <a:pt x="4060" y="2252"/>
                </a:lnTo>
                <a:lnTo>
                  <a:pt x="4062" y="2264"/>
                </a:lnTo>
                <a:lnTo>
                  <a:pt x="4065" y="2275"/>
                </a:lnTo>
                <a:lnTo>
                  <a:pt x="4067" y="2285"/>
                </a:lnTo>
                <a:lnTo>
                  <a:pt x="4069" y="2294"/>
                </a:lnTo>
                <a:lnTo>
                  <a:pt x="4071" y="2305"/>
                </a:lnTo>
                <a:lnTo>
                  <a:pt x="4074" y="2316"/>
                </a:lnTo>
                <a:lnTo>
                  <a:pt x="4076" y="2324"/>
                </a:lnTo>
                <a:lnTo>
                  <a:pt x="4078" y="2333"/>
                </a:lnTo>
                <a:lnTo>
                  <a:pt x="4080" y="2340"/>
                </a:lnTo>
                <a:lnTo>
                  <a:pt x="4083" y="2348"/>
                </a:lnTo>
                <a:lnTo>
                  <a:pt x="4085" y="2355"/>
                </a:lnTo>
                <a:lnTo>
                  <a:pt x="4087" y="2362"/>
                </a:lnTo>
                <a:lnTo>
                  <a:pt x="4089" y="2368"/>
                </a:lnTo>
                <a:lnTo>
                  <a:pt x="4092" y="2374"/>
                </a:lnTo>
                <a:lnTo>
                  <a:pt x="4094" y="2380"/>
                </a:lnTo>
                <a:lnTo>
                  <a:pt x="4096" y="2385"/>
                </a:lnTo>
                <a:lnTo>
                  <a:pt x="4098" y="2389"/>
                </a:lnTo>
                <a:lnTo>
                  <a:pt x="4101" y="2396"/>
                </a:lnTo>
                <a:lnTo>
                  <a:pt x="4103" y="2402"/>
                </a:lnTo>
                <a:lnTo>
                  <a:pt x="4105" y="2407"/>
                </a:lnTo>
                <a:lnTo>
                  <a:pt x="4107" y="2412"/>
                </a:lnTo>
                <a:lnTo>
                  <a:pt x="4110" y="2417"/>
                </a:lnTo>
                <a:lnTo>
                  <a:pt x="4112" y="2421"/>
                </a:lnTo>
                <a:lnTo>
                  <a:pt x="4114" y="2425"/>
                </a:lnTo>
                <a:lnTo>
                  <a:pt x="4116" y="2429"/>
                </a:lnTo>
                <a:lnTo>
                  <a:pt x="4119" y="2433"/>
                </a:lnTo>
                <a:lnTo>
                  <a:pt x="4121" y="2437"/>
                </a:lnTo>
                <a:lnTo>
                  <a:pt x="4123" y="2440"/>
                </a:lnTo>
                <a:lnTo>
                  <a:pt x="4125" y="2443"/>
                </a:lnTo>
                <a:lnTo>
                  <a:pt x="4128" y="2446"/>
                </a:lnTo>
                <a:lnTo>
                  <a:pt x="4130" y="2450"/>
                </a:lnTo>
                <a:lnTo>
                  <a:pt x="4132" y="2453"/>
                </a:lnTo>
                <a:lnTo>
                  <a:pt x="4134" y="2456"/>
                </a:lnTo>
                <a:lnTo>
                  <a:pt x="4137" y="2459"/>
                </a:lnTo>
                <a:lnTo>
                  <a:pt x="4139" y="2462"/>
                </a:lnTo>
                <a:lnTo>
                  <a:pt x="4141" y="2465"/>
                </a:lnTo>
                <a:lnTo>
                  <a:pt x="4143" y="2468"/>
                </a:lnTo>
                <a:lnTo>
                  <a:pt x="4146" y="2470"/>
                </a:lnTo>
                <a:lnTo>
                  <a:pt x="4148" y="2473"/>
                </a:lnTo>
                <a:lnTo>
                  <a:pt x="4150" y="2475"/>
                </a:lnTo>
                <a:lnTo>
                  <a:pt x="4152" y="2477"/>
                </a:lnTo>
                <a:lnTo>
                  <a:pt x="4155" y="2480"/>
                </a:lnTo>
                <a:lnTo>
                  <a:pt x="4157" y="2482"/>
                </a:lnTo>
                <a:lnTo>
                  <a:pt x="4159" y="2484"/>
                </a:lnTo>
                <a:lnTo>
                  <a:pt x="4161" y="2484"/>
                </a:lnTo>
                <a:lnTo>
                  <a:pt x="4164" y="2488"/>
                </a:lnTo>
                <a:lnTo>
                  <a:pt x="4166" y="2491"/>
                </a:lnTo>
                <a:lnTo>
                  <a:pt x="4168" y="2493"/>
                </a:lnTo>
                <a:lnTo>
                  <a:pt x="4170" y="2495"/>
                </a:lnTo>
                <a:lnTo>
                  <a:pt x="4173" y="2497"/>
                </a:lnTo>
                <a:lnTo>
                  <a:pt x="4175" y="2499"/>
                </a:lnTo>
                <a:lnTo>
                  <a:pt x="4177" y="2501"/>
                </a:lnTo>
                <a:lnTo>
                  <a:pt x="4179" y="2503"/>
                </a:lnTo>
                <a:lnTo>
                  <a:pt x="4182" y="2504"/>
                </a:lnTo>
                <a:lnTo>
                  <a:pt x="4184" y="2506"/>
                </a:lnTo>
                <a:lnTo>
                  <a:pt x="4186" y="2507"/>
                </a:lnTo>
                <a:lnTo>
                  <a:pt x="4188" y="2509"/>
                </a:lnTo>
                <a:lnTo>
                  <a:pt x="4191" y="2510"/>
                </a:lnTo>
                <a:lnTo>
                  <a:pt x="4193" y="2512"/>
                </a:lnTo>
                <a:lnTo>
                  <a:pt x="4195" y="2513"/>
                </a:lnTo>
                <a:lnTo>
                  <a:pt x="4197" y="2514"/>
                </a:lnTo>
                <a:lnTo>
                  <a:pt x="4200" y="2515"/>
                </a:lnTo>
                <a:lnTo>
                  <a:pt x="4202" y="2517"/>
                </a:lnTo>
                <a:lnTo>
                  <a:pt x="4204" y="2518"/>
                </a:lnTo>
                <a:lnTo>
                  <a:pt x="4206" y="2519"/>
                </a:lnTo>
                <a:lnTo>
                  <a:pt x="4209" y="2520"/>
                </a:lnTo>
                <a:lnTo>
                  <a:pt x="4211" y="2521"/>
                </a:lnTo>
                <a:lnTo>
                  <a:pt x="4213" y="2523"/>
                </a:lnTo>
                <a:lnTo>
                  <a:pt x="4215" y="2524"/>
                </a:lnTo>
                <a:lnTo>
                  <a:pt x="4218" y="2525"/>
                </a:lnTo>
                <a:lnTo>
                  <a:pt x="4220" y="2526"/>
                </a:lnTo>
                <a:lnTo>
                  <a:pt x="4222" y="2527"/>
                </a:lnTo>
                <a:lnTo>
                  <a:pt x="4225" y="2528"/>
                </a:lnTo>
                <a:lnTo>
                  <a:pt x="4227" y="2529"/>
                </a:lnTo>
                <a:lnTo>
                  <a:pt x="4229" y="2530"/>
                </a:lnTo>
                <a:lnTo>
                  <a:pt x="4231" y="2531"/>
                </a:lnTo>
                <a:lnTo>
                  <a:pt x="4234" y="2531"/>
                </a:lnTo>
                <a:lnTo>
                  <a:pt x="4236" y="2532"/>
                </a:lnTo>
                <a:lnTo>
                  <a:pt x="4238" y="2533"/>
                </a:lnTo>
                <a:lnTo>
                  <a:pt x="4240" y="2534"/>
                </a:lnTo>
                <a:lnTo>
                  <a:pt x="4243" y="2535"/>
                </a:lnTo>
                <a:lnTo>
                  <a:pt x="4245" y="2536"/>
                </a:lnTo>
                <a:lnTo>
                  <a:pt x="4247" y="2537"/>
                </a:lnTo>
                <a:lnTo>
                  <a:pt x="4249" y="2537"/>
                </a:lnTo>
                <a:lnTo>
                  <a:pt x="4252" y="2538"/>
                </a:lnTo>
                <a:lnTo>
                  <a:pt x="4254" y="2539"/>
                </a:lnTo>
                <a:lnTo>
                  <a:pt x="4256" y="2539"/>
                </a:lnTo>
                <a:lnTo>
                  <a:pt x="4258" y="2540"/>
                </a:lnTo>
                <a:lnTo>
                  <a:pt x="4261" y="2540"/>
                </a:lnTo>
                <a:lnTo>
                  <a:pt x="4263" y="2541"/>
                </a:lnTo>
                <a:lnTo>
                  <a:pt x="4265" y="2541"/>
                </a:lnTo>
                <a:lnTo>
                  <a:pt x="4267" y="2542"/>
                </a:lnTo>
                <a:lnTo>
                  <a:pt x="4270" y="2543"/>
                </a:lnTo>
                <a:lnTo>
                  <a:pt x="4272" y="2543"/>
                </a:lnTo>
                <a:lnTo>
                  <a:pt x="4274" y="2544"/>
                </a:lnTo>
                <a:lnTo>
                  <a:pt x="4276" y="2545"/>
                </a:lnTo>
                <a:lnTo>
                  <a:pt x="4279" y="2545"/>
                </a:lnTo>
                <a:lnTo>
                  <a:pt x="4281" y="2546"/>
                </a:lnTo>
                <a:lnTo>
                  <a:pt x="4283" y="2546"/>
                </a:lnTo>
                <a:lnTo>
                  <a:pt x="4285" y="2547"/>
                </a:lnTo>
                <a:lnTo>
                  <a:pt x="4288" y="2547"/>
                </a:lnTo>
                <a:lnTo>
                  <a:pt x="4290" y="2547"/>
                </a:lnTo>
                <a:lnTo>
                  <a:pt x="4292" y="2548"/>
                </a:lnTo>
                <a:lnTo>
                  <a:pt x="4294" y="2548"/>
                </a:lnTo>
                <a:lnTo>
                  <a:pt x="4297" y="2548"/>
                </a:lnTo>
                <a:lnTo>
                  <a:pt x="4299" y="2549"/>
                </a:lnTo>
                <a:lnTo>
                  <a:pt x="4301" y="2549"/>
                </a:lnTo>
                <a:lnTo>
                  <a:pt x="4303" y="2550"/>
                </a:lnTo>
                <a:lnTo>
                  <a:pt x="4306" y="2550"/>
                </a:lnTo>
                <a:lnTo>
                  <a:pt x="4308" y="2551"/>
                </a:lnTo>
                <a:lnTo>
                  <a:pt x="4310" y="2551"/>
                </a:lnTo>
                <a:lnTo>
                  <a:pt x="4312" y="2551"/>
                </a:lnTo>
                <a:lnTo>
                  <a:pt x="4315" y="2552"/>
                </a:lnTo>
                <a:lnTo>
                  <a:pt x="4317" y="2552"/>
                </a:lnTo>
                <a:lnTo>
                  <a:pt x="4319" y="2552"/>
                </a:lnTo>
                <a:lnTo>
                  <a:pt x="4321" y="2553"/>
                </a:lnTo>
                <a:lnTo>
                  <a:pt x="4324" y="2553"/>
                </a:lnTo>
                <a:lnTo>
                  <a:pt x="4326" y="2553"/>
                </a:lnTo>
                <a:lnTo>
                  <a:pt x="4328" y="2553"/>
                </a:lnTo>
                <a:lnTo>
                  <a:pt x="4330" y="2554"/>
                </a:lnTo>
                <a:lnTo>
                  <a:pt x="4333" y="2554"/>
                </a:lnTo>
                <a:lnTo>
                  <a:pt x="4335" y="2554"/>
                </a:lnTo>
                <a:lnTo>
                  <a:pt x="4337" y="2554"/>
                </a:lnTo>
                <a:lnTo>
                  <a:pt x="4339" y="2555"/>
                </a:lnTo>
                <a:lnTo>
                  <a:pt x="4342" y="2555"/>
                </a:lnTo>
                <a:lnTo>
                  <a:pt x="4344" y="2556"/>
                </a:lnTo>
                <a:lnTo>
                  <a:pt x="4346" y="2556"/>
                </a:lnTo>
                <a:lnTo>
                  <a:pt x="4348" y="2556"/>
                </a:lnTo>
                <a:lnTo>
                  <a:pt x="4351" y="2557"/>
                </a:lnTo>
                <a:lnTo>
                  <a:pt x="4353" y="2557"/>
                </a:lnTo>
                <a:lnTo>
                  <a:pt x="4355" y="2557"/>
                </a:lnTo>
                <a:lnTo>
                  <a:pt x="4357" y="2557"/>
                </a:lnTo>
                <a:lnTo>
                  <a:pt x="4360" y="2557"/>
                </a:lnTo>
                <a:lnTo>
                  <a:pt x="4362" y="2557"/>
                </a:lnTo>
                <a:lnTo>
                  <a:pt x="4364" y="2558"/>
                </a:lnTo>
                <a:lnTo>
                  <a:pt x="4366" y="2558"/>
                </a:lnTo>
                <a:lnTo>
                  <a:pt x="4369" y="2558"/>
                </a:lnTo>
                <a:lnTo>
                  <a:pt x="4371" y="2559"/>
                </a:lnTo>
                <a:lnTo>
                  <a:pt x="4373" y="2559"/>
                </a:lnTo>
                <a:lnTo>
                  <a:pt x="4375" y="2559"/>
                </a:lnTo>
                <a:lnTo>
                  <a:pt x="4378" y="2560"/>
                </a:lnTo>
                <a:lnTo>
                  <a:pt x="4380" y="2560"/>
                </a:lnTo>
                <a:lnTo>
                  <a:pt x="4382" y="2560"/>
                </a:lnTo>
                <a:lnTo>
                  <a:pt x="4384" y="2560"/>
                </a:lnTo>
                <a:lnTo>
                  <a:pt x="4387" y="2560"/>
                </a:lnTo>
                <a:lnTo>
                  <a:pt x="4389" y="2561"/>
                </a:lnTo>
                <a:lnTo>
                  <a:pt x="4391" y="2561"/>
                </a:lnTo>
                <a:lnTo>
                  <a:pt x="4394" y="2561"/>
                </a:lnTo>
                <a:lnTo>
                  <a:pt x="4396" y="2561"/>
                </a:lnTo>
                <a:lnTo>
                  <a:pt x="4398" y="2561"/>
                </a:lnTo>
                <a:lnTo>
                  <a:pt x="4400" y="2561"/>
                </a:lnTo>
                <a:lnTo>
                  <a:pt x="4403" y="2562"/>
                </a:lnTo>
                <a:lnTo>
                  <a:pt x="4405" y="2562"/>
                </a:lnTo>
                <a:lnTo>
                  <a:pt x="4407" y="2563"/>
                </a:lnTo>
                <a:lnTo>
                  <a:pt x="4409" y="2563"/>
                </a:lnTo>
                <a:lnTo>
                  <a:pt x="4412" y="2563"/>
                </a:lnTo>
                <a:lnTo>
                  <a:pt x="4414" y="2563"/>
                </a:lnTo>
                <a:lnTo>
                  <a:pt x="4416" y="2564"/>
                </a:lnTo>
                <a:lnTo>
                  <a:pt x="4418" y="2564"/>
                </a:lnTo>
                <a:lnTo>
                  <a:pt x="4421" y="2564"/>
                </a:lnTo>
                <a:lnTo>
                  <a:pt x="4423" y="2564"/>
                </a:lnTo>
                <a:lnTo>
                  <a:pt x="4425" y="2564"/>
                </a:lnTo>
                <a:lnTo>
                  <a:pt x="4427" y="2564"/>
                </a:lnTo>
                <a:lnTo>
                  <a:pt x="4430" y="2564"/>
                </a:lnTo>
                <a:lnTo>
                  <a:pt x="4432" y="2564"/>
                </a:lnTo>
                <a:lnTo>
                  <a:pt x="4434" y="2564"/>
                </a:lnTo>
                <a:lnTo>
                  <a:pt x="4436" y="2565"/>
                </a:lnTo>
                <a:lnTo>
                  <a:pt x="4439" y="2565"/>
                </a:lnTo>
                <a:lnTo>
                  <a:pt x="4441" y="2565"/>
                </a:lnTo>
                <a:lnTo>
                  <a:pt x="4443" y="2565"/>
                </a:lnTo>
                <a:lnTo>
                  <a:pt x="4445" y="2566"/>
                </a:lnTo>
                <a:lnTo>
                  <a:pt x="4448" y="2566"/>
                </a:lnTo>
                <a:lnTo>
                  <a:pt x="4450" y="2566"/>
                </a:lnTo>
                <a:lnTo>
                  <a:pt x="4452" y="2566"/>
                </a:lnTo>
                <a:lnTo>
                  <a:pt x="4454" y="2566"/>
                </a:lnTo>
                <a:lnTo>
                  <a:pt x="4457" y="2567"/>
                </a:lnTo>
                <a:lnTo>
                  <a:pt x="4459" y="2567"/>
                </a:lnTo>
                <a:lnTo>
                  <a:pt x="4461" y="2567"/>
                </a:lnTo>
                <a:lnTo>
                  <a:pt x="4463" y="2567"/>
                </a:lnTo>
                <a:lnTo>
                  <a:pt x="4466" y="2567"/>
                </a:lnTo>
                <a:lnTo>
                  <a:pt x="4468" y="2567"/>
                </a:lnTo>
                <a:lnTo>
                  <a:pt x="4470" y="2568"/>
                </a:lnTo>
                <a:lnTo>
                  <a:pt x="4472" y="2568"/>
                </a:lnTo>
                <a:lnTo>
                  <a:pt x="4475" y="2568"/>
                </a:lnTo>
                <a:lnTo>
                  <a:pt x="4477" y="2568"/>
                </a:lnTo>
                <a:lnTo>
                  <a:pt x="4479" y="2569"/>
                </a:lnTo>
                <a:lnTo>
                  <a:pt x="4481" y="2569"/>
                </a:lnTo>
                <a:lnTo>
                  <a:pt x="4484" y="2569"/>
                </a:lnTo>
                <a:lnTo>
                  <a:pt x="4486" y="2569"/>
                </a:lnTo>
                <a:lnTo>
                  <a:pt x="4488" y="2569"/>
                </a:lnTo>
                <a:lnTo>
                  <a:pt x="4490" y="2570"/>
                </a:lnTo>
                <a:lnTo>
                  <a:pt x="4493" y="2570"/>
                </a:lnTo>
                <a:lnTo>
                  <a:pt x="4495" y="2570"/>
                </a:lnTo>
                <a:lnTo>
                  <a:pt x="4497" y="2570"/>
                </a:lnTo>
                <a:lnTo>
                  <a:pt x="4499" y="2570"/>
                </a:lnTo>
                <a:lnTo>
                  <a:pt x="4502" y="2570"/>
                </a:lnTo>
                <a:lnTo>
                  <a:pt x="4504" y="2570"/>
                </a:lnTo>
                <a:lnTo>
                  <a:pt x="4506" y="2570"/>
                </a:lnTo>
                <a:lnTo>
                  <a:pt x="4508" y="2571"/>
                </a:lnTo>
                <a:lnTo>
                  <a:pt x="4511" y="2571"/>
                </a:lnTo>
                <a:lnTo>
                  <a:pt x="4513" y="2571"/>
                </a:lnTo>
                <a:lnTo>
                  <a:pt x="4515" y="2571"/>
                </a:lnTo>
                <a:lnTo>
                  <a:pt x="4517" y="2572"/>
                </a:lnTo>
                <a:lnTo>
                  <a:pt x="4520" y="2572"/>
                </a:lnTo>
                <a:lnTo>
                  <a:pt x="4522" y="2572"/>
                </a:lnTo>
                <a:lnTo>
                  <a:pt x="4524" y="2572"/>
                </a:lnTo>
                <a:lnTo>
                  <a:pt x="4526" y="2572"/>
                </a:lnTo>
                <a:lnTo>
                  <a:pt x="4529" y="2572"/>
                </a:lnTo>
                <a:lnTo>
                  <a:pt x="4531" y="2572"/>
                </a:lnTo>
                <a:lnTo>
                  <a:pt x="4533" y="2572"/>
                </a:lnTo>
                <a:lnTo>
                  <a:pt x="4535" y="2572"/>
                </a:lnTo>
                <a:lnTo>
                  <a:pt x="4538" y="2572"/>
                </a:lnTo>
                <a:lnTo>
                  <a:pt x="4540" y="2572"/>
                </a:lnTo>
                <a:lnTo>
                  <a:pt x="4542" y="2573"/>
                </a:lnTo>
                <a:lnTo>
                  <a:pt x="4544" y="2573"/>
                </a:lnTo>
                <a:lnTo>
                  <a:pt x="4547" y="2573"/>
                </a:lnTo>
                <a:lnTo>
                  <a:pt x="4549" y="2573"/>
                </a:lnTo>
                <a:lnTo>
                  <a:pt x="4551" y="2573"/>
                </a:lnTo>
                <a:lnTo>
                  <a:pt x="4553" y="2573"/>
                </a:lnTo>
                <a:lnTo>
                  <a:pt x="4556" y="2573"/>
                </a:lnTo>
                <a:lnTo>
                  <a:pt x="4558" y="2573"/>
                </a:lnTo>
                <a:lnTo>
                  <a:pt x="4560" y="2573"/>
                </a:lnTo>
                <a:lnTo>
                  <a:pt x="4563" y="2573"/>
                </a:lnTo>
                <a:lnTo>
                  <a:pt x="4565" y="2573"/>
                </a:lnTo>
                <a:lnTo>
                  <a:pt x="4567" y="2573"/>
                </a:lnTo>
                <a:lnTo>
                  <a:pt x="4569" y="2574"/>
                </a:lnTo>
                <a:lnTo>
                  <a:pt x="4572" y="2574"/>
                </a:lnTo>
                <a:lnTo>
                  <a:pt x="4574" y="2574"/>
                </a:lnTo>
                <a:lnTo>
                  <a:pt x="4576" y="2574"/>
                </a:lnTo>
                <a:lnTo>
                  <a:pt x="4578" y="2574"/>
                </a:lnTo>
                <a:lnTo>
                  <a:pt x="4581" y="2574"/>
                </a:lnTo>
                <a:lnTo>
                  <a:pt x="4583" y="2574"/>
                </a:lnTo>
                <a:lnTo>
                  <a:pt x="4585" y="2574"/>
                </a:lnTo>
                <a:lnTo>
                  <a:pt x="4587" y="2574"/>
                </a:lnTo>
                <a:lnTo>
                  <a:pt x="4590" y="2574"/>
                </a:lnTo>
                <a:lnTo>
                  <a:pt x="4592" y="2574"/>
                </a:lnTo>
                <a:lnTo>
                  <a:pt x="4594" y="2574"/>
                </a:lnTo>
                <a:lnTo>
                  <a:pt x="4596" y="2574"/>
                </a:lnTo>
                <a:lnTo>
                  <a:pt x="4599" y="2574"/>
                </a:lnTo>
                <a:lnTo>
                  <a:pt x="4601" y="2574"/>
                </a:lnTo>
                <a:lnTo>
                  <a:pt x="4603" y="2574"/>
                </a:lnTo>
                <a:lnTo>
                  <a:pt x="4605" y="2574"/>
                </a:lnTo>
                <a:lnTo>
                  <a:pt x="4608" y="2574"/>
                </a:lnTo>
                <a:lnTo>
                  <a:pt x="4610" y="2574"/>
                </a:lnTo>
                <a:lnTo>
                  <a:pt x="4612" y="2574"/>
                </a:lnTo>
                <a:lnTo>
                  <a:pt x="4614" y="2574"/>
                </a:lnTo>
                <a:lnTo>
                  <a:pt x="4617" y="2574"/>
                </a:lnTo>
                <a:lnTo>
                  <a:pt x="4619" y="2574"/>
                </a:lnTo>
                <a:lnTo>
                  <a:pt x="4621" y="2574"/>
                </a:lnTo>
                <a:lnTo>
                  <a:pt x="4623" y="2574"/>
                </a:lnTo>
                <a:lnTo>
                  <a:pt x="4626" y="2574"/>
                </a:lnTo>
                <a:lnTo>
                  <a:pt x="4628" y="2574"/>
                </a:lnTo>
                <a:lnTo>
                  <a:pt x="4630" y="2574"/>
                </a:lnTo>
                <a:lnTo>
                  <a:pt x="4632" y="2574"/>
                </a:lnTo>
                <a:lnTo>
                  <a:pt x="4635" y="2574"/>
                </a:lnTo>
                <a:lnTo>
                  <a:pt x="4637" y="2574"/>
                </a:lnTo>
                <a:lnTo>
                  <a:pt x="4639" y="2574"/>
                </a:lnTo>
                <a:lnTo>
                  <a:pt x="4641" y="2574"/>
                </a:lnTo>
                <a:lnTo>
                  <a:pt x="4644" y="2575"/>
                </a:lnTo>
                <a:lnTo>
                  <a:pt x="4646" y="2574"/>
                </a:lnTo>
                <a:lnTo>
                  <a:pt x="4648" y="2574"/>
                </a:lnTo>
                <a:lnTo>
                  <a:pt x="4650" y="2575"/>
                </a:lnTo>
                <a:lnTo>
                  <a:pt x="4653" y="2574"/>
                </a:lnTo>
                <a:lnTo>
                  <a:pt x="4655" y="2575"/>
                </a:lnTo>
                <a:lnTo>
                  <a:pt x="4657" y="2574"/>
                </a:lnTo>
                <a:lnTo>
                  <a:pt x="4659" y="2574"/>
                </a:lnTo>
                <a:lnTo>
                  <a:pt x="4662" y="2574"/>
                </a:lnTo>
                <a:lnTo>
                  <a:pt x="4664" y="2574"/>
                </a:lnTo>
                <a:lnTo>
                  <a:pt x="4666" y="2574"/>
                </a:lnTo>
                <a:lnTo>
                  <a:pt x="4668" y="2575"/>
                </a:lnTo>
                <a:lnTo>
                  <a:pt x="4671" y="2575"/>
                </a:lnTo>
                <a:lnTo>
                  <a:pt x="4673" y="2575"/>
                </a:lnTo>
                <a:lnTo>
                  <a:pt x="4675" y="2575"/>
                </a:lnTo>
                <a:lnTo>
                  <a:pt x="4677" y="2575"/>
                </a:lnTo>
                <a:lnTo>
                  <a:pt x="4680" y="2575"/>
                </a:lnTo>
                <a:lnTo>
                  <a:pt x="4682" y="2575"/>
                </a:lnTo>
                <a:lnTo>
                  <a:pt x="4684" y="2575"/>
                </a:lnTo>
                <a:lnTo>
                  <a:pt x="4686" y="2575"/>
                </a:lnTo>
                <a:lnTo>
                  <a:pt x="4689" y="2575"/>
                </a:lnTo>
                <a:lnTo>
                  <a:pt x="4691" y="2575"/>
                </a:lnTo>
                <a:lnTo>
                  <a:pt x="4693" y="2575"/>
                </a:lnTo>
                <a:lnTo>
                  <a:pt x="4695" y="2575"/>
                </a:lnTo>
                <a:lnTo>
                  <a:pt x="4698" y="2575"/>
                </a:lnTo>
                <a:lnTo>
                  <a:pt x="4700" y="2575"/>
                </a:lnTo>
                <a:lnTo>
                  <a:pt x="4702" y="2575"/>
                </a:lnTo>
                <a:lnTo>
                  <a:pt x="4704" y="2575"/>
                </a:lnTo>
                <a:lnTo>
                  <a:pt x="4707" y="2575"/>
                </a:lnTo>
                <a:lnTo>
                  <a:pt x="4709" y="2575"/>
                </a:lnTo>
                <a:lnTo>
                  <a:pt x="4711" y="2576"/>
                </a:lnTo>
                <a:lnTo>
                  <a:pt x="4713" y="2576"/>
                </a:lnTo>
                <a:lnTo>
                  <a:pt x="4716" y="2576"/>
                </a:lnTo>
                <a:lnTo>
                  <a:pt x="4718" y="2576"/>
                </a:lnTo>
                <a:lnTo>
                  <a:pt x="4720" y="2576"/>
                </a:lnTo>
                <a:lnTo>
                  <a:pt x="4722" y="2575"/>
                </a:lnTo>
                <a:lnTo>
                  <a:pt x="4725" y="2575"/>
                </a:lnTo>
                <a:lnTo>
                  <a:pt x="4727" y="2575"/>
                </a:lnTo>
                <a:lnTo>
                  <a:pt x="4729" y="2575"/>
                </a:lnTo>
                <a:lnTo>
                  <a:pt x="4732" y="2575"/>
                </a:lnTo>
                <a:lnTo>
                  <a:pt x="4734" y="2575"/>
                </a:lnTo>
                <a:lnTo>
                  <a:pt x="4736" y="2575"/>
                </a:lnTo>
                <a:lnTo>
                  <a:pt x="4738" y="2575"/>
                </a:lnTo>
                <a:lnTo>
                  <a:pt x="4741" y="2575"/>
                </a:lnTo>
                <a:lnTo>
                  <a:pt x="4743" y="2576"/>
                </a:lnTo>
                <a:lnTo>
                  <a:pt x="4745" y="2576"/>
                </a:lnTo>
                <a:lnTo>
                  <a:pt x="4747" y="2576"/>
                </a:lnTo>
                <a:lnTo>
                  <a:pt x="4750" y="2576"/>
                </a:lnTo>
                <a:lnTo>
                  <a:pt x="4752" y="2576"/>
                </a:lnTo>
                <a:lnTo>
                  <a:pt x="4754" y="2576"/>
                </a:lnTo>
                <a:lnTo>
                  <a:pt x="4756" y="2576"/>
                </a:lnTo>
                <a:lnTo>
                  <a:pt x="4759" y="2575"/>
                </a:lnTo>
                <a:lnTo>
                  <a:pt x="4761" y="2575"/>
                </a:lnTo>
                <a:lnTo>
                  <a:pt x="4763" y="2575"/>
                </a:lnTo>
                <a:lnTo>
                  <a:pt x="4765" y="2575"/>
                </a:lnTo>
                <a:lnTo>
                  <a:pt x="4768" y="2575"/>
                </a:lnTo>
                <a:lnTo>
                  <a:pt x="4770" y="2576"/>
                </a:lnTo>
                <a:lnTo>
                  <a:pt x="4772" y="2576"/>
                </a:lnTo>
                <a:lnTo>
                  <a:pt x="4774" y="2576"/>
                </a:lnTo>
                <a:lnTo>
                  <a:pt x="4777" y="2576"/>
                </a:lnTo>
                <a:lnTo>
                  <a:pt x="4779" y="2576"/>
                </a:lnTo>
                <a:lnTo>
                  <a:pt x="4781" y="2576"/>
                </a:lnTo>
                <a:lnTo>
                  <a:pt x="4783" y="2576"/>
                </a:lnTo>
                <a:lnTo>
                  <a:pt x="4786" y="2576"/>
                </a:lnTo>
                <a:lnTo>
                  <a:pt x="4788" y="2576"/>
                </a:lnTo>
                <a:lnTo>
                  <a:pt x="4790" y="2575"/>
                </a:lnTo>
                <a:lnTo>
                  <a:pt x="4792" y="2575"/>
                </a:lnTo>
                <a:lnTo>
                  <a:pt x="4795" y="2575"/>
                </a:lnTo>
                <a:lnTo>
                  <a:pt x="4797" y="2575"/>
                </a:lnTo>
                <a:lnTo>
                  <a:pt x="4799" y="2575"/>
                </a:lnTo>
                <a:lnTo>
                  <a:pt x="4801" y="2575"/>
                </a:lnTo>
                <a:lnTo>
                  <a:pt x="4804" y="2575"/>
                </a:lnTo>
                <a:lnTo>
                  <a:pt x="4806" y="2576"/>
                </a:lnTo>
                <a:lnTo>
                  <a:pt x="4808" y="2576"/>
                </a:lnTo>
                <a:lnTo>
                  <a:pt x="4810" y="2576"/>
                </a:lnTo>
                <a:lnTo>
                  <a:pt x="4813" y="2576"/>
                </a:lnTo>
                <a:lnTo>
                  <a:pt x="4815" y="2576"/>
                </a:lnTo>
                <a:lnTo>
                  <a:pt x="4817" y="2576"/>
                </a:lnTo>
                <a:lnTo>
                  <a:pt x="4819" y="2576"/>
                </a:lnTo>
                <a:lnTo>
                  <a:pt x="4822" y="2575"/>
                </a:lnTo>
                <a:lnTo>
                  <a:pt x="4824" y="2575"/>
                </a:lnTo>
                <a:lnTo>
                  <a:pt x="4826" y="2575"/>
                </a:lnTo>
                <a:lnTo>
                  <a:pt x="4828" y="2575"/>
                </a:lnTo>
                <a:lnTo>
                  <a:pt x="4831" y="2575"/>
                </a:lnTo>
                <a:lnTo>
                  <a:pt x="4833" y="2575"/>
                </a:lnTo>
                <a:lnTo>
                  <a:pt x="4835" y="2575"/>
                </a:lnTo>
                <a:lnTo>
                  <a:pt x="4837" y="2575"/>
                </a:lnTo>
                <a:lnTo>
                  <a:pt x="4840" y="2575"/>
                </a:lnTo>
                <a:lnTo>
                  <a:pt x="4842" y="2575"/>
                </a:lnTo>
                <a:lnTo>
                  <a:pt x="4844" y="2576"/>
                </a:lnTo>
                <a:lnTo>
                  <a:pt x="4846" y="2576"/>
                </a:lnTo>
                <a:lnTo>
                  <a:pt x="4849" y="2576"/>
                </a:lnTo>
                <a:lnTo>
                  <a:pt x="4851" y="2576"/>
                </a:lnTo>
                <a:lnTo>
                  <a:pt x="4853" y="2576"/>
                </a:lnTo>
                <a:lnTo>
                  <a:pt x="4855" y="2575"/>
                </a:lnTo>
                <a:lnTo>
                  <a:pt x="4858" y="2575"/>
                </a:lnTo>
                <a:lnTo>
                  <a:pt x="4860" y="2575"/>
                </a:lnTo>
                <a:lnTo>
                  <a:pt x="4862" y="2575"/>
                </a:lnTo>
                <a:lnTo>
                  <a:pt x="4864" y="2575"/>
                </a:lnTo>
                <a:lnTo>
                  <a:pt x="4867" y="2575"/>
                </a:lnTo>
                <a:lnTo>
                  <a:pt x="4869" y="2576"/>
                </a:lnTo>
                <a:lnTo>
                  <a:pt x="4871" y="2576"/>
                </a:lnTo>
                <a:lnTo>
                  <a:pt x="4873" y="2576"/>
                </a:lnTo>
                <a:lnTo>
                  <a:pt x="4876" y="2576"/>
                </a:lnTo>
                <a:lnTo>
                  <a:pt x="4878" y="2576"/>
                </a:lnTo>
                <a:lnTo>
                  <a:pt x="4880" y="2576"/>
                </a:lnTo>
                <a:lnTo>
                  <a:pt x="4882" y="2576"/>
                </a:lnTo>
                <a:lnTo>
                  <a:pt x="4885" y="2576"/>
                </a:lnTo>
                <a:lnTo>
                  <a:pt x="4887" y="2576"/>
                </a:lnTo>
                <a:lnTo>
                  <a:pt x="4889" y="2575"/>
                </a:lnTo>
                <a:lnTo>
                  <a:pt x="4891" y="2575"/>
                </a:lnTo>
                <a:lnTo>
                  <a:pt x="4894" y="2575"/>
                </a:lnTo>
                <a:lnTo>
                  <a:pt x="4896" y="2575"/>
                </a:lnTo>
                <a:lnTo>
                  <a:pt x="4898" y="2575"/>
                </a:lnTo>
                <a:lnTo>
                  <a:pt x="4901" y="2575"/>
                </a:lnTo>
                <a:lnTo>
                  <a:pt x="4903" y="2575"/>
                </a:lnTo>
                <a:lnTo>
                  <a:pt x="4905" y="2575"/>
                </a:lnTo>
                <a:lnTo>
                  <a:pt x="4907" y="2576"/>
                </a:lnTo>
                <a:lnTo>
                  <a:pt x="4910" y="2576"/>
                </a:lnTo>
                <a:lnTo>
                  <a:pt x="4912" y="2576"/>
                </a:lnTo>
                <a:lnTo>
                  <a:pt x="4914" y="2576"/>
                </a:lnTo>
                <a:lnTo>
                  <a:pt x="4916" y="2576"/>
                </a:lnTo>
                <a:lnTo>
                  <a:pt x="4919" y="2576"/>
                </a:lnTo>
                <a:lnTo>
                  <a:pt x="4921" y="2575"/>
                </a:lnTo>
                <a:lnTo>
                  <a:pt x="4923" y="2576"/>
                </a:lnTo>
                <a:lnTo>
                  <a:pt x="4925" y="2576"/>
                </a:lnTo>
                <a:lnTo>
                  <a:pt x="4928" y="2576"/>
                </a:lnTo>
                <a:lnTo>
                  <a:pt x="4930" y="2576"/>
                </a:lnTo>
                <a:lnTo>
                  <a:pt x="4932" y="2576"/>
                </a:lnTo>
                <a:lnTo>
                  <a:pt x="4934" y="2576"/>
                </a:lnTo>
                <a:lnTo>
                  <a:pt x="4937" y="2576"/>
                </a:lnTo>
                <a:lnTo>
                  <a:pt x="4939" y="2576"/>
                </a:lnTo>
                <a:lnTo>
                  <a:pt x="4941" y="2576"/>
                </a:lnTo>
                <a:lnTo>
                  <a:pt x="4943" y="2576"/>
                </a:lnTo>
                <a:lnTo>
                  <a:pt x="4946" y="2576"/>
                </a:lnTo>
                <a:lnTo>
                  <a:pt x="4948" y="2576"/>
                </a:lnTo>
                <a:lnTo>
                  <a:pt x="4950" y="2576"/>
                </a:lnTo>
                <a:lnTo>
                  <a:pt x="4952" y="2576"/>
                </a:lnTo>
                <a:lnTo>
                  <a:pt x="4955" y="2576"/>
                </a:lnTo>
                <a:lnTo>
                  <a:pt x="4957" y="2576"/>
                </a:lnTo>
                <a:lnTo>
                  <a:pt x="4959" y="2576"/>
                </a:lnTo>
                <a:lnTo>
                  <a:pt x="4961" y="2576"/>
                </a:lnTo>
                <a:lnTo>
                  <a:pt x="4964" y="2577"/>
                </a:lnTo>
                <a:lnTo>
                  <a:pt x="4966" y="2577"/>
                </a:lnTo>
                <a:lnTo>
                  <a:pt x="4968" y="2577"/>
                </a:lnTo>
                <a:lnTo>
                  <a:pt x="4970" y="2577"/>
                </a:lnTo>
                <a:lnTo>
                  <a:pt x="4973" y="2577"/>
                </a:lnTo>
                <a:lnTo>
                  <a:pt x="4975" y="2577"/>
                </a:lnTo>
                <a:lnTo>
                  <a:pt x="4977" y="2577"/>
                </a:lnTo>
                <a:lnTo>
                  <a:pt x="4979" y="2577"/>
                </a:lnTo>
                <a:lnTo>
                  <a:pt x="4982" y="2577"/>
                </a:lnTo>
                <a:lnTo>
                  <a:pt x="4984" y="2577"/>
                </a:lnTo>
                <a:lnTo>
                  <a:pt x="4986" y="2577"/>
                </a:lnTo>
                <a:lnTo>
                  <a:pt x="4988" y="2577"/>
                </a:lnTo>
                <a:lnTo>
                  <a:pt x="4991" y="2577"/>
                </a:lnTo>
                <a:lnTo>
                  <a:pt x="4993" y="2577"/>
                </a:lnTo>
                <a:lnTo>
                  <a:pt x="4995" y="2578"/>
                </a:lnTo>
                <a:lnTo>
                  <a:pt x="4997" y="2578"/>
                </a:lnTo>
                <a:lnTo>
                  <a:pt x="5000" y="2578"/>
                </a:lnTo>
                <a:lnTo>
                  <a:pt x="5002" y="2578"/>
                </a:lnTo>
                <a:lnTo>
                  <a:pt x="5004" y="2578"/>
                </a:lnTo>
                <a:lnTo>
                  <a:pt x="5006" y="2578"/>
                </a:lnTo>
                <a:lnTo>
                  <a:pt x="5009" y="2578"/>
                </a:lnTo>
                <a:lnTo>
                  <a:pt x="5011" y="2578"/>
                </a:lnTo>
                <a:lnTo>
                  <a:pt x="5013" y="2578"/>
                </a:lnTo>
                <a:lnTo>
                  <a:pt x="5015" y="2578"/>
                </a:lnTo>
                <a:lnTo>
                  <a:pt x="5018" y="2578"/>
                </a:lnTo>
                <a:lnTo>
                  <a:pt x="5020" y="2578"/>
                </a:lnTo>
                <a:lnTo>
                  <a:pt x="5022" y="2578"/>
                </a:lnTo>
                <a:lnTo>
                  <a:pt x="5024" y="2578"/>
                </a:lnTo>
                <a:lnTo>
                  <a:pt x="5027" y="2578"/>
                </a:lnTo>
                <a:lnTo>
                  <a:pt x="5029" y="2579"/>
                </a:lnTo>
                <a:lnTo>
                  <a:pt x="5031" y="2579"/>
                </a:lnTo>
                <a:lnTo>
                  <a:pt x="5033" y="2579"/>
                </a:lnTo>
                <a:lnTo>
                  <a:pt x="5036" y="2579"/>
                </a:lnTo>
                <a:lnTo>
                  <a:pt x="5038" y="2579"/>
                </a:lnTo>
                <a:lnTo>
                  <a:pt x="5040" y="2579"/>
                </a:lnTo>
                <a:lnTo>
                  <a:pt x="5042" y="2579"/>
                </a:lnTo>
                <a:lnTo>
                  <a:pt x="5045" y="2579"/>
                </a:lnTo>
                <a:lnTo>
                  <a:pt x="5047" y="2579"/>
                </a:lnTo>
                <a:lnTo>
                  <a:pt x="5049" y="2579"/>
                </a:lnTo>
                <a:lnTo>
                  <a:pt x="5051" y="2579"/>
                </a:lnTo>
                <a:lnTo>
                  <a:pt x="5054" y="2579"/>
                </a:lnTo>
                <a:lnTo>
                  <a:pt x="5056" y="2579"/>
                </a:lnTo>
                <a:lnTo>
                  <a:pt x="5058" y="2579"/>
                </a:lnTo>
                <a:lnTo>
                  <a:pt x="5060" y="2579"/>
                </a:lnTo>
                <a:lnTo>
                  <a:pt x="5063" y="2579"/>
                </a:lnTo>
                <a:lnTo>
                  <a:pt x="5065" y="2579"/>
                </a:lnTo>
                <a:lnTo>
                  <a:pt x="5067" y="2579"/>
                </a:lnTo>
                <a:lnTo>
                  <a:pt x="5070" y="2579"/>
                </a:lnTo>
                <a:lnTo>
                  <a:pt x="5072" y="2579"/>
                </a:lnTo>
                <a:lnTo>
                  <a:pt x="5074" y="2580"/>
                </a:lnTo>
                <a:lnTo>
                  <a:pt x="5076" y="2580"/>
                </a:lnTo>
                <a:lnTo>
                  <a:pt x="5079" y="2579"/>
                </a:lnTo>
                <a:lnTo>
                  <a:pt x="5081" y="2579"/>
                </a:lnTo>
                <a:lnTo>
                  <a:pt x="5083" y="2579"/>
                </a:lnTo>
                <a:lnTo>
                  <a:pt x="5085" y="2579"/>
                </a:lnTo>
                <a:lnTo>
                  <a:pt x="5088" y="2579"/>
                </a:lnTo>
                <a:lnTo>
                  <a:pt x="5090" y="2579"/>
                </a:lnTo>
                <a:lnTo>
                  <a:pt x="5092" y="2579"/>
                </a:lnTo>
                <a:lnTo>
                  <a:pt x="5094" y="2579"/>
                </a:lnTo>
                <a:lnTo>
                  <a:pt x="5097" y="2580"/>
                </a:lnTo>
                <a:lnTo>
                  <a:pt x="5099" y="2580"/>
                </a:lnTo>
                <a:lnTo>
                  <a:pt x="5101" y="2580"/>
                </a:lnTo>
                <a:lnTo>
                  <a:pt x="5103" y="2580"/>
                </a:lnTo>
                <a:lnTo>
                  <a:pt x="5106" y="2580"/>
                </a:lnTo>
                <a:lnTo>
                  <a:pt x="5108" y="2580"/>
                </a:lnTo>
                <a:lnTo>
                  <a:pt x="5110" y="2580"/>
                </a:lnTo>
                <a:lnTo>
                  <a:pt x="5112" y="2580"/>
                </a:lnTo>
                <a:lnTo>
                  <a:pt x="5115" y="2580"/>
                </a:lnTo>
                <a:lnTo>
                  <a:pt x="5117" y="2580"/>
                </a:lnTo>
                <a:lnTo>
                  <a:pt x="5119" y="2580"/>
                </a:lnTo>
                <a:lnTo>
                  <a:pt x="5121" y="2580"/>
                </a:lnTo>
                <a:lnTo>
                  <a:pt x="5124" y="2580"/>
                </a:lnTo>
                <a:lnTo>
                  <a:pt x="5126" y="2580"/>
                </a:lnTo>
                <a:lnTo>
                  <a:pt x="5128" y="2580"/>
                </a:lnTo>
                <a:lnTo>
                  <a:pt x="5130" y="2580"/>
                </a:lnTo>
                <a:lnTo>
                  <a:pt x="5133" y="2580"/>
                </a:lnTo>
                <a:lnTo>
                  <a:pt x="5135" y="2580"/>
                </a:lnTo>
                <a:lnTo>
                  <a:pt x="5137" y="2580"/>
                </a:lnTo>
                <a:lnTo>
                  <a:pt x="5139" y="2580"/>
                </a:lnTo>
                <a:lnTo>
                  <a:pt x="5142" y="2580"/>
                </a:lnTo>
                <a:lnTo>
                  <a:pt x="5144" y="2580"/>
                </a:lnTo>
                <a:lnTo>
                  <a:pt x="5146" y="2580"/>
                </a:lnTo>
                <a:lnTo>
                  <a:pt x="5148" y="2580"/>
                </a:lnTo>
                <a:lnTo>
                  <a:pt x="5151" y="2580"/>
                </a:lnTo>
                <a:lnTo>
                  <a:pt x="5153" y="2580"/>
                </a:lnTo>
                <a:lnTo>
                  <a:pt x="5155" y="2580"/>
                </a:lnTo>
                <a:lnTo>
                  <a:pt x="5157" y="2580"/>
                </a:lnTo>
                <a:lnTo>
                  <a:pt x="5160" y="2580"/>
                </a:lnTo>
                <a:lnTo>
                  <a:pt x="5162" y="2580"/>
                </a:lnTo>
                <a:lnTo>
                  <a:pt x="5164" y="2580"/>
                </a:lnTo>
                <a:lnTo>
                  <a:pt x="5166" y="2580"/>
                </a:lnTo>
                <a:lnTo>
                  <a:pt x="5169" y="2580"/>
                </a:lnTo>
                <a:lnTo>
                  <a:pt x="5171" y="2580"/>
                </a:lnTo>
                <a:lnTo>
                  <a:pt x="5173" y="2579"/>
                </a:lnTo>
                <a:lnTo>
                  <a:pt x="5175" y="2581"/>
                </a:lnTo>
                <a:lnTo>
                  <a:pt x="5178" y="2582"/>
                </a:lnTo>
                <a:lnTo>
                  <a:pt x="5180" y="2582"/>
                </a:lnTo>
                <a:lnTo>
                  <a:pt x="5182" y="2582"/>
                </a:lnTo>
                <a:lnTo>
                  <a:pt x="5184" y="2582"/>
                </a:lnTo>
                <a:lnTo>
                  <a:pt x="5187" y="2582"/>
                </a:lnTo>
                <a:lnTo>
                  <a:pt x="5189" y="2582"/>
                </a:lnTo>
                <a:lnTo>
                  <a:pt x="5191" y="2582"/>
                </a:lnTo>
                <a:lnTo>
                  <a:pt x="5193" y="2582"/>
                </a:lnTo>
                <a:lnTo>
                  <a:pt x="5196" y="2582"/>
                </a:lnTo>
                <a:lnTo>
                  <a:pt x="5198" y="2582"/>
                </a:lnTo>
                <a:lnTo>
                  <a:pt x="5200" y="2582"/>
                </a:lnTo>
                <a:lnTo>
                  <a:pt x="5202" y="2582"/>
                </a:lnTo>
                <a:lnTo>
                  <a:pt x="5205" y="2582"/>
                </a:lnTo>
                <a:lnTo>
                  <a:pt x="5207" y="2582"/>
                </a:lnTo>
                <a:lnTo>
                  <a:pt x="5209" y="2582"/>
                </a:lnTo>
                <a:lnTo>
                  <a:pt x="5211" y="2582"/>
                </a:lnTo>
                <a:lnTo>
                  <a:pt x="5214" y="2582"/>
                </a:lnTo>
                <a:lnTo>
                  <a:pt x="5216" y="2582"/>
                </a:lnTo>
                <a:lnTo>
                  <a:pt x="5218" y="2582"/>
                </a:lnTo>
                <a:lnTo>
                  <a:pt x="5220" y="2582"/>
                </a:lnTo>
                <a:lnTo>
                  <a:pt x="5223" y="2582"/>
                </a:lnTo>
                <a:lnTo>
                  <a:pt x="5225" y="2582"/>
                </a:lnTo>
                <a:lnTo>
                  <a:pt x="5227" y="2582"/>
                </a:lnTo>
                <a:lnTo>
                  <a:pt x="5229" y="2582"/>
                </a:lnTo>
                <a:lnTo>
                  <a:pt x="5232" y="2583"/>
                </a:lnTo>
                <a:lnTo>
                  <a:pt x="5234" y="2583"/>
                </a:lnTo>
                <a:lnTo>
                  <a:pt x="5236" y="2583"/>
                </a:lnTo>
                <a:lnTo>
                  <a:pt x="5239" y="2583"/>
                </a:lnTo>
                <a:lnTo>
                  <a:pt x="5241" y="2583"/>
                </a:lnTo>
                <a:lnTo>
                  <a:pt x="5243" y="2583"/>
                </a:lnTo>
                <a:lnTo>
                  <a:pt x="5245" y="2583"/>
                </a:lnTo>
                <a:lnTo>
                  <a:pt x="5248" y="2583"/>
                </a:lnTo>
                <a:lnTo>
                  <a:pt x="5250" y="2583"/>
                </a:lnTo>
                <a:lnTo>
                  <a:pt x="5252" y="2583"/>
                </a:lnTo>
                <a:lnTo>
                  <a:pt x="5254" y="2583"/>
                </a:lnTo>
                <a:lnTo>
                  <a:pt x="5257" y="2583"/>
                </a:lnTo>
                <a:lnTo>
                  <a:pt x="5259" y="2583"/>
                </a:lnTo>
                <a:lnTo>
                  <a:pt x="5261" y="2583"/>
                </a:lnTo>
                <a:lnTo>
                  <a:pt x="5263" y="2583"/>
                </a:lnTo>
                <a:lnTo>
                  <a:pt x="5266" y="2583"/>
                </a:lnTo>
                <a:lnTo>
                  <a:pt x="5268" y="2583"/>
                </a:lnTo>
                <a:lnTo>
                  <a:pt x="5270" y="2583"/>
                </a:lnTo>
                <a:lnTo>
                  <a:pt x="5272" y="2583"/>
                </a:lnTo>
                <a:lnTo>
                  <a:pt x="5275" y="2583"/>
                </a:lnTo>
                <a:lnTo>
                  <a:pt x="5277" y="2584"/>
                </a:lnTo>
                <a:lnTo>
                  <a:pt x="5279" y="2584"/>
                </a:lnTo>
                <a:lnTo>
                  <a:pt x="5281" y="2584"/>
                </a:lnTo>
                <a:lnTo>
                  <a:pt x="5284" y="2583"/>
                </a:lnTo>
                <a:lnTo>
                  <a:pt x="5286" y="2583"/>
                </a:lnTo>
                <a:lnTo>
                  <a:pt x="5288" y="2583"/>
                </a:lnTo>
                <a:lnTo>
                  <a:pt x="5290" y="2583"/>
                </a:lnTo>
                <a:lnTo>
                  <a:pt x="5293" y="2583"/>
                </a:lnTo>
                <a:lnTo>
                  <a:pt x="5295" y="2583"/>
                </a:lnTo>
                <a:lnTo>
                  <a:pt x="5297" y="2583"/>
                </a:lnTo>
                <a:lnTo>
                  <a:pt x="5299" y="2583"/>
                </a:lnTo>
                <a:lnTo>
                  <a:pt x="5302" y="2583"/>
                </a:lnTo>
                <a:lnTo>
                  <a:pt x="5304" y="2584"/>
                </a:lnTo>
                <a:lnTo>
                  <a:pt x="5306" y="2584"/>
                </a:lnTo>
                <a:lnTo>
                  <a:pt x="5308" y="2584"/>
                </a:lnTo>
                <a:lnTo>
                  <a:pt x="5311" y="2583"/>
                </a:lnTo>
                <a:lnTo>
                  <a:pt x="5313" y="2583"/>
                </a:lnTo>
                <a:lnTo>
                  <a:pt x="5315" y="2583"/>
                </a:lnTo>
                <a:lnTo>
                  <a:pt x="5317" y="2583"/>
                </a:lnTo>
                <a:lnTo>
                  <a:pt x="5320" y="2583"/>
                </a:lnTo>
                <a:lnTo>
                  <a:pt x="5322" y="2583"/>
                </a:lnTo>
                <a:lnTo>
                  <a:pt x="5324" y="2583"/>
                </a:lnTo>
                <a:lnTo>
                  <a:pt x="5326" y="2583"/>
                </a:lnTo>
                <a:lnTo>
                  <a:pt x="5329" y="2583"/>
                </a:lnTo>
                <a:lnTo>
                  <a:pt x="5331" y="2583"/>
                </a:lnTo>
                <a:lnTo>
                  <a:pt x="5333" y="2583"/>
                </a:lnTo>
                <a:lnTo>
                  <a:pt x="5335" y="2583"/>
                </a:lnTo>
                <a:lnTo>
                  <a:pt x="5338" y="2583"/>
                </a:lnTo>
                <a:lnTo>
                  <a:pt x="5340" y="2583"/>
                </a:lnTo>
                <a:lnTo>
                  <a:pt x="5342" y="2583"/>
                </a:lnTo>
                <a:lnTo>
                  <a:pt x="5344" y="2583"/>
                </a:lnTo>
                <a:lnTo>
                  <a:pt x="5347" y="2583"/>
                </a:lnTo>
                <a:lnTo>
                  <a:pt x="5349" y="2583"/>
                </a:lnTo>
                <a:lnTo>
                  <a:pt x="5351" y="2583"/>
                </a:lnTo>
                <a:lnTo>
                  <a:pt x="5353" y="2583"/>
                </a:lnTo>
                <a:lnTo>
                  <a:pt x="5356" y="2583"/>
                </a:lnTo>
                <a:lnTo>
                  <a:pt x="5358" y="2583"/>
                </a:lnTo>
                <a:lnTo>
                  <a:pt x="5360" y="2583"/>
                </a:lnTo>
                <a:lnTo>
                  <a:pt x="5362" y="2583"/>
                </a:lnTo>
                <a:lnTo>
                  <a:pt x="5365" y="2583"/>
                </a:lnTo>
                <a:lnTo>
                  <a:pt x="5367" y="2583"/>
                </a:lnTo>
                <a:lnTo>
                  <a:pt x="5369" y="2583"/>
                </a:lnTo>
                <a:lnTo>
                  <a:pt x="5371" y="2583"/>
                </a:lnTo>
                <a:lnTo>
                  <a:pt x="5374" y="2583"/>
                </a:lnTo>
                <a:lnTo>
                  <a:pt x="5376" y="2583"/>
                </a:lnTo>
                <a:lnTo>
                  <a:pt x="5378" y="2583"/>
                </a:lnTo>
                <a:lnTo>
                  <a:pt x="5380" y="2583"/>
                </a:lnTo>
                <a:lnTo>
                  <a:pt x="5383" y="2583"/>
                </a:lnTo>
                <a:lnTo>
                  <a:pt x="5385" y="2583"/>
                </a:lnTo>
                <a:lnTo>
                  <a:pt x="5387" y="2583"/>
                </a:lnTo>
                <a:lnTo>
                  <a:pt x="5389" y="2583"/>
                </a:lnTo>
                <a:lnTo>
                  <a:pt x="5392" y="2583"/>
                </a:lnTo>
                <a:lnTo>
                  <a:pt x="5394" y="2583"/>
                </a:lnTo>
                <a:lnTo>
                  <a:pt x="5396" y="2583"/>
                </a:lnTo>
                <a:lnTo>
                  <a:pt x="5398" y="2583"/>
                </a:lnTo>
                <a:lnTo>
                  <a:pt x="5401" y="2583"/>
                </a:lnTo>
                <a:lnTo>
                  <a:pt x="5403" y="2583"/>
                </a:lnTo>
                <a:lnTo>
                  <a:pt x="5405" y="2583"/>
                </a:lnTo>
                <a:lnTo>
                  <a:pt x="5408" y="2583"/>
                </a:lnTo>
                <a:lnTo>
                  <a:pt x="5410" y="2583"/>
                </a:lnTo>
                <a:lnTo>
                  <a:pt x="5412" y="2583"/>
                </a:lnTo>
                <a:lnTo>
                  <a:pt x="5414" y="2583"/>
                </a:lnTo>
                <a:lnTo>
                  <a:pt x="5417" y="2583"/>
                </a:lnTo>
                <a:lnTo>
                  <a:pt x="5419" y="2583"/>
                </a:lnTo>
                <a:lnTo>
                  <a:pt x="5421" y="2583"/>
                </a:lnTo>
                <a:lnTo>
                  <a:pt x="5423" y="2583"/>
                </a:lnTo>
                <a:lnTo>
                  <a:pt x="5426" y="2582"/>
                </a:lnTo>
                <a:lnTo>
                  <a:pt x="5428" y="2582"/>
                </a:lnTo>
                <a:lnTo>
                  <a:pt x="5430" y="2582"/>
                </a:lnTo>
                <a:lnTo>
                  <a:pt x="5432" y="2583"/>
                </a:lnTo>
                <a:lnTo>
                  <a:pt x="5435" y="2583"/>
                </a:lnTo>
                <a:lnTo>
                  <a:pt x="5437" y="2583"/>
                </a:lnTo>
                <a:lnTo>
                  <a:pt x="5439" y="2583"/>
                </a:lnTo>
                <a:lnTo>
                  <a:pt x="5441" y="2583"/>
                </a:lnTo>
                <a:lnTo>
                  <a:pt x="5444" y="2583"/>
                </a:lnTo>
                <a:lnTo>
                  <a:pt x="5446" y="2583"/>
                </a:lnTo>
                <a:lnTo>
                  <a:pt x="5448" y="2583"/>
                </a:lnTo>
                <a:lnTo>
                  <a:pt x="5450" y="2583"/>
                </a:lnTo>
                <a:lnTo>
                  <a:pt x="5453" y="2583"/>
                </a:lnTo>
                <a:lnTo>
                  <a:pt x="5455" y="2583"/>
                </a:lnTo>
                <a:lnTo>
                  <a:pt x="5457" y="2583"/>
                </a:lnTo>
                <a:lnTo>
                  <a:pt x="5459" y="2583"/>
                </a:lnTo>
                <a:lnTo>
                  <a:pt x="5462" y="2583"/>
                </a:lnTo>
                <a:lnTo>
                  <a:pt x="5464" y="2583"/>
                </a:lnTo>
                <a:lnTo>
                  <a:pt x="5466" y="2583"/>
                </a:lnTo>
                <a:lnTo>
                  <a:pt x="5468" y="2583"/>
                </a:lnTo>
                <a:lnTo>
                  <a:pt x="5471" y="2583"/>
                </a:lnTo>
                <a:lnTo>
                  <a:pt x="5473" y="2583"/>
                </a:lnTo>
                <a:lnTo>
                  <a:pt x="5475" y="2583"/>
                </a:lnTo>
                <a:lnTo>
                  <a:pt x="5477" y="2583"/>
                </a:lnTo>
                <a:lnTo>
                  <a:pt x="5480" y="2584"/>
                </a:lnTo>
                <a:lnTo>
                  <a:pt x="5482" y="2583"/>
                </a:lnTo>
                <a:lnTo>
                  <a:pt x="5484" y="2584"/>
                </a:lnTo>
                <a:lnTo>
                  <a:pt x="5486" y="2584"/>
                </a:lnTo>
                <a:lnTo>
                  <a:pt x="5489" y="2584"/>
                </a:lnTo>
                <a:lnTo>
                  <a:pt x="5491" y="2584"/>
                </a:lnTo>
                <a:lnTo>
                  <a:pt x="5493" y="2584"/>
                </a:lnTo>
                <a:lnTo>
                  <a:pt x="5495" y="2583"/>
                </a:lnTo>
                <a:lnTo>
                  <a:pt x="5498" y="2583"/>
                </a:lnTo>
                <a:lnTo>
                  <a:pt x="5500" y="2583"/>
                </a:lnTo>
                <a:lnTo>
                  <a:pt x="5502" y="2583"/>
                </a:lnTo>
                <a:lnTo>
                  <a:pt x="5504" y="2583"/>
                </a:lnTo>
                <a:lnTo>
                  <a:pt x="5507" y="2584"/>
                </a:lnTo>
                <a:lnTo>
                  <a:pt x="5509" y="2584"/>
                </a:lnTo>
                <a:lnTo>
                  <a:pt x="5511" y="2584"/>
                </a:lnTo>
                <a:lnTo>
                  <a:pt x="5513" y="2584"/>
                </a:lnTo>
                <a:lnTo>
                  <a:pt x="5516" y="2584"/>
                </a:lnTo>
                <a:lnTo>
                  <a:pt x="5518" y="2584"/>
                </a:lnTo>
                <a:lnTo>
                  <a:pt x="5520" y="2584"/>
                </a:lnTo>
                <a:lnTo>
                  <a:pt x="5522" y="2584"/>
                </a:lnTo>
                <a:lnTo>
                  <a:pt x="5525" y="2584"/>
                </a:lnTo>
                <a:lnTo>
                  <a:pt x="5527" y="2584"/>
                </a:lnTo>
                <a:lnTo>
                  <a:pt x="5529" y="2584"/>
                </a:lnTo>
                <a:lnTo>
                  <a:pt x="5531" y="2584"/>
                </a:lnTo>
                <a:lnTo>
                  <a:pt x="5534" y="2584"/>
                </a:lnTo>
                <a:lnTo>
                  <a:pt x="5536" y="2584"/>
                </a:lnTo>
                <a:lnTo>
                  <a:pt x="5538" y="2584"/>
                </a:lnTo>
                <a:lnTo>
                  <a:pt x="5540" y="2584"/>
                </a:lnTo>
                <a:lnTo>
                  <a:pt x="5543" y="2584"/>
                </a:lnTo>
                <a:lnTo>
                  <a:pt x="5545" y="2584"/>
                </a:lnTo>
                <a:lnTo>
                  <a:pt x="5547" y="2584"/>
                </a:lnTo>
                <a:lnTo>
                  <a:pt x="5549" y="2585"/>
                </a:lnTo>
                <a:lnTo>
                  <a:pt x="5552" y="2584"/>
                </a:lnTo>
                <a:lnTo>
                  <a:pt x="5554" y="2584"/>
                </a:lnTo>
                <a:lnTo>
                  <a:pt x="5556" y="2584"/>
                </a:lnTo>
                <a:lnTo>
                  <a:pt x="5558" y="2584"/>
                </a:lnTo>
                <a:lnTo>
                  <a:pt x="5561" y="2584"/>
                </a:lnTo>
                <a:lnTo>
                  <a:pt x="5563" y="2584"/>
                </a:lnTo>
                <a:lnTo>
                  <a:pt x="5565" y="2584"/>
                </a:lnTo>
                <a:lnTo>
                  <a:pt x="5567" y="2584"/>
                </a:lnTo>
                <a:lnTo>
                  <a:pt x="5570" y="2584"/>
                </a:lnTo>
                <a:lnTo>
                  <a:pt x="5572" y="2585"/>
                </a:lnTo>
                <a:lnTo>
                  <a:pt x="5574" y="2585"/>
                </a:lnTo>
                <a:lnTo>
                  <a:pt x="5577" y="2585"/>
                </a:lnTo>
                <a:lnTo>
                  <a:pt x="5579" y="2585"/>
                </a:lnTo>
                <a:lnTo>
                  <a:pt x="5581" y="2585"/>
                </a:lnTo>
                <a:lnTo>
                  <a:pt x="5583" y="2585"/>
                </a:lnTo>
                <a:lnTo>
                  <a:pt x="5586" y="2585"/>
                </a:lnTo>
                <a:lnTo>
                  <a:pt x="5588" y="2585"/>
                </a:lnTo>
                <a:lnTo>
                  <a:pt x="5590" y="2584"/>
                </a:lnTo>
                <a:lnTo>
                  <a:pt x="5592" y="2584"/>
                </a:lnTo>
                <a:lnTo>
                  <a:pt x="5595" y="2584"/>
                </a:lnTo>
                <a:lnTo>
                  <a:pt x="5597" y="2584"/>
                </a:lnTo>
                <a:lnTo>
                  <a:pt x="5599" y="2584"/>
                </a:lnTo>
                <a:lnTo>
                  <a:pt x="5601" y="2584"/>
                </a:lnTo>
                <a:lnTo>
                  <a:pt x="5604" y="2584"/>
                </a:lnTo>
                <a:lnTo>
                  <a:pt x="5606" y="2584"/>
                </a:lnTo>
                <a:lnTo>
                  <a:pt x="5608" y="2584"/>
                </a:lnTo>
                <a:lnTo>
                  <a:pt x="5610" y="2584"/>
                </a:lnTo>
                <a:lnTo>
                  <a:pt x="5613" y="2584"/>
                </a:lnTo>
                <a:lnTo>
                  <a:pt x="5615" y="2584"/>
                </a:lnTo>
                <a:lnTo>
                  <a:pt x="5617" y="2584"/>
                </a:lnTo>
                <a:lnTo>
                  <a:pt x="5619" y="2584"/>
                </a:lnTo>
                <a:lnTo>
                  <a:pt x="5622" y="2584"/>
                </a:lnTo>
                <a:lnTo>
                  <a:pt x="5624" y="2584"/>
                </a:lnTo>
                <a:lnTo>
                  <a:pt x="5626" y="2584"/>
                </a:lnTo>
                <a:lnTo>
                  <a:pt x="5628" y="2584"/>
                </a:lnTo>
                <a:lnTo>
                  <a:pt x="5631" y="2584"/>
                </a:lnTo>
                <a:lnTo>
                  <a:pt x="5633" y="2584"/>
                </a:lnTo>
                <a:lnTo>
                  <a:pt x="5635" y="2584"/>
                </a:lnTo>
                <a:lnTo>
                  <a:pt x="5637" y="2584"/>
                </a:lnTo>
                <a:lnTo>
                  <a:pt x="5640" y="2584"/>
                </a:lnTo>
                <a:lnTo>
                  <a:pt x="5642" y="2584"/>
                </a:lnTo>
                <a:lnTo>
                  <a:pt x="5644" y="2584"/>
                </a:lnTo>
                <a:lnTo>
                  <a:pt x="5646" y="2584"/>
                </a:lnTo>
                <a:lnTo>
                  <a:pt x="5649" y="2584"/>
                </a:lnTo>
                <a:lnTo>
                  <a:pt x="5651" y="2584"/>
                </a:lnTo>
                <a:lnTo>
                  <a:pt x="5653" y="2584"/>
                </a:lnTo>
                <a:lnTo>
                  <a:pt x="5655" y="2584"/>
                </a:lnTo>
                <a:lnTo>
                  <a:pt x="5658" y="2584"/>
                </a:lnTo>
                <a:lnTo>
                  <a:pt x="5660" y="2584"/>
                </a:lnTo>
                <a:lnTo>
                  <a:pt x="5662" y="2584"/>
                </a:lnTo>
                <a:lnTo>
                  <a:pt x="5664" y="2584"/>
                </a:lnTo>
                <a:lnTo>
                  <a:pt x="5667" y="2584"/>
                </a:lnTo>
                <a:lnTo>
                  <a:pt x="5669" y="2584"/>
                </a:lnTo>
                <a:lnTo>
                  <a:pt x="5671" y="2584"/>
                </a:lnTo>
                <a:lnTo>
                  <a:pt x="5673" y="2584"/>
                </a:lnTo>
                <a:lnTo>
                  <a:pt x="5676" y="2584"/>
                </a:lnTo>
                <a:lnTo>
                  <a:pt x="5678" y="2584"/>
                </a:lnTo>
                <a:lnTo>
                  <a:pt x="5680" y="2584"/>
                </a:lnTo>
                <a:lnTo>
                  <a:pt x="5682" y="2584"/>
                </a:lnTo>
                <a:lnTo>
                  <a:pt x="5685" y="2584"/>
                </a:lnTo>
                <a:lnTo>
                  <a:pt x="5687" y="2584"/>
                </a:lnTo>
                <a:lnTo>
                  <a:pt x="5689" y="2584"/>
                </a:lnTo>
                <a:lnTo>
                  <a:pt x="5691" y="2584"/>
                </a:lnTo>
                <a:lnTo>
                  <a:pt x="5694" y="2584"/>
                </a:lnTo>
                <a:lnTo>
                  <a:pt x="5696" y="2584"/>
                </a:lnTo>
                <a:lnTo>
                  <a:pt x="5698" y="2583"/>
                </a:lnTo>
                <a:lnTo>
                  <a:pt x="5700" y="2583"/>
                </a:lnTo>
                <a:lnTo>
                  <a:pt x="5703" y="2583"/>
                </a:lnTo>
                <a:lnTo>
                  <a:pt x="5705" y="2583"/>
                </a:lnTo>
                <a:lnTo>
                  <a:pt x="5707" y="2583"/>
                </a:lnTo>
                <a:lnTo>
                  <a:pt x="5709" y="2583"/>
                </a:lnTo>
                <a:lnTo>
                  <a:pt x="5712" y="2583"/>
                </a:lnTo>
                <a:lnTo>
                  <a:pt x="5714" y="2584"/>
                </a:lnTo>
                <a:lnTo>
                  <a:pt x="5716" y="2584"/>
                </a:lnTo>
                <a:lnTo>
                  <a:pt x="5718" y="2583"/>
                </a:lnTo>
                <a:lnTo>
                  <a:pt x="5721" y="2583"/>
                </a:lnTo>
                <a:lnTo>
                  <a:pt x="5723" y="2584"/>
                </a:lnTo>
                <a:lnTo>
                  <a:pt x="5725" y="2584"/>
                </a:lnTo>
                <a:lnTo>
                  <a:pt x="5727" y="2583"/>
                </a:lnTo>
                <a:lnTo>
                  <a:pt x="5730" y="2583"/>
                </a:lnTo>
                <a:lnTo>
                  <a:pt x="5732" y="2583"/>
                </a:lnTo>
                <a:lnTo>
                  <a:pt x="5734" y="2583"/>
                </a:lnTo>
                <a:lnTo>
                  <a:pt x="5736" y="2583"/>
                </a:lnTo>
                <a:lnTo>
                  <a:pt x="5739" y="2583"/>
                </a:lnTo>
                <a:lnTo>
                  <a:pt x="5741" y="2583"/>
                </a:lnTo>
                <a:lnTo>
                  <a:pt x="5743" y="2583"/>
                </a:lnTo>
                <a:lnTo>
                  <a:pt x="5746" y="2583"/>
                </a:lnTo>
                <a:lnTo>
                  <a:pt x="5748" y="2583"/>
                </a:lnTo>
                <a:lnTo>
                  <a:pt x="5750" y="2583"/>
                </a:lnTo>
                <a:lnTo>
                  <a:pt x="5752" y="2583"/>
                </a:lnTo>
                <a:lnTo>
                  <a:pt x="5755" y="2583"/>
                </a:lnTo>
                <a:lnTo>
                  <a:pt x="5757" y="2583"/>
                </a:lnTo>
                <a:lnTo>
                  <a:pt x="5759" y="2583"/>
                </a:lnTo>
                <a:lnTo>
                  <a:pt x="5761" y="2583"/>
                </a:lnTo>
                <a:lnTo>
                  <a:pt x="5764" y="2583"/>
                </a:lnTo>
                <a:lnTo>
                  <a:pt x="5766" y="2583"/>
                </a:lnTo>
                <a:lnTo>
                  <a:pt x="5768" y="2583"/>
                </a:lnTo>
                <a:lnTo>
                  <a:pt x="5770" y="2583"/>
                </a:lnTo>
                <a:lnTo>
                  <a:pt x="5773" y="2582"/>
                </a:lnTo>
                <a:lnTo>
                  <a:pt x="5775" y="2582"/>
                </a:lnTo>
                <a:lnTo>
                  <a:pt x="5777" y="2582"/>
                </a:lnTo>
                <a:lnTo>
                  <a:pt x="5779" y="2582"/>
                </a:lnTo>
                <a:lnTo>
                  <a:pt x="5782" y="2582"/>
                </a:lnTo>
                <a:lnTo>
                  <a:pt x="5784" y="2583"/>
                </a:lnTo>
                <a:lnTo>
                  <a:pt x="5786" y="2583"/>
                </a:lnTo>
                <a:lnTo>
                  <a:pt x="5788" y="2583"/>
                </a:lnTo>
                <a:lnTo>
                  <a:pt x="5791" y="2583"/>
                </a:lnTo>
                <a:lnTo>
                  <a:pt x="5793" y="2583"/>
                </a:lnTo>
                <a:lnTo>
                  <a:pt x="5795" y="2583"/>
                </a:lnTo>
                <a:lnTo>
                  <a:pt x="5797" y="2582"/>
                </a:lnTo>
                <a:lnTo>
                  <a:pt x="5800" y="2582"/>
                </a:lnTo>
                <a:lnTo>
                  <a:pt x="5802" y="2582"/>
                </a:lnTo>
                <a:lnTo>
                  <a:pt x="5804" y="2582"/>
                </a:lnTo>
                <a:lnTo>
                  <a:pt x="5806" y="2582"/>
                </a:lnTo>
                <a:lnTo>
                  <a:pt x="5809" y="2582"/>
                </a:lnTo>
                <a:lnTo>
                  <a:pt x="5811" y="2582"/>
                </a:lnTo>
                <a:lnTo>
                  <a:pt x="5813" y="2582"/>
                </a:lnTo>
                <a:lnTo>
                  <a:pt x="5815" y="2582"/>
                </a:lnTo>
                <a:lnTo>
                  <a:pt x="5818" y="2582"/>
                </a:lnTo>
                <a:lnTo>
                  <a:pt x="5820" y="2582"/>
                </a:lnTo>
                <a:lnTo>
                  <a:pt x="5822" y="2582"/>
                </a:lnTo>
                <a:lnTo>
                  <a:pt x="5824" y="2582"/>
                </a:lnTo>
                <a:lnTo>
                  <a:pt x="5827" y="2582"/>
                </a:lnTo>
                <a:lnTo>
                  <a:pt x="5829" y="2582"/>
                </a:lnTo>
                <a:lnTo>
                  <a:pt x="5831" y="2582"/>
                </a:lnTo>
                <a:lnTo>
                  <a:pt x="5833" y="2581"/>
                </a:lnTo>
                <a:lnTo>
                  <a:pt x="5836" y="2581"/>
                </a:lnTo>
                <a:lnTo>
                  <a:pt x="5838" y="2582"/>
                </a:lnTo>
                <a:lnTo>
                  <a:pt x="5840" y="2582"/>
                </a:lnTo>
                <a:lnTo>
                  <a:pt x="5842" y="2582"/>
                </a:lnTo>
                <a:lnTo>
                  <a:pt x="5845" y="2582"/>
                </a:lnTo>
                <a:lnTo>
                  <a:pt x="5847" y="2582"/>
                </a:lnTo>
                <a:lnTo>
                  <a:pt x="5849" y="2582"/>
                </a:lnTo>
                <a:lnTo>
                  <a:pt x="5851" y="2582"/>
                </a:lnTo>
                <a:lnTo>
                  <a:pt x="5854" y="2582"/>
                </a:lnTo>
                <a:lnTo>
                  <a:pt x="5856" y="2582"/>
                </a:lnTo>
                <a:lnTo>
                  <a:pt x="5858" y="2582"/>
                </a:lnTo>
                <a:lnTo>
                  <a:pt x="5860" y="2582"/>
                </a:lnTo>
                <a:lnTo>
                  <a:pt x="5863" y="2582"/>
                </a:lnTo>
                <a:lnTo>
                  <a:pt x="5865" y="2581"/>
                </a:lnTo>
                <a:lnTo>
                  <a:pt x="5867" y="2581"/>
                </a:lnTo>
                <a:lnTo>
                  <a:pt x="5869" y="2581"/>
                </a:lnTo>
                <a:lnTo>
                  <a:pt x="5872" y="2581"/>
                </a:lnTo>
                <a:lnTo>
                  <a:pt x="5874" y="2581"/>
                </a:lnTo>
                <a:lnTo>
                  <a:pt x="5876" y="2581"/>
                </a:lnTo>
                <a:lnTo>
                  <a:pt x="5878" y="2581"/>
                </a:lnTo>
                <a:lnTo>
                  <a:pt x="5881" y="2581"/>
                </a:lnTo>
                <a:lnTo>
                  <a:pt x="5883" y="2581"/>
                </a:lnTo>
                <a:lnTo>
                  <a:pt x="5885" y="2581"/>
                </a:lnTo>
                <a:lnTo>
                  <a:pt x="5887" y="2581"/>
                </a:lnTo>
                <a:lnTo>
                  <a:pt x="5890" y="2581"/>
                </a:lnTo>
                <a:lnTo>
                  <a:pt x="5892" y="2581"/>
                </a:lnTo>
                <a:lnTo>
                  <a:pt x="5894" y="2581"/>
                </a:lnTo>
                <a:lnTo>
                  <a:pt x="5896" y="2580"/>
                </a:lnTo>
                <a:lnTo>
                  <a:pt x="5899" y="2580"/>
                </a:lnTo>
                <a:lnTo>
                  <a:pt x="5901" y="2580"/>
                </a:lnTo>
                <a:lnTo>
                  <a:pt x="5903" y="2580"/>
                </a:lnTo>
                <a:lnTo>
                  <a:pt x="5905" y="2580"/>
                </a:lnTo>
                <a:lnTo>
                  <a:pt x="5908" y="2580"/>
                </a:lnTo>
                <a:lnTo>
                  <a:pt x="5910" y="2580"/>
                </a:lnTo>
                <a:lnTo>
                  <a:pt x="5912" y="2580"/>
                </a:lnTo>
                <a:lnTo>
                  <a:pt x="5915" y="2580"/>
                </a:lnTo>
                <a:lnTo>
                  <a:pt x="5917" y="2580"/>
                </a:lnTo>
                <a:lnTo>
                  <a:pt x="5919" y="2580"/>
                </a:lnTo>
                <a:lnTo>
                  <a:pt x="5921" y="2580"/>
                </a:lnTo>
                <a:lnTo>
                  <a:pt x="5924" y="2580"/>
                </a:lnTo>
                <a:lnTo>
                  <a:pt x="5926" y="2580"/>
                </a:lnTo>
                <a:lnTo>
                  <a:pt x="5928" y="2579"/>
                </a:lnTo>
                <a:lnTo>
                  <a:pt x="5930" y="2579"/>
                </a:lnTo>
                <a:lnTo>
                  <a:pt x="5933" y="2579"/>
                </a:lnTo>
                <a:lnTo>
                  <a:pt x="5935" y="2579"/>
                </a:lnTo>
                <a:lnTo>
                  <a:pt x="5937" y="2579"/>
                </a:lnTo>
                <a:lnTo>
                  <a:pt x="5939" y="2579"/>
                </a:lnTo>
                <a:lnTo>
                  <a:pt x="5942" y="2579"/>
                </a:lnTo>
                <a:lnTo>
                  <a:pt x="5944" y="2579"/>
                </a:lnTo>
                <a:lnTo>
                  <a:pt x="5946" y="2579"/>
                </a:lnTo>
                <a:lnTo>
                  <a:pt x="5948" y="2579"/>
                </a:lnTo>
                <a:lnTo>
                  <a:pt x="5951" y="2579"/>
                </a:lnTo>
                <a:lnTo>
                  <a:pt x="5953" y="2579"/>
                </a:lnTo>
                <a:lnTo>
                  <a:pt x="5955" y="2579"/>
                </a:lnTo>
                <a:lnTo>
                  <a:pt x="5957" y="2579"/>
                </a:lnTo>
                <a:lnTo>
                  <a:pt x="5960" y="2578"/>
                </a:lnTo>
                <a:lnTo>
                  <a:pt x="5962" y="2578"/>
                </a:lnTo>
                <a:lnTo>
                  <a:pt x="5964" y="2578"/>
                </a:lnTo>
                <a:lnTo>
                  <a:pt x="5966" y="2578"/>
                </a:lnTo>
                <a:lnTo>
                  <a:pt x="5969" y="2578"/>
                </a:lnTo>
                <a:lnTo>
                  <a:pt x="5971" y="2578"/>
                </a:lnTo>
                <a:lnTo>
                  <a:pt x="5973" y="2578"/>
                </a:lnTo>
                <a:lnTo>
                  <a:pt x="5975" y="2578"/>
                </a:lnTo>
                <a:lnTo>
                  <a:pt x="5978" y="2578"/>
                </a:lnTo>
                <a:lnTo>
                  <a:pt x="5980" y="2578"/>
                </a:lnTo>
                <a:lnTo>
                  <a:pt x="5982" y="2577"/>
                </a:lnTo>
                <a:lnTo>
                  <a:pt x="5984" y="2577"/>
                </a:lnTo>
                <a:lnTo>
                  <a:pt x="5987" y="2577"/>
                </a:lnTo>
                <a:lnTo>
                  <a:pt x="5989" y="2577"/>
                </a:lnTo>
                <a:lnTo>
                  <a:pt x="5991" y="2577"/>
                </a:lnTo>
                <a:lnTo>
                  <a:pt x="5993" y="2576"/>
                </a:lnTo>
                <a:lnTo>
                  <a:pt x="5996" y="2576"/>
                </a:lnTo>
                <a:lnTo>
                  <a:pt x="5998" y="2576"/>
                </a:lnTo>
                <a:lnTo>
                  <a:pt x="6000" y="2576"/>
                </a:lnTo>
                <a:lnTo>
                  <a:pt x="6002" y="2576"/>
                </a:lnTo>
                <a:lnTo>
                  <a:pt x="6005" y="2576"/>
                </a:lnTo>
                <a:lnTo>
                  <a:pt x="6007" y="2575"/>
                </a:lnTo>
                <a:lnTo>
                  <a:pt x="6009" y="2575"/>
                </a:lnTo>
                <a:lnTo>
                  <a:pt x="6011" y="2575"/>
                </a:lnTo>
                <a:lnTo>
                  <a:pt x="6014" y="2575"/>
                </a:lnTo>
                <a:lnTo>
                  <a:pt x="6016" y="2574"/>
                </a:lnTo>
                <a:lnTo>
                  <a:pt x="6018" y="2574"/>
                </a:lnTo>
                <a:lnTo>
                  <a:pt x="6020" y="2574"/>
                </a:lnTo>
                <a:lnTo>
                  <a:pt x="6023" y="2573"/>
                </a:lnTo>
                <a:lnTo>
                  <a:pt x="6025" y="2572"/>
                </a:lnTo>
                <a:lnTo>
                  <a:pt x="6027" y="2572"/>
                </a:lnTo>
                <a:lnTo>
                  <a:pt x="6029" y="2572"/>
                </a:lnTo>
                <a:lnTo>
                  <a:pt x="6032" y="2571"/>
                </a:lnTo>
                <a:lnTo>
                  <a:pt x="6034" y="2571"/>
                </a:lnTo>
                <a:lnTo>
                  <a:pt x="6036" y="2571"/>
                </a:lnTo>
                <a:lnTo>
                  <a:pt x="6038" y="2570"/>
                </a:lnTo>
                <a:lnTo>
                  <a:pt x="6041" y="2570"/>
                </a:lnTo>
                <a:lnTo>
                  <a:pt x="6043" y="2569"/>
                </a:lnTo>
                <a:lnTo>
                  <a:pt x="6045" y="2569"/>
                </a:lnTo>
                <a:lnTo>
                  <a:pt x="6047" y="2568"/>
                </a:lnTo>
                <a:lnTo>
                  <a:pt x="6050" y="2567"/>
                </a:lnTo>
                <a:lnTo>
                  <a:pt x="6052" y="2566"/>
                </a:lnTo>
                <a:lnTo>
                  <a:pt x="6054" y="2565"/>
                </a:lnTo>
                <a:lnTo>
                  <a:pt x="6056" y="2564"/>
                </a:lnTo>
                <a:lnTo>
                  <a:pt x="6059" y="2563"/>
                </a:lnTo>
                <a:lnTo>
                  <a:pt x="6061" y="2562"/>
                </a:lnTo>
                <a:lnTo>
                  <a:pt x="6063" y="2561"/>
                </a:lnTo>
                <a:lnTo>
                  <a:pt x="6065" y="2560"/>
                </a:lnTo>
                <a:lnTo>
                  <a:pt x="6068" y="2559"/>
                </a:lnTo>
                <a:lnTo>
                  <a:pt x="6070" y="2558"/>
                </a:lnTo>
                <a:lnTo>
                  <a:pt x="6072" y="2557"/>
                </a:lnTo>
                <a:lnTo>
                  <a:pt x="6074" y="2556"/>
                </a:lnTo>
                <a:lnTo>
                  <a:pt x="6077" y="2554"/>
                </a:lnTo>
                <a:lnTo>
                  <a:pt x="6079" y="2553"/>
                </a:lnTo>
                <a:lnTo>
                  <a:pt x="6081" y="2551"/>
                </a:lnTo>
                <a:lnTo>
                  <a:pt x="6084" y="2550"/>
                </a:lnTo>
                <a:lnTo>
                  <a:pt x="6086" y="2548"/>
                </a:lnTo>
                <a:lnTo>
                  <a:pt x="6088" y="2546"/>
                </a:lnTo>
                <a:lnTo>
                  <a:pt x="6090" y="2544"/>
                </a:lnTo>
                <a:lnTo>
                  <a:pt x="6093" y="2542"/>
                </a:lnTo>
                <a:lnTo>
                  <a:pt x="6095" y="2539"/>
                </a:lnTo>
                <a:lnTo>
                  <a:pt x="6097" y="2537"/>
                </a:lnTo>
                <a:lnTo>
                  <a:pt x="6099" y="2535"/>
                </a:lnTo>
                <a:lnTo>
                  <a:pt x="6102" y="2533"/>
                </a:lnTo>
                <a:lnTo>
                  <a:pt x="6104" y="2530"/>
                </a:lnTo>
                <a:lnTo>
                  <a:pt x="6106" y="2528"/>
                </a:lnTo>
                <a:lnTo>
                  <a:pt x="6108" y="2525"/>
                </a:lnTo>
                <a:lnTo>
                  <a:pt x="6111" y="2522"/>
                </a:lnTo>
                <a:lnTo>
                  <a:pt x="6113" y="2518"/>
                </a:lnTo>
                <a:lnTo>
                  <a:pt x="6115" y="2515"/>
                </a:lnTo>
                <a:lnTo>
                  <a:pt x="6117" y="2512"/>
                </a:lnTo>
                <a:lnTo>
                  <a:pt x="6120" y="2508"/>
                </a:lnTo>
                <a:lnTo>
                  <a:pt x="6122" y="2504"/>
                </a:lnTo>
                <a:lnTo>
                  <a:pt x="6124" y="2500"/>
                </a:lnTo>
                <a:lnTo>
                  <a:pt x="6126" y="2495"/>
                </a:lnTo>
                <a:lnTo>
                  <a:pt x="6129" y="2490"/>
                </a:lnTo>
                <a:lnTo>
                  <a:pt x="6131" y="2483"/>
                </a:lnTo>
                <a:lnTo>
                  <a:pt x="6133" y="2480"/>
                </a:lnTo>
                <a:lnTo>
                  <a:pt x="6135" y="2475"/>
                </a:lnTo>
                <a:lnTo>
                  <a:pt x="6138" y="2470"/>
                </a:lnTo>
                <a:lnTo>
                  <a:pt x="6140" y="2465"/>
                </a:lnTo>
                <a:lnTo>
                  <a:pt x="6142" y="2459"/>
                </a:lnTo>
                <a:lnTo>
                  <a:pt x="6144" y="2453"/>
                </a:lnTo>
                <a:lnTo>
                  <a:pt x="6147" y="2447"/>
                </a:lnTo>
                <a:lnTo>
                  <a:pt x="6149" y="2441"/>
                </a:lnTo>
                <a:lnTo>
                  <a:pt x="6151" y="2434"/>
                </a:lnTo>
                <a:lnTo>
                  <a:pt x="6153" y="2427"/>
                </a:lnTo>
                <a:lnTo>
                  <a:pt x="6156" y="2420"/>
                </a:lnTo>
                <a:lnTo>
                  <a:pt x="6158" y="2412"/>
                </a:lnTo>
                <a:lnTo>
                  <a:pt x="6160" y="2404"/>
                </a:lnTo>
                <a:lnTo>
                  <a:pt x="6162" y="2394"/>
                </a:lnTo>
                <a:lnTo>
                  <a:pt x="6165" y="2386"/>
                </a:lnTo>
                <a:lnTo>
                  <a:pt x="6167" y="2378"/>
                </a:lnTo>
                <a:lnTo>
                  <a:pt x="6169" y="2369"/>
                </a:lnTo>
                <a:lnTo>
                  <a:pt x="6171" y="2360"/>
                </a:lnTo>
                <a:lnTo>
                  <a:pt x="6174" y="2350"/>
                </a:lnTo>
                <a:lnTo>
                  <a:pt x="6176" y="2341"/>
                </a:lnTo>
                <a:lnTo>
                  <a:pt x="6178" y="2331"/>
                </a:lnTo>
                <a:lnTo>
                  <a:pt x="6180" y="2320"/>
                </a:lnTo>
                <a:lnTo>
                  <a:pt x="6183" y="2309"/>
                </a:lnTo>
                <a:lnTo>
                  <a:pt x="6185" y="2295"/>
                </a:lnTo>
                <a:lnTo>
                  <a:pt x="6187" y="2285"/>
                </a:lnTo>
                <a:lnTo>
                  <a:pt x="6189" y="2273"/>
                </a:lnTo>
                <a:lnTo>
                  <a:pt x="6192" y="2261"/>
                </a:lnTo>
                <a:lnTo>
                  <a:pt x="6194" y="2248"/>
                </a:lnTo>
                <a:lnTo>
                  <a:pt x="6196" y="2236"/>
                </a:lnTo>
                <a:lnTo>
                  <a:pt x="6198" y="2223"/>
                </a:lnTo>
                <a:lnTo>
                  <a:pt x="6201" y="2208"/>
                </a:lnTo>
                <a:lnTo>
                  <a:pt x="6203" y="2194"/>
                </a:lnTo>
                <a:lnTo>
                  <a:pt x="6205" y="2181"/>
                </a:lnTo>
                <a:lnTo>
                  <a:pt x="6207" y="2166"/>
                </a:lnTo>
                <a:lnTo>
                  <a:pt x="6210" y="2152"/>
                </a:lnTo>
                <a:lnTo>
                  <a:pt x="6212" y="2137"/>
                </a:lnTo>
                <a:lnTo>
                  <a:pt x="6214" y="2121"/>
                </a:lnTo>
                <a:lnTo>
                  <a:pt x="6216" y="2103"/>
                </a:lnTo>
                <a:lnTo>
                  <a:pt x="6219" y="2088"/>
                </a:lnTo>
                <a:lnTo>
                  <a:pt x="6221" y="2071"/>
                </a:lnTo>
                <a:lnTo>
                  <a:pt x="6223" y="2055"/>
                </a:lnTo>
                <a:lnTo>
                  <a:pt x="6225" y="2038"/>
                </a:lnTo>
                <a:lnTo>
                  <a:pt x="6228" y="2019"/>
                </a:lnTo>
                <a:lnTo>
                  <a:pt x="6230" y="2002"/>
                </a:lnTo>
                <a:lnTo>
                  <a:pt x="6232" y="1985"/>
                </a:lnTo>
                <a:lnTo>
                  <a:pt x="6234" y="1967"/>
                </a:lnTo>
                <a:lnTo>
                  <a:pt x="6237" y="1949"/>
                </a:lnTo>
                <a:lnTo>
                  <a:pt x="6239" y="1930"/>
                </a:lnTo>
                <a:lnTo>
                  <a:pt x="6241" y="1910"/>
                </a:lnTo>
                <a:lnTo>
                  <a:pt x="6243" y="1893"/>
                </a:lnTo>
                <a:lnTo>
                  <a:pt x="6246" y="1874"/>
                </a:lnTo>
                <a:lnTo>
                  <a:pt x="6248" y="1855"/>
                </a:lnTo>
                <a:lnTo>
                  <a:pt x="6250" y="1834"/>
                </a:lnTo>
                <a:lnTo>
                  <a:pt x="6253" y="1814"/>
                </a:lnTo>
                <a:lnTo>
                  <a:pt x="6255" y="1795"/>
                </a:lnTo>
                <a:lnTo>
                  <a:pt x="6257" y="1775"/>
                </a:lnTo>
                <a:lnTo>
                  <a:pt x="6259" y="1756"/>
                </a:lnTo>
                <a:lnTo>
                  <a:pt x="6262" y="1734"/>
                </a:lnTo>
                <a:lnTo>
                  <a:pt x="6264" y="1716"/>
                </a:lnTo>
                <a:lnTo>
                  <a:pt x="6266" y="1696"/>
                </a:lnTo>
                <a:lnTo>
                  <a:pt x="6268" y="1677"/>
                </a:lnTo>
                <a:lnTo>
                  <a:pt x="6271" y="1657"/>
                </a:lnTo>
                <a:lnTo>
                  <a:pt x="6273" y="1634"/>
                </a:lnTo>
                <a:lnTo>
                  <a:pt x="6275" y="1617"/>
                </a:lnTo>
                <a:lnTo>
                  <a:pt x="6277" y="1597"/>
                </a:lnTo>
                <a:lnTo>
                  <a:pt x="6280" y="1577"/>
                </a:lnTo>
                <a:lnTo>
                  <a:pt x="6282" y="1557"/>
                </a:lnTo>
                <a:lnTo>
                  <a:pt x="6284" y="1535"/>
                </a:lnTo>
                <a:lnTo>
                  <a:pt x="6286" y="1518"/>
                </a:lnTo>
                <a:lnTo>
                  <a:pt x="6289" y="1498"/>
                </a:lnTo>
                <a:lnTo>
                  <a:pt x="6291" y="1480"/>
                </a:lnTo>
                <a:lnTo>
                  <a:pt x="6293" y="1460"/>
                </a:lnTo>
                <a:lnTo>
                  <a:pt x="6295" y="1441"/>
                </a:lnTo>
                <a:lnTo>
                  <a:pt x="6298" y="1424"/>
                </a:lnTo>
                <a:lnTo>
                  <a:pt x="6300" y="1407"/>
                </a:lnTo>
                <a:lnTo>
                  <a:pt x="6302" y="1389"/>
                </a:lnTo>
                <a:lnTo>
                  <a:pt x="6304" y="1372"/>
                </a:lnTo>
                <a:lnTo>
                  <a:pt x="6307" y="1353"/>
                </a:lnTo>
                <a:lnTo>
                  <a:pt x="6309" y="1339"/>
                </a:lnTo>
                <a:lnTo>
                  <a:pt x="6311" y="1322"/>
                </a:lnTo>
                <a:lnTo>
                  <a:pt x="6313" y="1306"/>
                </a:lnTo>
                <a:lnTo>
                  <a:pt x="6316" y="1291"/>
                </a:lnTo>
                <a:lnTo>
                  <a:pt x="6318" y="1276"/>
                </a:lnTo>
                <a:lnTo>
                  <a:pt x="6320" y="1259"/>
                </a:lnTo>
                <a:lnTo>
                  <a:pt x="6322" y="1246"/>
                </a:lnTo>
                <a:lnTo>
                  <a:pt x="6325" y="1232"/>
                </a:lnTo>
                <a:lnTo>
                  <a:pt x="6327" y="1219"/>
                </a:lnTo>
                <a:lnTo>
                  <a:pt x="6329" y="1207"/>
                </a:lnTo>
                <a:lnTo>
                  <a:pt x="6331" y="1196"/>
                </a:lnTo>
                <a:lnTo>
                  <a:pt x="6334" y="1184"/>
                </a:lnTo>
                <a:lnTo>
                  <a:pt x="6336" y="1173"/>
                </a:lnTo>
                <a:lnTo>
                  <a:pt x="6338" y="1162"/>
                </a:lnTo>
                <a:lnTo>
                  <a:pt x="6340" y="1154"/>
                </a:lnTo>
                <a:lnTo>
                  <a:pt x="6343" y="1144"/>
                </a:lnTo>
                <a:lnTo>
                  <a:pt x="6345" y="1136"/>
                </a:lnTo>
                <a:lnTo>
                  <a:pt x="6347" y="1128"/>
                </a:lnTo>
                <a:lnTo>
                  <a:pt x="6349" y="1121"/>
                </a:lnTo>
                <a:lnTo>
                  <a:pt x="6352" y="1115"/>
                </a:lnTo>
                <a:lnTo>
                  <a:pt x="6354" y="1108"/>
                </a:lnTo>
                <a:lnTo>
                  <a:pt x="6356" y="1103"/>
                </a:lnTo>
                <a:lnTo>
                  <a:pt x="6358" y="1098"/>
                </a:lnTo>
                <a:lnTo>
                  <a:pt x="6361" y="1094"/>
                </a:lnTo>
                <a:lnTo>
                  <a:pt x="6363" y="1091"/>
                </a:lnTo>
                <a:lnTo>
                  <a:pt x="6365" y="1089"/>
                </a:lnTo>
                <a:lnTo>
                  <a:pt x="6367" y="1087"/>
                </a:lnTo>
                <a:lnTo>
                  <a:pt x="6370" y="1086"/>
                </a:lnTo>
                <a:lnTo>
                  <a:pt x="6372" y="1085"/>
                </a:lnTo>
                <a:lnTo>
                  <a:pt x="6374" y="1085"/>
                </a:lnTo>
                <a:lnTo>
                  <a:pt x="6376" y="1086"/>
                </a:lnTo>
                <a:lnTo>
                  <a:pt x="6379" y="1087"/>
                </a:lnTo>
                <a:lnTo>
                  <a:pt x="6381" y="1088"/>
                </a:lnTo>
                <a:lnTo>
                  <a:pt x="6383" y="1091"/>
                </a:lnTo>
                <a:lnTo>
                  <a:pt x="6385" y="1093"/>
                </a:lnTo>
                <a:lnTo>
                  <a:pt x="6388" y="1097"/>
                </a:lnTo>
                <a:lnTo>
                  <a:pt x="6390" y="1101"/>
                </a:lnTo>
                <a:lnTo>
                  <a:pt x="6392" y="1106"/>
                </a:lnTo>
                <a:lnTo>
                  <a:pt x="6394" y="1111"/>
                </a:lnTo>
                <a:lnTo>
                  <a:pt x="6397" y="1117"/>
                </a:lnTo>
                <a:lnTo>
                  <a:pt x="6399" y="1124"/>
                </a:lnTo>
                <a:lnTo>
                  <a:pt x="6401" y="1131"/>
                </a:lnTo>
                <a:lnTo>
                  <a:pt x="6403" y="1139"/>
                </a:lnTo>
                <a:lnTo>
                  <a:pt x="6406" y="1147"/>
                </a:lnTo>
                <a:lnTo>
                  <a:pt x="6408" y="1156"/>
                </a:lnTo>
                <a:lnTo>
                  <a:pt x="6410" y="1165"/>
                </a:lnTo>
                <a:lnTo>
                  <a:pt x="6412" y="1174"/>
                </a:lnTo>
                <a:lnTo>
                  <a:pt x="6415" y="1184"/>
                </a:lnTo>
                <a:lnTo>
                  <a:pt x="6417" y="1194"/>
                </a:lnTo>
                <a:lnTo>
                  <a:pt x="6419" y="1205"/>
                </a:lnTo>
                <a:lnTo>
                  <a:pt x="6422" y="1216"/>
                </a:lnTo>
                <a:lnTo>
                  <a:pt x="6424" y="1227"/>
                </a:lnTo>
                <a:lnTo>
                  <a:pt x="6426" y="1239"/>
                </a:lnTo>
                <a:lnTo>
                  <a:pt x="6428" y="1252"/>
                </a:lnTo>
                <a:lnTo>
                  <a:pt x="6431" y="1264"/>
                </a:lnTo>
                <a:lnTo>
                  <a:pt x="6433" y="1279"/>
                </a:lnTo>
                <a:lnTo>
                  <a:pt x="6435" y="1293"/>
                </a:lnTo>
                <a:lnTo>
                  <a:pt x="6437" y="1307"/>
                </a:lnTo>
                <a:lnTo>
                  <a:pt x="6440" y="1321"/>
                </a:lnTo>
                <a:lnTo>
                  <a:pt x="6442" y="1336"/>
                </a:lnTo>
                <a:lnTo>
                  <a:pt x="6444" y="1349"/>
                </a:lnTo>
                <a:lnTo>
                  <a:pt x="6446" y="1365"/>
                </a:lnTo>
                <a:lnTo>
                  <a:pt x="6449" y="1381"/>
                </a:lnTo>
                <a:lnTo>
                  <a:pt x="6451" y="1397"/>
                </a:lnTo>
                <a:lnTo>
                  <a:pt x="6453" y="1412"/>
                </a:lnTo>
                <a:lnTo>
                  <a:pt x="6455" y="1427"/>
                </a:lnTo>
                <a:lnTo>
                  <a:pt x="6458" y="1442"/>
                </a:lnTo>
                <a:lnTo>
                  <a:pt x="6460" y="1458"/>
                </a:lnTo>
                <a:lnTo>
                  <a:pt x="6462" y="1475"/>
                </a:lnTo>
                <a:lnTo>
                  <a:pt x="6464" y="1492"/>
                </a:lnTo>
                <a:lnTo>
                  <a:pt x="6467" y="1508"/>
                </a:lnTo>
                <a:lnTo>
                  <a:pt x="6469" y="1524"/>
                </a:lnTo>
                <a:lnTo>
                  <a:pt x="6471" y="1540"/>
                </a:lnTo>
                <a:lnTo>
                  <a:pt x="6473" y="1557"/>
                </a:lnTo>
                <a:lnTo>
                  <a:pt x="6476" y="1575"/>
                </a:lnTo>
                <a:lnTo>
                  <a:pt x="6478" y="1591"/>
                </a:lnTo>
                <a:lnTo>
                  <a:pt x="6480" y="1608"/>
                </a:lnTo>
                <a:lnTo>
                  <a:pt x="6482" y="1624"/>
                </a:lnTo>
                <a:lnTo>
                  <a:pt x="6485" y="1639"/>
                </a:lnTo>
                <a:lnTo>
                  <a:pt x="6487" y="1657"/>
                </a:lnTo>
                <a:lnTo>
                  <a:pt x="6489" y="1674"/>
                </a:lnTo>
                <a:lnTo>
                  <a:pt x="6491" y="1690"/>
                </a:lnTo>
                <a:lnTo>
                  <a:pt x="6494" y="1706"/>
                </a:lnTo>
                <a:lnTo>
                  <a:pt x="6496" y="1721"/>
                </a:lnTo>
                <a:lnTo>
                  <a:pt x="6498" y="1737"/>
                </a:lnTo>
                <a:lnTo>
                  <a:pt x="6500" y="1755"/>
                </a:lnTo>
                <a:lnTo>
                  <a:pt x="6503" y="1771"/>
                </a:lnTo>
                <a:lnTo>
                  <a:pt x="6505" y="1787"/>
                </a:lnTo>
                <a:lnTo>
                  <a:pt x="6507" y="1802"/>
                </a:lnTo>
                <a:lnTo>
                  <a:pt x="6509" y="1817"/>
                </a:lnTo>
                <a:lnTo>
                  <a:pt x="6512" y="1832"/>
                </a:lnTo>
                <a:lnTo>
                  <a:pt x="6514" y="1849"/>
                </a:lnTo>
                <a:lnTo>
                  <a:pt x="6516" y="1864"/>
                </a:lnTo>
                <a:lnTo>
                  <a:pt x="6518" y="1878"/>
                </a:lnTo>
                <a:lnTo>
                  <a:pt x="6521" y="1893"/>
                </a:lnTo>
                <a:lnTo>
                  <a:pt x="6523" y="1907"/>
                </a:lnTo>
                <a:lnTo>
                  <a:pt x="6525" y="1920"/>
                </a:lnTo>
                <a:lnTo>
                  <a:pt x="6527" y="1935"/>
                </a:lnTo>
                <a:lnTo>
                  <a:pt x="6530" y="1950"/>
                </a:lnTo>
                <a:lnTo>
                  <a:pt x="6532" y="1964"/>
                </a:lnTo>
                <a:lnTo>
                  <a:pt x="6534" y="1977"/>
                </a:lnTo>
                <a:lnTo>
                  <a:pt x="6536" y="1991"/>
                </a:lnTo>
                <a:lnTo>
                  <a:pt x="6539" y="2004"/>
                </a:lnTo>
                <a:lnTo>
                  <a:pt x="6541" y="2015"/>
                </a:lnTo>
                <a:lnTo>
                  <a:pt x="6543" y="2030"/>
                </a:lnTo>
                <a:lnTo>
                  <a:pt x="6545" y="2043"/>
                </a:lnTo>
                <a:lnTo>
                  <a:pt x="6548" y="2055"/>
                </a:lnTo>
                <a:lnTo>
                  <a:pt x="6550" y="2067"/>
                </a:lnTo>
                <a:lnTo>
                  <a:pt x="6552" y="2078"/>
                </a:lnTo>
                <a:lnTo>
                  <a:pt x="6554" y="2090"/>
                </a:lnTo>
                <a:lnTo>
                  <a:pt x="6557" y="2101"/>
                </a:lnTo>
                <a:lnTo>
                  <a:pt x="6559" y="2111"/>
                </a:lnTo>
                <a:lnTo>
                  <a:pt x="6561" y="2124"/>
                </a:lnTo>
                <a:lnTo>
                  <a:pt x="6563" y="2135"/>
                </a:lnTo>
                <a:lnTo>
                  <a:pt x="6566" y="2146"/>
                </a:lnTo>
                <a:lnTo>
                  <a:pt x="6568" y="2156"/>
                </a:lnTo>
                <a:lnTo>
                  <a:pt x="6570" y="2166"/>
                </a:lnTo>
                <a:lnTo>
                  <a:pt x="6572" y="2176"/>
                </a:lnTo>
                <a:lnTo>
                  <a:pt x="6575" y="2185"/>
                </a:lnTo>
                <a:lnTo>
                  <a:pt x="6577" y="2195"/>
                </a:lnTo>
                <a:lnTo>
                  <a:pt x="6579" y="2203"/>
                </a:lnTo>
                <a:lnTo>
                  <a:pt x="6581" y="2214"/>
                </a:lnTo>
                <a:lnTo>
                  <a:pt x="6584" y="2223"/>
                </a:lnTo>
                <a:lnTo>
                  <a:pt x="6586" y="2231"/>
                </a:lnTo>
                <a:lnTo>
                  <a:pt x="6588" y="2239"/>
                </a:lnTo>
                <a:lnTo>
                  <a:pt x="6591" y="2247"/>
                </a:lnTo>
                <a:lnTo>
                  <a:pt x="6593" y="2255"/>
                </a:lnTo>
                <a:lnTo>
                  <a:pt x="6595" y="2263"/>
                </a:lnTo>
                <a:lnTo>
                  <a:pt x="6597" y="2270"/>
                </a:lnTo>
                <a:lnTo>
                  <a:pt x="6600" y="2278"/>
                </a:lnTo>
                <a:lnTo>
                  <a:pt x="6602" y="2285"/>
                </a:lnTo>
                <a:lnTo>
                  <a:pt x="6604" y="2292"/>
                </a:lnTo>
                <a:lnTo>
                  <a:pt x="6606" y="2298"/>
                </a:lnTo>
                <a:lnTo>
                  <a:pt x="6609" y="2307"/>
                </a:lnTo>
                <a:lnTo>
                  <a:pt x="6611" y="2314"/>
                </a:lnTo>
                <a:lnTo>
                  <a:pt x="6613" y="2320"/>
                </a:lnTo>
                <a:lnTo>
                  <a:pt x="6615" y="2326"/>
                </a:lnTo>
                <a:lnTo>
                  <a:pt x="6618" y="2332"/>
                </a:lnTo>
                <a:lnTo>
                  <a:pt x="6620" y="2338"/>
                </a:lnTo>
                <a:lnTo>
                  <a:pt x="6622" y="2344"/>
                </a:lnTo>
                <a:lnTo>
                  <a:pt x="6624" y="2349"/>
                </a:lnTo>
                <a:lnTo>
                  <a:pt x="6627" y="2354"/>
                </a:lnTo>
                <a:lnTo>
                  <a:pt x="6629" y="2359"/>
                </a:lnTo>
                <a:lnTo>
                  <a:pt x="6631" y="2364"/>
                </a:lnTo>
                <a:lnTo>
                  <a:pt x="6633" y="2369"/>
                </a:lnTo>
                <a:lnTo>
                  <a:pt x="6636" y="2374"/>
                </a:lnTo>
                <a:lnTo>
                  <a:pt x="6638" y="2379"/>
                </a:lnTo>
                <a:lnTo>
                  <a:pt x="6640" y="2384"/>
                </a:lnTo>
                <a:lnTo>
                  <a:pt x="6642" y="2388"/>
                </a:lnTo>
                <a:lnTo>
                  <a:pt x="6645" y="2391"/>
                </a:lnTo>
                <a:lnTo>
                  <a:pt x="6647" y="2398"/>
                </a:lnTo>
                <a:lnTo>
                  <a:pt x="6649" y="2403"/>
                </a:lnTo>
                <a:lnTo>
                  <a:pt x="6651" y="2407"/>
                </a:lnTo>
                <a:lnTo>
                  <a:pt x="6654" y="2410"/>
                </a:lnTo>
                <a:lnTo>
                  <a:pt x="6656" y="2414"/>
                </a:lnTo>
                <a:lnTo>
                  <a:pt x="6658" y="2418"/>
                </a:lnTo>
                <a:lnTo>
                  <a:pt x="6660" y="2421"/>
                </a:lnTo>
                <a:lnTo>
                  <a:pt x="6663" y="2424"/>
                </a:lnTo>
                <a:lnTo>
                  <a:pt x="6665" y="2427"/>
                </a:lnTo>
                <a:lnTo>
                  <a:pt x="6667" y="2430"/>
                </a:lnTo>
                <a:lnTo>
                  <a:pt x="6669" y="2433"/>
                </a:lnTo>
                <a:lnTo>
                  <a:pt x="6672" y="2437"/>
                </a:lnTo>
                <a:lnTo>
                  <a:pt x="6674" y="2440"/>
                </a:lnTo>
                <a:lnTo>
                  <a:pt x="6676" y="2443"/>
                </a:lnTo>
                <a:lnTo>
                  <a:pt x="6678" y="2446"/>
                </a:lnTo>
                <a:lnTo>
                  <a:pt x="6681" y="2448"/>
                </a:lnTo>
                <a:lnTo>
                  <a:pt x="6683" y="2451"/>
                </a:lnTo>
                <a:lnTo>
                  <a:pt x="6685" y="2454"/>
                </a:lnTo>
                <a:lnTo>
                  <a:pt x="6687" y="2456"/>
                </a:lnTo>
                <a:lnTo>
                  <a:pt x="6690" y="2459"/>
                </a:lnTo>
                <a:lnTo>
                  <a:pt x="6692" y="2461"/>
                </a:lnTo>
                <a:lnTo>
                  <a:pt x="6694" y="2463"/>
                </a:lnTo>
                <a:lnTo>
                  <a:pt x="6696" y="2465"/>
                </a:lnTo>
                <a:lnTo>
                  <a:pt x="6699" y="2467"/>
                </a:lnTo>
                <a:lnTo>
                  <a:pt x="6701" y="2469"/>
                </a:lnTo>
                <a:lnTo>
                  <a:pt x="6703" y="2471"/>
                </a:lnTo>
                <a:lnTo>
                  <a:pt x="6705" y="2473"/>
                </a:lnTo>
                <a:lnTo>
                  <a:pt x="6708" y="2475"/>
                </a:lnTo>
                <a:lnTo>
                  <a:pt x="6710" y="2477"/>
                </a:lnTo>
                <a:lnTo>
                  <a:pt x="6712" y="2479"/>
                </a:lnTo>
                <a:lnTo>
                  <a:pt x="6714" y="2480"/>
                </a:lnTo>
                <a:lnTo>
                  <a:pt x="6717" y="2482"/>
                </a:lnTo>
                <a:lnTo>
                  <a:pt x="6719" y="2484"/>
                </a:lnTo>
                <a:lnTo>
                  <a:pt x="6721" y="2485"/>
                </a:lnTo>
                <a:lnTo>
                  <a:pt x="6723" y="2486"/>
                </a:lnTo>
                <a:lnTo>
                  <a:pt x="6726" y="2490"/>
                </a:lnTo>
                <a:lnTo>
                  <a:pt x="6728" y="2492"/>
                </a:lnTo>
                <a:lnTo>
                  <a:pt x="6730" y="2493"/>
                </a:lnTo>
                <a:lnTo>
                  <a:pt x="6732" y="2494"/>
                </a:lnTo>
                <a:lnTo>
                  <a:pt x="6735" y="2495"/>
                </a:lnTo>
                <a:lnTo>
                  <a:pt x="6737" y="2496"/>
                </a:lnTo>
                <a:lnTo>
                  <a:pt x="6739" y="2498"/>
                </a:lnTo>
                <a:lnTo>
                  <a:pt x="6741" y="2499"/>
                </a:lnTo>
                <a:lnTo>
                  <a:pt x="6744" y="2500"/>
                </a:lnTo>
                <a:lnTo>
                  <a:pt x="6746" y="2501"/>
                </a:lnTo>
                <a:lnTo>
                  <a:pt x="6748" y="2503"/>
                </a:lnTo>
                <a:lnTo>
                  <a:pt x="6750" y="2504"/>
                </a:lnTo>
                <a:lnTo>
                  <a:pt x="6753" y="2505"/>
                </a:lnTo>
                <a:lnTo>
                  <a:pt x="6755" y="2506"/>
                </a:lnTo>
                <a:lnTo>
                  <a:pt x="6757" y="2507"/>
                </a:lnTo>
                <a:lnTo>
                  <a:pt x="6760" y="2508"/>
                </a:lnTo>
                <a:lnTo>
                  <a:pt x="6762" y="2509"/>
                </a:lnTo>
                <a:lnTo>
                  <a:pt x="6764" y="2509"/>
                </a:lnTo>
                <a:lnTo>
                  <a:pt x="6766" y="2510"/>
                </a:lnTo>
                <a:lnTo>
                  <a:pt x="6769" y="2511"/>
                </a:lnTo>
                <a:lnTo>
                  <a:pt x="6771" y="2512"/>
                </a:lnTo>
                <a:lnTo>
                  <a:pt x="6773" y="2513"/>
                </a:lnTo>
                <a:lnTo>
                  <a:pt x="6775" y="2514"/>
                </a:lnTo>
                <a:lnTo>
                  <a:pt x="6778" y="2515"/>
                </a:lnTo>
                <a:lnTo>
                  <a:pt x="6780" y="2516"/>
                </a:lnTo>
                <a:lnTo>
                  <a:pt x="6782" y="2517"/>
                </a:lnTo>
                <a:lnTo>
                  <a:pt x="6784" y="2517"/>
                </a:lnTo>
                <a:lnTo>
                  <a:pt x="6787" y="2518"/>
                </a:lnTo>
                <a:lnTo>
                  <a:pt x="6789" y="2519"/>
                </a:lnTo>
                <a:lnTo>
                  <a:pt x="6791" y="2519"/>
                </a:lnTo>
                <a:lnTo>
                  <a:pt x="6793" y="2520"/>
                </a:lnTo>
                <a:lnTo>
                  <a:pt x="6796" y="2520"/>
                </a:lnTo>
                <a:lnTo>
                  <a:pt x="6798" y="2521"/>
                </a:lnTo>
                <a:lnTo>
                  <a:pt x="6800" y="2522"/>
                </a:lnTo>
                <a:lnTo>
                  <a:pt x="6802" y="2523"/>
                </a:lnTo>
                <a:lnTo>
                  <a:pt x="6805" y="2523"/>
                </a:lnTo>
                <a:lnTo>
                  <a:pt x="6807" y="2524"/>
                </a:lnTo>
                <a:lnTo>
                  <a:pt x="6809" y="2525"/>
                </a:lnTo>
                <a:lnTo>
                  <a:pt x="6811" y="2525"/>
                </a:lnTo>
                <a:lnTo>
                  <a:pt x="6814" y="2526"/>
                </a:lnTo>
                <a:lnTo>
                  <a:pt x="6816" y="2526"/>
                </a:lnTo>
                <a:lnTo>
                  <a:pt x="6818" y="2527"/>
                </a:lnTo>
                <a:lnTo>
                  <a:pt x="6820" y="2527"/>
                </a:lnTo>
                <a:lnTo>
                  <a:pt x="6823" y="2528"/>
                </a:lnTo>
                <a:lnTo>
                  <a:pt x="6825" y="2528"/>
                </a:lnTo>
                <a:lnTo>
                  <a:pt x="6827" y="2529"/>
                </a:lnTo>
                <a:lnTo>
                  <a:pt x="6829" y="2529"/>
                </a:lnTo>
                <a:lnTo>
                  <a:pt x="6832" y="2530"/>
                </a:lnTo>
                <a:lnTo>
                  <a:pt x="6834" y="2530"/>
                </a:lnTo>
                <a:lnTo>
                  <a:pt x="6836" y="2531"/>
                </a:lnTo>
                <a:lnTo>
                  <a:pt x="6838" y="2532"/>
                </a:lnTo>
                <a:lnTo>
                  <a:pt x="6841" y="2532"/>
                </a:lnTo>
                <a:lnTo>
                  <a:pt x="6843" y="2533"/>
                </a:lnTo>
                <a:lnTo>
                  <a:pt x="6845" y="2533"/>
                </a:lnTo>
                <a:lnTo>
                  <a:pt x="6847" y="2533"/>
                </a:lnTo>
                <a:lnTo>
                  <a:pt x="6850" y="2534"/>
                </a:lnTo>
                <a:lnTo>
                  <a:pt x="6852" y="2534"/>
                </a:lnTo>
                <a:lnTo>
                  <a:pt x="6854" y="2534"/>
                </a:lnTo>
                <a:lnTo>
                  <a:pt x="6856" y="2534"/>
                </a:lnTo>
                <a:lnTo>
                  <a:pt x="6859" y="2535"/>
                </a:lnTo>
                <a:lnTo>
                  <a:pt x="6861" y="2535"/>
                </a:lnTo>
                <a:lnTo>
                  <a:pt x="6863" y="2536"/>
                </a:lnTo>
                <a:lnTo>
                  <a:pt x="6865" y="2536"/>
                </a:lnTo>
                <a:lnTo>
                  <a:pt x="6868" y="2536"/>
                </a:lnTo>
                <a:lnTo>
                  <a:pt x="6870" y="2537"/>
                </a:lnTo>
                <a:lnTo>
                  <a:pt x="6872" y="2537"/>
                </a:lnTo>
                <a:lnTo>
                  <a:pt x="6874" y="2538"/>
                </a:lnTo>
                <a:lnTo>
                  <a:pt x="6877" y="2538"/>
                </a:lnTo>
                <a:lnTo>
                  <a:pt x="6879" y="2538"/>
                </a:lnTo>
                <a:lnTo>
                  <a:pt x="6881" y="2539"/>
                </a:lnTo>
                <a:lnTo>
                  <a:pt x="6883" y="2539"/>
                </a:lnTo>
                <a:lnTo>
                  <a:pt x="6886" y="2539"/>
                </a:lnTo>
                <a:lnTo>
                  <a:pt x="6888" y="2540"/>
                </a:lnTo>
                <a:lnTo>
                  <a:pt x="6890" y="2540"/>
                </a:lnTo>
                <a:lnTo>
                  <a:pt x="6892" y="2540"/>
                </a:lnTo>
                <a:lnTo>
                  <a:pt x="6895" y="2540"/>
                </a:lnTo>
                <a:lnTo>
                  <a:pt x="6897" y="2540"/>
                </a:lnTo>
                <a:lnTo>
                  <a:pt x="6899" y="2541"/>
                </a:lnTo>
                <a:lnTo>
                  <a:pt x="6901" y="2541"/>
                </a:lnTo>
                <a:lnTo>
                  <a:pt x="6904" y="2541"/>
                </a:lnTo>
                <a:lnTo>
                  <a:pt x="6906" y="2542"/>
                </a:lnTo>
                <a:lnTo>
                  <a:pt x="6908" y="2542"/>
                </a:lnTo>
                <a:lnTo>
                  <a:pt x="6910" y="2542"/>
                </a:lnTo>
                <a:lnTo>
                  <a:pt x="6913" y="2543"/>
                </a:lnTo>
                <a:lnTo>
                  <a:pt x="6915" y="2543"/>
                </a:lnTo>
                <a:lnTo>
                  <a:pt x="6917" y="2543"/>
                </a:lnTo>
                <a:lnTo>
                  <a:pt x="6919" y="2543"/>
                </a:lnTo>
                <a:lnTo>
                  <a:pt x="6922" y="2543"/>
                </a:lnTo>
                <a:lnTo>
                  <a:pt x="6924" y="2544"/>
                </a:lnTo>
                <a:lnTo>
                  <a:pt x="6926" y="2544"/>
                </a:lnTo>
                <a:lnTo>
                  <a:pt x="6929" y="2543"/>
                </a:lnTo>
                <a:lnTo>
                  <a:pt x="6931" y="2544"/>
                </a:lnTo>
                <a:lnTo>
                  <a:pt x="6933" y="2544"/>
                </a:lnTo>
                <a:lnTo>
                  <a:pt x="6935" y="2544"/>
                </a:lnTo>
                <a:lnTo>
                  <a:pt x="6938" y="2544"/>
                </a:lnTo>
                <a:lnTo>
                  <a:pt x="6940" y="2545"/>
                </a:lnTo>
                <a:lnTo>
                  <a:pt x="6942" y="2545"/>
                </a:lnTo>
                <a:lnTo>
                  <a:pt x="6944" y="2545"/>
                </a:lnTo>
                <a:lnTo>
                  <a:pt x="6947" y="2546"/>
                </a:lnTo>
                <a:lnTo>
                  <a:pt x="6949" y="2546"/>
                </a:lnTo>
                <a:lnTo>
                  <a:pt x="6951" y="2546"/>
                </a:lnTo>
                <a:lnTo>
                  <a:pt x="6953" y="2546"/>
                </a:lnTo>
                <a:lnTo>
                  <a:pt x="6956" y="2546"/>
                </a:lnTo>
                <a:lnTo>
                  <a:pt x="6958" y="2547"/>
                </a:lnTo>
                <a:lnTo>
                  <a:pt x="6960" y="2547"/>
                </a:lnTo>
                <a:lnTo>
                  <a:pt x="6962" y="2547"/>
                </a:lnTo>
                <a:lnTo>
                  <a:pt x="6965" y="2546"/>
                </a:lnTo>
                <a:lnTo>
                  <a:pt x="6967" y="2547"/>
                </a:lnTo>
                <a:lnTo>
                  <a:pt x="6969" y="2547"/>
                </a:lnTo>
                <a:lnTo>
                  <a:pt x="6971" y="2547"/>
                </a:lnTo>
                <a:lnTo>
                  <a:pt x="6974" y="2547"/>
                </a:lnTo>
                <a:lnTo>
                  <a:pt x="6976" y="2548"/>
                </a:lnTo>
                <a:lnTo>
                  <a:pt x="6978" y="2548"/>
                </a:lnTo>
                <a:lnTo>
                  <a:pt x="6980" y="2548"/>
                </a:lnTo>
                <a:lnTo>
                  <a:pt x="6983" y="2548"/>
                </a:lnTo>
                <a:lnTo>
                  <a:pt x="6985" y="2549"/>
                </a:lnTo>
                <a:lnTo>
                  <a:pt x="6987" y="2549"/>
                </a:lnTo>
                <a:lnTo>
                  <a:pt x="6989" y="2549"/>
                </a:lnTo>
                <a:lnTo>
                  <a:pt x="6992" y="2549"/>
                </a:lnTo>
                <a:lnTo>
                  <a:pt x="6994" y="2549"/>
                </a:lnTo>
                <a:lnTo>
                  <a:pt x="6996" y="2549"/>
                </a:lnTo>
                <a:lnTo>
                  <a:pt x="6998" y="2549"/>
                </a:lnTo>
                <a:lnTo>
                  <a:pt x="7001" y="2549"/>
                </a:lnTo>
                <a:lnTo>
                  <a:pt x="7003" y="2549"/>
                </a:lnTo>
                <a:lnTo>
                  <a:pt x="7005" y="2549"/>
                </a:lnTo>
                <a:lnTo>
                  <a:pt x="7007" y="2550"/>
                </a:lnTo>
                <a:lnTo>
                  <a:pt x="7010" y="2550"/>
                </a:lnTo>
                <a:lnTo>
                  <a:pt x="7012" y="2550"/>
                </a:lnTo>
                <a:lnTo>
                  <a:pt x="7014" y="2550"/>
                </a:lnTo>
                <a:lnTo>
                  <a:pt x="7016" y="2550"/>
                </a:lnTo>
                <a:lnTo>
                  <a:pt x="7019" y="2551"/>
                </a:lnTo>
                <a:lnTo>
                  <a:pt x="7021" y="2551"/>
                </a:lnTo>
                <a:lnTo>
                  <a:pt x="7023" y="2551"/>
                </a:lnTo>
                <a:lnTo>
                  <a:pt x="7025" y="2551"/>
                </a:lnTo>
                <a:lnTo>
                  <a:pt x="7028" y="2551"/>
                </a:lnTo>
                <a:lnTo>
                  <a:pt x="7030" y="2551"/>
                </a:lnTo>
                <a:lnTo>
                  <a:pt x="7032" y="2551"/>
                </a:lnTo>
                <a:lnTo>
                  <a:pt x="7034" y="2551"/>
                </a:lnTo>
                <a:lnTo>
                  <a:pt x="7037" y="2551"/>
                </a:lnTo>
                <a:lnTo>
                  <a:pt x="7039" y="2551"/>
                </a:lnTo>
                <a:lnTo>
                  <a:pt x="7041" y="2551"/>
                </a:lnTo>
                <a:lnTo>
                  <a:pt x="7043" y="2551"/>
                </a:lnTo>
                <a:lnTo>
                  <a:pt x="7046" y="2552"/>
                </a:lnTo>
                <a:lnTo>
                  <a:pt x="7048" y="2552"/>
                </a:lnTo>
                <a:lnTo>
                  <a:pt x="7050" y="2552"/>
                </a:lnTo>
                <a:lnTo>
                  <a:pt x="7052" y="2552"/>
                </a:lnTo>
                <a:lnTo>
                  <a:pt x="7055" y="2552"/>
                </a:lnTo>
                <a:lnTo>
                  <a:pt x="7057" y="2552"/>
                </a:lnTo>
                <a:lnTo>
                  <a:pt x="7059" y="2552"/>
                </a:lnTo>
                <a:lnTo>
                  <a:pt x="7061" y="2552"/>
                </a:lnTo>
                <a:lnTo>
                  <a:pt x="7064" y="2552"/>
                </a:lnTo>
                <a:lnTo>
                  <a:pt x="7066" y="2552"/>
                </a:lnTo>
                <a:lnTo>
                  <a:pt x="7068" y="2552"/>
                </a:lnTo>
                <a:lnTo>
                  <a:pt x="7070" y="2552"/>
                </a:lnTo>
                <a:lnTo>
                  <a:pt x="7073" y="2552"/>
                </a:lnTo>
                <a:lnTo>
                  <a:pt x="7075" y="2553"/>
                </a:lnTo>
                <a:lnTo>
                  <a:pt x="7077" y="2553"/>
                </a:lnTo>
                <a:lnTo>
                  <a:pt x="7079" y="2553"/>
                </a:lnTo>
                <a:lnTo>
                  <a:pt x="7082" y="2554"/>
                </a:lnTo>
                <a:lnTo>
                  <a:pt x="7084" y="2554"/>
                </a:lnTo>
                <a:lnTo>
                  <a:pt x="7086" y="2554"/>
                </a:lnTo>
                <a:lnTo>
                  <a:pt x="7088" y="2554"/>
                </a:lnTo>
                <a:lnTo>
                  <a:pt x="7091" y="2554"/>
                </a:lnTo>
                <a:lnTo>
                  <a:pt x="7093" y="2554"/>
                </a:lnTo>
                <a:lnTo>
                  <a:pt x="7095" y="2554"/>
                </a:lnTo>
                <a:lnTo>
                  <a:pt x="7098" y="2554"/>
                </a:lnTo>
                <a:lnTo>
                  <a:pt x="7100" y="2554"/>
                </a:lnTo>
                <a:lnTo>
                  <a:pt x="7102" y="2554"/>
                </a:lnTo>
                <a:lnTo>
                  <a:pt x="7104" y="2554"/>
                </a:lnTo>
                <a:lnTo>
                  <a:pt x="7107" y="2554"/>
                </a:lnTo>
                <a:lnTo>
                  <a:pt x="7109" y="2554"/>
                </a:lnTo>
                <a:lnTo>
                  <a:pt x="7111" y="2555"/>
                </a:lnTo>
                <a:lnTo>
                  <a:pt x="7113" y="2555"/>
                </a:lnTo>
                <a:lnTo>
                  <a:pt x="7116" y="2555"/>
                </a:lnTo>
                <a:lnTo>
                  <a:pt x="7118" y="2555"/>
                </a:lnTo>
                <a:lnTo>
                  <a:pt x="7120" y="2556"/>
                </a:lnTo>
                <a:lnTo>
                  <a:pt x="7122" y="2556"/>
                </a:lnTo>
                <a:lnTo>
                  <a:pt x="7125" y="2556"/>
                </a:lnTo>
                <a:lnTo>
                  <a:pt x="7127" y="2556"/>
                </a:lnTo>
                <a:lnTo>
                  <a:pt x="7129" y="2556"/>
                </a:lnTo>
                <a:lnTo>
                  <a:pt x="7131" y="2556"/>
                </a:lnTo>
                <a:lnTo>
                  <a:pt x="7134" y="2556"/>
                </a:lnTo>
                <a:lnTo>
                  <a:pt x="7136" y="2557"/>
                </a:lnTo>
                <a:lnTo>
                  <a:pt x="7138" y="2557"/>
                </a:lnTo>
                <a:lnTo>
                  <a:pt x="7140" y="2556"/>
                </a:lnTo>
                <a:lnTo>
                  <a:pt x="7143" y="2556"/>
                </a:lnTo>
                <a:lnTo>
                  <a:pt x="7145" y="2556"/>
                </a:lnTo>
                <a:lnTo>
                  <a:pt x="7147" y="2557"/>
                </a:lnTo>
                <a:lnTo>
                  <a:pt x="7149" y="2557"/>
                </a:lnTo>
                <a:lnTo>
                  <a:pt x="7152" y="2557"/>
                </a:lnTo>
                <a:lnTo>
                  <a:pt x="7154" y="2557"/>
                </a:lnTo>
                <a:lnTo>
                  <a:pt x="7156" y="2558"/>
                </a:lnTo>
                <a:lnTo>
                  <a:pt x="7158" y="2558"/>
                </a:lnTo>
                <a:lnTo>
                  <a:pt x="7161" y="2558"/>
                </a:lnTo>
                <a:lnTo>
                  <a:pt x="7163" y="2558"/>
                </a:lnTo>
                <a:lnTo>
                  <a:pt x="7165" y="2558"/>
                </a:lnTo>
                <a:lnTo>
                  <a:pt x="7167" y="2558"/>
                </a:lnTo>
                <a:lnTo>
                  <a:pt x="7170" y="2558"/>
                </a:lnTo>
                <a:lnTo>
                  <a:pt x="7172" y="2558"/>
                </a:lnTo>
                <a:lnTo>
                  <a:pt x="7174" y="2558"/>
                </a:lnTo>
                <a:lnTo>
                  <a:pt x="7176" y="2558"/>
                </a:lnTo>
                <a:lnTo>
                  <a:pt x="7179" y="2558"/>
                </a:lnTo>
                <a:lnTo>
                  <a:pt x="7181" y="2558"/>
                </a:lnTo>
                <a:lnTo>
                  <a:pt x="7183" y="2558"/>
                </a:lnTo>
                <a:lnTo>
                  <a:pt x="7185" y="2558"/>
                </a:lnTo>
                <a:lnTo>
                  <a:pt x="7188" y="2558"/>
                </a:lnTo>
                <a:lnTo>
                  <a:pt x="7190" y="2559"/>
                </a:lnTo>
                <a:lnTo>
                  <a:pt x="7192" y="2559"/>
                </a:lnTo>
                <a:lnTo>
                  <a:pt x="7194" y="2559"/>
                </a:lnTo>
                <a:lnTo>
                  <a:pt x="7197" y="2559"/>
                </a:lnTo>
                <a:lnTo>
                  <a:pt x="7199" y="2559"/>
                </a:lnTo>
                <a:lnTo>
                  <a:pt x="7201" y="2559"/>
                </a:lnTo>
                <a:lnTo>
                  <a:pt x="7203" y="2559"/>
                </a:lnTo>
                <a:lnTo>
                  <a:pt x="7206" y="2559"/>
                </a:lnTo>
                <a:lnTo>
                  <a:pt x="7208" y="2559"/>
                </a:lnTo>
                <a:lnTo>
                  <a:pt x="7210" y="2559"/>
                </a:lnTo>
                <a:lnTo>
                  <a:pt x="7212" y="2559"/>
                </a:lnTo>
                <a:lnTo>
                  <a:pt x="7215" y="2559"/>
                </a:lnTo>
                <a:lnTo>
                  <a:pt x="7217" y="2559"/>
                </a:lnTo>
                <a:lnTo>
                  <a:pt x="7219" y="2560"/>
                </a:lnTo>
                <a:lnTo>
                  <a:pt x="7221" y="2560"/>
                </a:lnTo>
                <a:lnTo>
                  <a:pt x="7224" y="2560"/>
                </a:lnTo>
                <a:lnTo>
                  <a:pt x="7226" y="2560"/>
                </a:lnTo>
                <a:lnTo>
                  <a:pt x="7228" y="2560"/>
                </a:lnTo>
                <a:lnTo>
                  <a:pt x="7230" y="2560"/>
                </a:lnTo>
                <a:lnTo>
                  <a:pt x="7233" y="2560"/>
                </a:lnTo>
                <a:lnTo>
                  <a:pt x="7235" y="2560"/>
                </a:lnTo>
                <a:lnTo>
                  <a:pt x="7237" y="2560"/>
                </a:lnTo>
                <a:lnTo>
                  <a:pt x="7239" y="2560"/>
                </a:lnTo>
                <a:lnTo>
                  <a:pt x="7242" y="2560"/>
                </a:lnTo>
                <a:lnTo>
                  <a:pt x="7244" y="2560"/>
                </a:lnTo>
                <a:lnTo>
                  <a:pt x="7246" y="2560"/>
                </a:lnTo>
                <a:lnTo>
                  <a:pt x="7248" y="2560"/>
                </a:lnTo>
                <a:lnTo>
                  <a:pt x="7251" y="2560"/>
                </a:lnTo>
                <a:lnTo>
                  <a:pt x="7253" y="2560"/>
                </a:lnTo>
                <a:lnTo>
                  <a:pt x="7255" y="2560"/>
                </a:lnTo>
                <a:lnTo>
                  <a:pt x="7257" y="2561"/>
                </a:lnTo>
                <a:lnTo>
                  <a:pt x="7260" y="2561"/>
                </a:lnTo>
                <a:lnTo>
                  <a:pt x="7262" y="2561"/>
                </a:lnTo>
                <a:lnTo>
                  <a:pt x="7264" y="2561"/>
                </a:lnTo>
                <a:lnTo>
                  <a:pt x="7267" y="2561"/>
                </a:lnTo>
                <a:lnTo>
                  <a:pt x="7269" y="2561"/>
                </a:lnTo>
                <a:lnTo>
                  <a:pt x="7271" y="2561"/>
                </a:lnTo>
                <a:lnTo>
                  <a:pt x="7273" y="2561"/>
                </a:lnTo>
                <a:lnTo>
                  <a:pt x="7276" y="2561"/>
                </a:lnTo>
                <a:lnTo>
                  <a:pt x="7278" y="2561"/>
                </a:lnTo>
                <a:lnTo>
                  <a:pt x="7280" y="2561"/>
                </a:lnTo>
                <a:lnTo>
                  <a:pt x="7282" y="2561"/>
                </a:lnTo>
                <a:lnTo>
                  <a:pt x="7285" y="2561"/>
                </a:lnTo>
                <a:lnTo>
                  <a:pt x="7287" y="2561"/>
                </a:lnTo>
                <a:lnTo>
                  <a:pt x="7289" y="2561"/>
                </a:lnTo>
                <a:lnTo>
                  <a:pt x="7291" y="2561"/>
                </a:lnTo>
                <a:lnTo>
                  <a:pt x="7294" y="2561"/>
                </a:lnTo>
                <a:lnTo>
                  <a:pt x="7296" y="2561"/>
                </a:lnTo>
                <a:lnTo>
                  <a:pt x="7298" y="2561"/>
                </a:lnTo>
                <a:lnTo>
                  <a:pt x="7300" y="2561"/>
                </a:lnTo>
                <a:lnTo>
                  <a:pt x="7303" y="2561"/>
                </a:lnTo>
                <a:lnTo>
                  <a:pt x="7305" y="2561"/>
                </a:lnTo>
                <a:lnTo>
                  <a:pt x="7307" y="2561"/>
                </a:lnTo>
                <a:lnTo>
                  <a:pt x="7309" y="2561"/>
                </a:lnTo>
                <a:lnTo>
                  <a:pt x="7312" y="2561"/>
                </a:lnTo>
                <a:lnTo>
                  <a:pt x="7314" y="2561"/>
                </a:lnTo>
                <a:lnTo>
                  <a:pt x="7316" y="2561"/>
                </a:lnTo>
                <a:lnTo>
                  <a:pt x="7318" y="2561"/>
                </a:lnTo>
                <a:lnTo>
                  <a:pt x="7321" y="2561"/>
                </a:lnTo>
                <a:lnTo>
                  <a:pt x="7323" y="2561"/>
                </a:lnTo>
                <a:lnTo>
                  <a:pt x="7325" y="2561"/>
                </a:lnTo>
                <a:lnTo>
                  <a:pt x="7327" y="2561"/>
                </a:lnTo>
                <a:lnTo>
                  <a:pt x="7330" y="2561"/>
                </a:lnTo>
                <a:lnTo>
                  <a:pt x="7332" y="2561"/>
                </a:lnTo>
                <a:lnTo>
                  <a:pt x="7334" y="2561"/>
                </a:lnTo>
                <a:lnTo>
                  <a:pt x="7336" y="2561"/>
                </a:lnTo>
                <a:lnTo>
                  <a:pt x="7339" y="2561"/>
                </a:lnTo>
                <a:lnTo>
                  <a:pt x="7341" y="2561"/>
                </a:lnTo>
                <a:lnTo>
                  <a:pt x="7343" y="2561"/>
                </a:lnTo>
                <a:lnTo>
                  <a:pt x="7345" y="2561"/>
                </a:lnTo>
                <a:lnTo>
                  <a:pt x="7348" y="2561"/>
                </a:lnTo>
                <a:lnTo>
                  <a:pt x="7350" y="2561"/>
                </a:lnTo>
                <a:lnTo>
                  <a:pt x="7352" y="2562"/>
                </a:lnTo>
                <a:lnTo>
                  <a:pt x="7354" y="2562"/>
                </a:lnTo>
                <a:lnTo>
                  <a:pt x="7357" y="2562"/>
                </a:lnTo>
                <a:lnTo>
                  <a:pt x="7359" y="2562"/>
                </a:lnTo>
                <a:lnTo>
                  <a:pt x="7361" y="2562"/>
                </a:lnTo>
                <a:lnTo>
                  <a:pt x="7363" y="2562"/>
                </a:lnTo>
                <a:lnTo>
                  <a:pt x="7366" y="2561"/>
                </a:lnTo>
                <a:lnTo>
                  <a:pt x="7368" y="2562"/>
                </a:lnTo>
                <a:lnTo>
                  <a:pt x="7370" y="2561"/>
                </a:lnTo>
                <a:lnTo>
                  <a:pt x="7372" y="2561"/>
                </a:lnTo>
                <a:lnTo>
                  <a:pt x="7375" y="2562"/>
                </a:lnTo>
                <a:lnTo>
                  <a:pt x="7377" y="2562"/>
                </a:lnTo>
                <a:lnTo>
                  <a:pt x="7379" y="2562"/>
                </a:lnTo>
                <a:lnTo>
                  <a:pt x="7381" y="2562"/>
                </a:lnTo>
                <a:lnTo>
                  <a:pt x="7384" y="2562"/>
                </a:lnTo>
                <a:lnTo>
                  <a:pt x="7386" y="2562"/>
                </a:lnTo>
                <a:lnTo>
                  <a:pt x="7388" y="2562"/>
                </a:lnTo>
                <a:lnTo>
                  <a:pt x="7390" y="2562"/>
                </a:lnTo>
                <a:lnTo>
                  <a:pt x="7393" y="2562"/>
                </a:lnTo>
                <a:lnTo>
                  <a:pt x="7395" y="2562"/>
                </a:lnTo>
                <a:lnTo>
                  <a:pt x="7397" y="2562"/>
                </a:lnTo>
                <a:lnTo>
                  <a:pt x="7399" y="2561"/>
                </a:lnTo>
                <a:lnTo>
                  <a:pt x="7402" y="2561"/>
                </a:lnTo>
                <a:lnTo>
                  <a:pt x="7404" y="2561"/>
                </a:lnTo>
                <a:lnTo>
                  <a:pt x="7406" y="2561"/>
                </a:lnTo>
                <a:lnTo>
                  <a:pt x="7408" y="2561"/>
                </a:lnTo>
                <a:lnTo>
                  <a:pt x="7411" y="2561"/>
                </a:lnTo>
                <a:lnTo>
                  <a:pt x="7413" y="2561"/>
                </a:lnTo>
                <a:lnTo>
                  <a:pt x="7415" y="2561"/>
                </a:lnTo>
                <a:lnTo>
                  <a:pt x="7417" y="2561"/>
                </a:lnTo>
                <a:lnTo>
                  <a:pt x="7420" y="2561"/>
                </a:lnTo>
                <a:lnTo>
                  <a:pt x="7422" y="2561"/>
                </a:lnTo>
                <a:lnTo>
                  <a:pt x="7424" y="2561"/>
                </a:lnTo>
                <a:lnTo>
                  <a:pt x="7426" y="2561"/>
                </a:lnTo>
                <a:lnTo>
                  <a:pt x="7429" y="2561"/>
                </a:lnTo>
                <a:lnTo>
                  <a:pt x="7431" y="2560"/>
                </a:lnTo>
                <a:lnTo>
                  <a:pt x="7433" y="2560"/>
                </a:lnTo>
                <a:lnTo>
                  <a:pt x="7436" y="2560"/>
                </a:lnTo>
                <a:lnTo>
                  <a:pt x="7438" y="2560"/>
                </a:lnTo>
                <a:lnTo>
                  <a:pt x="7440" y="2560"/>
                </a:lnTo>
                <a:lnTo>
                  <a:pt x="7442" y="2560"/>
                </a:lnTo>
                <a:lnTo>
                  <a:pt x="7445" y="2560"/>
                </a:lnTo>
                <a:lnTo>
                  <a:pt x="7447" y="2560"/>
                </a:lnTo>
                <a:lnTo>
                  <a:pt x="7449" y="2560"/>
                </a:lnTo>
                <a:lnTo>
                  <a:pt x="7451" y="2560"/>
                </a:lnTo>
                <a:lnTo>
                  <a:pt x="7454" y="2559"/>
                </a:lnTo>
                <a:lnTo>
                  <a:pt x="7456" y="2559"/>
                </a:lnTo>
                <a:lnTo>
                  <a:pt x="7458" y="2559"/>
                </a:lnTo>
                <a:lnTo>
                  <a:pt x="7460" y="2559"/>
                </a:lnTo>
                <a:lnTo>
                  <a:pt x="7463" y="2558"/>
                </a:lnTo>
                <a:lnTo>
                  <a:pt x="7465" y="2558"/>
                </a:lnTo>
                <a:lnTo>
                  <a:pt x="7467" y="2558"/>
                </a:lnTo>
                <a:lnTo>
                  <a:pt x="7469" y="2557"/>
                </a:lnTo>
                <a:lnTo>
                  <a:pt x="7472" y="2557"/>
                </a:lnTo>
                <a:lnTo>
                  <a:pt x="7474" y="2557"/>
                </a:lnTo>
                <a:lnTo>
                  <a:pt x="7476" y="2557"/>
                </a:lnTo>
                <a:lnTo>
                  <a:pt x="7478" y="2557"/>
                </a:lnTo>
                <a:lnTo>
                  <a:pt x="7481" y="2557"/>
                </a:lnTo>
                <a:lnTo>
                  <a:pt x="7483" y="2556"/>
                </a:lnTo>
                <a:lnTo>
                  <a:pt x="7485" y="2556"/>
                </a:lnTo>
                <a:lnTo>
                  <a:pt x="7487" y="2556"/>
                </a:lnTo>
                <a:lnTo>
                  <a:pt x="7490" y="2555"/>
                </a:lnTo>
                <a:lnTo>
                  <a:pt x="7492" y="2555"/>
                </a:lnTo>
                <a:lnTo>
                  <a:pt x="7494" y="2555"/>
                </a:lnTo>
                <a:lnTo>
                  <a:pt x="7496" y="2554"/>
                </a:lnTo>
                <a:lnTo>
                  <a:pt x="7499" y="2553"/>
                </a:lnTo>
                <a:lnTo>
                  <a:pt x="7501" y="2553"/>
                </a:lnTo>
                <a:lnTo>
                  <a:pt x="7503" y="2552"/>
                </a:lnTo>
                <a:lnTo>
                  <a:pt x="7505" y="2551"/>
                </a:lnTo>
                <a:lnTo>
                  <a:pt x="7508" y="2551"/>
                </a:lnTo>
                <a:lnTo>
                  <a:pt x="7510" y="2551"/>
                </a:lnTo>
                <a:lnTo>
                  <a:pt x="7512" y="2550"/>
                </a:lnTo>
                <a:lnTo>
                  <a:pt x="7514" y="2550"/>
                </a:lnTo>
                <a:lnTo>
                  <a:pt x="7517" y="2549"/>
                </a:lnTo>
                <a:lnTo>
                  <a:pt x="7519" y="2549"/>
                </a:lnTo>
                <a:lnTo>
                  <a:pt x="7521" y="2548"/>
                </a:lnTo>
                <a:lnTo>
                  <a:pt x="7523" y="2547"/>
                </a:lnTo>
                <a:lnTo>
                  <a:pt x="7526" y="2547"/>
                </a:lnTo>
                <a:lnTo>
                  <a:pt x="7528" y="2546"/>
                </a:lnTo>
                <a:lnTo>
                  <a:pt x="7530" y="2545"/>
                </a:lnTo>
                <a:lnTo>
                  <a:pt x="7532" y="2544"/>
                </a:lnTo>
                <a:lnTo>
                  <a:pt x="7535" y="2543"/>
                </a:lnTo>
                <a:lnTo>
                  <a:pt x="7537" y="2542"/>
                </a:lnTo>
                <a:lnTo>
                  <a:pt x="7539" y="2541"/>
                </a:lnTo>
                <a:lnTo>
                  <a:pt x="7541" y="2540"/>
                </a:lnTo>
                <a:lnTo>
                  <a:pt x="7544" y="2539"/>
                </a:lnTo>
                <a:lnTo>
                  <a:pt x="7546" y="2538"/>
                </a:lnTo>
                <a:lnTo>
                  <a:pt x="7548" y="2536"/>
                </a:lnTo>
                <a:lnTo>
                  <a:pt x="7550" y="2535"/>
                </a:lnTo>
                <a:lnTo>
                  <a:pt x="7553" y="2534"/>
                </a:lnTo>
                <a:lnTo>
                  <a:pt x="7555" y="2532"/>
                </a:lnTo>
                <a:lnTo>
                  <a:pt x="7557" y="2531"/>
                </a:lnTo>
                <a:lnTo>
                  <a:pt x="7559" y="2529"/>
                </a:lnTo>
                <a:lnTo>
                  <a:pt x="7562" y="2528"/>
                </a:lnTo>
                <a:lnTo>
                  <a:pt x="7564" y="2526"/>
                </a:lnTo>
                <a:lnTo>
                  <a:pt x="7566" y="2524"/>
                </a:lnTo>
                <a:lnTo>
                  <a:pt x="7568" y="2522"/>
                </a:lnTo>
                <a:lnTo>
                  <a:pt x="7571" y="2520"/>
                </a:lnTo>
                <a:lnTo>
                  <a:pt x="7573" y="2518"/>
                </a:lnTo>
                <a:lnTo>
                  <a:pt x="7575" y="2516"/>
                </a:lnTo>
                <a:lnTo>
                  <a:pt x="7577" y="2514"/>
                </a:lnTo>
                <a:lnTo>
                  <a:pt x="7580" y="2512"/>
                </a:lnTo>
                <a:lnTo>
                  <a:pt x="7582" y="2509"/>
                </a:lnTo>
                <a:lnTo>
                  <a:pt x="7584" y="2507"/>
                </a:lnTo>
                <a:lnTo>
                  <a:pt x="7586" y="2504"/>
                </a:lnTo>
                <a:lnTo>
                  <a:pt x="7589" y="2501"/>
                </a:lnTo>
                <a:lnTo>
                  <a:pt x="7591" y="2498"/>
                </a:lnTo>
                <a:lnTo>
                  <a:pt x="7593" y="2495"/>
                </a:lnTo>
                <a:lnTo>
                  <a:pt x="7595" y="2492"/>
                </a:lnTo>
                <a:lnTo>
                  <a:pt x="7598" y="2488"/>
                </a:lnTo>
                <a:lnTo>
                  <a:pt x="7600" y="2485"/>
                </a:lnTo>
                <a:lnTo>
                  <a:pt x="7602" y="2482"/>
                </a:lnTo>
                <a:lnTo>
                  <a:pt x="7605" y="2479"/>
                </a:lnTo>
                <a:lnTo>
                  <a:pt x="7607" y="2475"/>
                </a:lnTo>
                <a:lnTo>
                  <a:pt x="7609" y="2471"/>
                </a:lnTo>
                <a:lnTo>
                  <a:pt x="7611" y="2467"/>
                </a:lnTo>
                <a:lnTo>
                  <a:pt x="7614" y="2463"/>
                </a:lnTo>
                <a:lnTo>
                  <a:pt x="7616" y="2458"/>
                </a:lnTo>
                <a:lnTo>
                  <a:pt x="7618" y="2454"/>
                </a:lnTo>
                <a:lnTo>
                  <a:pt x="7620" y="2449"/>
                </a:lnTo>
                <a:lnTo>
                  <a:pt x="7623" y="2444"/>
                </a:lnTo>
                <a:lnTo>
                  <a:pt x="7625" y="2439"/>
                </a:lnTo>
                <a:lnTo>
                  <a:pt x="7627" y="2433"/>
                </a:lnTo>
                <a:lnTo>
                  <a:pt x="7629" y="2428"/>
                </a:lnTo>
                <a:lnTo>
                  <a:pt x="7632" y="2422"/>
                </a:lnTo>
                <a:lnTo>
                  <a:pt x="7634" y="2417"/>
                </a:lnTo>
                <a:lnTo>
                  <a:pt x="7636" y="2411"/>
                </a:lnTo>
                <a:lnTo>
                  <a:pt x="7638" y="2405"/>
                </a:lnTo>
                <a:lnTo>
                  <a:pt x="7641" y="2398"/>
                </a:lnTo>
                <a:lnTo>
                  <a:pt x="7643" y="2389"/>
                </a:lnTo>
                <a:lnTo>
                  <a:pt x="7645" y="2384"/>
                </a:lnTo>
                <a:lnTo>
                  <a:pt x="7647" y="2376"/>
                </a:lnTo>
                <a:lnTo>
                  <a:pt x="7650" y="2369"/>
                </a:lnTo>
                <a:lnTo>
                  <a:pt x="7652" y="2362"/>
                </a:lnTo>
                <a:lnTo>
                  <a:pt x="7654" y="2354"/>
                </a:lnTo>
                <a:lnTo>
                  <a:pt x="7656" y="2346"/>
                </a:lnTo>
                <a:lnTo>
                  <a:pt x="7659" y="2337"/>
                </a:lnTo>
                <a:lnTo>
                  <a:pt x="7661" y="2329"/>
                </a:lnTo>
                <a:lnTo>
                  <a:pt x="7663" y="2320"/>
                </a:lnTo>
                <a:lnTo>
                  <a:pt x="7665" y="2311"/>
                </a:lnTo>
                <a:lnTo>
                  <a:pt x="7668" y="2300"/>
                </a:lnTo>
                <a:lnTo>
                  <a:pt x="7670" y="2291"/>
                </a:lnTo>
                <a:lnTo>
                  <a:pt x="7672" y="2281"/>
                </a:lnTo>
                <a:lnTo>
                  <a:pt x="7674" y="2271"/>
                </a:lnTo>
                <a:lnTo>
                  <a:pt x="7677" y="2261"/>
                </a:lnTo>
                <a:lnTo>
                  <a:pt x="7679" y="2250"/>
                </a:lnTo>
                <a:lnTo>
                  <a:pt x="7681" y="2240"/>
                </a:lnTo>
                <a:lnTo>
                  <a:pt x="7683" y="2229"/>
                </a:lnTo>
                <a:lnTo>
                  <a:pt x="7686" y="2217"/>
                </a:lnTo>
                <a:lnTo>
                  <a:pt x="7688" y="2203"/>
                </a:lnTo>
                <a:lnTo>
                  <a:pt x="7690" y="2193"/>
                </a:lnTo>
                <a:lnTo>
                  <a:pt x="7692" y="2180"/>
                </a:lnTo>
                <a:lnTo>
                  <a:pt x="7695" y="2167"/>
                </a:lnTo>
                <a:lnTo>
                  <a:pt x="7697" y="2155"/>
                </a:lnTo>
                <a:lnTo>
                  <a:pt x="7699" y="2142"/>
                </a:lnTo>
                <a:lnTo>
                  <a:pt x="7701" y="2129"/>
                </a:lnTo>
                <a:lnTo>
                  <a:pt x="7704" y="2114"/>
                </a:lnTo>
                <a:lnTo>
                  <a:pt x="7706" y="2100"/>
                </a:lnTo>
                <a:lnTo>
                  <a:pt x="7708" y="2087"/>
                </a:lnTo>
                <a:lnTo>
                  <a:pt x="7710" y="2073"/>
                </a:lnTo>
                <a:lnTo>
                  <a:pt x="7713" y="2059"/>
                </a:lnTo>
                <a:lnTo>
                  <a:pt x="7715" y="2044"/>
                </a:lnTo>
                <a:lnTo>
                  <a:pt x="7717" y="2029"/>
                </a:lnTo>
                <a:lnTo>
                  <a:pt x="7719" y="2011"/>
                </a:lnTo>
                <a:lnTo>
                  <a:pt x="7722" y="1997"/>
                </a:lnTo>
                <a:lnTo>
                  <a:pt x="7724" y="1981"/>
                </a:lnTo>
                <a:lnTo>
                  <a:pt x="7726" y="1965"/>
                </a:lnTo>
                <a:lnTo>
                  <a:pt x="7728" y="1949"/>
                </a:lnTo>
                <a:lnTo>
                  <a:pt x="7731" y="1931"/>
                </a:lnTo>
                <a:lnTo>
                  <a:pt x="7733" y="1913"/>
                </a:lnTo>
                <a:lnTo>
                  <a:pt x="7735" y="1898"/>
                </a:lnTo>
                <a:lnTo>
                  <a:pt x="7737" y="1881"/>
                </a:lnTo>
                <a:lnTo>
                  <a:pt x="7740" y="1864"/>
                </a:lnTo>
                <a:lnTo>
                  <a:pt x="7742" y="1847"/>
                </a:lnTo>
                <a:lnTo>
                  <a:pt x="7744" y="1828"/>
                </a:lnTo>
                <a:lnTo>
                  <a:pt x="7746" y="1811"/>
                </a:lnTo>
                <a:lnTo>
                  <a:pt x="7749" y="1794"/>
                </a:lnTo>
                <a:lnTo>
                  <a:pt x="7751" y="1776"/>
                </a:lnTo>
                <a:lnTo>
                  <a:pt x="7753" y="1758"/>
                </a:lnTo>
                <a:lnTo>
                  <a:pt x="7755" y="1739"/>
                </a:lnTo>
                <a:lnTo>
                  <a:pt x="7758" y="1720"/>
                </a:lnTo>
                <a:lnTo>
                  <a:pt x="7760" y="1703"/>
                </a:lnTo>
                <a:lnTo>
                  <a:pt x="7762" y="1684"/>
                </a:lnTo>
                <a:lnTo>
                  <a:pt x="7764" y="1665"/>
                </a:lnTo>
                <a:lnTo>
                  <a:pt x="7767" y="1646"/>
                </a:lnTo>
                <a:lnTo>
                  <a:pt x="7769" y="1626"/>
                </a:lnTo>
                <a:lnTo>
                  <a:pt x="7771" y="1609"/>
                </a:lnTo>
                <a:lnTo>
                  <a:pt x="7774" y="1591"/>
                </a:lnTo>
                <a:lnTo>
                  <a:pt x="7776" y="1573"/>
                </a:lnTo>
                <a:lnTo>
                  <a:pt x="7778" y="1554"/>
                </a:lnTo>
                <a:lnTo>
                  <a:pt x="7780" y="1534"/>
                </a:lnTo>
                <a:lnTo>
                  <a:pt x="7783" y="1517"/>
                </a:lnTo>
                <a:lnTo>
                  <a:pt x="7785" y="1499"/>
                </a:lnTo>
                <a:lnTo>
                  <a:pt x="7787" y="1481"/>
                </a:lnTo>
                <a:lnTo>
                  <a:pt x="7789" y="1463"/>
                </a:lnTo>
                <a:lnTo>
                  <a:pt x="7792" y="1443"/>
                </a:lnTo>
                <a:lnTo>
                  <a:pt x="7794" y="1427"/>
                </a:lnTo>
                <a:lnTo>
                  <a:pt x="7796" y="1409"/>
                </a:lnTo>
                <a:lnTo>
                  <a:pt x="7798" y="1392"/>
                </a:lnTo>
                <a:lnTo>
                  <a:pt x="7801" y="1374"/>
                </a:lnTo>
                <a:lnTo>
                  <a:pt x="7803" y="1354"/>
                </a:lnTo>
                <a:lnTo>
                  <a:pt x="7805" y="1339"/>
                </a:lnTo>
                <a:lnTo>
                  <a:pt x="7807" y="1322"/>
                </a:lnTo>
                <a:lnTo>
                  <a:pt x="7810" y="1306"/>
                </a:lnTo>
                <a:lnTo>
                  <a:pt x="7812" y="1290"/>
                </a:lnTo>
                <a:lnTo>
                  <a:pt x="7814" y="1274"/>
                </a:lnTo>
                <a:lnTo>
                  <a:pt x="7816" y="1256"/>
                </a:lnTo>
                <a:lnTo>
                  <a:pt x="7819" y="1243"/>
                </a:lnTo>
                <a:lnTo>
                  <a:pt x="7821" y="1227"/>
                </a:lnTo>
                <a:lnTo>
                  <a:pt x="7823" y="1213"/>
                </a:lnTo>
                <a:lnTo>
                  <a:pt x="7825" y="1198"/>
                </a:lnTo>
                <a:lnTo>
                  <a:pt x="7828" y="1184"/>
                </a:lnTo>
                <a:lnTo>
                  <a:pt x="7830" y="1168"/>
                </a:lnTo>
                <a:lnTo>
                  <a:pt x="7832" y="1155"/>
                </a:lnTo>
                <a:lnTo>
                  <a:pt x="7834" y="1142"/>
                </a:lnTo>
                <a:lnTo>
                  <a:pt x="7837" y="1129"/>
                </a:lnTo>
                <a:lnTo>
                  <a:pt x="7839" y="1116"/>
                </a:lnTo>
                <a:lnTo>
                  <a:pt x="7841" y="1105"/>
                </a:lnTo>
                <a:lnTo>
                  <a:pt x="7843" y="1093"/>
                </a:lnTo>
                <a:lnTo>
                  <a:pt x="7846" y="1082"/>
                </a:lnTo>
                <a:lnTo>
                  <a:pt x="7848" y="1069"/>
                </a:lnTo>
                <a:lnTo>
                  <a:pt x="7850" y="1061"/>
                </a:lnTo>
                <a:lnTo>
                  <a:pt x="7852" y="1051"/>
                </a:lnTo>
                <a:lnTo>
                  <a:pt x="7855" y="1042"/>
                </a:lnTo>
                <a:lnTo>
                  <a:pt x="7857" y="1033"/>
                </a:lnTo>
                <a:lnTo>
                  <a:pt x="7859" y="1025"/>
                </a:lnTo>
                <a:lnTo>
                  <a:pt x="7861" y="1017"/>
                </a:lnTo>
                <a:lnTo>
                  <a:pt x="7864" y="1009"/>
                </a:lnTo>
                <a:lnTo>
                  <a:pt x="7866" y="1002"/>
                </a:lnTo>
                <a:lnTo>
                  <a:pt x="7868" y="996"/>
                </a:lnTo>
                <a:lnTo>
                  <a:pt x="7870" y="989"/>
                </a:lnTo>
                <a:lnTo>
                  <a:pt x="7873" y="982"/>
                </a:lnTo>
                <a:lnTo>
                  <a:pt x="7875" y="976"/>
                </a:lnTo>
                <a:lnTo>
                  <a:pt x="7877" y="972"/>
                </a:lnTo>
                <a:lnTo>
                  <a:pt x="7879" y="968"/>
                </a:lnTo>
                <a:lnTo>
                  <a:pt x="7882" y="965"/>
                </a:lnTo>
                <a:lnTo>
                  <a:pt x="7884" y="962"/>
                </a:lnTo>
                <a:lnTo>
                  <a:pt x="7886" y="960"/>
                </a:lnTo>
                <a:lnTo>
                  <a:pt x="7888" y="958"/>
                </a:lnTo>
                <a:lnTo>
                  <a:pt x="7891" y="956"/>
                </a:lnTo>
                <a:lnTo>
                  <a:pt x="7893" y="955"/>
                </a:lnTo>
                <a:lnTo>
                  <a:pt x="7895" y="955"/>
                </a:lnTo>
                <a:lnTo>
                  <a:pt x="7897" y="955"/>
                </a:lnTo>
                <a:lnTo>
                  <a:pt x="7900" y="955"/>
                </a:lnTo>
                <a:lnTo>
                  <a:pt x="7902" y="955"/>
                </a:lnTo>
                <a:lnTo>
                  <a:pt x="7904" y="956"/>
                </a:lnTo>
                <a:lnTo>
                  <a:pt x="7906" y="958"/>
                </a:lnTo>
                <a:lnTo>
                  <a:pt x="7909" y="960"/>
                </a:lnTo>
                <a:lnTo>
                  <a:pt x="7911" y="963"/>
                </a:lnTo>
                <a:lnTo>
                  <a:pt x="7913" y="966"/>
                </a:lnTo>
                <a:lnTo>
                  <a:pt x="7915" y="970"/>
                </a:lnTo>
                <a:lnTo>
                  <a:pt x="7918" y="974"/>
                </a:lnTo>
                <a:lnTo>
                  <a:pt x="7920" y="979"/>
                </a:lnTo>
                <a:lnTo>
                  <a:pt x="7922" y="984"/>
                </a:lnTo>
                <a:lnTo>
                  <a:pt x="7924" y="989"/>
                </a:lnTo>
                <a:lnTo>
                  <a:pt x="7927" y="995"/>
                </a:lnTo>
                <a:lnTo>
                  <a:pt x="7929" y="1001"/>
                </a:lnTo>
                <a:lnTo>
                  <a:pt x="7931" y="1008"/>
                </a:lnTo>
                <a:lnTo>
                  <a:pt x="7933" y="1014"/>
                </a:lnTo>
                <a:lnTo>
                  <a:pt x="7936" y="1021"/>
                </a:lnTo>
                <a:lnTo>
                  <a:pt x="7938" y="1028"/>
                </a:lnTo>
                <a:lnTo>
                  <a:pt x="7940" y="1036"/>
                </a:lnTo>
                <a:lnTo>
                  <a:pt x="7943" y="1045"/>
                </a:lnTo>
                <a:lnTo>
                  <a:pt x="7945" y="1054"/>
                </a:lnTo>
                <a:lnTo>
                  <a:pt x="7947" y="1063"/>
                </a:lnTo>
                <a:lnTo>
                  <a:pt x="7949" y="1071"/>
                </a:lnTo>
                <a:lnTo>
                  <a:pt x="7952" y="1083"/>
                </a:lnTo>
                <a:lnTo>
                  <a:pt x="7954" y="1094"/>
                </a:lnTo>
                <a:lnTo>
                  <a:pt x="7956" y="1104"/>
                </a:lnTo>
                <a:lnTo>
                  <a:pt x="7958" y="1115"/>
                </a:lnTo>
                <a:lnTo>
                  <a:pt x="7961" y="1126"/>
                </a:lnTo>
                <a:lnTo>
                  <a:pt x="7963" y="1137"/>
                </a:lnTo>
                <a:lnTo>
                  <a:pt x="7965" y="1148"/>
                </a:lnTo>
                <a:lnTo>
                  <a:pt x="7967" y="1159"/>
                </a:lnTo>
                <a:lnTo>
                  <a:pt x="7970" y="1171"/>
                </a:lnTo>
                <a:lnTo>
                  <a:pt x="7972" y="1185"/>
                </a:lnTo>
                <a:lnTo>
                  <a:pt x="7974" y="1197"/>
                </a:lnTo>
                <a:lnTo>
                  <a:pt x="7976" y="1210"/>
                </a:lnTo>
                <a:lnTo>
                  <a:pt x="7979" y="1223"/>
                </a:lnTo>
                <a:lnTo>
                  <a:pt x="7981" y="1236"/>
                </a:lnTo>
                <a:lnTo>
                  <a:pt x="7983" y="1249"/>
                </a:lnTo>
                <a:lnTo>
                  <a:pt x="7985" y="1261"/>
                </a:lnTo>
                <a:lnTo>
                  <a:pt x="7988" y="1277"/>
                </a:lnTo>
                <a:lnTo>
                  <a:pt x="7990" y="1291"/>
                </a:lnTo>
                <a:lnTo>
                  <a:pt x="7992" y="1305"/>
                </a:lnTo>
                <a:lnTo>
                  <a:pt x="7994" y="1319"/>
                </a:lnTo>
                <a:lnTo>
                  <a:pt x="7997" y="1333"/>
                </a:lnTo>
                <a:lnTo>
                  <a:pt x="7999" y="1346"/>
                </a:lnTo>
                <a:lnTo>
                  <a:pt x="8001" y="1360"/>
                </a:lnTo>
                <a:lnTo>
                  <a:pt x="8003" y="1376"/>
                </a:lnTo>
                <a:lnTo>
                  <a:pt x="8006" y="1390"/>
                </a:lnTo>
                <a:lnTo>
                  <a:pt x="8008" y="1405"/>
                </a:lnTo>
                <a:lnTo>
                  <a:pt x="8010" y="1419"/>
                </a:lnTo>
                <a:lnTo>
                  <a:pt x="8012" y="1434"/>
                </a:lnTo>
                <a:lnTo>
                  <a:pt x="8015" y="1447"/>
                </a:lnTo>
                <a:lnTo>
                  <a:pt x="8017" y="1464"/>
                </a:lnTo>
                <a:lnTo>
                  <a:pt x="8019" y="1479"/>
                </a:lnTo>
                <a:lnTo>
                  <a:pt x="8021" y="1494"/>
                </a:lnTo>
                <a:lnTo>
                  <a:pt x="8024" y="1508"/>
                </a:lnTo>
                <a:lnTo>
                  <a:pt x="8026" y="1522"/>
                </a:lnTo>
                <a:lnTo>
                  <a:pt x="8028" y="1536"/>
                </a:lnTo>
                <a:lnTo>
                  <a:pt x="8030" y="1550"/>
                </a:lnTo>
                <a:lnTo>
                  <a:pt x="8033" y="1566"/>
                </a:lnTo>
                <a:lnTo>
                  <a:pt x="8035" y="1581"/>
                </a:lnTo>
                <a:lnTo>
                  <a:pt x="8037" y="1595"/>
                </a:lnTo>
                <a:lnTo>
                  <a:pt x="8039" y="1610"/>
                </a:lnTo>
                <a:lnTo>
                  <a:pt x="8042" y="1624"/>
                </a:lnTo>
                <a:lnTo>
                  <a:pt x="8044" y="1637"/>
                </a:lnTo>
                <a:lnTo>
                  <a:pt x="8046" y="1654"/>
                </a:lnTo>
                <a:lnTo>
                  <a:pt x="8048" y="1669"/>
                </a:lnTo>
                <a:lnTo>
                  <a:pt x="8051" y="1683"/>
                </a:lnTo>
                <a:lnTo>
                  <a:pt x="8053" y="1697"/>
                </a:lnTo>
                <a:lnTo>
                  <a:pt x="8055" y="1711"/>
                </a:lnTo>
                <a:lnTo>
                  <a:pt x="8057" y="1724"/>
                </a:lnTo>
                <a:lnTo>
                  <a:pt x="8060" y="1738"/>
                </a:lnTo>
                <a:lnTo>
                  <a:pt x="8062" y="1753"/>
                </a:lnTo>
                <a:lnTo>
                  <a:pt x="8064" y="1766"/>
                </a:lnTo>
                <a:lnTo>
                  <a:pt x="8066" y="1780"/>
                </a:lnTo>
                <a:lnTo>
                  <a:pt x="8069" y="1793"/>
                </a:lnTo>
                <a:lnTo>
                  <a:pt x="8071" y="1806"/>
                </a:lnTo>
                <a:lnTo>
                  <a:pt x="8073" y="1819"/>
                </a:lnTo>
                <a:lnTo>
                  <a:pt x="8075" y="1832"/>
                </a:lnTo>
                <a:lnTo>
                  <a:pt x="8078" y="1847"/>
                </a:lnTo>
                <a:lnTo>
                  <a:pt x="8080" y="1860"/>
                </a:lnTo>
                <a:lnTo>
                  <a:pt x="8082" y="1872"/>
                </a:lnTo>
                <a:lnTo>
                  <a:pt x="8084" y="1885"/>
                </a:lnTo>
                <a:lnTo>
                  <a:pt x="8087" y="1897"/>
                </a:lnTo>
                <a:lnTo>
                  <a:pt x="8089" y="1909"/>
                </a:lnTo>
                <a:lnTo>
                  <a:pt x="8091" y="1920"/>
                </a:lnTo>
                <a:lnTo>
                  <a:pt x="8093" y="1934"/>
                </a:lnTo>
                <a:lnTo>
                  <a:pt x="8096" y="1946"/>
                </a:lnTo>
                <a:lnTo>
                  <a:pt x="8098" y="1957"/>
                </a:lnTo>
                <a:lnTo>
                  <a:pt x="8100" y="1968"/>
                </a:lnTo>
                <a:lnTo>
                  <a:pt x="8102" y="1979"/>
                </a:lnTo>
                <a:lnTo>
                  <a:pt x="8105" y="1990"/>
                </a:lnTo>
                <a:lnTo>
                  <a:pt x="8107" y="2001"/>
                </a:lnTo>
                <a:lnTo>
                  <a:pt x="8109" y="2011"/>
                </a:lnTo>
                <a:lnTo>
                  <a:pt x="8112" y="2023"/>
                </a:lnTo>
                <a:lnTo>
                  <a:pt x="8114" y="2035"/>
                </a:lnTo>
                <a:lnTo>
                  <a:pt x="8116" y="2046"/>
                </a:lnTo>
                <a:lnTo>
                  <a:pt x="8118" y="2056"/>
                </a:lnTo>
                <a:lnTo>
                  <a:pt x="8121" y="2066"/>
                </a:lnTo>
                <a:lnTo>
                  <a:pt x="8123" y="2075"/>
                </a:lnTo>
                <a:lnTo>
                  <a:pt x="8125" y="2085"/>
                </a:lnTo>
                <a:lnTo>
                  <a:pt x="8127" y="2094"/>
                </a:lnTo>
                <a:lnTo>
                  <a:pt x="8130" y="2103"/>
                </a:lnTo>
                <a:lnTo>
                  <a:pt x="8132" y="2112"/>
                </a:lnTo>
                <a:lnTo>
                  <a:pt x="8134" y="2123"/>
                </a:lnTo>
                <a:lnTo>
                  <a:pt x="8136" y="2132"/>
                </a:lnTo>
                <a:lnTo>
                  <a:pt x="8139" y="2141"/>
                </a:lnTo>
                <a:lnTo>
                  <a:pt x="8141" y="2149"/>
                </a:lnTo>
                <a:lnTo>
                  <a:pt x="8143" y="2158"/>
                </a:lnTo>
                <a:lnTo>
                  <a:pt x="8145" y="2166"/>
                </a:lnTo>
                <a:lnTo>
                  <a:pt x="8148" y="2175"/>
                </a:lnTo>
                <a:lnTo>
                  <a:pt x="8150" y="2182"/>
                </a:lnTo>
                <a:lnTo>
                  <a:pt x="8152" y="2190"/>
                </a:lnTo>
                <a:lnTo>
                  <a:pt x="8154" y="2198"/>
                </a:lnTo>
                <a:lnTo>
                  <a:pt x="8157" y="2205"/>
                </a:lnTo>
                <a:lnTo>
                  <a:pt x="8159" y="2214"/>
                </a:lnTo>
                <a:lnTo>
                  <a:pt x="8161" y="2222"/>
                </a:lnTo>
                <a:lnTo>
                  <a:pt x="8163" y="2229"/>
                </a:lnTo>
                <a:lnTo>
                  <a:pt x="8166" y="2235"/>
                </a:lnTo>
                <a:lnTo>
                  <a:pt x="8168" y="2242"/>
                </a:lnTo>
                <a:lnTo>
                  <a:pt x="8170" y="2249"/>
                </a:lnTo>
                <a:lnTo>
                  <a:pt x="8172" y="2255"/>
                </a:lnTo>
                <a:lnTo>
                  <a:pt x="8175" y="2261"/>
                </a:lnTo>
                <a:lnTo>
                  <a:pt x="8177" y="2268"/>
                </a:lnTo>
                <a:lnTo>
                  <a:pt x="8179" y="2273"/>
                </a:lnTo>
                <a:lnTo>
                  <a:pt x="8181" y="2280"/>
                </a:lnTo>
                <a:lnTo>
                  <a:pt x="8184" y="2286"/>
                </a:lnTo>
                <a:lnTo>
                  <a:pt x="8186" y="2292"/>
                </a:lnTo>
                <a:lnTo>
                  <a:pt x="8188" y="2296"/>
                </a:lnTo>
                <a:lnTo>
                  <a:pt x="8190" y="2303"/>
                </a:lnTo>
                <a:lnTo>
                  <a:pt x="8193" y="2310"/>
                </a:lnTo>
                <a:lnTo>
                  <a:pt x="8195" y="2315"/>
                </a:lnTo>
                <a:lnTo>
                  <a:pt x="8197" y="2320"/>
                </a:lnTo>
                <a:lnTo>
                  <a:pt x="8199" y="2325"/>
                </a:lnTo>
                <a:lnTo>
                  <a:pt x="8202" y="2330"/>
                </a:lnTo>
                <a:lnTo>
                  <a:pt x="8204" y="2335"/>
                </a:lnTo>
                <a:lnTo>
                  <a:pt x="8206" y="2339"/>
                </a:lnTo>
                <a:lnTo>
                  <a:pt x="8208" y="2344"/>
                </a:lnTo>
                <a:lnTo>
                  <a:pt x="8211" y="2348"/>
                </a:lnTo>
                <a:lnTo>
                  <a:pt x="8213" y="2353"/>
                </a:lnTo>
                <a:lnTo>
                  <a:pt x="8215" y="2357"/>
                </a:lnTo>
                <a:lnTo>
                  <a:pt x="8217" y="2361"/>
                </a:lnTo>
                <a:lnTo>
                  <a:pt x="8220" y="2365"/>
                </a:lnTo>
                <a:lnTo>
                  <a:pt x="8222" y="2369"/>
                </a:lnTo>
                <a:lnTo>
                  <a:pt x="8224" y="2373"/>
                </a:lnTo>
                <a:lnTo>
                  <a:pt x="8226" y="2377"/>
                </a:lnTo>
                <a:lnTo>
                  <a:pt x="8229" y="2381"/>
                </a:lnTo>
                <a:lnTo>
                  <a:pt x="8231" y="2385"/>
                </a:lnTo>
                <a:lnTo>
                  <a:pt x="8233" y="2388"/>
                </a:lnTo>
                <a:lnTo>
                  <a:pt x="8235" y="2391"/>
                </a:lnTo>
                <a:lnTo>
                  <a:pt x="8238" y="2396"/>
                </a:lnTo>
                <a:lnTo>
                  <a:pt x="8240" y="2400"/>
                </a:lnTo>
                <a:lnTo>
                  <a:pt x="8242" y="2403"/>
                </a:lnTo>
                <a:lnTo>
                  <a:pt x="8244" y="2406"/>
                </a:lnTo>
                <a:lnTo>
                  <a:pt x="8247" y="2409"/>
                </a:lnTo>
                <a:lnTo>
                  <a:pt x="8249" y="2412"/>
                </a:lnTo>
                <a:lnTo>
                  <a:pt x="8251" y="2415"/>
                </a:lnTo>
                <a:lnTo>
                  <a:pt x="8253" y="2418"/>
                </a:lnTo>
                <a:lnTo>
                  <a:pt x="8256" y="2421"/>
                </a:lnTo>
                <a:lnTo>
                  <a:pt x="8258" y="2424"/>
                </a:lnTo>
                <a:lnTo>
                  <a:pt x="8260" y="2427"/>
                </a:lnTo>
                <a:lnTo>
                  <a:pt x="8262" y="2429"/>
                </a:lnTo>
                <a:lnTo>
                  <a:pt x="8265" y="2432"/>
                </a:lnTo>
                <a:lnTo>
                  <a:pt x="8267" y="2435"/>
                </a:lnTo>
                <a:lnTo>
                  <a:pt x="8269" y="2437"/>
                </a:lnTo>
                <a:lnTo>
                  <a:pt x="8271" y="2439"/>
                </a:lnTo>
                <a:lnTo>
                  <a:pt x="8274" y="2442"/>
                </a:lnTo>
                <a:lnTo>
                  <a:pt x="8276" y="2444"/>
                </a:lnTo>
                <a:lnTo>
                  <a:pt x="8278" y="2446"/>
                </a:lnTo>
                <a:lnTo>
                  <a:pt x="8281" y="2448"/>
                </a:lnTo>
                <a:lnTo>
                  <a:pt x="8283" y="2450"/>
                </a:lnTo>
                <a:lnTo>
                  <a:pt x="8285" y="2452"/>
                </a:lnTo>
                <a:lnTo>
                  <a:pt x="8287" y="2454"/>
                </a:lnTo>
                <a:lnTo>
                  <a:pt x="8290" y="2456"/>
                </a:lnTo>
                <a:lnTo>
                  <a:pt x="8292" y="2458"/>
                </a:lnTo>
                <a:lnTo>
                  <a:pt x="8294" y="2460"/>
                </a:lnTo>
                <a:lnTo>
                  <a:pt x="8296" y="2462"/>
                </a:lnTo>
                <a:lnTo>
                  <a:pt x="8299" y="2464"/>
                </a:lnTo>
                <a:lnTo>
                  <a:pt x="8301" y="2465"/>
                </a:lnTo>
                <a:lnTo>
                  <a:pt x="8303" y="2467"/>
                </a:lnTo>
                <a:lnTo>
                  <a:pt x="8305" y="2469"/>
                </a:lnTo>
                <a:lnTo>
                  <a:pt x="8308" y="2470"/>
                </a:lnTo>
                <a:lnTo>
                  <a:pt x="8310" y="2472"/>
                </a:lnTo>
                <a:lnTo>
                  <a:pt x="8312" y="2473"/>
                </a:lnTo>
                <a:lnTo>
                  <a:pt x="8314" y="2475"/>
                </a:lnTo>
                <a:lnTo>
                  <a:pt x="8317" y="2476"/>
                </a:lnTo>
                <a:lnTo>
                  <a:pt x="8319" y="2477"/>
                </a:lnTo>
                <a:lnTo>
                  <a:pt x="8321" y="2478"/>
                </a:lnTo>
                <a:lnTo>
                  <a:pt x="8323" y="2480"/>
                </a:lnTo>
                <a:lnTo>
                  <a:pt x="8326" y="2481"/>
                </a:lnTo>
                <a:lnTo>
                  <a:pt x="8328" y="2483"/>
                </a:lnTo>
                <a:lnTo>
                  <a:pt x="8330" y="2484"/>
                </a:lnTo>
                <a:lnTo>
                  <a:pt x="8332" y="2485"/>
                </a:lnTo>
                <a:lnTo>
                  <a:pt x="8335" y="2486"/>
                </a:lnTo>
                <a:lnTo>
                  <a:pt x="8337" y="2489"/>
                </a:lnTo>
                <a:lnTo>
                  <a:pt x="8339" y="2491"/>
                </a:lnTo>
                <a:lnTo>
                  <a:pt x="8341" y="2492"/>
                </a:lnTo>
                <a:lnTo>
                  <a:pt x="8344" y="2493"/>
                </a:lnTo>
                <a:lnTo>
                  <a:pt x="8346" y="2494"/>
                </a:lnTo>
                <a:lnTo>
                  <a:pt x="8348" y="2495"/>
                </a:lnTo>
                <a:lnTo>
                  <a:pt x="8350" y="2496"/>
                </a:lnTo>
                <a:lnTo>
                  <a:pt x="8353" y="2497"/>
                </a:lnTo>
                <a:lnTo>
                  <a:pt x="8355" y="2498"/>
                </a:lnTo>
                <a:lnTo>
                  <a:pt x="8357" y="2498"/>
                </a:lnTo>
                <a:lnTo>
                  <a:pt x="8359" y="2500"/>
                </a:lnTo>
                <a:lnTo>
                  <a:pt x="8362" y="2500"/>
                </a:lnTo>
                <a:lnTo>
                  <a:pt x="8364" y="2502"/>
                </a:lnTo>
                <a:lnTo>
                  <a:pt x="8366" y="2503"/>
                </a:lnTo>
                <a:lnTo>
                  <a:pt x="8368" y="2503"/>
                </a:lnTo>
                <a:lnTo>
                  <a:pt x="8371" y="2504"/>
                </a:lnTo>
                <a:lnTo>
                  <a:pt x="8373" y="2505"/>
                </a:lnTo>
                <a:lnTo>
                  <a:pt x="8375" y="2506"/>
                </a:lnTo>
                <a:lnTo>
                  <a:pt x="8377" y="2507"/>
                </a:lnTo>
                <a:lnTo>
                  <a:pt x="8380" y="2507"/>
                </a:lnTo>
                <a:lnTo>
                  <a:pt x="8382" y="2508"/>
                </a:lnTo>
                <a:lnTo>
                  <a:pt x="8384" y="2509"/>
                </a:lnTo>
                <a:lnTo>
                  <a:pt x="8386" y="2509"/>
                </a:lnTo>
                <a:lnTo>
                  <a:pt x="8389" y="2510"/>
                </a:lnTo>
                <a:lnTo>
                  <a:pt x="8391" y="2511"/>
                </a:lnTo>
                <a:lnTo>
                  <a:pt x="8393" y="2512"/>
                </a:lnTo>
                <a:lnTo>
                  <a:pt x="8395" y="2513"/>
                </a:lnTo>
                <a:lnTo>
                  <a:pt x="8398" y="2513"/>
                </a:lnTo>
                <a:lnTo>
                  <a:pt x="8400" y="2514"/>
                </a:lnTo>
                <a:lnTo>
                  <a:pt x="8402" y="2515"/>
                </a:lnTo>
                <a:lnTo>
                  <a:pt x="8404" y="2515"/>
                </a:lnTo>
                <a:lnTo>
                  <a:pt x="8407" y="2516"/>
                </a:lnTo>
                <a:lnTo>
                  <a:pt x="8409" y="2516"/>
                </a:lnTo>
                <a:lnTo>
                  <a:pt x="8411" y="2517"/>
                </a:lnTo>
                <a:lnTo>
                  <a:pt x="8413" y="2517"/>
                </a:lnTo>
                <a:lnTo>
                  <a:pt x="8416" y="2518"/>
                </a:lnTo>
                <a:lnTo>
                  <a:pt x="8418" y="2519"/>
                </a:lnTo>
                <a:lnTo>
                  <a:pt x="8420" y="2519"/>
                </a:lnTo>
                <a:lnTo>
                  <a:pt x="8422" y="2520"/>
                </a:lnTo>
                <a:lnTo>
                  <a:pt x="8425" y="2521"/>
                </a:lnTo>
                <a:lnTo>
                  <a:pt x="8427" y="2521"/>
                </a:lnTo>
                <a:lnTo>
                  <a:pt x="8429" y="2522"/>
                </a:lnTo>
                <a:lnTo>
                  <a:pt x="8431" y="2523"/>
                </a:lnTo>
                <a:lnTo>
                  <a:pt x="8434" y="2523"/>
                </a:lnTo>
                <a:lnTo>
                  <a:pt x="8436" y="2524"/>
                </a:lnTo>
                <a:lnTo>
                  <a:pt x="8438" y="2524"/>
                </a:lnTo>
                <a:lnTo>
                  <a:pt x="8440" y="2524"/>
                </a:lnTo>
                <a:lnTo>
                  <a:pt x="8443" y="2525"/>
                </a:lnTo>
                <a:lnTo>
                  <a:pt x="8445" y="2525"/>
                </a:lnTo>
                <a:lnTo>
                  <a:pt x="8447" y="2526"/>
                </a:lnTo>
                <a:lnTo>
                  <a:pt x="8450" y="2526"/>
                </a:lnTo>
                <a:lnTo>
                  <a:pt x="8452" y="2527"/>
                </a:lnTo>
                <a:lnTo>
                  <a:pt x="8454" y="2527"/>
                </a:lnTo>
                <a:lnTo>
                  <a:pt x="8456" y="2528"/>
                </a:lnTo>
                <a:lnTo>
                  <a:pt x="8459" y="2528"/>
                </a:lnTo>
                <a:lnTo>
                  <a:pt x="8461" y="2529"/>
                </a:lnTo>
                <a:lnTo>
                  <a:pt x="8463" y="2529"/>
                </a:lnTo>
                <a:lnTo>
                  <a:pt x="8465" y="2530"/>
                </a:lnTo>
                <a:lnTo>
                  <a:pt x="8468" y="2530"/>
                </a:lnTo>
                <a:lnTo>
                  <a:pt x="8470" y="2530"/>
                </a:lnTo>
                <a:lnTo>
                  <a:pt x="8472" y="2531"/>
                </a:lnTo>
                <a:lnTo>
                  <a:pt x="8474" y="2531"/>
                </a:lnTo>
                <a:lnTo>
                  <a:pt x="8477" y="2531"/>
                </a:lnTo>
                <a:lnTo>
                  <a:pt x="8479" y="2531"/>
                </a:lnTo>
                <a:lnTo>
                  <a:pt x="8481" y="2532"/>
                </a:lnTo>
                <a:lnTo>
                  <a:pt x="8483" y="2532"/>
                </a:lnTo>
                <a:lnTo>
                  <a:pt x="8486" y="2532"/>
                </a:lnTo>
                <a:lnTo>
                  <a:pt x="8488" y="2533"/>
                </a:lnTo>
                <a:lnTo>
                  <a:pt x="8490" y="2533"/>
                </a:lnTo>
                <a:lnTo>
                  <a:pt x="8492" y="2534"/>
                </a:lnTo>
                <a:lnTo>
                  <a:pt x="8495" y="2534"/>
                </a:lnTo>
                <a:lnTo>
                  <a:pt x="8497" y="2535"/>
                </a:lnTo>
                <a:lnTo>
                  <a:pt x="8499" y="2535"/>
                </a:lnTo>
                <a:lnTo>
                  <a:pt x="8501" y="2535"/>
                </a:lnTo>
                <a:lnTo>
                  <a:pt x="8504" y="2536"/>
                </a:lnTo>
                <a:lnTo>
                  <a:pt x="8506" y="2536"/>
                </a:lnTo>
                <a:lnTo>
                  <a:pt x="8508" y="2536"/>
                </a:lnTo>
                <a:lnTo>
                  <a:pt x="8510" y="2536"/>
                </a:lnTo>
                <a:lnTo>
                  <a:pt x="8513" y="2537"/>
                </a:lnTo>
                <a:lnTo>
                  <a:pt x="8515" y="2537"/>
                </a:lnTo>
                <a:lnTo>
                  <a:pt x="8517" y="2537"/>
                </a:lnTo>
                <a:lnTo>
                  <a:pt x="8519" y="2538"/>
                </a:lnTo>
                <a:lnTo>
                  <a:pt x="8522" y="2538"/>
                </a:lnTo>
                <a:lnTo>
                  <a:pt x="8524" y="2538"/>
                </a:lnTo>
                <a:lnTo>
                  <a:pt x="8526" y="2539"/>
                </a:lnTo>
                <a:lnTo>
                  <a:pt x="8528" y="2539"/>
                </a:lnTo>
                <a:lnTo>
                  <a:pt x="8531" y="2539"/>
                </a:lnTo>
                <a:lnTo>
                  <a:pt x="8533" y="2540"/>
                </a:lnTo>
                <a:lnTo>
                  <a:pt x="8535" y="2540"/>
                </a:lnTo>
                <a:lnTo>
                  <a:pt x="8537" y="2540"/>
                </a:lnTo>
                <a:lnTo>
                  <a:pt x="8540" y="2540"/>
                </a:lnTo>
                <a:lnTo>
                  <a:pt x="8542" y="2541"/>
                </a:lnTo>
                <a:lnTo>
                  <a:pt x="8544" y="2541"/>
                </a:lnTo>
                <a:lnTo>
                  <a:pt x="8546" y="2541"/>
                </a:lnTo>
                <a:lnTo>
                  <a:pt x="8549" y="2541"/>
                </a:lnTo>
                <a:lnTo>
                  <a:pt x="8551" y="2542"/>
                </a:lnTo>
                <a:lnTo>
                  <a:pt x="8553" y="2542"/>
                </a:lnTo>
                <a:lnTo>
                  <a:pt x="8555" y="2542"/>
                </a:lnTo>
                <a:lnTo>
                  <a:pt x="8558" y="2543"/>
                </a:lnTo>
                <a:lnTo>
                  <a:pt x="8560" y="2543"/>
                </a:lnTo>
                <a:lnTo>
                  <a:pt x="8562" y="2543"/>
                </a:lnTo>
                <a:lnTo>
                  <a:pt x="8564" y="2543"/>
                </a:lnTo>
                <a:lnTo>
                  <a:pt x="8567" y="2544"/>
                </a:lnTo>
                <a:lnTo>
                  <a:pt x="8569" y="2544"/>
                </a:lnTo>
                <a:lnTo>
                  <a:pt x="8571" y="2544"/>
                </a:lnTo>
                <a:lnTo>
                  <a:pt x="8573" y="2544"/>
                </a:lnTo>
                <a:lnTo>
                  <a:pt x="8576" y="2544"/>
                </a:lnTo>
                <a:lnTo>
                  <a:pt x="8578" y="2544"/>
                </a:lnTo>
                <a:lnTo>
                  <a:pt x="8580" y="2544"/>
                </a:lnTo>
                <a:lnTo>
                  <a:pt x="8582" y="2544"/>
                </a:lnTo>
                <a:lnTo>
                  <a:pt x="8585" y="2545"/>
                </a:lnTo>
                <a:lnTo>
                  <a:pt x="8587" y="2545"/>
                </a:lnTo>
                <a:lnTo>
                  <a:pt x="8589" y="2545"/>
                </a:lnTo>
                <a:lnTo>
                  <a:pt x="8591" y="2546"/>
                </a:lnTo>
                <a:lnTo>
                  <a:pt x="8594" y="2546"/>
                </a:lnTo>
                <a:lnTo>
                  <a:pt x="8596" y="2546"/>
                </a:lnTo>
                <a:lnTo>
                  <a:pt x="8598" y="2546"/>
                </a:lnTo>
                <a:lnTo>
                  <a:pt x="8600" y="2546"/>
                </a:lnTo>
                <a:lnTo>
                  <a:pt x="8603" y="2546"/>
                </a:lnTo>
                <a:lnTo>
                  <a:pt x="8605" y="2546"/>
                </a:lnTo>
                <a:lnTo>
                  <a:pt x="8607" y="2547"/>
                </a:lnTo>
                <a:lnTo>
                  <a:pt x="8609" y="2547"/>
                </a:lnTo>
                <a:lnTo>
                  <a:pt x="8612" y="2547"/>
                </a:lnTo>
                <a:lnTo>
                  <a:pt x="8614" y="2547"/>
                </a:lnTo>
                <a:lnTo>
                  <a:pt x="8616" y="2548"/>
                </a:lnTo>
                <a:lnTo>
                  <a:pt x="8619" y="2548"/>
                </a:lnTo>
                <a:lnTo>
                  <a:pt x="8621" y="2548"/>
                </a:lnTo>
                <a:lnTo>
                  <a:pt x="8623" y="2548"/>
                </a:lnTo>
                <a:lnTo>
                  <a:pt x="8625" y="2548"/>
                </a:lnTo>
                <a:lnTo>
                  <a:pt x="8628" y="2548"/>
                </a:lnTo>
                <a:lnTo>
                  <a:pt x="8630" y="2548"/>
                </a:lnTo>
                <a:lnTo>
                  <a:pt x="8632" y="2548"/>
                </a:lnTo>
                <a:lnTo>
                  <a:pt x="8634" y="2549"/>
                </a:lnTo>
                <a:lnTo>
                  <a:pt x="8637" y="2549"/>
                </a:lnTo>
                <a:lnTo>
                  <a:pt x="8639" y="2549"/>
                </a:lnTo>
                <a:lnTo>
                  <a:pt x="8641" y="2550"/>
                </a:lnTo>
                <a:lnTo>
                  <a:pt x="8643" y="2550"/>
                </a:lnTo>
                <a:lnTo>
                  <a:pt x="8646" y="2550"/>
                </a:lnTo>
                <a:lnTo>
                  <a:pt x="8648" y="2550"/>
                </a:lnTo>
                <a:lnTo>
                  <a:pt x="8650" y="2551"/>
                </a:lnTo>
                <a:lnTo>
                  <a:pt x="8652" y="2551"/>
                </a:lnTo>
                <a:lnTo>
                  <a:pt x="8655" y="2551"/>
                </a:lnTo>
                <a:lnTo>
                  <a:pt x="8657" y="2551"/>
                </a:lnTo>
                <a:lnTo>
                  <a:pt x="8659" y="2551"/>
                </a:lnTo>
                <a:lnTo>
                  <a:pt x="8661" y="2551"/>
                </a:lnTo>
                <a:lnTo>
                  <a:pt x="8664" y="2551"/>
                </a:lnTo>
                <a:lnTo>
                  <a:pt x="8666" y="2551"/>
                </a:lnTo>
                <a:lnTo>
                  <a:pt x="8668" y="2551"/>
                </a:lnTo>
                <a:lnTo>
                  <a:pt x="8670" y="2552"/>
                </a:lnTo>
                <a:lnTo>
                  <a:pt x="8673" y="2552"/>
                </a:lnTo>
                <a:lnTo>
                  <a:pt x="8675" y="2552"/>
                </a:lnTo>
                <a:lnTo>
                  <a:pt x="8677" y="2553"/>
                </a:lnTo>
                <a:lnTo>
                  <a:pt x="8679" y="2553"/>
                </a:lnTo>
                <a:lnTo>
                  <a:pt x="8682" y="2553"/>
                </a:lnTo>
                <a:lnTo>
                  <a:pt x="8684" y="2553"/>
                </a:lnTo>
                <a:lnTo>
                  <a:pt x="8686" y="2553"/>
                </a:lnTo>
                <a:lnTo>
                  <a:pt x="8688" y="2553"/>
                </a:lnTo>
                <a:lnTo>
                  <a:pt x="8691" y="2554"/>
                </a:lnTo>
                <a:lnTo>
                  <a:pt x="8693" y="2554"/>
                </a:lnTo>
                <a:lnTo>
                  <a:pt x="8695" y="2554"/>
                </a:lnTo>
                <a:lnTo>
                  <a:pt x="8697" y="2554"/>
                </a:lnTo>
                <a:lnTo>
                  <a:pt x="8700" y="2554"/>
                </a:lnTo>
                <a:lnTo>
                  <a:pt x="8702" y="2554"/>
                </a:lnTo>
                <a:lnTo>
                  <a:pt x="8704" y="2554"/>
                </a:lnTo>
                <a:lnTo>
                  <a:pt x="8706" y="2555"/>
                </a:lnTo>
                <a:lnTo>
                  <a:pt x="8709" y="2555"/>
                </a:lnTo>
                <a:lnTo>
                  <a:pt x="8711" y="2555"/>
                </a:lnTo>
                <a:lnTo>
                  <a:pt x="8713" y="2556"/>
                </a:lnTo>
                <a:lnTo>
                  <a:pt x="8715" y="2556"/>
                </a:lnTo>
                <a:lnTo>
                  <a:pt x="8718" y="2556"/>
                </a:lnTo>
                <a:lnTo>
                  <a:pt x="8720" y="2556"/>
                </a:lnTo>
                <a:lnTo>
                  <a:pt x="8722" y="2556"/>
                </a:lnTo>
                <a:lnTo>
                  <a:pt x="8724" y="2556"/>
                </a:lnTo>
                <a:lnTo>
                  <a:pt x="8727" y="2557"/>
                </a:lnTo>
                <a:lnTo>
                  <a:pt x="8729" y="2556"/>
                </a:lnTo>
                <a:lnTo>
                  <a:pt x="8731" y="2556"/>
                </a:lnTo>
                <a:lnTo>
                  <a:pt x="8733" y="2557"/>
                </a:lnTo>
                <a:lnTo>
                  <a:pt x="8736" y="2557"/>
                </a:lnTo>
                <a:lnTo>
                  <a:pt x="8738" y="2557"/>
                </a:lnTo>
                <a:lnTo>
                  <a:pt x="8740" y="2557"/>
                </a:lnTo>
                <a:lnTo>
                  <a:pt x="8742" y="2557"/>
                </a:lnTo>
                <a:lnTo>
                  <a:pt x="8745" y="2558"/>
                </a:lnTo>
                <a:lnTo>
                  <a:pt x="8747" y="2558"/>
                </a:lnTo>
                <a:lnTo>
                  <a:pt x="8749" y="2558"/>
                </a:lnTo>
                <a:lnTo>
                  <a:pt x="8751" y="2558"/>
                </a:lnTo>
                <a:lnTo>
                  <a:pt x="8754" y="2558"/>
                </a:lnTo>
                <a:lnTo>
                  <a:pt x="8756" y="2558"/>
                </a:lnTo>
                <a:lnTo>
                  <a:pt x="8758" y="2558"/>
                </a:lnTo>
                <a:lnTo>
                  <a:pt x="8760" y="2558"/>
                </a:lnTo>
                <a:lnTo>
                  <a:pt x="8763" y="2559"/>
                </a:lnTo>
                <a:lnTo>
                  <a:pt x="8765" y="2559"/>
                </a:lnTo>
                <a:lnTo>
                  <a:pt x="8767" y="2559"/>
                </a:lnTo>
                <a:lnTo>
                  <a:pt x="8769" y="2559"/>
                </a:lnTo>
                <a:lnTo>
                  <a:pt x="8772" y="2559"/>
                </a:lnTo>
                <a:lnTo>
                  <a:pt x="8774" y="2560"/>
                </a:lnTo>
                <a:lnTo>
                  <a:pt x="8776" y="2560"/>
                </a:lnTo>
                <a:lnTo>
                  <a:pt x="8778" y="2560"/>
                </a:lnTo>
                <a:lnTo>
                  <a:pt x="8781" y="2560"/>
                </a:lnTo>
                <a:lnTo>
                  <a:pt x="8783" y="2560"/>
                </a:lnTo>
                <a:lnTo>
                  <a:pt x="8785" y="2560"/>
                </a:lnTo>
                <a:lnTo>
                  <a:pt x="8788" y="2560"/>
                </a:lnTo>
                <a:lnTo>
                  <a:pt x="8790" y="2561"/>
                </a:lnTo>
                <a:lnTo>
                  <a:pt x="8792" y="2561"/>
                </a:lnTo>
                <a:lnTo>
                  <a:pt x="8794" y="2561"/>
                </a:lnTo>
                <a:lnTo>
                  <a:pt x="8797" y="2561"/>
                </a:lnTo>
                <a:lnTo>
                  <a:pt x="8799" y="2561"/>
                </a:lnTo>
                <a:lnTo>
                  <a:pt x="8801" y="2561"/>
                </a:lnTo>
                <a:lnTo>
                  <a:pt x="8803" y="2561"/>
                </a:lnTo>
                <a:lnTo>
                  <a:pt x="8806" y="2561"/>
                </a:lnTo>
                <a:lnTo>
                  <a:pt x="8808" y="2562"/>
                </a:lnTo>
                <a:lnTo>
                  <a:pt x="8810" y="2562"/>
                </a:lnTo>
                <a:lnTo>
                  <a:pt x="8812" y="2562"/>
                </a:lnTo>
                <a:lnTo>
                  <a:pt x="8815" y="2562"/>
                </a:lnTo>
                <a:lnTo>
                  <a:pt x="8817" y="2562"/>
                </a:lnTo>
                <a:lnTo>
                  <a:pt x="8819" y="2563"/>
                </a:lnTo>
                <a:lnTo>
                  <a:pt x="8821" y="2563"/>
                </a:lnTo>
                <a:lnTo>
                  <a:pt x="8824" y="2563"/>
                </a:lnTo>
                <a:lnTo>
                  <a:pt x="8826" y="2563"/>
                </a:lnTo>
                <a:lnTo>
                  <a:pt x="8828" y="2563"/>
                </a:lnTo>
                <a:lnTo>
                  <a:pt x="8830" y="2564"/>
                </a:lnTo>
                <a:lnTo>
                  <a:pt x="8833" y="2563"/>
                </a:lnTo>
                <a:lnTo>
                  <a:pt x="8835" y="2564"/>
                </a:lnTo>
                <a:lnTo>
                  <a:pt x="8837" y="2564"/>
                </a:lnTo>
                <a:lnTo>
                  <a:pt x="8839" y="2564"/>
                </a:lnTo>
                <a:lnTo>
                  <a:pt x="8842" y="2564"/>
                </a:lnTo>
                <a:lnTo>
                  <a:pt x="8844" y="2564"/>
                </a:lnTo>
                <a:lnTo>
                  <a:pt x="8846" y="2564"/>
                </a:lnTo>
                <a:lnTo>
                  <a:pt x="8848" y="2565"/>
                </a:lnTo>
                <a:lnTo>
                  <a:pt x="8851" y="2565"/>
                </a:lnTo>
                <a:lnTo>
                  <a:pt x="8853" y="2565"/>
                </a:lnTo>
                <a:lnTo>
                  <a:pt x="8855" y="2565"/>
                </a:lnTo>
                <a:lnTo>
                  <a:pt x="8857" y="2565"/>
                </a:lnTo>
                <a:lnTo>
                  <a:pt x="8860" y="2565"/>
                </a:lnTo>
                <a:lnTo>
                  <a:pt x="8862" y="2565"/>
                </a:lnTo>
                <a:lnTo>
                  <a:pt x="8864" y="2565"/>
                </a:lnTo>
                <a:lnTo>
                  <a:pt x="8866" y="2565"/>
                </a:lnTo>
                <a:lnTo>
                  <a:pt x="8869" y="2565"/>
                </a:lnTo>
                <a:lnTo>
                  <a:pt x="8871" y="2565"/>
                </a:lnTo>
                <a:lnTo>
                  <a:pt x="8873" y="2565"/>
                </a:lnTo>
                <a:lnTo>
                  <a:pt x="8875" y="2566"/>
                </a:lnTo>
                <a:lnTo>
                  <a:pt x="8878" y="2566"/>
                </a:lnTo>
                <a:lnTo>
                  <a:pt x="8880" y="2566"/>
                </a:lnTo>
                <a:lnTo>
                  <a:pt x="8882" y="2566"/>
                </a:lnTo>
                <a:lnTo>
                  <a:pt x="8884" y="2566"/>
                </a:lnTo>
                <a:lnTo>
                  <a:pt x="8887" y="2566"/>
                </a:lnTo>
                <a:lnTo>
                  <a:pt x="8889" y="2566"/>
                </a:lnTo>
                <a:lnTo>
                  <a:pt x="8891" y="2566"/>
                </a:lnTo>
                <a:lnTo>
                  <a:pt x="8893" y="2566"/>
                </a:lnTo>
                <a:lnTo>
                  <a:pt x="8896" y="2566"/>
                </a:lnTo>
                <a:lnTo>
                  <a:pt x="8898" y="2566"/>
                </a:lnTo>
                <a:lnTo>
                  <a:pt x="8900" y="2567"/>
                </a:lnTo>
                <a:lnTo>
                  <a:pt x="8902" y="2567"/>
                </a:lnTo>
                <a:lnTo>
                  <a:pt x="8905" y="2567"/>
                </a:lnTo>
                <a:lnTo>
                  <a:pt x="8907" y="2567"/>
                </a:lnTo>
                <a:lnTo>
                  <a:pt x="8909" y="2567"/>
                </a:lnTo>
                <a:lnTo>
                  <a:pt x="8911" y="2567"/>
                </a:lnTo>
                <a:lnTo>
                  <a:pt x="8914" y="2567"/>
                </a:lnTo>
                <a:lnTo>
                  <a:pt x="8916" y="2567"/>
                </a:lnTo>
                <a:lnTo>
                  <a:pt x="8918" y="2568"/>
                </a:lnTo>
                <a:lnTo>
                  <a:pt x="8920" y="2568"/>
                </a:lnTo>
                <a:lnTo>
                  <a:pt x="8923" y="2567"/>
                </a:lnTo>
                <a:lnTo>
                  <a:pt x="8925" y="2567"/>
                </a:lnTo>
                <a:lnTo>
                  <a:pt x="8927" y="2567"/>
                </a:lnTo>
                <a:lnTo>
                  <a:pt x="8929" y="2568"/>
                </a:lnTo>
                <a:lnTo>
                  <a:pt x="8932" y="2568"/>
                </a:lnTo>
                <a:lnTo>
                  <a:pt x="8934" y="2568"/>
                </a:lnTo>
                <a:lnTo>
                  <a:pt x="8936" y="2568"/>
                </a:lnTo>
                <a:lnTo>
                  <a:pt x="8938" y="2568"/>
                </a:lnTo>
                <a:lnTo>
                  <a:pt x="8941" y="2568"/>
                </a:lnTo>
                <a:lnTo>
                  <a:pt x="8943" y="2569"/>
                </a:lnTo>
                <a:lnTo>
                  <a:pt x="8945" y="2569"/>
                </a:lnTo>
                <a:lnTo>
                  <a:pt x="8947" y="2569"/>
                </a:lnTo>
                <a:lnTo>
                  <a:pt x="8950" y="2569"/>
                </a:lnTo>
                <a:lnTo>
                  <a:pt x="8952" y="2569"/>
                </a:lnTo>
                <a:lnTo>
                  <a:pt x="8954" y="2569"/>
                </a:lnTo>
                <a:lnTo>
                  <a:pt x="8957" y="2569"/>
                </a:lnTo>
                <a:lnTo>
                  <a:pt x="8959" y="2569"/>
                </a:lnTo>
                <a:lnTo>
                  <a:pt x="8961" y="2569"/>
                </a:lnTo>
                <a:lnTo>
                  <a:pt x="8963" y="2569"/>
                </a:lnTo>
                <a:lnTo>
                  <a:pt x="8966" y="2569"/>
                </a:lnTo>
                <a:lnTo>
                  <a:pt x="8968" y="2570"/>
                </a:lnTo>
                <a:lnTo>
                  <a:pt x="8970" y="2570"/>
                </a:lnTo>
                <a:lnTo>
                  <a:pt x="8972" y="2570"/>
                </a:lnTo>
                <a:lnTo>
                  <a:pt x="8975" y="2570"/>
                </a:lnTo>
                <a:lnTo>
                  <a:pt x="8977" y="2570"/>
                </a:lnTo>
                <a:lnTo>
                  <a:pt x="8979" y="2570"/>
                </a:lnTo>
                <a:lnTo>
                  <a:pt x="8981" y="2570"/>
                </a:lnTo>
                <a:lnTo>
                  <a:pt x="8984" y="2570"/>
                </a:lnTo>
                <a:lnTo>
                  <a:pt x="8986" y="2570"/>
                </a:lnTo>
                <a:lnTo>
                  <a:pt x="8988" y="2570"/>
                </a:lnTo>
                <a:lnTo>
                  <a:pt x="8990" y="2570"/>
                </a:lnTo>
                <a:lnTo>
                  <a:pt x="8993" y="2570"/>
                </a:lnTo>
                <a:lnTo>
                  <a:pt x="8995" y="2570"/>
                </a:lnTo>
                <a:lnTo>
                  <a:pt x="8997" y="2570"/>
                </a:lnTo>
                <a:lnTo>
                  <a:pt x="8999" y="2570"/>
                </a:lnTo>
                <a:lnTo>
                  <a:pt x="9002" y="2570"/>
                </a:lnTo>
                <a:lnTo>
                  <a:pt x="9004" y="2571"/>
                </a:lnTo>
                <a:lnTo>
                  <a:pt x="9006" y="2571"/>
                </a:lnTo>
                <a:lnTo>
                  <a:pt x="9008" y="2571"/>
                </a:lnTo>
                <a:lnTo>
                  <a:pt x="9011" y="2571"/>
                </a:lnTo>
                <a:lnTo>
                  <a:pt x="9013" y="2571"/>
                </a:lnTo>
                <a:lnTo>
                  <a:pt x="9015" y="2571"/>
                </a:lnTo>
                <a:lnTo>
                  <a:pt x="9017" y="2571"/>
                </a:lnTo>
                <a:lnTo>
                  <a:pt x="9020" y="2571"/>
                </a:lnTo>
                <a:lnTo>
                  <a:pt x="9022" y="2571"/>
                </a:lnTo>
                <a:lnTo>
                  <a:pt x="9024" y="2571"/>
                </a:lnTo>
                <a:lnTo>
                  <a:pt x="9026" y="2571"/>
                </a:lnTo>
                <a:lnTo>
                  <a:pt x="9029" y="2571"/>
                </a:lnTo>
                <a:lnTo>
                  <a:pt x="9031" y="2571"/>
                </a:lnTo>
                <a:lnTo>
                  <a:pt x="9033" y="2571"/>
                </a:lnTo>
                <a:lnTo>
                  <a:pt x="9035" y="2571"/>
                </a:lnTo>
                <a:lnTo>
                  <a:pt x="9038" y="2571"/>
                </a:lnTo>
                <a:lnTo>
                  <a:pt x="9040" y="2572"/>
                </a:lnTo>
                <a:lnTo>
                  <a:pt x="9042" y="2572"/>
                </a:lnTo>
                <a:lnTo>
                  <a:pt x="9044" y="2572"/>
                </a:lnTo>
                <a:lnTo>
                  <a:pt x="9047" y="2572"/>
                </a:lnTo>
                <a:lnTo>
                  <a:pt x="9049" y="2572"/>
                </a:lnTo>
                <a:lnTo>
                  <a:pt x="9051" y="2572"/>
                </a:lnTo>
                <a:lnTo>
                  <a:pt x="9053" y="2572"/>
                </a:lnTo>
                <a:lnTo>
                  <a:pt x="9056" y="2572"/>
                </a:lnTo>
                <a:lnTo>
                  <a:pt x="9058" y="2572"/>
                </a:lnTo>
                <a:lnTo>
                  <a:pt x="9060" y="2572"/>
                </a:lnTo>
                <a:lnTo>
                  <a:pt x="9062" y="2572"/>
                </a:lnTo>
                <a:lnTo>
                  <a:pt x="9065" y="2572"/>
                </a:lnTo>
                <a:lnTo>
                  <a:pt x="9067" y="2572"/>
                </a:lnTo>
                <a:lnTo>
                  <a:pt x="9069" y="2572"/>
                </a:lnTo>
                <a:lnTo>
                  <a:pt x="9071" y="2572"/>
                </a:lnTo>
                <a:lnTo>
                  <a:pt x="9074" y="2572"/>
                </a:lnTo>
                <a:lnTo>
                  <a:pt x="9076" y="2572"/>
                </a:lnTo>
                <a:lnTo>
                  <a:pt x="9078" y="2572"/>
                </a:lnTo>
                <a:lnTo>
                  <a:pt x="9080" y="2572"/>
                </a:lnTo>
                <a:lnTo>
                  <a:pt x="9083" y="2572"/>
                </a:lnTo>
                <a:lnTo>
                  <a:pt x="9085" y="2572"/>
                </a:lnTo>
                <a:lnTo>
                  <a:pt x="9087" y="2572"/>
                </a:lnTo>
                <a:lnTo>
                  <a:pt x="9089" y="2572"/>
                </a:lnTo>
                <a:lnTo>
                  <a:pt x="9092" y="2572"/>
                </a:lnTo>
                <a:lnTo>
                  <a:pt x="9094" y="2572"/>
                </a:lnTo>
                <a:lnTo>
                  <a:pt x="9096" y="2572"/>
                </a:lnTo>
                <a:lnTo>
                  <a:pt x="9098" y="2572"/>
                </a:lnTo>
                <a:lnTo>
                  <a:pt x="9101" y="2572"/>
                </a:lnTo>
                <a:lnTo>
                  <a:pt x="9103" y="2572"/>
                </a:lnTo>
                <a:lnTo>
                  <a:pt x="9105" y="2572"/>
                </a:lnTo>
                <a:lnTo>
                  <a:pt x="9107" y="2572"/>
                </a:lnTo>
                <a:lnTo>
                  <a:pt x="9110" y="2572"/>
                </a:lnTo>
                <a:lnTo>
                  <a:pt x="9112" y="2572"/>
                </a:lnTo>
                <a:lnTo>
                  <a:pt x="9114" y="2572"/>
                </a:lnTo>
                <a:lnTo>
                  <a:pt x="9116" y="2572"/>
                </a:lnTo>
                <a:lnTo>
                  <a:pt x="9119" y="2572"/>
                </a:lnTo>
                <a:lnTo>
                  <a:pt x="9121" y="2573"/>
                </a:lnTo>
                <a:lnTo>
                  <a:pt x="9123" y="2573"/>
                </a:lnTo>
                <a:lnTo>
                  <a:pt x="9126" y="2573"/>
                </a:lnTo>
                <a:lnTo>
                  <a:pt x="9128" y="2573"/>
                </a:lnTo>
                <a:lnTo>
                  <a:pt x="9130" y="2573"/>
                </a:lnTo>
                <a:lnTo>
                  <a:pt x="9132" y="2573"/>
                </a:lnTo>
                <a:lnTo>
                  <a:pt x="9135" y="2573"/>
                </a:lnTo>
                <a:lnTo>
                  <a:pt x="9137" y="2573"/>
                </a:lnTo>
                <a:lnTo>
                  <a:pt x="9139" y="2573"/>
                </a:lnTo>
                <a:lnTo>
                  <a:pt x="9141" y="2573"/>
                </a:lnTo>
                <a:lnTo>
                  <a:pt x="9144" y="2573"/>
                </a:lnTo>
                <a:lnTo>
                  <a:pt x="9146" y="2572"/>
                </a:lnTo>
                <a:lnTo>
                  <a:pt x="9148" y="2572"/>
                </a:lnTo>
                <a:lnTo>
                  <a:pt x="9150" y="2572"/>
                </a:lnTo>
                <a:lnTo>
                  <a:pt x="9153" y="2573"/>
                </a:lnTo>
                <a:lnTo>
                  <a:pt x="9155" y="2573"/>
                </a:lnTo>
                <a:lnTo>
                  <a:pt x="9157" y="2573"/>
                </a:lnTo>
                <a:lnTo>
                  <a:pt x="9159" y="2573"/>
                </a:lnTo>
                <a:lnTo>
                  <a:pt x="9162" y="2573"/>
                </a:lnTo>
                <a:lnTo>
                  <a:pt x="9164" y="2573"/>
                </a:lnTo>
                <a:lnTo>
                  <a:pt x="9166" y="2573"/>
                </a:lnTo>
                <a:lnTo>
                  <a:pt x="9168" y="2573"/>
                </a:lnTo>
                <a:lnTo>
                  <a:pt x="9171" y="2573"/>
                </a:lnTo>
                <a:lnTo>
                  <a:pt x="9173" y="2573"/>
                </a:lnTo>
                <a:lnTo>
                  <a:pt x="9175" y="2573"/>
                </a:lnTo>
                <a:lnTo>
                  <a:pt x="9177" y="2573"/>
                </a:lnTo>
                <a:lnTo>
                  <a:pt x="9180" y="2573"/>
                </a:lnTo>
                <a:lnTo>
                  <a:pt x="9182" y="2573"/>
                </a:lnTo>
                <a:lnTo>
                  <a:pt x="9184" y="2573"/>
                </a:lnTo>
                <a:lnTo>
                  <a:pt x="9186" y="2573"/>
                </a:lnTo>
                <a:lnTo>
                  <a:pt x="9189" y="2573"/>
                </a:lnTo>
                <a:lnTo>
                  <a:pt x="9191" y="2573"/>
                </a:lnTo>
                <a:lnTo>
                  <a:pt x="9193" y="2574"/>
                </a:lnTo>
                <a:lnTo>
                  <a:pt x="9195" y="2574"/>
                </a:lnTo>
                <a:lnTo>
                  <a:pt x="9198" y="2574"/>
                </a:lnTo>
                <a:lnTo>
                  <a:pt x="9200" y="2574"/>
                </a:lnTo>
                <a:lnTo>
                  <a:pt x="9202" y="2574"/>
                </a:lnTo>
                <a:lnTo>
                  <a:pt x="9204" y="2574"/>
                </a:lnTo>
                <a:lnTo>
                  <a:pt x="9207" y="2574"/>
                </a:lnTo>
                <a:lnTo>
                  <a:pt x="9209" y="2574"/>
                </a:lnTo>
                <a:lnTo>
                  <a:pt x="9211" y="2573"/>
                </a:lnTo>
                <a:lnTo>
                  <a:pt x="9213" y="2573"/>
                </a:lnTo>
                <a:lnTo>
                  <a:pt x="9216" y="2573"/>
                </a:lnTo>
                <a:lnTo>
                  <a:pt x="9218" y="2573"/>
                </a:lnTo>
                <a:lnTo>
                  <a:pt x="9220" y="2574"/>
                </a:lnTo>
                <a:lnTo>
                  <a:pt x="9222" y="2574"/>
                </a:lnTo>
                <a:lnTo>
                  <a:pt x="9225" y="2574"/>
                </a:lnTo>
                <a:lnTo>
                  <a:pt x="9227" y="2574"/>
                </a:lnTo>
                <a:lnTo>
                  <a:pt x="9229" y="2574"/>
                </a:lnTo>
                <a:lnTo>
                  <a:pt x="9231" y="2574"/>
                </a:lnTo>
                <a:lnTo>
                  <a:pt x="9234" y="2575"/>
                </a:lnTo>
                <a:lnTo>
                  <a:pt x="9236" y="2575"/>
                </a:lnTo>
                <a:lnTo>
                  <a:pt x="9238" y="2575"/>
                </a:lnTo>
                <a:lnTo>
                  <a:pt x="9240" y="2575"/>
                </a:lnTo>
                <a:lnTo>
                  <a:pt x="9243" y="2575"/>
                </a:lnTo>
                <a:lnTo>
                  <a:pt x="9245" y="2574"/>
                </a:lnTo>
                <a:lnTo>
                  <a:pt x="9247" y="2574"/>
                </a:lnTo>
                <a:lnTo>
                  <a:pt x="9249" y="2574"/>
                </a:lnTo>
                <a:lnTo>
                  <a:pt x="9252" y="2575"/>
                </a:lnTo>
                <a:lnTo>
                  <a:pt x="9254" y="2575"/>
                </a:lnTo>
                <a:lnTo>
                  <a:pt x="9256" y="2575"/>
                </a:lnTo>
                <a:lnTo>
                  <a:pt x="9258" y="2575"/>
                </a:lnTo>
                <a:lnTo>
                  <a:pt x="9261" y="2575"/>
                </a:lnTo>
                <a:lnTo>
                  <a:pt x="9263" y="2576"/>
                </a:lnTo>
                <a:lnTo>
                  <a:pt x="9265" y="2576"/>
                </a:lnTo>
                <a:lnTo>
                  <a:pt x="9267" y="2576"/>
                </a:lnTo>
                <a:lnTo>
                  <a:pt x="9270" y="2576"/>
                </a:lnTo>
                <a:lnTo>
                  <a:pt x="9272" y="2575"/>
                </a:lnTo>
                <a:lnTo>
                  <a:pt x="9274" y="2575"/>
                </a:lnTo>
                <a:lnTo>
                  <a:pt x="9276" y="2575"/>
                </a:lnTo>
                <a:lnTo>
                  <a:pt x="9279" y="2575"/>
                </a:lnTo>
                <a:lnTo>
                  <a:pt x="9281" y="2575"/>
                </a:lnTo>
                <a:lnTo>
                  <a:pt x="9283" y="2575"/>
                </a:lnTo>
                <a:lnTo>
                  <a:pt x="9285" y="2576"/>
                </a:lnTo>
                <a:lnTo>
                  <a:pt x="9288" y="2576"/>
                </a:lnTo>
                <a:lnTo>
                  <a:pt x="9290" y="2576"/>
                </a:lnTo>
                <a:lnTo>
                  <a:pt x="9292" y="2576"/>
                </a:lnTo>
                <a:lnTo>
                  <a:pt x="9295" y="2576"/>
                </a:lnTo>
                <a:lnTo>
                  <a:pt x="9297" y="2576"/>
                </a:lnTo>
                <a:lnTo>
                  <a:pt x="9299" y="2576"/>
                </a:lnTo>
                <a:lnTo>
                  <a:pt x="9301" y="2577"/>
                </a:lnTo>
                <a:lnTo>
                  <a:pt x="9304" y="2577"/>
                </a:lnTo>
                <a:lnTo>
                  <a:pt x="9306" y="2577"/>
                </a:lnTo>
                <a:lnTo>
                  <a:pt x="9308" y="2576"/>
                </a:lnTo>
                <a:lnTo>
                  <a:pt x="9310" y="2576"/>
                </a:lnTo>
                <a:lnTo>
                  <a:pt x="9313" y="2576"/>
                </a:lnTo>
                <a:lnTo>
                  <a:pt x="9315" y="2576"/>
                </a:lnTo>
                <a:lnTo>
                  <a:pt x="9317" y="2577"/>
                </a:lnTo>
                <a:lnTo>
                  <a:pt x="9319" y="2577"/>
                </a:lnTo>
                <a:lnTo>
                  <a:pt x="9322" y="2577"/>
                </a:lnTo>
                <a:lnTo>
                  <a:pt x="9324" y="2577"/>
                </a:lnTo>
                <a:lnTo>
                  <a:pt x="9326" y="2577"/>
                </a:lnTo>
                <a:lnTo>
                  <a:pt x="9328" y="2578"/>
                </a:lnTo>
                <a:lnTo>
                  <a:pt x="9331" y="2578"/>
                </a:lnTo>
                <a:lnTo>
                  <a:pt x="9333" y="2578"/>
                </a:lnTo>
                <a:lnTo>
                  <a:pt x="9335" y="2578"/>
                </a:lnTo>
                <a:lnTo>
                  <a:pt x="9337" y="2578"/>
                </a:lnTo>
                <a:lnTo>
                  <a:pt x="9340" y="2578"/>
                </a:lnTo>
                <a:lnTo>
                  <a:pt x="9342" y="2578"/>
                </a:lnTo>
                <a:lnTo>
                  <a:pt x="9344" y="2578"/>
                </a:lnTo>
                <a:lnTo>
                  <a:pt x="9346" y="2577"/>
                </a:lnTo>
                <a:lnTo>
                  <a:pt x="9349" y="2577"/>
                </a:lnTo>
                <a:lnTo>
                  <a:pt x="9351" y="2578"/>
                </a:lnTo>
                <a:lnTo>
                  <a:pt x="9353" y="2578"/>
                </a:lnTo>
                <a:lnTo>
                  <a:pt x="9355" y="2578"/>
                </a:lnTo>
                <a:lnTo>
                  <a:pt x="9358" y="2578"/>
                </a:lnTo>
                <a:lnTo>
                  <a:pt x="9360" y="2578"/>
                </a:lnTo>
                <a:lnTo>
                  <a:pt x="9362" y="2578"/>
                </a:lnTo>
                <a:lnTo>
                  <a:pt x="9364" y="2578"/>
                </a:lnTo>
                <a:lnTo>
                  <a:pt x="9367" y="2578"/>
                </a:lnTo>
                <a:lnTo>
                  <a:pt x="9369" y="2578"/>
                </a:lnTo>
                <a:lnTo>
                  <a:pt x="9371" y="2578"/>
                </a:lnTo>
                <a:lnTo>
                  <a:pt x="9373" y="2578"/>
                </a:lnTo>
                <a:lnTo>
                  <a:pt x="9376" y="2578"/>
                </a:lnTo>
                <a:lnTo>
                  <a:pt x="9378" y="2578"/>
                </a:lnTo>
                <a:lnTo>
                  <a:pt x="9380" y="2578"/>
                </a:lnTo>
                <a:lnTo>
                  <a:pt x="9382" y="2578"/>
                </a:lnTo>
                <a:lnTo>
                  <a:pt x="9385" y="2578"/>
                </a:lnTo>
                <a:lnTo>
                  <a:pt x="9387" y="2578"/>
                </a:lnTo>
                <a:lnTo>
                  <a:pt x="9389" y="2578"/>
                </a:lnTo>
                <a:lnTo>
                  <a:pt x="9391" y="2579"/>
                </a:lnTo>
                <a:lnTo>
                  <a:pt x="9394" y="2579"/>
                </a:lnTo>
                <a:lnTo>
                  <a:pt x="9396" y="2579"/>
                </a:lnTo>
                <a:lnTo>
                  <a:pt x="9398" y="2579"/>
                </a:lnTo>
                <a:lnTo>
                  <a:pt x="9400" y="2579"/>
                </a:lnTo>
                <a:lnTo>
                  <a:pt x="9403" y="2579"/>
                </a:lnTo>
                <a:lnTo>
                  <a:pt x="9405" y="2579"/>
                </a:lnTo>
                <a:lnTo>
                  <a:pt x="9407" y="2579"/>
                </a:lnTo>
                <a:lnTo>
                  <a:pt x="9409" y="2579"/>
                </a:lnTo>
                <a:lnTo>
                  <a:pt x="9412" y="2579"/>
                </a:lnTo>
                <a:lnTo>
                  <a:pt x="9414" y="2579"/>
                </a:lnTo>
                <a:lnTo>
                  <a:pt x="9416" y="2578"/>
                </a:lnTo>
                <a:lnTo>
                  <a:pt x="9418" y="2578"/>
                </a:lnTo>
                <a:lnTo>
                  <a:pt x="9421" y="2579"/>
                </a:lnTo>
                <a:lnTo>
                  <a:pt x="9423" y="2579"/>
                </a:lnTo>
                <a:lnTo>
                  <a:pt x="9425" y="2579"/>
                </a:lnTo>
                <a:lnTo>
                  <a:pt x="9427" y="2579"/>
                </a:lnTo>
                <a:lnTo>
                  <a:pt x="9430" y="2579"/>
                </a:lnTo>
                <a:lnTo>
                  <a:pt x="9432" y="2579"/>
                </a:lnTo>
                <a:lnTo>
                  <a:pt x="9434" y="2579"/>
                </a:lnTo>
                <a:lnTo>
                  <a:pt x="9436" y="2579"/>
                </a:lnTo>
                <a:lnTo>
                  <a:pt x="9439" y="2579"/>
                </a:lnTo>
                <a:lnTo>
                  <a:pt x="9441" y="2579"/>
                </a:lnTo>
                <a:lnTo>
                  <a:pt x="9443" y="2578"/>
                </a:lnTo>
                <a:lnTo>
                  <a:pt x="9445" y="2578"/>
                </a:lnTo>
                <a:lnTo>
                  <a:pt x="9448" y="2578"/>
                </a:lnTo>
                <a:lnTo>
                  <a:pt x="9450" y="2578"/>
                </a:lnTo>
                <a:lnTo>
                  <a:pt x="9452" y="2579"/>
                </a:lnTo>
                <a:lnTo>
                  <a:pt x="9454" y="2579"/>
                </a:lnTo>
                <a:lnTo>
                  <a:pt x="9457" y="2579"/>
                </a:lnTo>
                <a:lnTo>
                  <a:pt x="9459" y="2579"/>
                </a:lnTo>
                <a:lnTo>
                  <a:pt x="9461" y="2579"/>
                </a:lnTo>
                <a:lnTo>
                  <a:pt x="9464" y="2579"/>
                </a:lnTo>
                <a:lnTo>
                  <a:pt x="9466" y="2579"/>
                </a:lnTo>
                <a:lnTo>
                  <a:pt x="9468" y="2579"/>
                </a:lnTo>
                <a:lnTo>
                  <a:pt x="9470" y="2579"/>
                </a:lnTo>
                <a:lnTo>
                  <a:pt x="9473" y="2579"/>
                </a:lnTo>
                <a:lnTo>
                  <a:pt x="9475" y="2578"/>
                </a:lnTo>
                <a:lnTo>
                  <a:pt x="9477" y="2578"/>
                </a:lnTo>
                <a:lnTo>
                  <a:pt x="9479" y="2578"/>
                </a:lnTo>
                <a:lnTo>
                  <a:pt x="9482" y="2578"/>
                </a:lnTo>
                <a:lnTo>
                  <a:pt x="9484" y="2578"/>
                </a:lnTo>
                <a:lnTo>
                  <a:pt x="9486" y="2578"/>
                </a:lnTo>
                <a:lnTo>
                  <a:pt x="9488" y="2578"/>
                </a:lnTo>
                <a:lnTo>
                  <a:pt x="9491" y="2578"/>
                </a:lnTo>
                <a:lnTo>
                  <a:pt x="9493" y="2579"/>
                </a:lnTo>
                <a:lnTo>
                  <a:pt x="9495" y="2579"/>
                </a:lnTo>
                <a:lnTo>
                  <a:pt x="9497" y="2579"/>
                </a:lnTo>
                <a:lnTo>
                  <a:pt x="9500" y="2579"/>
                </a:lnTo>
                <a:lnTo>
                  <a:pt x="9502" y="2579"/>
                </a:lnTo>
                <a:lnTo>
                  <a:pt x="9504" y="2579"/>
                </a:lnTo>
                <a:lnTo>
                  <a:pt x="9506" y="2579"/>
                </a:lnTo>
                <a:lnTo>
                  <a:pt x="9509" y="2578"/>
                </a:lnTo>
                <a:lnTo>
                  <a:pt x="9511" y="2578"/>
                </a:lnTo>
                <a:lnTo>
                  <a:pt x="9513" y="2578"/>
                </a:lnTo>
                <a:lnTo>
                  <a:pt x="9515" y="2578"/>
                </a:lnTo>
                <a:lnTo>
                  <a:pt x="9518" y="2578"/>
                </a:lnTo>
                <a:lnTo>
                  <a:pt x="9520" y="2578"/>
                </a:lnTo>
                <a:lnTo>
                  <a:pt x="9522" y="2578"/>
                </a:lnTo>
                <a:lnTo>
                  <a:pt x="9524" y="2578"/>
                </a:lnTo>
                <a:lnTo>
                  <a:pt x="9527" y="2578"/>
                </a:lnTo>
                <a:lnTo>
                  <a:pt x="9529" y="2578"/>
                </a:lnTo>
                <a:lnTo>
                  <a:pt x="9531" y="2578"/>
                </a:lnTo>
                <a:lnTo>
                  <a:pt x="9533" y="2578"/>
                </a:lnTo>
                <a:lnTo>
                  <a:pt x="9536" y="2578"/>
                </a:lnTo>
                <a:lnTo>
                  <a:pt x="9538" y="2578"/>
                </a:lnTo>
                <a:lnTo>
                  <a:pt x="9540" y="2578"/>
                </a:lnTo>
                <a:lnTo>
                  <a:pt x="9542" y="2578"/>
                </a:lnTo>
                <a:lnTo>
                  <a:pt x="9545" y="2578"/>
                </a:lnTo>
                <a:lnTo>
                  <a:pt x="9547" y="2578"/>
                </a:lnTo>
                <a:lnTo>
                  <a:pt x="9549" y="2578"/>
                </a:lnTo>
                <a:lnTo>
                  <a:pt x="9551" y="2578"/>
                </a:lnTo>
                <a:lnTo>
                  <a:pt x="9554" y="2578"/>
                </a:lnTo>
                <a:lnTo>
                  <a:pt x="9556" y="2578"/>
                </a:lnTo>
                <a:lnTo>
                  <a:pt x="9558" y="2578"/>
                </a:lnTo>
                <a:lnTo>
                  <a:pt x="9560" y="2578"/>
                </a:lnTo>
                <a:lnTo>
                  <a:pt x="9563" y="2578"/>
                </a:lnTo>
                <a:lnTo>
                  <a:pt x="9565" y="2578"/>
                </a:lnTo>
                <a:lnTo>
                  <a:pt x="9567" y="2578"/>
                </a:lnTo>
                <a:lnTo>
                  <a:pt x="9569" y="2578"/>
                </a:lnTo>
                <a:lnTo>
                  <a:pt x="9572" y="2578"/>
                </a:lnTo>
                <a:lnTo>
                  <a:pt x="9574" y="2578"/>
                </a:lnTo>
                <a:lnTo>
                  <a:pt x="9576" y="2578"/>
                </a:lnTo>
                <a:lnTo>
                  <a:pt x="9578" y="2578"/>
                </a:lnTo>
                <a:lnTo>
                  <a:pt x="9581" y="2577"/>
                </a:lnTo>
                <a:lnTo>
                  <a:pt x="9583" y="2577"/>
                </a:lnTo>
                <a:lnTo>
                  <a:pt x="9585" y="2577"/>
                </a:lnTo>
                <a:lnTo>
                  <a:pt x="9587" y="2577"/>
                </a:lnTo>
                <a:lnTo>
                  <a:pt x="9590" y="2577"/>
                </a:lnTo>
                <a:lnTo>
                  <a:pt x="9592" y="2578"/>
                </a:lnTo>
                <a:lnTo>
                  <a:pt x="9594" y="2578"/>
                </a:lnTo>
                <a:lnTo>
                  <a:pt x="9596" y="2578"/>
                </a:lnTo>
                <a:lnTo>
                  <a:pt x="9599" y="2578"/>
                </a:lnTo>
                <a:lnTo>
                  <a:pt x="9601" y="2578"/>
                </a:lnTo>
                <a:lnTo>
                  <a:pt x="9603" y="2578"/>
                </a:lnTo>
                <a:lnTo>
                  <a:pt x="9605" y="2577"/>
                </a:lnTo>
                <a:lnTo>
                  <a:pt x="9608" y="2577"/>
                </a:lnTo>
                <a:lnTo>
                  <a:pt x="9610" y="2577"/>
                </a:lnTo>
                <a:lnTo>
                  <a:pt x="9612" y="2577"/>
                </a:lnTo>
                <a:lnTo>
                  <a:pt x="9614" y="2577"/>
                </a:lnTo>
                <a:lnTo>
                  <a:pt x="9617" y="2577"/>
                </a:lnTo>
                <a:lnTo>
                  <a:pt x="9619" y="2577"/>
                </a:lnTo>
                <a:lnTo>
                  <a:pt x="9621" y="2577"/>
                </a:lnTo>
                <a:lnTo>
                  <a:pt x="9623" y="2577"/>
                </a:lnTo>
                <a:lnTo>
                  <a:pt x="9626" y="2577"/>
                </a:lnTo>
                <a:lnTo>
                  <a:pt x="9628" y="2577"/>
                </a:lnTo>
                <a:lnTo>
                  <a:pt x="9630" y="2577"/>
                </a:lnTo>
                <a:lnTo>
                  <a:pt x="9633" y="2577"/>
                </a:lnTo>
                <a:lnTo>
                  <a:pt x="9635" y="2577"/>
                </a:lnTo>
                <a:lnTo>
                  <a:pt x="9637" y="2577"/>
                </a:lnTo>
                <a:lnTo>
                  <a:pt x="9639" y="2577"/>
                </a:lnTo>
                <a:lnTo>
                  <a:pt x="9642" y="2576"/>
                </a:lnTo>
                <a:lnTo>
                  <a:pt x="9644" y="2576"/>
                </a:lnTo>
                <a:lnTo>
                  <a:pt x="9646" y="2576"/>
                </a:lnTo>
                <a:lnTo>
                  <a:pt x="9648" y="2576"/>
                </a:lnTo>
                <a:lnTo>
                  <a:pt x="9651" y="2576"/>
                </a:lnTo>
                <a:lnTo>
                  <a:pt x="9653" y="2575"/>
                </a:lnTo>
                <a:lnTo>
                  <a:pt x="9655" y="2576"/>
                </a:lnTo>
                <a:lnTo>
                  <a:pt x="9657" y="2576"/>
                </a:lnTo>
                <a:lnTo>
                  <a:pt x="9660" y="2576"/>
                </a:lnTo>
                <a:lnTo>
                  <a:pt x="9662" y="2576"/>
                </a:lnTo>
                <a:lnTo>
                  <a:pt x="9664" y="2576"/>
                </a:lnTo>
                <a:lnTo>
                  <a:pt x="9666" y="2576"/>
                </a:lnTo>
                <a:lnTo>
                  <a:pt x="9669" y="2576"/>
                </a:lnTo>
                <a:lnTo>
                  <a:pt x="9671" y="2575"/>
                </a:lnTo>
                <a:lnTo>
                  <a:pt x="9673" y="2575"/>
                </a:lnTo>
                <a:lnTo>
                  <a:pt x="9675" y="2575"/>
                </a:lnTo>
                <a:lnTo>
                  <a:pt x="9678" y="2575"/>
                </a:lnTo>
                <a:lnTo>
                  <a:pt x="9680" y="2575"/>
                </a:lnTo>
                <a:lnTo>
                  <a:pt x="9682" y="2575"/>
                </a:lnTo>
                <a:lnTo>
                  <a:pt x="9684" y="2575"/>
                </a:lnTo>
                <a:lnTo>
                  <a:pt x="9687" y="2575"/>
                </a:lnTo>
                <a:lnTo>
                  <a:pt x="9689" y="2575"/>
                </a:lnTo>
                <a:lnTo>
                  <a:pt x="9691" y="2575"/>
                </a:lnTo>
                <a:lnTo>
                  <a:pt x="9693" y="2575"/>
                </a:lnTo>
                <a:lnTo>
                  <a:pt x="9696" y="2575"/>
                </a:lnTo>
                <a:lnTo>
                  <a:pt x="9698" y="2575"/>
                </a:lnTo>
                <a:lnTo>
                  <a:pt x="9700" y="2575"/>
                </a:lnTo>
                <a:lnTo>
                  <a:pt x="9702" y="2575"/>
                </a:lnTo>
                <a:lnTo>
                  <a:pt x="9705" y="2575"/>
                </a:lnTo>
                <a:lnTo>
                  <a:pt x="9707" y="2575"/>
                </a:lnTo>
                <a:lnTo>
                  <a:pt x="9709" y="2575"/>
                </a:lnTo>
                <a:lnTo>
                  <a:pt x="9711" y="2575"/>
                </a:lnTo>
                <a:lnTo>
                  <a:pt x="9714" y="2575"/>
                </a:lnTo>
                <a:lnTo>
                  <a:pt x="9716" y="2574"/>
                </a:lnTo>
                <a:lnTo>
                  <a:pt x="9718" y="2574"/>
                </a:lnTo>
                <a:lnTo>
                  <a:pt x="9720" y="2574"/>
                </a:lnTo>
                <a:lnTo>
                  <a:pt x="9723" y="2574"/>
                </a:lnTo>
                <a:lnTo>
                  <a:pt x="9725" y="2574"/>
                </a:lnTo>
                <a:lnTo>
                  <a:pt x="9727" y="2574"/>
                </a:lnTo>
                <a:lnTo>
                  <a:pt x="9729" y="2574"/>
                </a:lnTo>
                <a:lnTo>
                  <a:pt x="9732" y="2574"/>
                </a:lnTo>
                <a:lnTo>
                  <a:pt x="9734" y="2574"/>
                </a:lnTo>
                <a:lnTo>
                  <a:pt x="9736" y="2574"/>
                </a:lnTo>
                <a:lnTo>
                  <a:pt x="9738" y="2574"/>
                </a:lnTo>
                <a:lnTo>
                  <a:pt x="9741" y="2574"/>
                </a:lnTo>
                <a:lnTo>
                  <a:pt x="9743" y="2574"/>
                </a:lnTo>
                <a:lnTo>
                  <a:pt x="9745" y="2574"/>
                </a:lnTo>
                <a:lnTo>
                  <a:pt x="9747" y="2574"/>
                </a:lnTo>
                <a:lnTo>
                  <a:pt x="9750" y="2574"/>
                </a:lnTo>
                <a:lnTo>
                  <a:pt x="9752" y="2574"/>
                </a:lnTo>
                <a:lnTo>
                  <a:pt x="9754" y="2574"/>
                </a:lnTo>
                <a:lnTo>
                  <a:pt x="9756" y="2574"/>
                </a:lnTo>
                <a:lnTo>
                  <a:pt x="9759" y="2574"/>
                </a:lnTo>
                <a:lnTo>
                  <a:pt x="9761" y="2574"/>
                </a:lnTo>
                <a:lnTo>
                  <a:pt x="9763" y="2574"/>
                </a:lnTo>
                <a:lnTo>
                  <a:pt x="9765" y="2574"/>
                </a:lnTo>
                <a:lnTo>
                  <a:pt x="9768" y="2574"/>
                </a:lnTo>
                <a:lnTo>
                  <a:pt x="9770" y="2574"/>
                </a:lnTo>
                <a:lnTo>
                  <a:pt x="9772" y="2574"/>
                </a:lnTo>
                <a:lnTo>
                  <a:pt x="9774" y="2574"/>
                </a:lnTo>
                <a:lnTo>
                  <a:pt x="9777" y="2573"/>
                </a:lnTo>
                <a:lnTo>
                  <a:pt x="9779" y="2573"/>
                </a:lnTo>
                <a:lnTo>
                  <a:pt x="9781" y="2574"/>
                </a:lnTo>
                <a:lnTo>
                  <a:pt x="9783" y="2574"/>
                </a:lnTo>
                <a:lnTo>
                  <a:pt x="9786" y="2574"/>
                </a:lnTo>
                <a:lnTo>
                  <a:pt x="9788" y="2574"/>
                </a:lnTo>
                <a:lnTo>
                  <a:pt x="9790" y="2574"/>
                </a:lnTo>
                <a:lnTo>
                  <a:pt x="9792" y="2574"/>
                </a:lnTo>
                <a:lnTo>
                  <a:pt x="9795" y="2574"/>
                </a:lnTo>
                <a:lnTo>
                  <a:pt x="9797" y="2574"/>
                </a:lnTo>
                <a:lnTo>
                  <a:pt x="9799" y="2574"/>
                </a:lnTo>
                <a:lnTo>
                  <a:pt x="9802" y="2574"/>
                </a:lnTo>
                <a:lnTo>
                  <a:pt x="9804" y="2574"/>
                </a:lnTo>
                <a:lnTo>
                  <a:pt x="9806" y="2574"/>
                </a:lnTo>
                <a:lnTo>
                  <a:pt x="9808" y="2573"/>
                </a:lnTo>
                <a:lnTo>
                  <a:pt x="9811" y="2573"/>
                </a:lnTo>
                <a:lnTo>
                  <a:pt x="9813" y="2573"/>
                </a:lnTo>
                <a:lnTo>
                  <a:pt x="9815" y="2573"/>
                </a:lnTo>
                <a:lnTo>
                  <a:pt x="9817" y="2574"/>
                </a:lnTo>
                <a:lnTo>
                  <a:pt x="9820" y="2574"/>
                </a:lnTo>
                <a:lnTo>
                  <a:pt x="9822" y="2574"/>
                </a:lnTo>
                <a:lnTo>
                  <a:pt x="9824" y="2574"/>
                </a:lnTo>
                <a:lnTo>
                  <a:pt x="9826" y="2574"/>
                </a:lnTo>
                <a:lnTo>
                  <a:pt x="9829" y="2574"/>
                </a:lnTo>
                <a:lnTo>
                  <a:pt x="9831" y="2574"/>
                </a:lnTo>
                <a:lnTo>
                  <a:pt x="9833" y="2574"/>
                </a:lnTo>
                <a:lnTo>
                  <a:pt x="9835" y="2574"/>
                </a:lnTo>
                <a:lnTo>
                  <a:pt x="9838" y="2574"/>
                </a:lnTo>
                <a:lnTo>
                  <a:pt x="9840" y="2574"/>
                </a:lnTo>
                <a:lnTo>
                  <a:pt x="9842" y="2574"/>
                </a:lnTo>
                <a:lnTo>
                  <a:pt x="9844" y="2574"/>
                </a:lnTo>
                <a:lnTo>
                  <a:pt x="9847" y="2574"/>
                </a:lnTo>
                <a:lnTo>
                  <a:pt x="9849" y="2574"/>
                </a:lnTo>
                <a:lnTo>
                  <a:pt x="9851" y="2574"/>
                </a:lnTo>
                <a:lnTo>
                  <a:pt x="9853" y="2574"/>
                </a:lnTo>
                <a:lnTo>
                  <a:pt x="9856" y="2574"/>
                </a:lnTo>
                <a:lnTo>
                  <a:pt x="9858" y="2574"/>
                </a:lnTo>
                <a:lnTo>
                  <a:pt x="9860" y="2574"/>
                </a:lnTo>
                <a:lnTo>
                  <a:pt x="9862" y="2574"/>
                </a:lnTo>
                <a:lnTo>
                  <a:pt x="9865" y="2574"/>
                </a:lnTo>
                <a:lnTo>
                  <a:pt x="9867" y="2574"/>
                </a:lnTo>
                <a:lnTo>
                  <a:pt x="9869" y="2574"/>
                </a:lnTo>
                <a:lnTo>
                  <a:pt x="9871" y="2574"/>
                </a:lnTo>
                <a:lnTo>
                  <a:pt x="9874" y="2574"/>
                </a:lnTo>
                <a:lnTo>
                  <a:pt x="9876" y="2574"/>
                </a:lnTo>
                <a:lnTo>
                  <a:pt x="9878" y="2574"/>
                </a:lnTo>
                <a:lnTo>
                  <a:pt x="9880" y="2574"/>
                </a:lnTo>
                <a:lnTo>
                  <a:pt x="9883" y="2574"/>
                </a:lnTo>
                <a:lnTo>
                  <a:pt x="9885" y="2574"/>
                </a:lnTo>
                <a:lnTo>
                  <a:pt x="9887" y="2574"/>
                </a:lnTo>
                <a:lnTo>
                  <a:pt x="9889" y="2574"/>
                </a:lnTo>
                <a:lnTo>
                  <a:pt x="9892" y="2574"/>
                </a:lnTo>
                <a:lnTo>
                  <a:pt x="9894" y="2574"/>
                </a:lnTo>
                <a:lnTo>
                  <a:pt x="9896" y="2574"/>
                </a:lnTo>
                <a:lnTo>
                  <a:pt x="9898" y="2574"/>
                </a:lnTo>
                <a:lnTo>
                  <a:pt x="9901" y="2574"/>
                </a:lnTo>
                <a:lnTo>
                  <a:pt x="9903" y="2574"/>
                </a:lnTo>
                <a:lnTo>
                  <a:pt x="9905" y="2574"/>
                </a:lnTo>
                <a:lnTo>
                  <a:pt x="9907" y="2573"/>
                </a:lnTo>
                <a:lnTo>
                  <a:pt x="9910" y="2573"/>
                </a:lnTo>
                <a:lnTo>
                  <a:pt x="9912" y="2573"/>
                </a:lnTo>
                <a:lnTo>
                  <a:pt x="9914" y="2573"/>
                </a:lnTo>
                <a:lnTo>
                  <a:pt x="9916" y="2573"/>
                </a:lnTo>
                <a:lnTo>
                  <a:pt x="9919" y="2574"/>
                </a:lnTo>
                <a:lnTo>
                  <a:pt x="9921" y="2574"/>
                </a:lnTo>
                <a:lnTo>
                  <a:pt x="9923" y="2574"/>
                </a:lnTo>
                <a:lnTo>
                  <a:pt x="9925" y="2574"/>
                </a:lnTo>
                <a:lnTo>
                  <a:pt x="9928" y="2574"/>
                </a:lnTo>
                <a:lnTo>
                  <a:pt x="9930" y="2574"/>
                </a:lnTo>
                <a:lnTo>
                  <a:pt x="9932" y="2574"/>
                </a:lnTo>
                <a:lnTo>
                  <a:pt x="9934" y="2573"/>
                </a:lnTo>
                <a:lnTo>
                  <a:pt x="9937" y="2573"/>
                </a:lnTo>
                <a:lnTo>
                  <a:pt x="9939" y="2573"/>
                </a:lnTo>
                <a:lnTo>
                  <a:pt x="9941" y="2573"/>
                </a:lnTo>
                <a:lnTo>
                  <a:pt x="9943" y="2573"/>
                </a:lnTo>
                <a:lnTo>
                  <a:pt x="9946" y="2573"/>
                </a:lnTo>
                <a:lnTo>
                  <a:pt x="9948" y="2573"/>
                </a:lnTo>
                <a:lnTo>
                  <a:pt x="9950" y="2573"/>
                </a:lnTo>
                <a:lnTo>
                  <a:pt x="9952" y="2573"/>
                </a:lnTo>
                <a:lnTo>
                  <a:pt x="9955" y="2573"/>
                </a:lnTo>
                <a:lnTo>
                  <a:pt x="9957" y="2573"/>
                </a:lnTo>
                <a:lnTo>
                  <a:pt x="9959" y="2573"/>
                </a:lnTo>
                <a:lnTo>
                  <a:pt x="9961" y="2573"/>
                </a:lnTo>
                <a:lnTo>
                  <a:pt x="9964" y="2573"/>
                </a:lnTo>
                <a:lnTo>
                  <a:pt x="9966" y="2573"/>
                </a:lnTo>
                <a:lnTo>
                  <a:pt x="9968" y="2573"/>
                </a:lnTo>
                <a:lnTo>
                  <a:pt x="9971" y="2573"/>
                </a:lnTo>
                <a:lnTo>
                  <a:pt x="9973" y="2572"/>
                </a:lnTo>
                <a:lnTo>
                  <a:pt x="9975" y="2572"/>
                </a:lnTo>
                <a:lnTo>
                  <a:pt x="9977" y="2572"/>
                </a:lnTo>
                <a:lnTo>
                  <a:pt x="9980" y="2572"/>
                </a:lnTo>
                <a:lnTo>
                  <a:pt x="9982" y="2572"/>
                </a:lnTo>
                <a:lnTo>
                  <a:pt x="9984" y="2572"/>
                </a:lnTo>
                <a:lnTo>
                  <a:pt x="9986" y="2572"/>
                </a:lnTo>
                <a:lnTo>
                  <a:pt x="9989" y="2573"/>
                </a:lnTo>
                <a:lnTo>
                  <a:pt x="9991" y="2573"/>
                </a:lnTo>
                <a:lnTo>
                  <a:pt x="9993" y="2573"/>
                </a:lnTo>
                <a:lnTo>
                  <a:pt x="9995" y="2573"/>
                </a:lnTo>
                <a:lnTo>
                  <a:pt x="9998" y="2572"/>
                </a:lnTo>
                <a:lnTo>
                  <a:pt x="10000" y="2572"/>
                </a:lnTo>
                <a:lnTo>
                  <a:pt x="10002" y="2572"/>
                </a:lnTo>
                <a:lnTo>
                  <a:pt x="10004" y="2572"/>
                </a:lnTo>
                <a:lnTo>
                  <a:pt x="10007" y="2572"/>
                </a:lnTo>
                <a:lnTo>
                  <a:pt x="10009" y="2572"/>
                </a:lnTo>
                <a:lnTo>
                  <a:pt x="10011" y="2572"/>
                </a:lnTo>
                <a:lnTo>
                  <a:pt x="10013" y="2572"/>
                </a:lnTo>
                <a:lnTo>
                  <a:pt x="10016" y="2572"/>
                </a:lnTo>
                <a:lnTo>
                  <a:pt x="10018" y="2572"/>
                </a:lnTo>
                <a:lnTo>
                  <a:pt x="10020" y="2572"/>
                </a:lnTo>
                <a:lnTo>
                  <a:pt x="10022" y="2572"/>
                </a:lnTo>
                <a:lnTo>
                  <a:pt x="10025" y="2572"/>
                </a:lnTo>
                <a:lnTo>
                  <a:pt x="10027" y="2572"/>
                </a:lnTo>
                <a:lnTo>
                  <a:pt x="10029" y="2572"/>
                </a:lnTo>
                <a:lnTo>
                  <a:pt x="10031" y="2572"/>
                </a:lnTo>
                <a:lnTo>
                  <a:pt x="10034" y="2572"/>
                </a:lnTo>
                <a:lnTo>
                  <a:pt x="10036" y="2572"/>
                </a:lnTo>
                <a:lnTo>
                  <a:pt x="10038" y="2572"/>
                </a:lnTo>
                <a:lnTo>
                  <a:pt x="10040" y="2572"/>
                </a:lnTo>
                <a:lnTo>
                  <a:pt x="10043" y="2572"/>
                </a:lnTo>
                <a:lnTo>
                  <a:pt x="10045" y="2571"/>
                </a:lnTo>
                <a:lnTo>
                  <a:pt x="10047" y="2571"/>
                </a:lnTo>
                <a:lnTo>
                  <a:pt x="10049" y="2571"/>
                </a:lnTo>
                <a:lnTo>
                  <a:pt x="10052" y="2571"/>
                </a:lnTo>
                <a:lnTo>
                  <a:pt x="10054" y="2571"/>
                </a:lnTo>
                <a:lnTo>
                  <a:pt x="10056" y="2571"/>
                </a:lnTo>
                <a:lnTo>
                  <a:pt x="10058" y="2572"/>
                </a:lnTo>
                <a:lnTo>
                  <a:pt x="10061" y="2572"/>
                </a:lnTo>
                <a:lnTo>
                  <a:pt x="10063" y="2572"/>
                </a:lnTo>
                <a:lnTo>
                  <a:pt x="10065" y="2572"/>
                </a:lnTo>
                <a:lnTo>
                  <a:pt x="10067" y="2572"/>
                </a:lnTo>
                <a:lnTo>
                  <a:pt x="10070" y="2572"/>
                </a:lnTo>
                <a:lnTo>
                  <a:pt x="10072" y="2571"/>
                </a:lnTo>
                <a:lnTo>
                  <a:pt x="10074" y="2571"/>
                </a:lnTo>
                <a:lnTo>
                  <a:pt x="10076" y="2571"/>
                </a:lnTo>
                <a:lnTo>
                  <a:pt x="10079" y="2571"/>
                </a:lnTo>
                <a:lnTo>
                  <a:pt x="10081" y="2571"/>
                </a:lnTo>
                <a:lnTo>
                  <a:pt x="10083" y="2571"/>
                </a:lnTo>
                <a:lnTo>
                  <a:pt x="10085" y="2571"/>
                </a:lnTo>
                <a:lnTo>
                  <a:pt x="10088" y="2571"/>
                </a:lnTo>
                <a:lnTo>
                  <a:pt x="10090" y="2571"/>
                </a:lnTo>
                <a:lnTo>
                  <a:pt x="10092" y="2571"/>
                </a:lnTo>
                <a:lnTo>
                  <a:pt x="10094" y="2571"/>
                </a:lnTo>
                <a:lnTo>
                  <a:pt x="10097" y="2571"/>
                </a:lnTo>
                <a:lnTo>
                  <a:pt x="10099" y="2571"/>
                </a:lnTo>
                <a:lnTo>
                  <a:pt x="10101" y="2571"/>
                </a:lnTo>
                <a:lnTo>
                  <a:pt x="10103" y="2571"/>
                </a:lnTo>
                <a:lnTo>
                  <a:pt x="10106" y="2571"/>
                </a:lnTo>
                <a:lnTo>
                  <a:pt x="10108" y="2571"/>
                </a:lnTo>
                <a:lnTo>
                  <a:pt x="10110" y="2571"/>
                </a:lnTo>
                <a:lnTo>
                  <a:pt x="10112" y="2571"/>
                </a:lnTo>
                <a:lnTo>
                  <a:pt x="10115" y="2571"/>
                </a:lnTo>
                <a:lnTo>
                  <a:pt x="10117" y="2571"/>
                </a:lnTo>
                <a:lnTo>
                  <a:pt x="10119" y="2570"/>
                </a:lnTo>
                <a:lnTo>
                  <a:pt x="10121" y="2570"/>
                </a:lnTo>
                <a:lnTo>
                  <a:pt x="10124" y="2570"/>
                </a:lnTo>
                <a:lnTo>
                  <a:pt x="10126" y="2570"/>
                </a:lnTo>
                <a:lnTo>
                  <a:pt x="10128" y="2570"/>
                </a:lnTo>
                <a:lnTo>
                  <a:pt x="10130" y="2570"/>
                </a:lnTo>
                <a:lnTo>
                  <a:pt x="10133" y="2570"/>
                </a:lnTo>
                <a:lnTo>
                  <a:pt x="10135" y="2570"/>
                </a:lnTo>
                <a:lnTo>
                  <a:pt x="10137" y="2570"/>
                </a:lnTo>
              </a:path>
            </a:pathLst>
          </a:custGeom>
          <a:noFill/>
          <a:ln w="12600">
            <a:solidFill>
              <a:srgbClr val="b34d3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73" name="Group 83"/>
          <p:cNvGrpSpPr/>
          <p:nvPr/>
        </p:nvGrpSpPr>
        <p:grpSpPr>
          <a:xfrm>
            <a:off x="2107080" y="2711520"/>
            <a:ext cx="3334320" cy="1247760"/>
            <a:chOff x="2107080" y="2711520"/>
            <a:chExt cx="3334320" cy="1247760"/>
          </a:xfrm>
        </p:grpSpPr>
        <p:sp>
          <p:nvSpPr>
            <p:cNvPr id="1474" name="Line 84"/>
            <p:cNvSpPr/>
            <p:nvPr/>
          </p:nvSpPr>
          <p:spPr>
            <a:xfrm>
              <a:off x="2427480" y="3243600"/>
              <a:ext cx="355320" cy="2016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5" name="Rectangle 85"/>
            <p:cNvSpPr/>
            <p:nvPr/>
          </p:nvSpPr>
          <p:spPr>
            <a:xfrm>
              <a:off x="2107080" y="3016440"/>
              <a:ext cx="378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6" name="Rectangle 86"/>
            <p:cNvSpPr/>
            <p:nvPr/>
          </p:nvSpPr>
          <p:spPr>
            <a:xfrm>
              <a:off x="2695320" y="2973600"/>
              <a:ext cx="496440" cy="27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NH</a:t>
              </a:r>
              <a:r>
                <a:rPr b="0" lang="en-US" sz="1800" spc="-1" strike="noStrike" baseline="-10000">
                  <a:solidFill>
                    <a:srgbClr val="000000"/>
                  </a:solidFill>
                  <a:latin typeface="MS PGothic"/>
                  <a:ea typeface="MS PGothic"/>
                </a:rPr>
                <a:t>4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7" name="Rectangle 87"/>
            <p:cNvSpPr/>
            <p:nvPr/>
          </p:nvSpPr>
          <p:spPr>
            <a:xfrm>
              <a:off x="3218040" y="2711520"/>
              <a:ext cx="218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K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8" name="Rectangle 88"/>
            <p:cNvSpPr/>
            <p:nvPr/>
          </p:nvSpPr>
          <p:spPr>
            <a:xfrm>
              <a:off x="4246560" y="3684600"/>
              <a:ext cx="500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Mg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9" name="Rectangle 89"/>
            <p:cNvSpPr/>
            <p:nvPr/>
          </p:nvSpPr>
          <p:spPr>
            <a:xfrm>
              <a:off x="5015520" y="3557880"/>
              <a:ext cx="4258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PGothic"/>
                  <a:ea typeface="MS PGothic"/>
                </a:rPr>
                <a:t>Ca</a:t>
              </a:r>
              <a:r>
                <a:rPr b="0" lang="en-US" sz="1800" spc="-1" strike="noStrike" baseline="30000">
                  <a:solidFill>
                    <a:srgbClr val="000000"/>
                  </a:solidFill>
                  <a:latin typeface="MS PGothic"/>
                  <a:ea typeface="MS PGothic"/>
                </a:rPr>
                <a:t>2+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80" name="Rectangle 90"/>
          <p:cNvSpPr/>
          <p:nvPr/>
        </p:nvSpPr>
        <p:spPr>
          <a:xfrm>
            <a:off x="624960" y="3675240"/>
            <a:ext cx="413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µS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Rectangle 9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Detection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3" name="Rectangle 5"/>
          <p:cNvSpPr/>
          <p:nvPr/>
        </p:nvSpPr>
        <p:spPr>
          <a:xfrm>
            <a:off x="506520" y="1700280"/>
            <a:ext cx="827856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ff0033"/>
                </a:solidFill>
                <a:uFillTx/>
                <a:latin typeface="Tahoma"/>
                <a:ea typeface="HY견고딕"/>
              </a:rPr>
              <a:t>Electric conductivity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대다수 이온성분의 전기전도도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가장 보편적으로 사용되는 방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4" name="Rectangle 6"/>
          <p:cNvSpPr/>
          <p:nvPr/>
        </p:nvSpPr>
        <p:spPr>
          <a:xfrm>
            <a:off x="506520" y="3232080"/>
            <a:ext cx="845820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Electrochemical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전류 적정법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특정 조건에서 산화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HY견고딕"/>
              </a:rPr>
              <a:t>-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환원 성분의 측정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UV-Visible photometric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색된 특정 성분의 흡광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UV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또는 가시광선 영역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석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luorescenc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형광성분의 검출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5" name="Rectangle 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4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  <a:ea typeface="굴림"/>
              </a:rPr>
              <a:t>Introduc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826560" y="2060280"/>
            <a:ext cx="732348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1975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년 미국의 다우 화학 회사와</a:t>
            </a: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Bauman, Small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Steven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에 의해 고안된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1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성 시료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교환 컬럼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사용하여 분리한 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화학적 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서프레서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</a:t>
            </a:r>
            <a:r>
              <a:rPr b="1" lang="ko-KR" sz="2000" spc="-1" strike="noStrike">
                <a:solidFill>
                  <a:srgbClr val="ff6600"/>
                </a:solidFill>
                <a:latin typeface="HY견고딕"/>
                <a:ea typeface="HY견고딕"/>
              </a:rPr>
              <a:t>전기 전도도 검출기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를 사용하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성분의 농도를 측정하는 기술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a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lectric conductivit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7" name="Rectangle 5"/>
          <p:cNvSpPr/>
          <p:nvPr/>
        </p:nvSpPr>
        <p:spPr>
          <a:xfrm>
            <a:off x="684360" y="1773360"/>
            <a:ext cx="7772400" cy="27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30000"/>
              </a:lnSpc>
              <a:spcBef>
                <a:spcPts val="601"/>
              </a:spcBef>
              <a:spcAft>
                <a:spcPts val="601"/>
              </a:spcAft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 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시료의 전도도 측정</a:t>
            </a:r>
            <a:r>
              <a:rPr b="0" lang="ko-KR" sz="2400" spc="-1" strike="noStrike">
                <a:solidFill>
                  <a:srgbClr val="ff6600"/>
                </a:solidFill>
                <a:latin typeface="Tahoma"/>
                <a:ea typeface="굴림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5000"/>
              </a:lnSpc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ell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을 통과하는 이온성분의 양 증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　　　　　　　　　　　　　　　　　　　　　　　　　　　　         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굴림"/>
              </a:rPr>
              <a:t>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C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onductivity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증가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Wingding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대부분의 이온성분 검출 가능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8" name="Freeform 20"/>
          <p:cNvSpPr/>
          <p:nvPr/>
        </p:nvSpPr>
        <p:spPr>
          <a:xfrm>
            <a:off x="4670280" y="4334040"/>
            <a:ext cx="797040" cy="1763640"/>
          </a:xfrm>
          <a:custGeom>
            <a:avLst/>
            <a:gdLst>
              <a:gd name="textAreaLeft" fmla="*/ 0 w 797040"/>
              <a:gd name="textAreaRight" fmla="*/ 797400 w 7970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433" h="943">
                <a:moveTo>
                  <a:pt x="433" y="943"/>
                </a:moveTo>
                <a:lnTo>
                  <a:pt x="433" y="454"/>
                </a:lnTo>
                <a:lnTo>
                  <a:pt x="0" y="0"/>
                </a:lnTo>
              </a:path>
            </a:pathLst>
          </a:custGeom>
          <a:noFill/>
          <a:ln w="28440">
            <a:solidFill>
              <a:srgbClr val="00cc99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9" name="Freeform 7"/>
          <p:cNvSpPr/>
          <p:nvPr/>
        </p:nvSpPr>
        <p:spPr>
          <a:xfrm>
            <a:off x="4691160" y="4694400"/>
            <a:ext cx="698400" cy="1118880"/>
          </a:xfrm>
          <a:custGeom>
            <a:avLst/>
            <a:gdLst>
              <a:gd name="textAreaLeft" fmla="*/ 0 w 698400"/>
              <a:gd name="textAreaRight" fmla="*/ 698760 w 698400"/>
              <a:gd name="textAreaTop" fmla="*/ 0 h 1118880"/>
              <a:gd name="textAreaBottom" fmla="*/ 1119240 h 1118880"/>
            </a:gdLst>
            <a:ahLst/>
            <a:rect l="textAreaLeft" t="textAreaTop" r="textAreaRight" b="textAreaBottom"/>
            <a:pathLst>
              <a:path w="306" h="449">
                <a:moveTo>
                  <a:pt x="303" y="449"/>
                </a:moveTo>
                <a:lnTo>
                  <a:pt x="0" y="449"/>
                </a:lnTo>
                <a:lnTo>
                  <a:pt x="0" y="101"/>
                </a:lnTo>
                <a:lnTo>
                  <a:pt x="97" y="0"/>
                </a:lnTo>
                <a:lnTo>
                  <a:pt x="306" y="210"/>
                </a:lnTo>
                <a:lnTo>
                  <a:pt x="303" y="449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0" name="Freeform 8"/>
          <p:cNvSpPr/>
          <p:nvPr/>
        </p:nvSpPr>
        <p:spPr>
          <a:xfrm>
            <a:off x="5016600" y="4319640"/>
            <a:ext cx="1226880" cy="1496880"/>
          </a:xfrm>
          <a:custGeom>
            <a:avLst/>
            <a:gdLst>
              <a:gd name="textAreaLeft" fmla="*/ 0 w 1226880"/>
              <a:gd name="textAreaRight" fmla="*/ 1227240 w 12268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8" h="600">
                <a:moveTo>
                  <a:pt x="243" y="600"/>
                </a:moveTo>
                <a:lnTo>
                  <a:pt x="538" y="600"/>
                </a:lnTo>
                <a:lnTo>
                  <a:pt x="538" y="180"/>
                </a:lnTo>
                <a:lnTo>
                  <a:pt x="437" y="0"/>
                </a:lnTo>
                <a:lnTo>
                  <a:pt x="87" y="0"/>
                </a:lnTo>
                <a:lnTo>
                  <a:pt x="0" y="101"/>
                </a:lnTo>
                <a:lnTo>
                  <a:pt x="242" y="350"/>
                </a:lnTo>
                <a:lnTo>
                  <a:pt x="243" y="60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Line 9"/>
          <p:cNvSpPr/>
          <p:nvPr/>
        </p:nvSpPr>
        <p:spPr>
          <a:xfrm flipV="1">
            <a:off x="5570640" y="4532040"/>
            <a:ext cx="542880" cy="595080"/>
          </a:xfrm>
          <a:prstGeom prst="line">
            <a:avLst/>
          </a:prstGeom>
          <a:ln w="572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Line 10"/>
          <p:cNvSpPr/>
          <p:nvPr/>
        </p:nvSpPr>
        <p:spPr>
          <a:xfrm flipV="1">
            <a:off x="5386320" y="5213520"/>
            <a:ext cx="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11"/>
          <p:cNvSpPr/>
          <p:nvPr/>
        </p:nvSpPr>
        <p:spPr>
          <a:xfrm flipH="1" flipV="1">
            <a:off x="4916160" y="4694040"/>
            <a:ext cx="507960" cy="56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Freeform 12"/>
          <p:cNvSpPr/>
          <p:nvPr/>
        </p:nvSpPr>
        <p:spPr>
          <a:xfrm>
            <a:off x="5016600" y="4568760"/>
            <a:ext cx="554040" cy="633600"/>
          </a:xfrm>
          <a:custGeom>
            <a:avLst/>
            <a:gdLst>
              <a:gd name="textAreaLeft" fmla="*/ 0 w 554040"/>
              <a:gd name="textAreaRight" fmla="*/ 554400 w 55404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43" h="254">
                <a:moveTo>
                  <a:pt x="243" y="254"/>
                </a:move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Line 13"/>
          <p:cNvSpPr/>
          <p:nvPr/>
        </p:nvSpPr>
        <p:spPr>
          <a:xfrm flipV="1">
            <a:off x="5565600" y="5238360"/>
            <a:ext cx="0" cy="58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Freeform 14"/>
          <p:cNvSpPr/>
          <p:nvPr/>
        </p:nvSpPr>
        <p:spPr>
          <a:xfrm>
            <a:off x="5654520" y="5230800"/>
            <a:ext cx="579600" cy="96840"/>
          </a:xfrm>
          <a:custGeom>
            <a:avLst/>
            <a:gdLst>
              <a:gd name="textAreaLeft" fmla="*/ 0 w 579600"/>
              <a:gd name="textAreaRight" fmla="*/ 579960 w 57960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Freeform 15"/>
          <p:cNvSpPr/>
          <p:nvPr/>
        </p:nvSpPr>
        <p:spPr>
          <a:xfrm flipV="1">
            <a:off x="5654520" y="5355360"/>
            <a:ext cx="579600" cy="95400"/>
          </a:xfrm>
          <a:custGeom>
            <a:avLst/>
            <a:gdLst>
              <a:gd name="textAreaLeft" fmla="*/ 0 w 579600"/>
              <a:gd name="textAreaRight" fmla="*/ 579960 w 579600"/>
              <a:gd name="textAreaTop" fmla="*/ -360 h 95400"/>
              <a:gd name="textAreaBottom" fmla="*/ 95400 h 95400"/>
            </a:gdLst>
            <a:ahLst/>
            <a:rect l="textAreaLeft" t="textAreaTop" r="textAreaRight" b="textAreaBottom"/>
            <a:pathLst>
              <a:path w="254" h="38">
                <a:moveTo>
                  <a:pt x="0" y="0"/>
                </a:moveTo>
                <a:lnTo>
                  <a:pt x="23" y="3"/>
                </a:lnTo>
                <a:lnTo>
                  <a:pt x="41" y="14"/>
                </a:lnTo>
                <a:lnTo>
                  <a:pt x="53" y="29"/>
                </a:lnTo>
                <a:lnTo>
                  <a:pt x="68" y="36"/>
                </a:lnTo>
                <a:lnTo>
                  <a:pt x="104" y="38"/>
                </a:lnTo>
                <a:lnTo>
                  <a:pt x="254" y="35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8" name="Rectangle 16"/>
          <p:cNvSpPr/>
          <p:nvPr/>
        </p:nvSpPr>
        <p:spPr>
          <a:xfrm>
            <a:off x="6242040" y="5253120"/>
            <a:ext cx="30240" cy="189000"/>
          </a:xfrm>
          <a:prstGeom prst="rect">
            <a:avLst/>
          </a:prstGeom>
          <a:solidFill>
            <a:srgbClr val="5e574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9" name="Freeform 17"/>
          <p:cNvSpPr/>
          <p:nvPr/>
        </p:nvSpPr>
        <p:spPr>
          <a:xfrm>
            <a:off x="5478480" y="5060880"/>
            <a:ext cx="144360" cy="139680"/>
          </a:xfrm>
          <a:custGeom>
            <a:avLst/>
            <a:gdLst>
              <a:gd name="textAreaLeft" fmla="*/ 0 w 144360"/>
              <a:gd name="textAreaRight" fmla="*/ 144720 w 14436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63" h="56">
                <a:moveTo>
                  <a:pt x="0" y="15"/>
                </a:moveTo>
                <a:lnTo>
                  <a:pt x="12" y="0"/>
                </a:lnTo>
                <a:lnTo>
                  <a:pt x="63" y="56"/>
                </a:lnTo>
                <a:lnTo>
                  <a:pt x="36" y="53"/>
                </a:lnTo>
                <a:lnTo>
                  <a:pt x="0" y="15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0" name="Freeform 18"/>
          <p:cNvSpPr/>
          <p:nvPr/>
        </p:nvSpPr>
        <p:spPr>
          <a:xfrm>
            <a:off x="4697280" y="4689360"/>
            <a:ext cx="687600" cy="1127160"/>
          </a:xfrm>
          <a:custGeom>
            <a:avLst/>
            <a:gdLst>
              <a:gd name="textAreaLeft" fmla="*/ 0 w 687600"/>
              <a:gd name="textAreaRight" fmla="*/ 687960 w 687600"/>
              <a:gd name="textAreaTop" fmla="*/ 0 h 1127160"/>
              <a:gd name="textAreaBottom" fmla="*/ 1127520 h 1127160"/>
            </a:gdLst>
            <a:ahLst/>
            <a:rect l="textAreaLeft" t="textAreaTop" r="textAreaRight" b="textAreaBottom"/>
            <a:pathLst>
              <a:path w="301" h="451">
                <a:moveTo>
                  <a:pt x="94" y="0"/>
                </a:moveTo>
                <a:lnTo>
                  <a:pt x="0" y="103"/>
                </a:lnTo>
                <a:lnTo>
                  <a:pt x="0" y="451"/>
                </a:lnTo>
                <a:lnTo>
                  <a:pt x="301" y="45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1" name="Freeform 19"/>
          <p:cNvSpPr/>
          <p:nvPr/>
        </p:nvSpPr>
        <p:spPr>
          <a:xfrm>
            <a:off x="5014800" y="4319640"/>
            <a:ext cx="1228680" cy="1496880"/>
          </a:xfrm>
          <a:custGeom>
            <a:avLst/>
            <a:gdLst>
              <a:gd name="textAreaLeft" fmla="*/ 0 w 1228680"/>
              <a:gd name="textAreaRight" fmla="*/ 1229040 w 1228680"/>
              <a:gd name="textAreaTop" fmla="*/ 0 h 1496880"/>
              <a:gd name="textAreaBottom" fmla="*/ 1497240 h 1496880"/>
            </a:gdLst>
            <a:ahLst/>
            <a:rect l="textAreaLeft" t="textAreaTop" r="textAreaRight" b="textAreaBottom"/>
            <a:pathLst>
              <a:path w="539" h="600">
                <a:moveTo>
                  <a:pt x="245" y="599"/>
                </a:moveTo>
                <a:lnTo>
                  <a:pt x="539" y="600"/>
                </a:lnTo>
                <a:lnTo>
                  <a:pt x="539" y="185"/>
                </a:lnTo>
                <a:lnTo>
                  <a:pt x="439" y="0"/>
                </a:lnTo>
                <a:lnTo>
                  <a:pt x="83" y="0"/>
                </a:lnTo>
                <a:lnTo>
                  <a:pt x="0" y="99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2" name="Rectangle 21"/>
          <p:cNvSpPr/>
          <p:nvPr/>
        </p:nvSpPr>
        <p:spPr>
          <a:xfrm>
            <a:off x="5297400" y="5403960"/>
            <a:ext cx="357120" cy="88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3" name="Rectangle 22"/>
          <p:cNvSpPr/>
          <p:nvPr/>
        </p:nvSpPr>
        <p:spPr>
          <a:xfrm>
            <a:off x="5297400" y="5194440"/>
            <a:ext cx="357120" cy="87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4" name="Line 23"/>
          <p:cNvSpPr/>
          <p:nvPr/>
        </p:nvSpPr>
        <p:spPr>
          <a:xfrm>
            <a:off x="5348160" y="5819760"/>
            <a:ext cx="289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5" name="Line 24"/>
          <p:cNvSpPr/>
          <p:nvPr/>
        </p:nvSpPr>
        <p:spPr>
          <a:xfrm flipV="1">
            <a:off x="4900680" y="4555800"/>
            <a:ext cx="135000" cy="165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6" name="Rectangle 25"/>
          <p:cNvSpPr/>
          <p:nvPr/>
        </p:nvSpPr>
        <p:spPr>
          <a:xfrm>
            <a:off x="5066280" y="6049800"/>
            <a:ext cx="8326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cc66"/>
                </a:solidFill>
                <a:latin typeface="Arial Narrow"/>
                <a:ea typeface="MS PGothic"/>
              </a:rPr>
              <a:t>solutio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7" name="Freeform 26"/>
          <p:cNvSpPr/>
          <p:nvPr/>
        </p:nvSpPr>
        <p:spPr>
          <a:xfrm>
            <a:off x="6127920" y="4292640"/>
            <a:ext cx="1785600" cy="789120"/>
          </a:xfrm>
          <a:custGeom>
            <a:avLst/>
            <a:gdLst>
              <a:gd name="textAreaLeft" fmla="*/ 0 w 1785600"/>
              <a:gd name="textAreaRight" fmla="*/ 1785960 w 178560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783" h="316">
                <a:moveTo>
                  <a:pt x="0" y="96"/>
                </a:moveTo>
                <a:cubicBezTo>
                  <a:pt x="17" y="83"/>
                  <a:pt x="62" y="23"/>
                  <a:pt x="102" y="14"/>
                </a:cubicBezTo>
                <a:cubicBezTo>
                  <a:pt x="142" y="5"/>
                  <a:pt x="199" y="0"/>
                  <a:pt x="239" y="41"/>
                </a:cubicBezTo>
                <a:cubicBezTo>
                  <a:pt x="279" y="82"/>
                  <a:pt x="313" y="217"/>
                  <a:pt x="343" y="261"/>
                </a:cubicBezTo>
                <a:cubicBezTo>
                  <a:pt x="373" y="305"/>
                  <a:pt x="392" y="298"/>
                  <a:pt x="419" y="305"/>
                </a:cubicBezTo>
                <a:cubicBezTo>
                  <a:pt x="446" y="312"/>
                  <a:pt x="442" y="316"/>
                  <a:pt x="503" y="305"/>
                </a:cubicBezTo>
                <a:cubicBezTo>
                  <a:pt x="564" y="294"/>
                  <a:pt x="673" y="267"/>
                  <a:pt x="783" y="241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8" name="Freeform 27"/>
          <p:cNvSpPr/>
          <p:nvPr/>
        </p:nvSpPr>
        <p:spPr>
          <a:xfrm>
            <a:off x="6251400" y="4959360"/>
            <a:ext cx="1652760" cy="425520"/>
          </a:xfrm>
          <a:custGeom>
            <a:avLst/>
            <a:gdLst>
              <a:gd name="textAreaLeft" fmla="*/ 0 w 1652760"/>
              <a:gd name="textAreaRight" fmla="*/ 1653120 w 165276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724" h="171">
                <a:moveTo>
                  <a:pt x="0" y="156"/>
                </a:moveTo>
                <a:cubicBezTo>
                  <a:pt x="29" y="163"/>
                  <a:pt x="59" y="171"/>
                  <a:pt x="104" y="160"/>
                </a:cubicBezTo>
                <a:cubicBezTo>
                  <a:pt x="149" y="149"/>
                  <a:pt x="222" y="102"/>
                  <a:pt x="268" y="88"/>
                </a:cubicBezTo>
                <a:cubicBezTo>
                  <a:pt x="314" y="74"/>
                  <a:pt x="304" y="91"/>
                  <a:pt x="380" y="76"/>
                </a:cubicBezTo>
                <a:cubicBezTo>
                  <a:pt x="456" y="61"/>
                  <a:pt x="590" y="30"/>
                  <a:pt x="724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9" name="Rectangle 28"/>
          <p:cNvSpPr/>
          <p:nvPr/>
        </p:nvSpPr>
        <p:spPr>
          <a:xfrm>
            <a:off x="7590960" y="4581360"/>
            <a:ext cx="12243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Gothic"/>
              </a:rPr>
              <a:t>To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0" name="Rectangle 29"/>
          <p:cNvSpPr/>
          <p:nvPr/>
        </p:nvSpPr>
        <p:spPr>
          <a:xfrm>
            <a:off x="3385080" y="5211720"/>
            <a:ext cx="11116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Electrodes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1" name="Line 30"/>
          <p:cNvSpPr/>
          <p:nvPr/>
        </p:nvSpPr>
        <p:spPr>
          <a:xfrm flipV="1">
            <a:off x="4454640" y="5237280"/>
            <a:ext cx="812520" cy="1094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2" name="Line 31"/>
          <p:cNvSpPr/>
          <p:nvPr/>
        </p:nvSpPr>
        <p:spPr>
          <a:xfrm>
            <a:off x="4471920" y="5396040"/>
            <a:ext cx="795240" cy="41040"/>
          </a:xfrm>
          <a:prstGeom prst="line">
            <a:avLst/>
          </a:prstGeom>
          <a:ln w="12600">
            <a:solidFill>
              <a:srgbClr val="ff66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3" name="Text Box 32"/>
          <p:cNvSpPr/>
          <p:nvPr/>
        </p:nvSpPr>
        <p:spPr>
          <a:xfrm>
            <a:off x="6545160" y="5908680"/>
            <a:ext cx="157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Detection cel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33"/>
          <p:cNvSpPr/>
          <p:nvPr/>
        </p:nvSpPr>
        <p:spPr>
          <a:xfrm flipH="1" flipV="1">
            <a:off x="6291360" y="5825880"/>
            <a:ext cx="333360" cy="244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34"/>
          <p:cNvSpPr/>
          <p:nvPr/>
        </p:nvSpPr>
        <p:spPr>
          <a:xfrm>
            <a:off x="6111720" y="4413240"/>
            <a:ext cx="101880" cy="206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Rectangle 3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19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00"/>
                                        <p:tgtEl>
                                          <p:spTgt spid="1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b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8" name="Rectangle 5"/>
          <p:cNvSpPr/>
          <p:nvPr/>
        </p:nvSpPr>
        <p:spPr>
          <a:xfrm>
            <a:off x="68580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Conductivity detection ce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바로 전에 설치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분석 대상 이온 성분의 전도도 증폭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ffcc00"/>
                </a:solidFill>
                <a:latin typeface="Times New Roman"/>
                <a:ea typeface="MS PGothic"/>
              </a:rPr>
              <a:t>                                                    </a:t>
            </a:r>
            <a:r>
              <a:rPr b="1" lang="ko-KR" sz="2400" spc="-1" strike="noStrike">
                <a:solidFill>
                  <a:srgbClr val="ffcc00"/>
                </a:solidFill>
                <a:latin typeface="Times New Roman"/>
                <a:ea typeface="굴림"/>
              </a:rPr>
              <a:t>     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aise sensitivity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l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굴림"/>
              </a:rPr>
              <a:t>Background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MS PGothic"/>
              </a:rPr>
              <a:t>(Eluent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</a:t>
            </a:r>
            <a:r>
              <a:rPr b="1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도도 감소</a:t>
            </a:r>
            <a:r>
              <a:rPr b="1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                     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     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MS PGothic"/>
              </a:rPr>
              <a:t>Reduce noise</a:t>
            </a:r>
            <a:r>
              <a:rPr b="1" lang="en-US" sz="2400" spc="-1" strike="noStrike" u="sng">
                <a:solidFill>
                  <a:srgbClr val="009900"/>
                </a:solidFill>
                <a:uFillTx/>
                <a:latin typeface="Tahoma"/>
                <a:ea typeface="굴림"/>
              </a:rPr>
              <a:t> !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  <a:ea typeface="굴림"/>
              </a:rPr>
              <a:t>      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PGothic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PGothic"/>
              </a:rPr>
              <a:t>　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PGothic"/>
              </a:rPr>
              <a:t>CO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PGothic"/>
              </a:rPr>
              <a:t>3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9" name="Line 6"/>
          <p:cNvSpPr/>
          <p:nvPr/>
        </p:nvSpPr>
        <p:spPr>
          <a:xfrm>
            <a:off x="3689280" y="55976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0" name="Line 7"/>
          <p:cNvSpPr/>
          <p:nvPr/>
        </p:nvSpPr>
        <p:spPr>
          <a:xfrm>
            <a:off x="3174840" y="368604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1" name="Rectangle 8"/>
          <p:cNvSpPr/>
          <p:nvPr/>
        </p:nvSpPr>
        <p:spPr>
          <a:xfrm>
            <a:off x="1533600" y="5813280"/>
            <a:ext cx="39063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Na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+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,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H</a:t>
            </a:r>
            <a:r>
              <a:rPr b="1" lang="en-US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-</a:t>
            </a:r>
            <a:r>
              <a:rPr b="1" lang="ja-JP" sz="2400" spc="-1" strike="noStrike" baseline="30000">
                <a:solidFill>
                  <a:srgbClr val="ff0033"/>
                </a:solidFill>
                <a:latin typeface="Tahoma"/>
                <a:ea typeface="MS Mincho"/>
              </a:rPr>
              <a:t>　</a:t>
            </a:r>
            <a:r>
              <a:rPr b="1" lang="ja-JP" sz="2400" spc="-1" strike="noStrike">
                <a:solidFill>
                  <a:srgbClr val="ff0033"/>
                </a:solidFill>
                <a:latin typeface="Tahoma"/>
                <a:ea typeface="MS Mincho"/>
              </a:rPr>
              <a:t>　　　　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H</a:t>
            </a:r>
            <a:r>
              <a:rPr b="1" lang="en-US" sz="2400" spc="-1" strike="noStrike" baseline="-10000">
                <a:solidFill>
                  <a:srgbClr val="ff0033"/>
                </a:solidFill>
                <a:latin typeface="Tahoma"/>
                <a:ea typeface="MS Mincho"/>
              </a:rPr>
              <a:t>2</a:t>
            </a:r>
            <a:r>
              <a:rPr b="1" lang="en-US" sz="2400" spc="-1" strike="noStrike">
                <a:solidFill>
                  <a:srgbClr val="ff0033"/>
                </a:solidFill>
                <a:latin typeface="Tahoma"/>
                <a:ea typeface="MS Mincho"/>
              </a:rPr>
              <a:t>O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2" name="Line 9"/>
          <p:cNvSpPr/>
          <p:nvPr/>
        </p:nvSpPr>
        <p:spPr>
          <a:xfrm>
            <a:off x="3708360" y="6066000"/>
            <a:ext cx="746280" cy="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3" name="Rectangle 1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0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406440" y="260280"/>
            <a:ext cx="777240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c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Role of suppressor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5" name="Rectangle 5"/>
          <p:cNvSpPr/>
          <p:nvPr/>
        </p:nvSpPr>
        <p:spPr>
          <a:xfrm>
            <a:off x="1717560" y="1444680"/>
            <a:ext cx="209520" cy="34272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6" name="Rectangle 6"/>
          <p:cNvSpPr/>
          <p:nvPr/>
        </p:nvSpPr>
        <p:spPr>
          <a:xfrm>
            <a:off x="20034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7" name="Rectangle 7"/>
          <p:cNvSpPr/>
          <p:nvPr/>
        </p:nvSpPr>
        <p:spPr>
          <a:xfrm>
            <a:off x="228600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Rectangle 8"/>
          <p:cNvSpPr/>
          <p:nvPr/>
        </p:nvSpPr>
        <p:spPr>
          <a:xfrm>
            <a:off x="2565360" y="1444680"/>
            <a:ext cx="209520" cy="34272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Rectangle 9"/>
          <p:cNvSpPr/>
          <p:nvPr/>
        </p:nvSpPr>
        <p:spPr>
          <a:xfrm>
            <a:off x="2695680" y="1765440"/>
            <a:ext cx="5140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0" name="Group 10"/>
          <p:cNvGrpSpPr/>
          <p:nvPr/>
        </p:nvGrpSpPr>
        <p:grpSpPr>
          <a:xfrm>
            <a:off x="3062160" y="2717640"/>
            <a:ext cx="141120" cy="2184120"/>
            <a:chOff x="3062160" y="2717640"/>
            <a:chExt cx="141120" cy="2184120"/>
          </a:xfrm>
        </p:grpSpPr>
        <p:sp>
          <p:nvSpPr>
            <p:cNvPr id="1531" name="AutoShape 11"/>
            <p:cNvSpPr/>
            <p:nvPr/>
          </p:nvSpPr>
          <p:spPr>
            <a:xfrm>
              <a:off x="3062160" y="2717640"/>
              <a:ext cx="141120" cy="241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241200"/>
                <a:gd name="textAreaBottom" fmla="*/ 236160 h 241200"/>
              </a:gdLst>
              <a:ahLst/>
              <a:rect l="textAreaLeft" t="textAreaTop" r="textAreaRight" b="textAreaBottom"/>
              <a:pathLst>
                <a:path w="21600" h="36879">
                  <a:moveTo>
                    <a:pt x="2695" y="0"/>
                  </a:moveTo>
                  <a:arcTo wR="2695" hR="2695" stAng="16200000" swAng="-5400000"/>
                  <a:lnTo>
                    <a:pt x="0" y="34184"/>
                  </a:lnTo>
                  <a:arcTo wR="2695" hR="2695" stAng="10800000" swAng="-5400000"/>
                  <a:lnTo>
                    <a:pt x="18905" y="36879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2" name="AutoShape 12"/>
            <p:cNvSpPr/>
            <p:nvPr/>
          </p:nvSpPr>
          <p:spPr>
            <a:xfrm>
              <a:off x="3062160" y="3247560"/>
              <a:ext cx="141120" cy="1654200"/>
            </a:xfrm>
            <a:custGeom>
              <a:avLst/>
              <a:gdLst>
                <a:gd name="textAreaLeft" fmla="*/ 5040 w 141120"/>
                <a:gd name="textAreaRight" fmla="*/ 136080 w 141120"/>
                <a:gd name="textAreaTop" fmla="*/ 5040 h 1654200"/>
                <a:gd name="textAreaBottom" fmla="*/ 1649160 h 1654200"/>
              </a:gdLst>
              <a:ahLst/>
              <a:rect l="textAreaLeft" t="textAreaTop" r="textAreaRight" b="textAreaBottom"/>
              <a:pathLst>
                <a:path w="21600" h="252605">
                  <a:moveTo>
                    <a:pt x="2695" y="0"/>
                  </a:moveTo>
                  <a:arcTo wR="2695" hR="2695" stAng="16200000" swAng="-5400000"/>
                  <a:lnTo>
                    <a:pt x="0" y="249910"/>
                  </a:lnTo>
                  <a:arcTo wR="2695" hR="2695" stAng="10800000" swAng="-5400000"/>
                  <a:lnTo>
                    <a:pt x="18905" y="252605"/>
                  </a:lnTo>
                  <a:arcTo wR="2695" hR="2695" stAng="5400000" swAng="-5400000"/>
                  <a:lnTo>
                    <a:pt x="21600" y="2695"/>
                  </a:lnTo>
                  <a:arcTo wR="2695" hR="2695" stAng="0" swAng="-5400000"/>
                  <a:close/>
                </a:path>
              </a:pathLst>
            </a:custGeom>
            <a:solidFill>
              <a:srgbClr val="0066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13"/>
            <p:cNvSpPr/>
            <p:nvPr/>
          </p:nvSpPr>
          <p:spPr>
            <a:xfrm>
              <a:off x="3130200" y="2973240"/>
              <a:ext cx="0" cy="26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4" name="Rectangle 14"/>
          <p:cNvSpPr/>
          <p:nvPr/>
        </p:nvSpPr>
        <p:spPr>
          <a:xfrm>
            <a:off x="1690560" y="2160720"/>
            <a:ext cx="478080" cy="711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5" name="Oval 15"/>
          <p:cNvSpPr/>
          <p:nvPr/>
        </p:nvSpPr>
        <p:spPr>
          <a:xfrm>
            <a:off x="1754280" y="2489040"/>
            <a:ext cx="1332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6" name="Oval 16"/>
          <p:cNvSpPr/>
          <p:nvPr/>
        </p:nvSpPr>
        <p:spPr>
          <a:xfrm>
            <a:off x="1962000" y="2489040"/>
            <a:ext cx="135000" cy="13500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7" name="Oval 17"/>
          <p:cNvSpPr/>
          <p:nvPr/>
        </p:nvSpPr>
        <p:spPr>
          <a:xfrm>
            <a:off x="1860480" y="2228760"/>
            <a:ext cx="130320" cy="1335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8" name="Rectangle 18"/>
          <p:cNvSpPr/>
          <p:nvPr/>
        </p:nvSpPr>
        <p:spPr>
          <a:xfrm>
            <a:off x="1849320" y="2732040"/>
            <a:ext cx="146160" cy="111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5640" bIns="-35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9" name="Group 19"/>
          <p:cNvGrpSpPr/>
          <p:nvPr/>
        </p:nvGrpSpPr>
        <p:grpSpPr>
          <a:xfrm>
            <a:off x="1817640" y="2637000"/>
            <a:ext cx="19080" cy="104760"/>
            <a:chOff x="1817640" y="2637000"/>
            <a:chExt cx="19080" cy="104760"/>
          </a:xfrm>
        </p:grpSpPr>
        <p:sp>
          <p:nvSpPr>
            <p:cNvPr id="1540" name="Line 20"/>
            <p:cNvSpPr/>
            <p:nvPr/>
          </p:nvSpPr>
          <p:spPr>
            <a:xfrm>
              <a:off x="1817640" y="2637000"/>
              <a:ext cx="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1" name="Line 21"/>
            <p:cNvSpPr/>
            <p:nvPr/>
          </p:nvSpPr>
          <p:spPr>
            <a:xfrm>
              <a:off x="1820880" y="2739960"/>
              <a:ext cx="1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2" name="Group 22"/>
          <p:cNvGrpSpPr/>
          <p:nvPr/>
        </p:nvGrpSpPr>
        <p:grpSpPr>
          <a:xfrm>
            <a:off x="2009880" y="2637000"/>
            <a:ext cx="19080" cy="104760"/>
            <a:chOff x="2009880" y="2637000"/>
            <a:chExt cx="19080" cy="104760"/>
          </a:xfrm>
        </p:grpSpPr>
        <p:sp>
          <p:nvSpPr>
            <p:cNvPr id="1543" name="Line 23"/>
            <p:cNvSpPr/>
            <p:nvPr/>
          </p:nvSpPr>
          <p:spPr>
            <a:xfrm>
              <a:off x="2027160" y="2637000"/>
              <a:ext cx="180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44" name="Line 24"/>
            <p:cNvSpPr/>
            <p:nvPr/>
          </p:nvSpPr>
          <p:spPr>
            <a:xfrm flipH="1">
              <a:off x="2009880" y="2739960"/>
              <a:ext cx="17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45" name="Freeform 25"/>
          <p:cNvSpPr/>
          <p:nvPr/>
        </p:nvSpPr>
        <p:spPr>
          <a:xfrm>
            <a:off x="181764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0" y="123"/>
                </a:move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6" name="Freeform 26"/>
          <p:cNvSpPr/>
          <p:nvPr/>
        </p:nvSpPr>
        <p:spPr>
          <a:xfrm>
            <a:off x="2008080" y="2290680"/>
            <a:ext cx="27000" cy="196920"/>
          </a:xfrm>
          <a:custGeom>
            <a:avLst/>
            <a:gdLst>
              <a:gd name="textAreaLeft" fmla="*/ 0 w 27000"/>
              <a:gd name="textAreaRight" fmla="*/ 27360 w 27000"/>
              <a:gd name="textAreaTop" fmla="*/ 0 h 196920"/>
              <a:gd name="textAreaBottom" fmla="*/ 197280 h 196920"/>
            </a:gdLst>
            <a:ahLst/>
            <a:rect l="textAreaLeft" t="textAreaTop" r="textAreaRight" b="textAreaBottom"/>
            <a:pathLst>
              <a:path w="17" h="124">
                <a:moveTo>
                  <a:pt x="16" y="123"/>
                </a:moveTo>
                <a:lnTo>
                  <a:pt x="1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7" name="Line 27"/>
          <p:cNvSpPr/>
          <p:nvPr/>
        </p:nvSpPr>
        <p:spPr>
          <a:xfrm>
            <a:off x="1927080" y="2247840"/>
            <a:ext cx="782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8" name="Freeform 28"/>
          <p:cNvSpPr/>
          <p:nvPr/>
        </p:nvSpPr>
        <p:spPr>
          <a:xfrm>
            <a:off x="1468440" y="2763720"/>
            <a:ext cx="455760" cy="54000"/>
          </a:xfrm>
          <a:custGeom>
            <a:avLst/>
            <a:gdLst>
              <a:gd name="textAreaLeft" fmla="*/ 0 w 455760"/>
              <a:gd name="textAreaRight" fmla="*/ 456120 w 45576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287" h="34">
                <a:moveTo>
                  <a:pt x="286" y="0"/>
                </a:moveTo>
                <a:lnTo>
                  <a:pt x="286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9" name="Oval 29"/>
          <p:cNvSpPr/>
          <p:nvPr/>
        </p:nvSpPr>
        <p:spPr>
          <a:xfrm>
            <a:off x="2641680" y="2179800"/>
            <a:ext cx="264960" cy="26820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0" name="Freeform 30"/>
          <p:cNvSpPr/>
          <p:nvPr/>
        </p:nvSpPr>
        <p:spPr>
          <a:xfrm>
            <a:off x="2494080" y="2036880"/>
            <a:ext cx="423720" cy="398520"/>
          </a:xfrm>
          <a:custGeom>
            <a:avLst/>
            <a:gdLst>
              <a:gd name="textAreaLeft" fmla="*/ 0 w 423720"/>
              <a:gd name="textAreaRight" fmla="*/ 424080 w 423720"/>
              <a:gd name="textAreaTop" fmla="*/ 0 h 398520"/>
              <a:gd name="textAreaBottom" fmla="*/ 398880 h 398520"/>
            </a:gdLst>
            <a:ahLst/>
            <a:rect l="textAreaLeft" t="textAreaTop" r="textAreaRight" b="textAreaBottom"/>
            <a:pathLst>
              <a:path w="267" h="251">
                <a:moveTo>
                  <a:pt x="216" y="133"/>
                </a:moveTo>
                <a:lnTo>
                  <a:pt x="266" y="83"/>
                </a:lnTo>
                <a:lnTo>
                  <a:pt x="182" y="0"/>
                </a:lnTo>
                <a:lnTo>
                  <a:pt x="99" y="0"/>
                </a:lnTo>
                <a:lnTo>
                  <a:pt x="0" y="100"/>
                </a:lnTo>
                <a:lnTo>
                  <a:pt x="0" y="166"/>
                </a:lnTo>
                <a:lnTo>
                  <a:pt x="83" y="250"/>
                </a:lnTo>
                <a:lnTo>
                  <a:pt x="133" y="200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1" name="Freeform 31"/>
          <p:cNvSpPr/>
          <p:nvPr/>
        </p:nvSpPr>
        <p:spPr>
          <a:xfrm>
            <a:off x="1463760" y="1104840"/>
            <a:ext cx="1220760" cy="1712880"/>
          </a:xfrm>
          <a:custGeom>
            <a:avLst/>
            <a:gdLst>
              <a:gd name="textAreaLeft" fmla="*/ 0 w 1220760"/>
              <a:gd name="textAreaRight" fmla="*/ 1220760 w 1220760"/>
              <a:gd name="textAreaTop" fmla="*/ 0 h 1712880"/>
              <a:gd name="textAreaBottom" fmla="*/ 1713240 h 1712880"/>
            </a:gdLst>
            <a:ahLst/>
            <a:rect l="textAreaLeft" t="textAreaTop" r="textAreaRight" b="textAreaBottom"/>
            <a:pathLst>
              <a:path w="769" h="1079">
                <a:moveTo>
                  <a:pt x="768" y="0"/>
                </a:moveTo>
                <a:lnTo>
                  <a:pt x="0" y="0"/>
                </a:lnTo>
                <a:lnTo>
                  <a:pt x="0" y="1078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2" name="Freeform 32"/>
          <p:cNvSpPr/>
          <p:nvPr/>
        </p:nvSpPr>
        <p:spPr>
          <a:xfrm>
            <a:off x="2835360" y="2400480"/>
            <a:ext cx="306360" cy="306360"/>
          </a:xfrm>
          <a:custGeom>
            <a:avLst/>
            <a:gdLst/>
            <a:ahLst/>
            <a:rect l="l" t="t" r="r" b="b"/>
            <a:pathLst>
              <a:path w="193" h="193">
                <a:moveTo>
                  <a:pt x="0" y="0"/>
                </a:moveTo>
                <a:lnTo>
                  <a:pt x="192" y="0"/>
                </a:lnTo>
                <a:lnTo>
                  <a:pt x="192" y="19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53" name="Group 33"/>
          <p:cNvGrpSpPr/>
          <p:nvPr/>
        </p:nvGrpSpPr>
        <p:grpSpPr>
          <a:xfrm>
            <a:off x="1996920" y="4915080"/>
            <a:ext cx="1373040" cy="1601640"/>
            <a:chOff x="1996920" y="4915080"/>
            <a:chExt cx="1373040" cy="1601640"/>
          </a:xfrm>
        </p:grpSpPr>
        <p:sp>
          <p:nvSpPr>
            <p:cNvPr id="1554" name="Freeform 34"/>
            <p:cNvSpPr/>
            <p:nvPr/>
          </p:nvSpPr>
          <p:spPr>
            <a:xfrm>
              <a:off x="2825640" y="4915080"/>
              <a:ext cx="315720" cy="382320"/>
            </a:xfrm>
            <a:custGeom>
              <a:avLst/>
              <a:gdLst>
                <a:gd name="textAreaLeft" fmla="*/ 0 w 315720"/>
                <a:gd name="textAreaRight" fmla="*/ 316080 w 315720"/>
                <a:gd name="textAreaTop" fmla="*/ 0 h 382320"/>
                <a:gd name="textAreaBottom" fmla="*/ 382680 h 382320"/>
              </a:gdLst>
              <a:ahLst/>
              <a:rect l="textAreaLeft" t="textAreaTop" r="textAreaRight" b="textAreaBottom"/>
              <a:pathLst>
                <a:path w="199" h="241">
                  <a:moveTo>
                    <a:pt x="198" y="0"/>
                  </a:moveTo>
                  <a:lnTo>
                    <a:pt x="198" y="240"/>
                  </a:lnTo>
                  <a:lnTo>
                    <a:pt x="0" y="2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5" name="Freeform 35"/>
            <p:cNvSpPr/>
            <p:nvPr/>
          </p:nvSpPr>
          <p:spPr>
            <a:xfrm>
              <a:off x="2804760" y="5729400"/>
              <a:ext cx="336600" cy="330120"/>
            </a:xfrm>
            <a:custGeom>
              <a:avLst/>
              <a:gdLst>
                <a:gd name="textAreaLeft" fmla="*/ 0 w 336600"/>
                <a:gd name="textAreaRight" fmla="*/ 336960 w 33660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212" h="208">
                  <a:moveTo>
                    <a:pt x="211" y="207"/>
                  </a:moveTo>
                  <a:lnTo>
                    <a:pt x="211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6" name="Rectangle 36"/>
            <p:cNvSpPr/>
            <p:nvPr/>
          </p:nvSpPr>
          <p:spPr>
            <a:xfrm>
              <a:off x="2598480" y="5130720"/>
              <a:ext cx="223920" cy="787680"/>
            </a:xfrm>
            <a:prstGeom prst="rect">
              <a:avLst/>
            </a:prstGeom>
            <a:solidFill>
              <a:srgbClr val="a2a2a9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7" name="Group 37"/>
            <p:cNvGrpSpPr/>
            <p:nvPr/>
          </p:nvGrpSpPr>
          <p:grpSpPr>
            <a:xfrm>
              <a:off x="3036600" y="6051600"/>
              <a:ext cx="196920" cy="196920"/>
              <a:chOff x="3036600" y="6051600"/>
              <a:chExt cx="196920" cy="196920"/>
            </a:xfrm>
          </p:grpSpPr>
          <p:sp>
            <p:nvSpPr>
              <p:cNvPr id="1558" name="Oval 38"/>
              <p:cNvSpPr/>
              <p:nvPr/>
            </p:nvSpPr>
            <p:spPr>
              <a:xfrm>
                <a:off x="3036600" y="6051600"/>
                <a:ext cx="196920" cy="1969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9" name="Line 39"/>
              <p:cNvSpPr/>
              <p:nvPr/>
            </p:nvSpPr>
            <p:spPr>
              <a:xfrm>
                <a:off x="319068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0" name="Line 40"/>
              <p:cNvSpPr/>
              <p:nvPr/>
            </p:nvSpPr>
            <p:spPr>
              <a:xfrm>
                <a:off x="3079440" y="6060960"/>
                <a:ext cx="0" cy="1828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1" name="Freeform 41"/>
            <p:cNvSpPr/>
            <p:nvPr/>
          </p:nvSpPr>
          <p:spPr>
            <a:xfrm>
              <a:off x="2835000" y="5829480"/>
              <a:ext cx="534960" cy="687240"/>
            </a:xfrm>
            <a:custGeom>
              <a:avLst/>
              <a:gdLst>
                <a:gd name="textAreaLeft" fmla="*/ 0 w 534960"/>
                <a:gd name="textAreaRight" fmla="*/ 535320 w 534960"/>
                <a:gd name="textAreaTop" fmla="*/ 0 h 687240"/>
                <a:gd name="textAreaBottom" fmla="*/ 687600 h 687240"/>
              </a:gdLst>
              <a:ahLst/>
              <a:rect l="textAreaLeft" t="textAreaTop" r="textAreaRight" b="textAreaBottom"/>
              <a:pathLst>
                <a:path w="337" h="433">
                  <a:moveTo>
                    <a:pt x="192" y="288"/>
                  </a:moveTo>
                  <a:lnTo>
                    <a:pt x="192" y="432"/>
                  </a:lnTo>
                  <a:lnTo>
                    <a:pt x="336" y="432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2" name="Freeform 42"/>
            <p:cNvSpPr/>
            <p:nvPr/>
          </p:nvSpPr>
          <p:spPr>
            <a:xfrm>
              <a:off x="1996920" y="4915080"/>
              <a:ext cx="915840" cy="306360"/>
            </a:xfrm>
            <a:custGeom>
              <a:avLst/>
              <a:gdLst>
                <a:gd name="textAreaLeft" fmla="*/ 0 w 915840"/>
                <a:gd name="textAreaRight" fmla="*/ 916200 w 915840"/>
                <a:gd name="textAreaTop" fmla="*/ 0 h 306360"/>
                <a:gd name="textAreaBottom" fmla="*/ 306360 h 306360"/>
              </a:gdLst>
              <a:ahLst/>
              <a:rect l="textAreaLeft" t="textAreaTop" r="textAreaRight" b="textAreaBottom"/>
              <a:pathLst>
                <a:path w="577" h="193">
                  <a:moveTo>
                    <a:pt x="528" y="192"/>
                  </a:moveTo>
                  <a:lnTo>
                    <a:pt x="576" y="192"/>
                  </a:lnTo>
                  <a:lnTo>
                    <a:pt x="576" y="0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3" name="Rectangle 43"/>
          <p:cNvSpPr/>
          <p:nvPr/>
        </p:nvSpPr>
        <p:spPr>
          <a:xfrm>
            <a:off x="1187280" y="4743360"/>
            <a:ext cx="863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Wast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4" name="Group 44"/>
          <p:cNvGrpSpPr/>
          <p:nvPr/>
        </p:nvGrpSpPr>
        <p:grpSpPr>
          <a:xfrm>
            <a:off x="1716120" y="1281240"/>
            <a:ext cx="218520" cy="509400"/>
            <a:chOff x="1716120" y="1281240"/>
            <a:chExt cx="218520" cy="509400"/>
          </a:xfrm>
        </p:grpSpPr>
        <p:sp>
          <p:nvSpPr>
            <p:cNvPr id="1565" name="Freeform 45"/>
            <p:cNvSpPr/>
            <p:nvPr/>
          </p:nvSpPr>
          <p:spPr>
            <a:xfrm>
              <a:off x="1716120" y="1281240"/>
              <a:ext cx="163080" cy="509400"/>
            </a:xfrm>
            <a:custGeom>
              <a:avLst/>
              <a:gdLst>
                <a:gd name="textAreaLeft" fmla="*/ 0 w 163080"/>
                <a:gd name="textAreaRight" fmla="*/ 163440 w 16308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6" name="Freeform 46"/>
            <p:cNvSpPr/>
            <p:nvPr/>
          </p:nvSpPr>
          <p:spPr>
            <a:xfrm>
              <a:off x="17730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67" name="Line 47"/>
          <p:cNvSpPr/>
          <p:nvPr/>
        </p:nvSpPr>
        <p:spPr>
          <a:xfrm flipV="1">
            <a:off x="183024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68" name="Group 48"/>
          <p:cNvGrpSpPr/>
          <p:nvPr/>
        </p:nvGrpSpPr>
        <p:grpSpPr>
          <a:xfrm>
            <a:off x="2565360" y="1281240"/>
            <a:ext cx="220680" cy="509400"/>
            <a:chOff x="2565360" y="1281240"/>
            <a:chExt cx="220680" cy="509400"/>
          </a:xfrm>
        </p:grpSpPr>
        <p:sp>
          <p:nvSpPr>
            <p:cNvPr id="1569" name="Freeform 49"/>
            <p:cNvSpPr/>
            <p:nvPr/>
          </p:nvSpPr>
          <p:spPr>
            <a:xfrm>
              <a:off x="2565360" y="1281240"/>
              <a:ext cx="165240" cy="509400"/>
            </a:xfrm>
            <a:custGeom>
              <a:avLst/>
              <a:gdLst>
                <a:gd name="textAreaLeft" fmla="*/ 0 w 165240"/>
                <a:gd name="textAreaRight" fmla="*/ 165600 w 1652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4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3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0" name="Freeform 50"/>
            <p:cNvSpPr/>
            <p:nvPr/>
          </p:nvSpPr>
          <p:spPr>
            <a:xfrm>
              <a:off x="26244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1" name="Line 51"/>
          <p:cNvSpPr/>
          <p:nvPr/>
        </p:nvSpPr>
        <p:spPr>
          <a:xfrm flipV="1">
            <a:off x="26812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2" name="Group 52"/>
          <p:cNvGrpSpPr/>
          <p:nvPr/>
        </p:nvGrpSpPr>
        <p:grpSpPr>
          <a:xfrm>
            <a:off x="1996920" y="1281240"/>
            <a:ext cx="218880" cy="509400"/>
            <a:chOff x="1996920" y="1281240"/>
            <a:chExt cx="218880" cy="509400"/>
          </a:xfrm>
        </p:grpSpPr>
        <p:sp>
          <p:nvSpPr>
            <p:cNvPr id="1573" name="Freeform 53"/>
            <p:cNvSpPr/>
            <p:nvPr/>
          </p:nvSpPr>
          <p:spPr>
            <a:xfrm>
              <a:off x="199692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Freeform 54"/>
            <p:cNvSpPr/>
            <p:nvPr/>
          </p:nvSpPr>
          <p:spPr>
            <a:xfrm>
              <a:off x="2053800" y="1281240"/>
              <a:ext cx="162000" cy="509400"/>
            </a:xfrm>
            <a:custGeom>
              <a:avLst/>
              <a:gdLst>
                <a:gd name="textAreaLeft" fmla="*/ 0 w 162000"/>
                <a:gd name="textAreaRight" fmla="*/ 162360 w 16200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5" name="Line 55"/>
          <p:cNvSpPr/>
          <p:nvPr/>
        </p:nvSpPr>
        <p:spPr>
          <a:xfrm flipV="1">
            <a:off x="211140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76" name="Group 56"/>
          <p:cNvGrpSpPr/>
          <p:nvPr/>
        </p:nvGrpSpPr>
        <p:grpSpPr>
          <a:xfrm>
            <a:off x="2284560" y="1281240"/>
            <a:ext cx="218880" cy="509400"/>
            <a:chOff x="2284560" y="1281240"/>
            <a:chExt cx="218880" cy="509400"/>
          </a:xfrm>
        </p:grpSpPr>
        <p:sp>
          <p:nvSpPr>
            <p:cNvPr id="1577" name="Freeform 57"/>
            <p:cNvSpPr/>
            <p:nvPr/>
          </p:nvSpPr>
          <p:spPr>
            <a:xfrm>
              <a:off x="2284560" y="1281240"/>
              <a:ext cx="163440" cy="509400"/>
            </a:xfrm>
            <a:custGeom>
              <a:avLst/>
              <a:gdLst>
                <a:gd name="textAreaLeft" fmla="*/ 0 w 163440"/>
                <a:gd name="textAreaRight" fmla="*/ 163800 w 1634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3" h="321">
                  <a:moveTo>
                    <a:pt x="48" y="0"/>
                  </a:moveTo>
                  <a:lnTo>
                    <a:pt x="48" y="15"/>
                  </a:lnTo>
                  <a:lnTo>
                    <a:pt x="36" y="15"/>
                  </a:lnTo>
                  <a:lnTo>
                    <a:pt x="0" y="60"/>
                  </a:lnTo>
                  <a:lnTo>
                    <a:pt x="0" y="312"/>
                  </a:lnTo>
                  <a:lnTo>
                    <a:pt x="6" y="320"/>
                  </a:lnTo>
                  <a:lnTo>
                    <a:pt x="102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Freeform 58"/>
            <p:cNvSpPr/>
            <p:nvPr/>
          </p:nvSpPr>
          <p:spPr>
            <a:xfrm>
              <a:off x="2341800" y="1281240"/>
              <a:ext cx="161640" cy="509400"/>
            </a:xfrm>
            <a:custGeom>
              <a:avLst/>
              <a:gdLst>
                <a:gd name="textAreaLeft" fmla="*/ 0 w 161640"/>
                <a:gd name="textAreaRight" fmla="*/ 162000 w 161640"/>
                <a:gd name="textAreaTop" fmla="*/ 0 h 509400"/>
                <a:gd name="textAreaBottom" fmla="*/ 509400 h 509400"/>
              </a:gdLst>
              <a:ahLst/>
              <a:rect l="textAreaLeft" t="textAreaTop" r="textAreaRight" b="textAreaBottom"/>
              <a:pathLst>
                <a:path w="102" h="321">
                  <a:moveTo>
                    <a:pt x="53" y="0"/>
                  </a:moveTo>
                  <a:lnTo>
                    <a:pt x="53" y="15"/>
                  </a:lnTo>
                  <a:lnTo>
                    <a:pt x="65" y="15"/>
                  </a:lnTo>
                  <a:lnTo>
                    <a:pt x="101" y="60"/>
                  </a:lnTo>
                  <a:lnTo>
                    <a:pt x="101" y="312"/>
                  </a:lnTo>
                  <a:lnTo>
                    <a:pt x="95" y="320"/>
                  </a:lnTo>
                  <a:lnTo>
                    <a:pt x="0" y="32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79" name="Line 59"/>
          <p:cNvSpPr/>
          <p:nvPr/>
        </p:nvSpPr>
        <p:spPr>
          <a:xfrm flipV="1">
            <a:off x="2398680" y="1104480"/>
            <a:ext cx="0" cy="6685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80" name="Group 60"/>
          <p:cNvGrpSpPr/>
          <p:nvPr/>
        </p:nvGrpSpPr>
        <p:grpSpPr>
          <a:xfrm>
            <a:off x="3294000" y="1052640"/>
            <a:ext cx="4467240" cy="1774440"/>
            <a:chOff x="3294000" y="1052640"/>
            <a:chExt cx="4467240" cy="1774440"/>
          </a:xfrm>
        </p:grpSpPr>
        <p:sp>
          <p:nvSpPr>
            <p:cNvPr id="1581" name="Line 61"/>
            <p:cNvSpPr/>
            <p:nvPr/>
          </p:nvSpPr>
          <p:spPr>
            <a:xfrm flipV="1">
              <a:off x="3294000" y="2003400"/>
              <a:ext cx="912960" cy="517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82" name="Group 62"/>
            <p:cNvGrpSpPr/>
            <p:nvPr/>
          </p:nvGrpSpPr>
          <p:grpSpPr>
            <a:xfrm>
              <a:off x="4174560" y="1052640"/>
              <a:ext cx="3586680" cy="1774440"/>
              <a:chOff x="4174560" y="1052640"/>
              <a:chExt cx="3586680" cy="1774440"/>
            </a:xfrm>
          </p:grpSpPr>
          <p:sp>
            <p:nvSpPr>
              <p:cNvPr id="1583" name="Rectangle 63"/>
              <p:cNvSpPr/>
              <p:nvPr/>
            </p:nvSpPr>
            <p:spPr>
              <a:xfrm>
                <a:off x="5187600" y="182088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4" name="Rectangle 64"/>
              <p:cNvSpPr/>
              <p:nvPr/>
            </p:nvSpPr>
            <p:spPr>
              <a:xfrm>
                <a:off x="5108400" y="1052640"/>
                <a:ext cx="1339920" cy="59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,NaCl,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,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5" name="Line 65"/>
              <p:cNvSpPr/>
              <p:nvPr/>
            </p:nvSpPr>
            <p:spPr>
              <a:xfrm flipV="1">
                <a:off x="4869000" y="1273320"/>
                <a:ext cx="244440" cy="10152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86" name="Freeform 66"/>
              <p:cNvSpPr/>
              <p:nvPr/>
            </p:nvSpPr>
            <p:spPr>
              <a:xfrm>
                <a:off x="4489560" y="1330560"/>
                <a:ext cx="3271680" cy="377640"/>
              </a:xfrm>
              <a:custGeom>
                <a:avLst/>
                <a:gdLst>
                  <a:gd name="textAreaLeft" fmla="*/ 0 w 3271680"/>
                  <a:gd name="textAreaRight" fmla="*/ 3272040 w 327168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061" h="238">
                    <a:moveTo>
                      <a:pt x="0" y="237"/>
                    </a:moveTo>
                    <a:lnTo>
                      <a:pt x="94" y="237"/>
                    </a:lnTo>
                    <a:lnTo>
                      <a:pt x="110" y="0"/>
                    </a:lnTo>
                    <a:lnTo>
                      <a:pt x="181" y="0"/>
                    </a:lnTo>
                    <a:lnTo>
                      <a:pt x="252" y="237"/>
                    </a:lnTo>
                    <a:lnTo>
                      <a:pt x="2060" y="237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87" name="Group 67"/>
              <p:cNvGrpSpPr/>
              <p:nvPr/>
            </p:nvGrpSpPr>
            <p:grpSpPr>
              <a:xfrm>
                <a:off x="4340880" y="1111320"/>
                <a:ext cx="3396600" cy="1715760"/>
                <a:chOff x="4340880" y="1111320"/>
                <a:chExt cx="3396600" cy="1715760"/>
              </a:xfrm>
            </p:grpSpPr>
            <p:sp>
              <p:nvSpPr>
                <p:cNvPr id="1588" name="Line 68"/>
                <p:cNvSpPr/>
                <p:nvPr/>
              </p:nvSpPr>
              <p:spPr>
                <a:xfrm>
                  <a:off x="4473720" y="2592360"/>
                  <a:ext cx="3263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589" name="Group 69"/>
                <p:cNvGrpSpPr/>
                <p:nvPr/>
              </p:nvGrpSpPr>
              <p:grpSpPr>
                <a:xfrm>
                  <a:off x="4340880" y="1111320"/>
                  <a:ext cx="279720" cy="1495440"/>
                  <a:chOff x="4340880" y="1111320"/>
                  <a:chExt cx="279720" cy="1495440"/>
                </a:xfrm>
              </p:grpSpPr>
              <p:sp>
                <p:nvSpPr>
                  <p:cNvPr id="1590" name="Line 70"/>
                  <p:cNvSpPr/>
                  <p:nvPr/>
                </p:nvSpPr>
                <p:spPr>
                  <a:xfrm>
                    <a:off x="4471920" y="111132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1" name="Line 71"/>
                  <p:cNvSpPr/>
                  <p:nvPr/>
                </p:nvSpPr>
                <p:spPr>
                  <a:xfrm>
                    <a:off x="4471920" y="224784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2" name="Text Box 72"/>
                  <p:cNvSpPr/>
                  <p:nvPr/>
                </p:nvSpPr>
                <p:spPr>
                  <a:xfrm>
                    <a:off x="4340880" y="202104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3" name="Text Box 73"/>
                  <p:cNvSpPr/>
                  <p:nvPr/>
                </p:nvSpPr>
                <p:spPr>
                  <a:xfrm>
                    <a:off x="4340880" y="208440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594" name="Rectangle 74"/>
                <p:cNvSpPr/>
                <p:nvPr/>
              </p:nvSpPr>
              <p:spPr>
                <a:xfrm>
                  <a:off x="5677560" y="257040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95" name="Line 75"/>
              <p:cNvSpPr/>
              <p:nvPr/>
            </p:nvSpPr>
            <p:spPr>
              <a:xfrm>
                <a:off x="6639120" y="2268720"/>
                <a:ext cx="0" cy="311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6" name="Line 76"/>
              <p:cNvSpPr/>
              <p:nvPr/>
            </p:nvSpPr>
            <p:spPr>
              <a:xfrm>
                <a:off x="6639120" y="1703520"/>
                <a:ext cx="0" cy="1587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7" name="Text Box 77"/>
              <p:cNvSpPr/>
              <p:nvPr/>
            </p:nvSpPr>
            <p:spPr>
              <a:xfrm>
                <a:off x="4174560" y="131364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598" name="Group 78"/>
          <p:cNvGrpSpPr/>
          <p:nvPr/>
        </p:nvGrpSpPr>
        <p:grpSpPr>
          <a:xfrm>
            <a:off x="3218040" y="3068640"/>
            <a:ext cx="4609080" cy="2095200"/>
            <a:chOff x="3218040" y="3068640"/>
            <a:chExt cx="4609080" cy="2095200"/>
          </a:xfrm>
        </p:grpSpPr>
        <p:sp>
          <p:nvSpPr>
            <p:cNvPr id="1599" name="Line 79"/>
            <p:cNvSpPr/>
            <p:nvPr/>
          </p:nvSpPr>
          <p:spPr>
            <a:xfrm flipV="1">
              <a:off x="3218040" y="3960360"/>
              <a:ext cx="1001160" cy="12034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00" name="Group 80"/>
            <p:cNvGrpSpPr/>
            <p:nvPr/>
          </p:nvGrpSpPr>
          <p:grpSpPr>
            <a:xfrm>
              <a:off x="4173840" y="3068640"/>
              <a:ext cx="3653280" cy="1715760"/>
              <a:chOff x="4173840" y="3068640"/>
              <a:chExt cx="3653280" cy="1715760"/>
            </a:xfrm>
          </p:grpSpPr>
          <p:sp>
            <p:nvSpPr>
              <p:cNvPr id="1601" name="Freeform 81"/>
              <p:cNvSpPr/>
              <p:nvPr/>
            </p:nvSpPr>
            <p:spPr>
              <a:xfrm>
                <a:off x="4473000" y="3260520"/>
                <a:ext cx="3354120" cy="1144800"/>
              </a:xfrm>
              <a:custGeom>
                <a:avLst/>
                <a:gdLst>
                  <a:gd name="textAreaLeft" fmla="*/ 0 w 3354120"/>
                  <a:gd name="textAreaRight" fmla="*/ 3354480 w 3354120"/>
                  <a:gd name="textAreaTop" fmla="*/ 0 h 1144800"/>
                  <a:gd name="textAreaBottom" fmla="*/ 1145160 h 1144800"/>
                </a:gdLst>
                <a:ahLst/>
                <a:rect l="textAreaLeft" t="textAreaTop" r="textAreaRight" b="textAreaBottom"/>
                <a:pathLst>
                  <a:path w="2113" h="721">
                    <a:moveTo>
                      <a:pt x="0" y="144"/>
                    </a:moveTo>
                    <a:lnTo>
                      <a:pt x="96" y="144"/>
                    </a:lnTo>
                    <a:lnTo>
                      <a:pt x="144" y="720"/>
                    </a:lnTo>
                    <a:lnTo>
                      <a:pt x="192" y="144"/>
                    </a:lnTo>
                    <a:lnTo>
                      <a:pt x="240" y="144"/>
                    </a:lnTo>
                    <a:lnTo>
                      <a:pt x="288" y="0"/>
                    </a:lnTo>
                    <a:lnTo>
                      <a:pt x="336" y="144"/>
                    </a:lnTo>
                    <a:lnTo>
                      <a:pt x="384" y="144"/>
                    </a:lnTo>
                    <a:lnTo>
                      <a:pt x="432" y="0"/>
                    </a:lnTo>
                    <a:lnTo>
                      <a:pt x="480" y="144"/>
                    </a:lnTo>
                    <a:lnTo>
                      <a:pt x="768" y="144"/>
                    </a:lnTo>
                    <a:lnTo>
                      <a:pt x="816" y="48"/>
                    </a:lnTo>
                    <a:lnTo>
                      <a:pt x="864" y="144"/>
                    </a:lnTo>
                    <a:lnTo>
                      <a:pt x="1152" y="144"/>
                    </a:lnTo>
                    <a:lnTo>
                      <a:pt x="1200" y="240"/>
                    </a:lnTo>
                    <a:lnTo>
                      <a:pt x="1248" y="144"/>
                    </a:lnTo>
                    <a:lnTo>
                      <a:pt x="1680" y="144"/>
                    </a:lnTo>
                    <a:lnTo>
                      <a:pt x="1824" y="48"/>
                    </a:lnTo>
                    <a:lnTo>
                      <a:pt x="2016" y="144"/>
                    </a:lnTo>
                    <a:lnTo>
                      <a:pt x="2112" y="144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2" name="Rectangle 82"/>
              <p:cNvSpPr/>
              <p:nvPr/>
            </p:nvSpPr>
            <p:spPr>
              <a:xfrm>
                <a:off x="4570200" y="3070080"/>
                <a:ext cx="46080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3" name="Rectangle 83"/>
              <p:cNvSpPr/>
              <p:nvPr/>
            </p:nvSpPr>
            <p:spPr>
              <a:xfrm>
                <a:off x="5104080" y="3070080"/>
                <a:ext cx="51732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4" name="Rectangle 84"/>
              <p:cNvSpPr/>
              <p:nvPr/>
            </p:nvSpPr>
            <p:spPr>
              <a:xfrm>
                <a:off x="5641560" y="3070080"/>
                <a:ext cx="64368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5" name="Rectangle 85"/>
              <p:cNvSpPr/>
              <p:nvPr/>
            </p:nvSpPr>
            <p:spPr>
              <a:xfrm>
                <a:off x="5928840" y="3618000"/>
                <a:ext cx="79452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6" name="Rectangle 86"/>
              <p:cNvSpPr/>
              <p:nvPr/>
            </p:nvSpPr>
            <p:spPr>
              <a:xfrm>
                <a:off x="7018200" y="3070080"/>
                <a:ext cx="689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07" name="Rectangle 87"/>
              <p:cNvSpPr/>
              <p:nvPr/>
            </p:nvSpPr>
            <p:spPr>
              <a:xfrm>
                <a:off x="5223240" y="3902040"/>
                <a:ext cx="2329920" cy="52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Na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 / NaH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	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700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08" name="Group 88"/>
              <p:cNvGrpSpPr/>
              <p:nvPr/>
            </p:nvGrpSpPr>
            <p:grpSpPr>
              <a:xfrm>
                <a:off x="4339800" y="3068640"/>
                <a:ext cx="3396240" cy="1715760"/>
                <a:chOff x="4339800" y="3068640"/>
                <a:chExt cx="3396240" cy="1715760"/>
              </a:xfrm>
            </p:grpSpPr>
            <p:sp>
              <p:nvSpPr>
                <p:cNvPr id="1609" name="Line 89"/>
                <p:cNvSpPr/>
                <p:nvPr/>
              </p:nvSpPr>
              <p:spPr>
                <a:xfrm>
                  <a:off x="4472640" y="4549680"/>
                  <a:ext cx="3263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grpSp>
              <p:nvGrpSpPr>
                <p:cNvPr id="1610" name="Group 90"/>
                <p:cNvGrpSpPr/>
                <p:nvPr/>
              </p:nvGrpSpPr>
              <p:grpSpPr>
                <a:xfrm>
                  <a:off x="4339800" y="3068640"/>
                  <a:ext cx="279720" cy="1495440"/>
                  <a:chOff x="4339800" y="3068640"/>
                  <a:chExt cx="279720" cy="1495440"/>
                </a:xfrm>
              </p:grpSpPr>
              <p:sp>
                <p:nvSpPr>
                  <p:cNvPr id="1611" name="Line 91"/>
                  <p:cNvSpPr/>
                  <p:nvPr/>
                </p:nvSpPr>
                <p:spPr>
                  <a:xfrm>
                    <a:off x="4470840" y="3068640"/>
                    <a:ext cx="0" cy="106380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2" name="Line 92"/>
                  <p:cNvSpPr/>
                  <p:nvPr/>
                </p:nvSpPr>
                <p:spPr>
                  <a:xfrm>
                    <a:off x="4470840" y="4205160"/>
                    <a:ext cx="0" cy="3589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3" name="Text Box 93"/>
                  <p:cNvSpPr/>
                  <p:nvPr/>
                </p:nvSpPr>
                <p:spPr>
                  <a:xfrm>
                    <a:off x="4339800" y="397836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14" name="Text Box 94"/>
                  <p:cNvSpPr/>
                  <p:nvPr/>
                </p:nvSpPr>
                <p:spPr>
                  <a:xfrm>
                    <a:off x="4339800" y="4041720"/>
                    <a:ext cx="279720" cy="2919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ja-JP" sz="1300" spc="-1" strike="noStrike">
                        <a:solidFill>
                          <a:srgbClr val="000000"/>
                        </a:solidFill>
                        <a:latin typeface="Arial Narrow"/>
                        <a:ea typeface="MS Gothic"/>
                      </a:rPr>
                      <a:t>～</a:t>
                    </a:r>
                    <a:endParaRPr b="1" lang="en-US" sz="13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615" name="Rectangle 95"/>
                <p:cNvSpPr/>
                <p:nvPr/>
              </p:nvSpPr>
              <p:spPr>
                <a:xfrm>
                  <a:off x="5676480" y="4527720"/>
                  <a:ext cx="994320" cy="25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9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 Narrow"/>
                      <a:ea typeface="MS PGothic"/>
                    </a:rPr>
                    <a:t>Retention time</a:t>
                  </a:r>
                  <a:endParaRPr b="1" lang="en-US" sz="12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16" name="Line 96"/>
              <p:cNvSpPr/>
              <p:nvPr/>
            </p:nvSpPr>
            <p:spPr>
              <a:xfrm>
                <a:off x="6847920" y="4348080"/>
                <a:ext cx="0" cy="1872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7" name="Line 97"/>
              <p:cNvSpPr/>
              <p:nvPr/>
            </p:nvSpPr>
            <p:spPr>
              <a:xfrm>
                <a:off x="6847920" y="3492360"/>
                <a:ext cx="0" cy="468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18" name="Text Box 98"/>
              <p:cNvSpPr/>
              <p:nvPr/>
            </p:nvSpPr>
            <p:spPr>
              <a:xfrm>
                <a:off x="4173840" y="32583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19" name="Group 99"/>
          <p:cNvGrpSpPr/>
          <p:nvPr/>
        </p:nvGrpSpPr>
        <p:grpSpPr>
          <a:xfrm>
            <a:off x="3218040" y="5037120"/>
            <a:ext cx="4533840" cy="1702800"/>
            <a:chOff x="3218040" y="5037120"/>
            <a:chExt cx="4533840" cy="1702800"/>
          </a:xfrm>
        </p:grpSpPr>
        <p:sp>
          <p:nvSpPr>
            <p:cNvPr id="1620" name="Line 100"/>
            <p:cNvSpPr/>
            <p:nvPr/>
          </p:nvSpPr>
          <p:spPr>
            <a:xfrm flipV="1">
              <a:off x="3218040" y="5678640"/>
              <a:ext cx="1025280" cy="301680"/>
            </a:xfrm>
            <a:prstGeom prst="line">
              <a:avLst/>
            </a:prstGeom>
            <a:ln w="255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21" name="Group 101"/>
            <p:cNvGrpSpPr/>
            <p:nvPr/>
          </p:nvGrpSpPr>
          <p:grpSpPr>
            <a:xfrm>
              <a:off x="4174560" y="5037120"/>
              <a:ext cx="3577320" cy="1702800"/>
              <a:chOff x="4174560" y="5037120"/>
              <a:chExt cx="3577320" cy="1702800"/>
            </a:xfrm>
          </p:grpSpPr>
          <p:sp>
            <p:nvSpPr>
              <p:cNvPr id="1622" name="Line 102"/>
              <p:cNvSpPr/>
              <p:nvPr/>
            </p:nvSpPr>
            <p:spPr>
              <a:xfrm>
                <a:off x="4471920" y="5037120"/>
                <a:ext cx="0" cy="1482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3" name="Freeform 103"/>
              <p:cNvSpPr/>
              <p:nvPr/>
            </p:nvSpPr>
            <p:spPr>
              <a:xfrm>
                <a:off x="4473720" y="5448240"/>
                <a:ext cx="3278160" cy="839880"/>
              </a:xfrm>
              <a:custGeom>
                <a:avLst/>
                <a:gdLst>
                  <a:gd name="textAreaLeft" fmla="*/ 0 w 3278160"/>
                  <a:gd name="textAreaRight" fmla="*/ 3278520 w 3278160"/>
                  <a:gd name="textAreaTop" fmla="*/ 0 h 839880"/>
                  <a:gd name="textAreaBottom" fmla="*/ 840240 h 839880"/>
                </a:gdLst>
                <a:ahLst/>
                <a:rect l="textAreaLeft" t="textAreaTop" r="textAreaRight" b="textAreaBottom"/>
                <a:pathLst>
                  <a:path w="2065" h="529">
                    <a:moveTo>
                      <a:pt x="0" y="480"/>
                    </a:moveTo>
                    <a:lnTo>
                      <a:pt x="96" y="480"/>
                    </a:lnTo>
                    <a:lnTo>
                      <a:pt x="144" y="528"/>
                    </a:lnTo>
                    <a:lnTo>
                      <a:pt x="192" y="480"/>
                    </a:lnTo>
                    <a:lnTo>
                      <a:pt x="240" y="480"/>
                    </a:lnTo>
                    <a:lnTo>
                      <a:pt x="288" y="48"/>
                    </a:lnTo>
                    <a:lnTo>
                      <a:pt x="336" y="480"/>
                    </a:lnTo>
                    <a:lnTo>
                      <a:pt x="384" y="480"/>
                    </a:lnTo>
                    <a:lnTo>
                      <a:pt x="432" y="0"/>
                    </a:lnTo>
                    <a:lnTo>
                      <a:pt x="480" y="480"/>
                    </a:lnTo>
                    <a:lnTo>
                      <a:pt x="768" y="480"/>
                    </a:lnTo>
                    <a:lnTo>
                      <a:pt x="816" y="240"/>
                    </a:lnTo>
                    <a:lnTo>
                      <a:pt x="864" y="480"/>
                    </a:lnTo>
                    <a:lnTo>
                      <a:pt x="1152" y="480"/>
                    </a:lnTo>
                    <a:lnTo>
                      <a:pt x="1200" y="336"/>
                    </a:lnTo>
                    <a:lnTo>
                      <a:pt x="1248" y="480"/>
                    </a:lnTo>
                    <a:lnTo>
                      <a:pt x="1680" y="480"/>
                    </a:lnTo>
                    <a:lnTo>
                      <a:pt x="1824" y="48"/>
                    </a:lnTo>
                    <a:lnTo>
                      <a:pt x="1968" y="480"/>
                    </a:lnTo>
                    <a:lnTo>
                      <a:pt x="2064" y="480"/>
                    </a:lnTo>
                  </a:path>
                </a:pathLst>
              </a:custGeom>
              <a:noFill/>
              <a:ln cap="rnd" w="25560">
                <a:solidFill>
                  <a:srgbClr val="ff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4" name="Rectangle 104"/>
              <p:cNvSpPr/>
              <p:nvPr/>
            </p:nvSpPr>
            <p:spPr>
              <a:xfrm>
                <a:off x="4647240" y="5257800"/>
                <a:ext cx="38016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F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5" name="Rectangle 105"/>
              <p:cNvSpPr/>
              <p:nvPr/>
            </p:nvSpPr>
            <p:spPr>
              <a:xfrm>
                <a:off x="4952520" y="5181840"/>
                <a:ext cx="436680" cy="28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Cl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6" name="Rectangle 106"/>
              <p:cNvSpPr/>
              <p:nvPr/>
            </p:nvSpPr>
            <p:spPr>
              <a:xfrm>
                <a:off x="5489640" y="5562720"/>
                <a:ext cx="56304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N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7" name="Rectangle 107"/>
              <p:cNvSpPr/>
              <p:nvPr/>
            </p:nvSpPr>
            <p:spPr>
              <a:xfrm>
                <a:off x="6180840" y="57150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P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8" name="Rectangle 108"/>
              <p:cNvSpPr/>
              <p:nvPr/>
            </p:nvSpPr>
            <p:spPr>
              <a:xfrm>
                <a:off x="7018920" y="5257800"/>
                <a:ext cx="608400" cy="34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6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endParaRPr b="1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9" name="Line 109"/>
              <p:cNvSpPr/>
              <p:nvPr/>
            </p:nvSpPr>
            <p:spPr>
              <a:xfrm>
                <a:off x="4473720" y="6505560"/>
                <a:ext cx="3263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0" name="Rectangle 110"/>
              <p:cNvSpPr/>
              <p:nvPr/>
            </p:nvSpPr>
            <p:spPr>
              <a:xfrm>
                <a:off x="5677560" y="6483240"/>
                <a:ext cx="994320" cy="256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Retention time</a:t>
                </a:r>
                <a:endParaRPr b="1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1" name="Rectangle 111"/>
              <p:cNvSpPr/>
              <p:nvPr/>
            </p:nvSpPr>
            <p:spPr>
              <a:xfrm>
                <a:off x="5271480" y="6229440"/>
                <a:ext cx="203004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Back Ground</a:t>
                </a:r>
                <a:r>
                  <a:rPr b="0" lang="ja-JP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：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CO</a:t>
                </a:r>
                <a:r>
                  <a:rPr b="0" lang="en-US" sz="14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3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(15μS)</a:t>
                </a:r>
                <a:endParaRPr b="1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2" name="Text Box 112"/>
              <p:cNvSpPr/>
              <p:nvPr/>
            </p:nvSpPr>
            <p:spPr>
              <a:xfrm>
                <a:off x="4174560" y="5276160"/>
                <a:ext cx="378360" cy="82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300" spc="-1" strike="noStrike">
                    <a:solidFill>
                      <a:srgbClr val="000000"/>
                    </a:solidFill>
                    <a:latin typeface="Arial Narrow"/>
                    <a:ea typeface="MS Gothic"/>
                  </a:rPr>
                  <a:t>Conductivity</a:t>
                </a:r>
                <a:endParaRPr b="1" lang="en-US" sz="13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633" name="Rectangle 113"/>
          <p:cNvSpPr/>
          <p:nvPr/>
        </p:nvSpPr>
        <p:spPr>
          <a:xfrm>
            <a:off x="1908000" y="3573360"/>
            <a:ext cx="10065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Column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Rectangle 114"/>
          <p:cNvSpPr/>
          <p:nvPr/>
        </p:nvSpPr>
        <p:spPr>
          <a:xfrm>
            <a:off x="1187280" y="5373720"/>
            <a:ext cx="136872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  <a:ea typeface="MS PGothic"/>
              </a:rPr>
              <a:t>Suppressor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Rectangle 11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1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d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quivalent conductivity lis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Rectangle 6"/>
          <p:cNvSpPr/>
          <p:nvPr/>
        </p:nvSpPr>
        <p:spPr>
          <a:xfrm>
            <a:off x="906480" y="2233440"/>
            <a:ext cx="7529400" cy="35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Rectangle 8"/>
          <p:cNvSpPr/>
          <p:nvPr/>
        </p:nvSpPr>
        <p:spPr>
          <a:xfrm>
            <a:off x="1332000" y="2144880"/>
            <a:ext cx="238608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Cat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0000ff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0000ff"/>
                </a:solidFill>
                <a:uFillTx/>
                <a:latin typeface="Arial Narrow"/>
                <a:ea typeface="MS PGothic"/>
              </a:rPr>
              <a:t>+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39" name="Group 18"/>
          <p:cNvGrpSpPr/>
          <p:nvPr/>
        </p:nvGrpSpPr>
        <p:grpSpPr>
          <a:xfrm>
            <a:off x="1352160" y="2514600"/>
            <a:ext cx="6166080" cy="3368520"/>
            <a:chOff x="1352160" y="2514600"/>
            <a:chExt cx="6166080" cy="3368520"/>
          </a:xfrm>
        </p:grpSpPr>
        <p:sp>
          <p:nvSpPr>
            <p:cNvPr id="1640" name="Rectangle 19"/>
            <p:cNvSpPr/>
            <p:nvPr/>
          </p:nvSpPr>
          <p:spPr>
            <a:xfrm>
              <a:off x="1352160" y="2514600"/>
              <a:ext cx="915120" cy="32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8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Ｌｉ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ａ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Ｋ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Ｈ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Ｍｇ 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ａ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＋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1" name="Rectangle 20"/>
            <p:cNvSpPr/>
            <p:nvPr/>
          </p:nvSpPr>
          <p:spPr>
            <a:xfrm>
              <a:off x="296064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３９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４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３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６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2" name="Rectangle 21"/>
            <p:cNvSpPr/>
            <p:nvPr/>
          </p:nvSpPr>
          <p:spPr>
            <a:xfrm>
              <a:off x="5348160" y="2514600"/>
              <a:ext cx="746280" cy="33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ＯＨ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Ｆ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Ｃｌ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Ｂ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Ｎ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Ｐ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３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ＳＯ</a:t>
              </a:r>
              <a:r>
                <a:rPr b="1" lang="ja-JP" sz="2000" spc="-1" strike="noStrike" baseline="-25000">
                  <a:solidFill>
                    <a:srgbClr val="000000"/>
                  </a:solidFill>
                  <a:latin typeface="Tahoma"/>
                  <a:ea typeface="MS PGothic"/>
                </a:rPr>
                <a:t>４</a:t>
              </a:r>
              <a:r>
                <a:rPr b="1" lang="ja-JP" sz="20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２</a:t>
              </a:r>
              <a:r>
                <a:rPr b="1" lang="ja-JP" sz="1800" spc="-1" strike="noStrike" baseline="30000">
                  <a:solidFill>
                    <a:srgbClr val="000000"/>
                  </a:solidFill>
                  <a:latin typeface="Tahoma"/>
                  <a:ea typeface="MS PGothic"/>
                </a:rPr>
                <a:t>－</a:t>
              </a:r>
              <a:endParaRPr b="1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43" name="Rectangle 22"/>
            <p:cNvSpPr/>
            <p:nvPr/>
          </p:nvSpPr>
          <p:spPr>
            <a:xfrm>
              <a:off x="6770880" y="2514600"/>
              <a:ext cx="747360" cy="31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１９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５５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６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８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７１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4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   </a:t>
              </a:r>
              <a:r>
                <a:rPr b="1" lang="ja-JP" sz="2000" spc="-1" strike="noStrike">
                  <a:solidFill>
                    <a:srgbClr val="000000"/>
                  </a:solidFill>
                  <a:latin typeface="Tahoma"/>
                  <a:ea typeface="MS PGothic"/>
                </a:rPr>
                <a:t>８０</a:t>
              </a:r>
              <a:endParaRPr b="1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44" name="Rectangle 23"/>
          <p:cNvSpPr/>
          <p:nvPr/>
        </p:nvSpPr>
        <p:spPr>
          <a:xfrm>
            <a:off x="1745280" y="5877000"/>
            <a:ext cx="5601240" cy="4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Total conductivity  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＝ 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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0000ff"/>
                </a:solidFill>
                <a:latin typeface="Tahoma"/>
                <a:ea typeface="굴림"/>
              </a:rPr>
              <a:t>+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＋ 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（</a:t>
            </a:r>
            <a:r>
              <a:rPr b="1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–</a:t>
            </a:r>
            <a:r>
              <a:rPr b="1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） 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5" name="Line 39"/>
          <p:cNvSpPr/>
          <p:nvPr/>
        </p:nvSpPr>
        <p:spPr>
          <a:xfrm>
            <a:off x="1860480" y="6332400"/>
            <a:ext cx="52722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6" name="Rectangle 40"/>
          <p:cNvSpPr/>
          <p:nvPr/>
        </p:nvSpPr>
        <p:spPr>
          <a:xfrm>
            <a:off x="5150880" y="1666800"/>
            <a:ext cx="283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（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uni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：</a:t>
            </a:r>
            <a:r>
              <a:rPr b="1" lang="en-US" sz="1800" spc="-1" strike="noStrike">
                <a:solidFill>
                  <a:srgbClr val="996633"/>
                </a:solidFill>
                <a:latin typeface="Tahoma"/>
                <a:ea typeface="MS Gothic"/>
              </a:rPr>
              <a:t>μ</a:t>
            </a:r>
            <a:r>
              <a:rPr b="1" lang="en-US" sz="1600" spc="-1" strike="noStrike">
                <a:solidFill>
                  <a:srgbClr val="996633"/>
                </a:solidFill>
                <a:latin typeface="Tahoma"/>
                <a:ea typeface="MS Gothic"/>
              </a:rPr>
              <a:t>S/M equivalent</a:t>
            </a:r>
            <a:r>
              <a:rPr b="1" lang="ja-JP" sz="1600" spc="-1" strike="noStrike">
                <a:solidFill>
                  <a:srgbClr val="996633"/>
                </a:solidFill>
                <a:latin typeface="Tahoma"/>
                <a:ea typeface="MS Gothic"/>
              </a:rPr>
              <a:t>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Rectangle 41"/>
          <p:cNvSpPr/>
          <p:nvPr/>
        </p:nvSpPr>
        <p:spPr>
          <a:xfrm>
            <a:off x="5065560" y="2144880"/>
            <a:ext cx="2386080" cy="6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Tahoma"/>
                <a:ea typeface="MS PGothic"/>
              </a:rPr>
              <a:t>Anion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Symbol"/>
                <a:ea typeface="Symbol"/>
              </a:rPr>
              <a:t></a:t>
            </a:r>
            <a:r>
              <a:rPr b="1" lang="en-US" sz="2400" spc="-1" strike="noStrike" u="sng" baseline="30000">
                <a:solidFill>
                  <a:srgbClr val="ff0000"/>
                </a:solidFill>
                <a:uFillTx/>
                <a:latin typeface="Arial Narrow"/>
                <a:ea typeface="MS PGothic"/>
              </a:rPr>
              <a:t>–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 Narrow"/>
                <a:ea typeface="MS PGothic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8" name="Rectangle 42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e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구조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0" name="Freeform 5"/>
          <p:cNvSpPr/>
          <p:nvPr/>
        </p:nvSpPr>
        <p:spPr>
          <a:xfrm>
            <a:off x="3463920" y="283860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1" name="Freeform 6"/>
          <p:cNvSpPr/>
          <p:nvPr/>
        </p:nvSpPr>
        <p:spPr>
          <a:xfrm>
            <a:off x="3463920" y="3432240"/>
            <a:ext cx="3970440" cy="477720"/>
          </a:xfrm>
          <a:custGeom>
            <a:avLst/>
            <a:gdLst/>
            <a:ahLst/>
            <a:rect l="l" t="t" r="r" b="b"/>
            <a:pathLst>
              <a:path w="2501" h="301">
                <a:moveTo>
                  <a:pt x="67" y="0"/>
                </a:moveTo>
                <a:lnTo>
                  <a:pt x="2141" y="0"/>
                </a:lnTo>
                <a:lnTo>
                  <a:pt x="2500" y="300"/>
                </a:lnTo>
                <a:lnTo>
                  <a:pt x="358" y="300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2" name="Freeform 7"/>
          <p:cNvSpPr/>
          <p:nvPr/>
        </p:nvSpPr>
        <p:spPr>
          <a:xfrm>
            <a:off x="3463920" y="3990960"/>
            <a:ext cx="3970440" cy="47484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4840"/>
              <a:gd name="textAreaBottom" fmla="*/ 475200 h 474840"/>
            </a:gdLst>
            <a:ahLst/>
            <a:rect l="textAreaLeft" t="textAreaTop" r="textAreaRight" b="textAreaBottom"/>
            <a:pathLst>
              <a:path w="2501" h="299">
                <a:moveTo>
                  <a:pt x="67" y="0"/>
                </a:moveTo>
                <a:lnTo>
                  <a:pt x="2141" y="0"/>
                </a:lnTo>
                <a:lnTo>
                  <a:pt x="2500" y="298"/>
                </a:lnTo>
                <a:lnTo>
                  <a:pt x="358" y="298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1e27e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3" name="Freeform 8"/>
          <p:cNvSpPr/>
          <p:nvPr/>
        </p:nvSpPr>
        <p:spPr>
          <a:xfrm>
            <a:off x="3463920" y="4581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4" name="Freeform 9"/>
          <p:cNvSpPr/>
          <p:nvPr/>
        </p:nvSpPr>
        <p:spPr>
          <a:xfrm>
            <a:off x="3463920" y="5175360"/>
            <a:ext cx="3970440" cy="476280"/>
          </a:xfrm>
          <a:custGeom>
            <a:avLst/>
            <a:gdLst>
              <a:gd name="textAreaLeft" fmla="*/ 0 w 3970440"/>
              <a:gd name="textAreaRight" fmla="*/ 3970440 w 397044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2501" h="300">
                <a:moveTo>
                  <a:pt x="67" y="0"/>
                </a:moveTo>
                <a:lnTo>
                  <a:pt x="2141" y="0"/>
                </a:lnTo>
                <a:lnTo>
                  <a:pt x="2500" y="299"/>
                </a:lnTo>
                <a:lnTo>
                  <a:pt x="358" y="299"/>
                </a:lnTo>
                <a:lnTo>
                  <a:pt x="0" y="0"/>
                </a:lnTo>
                <a:lnTo>
                  <a:pt x="746" y="0"/>
                </a:lnTo>
              </a:path>
            </a:pathLst>
          </a:custGeom>
          <a:solidFill>
            <a:srgbClr val="c7e3ff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Freeform 10"/>
          <p:cNvSpPr/>
          <p:nvPr/>
        </p:nvSpPr>
        <p:spPr>
          <a:xfrm>
            <a:off x="3959280" y="4025880"/>
            <a:ext cx="2990880" cy="406440"/>
          </a:xfrm>
          <a:custGeom>
            <a:avLst/>
            <a:gdLst>
              <a:gd name="textAreaLeft" fmla="*/ 0 w 2990880"/>
              <a:gd name="textAreaRight" fmla="*/ 2991240 w 299088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1884" h="256">
                <a:moveTo>
                  <a:pt x="0" y="172"/>
                </a:moveTo>
                <a:lnTo>
                  <a:pt x="82" y="255"/>
                </a:lnTo>
                <a:lnTo>
                  <a:pt x="1883" y="90"/>
                </a:lnTo>
                <a:lnTo>
                  <a:pt x="1793" y="0"/>
                </a:lnTo>
                <a:lnTo>
                  <a:pt x="0" y="172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6" name="Group 11"/>
          <p:cNvGrpSpPr/>
          <p:nvPr/>
        </p:nvGrpSpPr>
        <p:grpSpPr>
          <a:xfrm>
            <a:off x="4011480" y="2911320"/>
            <a:ext cx="2792520" cy="2666880"/>
            <a:chOff x="4011480" y="2911320"/>
            <a:chExt cx="2792520" cy="2666880"/>
          </a:xfrm>
        </p:grpSpPr>
        <p:sp>
          <p:nvSpPr>
            <p:cNvPr id="1657" name="Line 12"/>
            <p:cNvSpPr/>
            <p:nvPr/>
          </p:nvSpPr>
          <p:spPr>
            <a:xfrm>
              <a:off x="4011480" y="2914560"/>
              <a:ext cx="328680" cy="328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8" name="Line 13"/>
            <p:cNvSpPr/>
            <p:nvPr/>
          </p:nvSpPr>
          <p:spPr>
            <a:xfrm>
              <a:off x="6510240" y="293832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59" name="Line 14"/>
            <p:cNvSpPr/>
            <p:nvPr/>
          </p:nvSpPr>
          <p:spPr>
            <a:xfrm>
              <a:off x="4011480" y="291132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0" name="Line 15"/>
            <p:cNvSpPr/>
            <p:nvPr/>
          </p:nvSpPr>
          <p:spPr>
            <a:xfrm flipH="1">
              <a:off x="6700680" y="322092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1" name="Freeform 16"/>
            <p:cNvSpPr/>
            <p:nvPr/>
          </p:nvSpPr>
          <p:spPr>
            <a:xfrm>
              <a:off x="4329000" y="3114360"/>
              <a:ext cx="2359080" cy="1191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9160"/>
                <a:gd name="textAreaBottom" fmla="*/ 119520 h 119160"/>
              </a:gdLst>
              <a:ahLst/>
              <a:rect l="textAreaLeft" t="textAreaTop" r="textAreaRight" b="textAreaBottom"/>
              <a:pathLst>
                <a:path w="1486" h="75">
                  <a:moveTo>
                    <a:pt x="0" y="74"/>
                  </a:moveTo>
                  <a:lnTo>
                    <a:pt x="1380" y="0"/>
                  </a:lnTo>
                  <a:lnTo>
                    <a:pt x="1485" y="67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2" name="Freeform 17"/>
            <p:cNvSpPr/>
            <p:nvPr/>
          </p:nvSpPr>
          <p:spPr>
            <a:xfrm>
              <a:off x="4105440" y="2911320"/>
              <a:ext cx="2395440" cy="13320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3" name="Line 18"/>
            <p:cNvSpPr/>
            <p:nvPr/>
          </p:nvSpPr>
          <p:spPr>
            <a:xfrm>
              <a:off x="4011480" y="5249880"/>
              <a:ext cx="328680" cy="328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4" name="Line 19"/>
            <p:cNvSpPr/>
            <p:nvPr/>
          </p:nvSpPr>
          <p:spPr>
            <a:xfrm>
              <a:off x="6510240" y="5275080"/>
              <a:ext cx="293760" cy="293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5" name="Line 20"/>
            <p:cNvSpPr/>
            <p:nvPr/>
          </p:nvSpPr>
          <p:spPr>
            <a:xfrm>
              <a:off x="4011480" y="5246640"/>
              <a:ext cx="1033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6" name="Line 21"/>
            <p:cNvSpPr/>
            <p:nvPr/>
          </p:nvSpPr>
          <p:spPr>
            <a:xfrm flipH="1">
              <a:off x="6700680" y="5557680"/>
              <a:ext cx="921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7" name="Freeform 22"/>
            <p:cNvSpPr/>
            <p:nvPr/>
          </p:nvSpPr>
          <p:spPr>
            <a:xfrm>
              <a:off x="4329000" y="5451480"/>
              <a:ext cx="2359080" cy="117360"/>
            </a:xfrm>
            <a:custGeom>
              <a:avLst/>
              <a:gdLst>
                <a:gd name="textAreaLeft" fmla="*/ 0 w 2359080"/>
                <a:gd name="textAreaRight" fmla="*/ 2359080 w 235908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486" h="74">
                  <a:moveTo>
                    <a:pt x="0" y="73"/>
                  </a:moveTo>
                  <a:lnTo>
                    <a:pt x="1380" y="0"/>
                  </a:lnTo>
                  <a:lnTo>
                    <a:pt x="1485" y="66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68" name="Freeform 23"/>
            <p:cNvSpPr/>
            <p:nvPr/>
          </p:nvSpPr>
          <p:spPr>
            <a:xfrm>
              <a:off x="4105440" y="5248080"/>
              <a:ext cx="2395440" cy="133560"/>
            </a:xfrm>
            <a:custGeom>
              <a:avLst/>
              <a:gdLst>
                <a:gd name="textAreaLeft" fmla="*/ 0 w 2395440"/>
                <a:gd name="textAreaRight" fmla="*/ 2395800 w 2395440"/>
                <a:gd name="textAreaTop" fmla="*/ 0 h 133560"/>
                <a:gd name="textAreaBottom" fmla="*/ 133920 h 133560"/>
              </a:gdLst>
              <a:ahLst/>
              <a:rect l="textAreaLeft" t="textAreaTop" r="textAreaRight" b="textAreaBottom"/>
              <a:pathLst>
                <a:path w="1509" h="84">
                  <a:moveTo>
                    <a:pt x="1508" y="0"/>
                  </a:moveTo>
                  <a:lnTo>
                    <a:pt x="172" y="83"/>
                  </a:lnTo>
                  <a:lnTo>
                    <a:pt x="0" y="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669" name="Oval 42"/>
          <p:cNvSpPr/>
          <p:nvPr/>
        </p:nvSpPr>
        <p:spPr>
          <a:xfrm>
            <a:off x="6627960" y="3787920"/>
            <a:ext cx="918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Oval 43"/>
          <p:cNvSpPr/>
          <p:nvPr/>
        </p:nvSpPr>
        <p:spPr>
          <a:xfrm>
            <a:off x="6615000" y="433548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1" name="Oval 44"/>
          <p:cNvSpPr/>
          <p:nvPr/>
        </p:nvSpPr>
        <p:spPr>
          <a:xfrm>
            <a:off x="6627960" y="49276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2" name="Oval 45"/>
          <p:cNvSpPr/>
          <p:nvPr/>
        </p:nvSpPr>
        <p:spPr>
          <a:xfrm>
            <a:off x="4043520" y="46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3" name="Oval 46"/>
          <p:cNvSpPr/>
          <p:nvPr/>
        </p:nvSpPr>
        <p:spPr>
          <a:xfrm>
            <a:off x="4032360" y="3529080"/>
            <a:ext cx="91800" cy="331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3040" bIns="-230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4" name="Oval 47"/>
          <p:cNvSpPr/>
          <p:nvPr/>
        </p:nvSpPr>
        <p:spPr>
          <a:xfrm>
            <a:off x="4043520" y="41101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Oval 48"/>
          <p:cNvSpPr/>
          <p:nvPr/>
        </p:nvSpPr>
        <p:spPr>
          <a:xfrm>
            <a:off x="4125960" y="320832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6" name="Oval 49"/>
          <p:cNvSpPr/>
          <p:nvPr/>
        </p:nvSpPr>
        <p:spPr>
          <a:xfrm>
            <a:off x="4125960" y="37782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7" name="Line 52"/>
          <p:cNvSpPr/>
          <p:nvPr/>
        </p:nvSpPr>
        <p:spPr>
          <a:xfrm>
            <a:off x="4173480" y="2265480"/>
            <a:ext cx="0" cy="977760"/>
          </a:xfrm>
          <a:prstGeom prst="line">
            <a:avLst/>
          </a:prstGeom>
          <a:ln w="255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8" name="Oval 53"/>
          <p:cNvSpPr/>
          <p:nvPr/>
        </p:nvSpPr>
        <p:spPr>
          <a:xfrm>
            <a:off x="6769080" y="355284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9" name="Oval 54"/>
          <p:cNvSpPr/>
          <p:nvPr/>
        </p:nvSpPr>
        <p:spPr>
          <a:xfrm>
            <a:off x="6769080" y="2971800"/>
            <a:ext cx="93600" cy="349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960" bIns="-21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0" name="Freeform 57"/>
          <p:cNvSpPr/>
          <p:nvPr/>
        </p:nvSpPr>
        <p:spPr>
          <a:xfrm>
            <a:off x="4210200" y="5686560"/>
            <a:ext cx="2608200" cy="214200"/>
          </a:xfrm>
          <a:custGeom>
            <a:avLst/>
            <a:gdLst>
              <a:gd name="textAreaLeft" fmla="*/ 0 w 2608200"/>
              <a:gd name="textAreaRight" fmla="*/ 2608560 w 260820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1643" h="135">
                <a:moveTo>
                  <a:pt x="0" y="63"/>
                </a:moveTo>
                <a:lnTo>
                  <a:pt x="1536" y="0"/>
                </a:lnTo>
                <a:lnTo>
                  <a:pt x="1642" y="76"/>
                </a:lnTo>
                <a:lnTo>
                  <a:pt x="139" y="134"/>
                </a:lnTo>
                <a:lnTo>
                  <a:pt x="43" y="63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1" name="Freeform 58"/>
          <p:cNvSpPr/>
          <p:nvPr/>
        </p:nvSpPr>
        <p:spPr>
          <a:xfrm>
            <a:off x="4160880" y="2585880"/>
            <a:ext cx="2503440" cy="206640"/>
          </a:xfrm>
          <a:custGeom>
            <a:avLst/>
            <a:gdLst>
              <a:gd name="textAreaLeft" fmla="*/ 0 w 2503440"/>
              <a:gd name="textAreaRight" fmla="*/ 2503800 w 2503440"/>
              <a:gd name="textAreaTop" fmla="*/ 0 h 206640"/>
              <a:gd name="textAreaBottom" fmla="*/ 207000 h 206640"/>
            </a:gdLst>
            <a:ahLst/>
            <a:rect l="textAreaLeft" t="textAreaTop" r="textAreaRight" b="textAreaBottom"/>
            <a:pathLst>
              <a:path w="1577" h="130">
                <a:moveTo>
                  <a:pt x="0" y="61"/>
                </a:moveTo>
                <a:lnTo>
                  <a:pt x="1475" y="0"/>
                </a:lnTo>
                <a:lnTo>
                  <a:pt x="1576" y="73"/>
                </a:lnTo>
                <a:lnTo>
                  <a:pt x="133" y="129"/>
                </a:lnTo>
                <a:lnTo>
                  <a:pt x="41" y="61"/>
                </a:lnTo>
              </a:path>
            </a:pathLst>
          </a:custGeom>
          <a:solidFill>
            <a:srgbClr val="3333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2" name="Rectangle 59"/>
          <p:cNvSpPr/>
          <p:nvPr/>
        </p:nvSpPr>
        <p:spPr>
          <a:xfrm>
            <a:off x="4670280" y="585936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－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3" name="Oval 60"/>
          <p:cNvSpPr/>
          <p:nvPr/>
        </p:nvSpPr>
        <p:spPr>
          <a:xfrm>
            <a:off x="5722920" y="5943600"/>
            <a:ext cx="20808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4" name="Rectangle 61"/>
          <p:cNvSpPr/>
          <p:nvPr/>
        </p:nvSpPr>
        <p:spPr>
          <a:xfrm>
            <a:off x="4616280" y="2232000"/>
            <a:ext cx="13302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7560"/>
                <a:tab algn="l" pos="1635120"/>
                <a:tab algn="l" pos="2452680"/>
                <a:tab algn="l" pos="3270240"/>
                <a:tab algn="l" pos="4087800"/>
                <a:tab algn="l" pos="4905360"/>
                <a:tab algn="l" pos="5722920"/>
                <a:tab algn="l" pos="6540480"/>
                <a:tab algn="l" pos="7358040"/>
                <a:tab algn="l" pos="8175600"/>
                <a:tab algn="l" pos="8993160"/>
                <a:tab algn="l" pos="9810720"/>
                <a:tab algn="l" pos="10628280"/>
              </a:tabLst>
            </a:pP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Electrode</a:t>
            </a:r>
            <a:r>
              <a:rPr b="1" lang="en-US" sz="1900" spc="-1" strike="noStrike">
                <a:solidFill>
                  <a:srgbClr val="993300"/>
                </a:solidFill>
                <a:latin typeface="Arial Narrow"/>
                <a:ea typeface="굴림"/>
              </a:rPr>
              <a:t> </a:t>
            </a:r>
            <a:r>
              <a:rPr b="1" lang="ja-JP" sz="1900" spc="-1" strike="noStrike">
                <a:solidFill>
                  <a:srgbClr val="993300"/>
                </a:solidFill>
                <a:latin typeface="Arial Narrow"/>
                <a:ea typeface="MS PGothic"/>
              </a:rPr>
              <a:t>＋</a:t>
            </a:r>
            <a:endParaRPr b="1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5" name="Oval 62"/>
          <p:cNvSpPr/>
          <p:nvPr/>
        </p:nvSpPr>
        <p:spPr>
          <a:xfrm>
            <a:off x="5665680" y="2322360"/>
            <a:ext cx="206640" cy="208080"/>
          </a:xfrm>
          <a:prstGeom prst="ellipse">
            <a:avLst/>
          </a:prstGeom>
          <a:noFill/>
          <a:ln w="255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6" name="Rectangle 63"/>
          <p:cNvSpPr/>
          <p:nvPr/>
        </p:nvSpPr>
        <p:spPr>
          <a:xfrm>
            <a:off x="369720" y="339084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7" name="Rectangle 64"/>
          <p:cNvSpPr/>
          <p:nvPr/>
        </p:nvSpPr>
        <p:spPr>
          <a:xfrm>
            <a:off x="355680" y="4599000"/>
            <a:ext cx="30225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Ion exchange membra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8" name="Rectangle 65"/>
          <p:cNvSpPr/>
          <p:nvPr/>
        </p:nvSpPr>
        <p:spPr>
          <a:xfrm>
            <a:off x="1168560" y="3987720"/>
            <a:ext cx="171072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Elue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9" name="Rectangle 66"/>
          <p:cNvSpPr/>
          <p:nvPr/>
        </p:nvSpPr>
        <p:spPr>
          <a:xfrm>
            <a:off x="933120" y="291132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0" name="Rectangle 67"/>
          <p:cNvSpPr/>
          <p:nvPr/>
        </p:nvSpPr>
        <p:spPr>
          <a:xfrm>
            <a:off x="933120" y="5241960"/>
            <a:ext cx="232164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39600" bIns="39600" anchor="t">
            <a:spAutoFit/>
          </a:bodyPr>
          <a:p>
            <a:pPr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screen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1" name="Rectangle 68"/>
          <p:cNvSpPr/>
          <p:nvPr/>
        </p:nvSpPr>
        <p:spPr>
          <a:xfrm>
            <a:off x="3488760" y="2014560"/>
            <a:ext cx="1360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From colum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2" name="Rectangle 69"/>
          <p:cNvSpPr/>
          <p:nvPr/>
        </p:nvSpPr>
        <p:spPr>
          <a:xfrm>
            <a:off x="7381800" y="2519280"/>
            <a:ext cx="16480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To 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93" name="Group 82"/>
          <p:cNvGrpSpPr/>
          <p:nvPr/>
        </p:nvGrpSpPr>
        <p:grpSpPr>
          <a:xfrm>
            <a:off x="3422520" y="2376000"/>
            <a:ext cx="3252960" cy="3130560"/>
            <a:chOff x="3422520" y="2376000"/>
            <a:chExt cx="3252960" cy="3130560"/>
          </a:xfrm>
        </p:grpSpPr>
        <p:sp>
          <p:nvSpPr>
            <p:cNvPr id="1694" name="Line 24"/>
            <p:cNvSpPr/>
            <p:nvPr/>
          </p:nvSpPr>
          <p:spPr>
            <a:xfrm flipH="1">
              <a:off x="6145200" y="3031920"/>
              <a:ext cx="2462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5" name="Line 25"/>
            <p:cNvSpPr/>
            <p:nvPr/>
          </p:nvSpPr>
          <p:spPr>
            <a:xfrm flipH="1">
              <a:off x="5340240" y="3068640"/>
              <a:ext cx="246240" cy="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6" name="Line 26"/>
            <p:cNvSpPr/>
            <p:nvPr/>
          </p:nvSpPr>
          <p:spPr>
            <a:xfrm flipH="1">
              <a:off x="4559040" y="3114360"/>
              <a:ext cx="244440" cy="9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7" name="Line 27"/>
            <p:cNvSpPr/>
            <p:nvPr/>
          </p:nvSpPr>
          <p:spPr>
            <a:xfrm flipH="1">
              <a:off x="4449600" y="5454360"/>
              <a:ext cx="247680" cy="6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8" name="Line 28"/>
            <p:cNvSpPr/>
            <p:nvPr/>
          </p:nvSpPr>
          <p:spPr>
            <a:xfrm flipH="1">
              <a:off x="5268600" y="5403600"/>
              <a:ext cx="2444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699" name="Line 29"/>
            <p:cNvSpPr/>
            <p:nvPr/>
          </p:nvSpPr>
          <p:spPr>
            <a:xfrm flipH="1">
              <a:off x="6168960" y="5357520"/>
              <a:ext cx="246240" cy="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0" name="Line 33"/>
            <p:cNvSpPr/>
            <p:nvPr/>
          </p:nvSpPr>
          <p:spPr>
            <a:xfrm flipV="1">
              <a:off x="4091040" y="3351240"/>
              <a:ext cx="0" cy="172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1" name="Line 34"/>
            <p:cNvSpPr/>
            <p:nvPr/>
          </p:nvSpPr>
          <p:spPr>
            <a:xfrm flipV="1">
              <a:off x="4091040" y="5081400"/>
              <a:ext cx="0" cy="201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2" name="Line 35"/>
            <p:cNvSpPr/>
            <p:nvPr/>
          </p:nvSpPr>
          <p:spPr>
            <a:xfrm flipV="1">
              <a:off x="4091040" y="3943080"/>
              <a:ext cx="0" cy="176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3" name="Line 36"/>
            <p:cNvSpPr/>
            <p:nvPr/>
          </p:nvSpPr>
          <p:spPr>
            <a:xfrm flipV="1">
              <a:off x="4091040" y="4505040"/>
              <a:ext cx="0" cy="1476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4" name="Line 37"/>
            <p:cNvSpPr/>
            <p:nvPr/>
          </p:nvSpPr>
          <p:spPr>
            <a:xfrm flipV="1">
              <a:off x="6675480" y="2376000"/>
              <a:ext cx="0" cy="8082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5" name="Line 38"/>
            <p:cNvSpPr/>
            <p:nvPr/>
          </p:nvSpPr>
          <p:spPr>
            <a:xfrm flipV="1">
              <a:off x="6675480" y="3365280"/>
              <a:ext cx="0" cy="4478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6" name="Line 39"/>
            <p:cNvSpPr/>
            <p:nvPr/>
          </p:nvSpPr>
          <p:spPr>
            <a:xfrm flipV="1">
              <a:off x="6675480" y="5082840"/>
              <a:ext cx="0" cy="4237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7" name="Line 40"/>
            <p:cNvSpPr/>
            <p:nvPr/>
          </p:nvSpPr>
          <p:spPr>
            <a:xfrm flipV="1">
              <a:off x="6675480" y="3957120"/>
              <a:ext cx="0" cy="412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08" name="Line 41"/>
            <p:cNvSpPr/>
            <p:nvPr/>
          </p:nvSpPr>
          <p:spPr>
            <a:xfrm flipV="1">
              <a:off x="6675480" y="4514400"/>
              <a:ext cx="0" cy="447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09" name="Group 70"/>
            <p:cNvGrpSpPr/>
            <p:nvPr/>
          </p:nvGrpSpPr>
          <p:grpSpPr>
            <a:xfrm>
              <a:off x="3422520" y="2689200"/>
              <a:ext cx="674640" cy="261720"/>
              <a:chOff x="3422520" y="2689200"/>
              <a:chExt cx="674640" cy="261720"/>
            </a:xfrm>
          </p:grpSpPr>
          <p:sp>
            <p:nvSpPr>
              <p:cNvPr id="1710" name="Line 71"/>
              <p:cNvSpPr/>
              <p:nvPr/>
            </p:nvSpPr>
            <p:spPr>
              <a:xfrm flipH="1">
                <a:off x="3422520" y="2700360"/>
                <a:ext cx="59688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1" name="Line 72"/>
              <p:cNvSpPr/>
              <p:nvPr/>
            </p:nvSpPr>
            <p:spPr>
              <a:xfrm>
                <a:off x="4097160" y="2784240"/>
                <a:ext cx="0" cy="1666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2" name="Line 73"/>
              <p:cNvSpPr/>
              <p:nvPr/>
            </p:nvSpPr>
            <p:spPr>
              <a:xfrm>
                <a:off x="4013280" y="2689200"/>
                <a:ext cx="83880" cy="83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13" name="Rectangle 78"/>
          <p:cNvSpPr/>
          <p:nvPr/>
        </p:nvSpPr>
        <p:spPr>
          <a:xfrm>
            <a:off x="2837520" y="2544840"/>
            <a:ext cx="6591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rain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Rectangle 79"/>
          <p:cNvSpPr/>
          <p:nvPr/>
        </p:nvSpPr>
        <p:spPr>
          <a:xfrm>
            <a:off x="5933880" y="1825560"/>
            <a:ext cx="20944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Tahoma"/>
                <a:ea typeface="MS PGothic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detection cell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PGothic"/>
              </a:rPr>
              <a:t>or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MS PGothic"/>
              </a:rPr>
              <a:t>regenerant bottl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15" name="Group 81"/>
          <p:cNvGrpSpPr/>
          <p:nvPr/>
        </p:nvGrpSpPr>
        <p:grpSpPr>
          <a:xfrm>
            <a:off x="4173480" y="2265480"/>
            <a:ext cx="3243240" cy="2116080"/>
            <a:chOff x="4173480" y="2265480"/>
            <a:chExt cx="3243240" cy="2116080"/>
          </a:xfrm>
        </p:grpSpPr>
        <p:sp>
          <p:nvSpPr>
            <p:cNvPr id="1716" name="Line 30"/>
            <p:cNvSpPr/>
            <p:nvPr/>
          </p:nvSpPr>
          <p:spPr>
            <a:xfrm flipV="1">
              <a:off x="4211640" y="4300560"/>
              <a:ext cx="35100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7" name="Line 31"/>
            <p:cNvSpPr/>
            <p:nvPr/>
          </p:nvSpPr>
          <p:spPr>
            <a:xfrm flipV="1">
              <a:off x="5278320" y="420516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8" name="Line 32"/>
            <p:cNvSpPr/>
            <p:nvPr/>
          </p:nvSpPr>
          <p:spPr>
            <a:xfrm flipV="1">
              <a:off x="6296040" y="4122720"/>
              <a:ext cx="352440" cy="442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19" name="Line 50"/>
            <p:cNvSpPr/>
            <p:nvPr/>
          </p:nvSpPr>
          <p:spPr>
            <a:xfrm>
              <a:off x="4173480" y="3340440"/>
              <a:ext cx="0" cy="48420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0" name="Line 51"/>
            <p:cNvSpPr/>
            <p:nvPr/>
          </p:nvSpPr>
          <p:spPr>
            <a:xfrm>
              <a:off x="4173480" y="3935520"/>
              <a:ext cx="0" cy="44604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1" name="Line 55"/>
            <p:cNvSpPr/>
            <p:nvPr/>
          </p:nvSpPr>
          <p:spPr>
            <a:xfrm>
              <a:off x="6829560" y="3910320"/>
              <a:ext cx="0" cy="222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22" name="Line 56"/>
            <p:cNvSpPr/>
            <p:nvPr/>
          </p:nvSpPr>
          <p:spPr>
            <a:xfrm>
              <a:off x="6829560" y="3327480"/>
              <a:ext cx="0" cy="24768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23" name="Group 74"/>
            <p:cNvGrpSpPr/>
            <p:nvPr/>
          </p:nvGrpSpPr>
          <p:grpSpPr>
            <a:xfrm>
              <a:off x="6818400" y="2664000"/>
              <a:ext cx="598320" cy="324000"/>
              <a:chOff x="6818400" y="2664000"/>
              <a:chExt cx="598320" cy="324000"/>
            </a:xfrm>
          </p:grpSpPr>
          <p:sp>
            <p:nvSpPr>
              <p:cNvPr id="1724" name="Line 75"/>
              <p:cNvSpPr/>
              <p:nvPr/>
            </p:nvSpPr>
            <p:spPr>
              <a:xfrm>
                <a:off x="6899400" y="2675160"/>
                <a:ext cx="517320" cy="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5" name="Line 76"/>
              <p:cNvSpPr/>
              <p:nvPr/>
            </p:nvSpPr>
            <p:spPr>
              <a:xfrm>
                <a:off x="6827760" y="2759400"/>
                <a:ext cx="0" cy="22860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6" name="Line 77"/>
              <p:cNvSpPr/>
              <p:nvPr/>
            </p:nvSpPr>
            <p:spPr>
              <a:xfrm flipH="1">
                <a:off x="6818400" y="2664000"/>
                <a:ext cx="85680" cy="90360"/>
              </a:xfrm>
              <a:prstGeom prst="line">
                <a:avLst/>
              </a:prstGeom>
              <a:ln w="38160">
                <a:solidFill>
                  <a:srgbClr val="3366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727" name="Line 80"/>
            <p:cNvSpPr/>
            <p:nvPr/>
          </p:nvSpPr>
          <p:spPr>
            <a:xfrm>
              <a:off x="4173480" y="2265480"/>
              <a:ext cx="0" cy="97812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1728" name="Picture 84" descr="SRS1"/>
          <p:cNvPicPr/>
          <p:nvPr/>
        </p:nvPicPr>
        <p:blipFill>
          <a:blip r:embed="rId4"/>
          <a:stretch/>
        </p:blipFill>
        <p:spPr>
          <a:xfrm>
            <a:off x="5364000" y="44280"/>
            <a:ext cx="3333960" cy="1371600"/>
          </a:xfrm>
          <a:prstGeom prst="rect">
            <a:avLst/>
          </a:prstGeom>
          <a:ln w="0">
            <a:noFill/>
          </a:ln>
        </p:spPr>
      </p:pic>
      <p:sp>
        <p:nvSpPr>
          <p:cNvPr id="1729" name="Rectangle 8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f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음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31" name="Group 5"/>
          <p:cNvGrpSpPr/>
          <p:nvPr/>
        </p:nvGrpSpPr>
        <p:grpSpPr>
          <a:xfrm>
            <a:off x="3595680" y="4888080"/>
            <a:ext cx="677160" cy="409680"/>
            <a:chOff x="3595680" y="4888080"/>
            <a:chExt cx="677160" cy="409680"/>
          </a:xfrm>
        </p:grpSpPr>
        <p:sp>
          <p:nvSpPr>
            <p:cNvPr id="1732" name="Rectangle 6"/>
            <p:cNvSpPr/>
            <p:nvPr/>
          </p:nvSpPr>
          <p:spPr>
            <a:xfrm flipH="1">
              <a:off x="3958200" y="488808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33" name="Text Box 7"/>
            <p:cNvSpPr/>
            <p:nvPr/>
          </p:nvSpPr>
          <p:spPr>
            <a:xfrm flipH="1">
              <a:off x="3595680" y="4960800"/>
              <a:ext cx="599760" cy="33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34" name="Rectangle 8"/>
          <p:cNvSpPr/>
          <p:nvPr/>
        </p:nvSpPr>
        <p:spPr>
          <a:xfrm>
            <a:off x="3254400" y="177336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ff99ff"/>
                </a:solidFill>
                <a:latin typeface="Tahoma"/>
                <a:ea typeface="MS 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+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Rectangle 9"/>
          <p:cNvSpPr/>
          <p:nvPr/>
        </p:nvSpPr>
        <p:spPr>
          <a:xfrm flipH="1">
            <a:off x="7270920" y="5969160"/>
            <a:ext cx="46008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0"/>
          <p:cNvSpPr/>
          <p:nvPr/>
        </p:nvSpPr>
        <p:spPr>
          <a:xfrm flipH="1">
            <a:off x="7068240" y="3376440"/>
            <a:ext cx="8082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Freeform 11"/>
          <p:cNvSpPr/>
          <p:nvPr/>
        </p:nvSpPr>
        <p:spPr>
          <a:xfrm flipH="1" rot="16200000">
            <a:off x="4425840" y="26496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Freeform 12"/>
          <p:cNvSpPr/>
          <p:nvPr/>
        </p:nvSpPr>
        <p:spPr>
          <a:xfrm flipH="1" rot="16200000">
            <a:off x="4348800" y="2905560"/>
            <a:ext cx="392040" cy="518184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9" name="Line 13"/>
          <p:cNvSpPr/>
          <p:nvPr/>
        </p:nvSpPr>
        <p:spPr>
          <a:xfrm>
            <a:off x="424656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0" name="Freeform 14"/>
          <p:cNvSpPr/>
          <p:nvPr/>
        </p:nvSpPr>
        <p:spPr>
          <a:xfrm flipH="1" rot="16200000">
            <a:off x="4356720" y="1485000"/>
            <a:ext cx="392400" cy="518184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840"/>
              <a:gd name="textAreaBottom" fmla="*/ 5182200 h 518184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Line 15"/>
          <p:cNvSpPr/>
          <p:nvPr/>
        </p:nvSpPr>
        <p:spPr>
          <a:xfrm>
            <a:off x="425448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Line 16"/>
          <p:cNvSpPr/>
          <p:nvPr/>
        </p:nvSpPr>
        <p:spPr>
          <a:xfrm>
            <a:off x="2252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3" name="Line 17"/>
          <p:cNvSpPr/>
          <p:nvPr/>
        </p:nvSpPr>
        <p:spPr>
          <a:xfrm>
            <a:off x="257652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4" name="Line 18"/>
          <p:cNvSpPr/>
          <p:nvPr/>
        </p:nvSpPr>
        <p:spPr>
          <a:xfrm>
            <a:off x="2919240" y="38847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5" name="Line 19"/>
          <p:cNvSpPr/>
          <p:nvPr/>
        </p:nvSpPr>
        <p:spPr>
          <a:xfrm>
            <a:off x="324972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Line 20"/>
          <p:cNvSpPr/>
          <p:nvPr/>
        </p:nvSpPr>
        <p:spPr>
          <a:xfrm>
            <a:off x="3578400" y="387972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7" name="Line 21"/>
          <p:cNvSpPr/>
          <p:nvPr/>
        </p:nvSpPr>
        <p:spPr>
          <a:xfrm>
            <a:off x="39099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Line 22"/>
          <p:cNvSpPr/>
          <p:nvPr/>
        </p:nvSpPr>
        <p:spPr>
          <a:xfrm>
            <a:off x="4568760" y="38703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Line 23"/>
          <p:cNvSpPr/>
          <p:nvPr/>
        </p:nvSpPr>
        <p:spPr>
          <a:xfrm>
            <a:off x="489888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0" name="Line 24"/>
          <p:cNvSpPr/>
          <p:nvPr/>
        </p:nvSpPr>
        <p:spPr>
          <a:xfrm>
            <a:off x="5229360" y="387180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1" name="Line 25"/>
          <p:cNvSpPr/>
          <p:nvPr/>
        </p:nvSpPr>
        <p:spPr>
          <a:xfrm>
            <a:off x="5557680" y="38862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2" name="Line 26"/>
          <p:cNvSpPr/>
          <p:nvPr/>
        </p:nvSpPr>
        <p:spPr>
          <a:xfrm>
            <a:off x="5886360" y="388476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Line 27"/>
          <p:cNvSpPr/>
          <p:nvPr/>
        </p:nvSpPr>
        <p:spPr>
          <a:xfrm>
            <a:off x="6218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4" name="Line 28"/>
          <p:cNvSpPr/>
          <p:nvPr/>
        </p:nvSpPr>
        <p:spPr>
          <a:xfrm>
            <a:off x="65469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5" name="Line 29"/>
          <p:cNvSpPr/>
          <p:nvPr/>
        </p:nvSpPr>
        <p:spPr>
          <a:xfrm>
            <a:off x="68770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6" name="Line 30"/>
          <p:cNvSpPr/>
          <p:nvPr/>
        </p:nvSpPr>
        <p:spPr>
          <a:xfrm>
            <a:off x="2244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Line 31"/>
          <p:cNvSpPr/>
          <p:nvPr/>
        </p:nvSpPr>
        <p:spPr>
          <a:xfrm>
            <a:off x="256860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Line 32"/>
          <p:cNvSpPr/>
          <p:nvPr/>
        </p:nvSpPr>
        <p:spPr>
          <a:xfrm>
            <a:off x="2911320" y="53132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33"/>
          <p:cNvSpPr/>
          <p:nvPr/>
        </p:nvSpPr>
        <p:spPr>
          <a:xfrm>
            <a:off x="324180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Line 34"/>
          <p:cNvSpPr/>
          <p:nvPr/>
        </p:nvSpPr>
        <p:spPr>
          <a:xfrm>
            <a:off x="3570120" y="53020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Line 35"/>
          <p:cNvSpPr/>
          <p:nvPr/>
        </p:nvSpPr>
        <p:spPr>
          <a:xfrm>
            <a:off x="39020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36"/>
          <p:cNvSpPr/>
          <p:nvPr/>
        </p:nvSpPr>
        <p:spPr>
          <a:xfrm>
            <a:off x="4560840" y="52959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Line 37"/>
          <p:cNvSpPr/>
          <p:nvPr/>
        </p:nvSpPr>
        <p:spPr>
          <a:xfrm>
            <a:off x="488952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Line 38"/>
          <p:cNvSpPr/>
          <p:nvPr/>
        </p:nvSpPr>
        <p:spPr>
          <a:xfrm>
            <a:off x="5219640" y="529920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Line 39"/>
          <p:cNvSpPr/>
          <p:nvPr/>
        </p:nvSpPr>
        <p:spPr>
          <a:xfrm>
            <a:off x="5549760" y="531180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40"/>
          <p:cNvSpPr/>
          <p:nvPr/>
        </p:nvSpPr>
        <p:spPr>
          <a:xfrm>
            <a:off x="5878440" y="530856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Line 41"/>
          <p:cNvSpPr/>
          <p:nvPr/>
        </p:nvSpPr>
        <p:spPr>
          <a:xfrm>
            <a:off x="62103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Line 42"/>
          <p:cNvSpPr/>
          <p:nvPr/>
        </p:nvSpPr>
        <p:spPr>
          <a:xfrm>
            <a:off x="6539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Line 43"/>
          <p:cNvSpPr/>
          <p:nvPr/>
        </p:nvSpPr>
        <p:spPr>
          <a:xfrm>
            <a:off x="68691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Rectangle 44"/>
          <p:cNvSpPr/>
          <p:nvPr/>
        </p:nvSpPr>
        <p:spPr>
          <a:xfrm flipH="1" rot="16200000">
            <a:off x="2822040" y="561888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1" name="Freeform 45"/>
          <p:cNvSpPr/>
          <p:nvPr/>
        </p:nvSpPr>
        <p:spPr>
          <a:xfrm flipH="1" rot="16200000">
            <a:off x="4220640" y="415512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2" name="Freeform 46"/>
          <p:cNvSpPr/>
          <p:nvPr/>
        </p:nvSpPr>
        <p:spPr>
          <a:xfrm flipH="1" rot="16200000">
            <a:off x="4212720" y="5583960"/>
            <a:ext cx="15840" cy="230040"/>
          </a:xfrm>
          <a:custGeom>
            <a:avLst/>
            <a:gdLst>
              <a:gd name="textAreaLeft" fmla="*/ 360 w 15840"/>
              <a:gd name="textAreaRight" fmla="*/ 16560 w 15840"/>
              <a:gd name="textAreaTop" fmla="*/ 0 h 230040"/>
              <a:gd name="textAreaBottom" fmla="*/ 230400 h 23004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3" name="Group 47"/>
          <p:cNvGrpSpPr/>
          <p:nvPr/>
        </p:nvGrpSpPr>
        <p:grpSpPr>
          <a:xfrm>
            <a:off x="6496200" y="5894280"/>
            <a:ext cx="736200" cy="207720"/>
            <a:chOff x="6496200" y="5894280"/>
            <a:chExt cx="736200" cy="207720"/>
          </a:xfrm>
        </p:grpSpPr>
        <p:sp>
          <p:nvSpPr>
            <p:cNvPr id="1774" name="Freeform 48"/>
            <p:cNvSpPr/>
            <p:nvPr/>
          </p:nvSpPr>
          <p:spPr>
            <a:xfrm flipH="1" rot="16200000">
              <a:off x="6990120" y="572544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5" name="Freeform 49"/>
            <p:cNvSpPr/>
            <p:nvPr/>
          </p:nvSpPr>
          <p:spPr>
            <a:xfrm flipH="1" rot="16200000">
              <a:off x="6788880" y="565848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6" name="Freeform 50"/>
            <p:cNvSpPr/>
            <p:nvPr/>
          </p:nvSpPr>
          <p:spPr>
            <a:xfrm flipH="1" rot="16200000">
              <a:off x="6624360" y="576576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7" name="Rectangle 51"/>
          <p:cNvSpPr/>
          <p:nvPr/>
        </p:nvSpPr>
        <p:spPr>
          <a:xfrm flipH="1">
            <a:off x="3963240" y="5983200"/>
            <a:ext cx="725400" cy="3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8" name="Group 52"/>
          <p:cNvGrpSpPr/>
          <p:nvPr/>
        </p:nvGrpSpPr>
        <p:grpSpPr>
          <a:xfrm>
            <a:off x="3574080" y="4905360"/>
            <a:ext cx="792360" cy="1367280"/>
            <a:chOff x="3574080" y="4905360"/>
            <a:chExt cx="792360" cy="1367280"/>
          </a:xfrm>
        </p:grpSpPr>
        <p:sp>
          <p:nvSpPr>
            <p:cNvPr id="1779" name="Rectangle 53"/>
            <p:cNvSpPr/>
            <p:nvPr/>
          </p:nvSpPr>
          <p:spPr>
            <a:xfrm flipH="1">
              <a:off x="3578040" y="6000480"/>
              <a:ext cx="38088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0" name="Rectangle 54"/>
            <p:cNvSpPr/>
            <p:nvPr/>
          </p:nvSpPr>
          <p:spPr>
            <a:xfrm flipH="1">
              <a:off x="3574080" y="5802120"/>
              <a:ext cx="3146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1" name="Group 55"/>
            <p:cNvGrpSpPr/>
            <p:nvPr/>
          </p:nvGrpSpPr>
          <p:grpSpPr>
            <a:xfrm>
              <a:off x="3649320" y="4905360"/>
              <a:ext cx="717120" cy="893520"/>
              <a:chOff x="3649320" y="4905360"/>
              <a:chExt cx="717120" cy="893520"/>
            </a:xfrm>
          </p:grpSpPr>
          <p:sp>
            <p:nvSpPr>
              <p:cNvPr id="1782" name="Rectangle 56"/>
              <p:cNvSpPr/>
              <p:nvPr/>
            </p:nvSpPr>
            <p:spPr>
              <a:xfrm>
                <a:off x="3649320" y="4905360"/>
                <a:ext cx="571680" cy="3301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83" name="Group 57"/>
              <p:cNvGrpSpPr/>
              <p:nvPr/>
            </p:nvGrpSpPr>
            <p:grpSpPr>
              <a:xfrm>
                <a:off x="3729960" y="5197320"/>
                <a:ext cx="636480" cy="601560"/>
                <a:chOff x="3729960" y="5197320"/>
                <a:chExt cx="636480" cy="601560"/>
              </a:xfrm>
            </p:grpSpPr>
            <p:sp>
              <p:nvSpPr>
                <p:cNvPr id="1784" name="Line 58"/>
                <p:cNvSpPr/>
                <p:nvPr/>
              </p:nvSpPr>
              <p:spPr>
                <a:xfrm flipH="1">
                  <a:off x="3729960" y="579888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85" name="Freeform 59"/>
                <p:cNvSpPr/>
                <p:nvPr/>
              </p:nvSpPr>
              <p:spPr>
                <a:xfrm flipH="1" rot="16200000">
                  <a:off x="3928680" y="536004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0 h 274680"/>
                    <a:gd name="textAreaBottom" fmla="*/ 27504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fc0128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786" name="Group 60"/>
          <p:cNvGrpSpPr/>
          <p:nvPr/>
        </p:nvGrpSpPr>
        <p:grpSpPr>
          <a:xfrm>
            <a:off x="2373480" y="4664160"/>
            <a:ext cx="639000" cy="239760"/>
            <a:chOff x="2373480" y="4664160"/>
            <a:chExt cx="639000" cy="239760"/>
          </a:xfrm>
        </p:grpSpPr>
        <p:sp>
          <p:nvSpPr>
            <p:cNvPr id="1787" name="Freeform 61"/>
            <p:cNvSpPr/>
            <p:nvPr/>
          </p:nvSpPr>
          <p:spPr>
            <a:xfrm flipH="1" rot="16200000">
              <a:off x="2362320" y="474480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788" name="Group 62"/>
            <p:cNvGrpSpPr/>
            <p:nvPr/>
          </p:nvGrpSpPr>
          <p:grpSpPr>
            <a:xfrm>
              <a:off x="2404080" y="4664160"/>
              <a:ext cx="608400" cy="239760"/>
              <a:chOff x="2404080" y="4664160"/>
              <a:chExt cx="608400" cy="239760"/>
            </a:xfrm>
          </p:grpSpPr>
          <p:sp>
            <p:nvSpPr>
              <p:cNvPr id="1789" name="Freeform 63"/>
              <p:cNvSpPr/>
              <p:nvPr/>
            </p:nvSpPr>
            <p:spPr>
              <a:xfrm flipH="1" rot="16200000">
                <a:off x="2702160" y="481968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0" name="Freeform 64"/>
              <p:cNvSpPr/>
              <p:nvPr/>
            </p:nvSpPr>
            <p:spPr>
              <a:xfrm flipH="1" rot="16200000">
                <a:off x="2601720" y="449280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1" name="Freeform 65"/>
              <p:cNvSpPr/>
              <p:nvPr/>
            </p:nvSpPr>
            <p:spPr>
              <a:xfrm flipH="1" rot="16200000">
                <a:off x="2831040" y="466668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92" name="Freeform 66"/>
              <p:cNvSpPr/>
              <p:nvPr/>
            </p:nvSpPr>
            <p:spPr>
              <a:xfrm flipH="1" rot="16200000">
                <a:off x="2634480" y="453132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793" name="Rectangle 67"/>
          <p:cNvSpPr/>
          <p:nvPr/>
        </p:nvSpPr>
        <p:spPr>
          <a:xfrm flipH="1" rot="16200000">
            <a:off x="1726200" y="450864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Rectangle 68"/>
          <p:cNvSpPr/>
          <p:nvPr/>
        </p:nvSpPr>
        <p:spPr>
          <a:xfrm flipH="1">
            <a:off x="178560" y="4433760"/>
            <a:ext cx="244980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  </a:t>
            </a:r>
            <a:r>
              <a:rPr b="1" lang="en-US" sz="1500" spc="-1" strike="noStrike" baseline="30000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ff99ff"/>
                </a:solidFill>
                <a:latin typeface="Arial Narrow"/>
                <a:ea typeface="MS PGothic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N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CO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3</a:t>
            </a:r>
            <a:r>
              <a:rPr b="1" lang="en-US" sz="17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)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95" name="Group 69"/>
          <p:cNvGrpSpPr/>
          <p:nvPr/>
        </p:nvGrpSpPr>
        <p:grpSpPr>
          <a:xfrm>
            <a:off x="6508800" y="3384720"/>
            <a:ext cx="734400" cy="207360"/>
            <a:chOff x="6508800" y="3384720"/>
            <a:chExt cx="734400" cy="207360"/>
          </a:xfrm>
        </p:grpSpPr>
        <p:sp>
          <p:nvSpPr>
            <p:cNvPr id="1796" name="Freeform 70"/>
            <p:cNvSpPr/>
            <p:nvPr/>
          </p:nvSpPr>
          <p:spPr>
            <a:xfrm flipH="1" rot="16200000">
              <a:off x="7001280" y="321516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7" name="Freeform 71"/>
            <p:cNvSpPr/>
            <p:nvPr/>
          </p:nvSpPr>
          <p:spPr>
            <a:xfrm flipH="1" rot="16200000">
              <a:off x="6800400" y="314928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98" name="Freeform 72"/>
            <p:cNvSpPr/>
            <p:nvPr/>
          </p:nvSpPr>
          <p:spPr>
            <a:xfrm flipH="1" rot="16200000">
              <a:off x="6636600" y="325620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99" name="Freeform 73"/>
          <p:cNvSpPr/>
          <p:nvPr/>
        </p:nvSpPr>
        <p:spPr>
          <a:xfrm flipH="1" rot="16200000">
            <a:off x="4424400" y="362592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0" name="Group 74"/>
          <p:cNvGrpSpPr/>
          <p:nvPr/>
        </p:nvGrpSpPr>
        <p:grpSpPr>
          <a:xfrm>
            <a:off x="4657680" y="4556160"/>
            <a:ext cx="1586880" cy="566640"/>
            <a:chOff x="4657680" y="4556160"/>
            <a:chExt cx="1586880" cy="566640"/>
          </a:xfrm>
        </p:grpSpPr>
        <p:sp>
          <p:nvSpPr>
            <p:cNvPr id="1801" name="Rectangle 75"/>
            <p:cNvSpPr/>
            <p:nvPr/>
          </p:nvSpPr>
          <p:spPr>
            <a:xfrm flipH="1">
              <a:off x="4657680" y="4556160"/>
              <a:ext cx="1296720" cy="3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CO</a:t>
              </a:r>
              <a:r>
                <a:rPr b="1" lang="en-US" sz="17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2" name="Rectangle 76"/>
            <p:cNvSpPr/>
            <p:nvPr/>
          </p:nvSpPr>
          <p:spPr>
            <a:xfrm flipH="1">
              <a:off x="4845600" y="4865400"/>
              <a:ext cx="13986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+ </a:t>
              </a:r>
              <a:r>
                <a:rPr b="1" lang="en-US" sz="1500" spc="-1" strike="noStrike">
                  <a:solidFill>
                    <a:srgbClr val="ff99ff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03" name="Group 77"/>
          <p:cNvGrpSpPr/>
          <p:nvPr/>
        </p:nvGrpSpPr>
        <p:grpSpPr>
          <a:xfrm>
            <a:off x="5924520" y="4545000"/>
            <a:ext cx="2990520" cy="620640"/>
            <a:chOff x="5924520" y="4545000"/>
            <a:chExt cx="2990520" cy="620640"/>
          </a:xfrm>
        </p:grpSpPr>
        <p:sp>
          <p:nvSpPr>
            <p:cNvPr id="1804" name="Rectangle 78"/>
            <p:cNvSpPr/>
            <p:nvPr/>
          </p:nvSpPr>
          <p:spPr>
            <a:xfrm flipH="1">
              <a:off x="7739280" y="4705200"/>
              <a:ext cx="117576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5" name="Line 79"/>
            <p:cNvSpPr/>
            <p:nvPr/>
          </p:nvSpPr>
          <p:spPr>
            <a:xfrm>
              <a:off x="5988960" y="4992480"/>
              <a:ext cx="22752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6" name="Rectangle 80"/>
            <p:cNvSpPr/>
            <p:nvPr/>
          </p:nvSpPr>
          <p:spPr>
            <a:xfrm flipH="1">
              <a:off x="6123600" y="4545000"/>
              <a:ext cx="60732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C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3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7" name="Line 81"/>
            <p:cNvSpPr/>
            <p:nvPr/>
          </p:nvSpPr>
          <p:spPr>
            <a:xfrm>
              <a:off x="5924520" y="4690800"/>
              <a:ext cx="2260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08" name="Text Box 82"/>
            <p:cNvSpPr/>
            <p:nvPr/>
          </p:nvSpPr>
          <p:spPr>
            <a:xfrm flipH="1">
              <a:off x="6195600" y="4843440"/>
              <a:ext cx="4795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09" name="Group 83"/>
            <p:cNvGrpSpPr/>
            <p:nvPr/>
          </p:nvGrpSpPr>
          <p:grpSpPr>
            <a:xfrm>
              <a:off x="7012080" y="4713120"/>
              <a:ext cx="739080" cy="239760"/>
              <a:chOff x="7012080" y="4713120"/>
              <a:chExt cx="739080" cy="239760"/>
            </a:xfrm>
          </p:grpSpPr>
          <p:sp>
            <p:nvSpPr>
              <p:cNvPr id="1810" name="Freeform 84"/>
              <p:cNvSpPr/>
              <p:nvPr/>
            </p:nvSpPr>
            <p:spPr>
              <a:xfrm flipH="1" rot="16200000">
                <a:off x="7007760" y="4786920"/>
                <a:ext cx="110160" cy="10152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101520"/>
                  <a:gd name="textAreaBottom" fmla="*/ 101880 h 10152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11" name="Group 85"/>
              <p:cNvGrpSpPr/>
              <p:nvPr/>
            </p:nvGrpSpPr>
            <p:grpSpPr>
              <a:xfrm>
                <a:off x="7047360" y="4713120"/>
                <a:ext cx="703800" cy="239760"/>
                <a:chOff x="7047360" y="4713120"/>
                <a:chExt cx="703800" cy="239760"/>
              </a:xfrm>
            </p:grpSpPr>
            <p:sp>
              <p:nvSpPr>
                <p:cNvPr id="1812" name="Freeform 86"/>
                <p:cNvSpPr/>
                <p:nvPr/>
              </p:nvSpPr>
              <p:spPr>
                <a:xfrm flipH="1" rot="16200000">
                  <a:off x="7398720" y="4862160"/>
                  <a:ext cx="85680" cy="95760"/>
                </a:xfrm>
                <a:custGeom>
                  <a:avLst/>
                  <a:gdLst>
                    <a:gd name="textAreaLeft" fmla="*/ 360 w 85680"/>
                    <a:gd name="textAreaRight" fmla="*/ 86400 w 85680"/>
                    <a:gd name="textAreaTop" fmla="*/ 0 h 95760"/>
                    <a:gd name="textAreaBottom" fmla="*/ 96120 h 9576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3" name="Freeform 87"/>
                <p:cNvSpPr/>
                <p:nvPr/>
              </p:nvSpPr>
              <p:spPr>
                <a:xfrm flipH="1" rot="16200000">
                  <a:off x="7292160" y="4493880"/>
                  <a:ext cx="213120" cy="703800"/>
                </a:xfrm>
                <a:custGeom>
                  <a:avLst/>
                  <a:gdLst>
                    <a:gd name="textAreaLeft" fmla="*/ 360 w 213120"/>
                    <a:gd name="textAreaRight" fmla="*/ 213840 w 213120"/>
                    <a:gd name="textAreaTop" fmla="*/ 0 h 703800"/>
                    <a:gd name="textAreaBottom" fmla="*/ 704160 h 70380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4" name="Freeform 88"/>
                <p:cNvSpPr/>
                <p:nvPr/>
              </p:nvSpPr>
              <p:spPr>
                <a:xfrm flipH="1" rot="16200000">
                  <a:off x="7548840" y="4708800"/>
                  <a:ext cx="93240" cy="101520"/>
                </a:xfrm>
                <a:custGeom>
                  <a:avLst/>
                  <a:gdLst>
                    <a:gd name="textAreaLeft" fmla="*/ -360 w 93240"/>
                    <a:gd name="textAreaRight" fmla="*/ 93240 w 9324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15" name="Freeform 89"/>
                <p:cNvSpPr/>
                <p:nvPr/>
              </p:nvSpPr>
              <p:spPr>
                <a:xfrm flipH="1" rot="16200000">
                  <a:off x="7315560" y="4546800"/>
                  <a:ext cx="23400" cy="4950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95000"/>
                    <a:gd name="textAreaBottom" fmla="*/ 495360 h 4950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1816" name="Group 90"/>
          <p:cNvGrpSpPr/>
          <p:nvPr/>
        </p:nvGrpSpPr>
        <p:grpSpPr>
          <a:xfrm>
            <a:off x="4300200" y="3236760"/>
            <a:ext cx="2169000" cy="3055680"/>
            <a:chOff x="4300200" y="3236760"/>
            <a:chExt cx="2169000" cy="3055680"/>
          </a:xfrm>
        </p:grpSpPr>
        <p:grpSp>
          <p:nvGrpSpPr>
            <p:cNvPr id="1817" name="Group 91"/>
            <p:cNvGrpSpPr/>
            <p:nvPr/>
          </p:nvGrpSpPr>
          <p:grpSpPr>
            <a:xfrm>
              <a:off x="4300200" y="3236760"/>
              <a:ext cx="2169000" cy="455760"/>
              <a:chOff x="4300200" y="3236760"/>
              <a:chExt cx="2169000" cy="455760"/>
            </a:xfrm>
          </p:grpSpPr>
          <p:sp>
            <p:nvSpPr>
              <p:cNvPr id="1818" name="Rectangle 92"/>
              <p:cNvSpPr/>
              <p:nvPr/>
            </p:nvSpPr>
            <p:spPr>
              <a:xfrm flipH="1">
                <a:off x="4299840" y="338904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9" name="Freeform 93"/>
              <p:cNvSpPr/>
              <p:nvPr/>
            </p:nvSpPr>
            <p:spPr>
              <a:xfrm flipH="1" rot="16200000">
                <a:off x="5545080" y="306360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0" name="Rectangle 94"/>
              <p:cNvSpPr/>
              <p:nvPr/>
            </p:nvSpPr>
            <p:spPr>
              <a:xfrm flipH="1">
                <a:off x="5850000" y="33271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21" name="Group 95"/>
            <p:cNvGrpSpPr/>
            <p:nvPr/>
          </p:nvGrpSpPr>
          <p:grpSpPr>
            <a:xfrm>
              <a:off x="4432320" y="5886360"/>
              <a:ext cx="2036880" cy="406080"/>
              <a:chOff x="4432320" y="5886360"/>
              <a:chExt cx="2036880" cy="406080"/>
            </a:xfrm>
          </p:grpSpPr>
          <p:sp>
            <p:nvSpPr>
              <p:cNvPr id="1822" name="Rectangle 96"/>
              <p:cNvSpPr/>
              <p:nvPr/>
            </p:nvSpPr>
            <p:spPr>
              <a:xfrm flipH="1">
                <a:off x="4432320" y="588636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3" name="Freeform 97"/>
              <p:cNvSpPr/>
              <p:nvPr/>
            </p:nvSpPr>
            <p:spPr>
              <a:xfrm flipH="1" flipV="1" rot="5400000">
                <a:off x="5545080" y="588384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24" name="Rectangle 98"/>
              <p:cNvSpPr/>
              <p:nvPr/>
            </p:nvSpPr>
            <p:spPr>
              <a:xfrm flipH="1">
                <a:off x="5850000" y="592452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25" name="Line 99"/>
          <p:cNvSpPr/>
          <p:nvPr/>
        </p:nvSpPr>
        <p:spPr>
          <a:xfrm flipH="1">
            <a:off x="512280" y="405756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100"/>
          <p:cNvSpPr/>
          <p:nvPr/>
        </p:nvSpPr>
        <p:spPr>
          <a:xfrm flipH="1">
            <a:off x="512280" y="5492880"/>
            <a:ext cx="1435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Line 101"/>
          <p:cNvSpPr/>
          <p:nvPr/>
        </p:nvSpPr>
        <p:spPr>
          <a:xfrm flipH="1">
            <a:off x="7155000" y="405756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8" name="Line 102"/>
          <p:cNvSpPr/>
          <p:nvPr/>
        </p:nvSpPr>
        <p:spPr>
          <a:xfrm flipH="1">
            <a:off x="7155000" y="550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9" name="Group 103"/>
          <p:cNvGrpSpPr/>
          <p:nvPr/>
        </p:nvGrpSpPr>
        <p:grpSpPr>
          <a:xfrm>
            <a:off x="1595520" y="3405240"/>
            <a:ext cx="1882800" cy="2820960"/>
            <a:chOff x="1595520" y="3405240"/>
            <a:chExt cx="1882800" cy="2820960"/>
          </a:xfrm>
        </p:grpSpPr>
        <p:sp>
          <p:nvSpPr>
            <p:cNvPr id="1830" name="Rectangle 104"/>
            <p:cNvSpPr/>
            <p:nvPr/>
          </p:nvSpPr>
          <p:spPr>
            <a:xfrm flipH="1">
              <a:off x="2238480" y="5922720"/>
              <a:ext cx="1239840" cy="30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Na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1" name="Rectangle 105"/>
            <p:cNvSpPr/>
            <p:nvPr/>
          </p:nvSpPr>
          <p:spPr>
            <a:xfrm flipH="1">
              <a:off x="2346480" y="3405240"/>
              <a:ext cx="70632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32" name="Group 106"/>
            <p:cNvGrpSpPr/>
            <p:nvPr/>
          </p:nvGrpSpPr>
          <p:grpSpPr>
            <a:xfrm>
              <a:off x="1595520" y="5951520"/>
              <a:ext cx="738000" cy="207720"/>
              <a:chOff x="1595520" y="5951520"/>
              <a:chExt cx="738000" cy="207720"/>
            </a:xfrm>
          </p:grpSpPr>
          <p:sp>
            <p:nvSpPr>
              <p:cNvPr id="1833" name="Freeform 107"/>
              <p:cNvSpPr/>
              <p:nvPr/>
            </p:nvSpPr>
            <p:spPr>
              <a:xfrm flipH="1" rot="16200000">
                <a:off x="2091240" y="578160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4" name="Freeform 108"/>
              <p:cNvSpPr/>
              <p:nvPr/>
            </p:nvSpPr>
            <p:spPr>
              <a:xfrm flipH="1" rot="16200000">
                <a:off x="1890000" y="5716080"/>
                <a:ext cx="181800" cy="70452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5" name="Freeform 109"/>
              <p:cNvSpPr/>
              <p:nvPr/>
            </p:nvSpPr>
            <p:spPr>
              <a:xfrm flipH="1" rot="16200000">
                <a:off x="1724400" y="582264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36" name="Group 110"/>
            <p:cNvGrpSpPr/>
            <p:nvPr/>
          </p:nvGrpSpPr>
          <p:grpSpPr>
            <a:xfrm>
              <a:off x="1595520" y="3416040"/>
              <a:ext cx="738000" cy="208080"/>
              <a:chOff x="1595520" y="3416040"/>
              <a:chExt cx="738000" cy="208080"/>
            </a:xfrm>
          </p:grpSpPr>
          <p:sp>
            <p:nvSpPr>
              <p:cNvPr id="1837" name="Freeform 111"/>
              <p:cNvSpPr/>
              <p:nvPr/>
            </p:nvSpPr>
            <p:spPr>
              <a:xfrm flipH="1" rot="16200000">
                <a:off x="2091240" y="3246120"/>
                <a:ext cx="24840" cy="45936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8" name="Freeform 112"/>
              <p:cNvSpPr/>
              <p:nvPr/>
            </p:nvSpPr>
            <p:spPr>
              <a:xfrm flipH="1" rot="16200000">
                <a:off x="1889640" y="3180600"/>
                <a:ext cx="182160" cy="704520"/>
              </a:xfrm>
              <a:custGeom>
                <a:avLst/>
                <a:gdLst>
                  <a:gd name="textAreaLeft" fmla="*/ 360 w 182160"/>
                  <a:gd name="textAreaRight" fmla="*/ 182880 w 18216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39" name="Freeform 113"/>
              <p:cNvSpPr/>
              <p:nvPr/>
            </p:nvSpPr>
            <p:spPr>
              <a:xfrm flipH="1" rot="16200000">
                <a:off x="1724040" y="3287160"/>
                <a:ext cx="109800" cy="367200"/>
              </a:xfrm>
              <a:custGeom>
                <a:avLst/>
                <a:gdLst>
                  <a:gd name="textAreaLeft" fmla="*/ -360 w 109800"/>
                  <a:gd name="textAreaRight" fmla="*/ 109800 w 10980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40" name="Group 114"/>
          <p:cNvGrpSpPr/>
          <p:nvPr/>
        </p:nvGrpSpPr>
        <p:grpSpPr>
          <a:xfrm>
            <a:off x="993600" y="5492880"/>
            <a:ext cx="6979680" cy="1163520"/>
            <a:chOff x="993600" y="5492880"/>
            <a:chExt cx="6979680" cy="1163520"/>
          </a:xfrm>
        </p:grpSpPr>
        <p:sp>
          <p:nvSpPr>
            <p:cNvPr id="1841" name="Freeform 115"/>
            <p:cNvSpPr/>
            <p:nvPr/>
          </p:nvSpPr>
          <p:spPr>
            <a:xfrm>
              <a:off x="993600" y="549288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Freeform 116"/>
            <p:cNvSpPr/>
            <p:nvPr/>
          </p:nvSpPr>
          <p:spPr>
            <a:xfrm flipH="1">
              <a:off x="4458240" y="549288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3" name="Line 117"/>
          <p:cNvSpPr/>
          <p:nvPr/>
        </p:nvSpPr>
        <p:spPr>
          <a:xfrm flipV="1">
            <a:off x="798336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4" name="Group 118"/>
          <p:cNvGrpSpPr/>
          <p:nvPr/>
        </p:nvGrpSpPr>
        <p:grpSpPr>
          <a:xfrm>
            <a:off x="1700280" y="2263680"/>
            <a:ext cx="5679720" cy="571680"/>
            <a:chOff x="1700280" y="2263680"/>
            <a:chExt cx="5679720" cy="571680"/>
          </a:xfrm>
        </p:grpSpPr>
        <p:sp>
          <p:nvSpPr>
            <p:cNvPr id="1845" name="Freeform 119"/>
            <p:cNvSpPr/>
            <p:nvPr/>
          </p:nvSpPr>
          <p:spPr>
            <a:xfrm>
              <a:off x="1700280" y="226368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Freeform 120"/>
            <p:cNvSpPr/>
            <p:nvPr/>
          </p:nvSpPr>
          <p:spPr>
            <a:xfrm flipH="1">
              <a:off x="4520160" y="226368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47" name="Line 121"/>
          <p:cNvSpPr/>
          <p:nvPr/>
        </p:nvSpPr>
        <p:spPr>
          <a:xfrm flipV="1">
            <a:off x="982800" y="198864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48" name="Group 122"/>
          <p:cNvGrpSpPr/>
          <p:nvPr/>
        </p:nvGrpSpPr>
        <p:grpSpPr>
          <a:xfrm>
            <a:off x="579240" y="1960560"/>
            <a:ext cx="1488960" cy="4255560"/>
            <a:chOff x="579240" y="1960560"/>
            <a:chExt cx="1488960" cy="4255560"/>
          </a:xfrm>
        </p:grpSpPr>
        <p:sp>
          <p:nvSpPr>
            <p:cNvPr id="1849" name="Rectangle 123"/>
            <p:cNvSpPr/>
            <p:nvPr/>
          </p:nvSpPr>
          <p:spPr>
            <a:xfrm flipH="1">
              <a:off x="956520" y="1960560"/>
              <a:ext cx="111132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0" name="Rectangle 124"/>
            <p:cNvSpPr/>
            <p:nvPr/>
          </p:nvSpPr>
          <p:spPr>
            <a:xfrm flipH="1">
              <a:off x="578880" y="5981760"/>
              <a:ext cx="1322280" cy="23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waste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51" name="Group 125"/>
            <p:cNvGrpSpPr/>
            <p:nvPr/>
          </p:nvGrpSpPr>
          <p:grpSpPr>
            <a:xfrm>
              <a:off x="1207080" y="5575320"/>
              <a:ext cx="218520" cy="392040"/>
              <a:chOff x="1207080" y="5575320"/>
              <a:chExt cx="218520" cy="392040"/>
            </a:xfrm>
          </p:grpSpPr>
          <p:sp>
            <p:nvSpPr>
              <p:cNvPr id="1852" name="Freeform 126"/>
              <p:cNvSpPr/>
              <p:nvPr/>
            </p:nvSpPr>
            <p:spPr>
              <a:xfrm flipH="1">
                <a:off x="1349640" y="5723280"/>
                <a:ext cx="25920" cy="244080"/>
              </a:xfrm>
              <a:custGeom>
                <a:avLst/>
                <a:gdLst>
                  <a:gd name="textAreaLeft" fmla="*/ 360 w 25920"/>
                  <a:gd name="textAreaRight" fmla="*/ 26640 w 25920"/>
                  <a:gd name="textAreaTop" fmla="*/ 0 h 244080"/>
                  <a:gd name="textAreaBottom" fmla="*/ 244440 h 24408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3" name="Freeform 127"/>
              <p:cNvSpPr/>
              <p:nvPr/>
            </p:nvSpPr>
            <p:spPr>
              <a:xfrm flipH="1">
                <a:off x="1207080" y="5592960"/>
                <a:ext cx="191520" cy="374040"/>
              </a:xfrm>
              <a:custGeom>
                <a:avLst/>
                <a:gdLst>
                  <a:gd name="textAreaLeft" fmla="*/ 360 w 191520"/>
                  <a:gd name="textAreaRight" fmla="*/ 192240 w 191520"/>
                  <a:gd name="textAreaTop" fmla="*/ 0 h 374040"/>
                  <a:gd name="textAreaBottom" fmla="*/ 374400 h 37404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4" name="Freeform 128"/>
              <p:cNvSpPr/>
              <p:nvPr/>
            </p:nvSpPr>
            <p:spPr>
              <a:xfrm flipH="1">
                <a:off x="1309680" y="5575320"/>
                <a:ext cx="115560" cy="194760"/>
              </a:xfrm>
              <a:custGeom>
                <a:avLst/>
                <a:gdLst>
                  <a:gd name="textAreaLeft" fmla="*/ -360 w 115560"/>
                  <a:gd name="textAreaRight" fmla="*/ 115560 w 115560"/>
                  <a:gd name="textAreaTop" fmla="*/ 0 h 194760"/>
                  <a:gd name="textAreaBottom" fmla="*/ 195120 h 19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855" name="Group 129"/>
            <p:cNvGrpSpPr/>
            <p:nvPr/>
          </p:nvGrpSpPr>
          <p:grpSpPr>
            <a:xfrm>
              <a:off x="1206720" y="2484360"/>
              <a:ext cx="193680" cy="934200"/>
              <a:chOff x="1206720" y="2484360"/>
              <a:chExt cx="193680" cy="934200"/>
            </a:xfrm>
          </p:grpSpPr>
          <p:sp>
            <p:nvSpPr>
              <p:cNvPr id="1856" name="Freeform 130"/>
              <p:cNvSpPr/>
              <p:nvPr/>
            </p:nvSpPr>
            <p:spPr>
              <a:xfrm flipH="1">
                <a:off x="1333080" y="2836800"/>
                <a:ext cx="23040" cy="581760"/>
              </a:xfrm>
              <a:custGeom>
                <a:avLst/>
                <a:gdLst>
                  <a:gd name="textAreaLeft" fmla="*/ 360 w 23040"/>
                  <a:gd name="textAreaRight" fmla="*/ 23760 w 23040"/>
                  <a:gd name="textAreaTop" fmla="*/ 0 h 581760"/>
                  <a:gd name="textAreaBottom" fmla="*/ 582120 h 5817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7" name="Freeform 131"/>
              <p:cNvSpPr/>
              <p:nvPr/>
            </p:nvSpPr>
            <p:spPr>
              <a:xfrm flipH="1">
                <a:off x="1206360" y="2526480"/>
                <a:ext cx="169560" cy="892080"/>
              </a:xfrm>
              <a:custGeom>
                <a:avLst/>
                <a:gdLst>
                  <a:gd name="textAreaLeft" fmla="*/ -360 w 169560"/>
                  <a:gd name="textAreaRight" fmla="*/ 169560 w 169560"/>
                  <a:gd name="textAreaTop" fmla="*/ 0 h 892080"/>
                  <a:gd name="textAreaBottom" fmla="*/ 892440 h 89208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58" name="Freeform 132"/>
              <p:cNvSpPr/>
              <p:nvPr/>
            </p:nvSpPr>
            <p:spPr>
              <a:xfrm flipH="1">
                <a:off x="1298160" y="2484360"/>
                <a:ext cx="102240" cy="464760"/>
              </a:xfrm>
              <a:custGeom>
                <a:avLst/>
                <a:gdLst>
                  <a:gd name="textAreaLeft" fmla="*/ 360 w 102240"/>
                  <a:gd name="textAreaRight" fmla="*/ 102960 w 102240"/>
                  <a:gd name="textAreaTop" fmla="*/ 0 h 464760"/>
                  <a:gd name="textAreaBottom" fmla="*/ 465120 h 46476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59" name="Group 133"/>
          <p:cNvGrpSpPr/>
          <p:nvPr/>
        </p:nvGrpSpPr>
        <p:grpSpPr>
          <a:xfrm>
            <a:off x="7564320" y="2485080"/>
            <a:ext cx="193680" cy="934560"/>
            <a:chOff x="7564320" y="2485080"/>
            <a:chExt cx="193680" cy="934560"/>
          </a:xfrm>
        </p:grpSpPr>
        <p:sp>
          <p:nvSpPr>
            <p:cNvPr id="1860" name="Freeform 134"/>
            <p:cNvSpPr/>
            <p:nvPr/>
          </p:nvSpPr>
          <p:spPr>
            <a:xfrm flipH="1" flipV="1">
              <a:off x="7690680" y="248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1" name="Freeform 135"/>
            <p:cNvSpPr/>
            <p:nvPr/>
          </p:nvSpPr>
          <p:spPr>
            <a:xfrm flipH="1" flipV="1">
              <a:off x="7563960" y="248472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2" name="Freeform 136"/>
            <p:cNvSpPr/>
            <p:nvPr/>
          </p:nvSpPr>
          <p:spPr>
            <a:xfrm flipH="1" flipV="1">
              <a:off x="7655760" y="295452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3" name="Group 137"/>
          <p:cNvGrpSpPr/>
          <p:nvPr/>
        </p:nvGrpSpPr>
        <p:grpSpPr>
          <a:xfrm>
            <a:off x="7528320" y="5574960"/>
            <a:ext cx="218520" cy="392040"/>
            <a:chOff x="7528320" y="5574960"/>
            <a:chExt cx="218520" cy="392040"/>
          </a:xfrm>
        </p:grpSpPr>
        <p:sp>
          <p:nvSpPr>
            <p:cNvPr id="1864" name="Freeform 138"/>
            <p:cNvSpPr/>
            <p:nvPr/>
          </p:nvSpPr>
          <p:spPr>
            <a:xfrm flipH="1" flipV="1">
              <a:off x="7670880" y="557496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5" name="Freeform 139"/>
            <p:cNvSpPr/>
            <p:nvPr/>
          </p:nvSpPr>
          <p:spPr>
            <a:xfrm flipH="1" flipV="1">
              <a:off x="7528320" y="557496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6" name="Freeform 140"/>
            <p:cNvSpPr/>
            <p:nvPr/>
          </p:nvSpPr>
          <p:spPr>
            <a:xfrm flipH="1" flipV="1">
              <a:off x="7630920" y="577188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7" name="Rectangle 141"/>
          <p:cNvSpPr/>
          <p:nvPr/>
        </p:nvSpPr>
        <p:spPr>
          <a:xfrm flipH="1">
            <a:off x="1977480" y="6321600"/>
            <a:ext cx="15015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 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8" name="Rectangle 142"/>
          <p:cNvSpPr/>
          <p:nvPr/>
        </p:nvSpPr>
        <p:spPr>
          <a:xfrm flipH="1">
            <a:off x="2026440" y="29574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9" name="Group 144"/>
          <p:cNvGrpSpPr/>
          <p:nvPr/>
        </p:nvGrpSpPr>
        <p:grpSpPr>
          <a:xfrm>
            <a:off x="3917880" y="3300480"/>
            <a:ext cx="914040" cy="406800"/>
            <a:chOff x="3917880" y="3300480"/>
            <a:chExt cx="914040" cy="406800"/>
          </a:xfrm>
        </p:grpSpPr>
        <p:sp>
          <p:nvSpPr>
            <p:cNvPr id="1870" name="Rectangle 145"/>
            <p:cNvSpPr/>
            <p:nvPr/>
          </p:nvSpPr>
          <p:spPr>
            <a:xfrm flipH="1">
              <a:off x="3917880" y="3435120"/>
              <a:ext cx="65376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1" name="Rectangle 146"/>
            <p:cNvSpPr/>
            <p:nvPr/>
          </p:nvSpPr>
          <p:spPr>
            <a:xfrm flipH="1">
              <a:off x="4177440" y="3300480"/>
              <a:ext cx="65412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2" name="Group 147"/>
          <p:cNvGrpSpPr/>
          <p:nvPr/>
        </p:nvGrpSpPr>
        <p:grpSpPr>
          <a:xfrm>
            <a:off x="3960360" y="3305160"/>
            <a:ext cx="820440" cy="1600920"/>
            <a:chOff x="3960360" y="3305160"/>
            <a:chExt cx="820440" cy="1600920"/>
          </a:xfrm>
        </p:grpSpPr>
        <p:sp>
          <p:nvSpPr>
            <p:cNvPr id="1873" name="Rectangle 148"/>
            <p:cNvSpPr/>
            <p:nvPr/>
          </p:nvSpPr>
          <p:spPr>
            <a:xfrm flipH="1">
              <a:off x="3960000" y="447336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4" name="Rectangle 149"/>
            <p:cNvSpPr/>
            <p:nvPr/>
          </p:nvSpPr>
          <p:spPr>
            <a:xfrm flipH="1">
              <a:off x="4132800" y="4633920"/>
              <a:ext cx="647640" cy="27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Arial Narrow"/>
                  <a:ea typeface="MS PGothic"/>
                </a:rPr>
                <a:t>+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75" name="Group 150"/>
            <p:cNvGrpSpPr/>
            <p:nvPr/>
          </p:nvGrpSpPr>
          <p:grpSpPr>
            <a:xfrm>
              <a:off x="4062240" y="3305160"/>
              <a:ext cx="690480" cy="1170000"/>
              <a:chOff x="4062240" y="3305160"/>
              <a:chExt cx="690480" cy="1170000"/>
            </a:xfrm>
          </p:grpSpPr>
          <p:grpSp>
            <p:nvGrpSpPr>
              <p:cNvPr id="1876" name="Group 151"/>
              <p:cNvGrpSpPr/>
              <p:nvPr/>
            </p:nvGrpSpPr>
            <p:grpSpPr>
              <a:xfrm>
                <a:off x="4118760" y="3692520"/>
                <a:ext cx="633960" cy="782640"/>
                <a:chOff x="4118760" y="3692520"/>
                <a:chExt cx="633960" cy="782640"/>
              </a:xfrm>
            </p:grpSpPr>
            <p:sp>
              <p:nvSpPr>
                <p:cNvPr id="1877" name="Line 152"/>
                <p:cNvSpPr/>
                <p:nvPr/>
              </p:nvSpPr>
              <p:spPr>
                <a:xfrm>
                  <a:off x="4132080" y="447516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78" name="Freeform 153"/>
                <p:cNvSpPr/>
                <p:nvPr/>
              </p:nvSpPr>
              <p:spPr>
                <a:xfrm flipH="1" rot="16200000">
                  <a:off x="3857040" y="395352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0 h 260280"/>
                    <a:gd name="textAreaBottom" fmla="*/ 26064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fc0128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79" name="Rectangle 154"/>
              <p:cNvSpPr/>
              <p:nvPr/>
            </p:nvSpPr>
            <p:spPr>
              <a:xfrm>
                <a:off x="4062240" y="3305160"/>
                <a:ext cx="584280" cy="3556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880" name="Rectangle 155"/>
          <p:cNvSpPr/>
          <p:nvPr/>
        </p:nvSpPr>
        <p:spPr>
          <a:xfrm flipH="1">
            <a:off x="2054160" y="5361120"/>
            <a:ext cx="28972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156"/>
          <p:cNvSpPr/>
          <p:nvPr/>
        </p:nvSpPr>
        <p:spPr>
          <a:xfrm flipH="1">
            <a:off x="1960560" y="3933720"/>
            <a:ext cx="288432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Cat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Text Box 157"/>
          <p:cNvSpPr/>
          <p:nvPr/>
        </p:nvSpPr>
        <p:spPr>
          <a:xfrm>
            <a:off x="6687000" y="154152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3" name="Rectangle 158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1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1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1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500"/>
                                        <p:tgtEl>
                                          <p:spTgt spid="1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500"/>
                                        <p:tgtEl>
                                          <p:spTgt spid="1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/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500"/>
                                        <p:tgtEl>
                                          <p:spTgt spid="1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5" dur="5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g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원리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양이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5" name="Rectangle 5"/>
          <p:cNvSpPr/>
          <p:nvPr/>
        </p:nvSpPr>
        <p:spPr>
          <a:xfrm flipH="1">
            <a:off x="7500240" y="5977080"/>
            <a:ext cx="4604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6" name="Rectangle 6"/>
          <p:cNvSpPr/>
          <p:nvPr/>
        </p:nvSpPr>
        <p:spPr>
          <a:xfrm flipH="1">
            <a:off x="7299360" y="3384720"/>
            <a:ext cx="807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Freeform 7"/>
          <p:cNvSpPr/>
          <p:nvPr/>
        </p:nvSpPr>
        <p:spPr>
          <a:xfrm flipH="1" rot="16200000">
            <a:off x="4655880" y="272880"/>
            <a:ext cx="222120" cy="564192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8"/>
          <p:cNvSpPr/>
          <p:nvPr/>
        </p:nvSpPr>
        <p:spPr>
          <a:xfrm flipH="1" rot="16200000">
            <a:off x="4578120" y="2913840"/>
            <a:ext cx="392040" cy="5181480"/>
          </a:xfrm>
          <a:custGeom>
            <a:avLst/>
            <a:gdLst>
              <a:gd name="textAreaLeft" fmla="*/ -360 w 392040"/>
              <a:gd name="textAreaRight" fmla="*/ 392040 w 39204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2" h="2176">
                <a:moveTo>
                  <a:pt x="411" y="2175"/>
                </a:moveTo>
                <a:lnTo>
                  <a:pt x="411" y="0"/>
                </a:lnTo>
                <a:lnTo>
                  <a:pt x="0" y="0"/>
                </a:lnTo>
                <a:lnTo>
                  <a:pt x="0" y="2175"/>
                </a:lnTo>
                <a:lnTo>
                  <a:pt x="411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9"/>
          <p:cNvSpPr/>
          <p:nvPr/>
        </p:nvSpPr>
        <p:spPr>
          <a:xfrm>
            <a:off x="447660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10"/>
          <p:cNvSpPr/>
          <p:nvPr/>
        </p:nvSpPr>
        <p:spPr>
          <a:xfrm flipH="1" rot="16200000">
            <a:off x="4585680" y="1492920"/>
            <a:ext cx="392400" cy="5181480"/>
          </a:xfrm>
          <a:custGeom>
            <a:avLst/>
            <a:gdLst>
              <a:gd name="textAreaLeft" fmla="*/ 360 w 392400"/>
              <a:gd name="textAreaRight" fmla="*/ 393120 w 392400"/>
              <a:gd name="textAreaTop" fmla="*/ 0 h 5181480"/>
              <a:gd name="textAreaBottom" fmla="*/ 5181840 h 5181480"/>
            </a:gdLst>
            <a:ahLst/>
            <a:rect l="textAreaLeft" t="textAreaTop" r="textAreaRight" b="textAreaBottom"/>
            <a:pathLst>
              <a:path w="411" h="2176">
                <a:moveTo>
                  <a:pt x="410" y="2175"/>
                </a:moveTo>
                <a:lnTo>
                  <a:pt x="410" y="0"/>
                </a:lnTo>
                <a:lnTo>
                  <a:pt x="0" y="0"/>
                </a:lnTo>
                <a:lnTo>
                  <a:pt x="0" y="2175"/>
                </a:lnTo>
                <a:lnTo>
                  <a:pt x="410" y="2175"/>
                </a:lnTo>
              </a:path>
            </a:pathLst>
          </a:custGeom>
          <a:solidFill>
            <a:srgbClr val="e5f595"/>
          </a:solidFill>
          <a:ln cap="rnd" w="255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Line 11"/>
          <p:cNvSpPr/>
          <p:nvPr/>
        </p:nvSpPr>
        <p:spPr>
          <a:xfrm>
            <a:off x="448452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2" name="Line 12"/>
          <p:cNvSpPr/>
          <p:nvPr/>
        </p:nvSpPr>
        <p:spPr>
          <a:xfrm>
            <a:off x="248292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3" name="Line 13"/>
          <p:cNvSpPr/>
          <p:nvPr/>
        </p:nvSpPr>
        <p:spPr>
          <a:xfrm>
            <a:off x="280656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Line 14"/>
          <p:cNvSpPr/>
          <p:nvPr/>
        </p:nvSpPr>
        <p:spPr>
          <a:xfrm>
            <a:off x="3149640" y="389268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Line 15"/>
          <p:cNvSpPr/>
          <p:nvPr/>
        </p:nvSpPr>
        <p:spPr>
          <a:xfrm>
            <a:off x="347976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6" name="Line 16"/>
          <p:cNvSpPr/>
          <p:nvPr/>
        </p:nvSpPr>
        <p:spPr>
          <a:xfrm>
            <a:off x="3808440" y="3887640"/>
            <a:ext cx="0" cy="38124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7" name="Line 17"/>
          <p:cNvSpPr/>
          <p:nvPr/>
        </p:nvSpPr>
        <p:spPr>
          <a:xfrm>
            <a:off x="414036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8" name="Line 18"/>
          <p:cNvSpPr/>
          <p:nvPr/>
        </p:nvSpPr>
        <p:spPr>
          <a:xfrm>
            <a:off x="4799160" y="38782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Line 19"/>
          <p:cNvSpPr/>
          <p:nvPr/>
        </p:nvSpPr>
        <p:spPr>
          <a:xfrm>
            <a:off x="512928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Line 20"/>
          <p:cNvSpPr/>
          <p:nvPr/>
        </p:nvSpPr>
        <p:spPr>
          <a:xfrm>
            <a:off x="5459400" y="387972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1" name="Line 21"/>
          <p:cNvSpPr/>
          <p:nvPr/>
        </p:nvSpPr>
        <p:spPr>
          <a:xfrm>
            <a:off x="5788080" y="38941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2" name="Line 22"/>
          <p:cNvSpPr/>
          <p:nvPr/>
        </p:nvSpPr>
        <p:spPr>
          <a:xfrm>
            <a:off x="6116760" y="389268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3" name="Line 23"/>
          <p:cNvSpPr/>
          <p:nvPr/>
        </p:nvSpPr>
        <p:spPr>
          <a:xfrm>
            <a:off x="64483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4" name="Line 24"/>
          <p:cNvSpPr/>
          <p:nvPr/>
        </p:nvSpPr>
        <p:spPr>
          <a:xfrm>
            <a:off x="677700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Line 25"/>
          <p:cNvSpPr/>
          <p:nvPr/>
        </p:nvSpPr>
        <p:spPr>
          <a:xfrm>
            <a:off x="7107120" y="388764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Line 26"/>
          <p:cNvSpPr/>
          <p:nvPr/>
        </p:nvSpPr>
        <p:spPr>
          <a:xfrm>
            <a:off x="247500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Line 27"/>
          <p:cNvSpPr/>
          <p:nvPr/>
        </p:nvSpPr>
        <p:spPr>
          <a:xfrm>
            <a:off x="279864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8" name="Line 28"/>
          <p:cNvSpPr/>
          <p:nvPr/>
        </p:nvSpPr>
        <p:spPr>
          <a:xfrm>
            <a:off x="3141720" y="5302080"/>
            <a:ext cx="0" cy="400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Line 29"/>
          <p:cNvSpPr/>
          <p:nvPr/>
        </p:nvSpPr>
        <p:spPr>
          <a:xfrm>
            <a:off x="347184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Line 30"/>
          <p:cNvSpPr/>
          <p:nvPr/>
        </p:nvSpPr>
        <p:spPr>
          <a:xfrm>
            <a:off x="3800520" y="531036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Line 31"/>
          <p:cNvSpPr/>
          <p:nvPr/>
        </p:nvSpPr>
        <p:spPr>
          <a:xfrm>
            <a:off x="41324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32"/>
          <p:cNvSpPr/>
          <p:nvPr/>
        </p:nvSpPr>
        <p:spPr>
          <a:xfrm>
            <a:off x="4791240" y="53038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33"/>
          <p:cNvSpPr/>
          <p:nvPr/>
        </p:nvSpPr>
        <p:spPr>
          <a:xfrm>
            <a:off x="511956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Line 34"/>
          <p:cNvSpPr/>
          <p:nvPr/>
        </p:nvSpPr>
        <p:spPr>
          <a:xfrm>
            <a:off x="5450040" y="530712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Line 35"/>
          <p:cNvSpPr/>
          <p:nvPr/>
        </p:nvSpPr>
        <p:spPr>
          <a:xfrm>
            <a:off x="5780160" y="5319720"/>
            <a:ext cx="0" cy="3808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6" name="Line 36"/>
          <p:cNvSpPr/>
          <p:nvPr/>
        </p:nvSpPr>
        <p:spPr>
          <a:xfrm>
            <a:off x="6108840" y="5316480"/>
            <a:ext cx="0" cy="38268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7" name="Line 37"/>
          <p:cNvSpPr/>
          <p:nvPr/>
        </p:nvSpPr>
        <p:spPr>
          <a:xfrm>
            <a:off x="64404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8" name="Line 38"/>
          <p:cNvSpPr/>
          <p:nvPr/>
        </p:nvSpPr>
        <p:spPr>
          <a:xfrm>
            <a:off x="676908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Line 39"/>
          <p:cNvSpPr/>
          <p:nvPr/>
        </p:nvSpPr>
        <p:spPr>
          <a:xfrm>
            <a:off x="7099200" y="5315040"/>
            <a:ext cx="0" cy="382320"/>
          </a:xfrm>
          <a:prstGeom prst="line">
            <a:avLst/>
          </a:prstGeom>
          <a:ln w="25560">
            <a:solidFill>
              <a:srgbClr val="c1e2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Rectangle 40"/>
          <p:cNvSpPr/>
          <p:nvPr/>
        </p:nvSpPr>
        <p:spPr>
          <a:xfrm flipH="1" rot="16200000">
            <a:off x="3052440" y="5626800"/>
            <a:ext cx="488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Freeform 41"/>
          <p:cNvSpPr/>
          <p:nvPr/>
        </p:nvSpPr>
        <p:spPr>
          <a:xfrm flipH="1" rot="16200000">
            <a:off x="4452120" y="416304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6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6" y="0"/>
                </a:lnTo>
                <a:lnTo>
                  <a:pt x="16" y="5"/>
                </a:lnTo>
                <a:lnTo>
                  <a:pt x="16" y="0"/>
                </a:lnTo>
                <a:lnTo>
                  <a:pt x="6" y="0"/>
                </a:lnTo>
                <a:lnTo>
                  <a:pt x="6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Freeform 42"/>
          <p:cNvSpPr/>
          <p:nvPr/>
        </p:nvSpPr>
        <p:spPr>
          <a:xfrm flipH="1" rot="16200000">
            <a:off x="4444200" y="5591880"/>
            <a:ext cx="15840" cy="230400"/>
          </a:xfrm>
          <a:custGeom>
            <a:avLst/>
            <a:gdLst>
              <a:gd name="textAreaLeft" fmla="*/ 360 w 15840"/>
              <a:gd name="textAreaRight" fmla="*/ 16560 w 15840"/>
              <a:gd name="textAreaTop" fmla="*/ 0 h 230400"/>
              <a:gd name="textAreaBottom" fmla="*/ 230760 h 230400"/>
            </a:gdLst>
            <a:ahLst/>
            <a:rect l="textAreaLeft" t="textAreaTop" r="textAreaRight" b="textAreaBottom"/>
            <a:pathLst>
              <a:path w="17" h="97">
                <a:moveTo>
                  <a:pt x="9" y="8"/>
                </a:moveTo>
                <a:lnTo>
                  <a:pt x="0" y="5"/>
                </a:lnTo>
                <a:lnTo>
                  <a:pt x="0" y="96"/>
                </a:lnTo>
                <a:lnTo>
                  <a:pt x="16" y="96"/>
                </a:lnTo>
                <a:lnTo>
                  <a:pt x="16" y="5"/>
                </a:lnTo>
                <a:lnTo>
                  <a:pt x="9" y="0"/>
                </a:lnTo>
                <a:lnTo>
                  <a:pt x="16" y="5"/>
                </a:lnTo>
                <a:lnTo>
                  <a:pt x="16" y="0"/>
                </a:lnTo>
                <a:lnTo>
                  <a:pt x="9" y="0"/>
                </a:lnTo>
                <a:lnTo>
                  <a:pt x="9" y="8"/>
                </a:lnTo>
              </a:path>
            </a:pathLst>
          </a:custGeom>
          <a:solidFill>
            <a:srgbClr val="e5f595"/>
          </a:solidFill>
          <a:ln cap="rnd" w="9360">
            <a:solidFill>
              <a:srgbClr val="c1e27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23" name="Group 43"/>
          <p:cNvGrpSpPr/>
          <p:nvPr/>
        </p:nvGrpSpPr>
        <p:grpSpPr>
          <a:xfrm>
            <a:off x="6726240" y="5902200"/>
            <a:ext cx="736200" cy="207720"/>
            <a:chOff x="6726240" y="5902200"/>
            <a:chExt cx="736200" cy="207720"/>
          </a:xfrm>
        </p:grpSpPr>
        <p:sp>
          <p:nvSpPr>
            <p:cNvPr id="1924" name="Freeform 44"/>
            <p:cNvSpPr/>
            <p:nvPr/>
          </p:nvSpPr>
          <p:spPr>
            <a:xfrm flipH="1" rot="16200000">
              <a:off x="7220160" y="5733360"/>
              <a:ext cx="23760" cy="4597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459720"/>
                <a:gd name="textAreaBottom" fmla="*/ 460080 h 459720"/>
              </a:gdLst>
              <a:ahLst/>
              <a:rect l="textAreaLeft" t="textAreaTop" r="textAreaRight" b="textAreaBottom"/>
              <a:pathLst>
                <a:path w="25" h="193">
                  <a:moveTo>
                    <a:pt x="24" y="192"/>
                  </a:moveTo>
                  <a:lnTo>
                    <a:pt x="24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4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5" name="Freeform 45"/>
            <p:cNvSpPr/>
            <p:nvPr/>
          </p:nvSpPr>
          <p:spPr>
            <a:xfrm flipH="1" rot="16200000">
              <a:off x="7018920" y="5666400"/>
              <a:ext cx="182160" cy="704880"/>
            </a:xfrm>
            <a:custGeom>
              <a:avLst/>
              <a:gdLst>
                <a:gd name="textAreaLeft" fmla="*/ 360 w 182160"/>
                <a:gd name="textAreaRight" fmla="*/ 182880 w 182160"/>
                <a:gd name="textAreaTop" fmla="*/ 0 h 704880"/>
                <a:gd name="textAreaBottom" fmla="*/ 705240 h 70488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26" name="Freeform 46"/>
            <p:cNvSpPr/>
            <p:nvPr/>
          </p:nvSpPr>
          <p:spPr>
            <a:xfrm flipH="1" rot="16200000">
              <a:off x="6854400" y="5773680"/>
              <a:ext cx="109800" cy="366480"/>
            </a:xfrm>
            <a:custGeom>
              <a:avLst/>
              <a:gdLst>
                <a:gd name="textAreaLeft" fmla="*/ -360 w 109800"/>
                <a:gd name="textAreaRight" fmla="*/ 109800 w 109800"/>
                <a:gd name="textAreaTop" fmla="*/ 0 h 366480"/>
                <a:gd name="textAreaBottom" fmla="*/ 366840 h 36648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27" name="Group 47"/>
          <p:cNvGrpSpPr/>
          <p:nvPr/>
        </p:nvGrpSpPr>
        <p:grpSpPr>
          <a:xfrm>
            <a:off x="2603520" y="4672080"/>
            <a:ext cx="639000" cy="239760"/>
            <a:chOff x="2603520" y="4672080"/>
            <a:chExt cx="639000" cy="239760"/>
          </a:xfrm>
        </p:grpSpPr>
        <p:sp>
          <p:nvSpPr>
            <p:cNvPr id="1928" name="Freeform 48"/>
            <p:cNvSpPr/>
            <p:nvPr/>
          </p:nvSpPr>
          <p:spPr>
            <a:xfrm flipH="1" rot="16200000">
              <a:off x="2592360" y="4752720"/>
              <a:ext cx="110160" cy="87840"/>
            </a:xfrm>
            <a:custGeom>
              <a:avLst/>
              <a:gdLst>
                <a:gd name="textAreaLeft" fmla="*/ 360 w 110160"/>
                <a:gd name="textAreaRight" fmla="*/ 110880 w 11016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116" h="37">
                  <a:moveTo>
                    <a:pt x="0" y="24"/>
                  </a:moveTo>
                  <a:lnTo>
                    <a:pt x="25" y="36"/>
                  </a:lnTo>
                  <a:lnTo>
                    <a:pt x="115" y="12"/>
                  </a:lnTo>
                  <a:lnTo>
                    <a:pt x="89" y="0"/>
                  </a:lnTo>
                  <a:lnTo>
                    <a:pt x="0" y="24"/>
                  </a:lnTo>
                </a:path>
              </a:pathLst>
            </a:custGeom>
            <a:solidFill>
              <a:srgbClr val="7ff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929" name="Group 49"/>
            <p:cNvGrpSpPr/>
            <p:nvPr/>
          </p:nvGrpSpPr>
          <p:grpSpPr>
            <a:xfrm>
              <a:off x="2634120" y="4672080"/>
              <a:ext cx="608400" cy="239760"/>
              <a:chOff x="2634120" y="4672080"/>
              <a:chExt cx="608400" cy="239760"/>
            </a:xfrm>
          </p:grpSpPr>
          <p:sp>
            <p:nvSpPr>
              <p:cNvPr id="1930" name="Freeform 50"/>
              <p:cNvSpPr/>
              <p:nvPr/>
            </p:nvSpPr>
            <p:spPr>
              <a:xfrm flipH="1" rot="16200000">
                <a:off x="2932200" y="4827600"/>
                <a:ext cx="85680" cy="82800"/>
              </a:xfrm>
              <a:custGeom>
                <a:avLst/>
                <a:gdLst>
                  <a:gd name="textAreaLeft" fmla="*/ 360 w 85680"/>
                  <a:gd name="textAreaRight" fmla="*/ 86400 w 85680"/>
                  <a:gd name="textAreaTop" fmla="*/ 0 h 82800"/>
                  <a:gd name="textAreaBottom" fmla="*/ 83160 h 82800"/>
                </a:gdLst>
                <a:ahLst/>
                <a:rect l="textAreaLeft" t="textAreaTop" r="textAreaRight" b="textAreaBottom"/>
                <a:pathLst>
                  <a:path w="90" h="35">
                    <a:moveTo>
                      <a:pt x="24" y="34"/>
                    </a:moveTo>
                    <a:lnTo>
                      <a:pt x="89" y="10"/>
                    </a:lnTo>
                    <a:lnTo>
                      <a:pt x="60" y="0"/>
                    </a:lnTo>
                    <a:lnTo>
                      <a:pt x="0" y="22"/>
                    </a:lnTo>
                    <a:lnTo>
                      <a:pt x="24" y="34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360" bIns="3636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1" name="Freeform 51"/>
              <p:cNvSpPr/>
              <p:nvPr/>
            </p:nvSpPr>
            <p:spPr>
              <a:xfrm flipH="1" rot="16200000">
                <a:off x="2831760" y="4500720"/>
                <a:ext cx="213120" cy="608400"/>
              </a:xfrm>
              <a:custGeom>
                <a:avLst/>
                <a:gdLst>
                  <a:gd name="textAreaLeft" fmla="*/ 360 w 213120"/>
                  <a:gd name="textAreaRight" fmla="*/ 213840 w 213120"/>
                  <a:gd name="textAreaTop" fmla="*/ 0 h 608400"/>
                  <a:gd name="textAreaBottom" fmla="*/ 608760 h 608400"/>
                </a:gdLst>
                <a:ahLst/>
                <a:rect l="textAreaLeft" t="textAreaTop" r="textAreaRight" b="textAreaBottom"/>
                <a:pathLst>
                  <a:path w="224" h="256">
                    <a:moveTo>
                      <a:pt x="71" y="25"/>
                    </a:moveTo>
                    <a:lnTo>
                      <a:pt x="160" y="0"/>
                    </a:lnTo>
                    <a:lnTo>
                      <a:pt x="160" y="158"/>
                    </a:lnTo>
                    <a:lnTo>
                      <a:pt x="223" y="135"/>
                    </a:lnTo>
                    <a:lnTo>
                      <a:pt x="121" y="255"/>
                    </a:lnTo>
                    <a:lnTo>
                      <a:pt x="0" y="216"/>
                    </a:lnTo>
                    <a:lnTo>
                      <a:pt x="71" y="191"/>
                    </a:lnTo>
                    <a:lnTo>
                      <a:pt x="71" y="25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2" name="Freeform 52"/>
              <p:cNvSpPr/>
              <p:nvPr/>
            </p:nvSpPr>
            <p:spPr>
              <a:xfrm flipH="1" rot="16200000">
                <a:off x="3061080" y="4674600"/>
                <a:ext cx="93240" cy="87840"/>
              </a:xfrm>
              <a:custGeom>
                <a:avLst/>
                <a:gdLst>
                  <a:gd name="textAreaLeft" fmla="*/ -360 w 93240"/>
                  <a:gd name="textAreaRight" fmla="*/ 93240 w 93240"/>
                  <a:gd name="textAreaTop" fmla="*/ 0 h 87840"/>
                  <a:gd name="textAreaBottom" fmla="*/ 88200 h 87840"/>
                </a:gdLst>
                <a:ahLst/>
                <a:rect l="textAreaLeft" t="textAreaTop" r="textAreaRight" b="textAreaBottom"/>
                <a:pathLst>
                  <a:path w="98" h="37">
                    <a:moveTo>
                      <a:pt x="27" y="36"/>
                    </a:moveTo>
                    <a:lnTo>
                      <a:pt x="0" y="23"/>
                    </a:lnTo>
                    <a:lnTo>
                      <a:pt x="72" y="0"/>
                    </a:lnTo>
                    <a:lnTo>
                      <a:pt x="97" y="12"/>
                    </a:lnTo>
                    <a:lnTo>
                      <a:pt x="27" y="36"/>
                    </a:lnTo>
                  </a:path>
                </a:pathLst>
              </a:custGeom>
              <a:solidFill>
                <a:srgbClr val="00d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400" bIns="414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33" name="Freeform 53"/>
              <p:cNvSpPr/>
              <p:nvPr/>
            </p:nvSpPr>
            <p:spPr>
              <a:xfrm flipH="1" rot="16200000">
                <a:off x="2864520" y="4539240"/>
                <a:ext cx="23400" cy="427680"/>
              </a:xfrm>
              <a:custGeom>
                <a:avLst/>
                <a:gdLst>
                  <a:gd name="textAreaLeft" fmla="*/ -360 w 23400"/>
                  <a:gd name="textAreaRight" fmla="*/ 23400 w 23400"/>
                  <a:gd name="textAreaTop" fmla="*/ 0 h 427680"/>
                  <a:gd name="textAreaBottom" fmla="*/ 428040 h 427680"/>
                </a:gdLst>
                <a:ahLst/>
                <a:rect l="textAreaLeft" t="textAreaTop" r="textAreaRight" b="textAreaBottom"/>
                <a:pathLst>
                  <a:path w="25" h="180">
                    <a:moveTo>
                      <a:pt x="0" y="166"/>
                    </a:moveTo>
                    <a:lnTo>
                      <a:pt x="24" y="179"/>
                    </a:lnTo>
                    <a:lnTo>
                      <a:pt x="24" y="12"/>
                    </a:lnTo>
                    <a:lnTo>
                      <a:pt x="0" y="0"/>
                    </a:lnTo>
                    <a:lnTo>
                      <a:pt x="0" y="166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34" name="Rectangle 54"/>
          <p:cNvSpPr/>
          <p:nvPr/>
        </p:nvSpPr>
        <p:spPr>
          <a:xfrm flipH="1" rot="16200000">
            <a:off x="1956240" y="4516560"/>
            <a:ext cx="2905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5" name="Group 55"/>
          <p:cNvGrpSpPr/>
          <p:nvPr/>
        </p:nvGrpSpPr>
        <p:grpSpPr>
          <a:xfrm>
            <a:off x="6738840" y="3392640"/>
            <a:ext cx="734400" cy="207360"/>
            <a:chOff x="6738840" y="3392640"/>
            <a:chExt cx="734400" cy="207360"/>
          </a:xfrm>
        </p:grpSpPr>
        <p:sp>
          <p:nvSpPr>
            <p:cNvPr id="1936" name="Freeform 56"/>
            <p:cNvSpPr/>
            <p:nvPr/>
          </p:nvSpPr>
          <p:spPr>
            <a:xfrm flipH="1" rot="16200000">
              <a:off x="7231320" y="3223080"/>
              <a:ext cx="24840" cy="458640"/>
            </a:xfrm>
            <a:custGeom>
              <a:avLst/>
              <a:gdLst>
                <a:gd name="textAreaLeft" fmla="*/ -360 w 24840"/>
                <a:gd name="textAreaRight" fmla="*/ 24840 w 2484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7" name="Freeform 57"/>
            <p:cNvSpPr/>
            <p:nvPr/>
          </p:nvSpPr>
          <p:spPr>
            <a:xfrm flipH="1" rot="16200000">
              <a:off x="7030440" y="3157200"/>
              <a:ext cx="181800" cy="703440"/>
            </a:xfrm>
            <a:custGeom>
              <a:avLst/>
              <a:gdLst>
                <a:gd name="textAreaLeft" fmla="*/ -360 w 181800"/>
                <a:gd name="textAreaRight" fmla="*/ 181800 w 181800"/>
                <a:gd name="textAreaTop" fmla="*/ 0 h 703440"/>
                <a:gd name="textAreaBottom" fmla="*/ 703800 h 703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Freeform 58"/>
            <p:cNvSpPr/>
            <p:nvPr/>
          </p:nvSpPr>
          <p:spPr>
            <a:xfrm flipH="1" rot="16200000">
              <a:off x="6866640" y="3264120"/>
              <a:ext cx="109440" cy="366120"/>
            </a:xfrm>
            <a:custGeom>
              <a:avLst/>
              <a:gdLst>
                <a:gd name="textAreaLeft" fmla="*/ 360 w 109440"/>
                <a:gd name="textAreaRight" fmla="*/ 110160 w 109440"/>
                <a:gd name="textAreaTop" fmla="*/ 0 h 366120"/>
                <a:gd name="textAreaBottom" fmla="*/ 366480 h 36612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39" name="Freeform 59"/>
          <p:cNvSpPr/>
          <p:nvPr/>
        </p:nvSpPr>
        <p:spPr>
          <a:xfrm flipH="1" rot="16200000">
            <a:off x="4654440" y="3633840"/>
            <a:ext cx="222480" cy="5641920"/>
          </a:xfrm>
          <a:custGeom>
            <a:avLst/>
            <a:gdLst>
              <a:gd name="textAreaLeft" fmla="*/ 360 w 222480"/>
              <a:gd name="textAreaRight" fmla="*/ 223200 w 222480"/>
              <a:gd name="textAreaTop" fmla="*/ 0 h 5641920"/>
              <a:gd name="textAreaBottom" fmla="*/ 5642280 h 5641920"/>
            </a:gdLst>
            <a:ahLst/>
            <a:rect l="textAreaLeft" t="textAreaTop" r="textAreaRight" b="textAreaBottom"/>
            <a:pathLst>
              <a:path w="233" h="2369">
                <a:moveTo>
                  <a:pt x="232" y="2368"/>
                </a:moveTo>
                <a:lnTo>
                  <a:pt x="232" y="0"/>
                </a:lnTo>
                <a:lnTo>
                  <a:pt x="0" y="0"/>
                </a:lnTo>
                <a:lnTo>
                  <a:pt x="0" y="2368"/>
                </a:lnTo>
                <a:lnTo>
                  <a:pt x="232" y="2368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0" name="Group 60"/>
          <p:cNvGrpSpPr/>
          <p:nvPr/>
        </p:nvGrpSpPr>
        <p:grpSpPr>
          <a:xfrm>
            <a:off x="4530240" y="3219480"/>
            <a:ext cx="2169000" cy="3093480"/>
            <a:chOff x="4530240" y="3219480"/>
            <a:chExt cx="2169000" cy="3093480"/>
          </a:xfrm>
        </p:grpSpPr>
        <p:grpSp>
          <p:nvGrpSpPr>
            <p:cNvPr id="1941" name="Group 61"/>
            <p:cNvGrpSpPr/>
            <p:nvPr/>
          </p:nvGrpSpPr>
          <p:grpSpPr>
            <a:xfrm>
              <a:off x="4530240" y="3219480"/>
              <a:ext cx="2169000" cy="480960"/>
              <a:chOff x="4530240" y="3219480"/>
              <a:chExt cx="2169000" cy="480960"/>
            </a:xfrm>
          </p:grpSpPr>
          <p:sp>
            <p:nvSpPr>
              <p:cNvPr id="1942" name="Rectangle 62"/>
              <p:cNvSpPr/>
              <p:nvPr/>
            </p:nvSpPr>
            <p:spPr>
              <a:xfrm flipH="1">
                <a:off x="4529880" y="3396960"/>
                <a:ext cx="11970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lvl="1" marL="392040"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Arial Narrow"/>
                    <a:ea typeface="MS PGothic"/>
                  </a:rPr>
                  <a:t>+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3" name="Freeform 63"/>
              <p:cNvSpPr/>
              <p:nvPr/>
            </p:nvSpPr>
            <p:spPr>
              <a:xfrm flipH="1" rot="16200000">
                <a:off x="5775480" y="3046320"/>
                <a:ext cx="234720" cy="581040"/>
              </a:xfrm>
              <a:custGeom>
                <a:avLst/>
                <a:gdLst>
                  <a:gd name="textAreaLeft" fmla="*/ 360 w 234720"/>
                  <a:gd name="textAreaRight" fmla="*/ 235440 w 234720"/>
                  <a:gd name="textAreaTop" fmla="*/ 0 h 581040"/>
                  <a:gd name="textAreaBottom" fmla="*/ 58140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4" name="Rectangle 64"/>
              <p:cNvSpPr/>
              <p:nvPr/>
            </p:nvSpPr>
            <p:spPr>
              <a:xfrm flipH="1">
                <a:off x="6080040" y="33350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45" name="Group 65"/>
            <p:cNvGrpSpPr/>
            <p:nvPr/>
          </p:nvGrpSpPr>
          <p:grpSpPr>
            <a:xfrm>
              <a:off x="4662360" y="5894280"/>
              <a:ext cx="2036880" cy="418680"/>
              <a:chOff x="4662360" y="5894280"/>
              <a:chExt cx="2036880" cy="418680"/>
            </a:xfrm>
          </p:grpSpPr>
          <p:sp>
            <p:nvSpPr>
              <p:cNvPr id="1946" name="Rectangle 66"/>
              <p:cNvSpPr/>
              <p:nvPr/>
            </p:nvSpPr>
            <p:spPr>
              <a:xfrm flipH="1">
                <a:off x="4662360" y="5894280"/>
                <a:ext cx="1184400" cy="3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 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+ 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7" name="Freeform 67"/>
              <p:cNvSpPr/>
              <p:nvPr/>
            </p:nvSpPr>
            <p:spPr>
              <a:xfrm flipH="1" flipV="1" rot="5400000">
                <a:off x="5775120" y="5904360"/>
                <a:ext cx="235080" cy="581040"/>
              </a:xfrm>
              <a:custGeom>
                <a:avLst/>
                <a:gdLst>
                  <a:gd name="textAreaLeft" fmla="*/ -360 w 235080"/>
                  <a:gd name="textAreaRight" fmla="*/ 235080 w 235080"/>
                  <a:gd name="textAreaTop" fmla="*/ 360 h 581040"/>
                  <a:gd name="textAreaBottom" fmla="*/ 581760 h 581040"/>
                </a:gdLst>
                <a:ahLst/>
                <a:rect l="textAreaLeft" t="textAreaTop" r="textAreaRight" b="textAreaBottom"/>
                <a:pathLst>
                  <a:path w="166" h="326">
                    <a:moveTo>
                      <a:pt x="130" y="325"/>
                    </a:moveTo>
                    <a:lnTo>
                      <a:pt x="0" y="181"/>
                    </a:lnTo>
                    <a:lnTo>
                      <a:pt x="165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48" name="Rectangle 68"/>
              <p:cNvSpPr/>
              <p:nvPr/>
            </p:nvSpPr>
            <p:spPr>
              <a:xfrm flipH="1">
                <a:off x="6080040" y="5932440"/>
                <a:ext cx="61920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41400" rIns="41400" tIns="14400" bIns="144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3200"/>
                    <a:tab algn="l" pos="1346040"/>
                    <a:tab algn="l" pos="2019240"/>
                    <a:tab algn="l" pos="2692440"/>
                    <a:tab algn="l" pos="3365640"/>
                    <a:tab algn="l" pos="4038480"/>
                    <a:tab algn="l" pos="4711680"/>
                    <a:tab algn="l" pos="5384880"/>
                    <a:tab algn="l" pos="6058080"/>
                    <a:tab algn="l" pos="6730920"/>
                    <a:tab algn="l" pos="7404120"/>
                    <a:tab algn="l" pos="8077320"/>
                    <a:tab algn="l" pos="8750160"/>
                    <a:tab algn="l" pos="9423360"/>
                    <a:tab algn="l" pos="10096560"/>
                    <a:tab algn="l" pos="1076976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H</a:t>
                </a:r>
                <a:r>
                  <a:rPr b="1" lang="en-US" sz="1500" spc="-1" strike="noStrike" baseline="-25000">
                    <a:solidFill>
                      <a:srgbClr val="000000"/>
                    </a:solidFill>
                    <a:latin typeface="Arial Narrow"/>
                    <a:ea typeface="MS PGothic"/>
                  </a:rPr>
                  <a:t>2</a:t>
                </a: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949" name="Line 69"/>
          <p:cNvSpPr/>
          <p:nvPr/>
        </p:nvSpPr>
        <p:spPr>
          <a:xfrm flipH="1">
            <a:off x="743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Line 70"/>
          <p:cNvSpPr/>
          <p:nvPr/>
        </p:nvSpPr>
        <p:spPr>
          <a:xfrm flipH="1">
            <a:off x="743040" y="55008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Line 71"/>
          <p:cNvSpPr/>
          <p:nvPr/>
        </p:nvSpPr>
        <p:spPr>
          <a:xfrm flipH="1">
            <a:off x="7385040" y="406548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Line 72"/>
          <p:cNvSpPr/>
          <p:nvPr/>
        </p:nvSpPr>
        <p:spPr>
          <a:xfrm flipH="1">
            <a:off x="7385040" y="5513400"/>
            <a:ext cx="14349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3" name="Group 73"/>
          <p:cNvGrpSpPr/>
          <p:nvPr/>
        </p:nvGrpSpPr>
        <p:grpSpPr>
          <a:xfrm>
            <a:off x="1224000" y="5500800"/>
            <a:ext cx="6979680" cy="1163520"/>
            <a:chOff x="1224000" y="5500800"/>
            <a:chExt cx="6979680" cy="1163520"/>
          </a:xfrm>
        </p:grpSpPr>
        <p:sp>
          <p:nvSpPr>
            <p:cNvPr id="1954" name="Freeform 74"/>
            <p:cNvSpPr/>
            <p:nvPr/>
          </p:nvSpPr>
          <p:spPr>
            <a:xfrm>
              <a:off x="1224000" y="5500800"/>
              <a:ext cx="3514680" cy="1163520"/>
            </a:xfrm>
            <a:custGeom>
              <a:avLst/>
              <a:gdLst>
                <a:gd name="textAreaLeft" fmla="*/ 0 w 3514680"/>
                <a:gd name="textAreaRight" fmla="*/ 351504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5" name="Freeform 75"/>
            <p:cNvSpPr/>
            <p:nvPr/>
          </p:nvSpPr>
          <p:spPr>
            <a:xfrm flipH="1">
              <a:off x="4688640" y="5500800"/>
              <a:ext cx="3514680" cy="1163520"/>
            </a:xfrm>
            <a:custGeom>
              <a:avLst/>
              <a:gdLst>
                <a:gd name="textAreaLeft" fmla="*/ -360 w 3514680"/>
                <a:gd name="textAreaRight" fmla="*/ 3514680 w 3514680"/>
                <a:gd name="textAreaTop" fmla="*/ 0 h 1163520"/>
                <a:gd name="textAreaBottom" fmla="*/ 1163880 h 116352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56" name="Line 76"/>
          <p:cNvSpPr/>
          <p:nvPr/>
        </p:nvSpPr>
        <p:spPr>
          <a:xfrm flipV="1">
            <a:off x="821376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7" name="Group 77"/>
          <p:cNvGrpSpPr/>
          <p:nvPr/>
        </p:nvGrpSpPr>
        <p:grpSpPr>
          <a:xfrm>
            <a:off x="1930320" y="2271600"/>
            <a:ext cx="5679720" cy="571680"/>
            <a:chOff x="1930320" y="2271600"/>
            <a:chExt cx="5679720" cy="571680"/>
          </a:xfrm>
        </p:grpSpPr>
        <p:sp>
          <p:nvSpPr>
            <p:cNvPr id="1958" name="Freeform 78"/>
            <p:cNvSpPr/>
            <p:nvPr/>
          </p:nvSpPr>
          <p:spPr>
            <a:xfrm>
              <a:off x="1930320" y="2271600"/>
              <a:ext cx="2859840" cy="571680"/>
            </a:xfrm>
            <a:custGeom>
              <a:avLst/>
              <a:gdLst>
                <a:gd name="textAreaLeft" fmla="*/ 0 w 2859840"/>
                <a:gd name="textAreaRight" fmla="*/ 286020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59" name="Freeform 79"/>
            <p:cNvSpPr/>
            <p:nvPr/>
          </p:nvSpPr>
          <p:spPr>
            <a:xfrm flipH="1">
              <a:off x="4750200" y="2271600"/>
              <a:ext cx="2859840" cy="571680"/>
            </a:xfrm>
            <a:custGeom>
              <a:avLst/>
              <a:gdLst>
                <a:gd name="textAreaLeft" fmla="*/ 360 w 2859840"/>
                <a:gd name="textAreaRight" fmla="*/ 2860560 w 28598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546" h="600">
                  <a:moveTo>
                    <a:pt x="546" y="600"/>
                  </a:moveTo>
                  <a:lnTo>
                    <a:pt x="0" y="600"/>
                  </a:lnTo>
                  <a:lnTo>
                    <a:pt x="0" y="0"/>
                  </a:lnTo>
                </a:path>
              </a:pathLst>
            </a:custGeom>
            <a:noFill/>
            <a:ln w="57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0" name="Line 80"/>
          <p:cNvSpPr/>
          <p:nvPr/>
        </p:nvSpPr>
        <p:spPr>
          <a:xfrm flipV="1">
            <a:off x="1212840" y="1996560"/>
            <a:ext cx="0" cy="20797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Rectangle 81"/>
          <p:cNvSpPr/>
          <p:nvPr/>
        </p:nvSpPr>
        <p:spPr>
          <a:xfrm flipH="1">
            <a:off x="996120" y="1752480"/>
            <a:ext cx="11113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 / Exhaust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Rectangle 82"/>
          <p:cNvSpPr/>
          <p:nvPr/>
        </p:nvSpPr>
        <p:spPr>
          <a:xfrm flipH="1">
            <a:off x="842400" y="5989680"/>
            <a:ext cx="132228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63" name="Group 83"/>
          <p:cNvGrpSpPr/>
          <p:nvPr/>
        </p:nvGrpSpPr>
        <p:grpSpPr>
          <a:xfrm>
            <a:off x="1437120" y="5583240"/>
            <a:ext cx="218520" cy="392040"/>
            <a:chOff x="1437120" y="5583240"/>
            <a:chExt cx="218520" cy="392040"/>
          </a:xfrm>
        </p:grpSpPr>
        <p:sp>
          <p:nvSpPr>
            <p:cNvPr id="1964" name="Freeform 84"/>
            <p:cNvSpPr/>
            <p:nvPr/>
          </p:nvSpPr>
          <p:spPr>
            <a:xfrm flipH="1">
              <a:off x="1579680" y="573120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0 h 244080"/>
                <a:gd name="textAreaBottom" fmla="*/ 24444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5" name="Freeform 85"/>
            <p:cNvSpPr/>
            <p:nvPr/>
          </p:nvSpPr>
          <p:spPr>
            <a:xfrm flipH="1">
              <a:off x="1437120" y="5600880"/>
              <a:ext cx="191520" cy="374040"/>
            </a:xfrm>
            <a:custGeom>
              <a:avLst/>
              <a:gdLst>
                <a:gd name="textAreaLeft" fmla="*/ 360 w 191520"/>
                <a:gd name="textAreaRight" fmla="*/ 192240 w 191520"/>
                <a:gd name="textAreaTop" fmla="*/ 0 h 374040"/>
                <a:gd name="textAreaBottom" fmla="*/ 37440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6" name="Freeform 86"/>
            <p:cNvSpPr/>
            <p:nvPr/>
          </p:nvSpPr>
          <p:spPr>
            <a:xfrm flipH="1">
              <a:off x="1539720" y="558324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0 h 194760"/>
                <a:gd name="textAreaBottom" fmla="*/ 19512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67" name="Group 87"/>
          <p:cNvGrpSpPr/>
          <p:nvPr/>
        </p:nvGrpSpPr>
        <p:grpSpPr>
          <a:xfrm>
            <a:off x="1436760" y="2492280"/>
            <a:ext cx="193680" cy="934560"/>
            <a:chOff x="1436760" y="2492280"/>
            <a:chExt cx="193680" cy="934560"/>
          </a:xfrm>
        </p:grpSpPr>
        <p:sp>
          <p:nvSpPr>
            <p:cNvPr id="1968" name="Freeform 88"/>
            <p:cNvSpPr/>
            <p:nvPr/>
          </p:nvSpPr>
          <p:spPr>
            <a:xfrm flipH="1">
              <a:off x="1563120" y="284508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0 h 581760"/>
                <a:gd name="textAreaBottom" fmla="*/ 58212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9" name="Freeform 89"/>
            <p:cNvSpPr/>
            <p:nvPr/>
          </p:nvSpPr>
          <p:spPr>
            <a:xfrm flipH="1">
              <a:off x="1436400" y="253440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0 h 892440"/>
                <a:gd name="textAreaBottom" fmla="*/ 89280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0" name="Freeform 90"/>
            <p:cNvSpPr/>
            <p:nvPr/>
          </p:nvSpPr>
          <p:spPr>
            <a:xfrm flipH="1">
              <a:off x="1528200" y="249228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0 h 464760"/>
                <a:gd name="textAreaBottom" fmla="*/ 46512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1" name="Group 91"/>
          <p:cNvGrpSpPr/>
          <p:nvPr/>
        </p:nvGrpSpPr>
        <p:grpSpPr>
          <a:xfrm>
            <a:off x="7794720" y="2493000"/>
            <a:ext cx="193680" cy="934560"/>
            <a:chOff x="7794720" y="2493000"/>
            <a:chExt cx="193680" cy="934560"/>
          </a:xfrm>
        </p:grpSpPr>
        <p:sp>
          <p:nvSpPr>
            <p:cNvPr id="1972" name="Freeform 92"/>
            <p:cNvSpPr/>
            <p:nvPr/>
          </p:nvSpPr>
          <p:spPr>
            <a:xfrm flipH="1" flipV="1">
              <a:off x="7921080" y="2493000"/>
              <a:ext cx="23040" cy="581760"/>
            </a:xfrm>
            <a:custGeom>
              <a:avLst/>
              <a:gdLst>
                <a:gd name="textAreaLeft" fmla="*/ 360 w 23040"/>
                <a:gd name="textAreaRight" fmla="*/ 23760 w 23040"/>
                <a:gd name="textAreaTop" fmla="*/ 360 h 581760"/>
                <a:gd name="textAreaBottom" fmla="*/ 582480 h 58176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3" name="Freeform 93"/>
            <p:cNvSpPr/>
            <p:nvPr/>
          </p:nvSpPr>
          <p:spPr>
            <a:xfrm flipH="1" flipV="1">
              <a:off x="7794360" y="2492640"/>
              <a:ext cx="169560" cy="892440"/>
            </a:xfrm>
            <a:custGeom>
              <a:avLst/>
              <a:gdLst>
                <a:gd name="textAreaLeft" fmla="*/ -360 w 169560"/>
                <a:gd name="textAreaRight" fmla="*/ 169560 w 169560"/>
                <a:gd name="textAreaTop" fmla="*/ -360 h 892440"/>
                <a:gd name="textAreaBottom" fmla="*/ 892440 h 8924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4" name="Freeform 94"/>
            <p:cNvSpPr/>
            <p:nvPr/>
          </p:nvSpPr>
          <p:spPr>
            <a:xfrm flipH="1" flipV="1">
              <a:off x="7886160" y="2962440"/>
              <a:ext cx="102240" cy="464760"/>
            </a:xfrm>
            <a:custGeom>
              <a:avLst/>
              <a:gdLst>
                <a:gd name="textAreaLeft" fmla="*/ 360 w 102240"/>
                <a:gd name="textAreaRight" fmla="*/ 102960 w 102240"/>
                <a:gd name="textAreaTop" fmla="*/ -360 h 464760"/>
                <a:gd name="textAreaBottom" fmla="*/ 464760 h 46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75" name="Group 95"/>
          <p:cNvGrpSpPr/>
          <p:nvPr/>
        </p:nvGrpSpPr>
        <p:grpSpPr>
          <a:xfrm>
            <a:off x="7757640" y="5582880"/>
            <a:ext cx="219240" cy="392040"/>
            <a:chOff x="7757640" y="5582880"/>
            <a:chExt cx="219240" cy="392040"/>
          </a:xfrm>
        </p:grpSpPr>
        <p:sp>
          <p:nvSpPr>
            <p:cNvPr id="1976" name="Freeform 96"/>
            <p:cNvSpPr/>
            <p:nvPr/>
          </p:nvSpPr>
          <p:spPr>
            <a:xfrm flipH="1" flipV="1">
              <a:off x="7900920" y="5582880"/>
              <a:ext cx="25920" cy="244080"/>
            </a:xfrm>
            <a:custGeom>
              <a:avLst/>
              <a:gdLst>
                <a:gd name="textAreaLeft" fmla="*/ 360 w 25920"/>
                <a:gd name="textAreaRight" fmla="*/ 26640 w 25920"/>
                <a:gd name="textAreaTop" fmla="*/ 360 h 244080"/>
                <a:gd name="textAreaBottom" fmla="*/ 244800 h 244080"/>
              </a:gdLst>
              <a:ahLst/>
              <a:rect l="textAreaLeft" t="textAreaTop" r="textAreaRight" b="textAreaBottom"/>
              <a:pathLst>
                <a:path w="26" h="193">
                  <a:moveTo>
                    <a:pt x="25" y="192"/>
                  </a:moveTo>
                  <a:lnTo>
                    <a:pt x="25" y="12"/>
                  </a:lnTo>
                  <a:lnTo>
                    <a:pt x="0" y="0"/>
                  </a:lnTo>
                  <a:lnTo>
                    <a:pt x="0" y="166"/>
                  </a:lnTo>
                  <a:lnTo>
                    <a:pt x="25" y="192"/>
                  </a:lnTo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7" name="Freeform 97"/>
            <p:cNvSpPr/>
            <p:nvPr/>
          </p:nvSpPr>
          <p:spPr>
            <a:xfrm flipH="1" flipV="1">
              <a:off x="7757280" y="5582880"/>
              <a:ext cx="191880" cy="374040"/>
            </a:xfrm>
            <a:custGeom>
              <a:avLst/>
              <a:gdLst>
                <a:gd name="textAreaLeft" fmla="*/ -360 w 191880"/>
                <a:gd name="textAreaRight" fmla="*/ 191880 w 191880"/>
                <a:gd name="textAreaTop" fmla="*/ -360 h 374040"/>
                <a:gd name="textAreaBottom" fmla="*/ 374040 h 374040"/>
              </a:gdLst>
              <a:ahLst/>
              <a:rect l="textAreaLeft" t="textAreaTop" r="textAreaRight" b="textAreaBottom"/>
              <a:pathLst>
                <a:path w="191" h="296">
                  <a:moveTo>
                    <a:pt x="89" y="0"/>
                  </a:moveTo>
                  <a:lnTo>
                    <a:pt x="190" y="51"/>
                  </a:lnTo>
                  <a:lnTo>
                    <a:pt x="140" y="76"/>
                  </a:lnTo>
                  <a:lnTo>
                    <a:pt x="140" y="256"/>
                  </a:lnTo>
                  <a:lnTo>
                    <a:pt x="50" y="295"/>
                  </a:lnTo>
                  <a:lnTo>
                    <a:pt x="50" y="115"/>
                  </a:lnTo>
                  <a:lnTo>
                    <a:pt x="0" y="141"/>
                  </a:lnTo>
                  <a:lnTo>
                    <a:pt x="89" y="0"/>
                  </a:lnTo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78" name="Freeform 98"/>
            <p:cNvSpPr/>
            <p:nvPr/>
          </p:nvSpPr>
          <p:spPr>
            <a:xfrm flipH="1" flipV="1">
              <a:off x="7860960" y="5779800"/>
              <a:ext cx="115560" cy="194760"/>
            </a:xfrm>
            <a:custGeom>
              <a:avLst/>
              <a:gdLst>
                <a:gd name="textAreaLeft" fmla="*/ -360 w 115560"/>
                <a:gd name="textAreaRight" fmla="*/ 115560 w 115560"/>
                <a:gd name="textAreaTop" fmla="*/ -360 h 194760"/>
                <a:gd name="textAreaBottom" fmla="*/ 194760 h 194760"/>
              </a:gdLst>
              <a:ahLst/>
              <a:rect l="textAreaLeft" t="textAreaTop" r="textAreaRight" b="textAreaBottom"/>
              <a:pathLst>
                <a:path w="115" h="154">
                  <a:moveTo>
                    <a:pt x="25" y="153"/>
                  </a:moveTo>
                  <a:lnTo>
                    <a:pt x="0" y="140"/>
                  </a:lnTo>
                  <a:lnTo>
                    <a:pt x="88" y="0"/>
                  </a:lnTo>
                  <a:lnTo>
                    <a:pt x="114" y="12"/>
                  </a:lnTo>
                  <a:lnTo>
                    <a:pt x="25" y="153"/>
                  </a:lnTo>
                </a:path>
              </a:pathLst>
            </a:custGeom>
            <a:solidFill>
              <a:srgbClr val="00b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79" name="Rectangle 99"/>
          <p:cNvSpPr/>
          <p:nvPr/>
        </p:nvSpPr>
        <p:spPr>
          <a:xfrm>
            <a:off x="703440" y="4421160"/>
            <a:ext cx="1928520" cy="76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700" spc="-1" strike="noStrike" baseline="-25000">
                <a:solidFill>
                  <a:srgbClr val="000000"/>
                </a:solidFill>
                <a:latin typeface="Arial Narrow"/>
                <a:ea typeface="MS PGothic"/>
              </a:rPr>
              <a:t>2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O    SO</a:t>
            </a:r>
            <a:r>
              <a:rPr b="1" lang="en-US" sz="1500" spc="-1" strike="noStrike" baseline="-10000">
                <a:solidFill>
                  <a:srgbClr val="000000"/>
                </a:solidFill>
                <a:latin typeface="Arial Narrow"/>
                <a:ea typeface="MS PGothic"/>
              </a:rPr>
              <a:t>4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2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ff0000"/>
                </a:solidFill>
                <a:latin typeface="Arial Narrow"/>
                <a:ea typeface="MS PGothic"/>
              </a:rPr>
              <a:t>Y</a:t>
            </a:r>
            <a:r>
              <a:rPr b="1" lang="en-US" sz="1500" spc="-1" strike="noStrike" baseline="30000">
                <a:solidFill>
                  <a:srgbClr val="ff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   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X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H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  MSA</a:t>
            </a:r>
            <a:r>
              <a:rPr b="1" lang="en-US" sz="1500" spc="-1" strike="noStrike" baseline="30000">
                <a:solidFill>
                  <a:srgbClr val="000000"/>
                </a:solidFill>
                <a:latin typeface="Arial Narrow"/>
                <a:ea typeface="MS PGothic"/>
              </a:rPr>
              <a:t>-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60000"/>
              </a:lnSpc>
              <a:spcBef>
                <a:spcPts val="938"/>
              </a:spcBef>
              <a:tabLst>
                <a:tab algn="l" pos="0"/>
                <a:tab algn="l" pos="676440"/>
                <a:tab algn="l" pos="1352520"/>
                <a:tab algn="l" pos="2028960"/>
                <a:tab algn="l" pos="2705040"/>
                <a:tab algn="l" pos="3381480"/>
                <a:tab algn="l" pos="4057560"/>
                <a:tab algn="l" pos="4734000"/>
                <a:tab algn="l" pos="5410080"/>
                <a:tab algn="l" pos="6086520"/>
                <a:tab algn="l" pos="6762600"/>
                <a:tab algn="l" pos="7439040"/>
                <a:tab algn="l" pos="8115480"/>
                <a:tab algn="l" pos="8791560"/>
                <a:tab algn="l" pos="9468000"/>
                <a:tab algn="l" pos="10144080"/>
                <a:tab algn="l" pos="1082052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(sample, eluent</a:t>
            </a:r>
            <a:r>
              <a:rPr b="1" lang="ja-JP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）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80" name="Group 100"/>
          <p:cNvGrpSpPr/>
          <p:nvPr/>
        </p:nvGrpSpPr>
        <p:grpSpPr>
          <a:xfrm>
            <a:off x="4093920" y="5743440"/>
            <a:ext cx="861840" cy="508320"/>
            <a:chOff x="4093920" y="5743440"/>
            <a:chExt cx="861840" cy="508320"/>
          </a:xfrm>
        </p:grpSpPr>
        <p:sp>
          <p:nvSpPr>
            <p:cNvPr id="1981" name="Rectangle 101"/>
            <p:cNvSpPr/>
            <p:nvPr/>
          </p:nvSpPr>
          <p:spPr>
            <a:xfrm flipH="1">
              <a:off x="4093560" y="574344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2" name="Rectangle 102"/>
            <p:cNvSpPr/>
            <p:nvPr/>
          </p:nvSpPr>
          <p:spPr>
            <a:xfrm flipH="1">
              <a:off x="4230000" y="5929200"/>
              <a:ext cx="725400" cy="32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200" rIns="7920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50000">
                  <a:solidFill>
                    <a:srgbClr val="000000"/>
                  </a:solidFill>
                  <a:latin typeface="Symbol"/>
                  <a:ea typeface="Symbol"/>
                </a:rPr>
                <a:t>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3" name="Group 103"/>
          <p:cNvGrpSpPr/>
          <p:nvPr/>
        </p:nvGrpSpPr>
        <p:grpSpPr>
          <a:xfrm>
            <a:off x="3771720" y="4300560"/>
            <a:ext cx="995760" cy="525960"/>
            <a:chOff x="3771720" y="4300560"/>
            <a:chExt cx="995760" cy="525960"/>
          </a:xfrm>
        </p:grpSpPr>
        <p:sp>
          <p:nvSpPr>
            <p:cNvPr id="1984" name="Rectangle 104"/>
            <p:cNvSpPr/>
            <p:nvPr/>
          </p:nvSpPr>
          <p:spPr>
            <a:xfrm>
              <a:off x="4231800" y="4440240"/>
              <a:ext cx="5356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Rectangle 105"/>
            <p:cNvSpPr/>
            <p:nvPr/>
          </p:nvSpPr>
          <p:spPr>
            <a:xfrm>
              <a:off x="3771720" y="4516200"/>
              <a:ext cx="51588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SO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4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2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Rectangle 106"/>
            <p:cNvSpPr/>
            <p:nvPr/>
          </p:nvSpPr>
          <p:spPr>
            <a:xfrm>
              <a:off x="4058640" y="4300560"/>
              <a:ext cx="29340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X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87" name="Group 107"/>
          <p:cNvGrpSpPr/>
          <p:nvPr/>
        </p:nvGrpSpPr>
        <p:grpSpPr>
          <a:xfrm>
            <a:off x="3498840" y="3260880"/>
            <a:ext cx="1617840" cy="2960640"/>
            <a:chOff x="3498840" y="3260880"/>
            <a:chExt cx="1617840" cy="2960640"/>
          </a:xfrm>
        </p:grpSpPr>
        <p:grpSp>
          <p:nvGrpSpPr>
            <p:cNvPr id="1988" name="Group 108"/>
            <p:cNvGrpSpPr/>
            <p:nvPr/>
          </p:nvGrpSpPr>
          <p:grpSpPr>
            <a:xfrm>
              <a:off x="4197240" y="4902480"/>
              <a:ext cx="919440" cy="1319040"/>
              <a:chOff x="4197240" y="4902480"/>
              <a:chExt cx="919440" cy="1319040"/>
            </a:xfrm>
          </p:grpSpPr>
          <p:grpSp>
            <p:nvGrpSpPr>
              <p:cNvPr id="1989" name="Group 109"/>
              <p:cNvGrpSpPr/>
              <p:nvPr/>
            </p:nvGrpSpPr>
            <p:grpSpPr>
              <a:xfrm>
                <a:off x="4197240" y="5200920"/>
                <a:ext cx="747720" cy="1020600"/>
                <a:chOff x="4197240" y="5200920"/>
                <a:chExt cx="747720" cy="1020600"/>
              </a:xfrm>
            </p:grpSpPr>
            <p:sp>
              <p:nvSpPr>
                <p:cNvPr id="1990" name="Rectangle 110"/>
                <p:cNvSpPr/>
                <p:nvPr/>
              </p:nvSpPr>
              <p:spPr>
                <a:xfrm>
                  <a:off x="4197240" y="5783400"/>
                  <a:ext cx="603360" cy="4381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1" name="Line 111"/>
                <p:cNvSpPr/>
                <p:nvPr/>
              </p:nvSpPr>
              <p:spPr>
                <a:xfrm>
                  <a:off x="4324320" y="5200920"/>
                  <a:ext cx="620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2" name="Freeform 112"/>
                <p:cNvSpPr/>
                <p:nvPr/>
              </p:nvSpPr>
              <p:spPr>
                <a:xfrm flipH="1" flipV="1" rot="5400000">
                  <a:off x="4159080" y="5367600"/>
                  <a:ext cx="600120" cy="274680"/>
                </a:xfrm>
                <a:custGeom>
                  <a:avLst/>
                  <a:gdLst>
                    <a:gd name="textAreaLeft" fmla="*/ -360 w 600120"/>
                    <a:gd name="textAreaRight" fmla="*/ 600120 w 600120"/>
                    <a:gd name="textAreaTop" fmla="*/ -360 h 274680"/>
                    <a:gd name="textAreaBottom" fmla="*/ 274680 h 274680"/>
                  </a:gdLst>
                  <a:ahLst/>
                  <a:rect l="textAreaLeft" t="textAreaTop" r="textAreaRight" b="textAreaBottom"/>
                  <a:pathLst>
                    <a:path w="631" h="115">
                      <a:moveTo>
                        <a:pt x="0" y="0"/>
                      </a:moveTo>
                      <a:lnTo>
                        <a:pt x="630" y="0"/>
                      </a:lnTo>
                      <a:lnTo>
                        <a:pt x="630" y="114"/>
                      </a:lnTo>
                      <a:lnTo>
                        <a:pt x="0" y="114"/>
                      </a:lnTo>
                    </a:path>
                  </a:pathLst>
                </a:custGeom>
                <a:gradFill rotWithShape="0">
                  <a:gsLst>
                    <a:gs pos="0">
                      <a:srgbClr val="0066ff"/>
                    </a:gs>
                    <a:gs pos="100000">
                      <a:srgbClr val="ffff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3" name="Rectangle 113"/>
              <p:cNvSpPr/>
              <p:nvPr/>
            </p:nvSpPr>
            <p:spPr>
              <a:xfrm flipH="1">
                <a:off x="4390920" y="4902480"/>
                <a:ext cx="725760" cy="322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79200" rIns="79200" tIns="39600" bIns="396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OH</a:t>
                </a:r>
                <a:r>
                  <a:rPr b="1" lang="en-US" sz="1500" spc="-1" strike="noStrike" baseline="50000">
                    <a:solidFill>
                      <a:srgbClr val="000000"/>
                    </a:solidFill>
                    <a:latin typeface="Symbol"/>
                    <a:ea typeface="Symbol"/>
                  </a:rPr>
                  <a:t>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94" name="Group 114"/>
            <p:cNvGrpSpPr/>
            <p:nvPr/>
          </p:nvGrpSpPr>
          <p:grpSpPr>
            <a:xfrm>
              <a:off x="3498840" y="3260880"/>
              <a:ext cx="1225440" cy="1532160"/>
              <a:chOff x="3498840" y="3260880"/>
              <a:chExt cx="1225440" cy="1532160"/>
            </a:xfrm>
          </p:grpSpPr>
          <p:grpSp>
            <p:nvGrpSpPr>
              <p:cNvPr id="1995" name="Group 115"/>
              <p:cNvGrpSpPr/>
              <p:nvPr/>
            </p:nvGrpSpPr>
            <p:grpSpPr>
              <a:xfrm>
                <a:off x="3809880" y="3700800"/>
                <a:ext cx="914400" cy="1092240"/>
                <a:chOff x="3809880" y="3700800"/>
                <a:chExt cx="914400" cy="1092240"/>
              </a:xfrm>
            </p:grpSpPr>
            <p:sp>
              <p:nvSpPr>
                <p:cNvPr id="1996" name="Rectangle 116"/>
                <p:cNvSpPr/>
                <p:nvPr/>
              </p:nvSpPr>
              <p:spPr>
                <a:xfrm>
                  <a:off x="3809880" y="4329360"/>
                  <a:ext cx="914400" cy="4636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7" name="Line 117"/>
                <p:cNvSpPr/>
                <p:nvPr/>
              </p:nvSpPr>
              <p:spPr>
                <a:xfrm flipH="1">
                  <a:off x="3976200" y="3704040"/>
                  <a:ext cx="6238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98" name="Freeform 118"/>
                <p:cNvSpPr/>
                <p:nvPr/>
              </p:nvSpPr>
              <p:spPr>
                <a:xfrm flipH="1" flipV="1" rot="5400000">
                  <a:off x="4087440" y="3961800"/>
                  <a:ext cx="782640" cy="260280"/>
                </a:xfrm>
                <a:custGeom>
                  <a:avLst/>
                  <a:gdLst>
                    <a:gd name="textAreaLeft" fmla="*/ 360 w 782640"/>
                    <a:gd name="textAreaRight" fmla="*/ 783360 w 782640"/>
                    <a:gd name="textAreaTop" fmla="*/ -360 h 260280"/>
                    <a:gd name="textAreaBottom" fmla="*/ 260280 h 260280"/>
                  </a:gdLst>
                  <a:ahLst/>
                  <a:rect l="textAreaLeft" t="textAreaTop" r="textAreaRight" b="textAreaBottom"/>
                  <a:pathLst>
                    <a:path w="821" h="109">
                      <a:moveTo>
                        <a:pt x="0" y="0"/>
                      </a:moveTo>
                      <a:lnTo>
                        <a:pt x="820" y="0"/>
                      </a:lnTo>
                      <a:lnTo>
                        <a:pt x="820" y="108"/>
                      </a:lnTo>
                      <a:lnTo>
                        <a:pt x="0" y="108"/>
                      </a:lnTo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66ff"/>
                    </a:gs>
                  </a:gsLst>
                  <a:lin ang="5400000"/>
                </a:gra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99" name="Rectangle 119"/>
              <p:cNvSpPr/>
              <p:nvPr/>
            </p:nvSpPr>
            <p:spPr>
              <a:xfrm>
                <a:off x="3958920" y="3400560"/>
                <a:ext cx="53568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MSA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0" name="Rectangle 120"/>
              <p:cNvSpPr/>
              <p:nvPr/>
            </p:nvSpPr>
            <p:spPr>
              <a:xfrm>
                <a:off x="3498840" y="3476880"/>
                <a:ext cx="515880" cy="31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SO</a:t>
                </a:r>
                <a:r>
                  <a:rPr b="1" lang="en-US" sz="1500" spc="-1" strike="noStrike" baseline="-10000">
                    <a:solidFill>
                      <a:srgbClr val="000000"/>
                    </a:solidFill>
                    <a:latin typeface="Arial Narrow"/>
                    <a:ea typeface="MS PGothic"/>
                  </a:rPr>
                  <a:t>4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2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1" name="Rectangle 121"/>
              <p:cNvSpPr/>
              <p:nvPr/>
            </p:nvSpPr>
            <p:spPr>
              <a:xfrm>
                <a:off x="3785400" y="3260880"/>
                <a:ext cx="293400" cy="30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79200" rIns="79200" tIns="39600" bIns="396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676440"/>
                    <a:tab algn="l" pos="1352520"/>
                    <a:tab algn="l" pos="2028960"/>
                    <a:tab algn="l" pos="2705040"/>
                    <a:tab algn="l" pos="3381480"/>
                    <a:tab algn="l" pos="4057560"/>
                    <a:tab algn="l" pos="4734000"/>
                    <a:tab algn="l" pos="5410080"/>
                    <a:tab algn="l" pos="6086520"/>
                    <a:tab algn="l" pos="6762600"/>
                    <a:tab algn="l" pos="7439040"/>
                    <a:tab algn="l" pos="8115480"/>
                    <a:tab algn="l" pos="8791560"/>
                    <a:tab algn="l" pos="9468000"/>
                    <a:tab algn="l" pos="10144080"/>
                    <a:tab algn="l" pos="10820520"/>
                  </a:tabLst>
                </a:pPr>
                <a:r>
                  <a:rPr b="1" lang="en-US" sz="1500" spc="-1" strike="noStrike">
                    <a:solidFill>
                      <a:srgbClr val="000000"/>
                    </a:solidFill>
                    <a:latin typeface="Arial Narrow"/>
                    <a:ea typeface="MS PGothic"/>
                  </a:rPr>
                  <a:t>X</a:t>
                </a:r>
                <a:r>
                  <a:rPr b="1" lang="en-US" sz="1500" spc="-1" strike="noStrike" baseline="30000">
                    <a:solidFill>
                      <a:srgbClr val="000000"/>
                    </a:solidFill>
                    <a:latin typeface="Arial Narrow"/>
                    <a:ea typeface="MS PGothic"/>
                  </a:rPr>
                  <a:t>-</a:t>
                </a:r>
                <a:endParaRPr b="1" lang="en-US" sz="15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002" name="Group 122"/>
          <p:cNvGrpSpPr/>
          <p:nvPr/>
        </p:nvGrpSpPr>
        <p:grpSpPr>
          <a:xfrm>
            <a:off x="1727280" y="3408480"/>
            <a:ext cx="1960560" cy="2814120"/>
            <a:chOff x="1727280" y="3408480"/>
            <a:chExt cx="1960560" cy="2814120"/>
          </a:xfrm>
        </p:grpSpPr>
        <p:grpSp>
          <p:nvGrpSpPr>
            <p:cNvPr id="2003" name="Group 123"/>
            <p:cNvGrpSpPr/>
            <p:nvPr/>
          </p:nvGrpSpPr>
          <p:grpSpPr>
            <a:xfrm>
              <a:off x="1825560" y="5959440"/>
              <a:ext cx="738000" cy="207000"/>
              <a:chOff x="1825560" y="5959440"/>
              <a:chExt cx="738000" cy="207000"/>
            </a:xfrm>
          </p:grpSpPr>
          <p:sp>
            <p:nvSpPr>
              <p:cNvPr id="2004" name="Freeform 124"/>
              <p:cNvSpPr/>
              <p:nvPr/>
            </p:nvSpPr>
            <p:spPr>
              <a:xfrm flipH="1" rot="16200000">
                <a:off x="2321640" y="5789520"/>
                <a:ext cx="24480" cy="459360"/>
              </a:xfrm>
              <a:custGeom>
                <a:avLst/>
                <a:gdLst>
                  <a:gd name="textAreaLeft" fmla="*/ 360 w 24480"/>
                  <a:gd name="textAreaRight" fmla="*/ 25200 w 24480"/>
                  <a:gd name="textAreaTop" fmla="*/ 0 h 459360"/>
                  <a:gd name="textAreaBottom" fmla="*/ 459720 h 45936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5" name="Freeform 125"/>
              <p:cNvSpPr/>
              <p:nvPr/>
            </p:nvSpPr>
            <p:spPr>
              <a:xfrm flipH="1" rot="16200000">
                <a:off x="2120040" y="5723280"/>
                <a:ext cx="181440" cy="704520"/>
              </a:xfrm>
              <a:custGeom>
                <a:avLst/>
                <a:gdLst>
                  <a:gd name="textAreaLeft" fmla="*/ 0 w 181440"/>
                  <a:gd name="textAreaRight" fmla="*/ 181440 w 181440"/>
                  <a:gd name="textAreaTop" fmla="*/ 0 h 704520"/>
                  <a:gd name="textAreaBottom" fmla="*/ 704880 h 70452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6" name="Freeform 126"/>
              <p:cNvSpPr/>
              <p:nvPr/>
            </p:nvSpPr>
            <p:spPr>
              <a:xfrm flipH="1" rot="16200000">
                <a:off x="1954440" y="5830560"/>
                <a:ext cx="109440" cy="36720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7200"/>
                  <a:gd name="textAreaBottom" fmla="*/ 367560 h 36720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07" name="Group 127"/>
            <p:cNvGrpSpPr/>
            <p:nvPr/>
          </p:nvGrpSpPr>
          <p:grpSpPr>
            <a:xfrm>
              <a:off x="1727280" y="3423960"/>
              <a:ext cx="737280" cy="207720"/>
              <a:chOff x="1727280" y="3423960"/>
              <a:chExt cx="737280" cy="207720"/>
            </a:xfrm>
          </p:grpSpPr>
          <p:sp>
            <p:nvSpPr>
              <p:cNvPr id="2008" name="Freeform 128"/>
              <p:cNvSpPr/>
              <p:nvPr/>
            </p:nvSpPr>
            <p:spPr>
              <a:xfrm flipH="1" rot="16200000">
                <a:off x="2222280" y="3254400"/>
                <a:ext cx="24840" cy="459000"/>
              </a:xfrm>
              <a:custGeom>
                <a:avLst/>
                <a:gdLst>
                  <a:gd name="textAreaLeft" fmla="*/ -360 w 24840"/>
                  <a:gd name="textAreaRight" fmla="*/ 24840 w 2484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26" h="193">
                    <a:moveTo>
                      <a:pt x="25" y="192"/>
                    </a:moveTo>
                    <a:lnTo>
                      <a:pt x="25" y="12"/>
                    </a:lnTo>
                    <a:lnTo>
                      <a:pt x="0" y="0"/>
                    </a:lnTo>
                    <a:lnTo>
                      <a:pt x="0" y="166"/>
                    </a:lnTo>
                    <a:lnTo>
                      <a:pt x="25" y="192"/>
                    </a:lnTo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9" name="Freeform 129"/>
              <p:cNvSpPr/>
              <p:nvPr/>
            </p:nvSpPr>
            <p:spPr>
              <a:xfrm flipH="1" rot="16200000">
                <a:off x="2021400" y="3188520"/>
                <a:ext cx="181800" cy="704160"/>
              </a:xfrm>
              <a:custGeom>
                <a:avLst/>
                <a:gdLst>
                  <a:gd name="textAreaLeft" fmla="*/ -360 w 181800"/>
                  <a:gd name="textAreaRight" fmla="*/ 181800 w 181800"/>
                  <a:gd name="textAreaTop" fmla="*/ 0 h 704160"/>
                  <a:gd name="textAreaBottom" fmla="*/ 704520 h 704160"/>
                </a:gdLst>
                <a:ahLst/>
                <a:rect l="textAreaLeft" t="textAreaTop" r="textAreaRight" b="textAreaBottom"/>
                <a:pathLst>
                  <a:path w="191" h="296">
                    <a:moveTo>
                      <a:pt x="89" y="0"/>
                    </a:moveTo>
                    <a:lnTo>
                      <a:pt x="190" y="51"/>
                    </a:lnTo>
                    <a:lnTo>
                      <a:pt x="140" y="76"/>
                    </a:lnTo>
                    <a:lnTo>
                      <a:pt x="140" y="256"/>
                    </a:lnTo>
                    <a:lnTo>
                      <a:pt x="50" y="295"/>
                    </a:lnTo>
                    <a:lnTo>
                      <a:pt x="50" y="115"/>
                    </a:lnTo>
                    <a:lnTo>
                      <a:pt x="0" y="141"/>
                    </a:lnTo>
                    <a:lnTo>
                      <a:pt x="89" y="0"/>
                    </a:lnTo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0" name="Freeform 130"/>
              <p:cNvSpPr/>
              <p:nvPr/>
            </p:nvSpPr>
            <p:spPr>
              <a:xfrm flipH="1" rot="16200000">
                <a:off x="1855440" y="3295080"/>
                <a:ext cx="109440" cy="366840"/>
              </a:xfrm>
              <a:custGeom>
                <a:avLst/>
                <a:gdLst>
                  <a:gd name="textAreaLeft" fmla="*/ 360 w 109440"/>
                  <a:gd name="textAreaRight" fmla="*/ 110160 w 109440"/>
                  <a:gd name="textAreaTop" fmla="*/ 0 h 366840"/>
                  <a:gd name="textAreaBottom" fmla="*/ 367200 h 366840"/>
                </a:gdLst>
                <a:ahLst/>
                <a:rect l="textAreaLeft" t="textAreaTop" r="textAreaRight" b="textAreaBottom"/>
                <a:pathLst>
                  <a:path w="115" h="154">
                    <a:moveTo>
                      <a:pt x="25" y="153"/>
                    </a:moveTo>
                    <a:lnTo>
                      <a:pt x="0" y="140"/>
                    </a:lnTo>
                    <a:lnTo>
                      <a:pt x="88" y="0"/>
                    </a:lnTo>
                    <a:lnTo>
                      <a:pt x="114" y="12"/>
                    </a:lnTo>
                    <a:lnTo>
                      <a:pt x="25" y="153"/>
                    </a:lnTo>
                  </a:path>
                </a:pathLst>
              </a:custGeom>
              <a:solidFill>
                <a:srgbClr val="00b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1" name="Rectangle 131"/>
            <p:cNvSpPr/>
            <p:nvPr/>
          </p:nvSpPr>
          <p:spPr>
            <a:xfrm>
              <a:off x="2289240" y="3408480"/>
              <a:ext cx="12873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MSA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, O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2" name="Rectangle 132"/>
            <p:cNvSpPr/>
            <p:nvPr/>
          </p:nvSpPr>
          <p:spPr>
            <a:xfrm>
              <a:off x="2330280" y="5933880"/>
              <a:ext cx="1357560" cy="28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10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, 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13" name="Group 133"/>
          <p:cNvGrpSpPr/>
          <p:nvPr/>
        </p:nvGrpSpPr>
        <p:grpSpPr>
          <a:xfrm>
            <a:off x="4884840" y="4548240"/>
            <a:ext cx="1697040" cy="587520"/>
            <a:chOff x="4884840" y="4548240"/>
            <a:chExt cx="1697040" cy="587520"/>
          </a:xfrm>
        </p:grpSpPr>
        <p:sp>
          <p:nvSpPr>
            <p:cNvPr id="2014" name="Rectangle 134"/>
            <p:cNvSpPr/>
            <p:nvPr/>
          </p:nvSpPr>
          <p:spPr>
            <a:xfrm>
              <a:off x="4884840" y="4548240"/>
              <a:ext cx="158112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+ </a:t>
              </a: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OH</a:t>
              </a:r>
              <a:r>
                <a:rPr b="1" lang="en-US" sz="17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5" name="Rectangle 135"/>
            <p:cNvSpPr/>
            <p:nvPr/>
          </p:nvSpPr>
          <p:spPr>
            <a:xfrm>
              <a:off x="4910040" y="4878360"/>
              <a:ext cx="16718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+  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  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6" name="Rectangle 136"/>
          <p:cNvSpPr/>
          <p:nvPr/>
        </p:nvSpPr>
        <p:spPr>
          <a:xfrm flipH="1">
            <a:off x="4431600" y="3244680"/>
            <a:ext cx="6541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 Narrow"/>
                <a:ea typeface="MS PGothic"/>
              </a:rPr>
              <a:t>H</a:t>
            </a:r>
            <a:r>
              <a:rPr b="1" lang="en-US" sz="1500" spc="-1" strike="noStrike" baseline="50000">
                <a:solidFill>
                  <a:srgbClr val="000000"/>
                </a:solidFill>
                <a:latin typeface="Arial Narrow"/>
                <a:ea typeface="MS PGothic"/>
              </a:rPr>
              <a:t>+</a:t>
            </a:r>
            <a:endParaRPr b="1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7" name="Group 137"/>
          <p:cNvGrpSpPr/>
          <p:nvPr/>
        </p:nvGrpSpPr>
        <p:grpSpPr>
          <a:xfrm>
            <a:off x="5850000" y="4559400"/>
            <a:ext cx="3136320" cy="576360"/>
            <a:chOff x="5850000" y="4559400"/>
            <a:chExt cx="3136320" cy="576360"/>
          </a:xfrm>
        </p:grpSpPr>
        <p:sp>
          <p:nvSpPr>
            <p:cNvPr id="2018" name="Rectangle 138"/>
            <p:cNvSpPr/>
            <p:nvPr/>
          </p:nvSpPr>
          <p:spPr>
            <a:xfrm flipH="1">
              <a:off x="7883280" y="4713120"/>
              <a:ext cx="1103040" cy="262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marL="295200" indent="-295200" algn="ctr">
                <a:lnSpc>
                  <a:spcPct val="9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To detector</a:t>
              </a:r>
              <a:endParaRPr b="1" lang="en-US" sz="17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9" name="Line 139"/>
            <p:cNvSpPr/>
            <p:nvPr/>
          </p:nvSpPr>
          <p:spPr>
            <a:xfrm>
              <a:off x="6240960" y="5000400"/>
              <a:ext cx="21348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0" name="Line 140"/>
            <p:cNvSpPr/>
            <p:nvPr/>
          </p:nvSpPr>
          <p:spPr>
            <a:xfrm>
              <a:off x="6180480" y="4698720"/>
              <a:ext cx="212040" cy="0"/>
            </a:xfrm>
            <a:prstGeom prst="line">
              <a:avLst/>
            </a:prstGeom>
            <a:ln w="25560">
              <a:solidFill>
                <a:srgbClr val="33cc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21" name="Group 141"/>
            <p:cNvGrpSpPr/>
            <p:nvPr/>
          </p:nvGrpSpPr>
          <p:grpSpPr>
            <a:xfrm>
              <a:off x="7200720" y="4721040"/>
              <a:ext cx="693360" cy="239040"/>
              <a:chOff x="7200720" y="4721040"/>
              <a:chExt cx="693360" cy="239040"/>
            </a:xfrm>
          </p:grpSpPr>
          <p:sp>
            <p:nvSpPr>
              <p:cNvPr id="2022" name="Freeform 142"/>
              <p:cNvSpPr/>
              <p:nvPr/>
            </p:nvSpPr>
            <p:spPr>
              <a:xfrm flipH="1" rot="16200000">
                <a:off x="7192800" y="4797360"/>
                <a:ext cx="110160" cy="95400"/>
              </a:xfrm>
              <a:custGeom>
                <a:avLst/>
                <a:gdLst>
                  <a:gd name="textAreaLeft" fmla="*/ 360 w 110160"/>
                  <a:gd name="textAreaRight" fmla="*/ 110880 w 110160"/>
                  <a:gd name="textAreaTop" fmla="*/ 0 h 95400"/>
                  <a:gd name="textAreaBottom" fmla="*/ 95760 h 95400"/>
                </a:gdLst>
                <a:ahLst/>
                <a:rect l="textAreaLeft" t="textAreaTop" r="textAreaRight" b="textAreaBottom"/>
                <a:pathLst>
                  <a:path w="116" h="37">
                    <a:moveTo>
                      <a:pt x="0" y="24"/>
                    </a:moveTo>
                    <a:lnTo>
                      <a:pt x="25" y="36"/>
                    </a:lnTo>
                    <a:lnTo>
                      <a:pt x="115" y="12"/>
                    </a:lnTo>
                    <a:lnTo>
                      <a:pt x="89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7ff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23" name="Group 143"/>
              <p:cNvGrpSpPr/>
              <p:nvPr/>
            </p:nvGrpSpPr>
            <p:grpSpPr>
              <a:xfrm>
                <a:off x="7233840" y="4721040"/>
                <a:ext cx="660240" cy="239040"/>
                <a:chOff x="7233840" y="4721040"/>
                <a:chExt cx="660240" cy="239040"/>
              </a:xfrm>
            </p:grpSpPr>
            <p:sp>
              <p:nvSpPr>
                <p:cNvPr id="2024" name="Freeform 144"/>
                <p:cNvSpPr/>
                <p:nvPr/>
              </p:nvSpPr>
              <p:spPr>
                <a:xfrm flipH="1" rot="16200000">
                  <a:off x="7561080" y="4872240"/>
                  <a:ext cx="85320" cy="90000"/>
                </a:xfrm>
                <a:custGeom>
                  <a:avLst/>
                  <a:gdLst>
                    <a:gd name="textAreaLeft" fmla="*/ -360 w 85320"/>
                    <a:gd name="textAreaRight" fmla="*/ 85320 w 85320"/>
                    <a:gd name="textAreaTop" fmla="*/ 0 h 90000"/>
                    <a:gd name="textAreaBottom" fmla="*/ 90360 h 90000"/>
                  </a:gdLst>
                  <a:ahLst/>
                  <a:rect l="textAreaLeft" t="textAreaTop" r="textAreaRight" b="textAreaBottom"/>
                  <a:pathLst>
                    <a:path w="90" h="35">
                      <a:moveTo>
                        <a:pt x="24" y="34"/>
                      </a:moveTo>
                      <a:lnTo>
                        <a:pt x="89" y="10"/>
                      </a:lnTo>
                      <a:lnTo>
                        <a:pt x="60" y="0"/>
                      </a:lnTo>
                      <a:lnTo>
                        <a:pt x="0" y="22"/>
                      </a:lnTo>
                      <a:lnTo>
                        <a:pt x="24" y="34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560" bIns="4356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5" name="Freeform 145"/>
                <p:cNvSpPr/>
                <p:nvPr/>
              </p:nvSpPr>
              <p:spPr>
                <a:xfrm flipH="1" rot="16200000">
                  <a:off x="7457400" y="4523400"/>
                  <a:ext cx="212760" cy="660240"/>
                </a:xfrm>
                <a:custGeom>
                  <a:avLst/>
                  <a:gdLst>
                    <a:gd name="textAreaLeft" fmla="*/ -360 w 212760"/>
                    <a:gd name="textAreaRight" fmla="*/ 212760 w 212760"/>
                    <a:gd name="textAreaTop" fmla="*/ 0 h 660240"/>
                    <a:gd name="textAreaBottom" fmla="*/ 660600 h 660240"/>
                  </a:gdLst>
                  <a:ahLst/>
                  <a:rect l="textAreaLeft" t="textAreaTop" r="textAreaRight" b="textAreaBottom"/>
                  <a:pathLst>
                    <a:path w="224" h="256">
                      <a:moveTo>
                        <a:pt x="71" y="25"/>
                      </a:moveTo>
                      <a:lnTo>
                        <a:pt x="160" y="0"/>
                      </a:lnTo>
                      <a:lnTo>
                        <a:pt x="160" y="158"/>
                      </a:lnTo>
                      <a:lnTo>
                        <a:pt x="223" y="135"/>
                      </a:lnTo>
                      <a:lnTo>
                        <a:pt x="121" y="255"/>
                      </a:lnTo>
                      <a:lnTo>
                        <a:pt x="0" y="216"/>
                      </a:lnTo>
                      <a:lnTo>
                        <a:pt x="71" y="191"/>
                      </a:lnTo>
                      <a:lnTo>
                        <a:pt x="71" y="25"/>
                      </a:lnTo>
                    </a:path>
                  </a:pathLst>
                </a:custGeom>
                <a:solidFill>
                  <a:srgbClr val="00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6" name="Freeform 146"/>
                <p:cNvSpPr/>
                <p:nvPr/>
              </p:nvSpPr>
              <p:spPr>
                <a:xfrm flipH="1" rot="16200000">
                  <a:off x="7701480" y="4719960"/>
                  <a:ext cx="92880" cy="95040"/>
                </a:xfrm>
                <a:custGeom>
                  <a:avLst/>
                  <a:gdLst>
                    <a:gd name="textAreaLeft" fmla="*/ 360 w 92880"/>
                    <a:gd name="textAreaRight" fmla="*/ 93600 w 92880"/>
                    <a:gd name="textAreaTop" fmla="*/ 0 h 95040"/>
                    <a:gd name="textAreaBottom" fmla="*/ 95400 h 95040"/>
                  </a:gdLst>
                  <a:ahLst/>
                  <a:rect l="textAreaLeft" t="textAreaTop" r="textAreaRight" b="textAreaBottom"/>
                  <a:pathLst>
                    <a:path w="98" h="37">
                      <a:moveTo>
                        <a:pt x="27" y="36"/>
                      </a:moveTo>
                      <a:lnTo>
                        <a:pt x="0" y="23"/>
                      </a:lnTo>
                      <a:lnTo>
                        <a:pt x="72" y="0"/>
                      </a:lnTo>
                      <a:lnTo>
                        <a:pt x="97" y="12"/>
                      </a:lnTo>
                      <a:lnTo>
                        <a:pt x="27" y="36"/>
                      </a:lnTo>
                    </a:path>
                  </a:pathLst>
                </a:custGeom>
                <a:solidFill>
                  <a:srgbClr val="00d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7" name="Freeform 147"/>
                <p:cNvSpPr/>
                <p:nvPr/>
              </p:nvSpPr>
              <p:spPr>
                <a:xfrm flipH="1" rot="16200000">
                  <a:off x="7485120" y="4569480"/>
                  <a:ext cx="23400" cy="464400"/>
                </a:xfrm>
                <a:custGeom>
                  <a:avLst/>
                  <a:gdLst>
                    <a:gd name="textAreaLeft" fmla="*/ -360 w 23400"/>
                    <a:gd name="textAreaRight" fmla="*/ 23400 w 23400"/>
                    <a:gd name="textAreaTop" fmla="*/ 0 h 464400"/>
                    <a:gd name="textAreaBottom" fmla="*/ 464760 h 464400"/>
                  </a:gdLst>
                  <a:ahLst/>
                  <a:rect l="textAreaLeft" t="textAreaTop" r="textAreaRight" b="textAreaBottom"/>
                  <a:pathLst>
                    <a:path w="25" h="180">
                      <a:moveTo>
                        <a:pt x="0" y="166"/>
                      </a:moveTo>
                      <a:lnTo>
                        <a:pt x="24" y="179"/>
                      </a:lnTo>
                      <a:lnTo>
                        <a:pt x="24" y="12"/>
                      </a:lnTo>
                      <a:lnTo>
                        <a:pt x="0" y="0"/>
                      </a:lnTo>
                      <a:lnTo>
                        <a:pt x="0" y="166"/>
                      </a:lnTo>
                    </a:path>
                  </a:pathLst>
                </a:custGeom>
                <a:solidFill>
                  <a:srgbClr val="00b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2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2028" name="Rectangle 148"/>
            <p:cNvSpPr/>
            <p:nvPr/>
          </p:nvSpPr>
          <p:spPr>
            <a:xfrm>
              <a:off x="6406560" y="4559400"/>
              <a:ext cx="44424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200" rIns="79200" tIns="39600" bIns="396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676440"/>
                  <a:tab algn="l" pos="1352520"/>
                  <a:tab algn="l" pos="2028960"/>
                  <a:tab algn="l" pos="2705040"/>
                  <a:tab algn="l" pos="3381480"/>
                  <a:tab algn="l" pos="4057560"/>
                  <a:tab algn="l" pos="4734000"/>
                  <a:tab algn="l" pos="5410080"/>
                  <a:tab algn="l" pos="6086520"/>
                  <a:tab algn="l" pos="6762600"/>
                  <a:tab algn="l" pos="7439040"/>
                  <a:tab algn="l" pos="8115480"/>
                  <a:tab algn="l" pos="8791560"/>
                  <a:tab algn="l" pos="9468000"/>
                  <a:tab algn="l" pos="10144080"/>
                  <a:tab algn="l" pos="1082052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H</a:t>
              </a:r>
              <a:r>
                <a:rPr b="1" lang="en-US" sz="1500" spc="-1" strike="noStrike" baseline="-25000">
                  <a:solidFill>
                    <a:srgbClr val="000000"/>
                  </a:solidFill>
                  <a:latin typeface="Arial Narrow"/>
                  <a:ea typeface="MS PGothic"/>
                </a:rPr>
                <a:t>2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29" name="Rectangle 149"/>
            <p:cNvSpPr/>
            <p:nvPr/>
          </p:nvSpPr>
          <p:spPr>
            <a:xfrm>
              <a:off x="5850000" y="4878360"/>
              <a:ext cx="181440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400" rIns="41400" tIns="14400" bIns="14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673200"/>
                  <a:tab algn="l" pos="1346040"/>
                  <a:tab algn="l" pos="2019240"/>
                  <a:tab algn="l" pos="2692440"/>
                  <a:tab algn="l" pos="3365640"/>
                  <a:tab algn="l" pos="4038480"/>
                  <a:tab algn="l" pos="4711680"/>
                  <a:tab algn="l" pos="5384880"/>
                  <a:tab algn="l" pos="6058080"/>
                  <a:tab algn="l" pos="6730920"/>
                  <a:tab algn="l" pos="7404120"/>
                  <a:tab algn="l" pos="8077320"/>
                  <a:tab algn="l" pos="8750160"/>
                  <a:tab algn="l" pos="9423360"/>
                  <a:tab algn="l" pos="10096560"/>
                  <a:tab algn="l" pos="10769760"/>
                </a:tabLst>
              </a:pPr>
              <a:r>
                <a:rPr b="1" lang="en-US" sz="1500" spc="-1" strike="noStrike">
                  <a:solidFill>
                    <a:srgbClr val="ff0000"/>
                  </a:solidFill>
                  <a:latin typeface="Arial Narrow"/>
                  <a:ea typeface="MS PGothic"/>
                </a:rPr>
                <a:t>Y</a:t>
              </a:r>
              <a:r>
                <a:rPr b="1" lang="en-US" sz="1500" spc="-1" strike="noStrike" baseline="30000">
                  <a:solidFill>
                    <a:srgbClr val="ff0000"/>
                  </a:solidFill>
                  <a:latin typeface="Arial Narrow"/>
                  <a:ea typeface="MS PGothic"/>
                </a:rPr>
                <a:t>+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 Narrow"/>
                  <a:ea typeface="MS PGothic"/>
                </a:rPr>
                <a:t>OH</a:t>
              </a:r>
              <a:r>
                <a:rPr b="1" lang="en-US" sz="1500" spc="-1" strike="noStrike" baseline="30000">
                  <a:solidFill>
                    <a:srgbClr val="000000"/>
                  </a:solidFill>
                  <a:latin typeface="Arial Narrow"/>
                  <a:ea typeface="MS PGothic"/>
                </a:rPr>
                <a:t>-</a:t>
              </a:r>
              <a:endParaRPr b="1" lang="en-US" sz="15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30" name="Rectangle 150"/>
          <p:cNvSpPr/>
          <p:nvPr/>
        </p:nvSpPr>
        <p:spPr>
          <a:xfrm>
            <a:off x="3470400" y="1844640"/>
            <a:ext cx="2653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X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MS Gothic"/>
              </a:rPr>
              <a:t>-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An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  <a:ea typeface="MS Gothic"/>
              </a:rPr>
              <a:t>Y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MS Gothic"/>
              </a:rPr>
              <a:t>+</a:t>
            </a:r>
            <a:r>
              <a:rPr b="1" lang="en-US" sz="1800" spc="-1" strike="noStrike" baseline="30000">
                <a:solidFill>
                  <a:srgbClr val="ff0000"/>
                </a:solidFill>
                <a:latin typeface="Tahoma"/>
                <a:ea typeface="굴림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MS Gothic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굴림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MS Gothic"/>
              </a:rPr>
              <a:t>Cation in the sampl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1" name="Rectangle 151"/>
          <p:cNvSpPr/>
          <p:nvPr/>
        </p:nvSpPr>
        <p:spPr>
          <a:xfrm flipH="1">
            <a:off x="2257560" y="2965320"/>
            <a:ext cx="128880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＋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Rectangle 152"/>
          <p:cNvSpPr/>
          <p:nvPr/>
        </p:nvSpPr>
        <p:spPr>
          <a:xfrm flipH="1">
            <a:off x="2297880" y="6321600"/>
            <a:ext cx="1289160" cy="24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Electrode</a:t>
            </a:r>
            <a:r>
              <a:rPr b="1" lang="ja-JP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（－）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Rectangle 153"/>
          <p:cNvSpPr/>
          <p:nvPr/>
        </p:nvSpPr>
        <p:spPr>
          <a:xfrm flipH="1">
            <a:off x="2317680" y="3941640"/>
            <a:ext cx="313848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4" name="Rectangle 154"/>
          <p:cNvSpPr/>
          <p:nvPr/>
        </p:nvSpPr>
        <p:spPr>
          <a:xfrm flipH="1">
            <a:off x="2283840" y="5356080"/>
            <a:ext cx="3252600" cy="26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14400" bIns="14400" anchor="t">
            <a:spAutoFit/>
          </a:bodyPr>
          <a:p>
            <a:pPr marL="295200" indent="-295200" algn="ctr">
              <a:lnSpc>
                <a:spcPct val="9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 Narrow"/>
                <a:ea typeface="MS PGothic"/>
              </a:rPr>
              <a:t>Anion exchange membrane</a:t>
            </a:r>
            <a:endParaRPr b="1" lang="en-US" sz="17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5" name="Text Box 156"/>
          <p:cNvSpPr/>
          <p:nvPr/>
        </p:nvSpPr>
        <p:spPr>
          <a:xfrm>
            <a:off x="6820200" y="1557360"/>
            <a:ext cx="1758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Pure water 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굴림"/>
              </a:rPr>
              <a:t>fluid from detector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Rectangle 157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2" dur="500"/>
                                        <p:tgtEl>
                                          <p:spTgt spid="1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6" dur="500"/>
                                        <p:tgtEl>
                                          <p:spTgt spid="19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0" dur="500"/>
                                        <p:tgtEl>
                                          <p:spTgt spid="20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4" dur="500"/>
                                        <p:tgtEl>
                                          <p:spTgt spid="19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9" dur="5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8" dur="5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Suppressor recycle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Rectangle 5"/>
          <p:cNvSpPr/>
          <p:nvPr/>
        </p:nvSpPr>
        <p:spPr>
          <a:xfrm>
            <a:off x="17906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Rectangle 6"/>
          <p:cNvSpPr/>
          <p:nvPr/>
        </p:nvSpPr>
        <p:spPr>
          <a:xfrm>
            <a:off x="12574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Rectangle 7"/>
          <p:cNvSpPr/>
          <p:nvPr/>
        </p:nvSpPr>
        <p:spPr>
          <a:xfrm>
            <a:off x="800280" y="254160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8"/>
          <p:cNvSpPr/>
          <p:nvPr/>
        </p:nvSpPr>
        <p:spPr>
          <a:xfrm>
            <a:off x="2247840" y="254160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Rectangle 9"/>
          <p:cNvSpPr/>
          <p:nvPr/>
        </p:nvSpPr>
        <p:spPr>
          <a:xfrm>
            <a:off x="1657440" y="216072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Rectangle 10"/>
          <p:cNvSpPr/>
          <p:nvPr/>
        </p:nvSpPr>
        <p:spPr>
          <a:xfrm>
            <a:off x="4692600" y="200664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4" name="Rectangle 11"/>
          <p:cNvSpPr/>
          <p:nvPr/>
        </p:nvSpPr>
        <p:spPr>
          <a:xfrm>
            <a:off x="642960" y="464184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5" name="Oval 12"/>
          <p:cNvSpPr/>
          <p:nvPr/>
        </p:nvSpPr>
        <p:spPr>
          <a:xfrm>
            <a:off x="754200" y="5183280"/>
            <a:ext cx="23328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6" name="Oval 13"/>
          <p:cNvSpPr/>
          <p:nvPr/>
        </p:nvSpPr>
        <p:spPr>
          <a:xfrm>
            <a:off x="1092240" y="5183280"/>
            <a:ext cx="236520" cy="23472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7" name="Oval 14"/>
          <p:cNvSpPr/>
          <p:nvPr/>
        </p:nvSpPr>
        <p:spPr>
          <a:xfrm>
            <a:off x="927000" y="476100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Rectangle 15"/>
          <p:cNvSpPr/>
          <p:nvPr/>
        </p:nvSpPr>
        <p:spPr>
          <a:xfrm>
            <a:off x="911160" y="5578560"/>
            <a:ext cx="252360" cy="33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Line 16"/>
          <p:cNvSpPr/>
          <p:nvPr/>
        </p:nvSpPr>
        <p:spPr>
          <a:xfrm flipH="1">
            <a:off x="864720" y="542916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7"/>
          <p:cNvSpPr/>
          <p:nvPr/>
        </p:nvSpPr>
        <p:spPr>
          <a:xfrm>
            <a:off x="866880" y="559764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1" name="Line 18"/>
          <p:cNvSpPr/>
          <p:nvPr/>
        </p:nvSpPr>
        <p:spPr>
          <a:xfrm>
            <a:off x="1208160" y="542916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2" name="Line 19"/>
          <p:cNvSpPr/>
          <p:nvPr/>
        </p:nvSpPr>
        <p:spPr>
          <a:xfrm flipH="1">
            <a:off x="1177920" y="559764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3" name="Freeform 20"/>
          <p:cNvSpPr/>
          <p:nvPr/>
        </p:nvSpPr>
        <p:spPr>
          <a:xfrm>
            <a:off x="863640" y="4870440"/>
            <a:ext cx="38160" cy="318960"/>
          </a:xfrm>
          <a:custGeom>
            <a:avLst/>
            <a:gdLst>
              <a:gd name="textAreaLeft" fmla="*/ 0 w 38160"/>
              <a:gd name="textAreaRight" fmla="*/ 38520 w 3816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4" name="Freeform 21"/>
          <p:cNvSpPr/>
          <p:nvPr/>
        </p:nvSpPr>
        <p:spPr>
          <a:xfrm>
            <a:off x="1174680" y="4870440"/>
            <a:ext cx="42840" cy="318960"/>
          </a:xfrm>
          <a:custGeom>
            <a:avLst/>
            <a:gdLst>
              <a:gd name="textAreaLeft" fmla="*/ 0 w 42840"/>
              <a:gd name="textAreaRight" fmla="*/ 43200 w 4284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Line 22"/>
          <p:cNvSpPr/>
          <p:nvPr/>
        </p:nvSpPr>
        <p:spPr>
          <a:xfrm>
            <a:off x="1041480" y="479736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23"/>
          <p:cNvSpPr/>
          <p:nvPr/>
        </p:nvSpPr>
        <p:spPr>
          <a:xfrm>
            <a:off x="396720" y="5637240"/>
            <a:ext cx="641520" cy="54000"/>
          </a:xfrm>
          <a:custGeom>
            <a:avLst/>
            <a:gdLst>
              <a:gd name="textAreaLeft" fmla="*/ 0 w 641520"/>
              <a:gd name="textAreaRight" fmla="*/ 641520 w 641520"/>
              <a:gd name="textAreaTop" fmla="*/ 0 h 54000"/>
              <a:gd name="textAreaBottom" fmla="*/ 54360 h 54000"/>
            </a:gdLst>
            <a:ahLst/>
            <a:rect l="textAreaLeft" t="textAreaTop" r="textAreaRight" b="textAreaBottom"/>
            <a:pathLst>
              <a:path w="404" h="34">
                <a:moveTo>
                  <a:pt x="403" y="0"/>
                </a:moveTo>
                <a:lnTo>
                  <a:pt x="403" y="33"/>
                </a:lnTo>
                <a:lnTo>
                  <a:pt x="0" y="33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Freeform 24"/>
          <p:cNvSpPr/>
          <p:nvPr/>
        </p:nvSpPr>
        <p:spPr>
          <a:xfrm>
            <a:off x="395280" y="2019240"/>
            <a:ext cx="1339920" cy="364500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645000"/>
              <a:gd name="textAreaBottom" fmla="*/ 3645360 h 3645000"/>
            </a:gdLst>
            <a:ahLst/>
            <a:rect l="textAreaLeft" t="textAreaTop" r="textAreaRight" b="textAreaBottom"/>
            <a:pathLst>
              <a:path w="844" h="2296">
                <a:moveTo>
                  <a:pt x="0" y="2295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Oval 25"/>
          <p:cNvSpPr/>
          <p:nvPr/>
        </p:nvSpPr>
        <p:spPr>
          <a:xfrm>
            <a:off x="2197080" y="468000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Freeform 26"/>
          <p:cNvSpPr/>
          <p:nvPr/>
        </p:nvSpPr>
        <p:spPr>
          <a:xfrm>
            <a:off x="1965240" y="445788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Line 27"/>
          <p:cNvSpPr/>
          <p:nvPr/>
        </p:nvSpPr>
        <p:spPr>
          <a:xfrm>
            <a:off x="2508120" y="499428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AutoShape 28"/>
          <p:cNvSpPr/>
          <p:nvPr/>
        </p:nvSpPr>
        <p:spPr>
          <a:xfrm>
            <a:off x="3092400" y="4906800"/>
            <a:ext cx="2635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AutoShape 29"/>
          <p:cNvSpPr/>
          <p:nvPr/>
        </p:nvSpPr>
        <p:spPr>
          <a:xfrm>
            <a:off x="3666960" y="4906800"/>
            <a:ext cx="1797120" cy="16848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30"/>
          <p:cNvSpPr/>
          <p:nvPr/>
        </p:nvSpPr>
        <p:spPr>
          <a:xfrm>
            <a:off x="3368520" y="499428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Freeform 31"/>
          <p:cNvSpPr/>
          <p:nvPr/>
        </p:nvSpPr>
        <p:spPr>
          <a:xfrm>
            <a:off x="5473800" y="4995720"/>
            <a:ext cx="411120" cy="524160"/>
          </a:xfrm>
          <a:custGeom>
            <a:avLst/>
            <a:gdLst>
              <a:gd name="textAreaLeft" fmla="*/ 0 w 411120"/>
              <a:gd name="textAreaRight" fmla="*/ 411480 w 411120"/>
              <a:gd name="textAreaTop" fmla="*/ 0 h 524160"/>
              <a:gd name="textAreaBottom" fmla="*/ 524520 h 52416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Rectangle 32"/>
          <p:cNvSpPr/>
          <p:nvPr/>
        </p:nvSpPr>
        <p:spPr>
          <a:xfrm>
            <a:off x="5683320" y="5506920"/>
            <a:ext cx="1031760" cy="26676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Oval 33"/>
          <p:cNvSpPr/>
          <p:nvPr/>
        </p:nvSpPr>
        <p:spPr>
          <a:xfrm>
            <a:off x="7230960" y="461484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Line 34"/>
          <p:cNvSpPr/>
          <p:nvPr/>
        </p:nvSpPr>
        <p:spPr>
          <a:xfrm flipV="1">
            <a:off x="728964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Line 35"/>
          <p:cNvSpPr/>
          <p:nvPr/>
        </p:nvSpPr>
        <p:spPr>
          <a:xfrm flipV="1">
            <a:off x="7434360" y="4627440"/>
            <a:ext cx="0" cy="2383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Rectangle 36"/>
          <p:cNvSpPr/>
          <p:nvPr/>
        </p:nvSpPr>
        <p:spPr>
          <a:xfrm>
            <a:off x="1078920" y="1616040"/>
            <a:ext cx="9889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Elue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Rectangle 37"/>
          <p:cNvSpPr/>
          <p:nvPr/>
        </p:nvSpPr>
        <p:spPr>
          <a:xfrm>
            <a:off x="480600" y="593100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Rectangle 38"/>
          <p:cNvSpPr/>
          <p:nvPr/>
        </p:nvSpPr>
        <p:spPr>
          <a:xfrm>
            <a:off x="1682640" y="521028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39"/>
          <p:cNvSpPr/>
          <p:nvPr/>
        </p:nvSpPr>
        <p:spPr>
          <a:xfrm>
            <a:off x="3117240" y="437040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Rectangle 40"/>
          <p:cNvSpPr/>
          <p:nvPr/>
        </p:nvSpPr>
        <p:spPr>
          <a:xfrm>
            <a:off x="5503680" y="576108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Rectangle 41"/>
          <p:cNvSpPr/>
          <p:nvPr/>
        </p:nvSpPr>
        <p:spPr>
          <a:xfrm>
            <a:off x="7355160" y="453240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Freeform 42"/>
          <p:cNvSpPr/>
          <p:nvPr/>
        </p:nvSpPr>
        <p:spPr>
          <a:xfrm>
            <a:off x="6576840" y="4923000"/>
            <a:ext cx="793800" cy="596880"/>
          </a:xfrm>
          <a:custGeom>
            <a:avLst/>
            <a:gdLst>
              <a:gd name="textAreaLeft" fmla="*/ 0 w 793800"/>
              <a:gd name="textAreaRight" fmla="*/ 794160 w 793800"/>
              <a:gd name="textAreaTop" fmla="*/ 0 h 596880"/>
              <a:gd name="textAreaBottom" fmla="*/ 597240 h 59688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Freeform 43"/>
          <p:cNvSpPr/>
          <p:nvPr/>
        </p:nvSpPr>
        <p:spPr>
          <a:xfrm>
            <a:off x="6378480" y="4329000"/>
            <a:ext cx="992160" cy="1190880"/>
          </a:xfrm>
          <a:custGeom>
            <a:avLst/>
            <a:gdLst>
              <a:gd name="textAreaLeft" fmla="*/ 0 w 992160"/>
              <a:gd name="textAreaRight" fmla="*/ 992520 w 992160"/>
              <a:gd name="textAreaTop" fmla="*/ 0 h 1190880"/>
              <a:gd name="textAreaBottom" fmla="*/ 1191240 h 1190880"/>
            </a:gdLst>
            <a:ahLst/>
            <a:rect l="textAreaLeft" t="textAreaTop" r="textAreaRight" b="textAreaBottom"/>
            <a:pathLst>
              <a:path w="625" h="750">
                <a:moveTo>
                  <a:pt x="624" y="172"/>
                </a:moveTo>
                <a:lnTo>
                  <a:pt x="624" y="0"/>
                </a:lnTo>
                <a:lnTo>
                  <a:pt x="0" y="0"/>
                </a:lnTo>
                <a:lnTo>
                  <a:pt x="0" y="74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4"/>
          <p:cNvSpPr/>
          <p:nvPr/>
        </p:nvSpPr>
        <p:spPr>
          <a:xfrm>
            <a:off x="5089680" y="5418000"/>
            <a:ext cx="893520" cy="89388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880"/>
              <a:gd name="textAreaBottom" fmla="*/ 894240 h 89388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Rectangle 45"/>
          <p:cNvSpPr/>
          <p:nvPr/>
        </p:nvSpPr>
        <p:spPr>
          <a:xfrm>
            <a:off x="4673520" y="633240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6"/>
          <p:cNvGrpSpPr/>
          <p:nvPr/>
        </p:nvGrpSpPr>
        <p:grpSpPr>
          <a:xfrm>
            <a:off x="6566040" y="3811680"/>
            <a:ext cx="509400" cy="516960"/>
            <a:chOff x="6566040" y="3811680"/>
            <a:chExt cx="509400" cy="516960"/>
          </a:xfrm>
        </p:grpSpPr>
        <p:sp>
          <p:nvSpPr>
            <p:cNvPr id="2080" name="Oval 47"/>
            <p:cNvSpPr/>
            <p:nvPr/>
          </p:nvSpPr>
          <p:spPr>
            <a:xfrm>
              <a:off x="6708600" y="4106520"/>
              <a:ext cx="221760" cy="2221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Oval 48"/>
            <p:cNvSpPr/>
            <p:nvPr/>
          </p:nvSpPr>
          <p:spPr>
            <a:xfrm>
              <a:off x="6566040" y="3811680"/>
              <a:ext cx="509400" cy="5076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2" name="Oval 49"/>
            <p:cNvSpPr/>
            <p:nvPr/>
          </p:nvSpPr>
          <p:spPr>
            <a:xfrm>
              <a:off x="6642000" y="3963600"/>
              <a:ext cx="355320" cy="3553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3" name="Rectangle 50"/>
          <p:cNvSpPr/>
          <p:nvPr/>
        </p:nvSpPr>
        <p:spPr>
          <a:xfrm>
            <a:off x="5811480" y="3432240"/>
            <a:ext cx="1702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 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4" name="Line 51"/>
          <p:cNvSpPr/>
          <p:nvPr/>
        </p:nvSpPr>
        <p:spPr>
          <a:xfrm>
            <a:off x="5603760" y="497988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5" name="Line 52"/>
          <p:cNvSpPr/>
          <p:nvPr/>
        </p:nvSpPr>
        <p:spPr>
          <a:xfrm>
            <a:off x="6892920" y="52848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6" name="Line 53"/>
          <p:cNvSpPr/>
          <p:nvPr/>
        </p:nvSpPr>
        <p:spPr>
          <a:xfrm>
            <a:off x="6362640" y="4830840"/>
            <a:ext cx="0" cy="149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Rectangle 54"/>
          <p:cNvSpPr/>
          <p:nvPr/>
        </p:nvSpPr>
        <p:spPr>
          <a:xfrm>
            <a:off x="7291440" y="558000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6699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8" name="Group 55"/>
          <p:cNvGrpSpPr/>
          <p:nvPr/>
        </p:nvGrpSpPr>
        <p:grpSpPr>
          <a:xfrm>
            <a:off x="6748560" y="5562720"/>
            <a:ext cx="667440" cy="228600"/>
            <a:chOff x="6748560" y="5562720"/>
            <a:chExt cx="667440" cy="228600"/>
          </a:xfrm>
        </p:grpSpPr>
        <p:sp>
          <p:nvSpPr>
            <p:cNvPr id="2089" name="Arc 56"/>
            <p:cNvSpPr/>
            <p:nvPr/>
          </p:nvSpPr>
          <p:spPr>
            <a:xfrm>
              <a:off x="6748560" y="556272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0" name="Arc 57"/>
            <p:cNvSpPr/>
            <p:nvPr/>
          </p:nvSpPr>
          <p:spPr>
            <a:xfrm rot="10800000">
              <a:off x="7092360" y="568188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91" name="Line 58"/>
          <p:cNvSpPr/>
          <p:nvPr/>
        </p:nvSpPr>
        <p:spPr>
          <a:xfrm>
            <a:off x="1741320" y="202248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Line 59"/>
          <p:cNvSpPr/>
          <p:nvPr/>
        </p:nvSpPr>
        <p:spPr>
          <a:xfrm flipV="1">
            <a:off x="10144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3" name="Line 60"/>
          <p:cNvSpPr/>
          <p:nvPr/>
        </p:nvSpPr>
        <p:spPr>
          <a:xfrm flipV="1">
            <a:off x="24192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4" name="Line 61"/>
          <p:cNvSpPr/>
          <p:nvPr/>
        </p:nvSpPr>
        <p:spPr>
          <a:xfrm flipV="1">
            <a:off x="147780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Line 62"/>
          <p:cNvSpPr/>
          <p:nvPr/>
        </p:nvSpPr>
        <p:spPr>
          <a:xfrm flipV="1">
            <a:off x="1954080" y="20368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96" name="Group 63"/>
          <p:cNvGrpSpPr/>
          <p:nvPr/>
        </p:nvGrpSpPr>
        <p:grpSpPr>
          <a:xfrm>
            <a:off x="826920" y="2297160"/>
            <a:ext cx="360360" cy="841320"/>
            <a:chOff x="826920" y="2297160"/>
            <a:chExt cx="360360" cy="841320"/>
          </a:xfrm>
        </p:grpSpPr>
        <p:sp>
          <p:nvSpPr>
            <p:cNvPr id="2097" name="Freeform 64"/>
            <p:cNvSpPr/>
            <p:nvPr/>
          </p:nvSpPr>
          <p:spPr>
            <a:xfrm>
              <a:off x="826920" y="229716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98" name="Freeform 65"/>
            <p:cNvSpPr/>
            <p:nvPr/>
          </p:nvSpPr>
          <p:spPr>
            <a:xfrm>
              <a:off x="92052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099" name="Group 66"/>
          <p:cNvGrpSpPr/>
          <p:nvPr/>
        </p:nvGrpSpPr>
        <p:grpSpPr>
          <a:xfrm>
            <a:off x="2232000" y="2297160"/>
            <a:ext cx="360360" cy="841320"/>
            <a:chOff x="2232000" y="2297160"/>
            <a:chExt cx="360360" cy="841320"/>
          </a:xfrm>
        </p:grpSpPr>
        <p:sp>
          <p:nvSpPr>
            <p:cNvPr id="2100" name="Freeform 67"/>
            <p:cNvSpPr/>
            <p:nvPr/>
          </p:nvSpPr>
          <p:spPr>
            <a:xfrm>
              <a:off x="22320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1" name="Freeform 68"/>
            <p:cNvSpPr/>
            <p:nvPr/>
          </p:nvSpPr>
          <p:spPr>
            <a:xfrm>
              <a:off x="23256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2" name="Group 69"/>
          <p:cNvGrpSpPr/>
          <p:nvPr/>
        </p:nvGrpSpPr>
        <p:grpSpPr>
          <a:xfrm>
            <a:off x="1290600" y="2297160"/>
            <a:ext cx="360360" cy="841320"/>
            <a:chOff x="1290600" y="2297160"/>
            <a:chExt cx="360360" cy="841320"/>
          </a:xfrm>
        </p:grpSpPr>
        <p:sp>
          <p:nvSpPr>
            <p:cNvPr id="2103" name="Freeform 70"/>
            <p:cNvSpPr/>
            <p:nvPr/>
          </p:nvSpPr>
          <p:spPr>
            <a:xfrm>
              <a:off x="129060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4" name="Freeform 71"/>
            <p:cNvSpPr/>
            <p:nvPr/>
          </p:nvSpPr>
          <p:spPr>
            <a:xfrm>
              <a:off x="138420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05" name="Group 72"/>
          <p:cNvGrpSpPr/>
          <p:nvPr/>
        </p:nvGrpSpPr>
        <p:grpSpPr>
          <a:xfrm>
            <a:off x="1766880" y="2297160"/>
            <a:ext cx="360360" cy="841320"/>
            <a:chOff x="1766880" y="2297160"/>
            <a:chExt cx="360360" cy="841320"/>
          </a:xfrm>
        </p:grpSpPr>
        <p:sp>
          <p:nvSpPr>
            <p:cNvPr id="2106" name="Freeform 73"/>
            <p:cNvSpPr/>
            <p:nvPr/>
          </p:nvSpPr>
          <p:spPr>
            <a:xfrm>
              <a:off x="1766880" y="22971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07" name="Freeform 74"/>
            <p:cNvSpPr/>
            <p:nvPr/>
          </p:nvSpPr>
          <p:spPr>
            <a:xfrm>
              <a:off x="1860480" y="22971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08" name="Rectangle 7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1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Extern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Rectangle 5"/>
          <p:cNvSpPr/>
          <p:nvPr/>
        </p:nvSpPr>
        <p:spPr>
          <a:xfrm>
            <a:off x="5753160" y="3452760"/>
            <a:ext cx="304920" cy="60948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5" name="Rectangle 10"/>
          <p:cNvSpPr/>
          <p:nvPr/>
        </p:nvSpPr>
        <p:spPr>
          <a:xfrm>
            <a:off x="1657440" y="2157480"/>
            <a:ext cx="5457600" cy="17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 Narrow"/>
                <a:ea typeface="MS PGothic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58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6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7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8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9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0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1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3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4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6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7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Rectangle 33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Rectangle 34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Freeform 35"/>
          <p:cNvSpPr/>
          <p:nvPr/>
        </p:nvSpPr>
        <p:spPr>
          <a:xfrm>
            <a:off x="6576840" y="4906800"/>
            <a:ext cx="588960" cy="597240"/>
          </a:xfrm>
          <a:custGeom>
            <a:avLst/>
            <a:gdLst>
              <a:gd name="textAreaLeft" fmla="*/ 0 w 588960"/>
              <a:gd name="textAreaRight" fmla="*/ 589320 w 58896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371" h="376">
                <a:moveTo>
                  <a:pt x="0" y="375"/>
                </a:moveTo>
                <a:lnTo>
                  <a:pt x="0" y="250"/>
                </a:lnTo>
                <a:lnTo>
                  <a:pt x="370" y="250"/>
                </a:lnTo>
                <a:lnTo>
                  <a:pt x="37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1" name="Freeform 36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2" name="Rectangle 37"/>
          <p:cNvSpPr/>
          <p:nvPr/>
        </p:nvSpPr>
        <p:spPr>
          <a:xfrm>
            <a:off x="6807240" y="233028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3" name="Line 38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4" name="Line 39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5" name="Rectangle 40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6" name="Rectangle 41"/>
          <p:cNvSpPr/>
          <p:nvPr/>
        </p:nvSpPr>
        <p:spPr>
          <a:xfrm>
            <a:off x="5403960" y="2368440"/>
            <a:ext cx="14950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Pure Water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7" name="Freeform 42"/>
          <p:cNvSpPr/>
          <p:nvPr/>
        </p:nvSpPr>
        <p:spPr>
          <a:xfrm>
            <a:off x="5931000" y="2803680"/>
            <a:ext cx="546120" cy="2724120"/>
          </a:xfrm>
          <a:custGeom>
            <a:avLst/>
            <a:gdLst>
              <a:gd name="textAreaLeft" fmla="*/ 0 w 546120"/>
              <a:gd name="textAreaRight" fmla="*/ 546480 w 546120"/>
              <a:gd name="textAreaTop" fmla="*/ 0 h 2724120"/>
              <a:gd name="textAreaBottom" fmla="*/ 2724480 h 2724120"/>
            </a:gdLst>
            <a:ahLst/>
            <a:rect l="textAreaLeft" t="textAreaTop" r="textAreaRight" b="textAreaBottom"/>
            <a:pathLst>
              <a:path w="344" h="1716">
                <a:moveTo>
                  <a:pt x="343" y="1715"/>
                </a:moveTo>
                <a:lnTo>
                  <a:pt x="343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8" name="Line 43"/>
          <p:cNvSpPr/>
          <p:nvPr/>
        </p:nvSpPr>
        <p:spPr>
          <a:xfrm>
            <a:off x="6473880" y="4816440"/>
            <a:ext cx="0" cy="149400"/>
          </a:xfrm>
          <a:prstGeom prst="line">
            <a:avLst/>
          </a:prstGeom>
          <a:ln w="2556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9" name="Rectangle 44"/>
          <p:cNvSpPr/>
          <p:nvPr/>
        </p:nvSpPr>
        <p:spPr>
          <a:xfrm>
            <a:off x="7291440" y="5576760"/>
            <a:ext cx="169380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33"/>
                </a:solidFill>
                <a:uFillTx/>
                <a:latin typeface="Arial Narrow"/>
                <a:ea typeface="MS PGothic"/>
              </a:rPr>
              <a:t>Current Supply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0" name="Group 45"/>
          <p:cNvGrpSpPr/>
          <p:nvPr/>
        </p:nvGrpSpPr>
        <p:grpSpPr>
          <a:xfrm>
            <a:off x="6748560" y="5559480"/>
            <a:ext cx="667440" cy="228600"/>
            <a:chOff x="6748560" y="5559480"/>
            <a:chExt cx="667440" cy="228600"/>
          </a:xfrm>
        </p:grpSpPr>
        <p:sp>
          <p:nvSpPr>
            <p:cNvPr id="2151" name="Arc 46"/>
            <p:cNvSpPr/>
            <p:nvPr/>
          </p:nvSpPr>
          <p:spPr>
            <a:xfrm>
              <a:off x="6748560" y="5559480"/>
              <a:ext cx="323640" cy="1080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8000"/>
                <a:gd name="textAreaBottom" fmla="*/ 108360 h 108000"/>
              </a:gdLst>
              <a:ahLst/>
              <a:rect l="textAreaLeft" t="textAreaTop" r="textAreaRight" b="textAreaBottom"/>
              <a:pathLst>
                <a:path fill="none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</a:path>
                <a:path stroke="0" w="21706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2035" y="0"/>
                    <a:pt x="21706" y="9670"/>
                    <a:pt x="21706" y="21600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Arc 47"/>
            <p:cNvSpPr/>
            <p:nvPr/>
          </p:nvSpPr>
          <p:spPr>
            <a:xfrm rot="10800000">
              <a:off x="7092360" y="5678640"/>
              <a:ext cx="323640" cy="10944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fill="none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</a:path>
                <a:path stroke="0" w="21704" h="21600">
                  <a:moveTo>
                    <a:pt x="0" y="0"/>
                  </a:moveTo>
                  <a:cubicBezTo>
                    <a:pt x="35" y="0"/>
                    <a:pt x="70" y="-1"/>
                    <a:pt x="106" y="0"/>
                  </a:cubicBezTo>
                  <a:cubicBezTo>
                    <a:pt x="11912" y="0"/>
                    <a:pt x="21531" y="9479"/>
                    <a:pt x="21703" y="21285"/>
                  </a:cubicBezTo>
                  <a:lnTo>
                    <a:pt x="106" y="2160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rnd" w="47520">
              <a:solidFill>
                <a:srgbClr val="ff00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3" name="Rectangle 48"/>
          <p:cNvSpPr/>
          <p:nvPr/>
        </p:nvSpPr>
        <p:spPr>
          <a:xfrm>
            <a:off x="4745160" y="2568600"/>
            <a:ext cx="8082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Arial Narrow"/>
                <a:ea typeface="MS Gothic"/>
              </a:rPr>
              <a:t>Pressure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4" name="Arc 49"/>
          <p:cNvSpPr/>
          <p:nvPr/>
        </p:nvSpPr>
        <p:spPr>
          <a:xfrm>
            <a:off x="5497560" y="2882880"/>
            <a:ext cx="404640" cy="380880"/>
          </a:xfrm>
          <a:custGeom>
            <a:avLst/>
            <a:gdLst>
              <a:gd name="textAreaLeft" fmla="*/ 0 w 404640"/>
              <a:gd name="textAreaRight" fmla="*/ 405000 w 40464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cap="rnd"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5" name="Group 50"/>
          <p:cNvGrpSpPr/>
          <p:nvPr/>
        </p:nvGrpSpPr>
        <p:grpSpPr>
          <a:xfrm>
            <a:off x="7031160" y="2732040"/>
            <a:ext cx="662040" cy="2143080"/>
            <a:chOff x="7031160" y="2732040"/>
            <a:chExt cx="662040" cy="2143080"/>
          </a:xfrm>
        </p:grpSpPr>
        <p:sp>
          <p:nvSpPr>
            <p:cNvPr id="2156" name="Oval 51"/>
            <p:cNvSpPr/>
            <p:nvPr/>
          </p:nvSpPr>
          <p:spPr>
            <a:xfrm>
              <a:off x="7031160" y="4611600"/>
              <a:ext cx="263520" cy="26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7" name="Line 52"/>
            <p:cNvSpPr/>
            <p:nvPr/>
          </p:nvSpPr>
          <p:spPr>
            <a:xfrm flipV="1">
              <a:off x="708984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8" name="Line 53"/>
            <p:cNvSpPr/>
            <p:nvPr/>
          </p:nvSpPr>
          <p:spPr>
            <a:xfrm flipV="1">
              <a:off x="7234560" y="4624200"/>
              <a:ext cx="0" cy="237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159" name="Group 54"/>
            <p:cNvGrpSpPr/>
            <p:nvPr/>
          </p:nvGrpSpPr>
          <p:grpSpPr>
            <a:xfrm>
              <a:off x="7175520" y="3687840"/>
              <a:ext cx="517680" cy="509400"/>
              <a:chOff x="7175520" y="3687840"/>
              <a:chExt cx="517680" cy="509400"/>
            </a:xfrm>
          </p:grpSpPr>
          <p:sp>
            <p:nvSpPr>
              <p:cNvPr id="2160" name="Oval 55"/>
              <p:cNvSpPr/>
              <p:nvPr/>
            </p:nvSpPr>
            <p:spPr>
              <a:xfrm>
                <a:off x="7175520" y="3830760"/>
                <a:ext cx="222480" cy="2221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1" name="Oval 56"/>
              <p:cNvSpPr/>
              <p:nvPr/>
            </p:nvSpPr>
            <p:spPr>
              <a:xfrm>
                <a:off x="7185240" y="3687840"/>
                <a:ext cx="507960" cy="50940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2" name="Oval 57"/>
              <p:cNvSpPr/>
              <p:nvPr/>
            </p:nvSpPr>
            <p:spPr>
              <a:xfrm>
                <a:off x="7185240" y="3764160"/>
                <a:ext cx="355680" cy="355320"/>
              </a:xfrm>
              <a:prstGeom prst="ellips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63" name="Group 58"/>
            <p:cNvGrpSpPr/>
            <p:nvPr/>
          </p:nvGrpSpPr>
          <p:grpSpPr>
            <a:xfrm>
              <a:off x="7164720" y="2732040"/>
              <a:ext cx="2880" cy="1863360"/>
              <a:chOff x="7164720" y="2732040"/>
              <a:chExt cx="2880" cy="1863360"/>
            </a:xfrm>
          </p:grpSpPr>
          <p:sp>
            <p:nvSpPr>
              <p:cNvPr id="2164" name="Line 59"/>
              <p:cNvSpPr/>
              <p:nvPr/>
            </p:nvSpPr>
            <p:spPr>
              <a:xfrm flipV="1">
                <a:off x="7167600" y="2732040"/>
                <a:ext cx="0" cy="201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65" name="Line 60"/>
              <p:cNvSpPr/>
              <p:nvPr/>
            </p:nvSpPr>
            <p:spPr>
              <a:xfrm flipV="1">
                <a:off x="7164720" y="2860560"/>
                <a:ext cx="0" cy="17348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166" name="Line 61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7" name="Line 62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8" name="Line 63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9" name="Line 64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0" name="Line 65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1" name="Group 66"/>
          <p:cNvGrpSpPr/>
          <p:nvPr/>
        </p:nvGrpSpPr>
        <p:grpSpPr>
          <a:xfrm>
            <a:off x="5730840" y="3209760"/>
            <a:ext cx="360360" cy="841320"/>
            <a:chOff x="5730840" y="3209760"/>
            <a:chExt cx="360360" cy="841320"/>
          </a:xfrm>
        </p:grpSpPr>
        <p:sp>
          <p:nvSpPr>
            <p:cNvPr id="2172" name="Freeform 67"/>
            <p:cNvSpPr/>
            <p:nvPr/>
          </p:nvSpPr>
          <p:spPr>
            <a:xfrm>
              <a:off x="573084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3" name="Freeform 68"/>
            <p:cNvSpPr/>
            <p:nvPr/>
          </p:nvSpPr>
          <p:spPr>
            <a:xfrm>
              <a:off x="582444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4" name="Line 69"/>
          <p:cNvSpPr/>
          <p:nvPr/>
        </p:nvSpPr>
        <p:spPr>
          <a:xfrm flipV="1">
            <a:off x="5918040" y="2793960"/>
            <a:ext cx="0" cy="1230480"/>
          </a:xfrm>
          <a:prstGeom prst="line">
            <a:avLst/>
          </a:prstGeom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75" name="Group 70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176" name="Freeform 71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77" name="Freeform 72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78" name="Group 73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179" name="Freeform 74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0" name="Freeform 75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1" name="Group 76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182" name="Freeform 77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Freeform 78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84" name="Group 79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185" name="Freeform 80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6" name="Freeform 81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7" name="Rectangle 82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Line 83"/>
          <p:cNvSpPr/>
          <p:nvPr/>
        </p:nvSpPr>
        <p:spPr>
          <a:xfrm flipV="1">
            <a:off x="5919840" y="2805120"/>
            <a:ext cx="0" cy="120960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Line 84"/>
          <p:cNvSpPr/>
          <p:nvPr/>
        </p:nvSpPr>
        <p:spPr>
          <a:xfrm>
            <a:off x="5924520" y="2805120"/>
            <a:ext cx="55260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Line 85"/>
          <p:cNvSpPr/>
          <p:nvPr/>
        </p:nvSpPr>
        <p:spPr>
          <a:xfrm>
            <a:off x="6480000" y="2805120"/>
            <a:ext cx="0" cy="267984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Line 86"/>
          <p:cNvSpPr/>
          <p:nvPr/>
        </p:nvSpPr>
        <p:spPr>
          <a:xfrm flipV="1">
            <a:off x="5981760" y="5415120"/>
            <a:ext cx="0" cy="712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Line 87"/>
          <p:cNvSpPr/>
          <p:nvPr/>
        </p:nvSpPr>
        <p:spPr>
          <a:xfrm flipH="1">
            <a:off x="5090760" y="5419800"/>
            <a:ext cx="880920" cy="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Line 88"/>
          <p:cNvSpPr/>
          <p:nvPr/>
        </p:nvSpPr>
        <p:spPr>
          <a:xfrm>
            <a:off x="5091120" y="5424480"/>
            <a:ext cx="0" cy="866880"/>
          </a:xfrm>
          <a:prstGeom prst="line">
            <a:avLst/>
          </a:prstGeom>
          <a:ln w="50760">
            <a:solidFill>
              <a:srgbClr val="00cc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Rectangle 89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Rectangle 90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Rectangle 91"/>
          <p:cNvSpPr/>
          <p:nvPr/>
        </p:nvSpPr>
        <p:spPr>
          <a:xfrm>
            <a:off x="7220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7" name="Rectangle 92"/>
          <p:cNvSpPr/>
          <p:nvPr/>
        </p:nvSpPr>
        <p:spPr>
          <a:xfrm>
            <a:off x="7269840" y="3321000"/>
            <a:ext cx="13431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Back Pressu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Arial Narrow"/>
                <a:ea typeface="MS PGothic"/>
              </a:rPr>
              <a:t>Coil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8" name="Rectangle 93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nodeType="clickEffect" fill="hold">
                      <p:stCondLst>
                        <p:cond delay="0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4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500"/>
                                        <p:tgtEl>
                                          <p:spTgt spid="2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2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6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Rectangle 4"/>
          <p:cNvSpPr/>
          <p:nvPr/>
        </p:nvSpPr>
        <p:spPr>
          <a:xfrm>
            <a:off x="40644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HY견고딕"/>
              </a:rPr>
              <a:t>Slide 5-4h-2</a:t>
            </a:r>
            <a:r>
              <a:rPr b="0" lang="ko-KR" sz="2800" spc="-1" strike="noStrike">
                <a:solidFill>
                  <a:srgbClr val="000000"/>
                </a:solidFill>
                <a:latin typeface="Arial Black"/>
                <a:ea typeface="HY견고딕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HY견고딕"/>
              </a:rPr>
              <a:t>Chemical mod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0" name="Rectangle 5"/>
          <p:cNvSpPr/>
          <p:nvPr/>
        </p:nvSpPr>
        <p:spPr>
          <a:xfrm>
            <a:off x="6667560" y="3452760"/>
            <a:ext cx="380880" cy="6094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1" name="Rectangle 6"/>
          <p:cNvSpPr/>
          <p:nvPr/>
        </p:nvSpPr>
        <p:spPr>
          <a:xfrm>
            <a:off x="17906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2" name="Rectangle 7"/>
          <p:cNvSpPr/>
          <p:nvPr/>
        </p:nvSpPr>
        <p:spPr>
          <a:xfrm>
            <a:off x="12574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00280" y="2538360"/>
            <a:ext cx="38088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4" name="Rectangle 9"/>
          <p:cNvSpPr/>
          <p:nvPr/>
        </p:nvSpPr>
        <p:spPr>
          <a:xfrm>
            <a:off x="2247840" y="2538360"/>
            <a:ext cx="304920" cy="6094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5" name="Rectangle 11"/>
          <p:cNvSpPr/>
          <p:nvPr/>
        </p:nvSpPr>
        <p:spPr>
          <a:xfrm>
            <a:off x="4692600" y="2003400"/>
            <a:ext cx="27669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6" name="Rectangle 12"/>
          <p:cNvSpPr/>
          <p:nvPr/>
        </p:nvSpPr>
        <p:spPr>
          <a:xfrm>
            <a:off x="642960" y="4638600"/>
            <a:ext cx="809640" cy="11858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7" name="Oval 13"/>
          <p:cNvSpPr/>
          <p:nvPr/>
        </p:nvSpPr>
        <p:spPr>
          <a:xfrm>
            <a:off x="754200" y="5180040"/>
            <a:ext cx="23328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8" name="Oval 14"/>
          <p:cNvSpPr/>
          <p:nvPr/>
        </p:nvSpPr>
        <p:spPr>
          <a:xfrm>
            <a:off x="1092240" y="5180040"/>
            <a:ext cx="236520" cy="235080"/>
          </a:xfrm>
          <a:prstGeom prst="ellipse">
            <a:avLst/>
          </a:prstGeom>
          <a:solidFill>
            <a:srgbClr val="5e574e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9" name="Oval 15"/>
          <p:cNvSpPr/>
          <p:nvPr/>
        </p:nvSpPr>
        <p:spPr>
          <a:xfrm>
            <a:off x="927000" y="4757760"/>
            <a:ext cx="228600" cy="23184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0" name="Rectangle 16"/>
          <p:cNvSpPr/>
          <p:nvPr/>
        </p:nvSpPr>
        <p:spPr>
          <a:xfrm>
            <a:off x="911160" y="5575320"/>
            <a:ext cx="252360" cy="33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320" bIns="-133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1" name="Line 17"/>
          <p:cNvSpPr/>
          <p:nvPr/>
        </p:nvSpPr>
        <p:spPr>
          <a:xfrm flipH="1">
            <a:off x="864720" y="5425920"/>
            <a:ext cx="180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2" name="Line 18"/>
          <p:cNvSpPr/>
          <p:nvPr/>
        </p:nvSpPr>
        <p:spPr>
          <a:xfrm>
            <a:off x="866880" y="5594400"/>
            <a:ext cx="29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3" name="Line 19"/>
          <p:cNvSpPr/>
          <p:nvPr/>
        </p:nvSpPr>
        <p:spPr>
          <a:xfrm>
            <a:off x="1208160" y="5425920"/>
            <a:ext cx="1440" cy="171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4" name="Line 20"/>
          <p:cNvSpPr/>
          <p:nvPr/>
        </p:nvSpPr>
        <p:spPr>
          <a:xfrm flipH="1">
            <a:off x="1177920" y="5594400"/>
            <a:ext cx="30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5" name="Freeform 21"/>
          <p:cNvSpPr/>
          <p:nvPr/>
        </p:nvSpPr>
        <p:spPr>
          <a:xfrm>
            <a:off x="863640" y="4867200"/>
            <a:ext cx="38160" cy="319320"/>
          </a:xfrm>
          <a:custGeom>
            <a:avLst/>
            <a:gdLst>
              <a:gd name="textAreaLeft" fmla="*/ 0 w 38160"/>
              <a:gd name="textAreaRight" fmla="*/ 38520 w 3816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4" h="201">
                <a:moveTo>
                  <a:pt x="0" y="200"/>
                </a:moveTo>
                <a:lnTo>
                  <a:pt x="0" y="0"/>
                </a:lnTo>
                <a:lnTo>
                  <a:pt x="2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6" name="Freeform 22"/>
          <p:cNvSpPr/>
          <p:nvPr/>
        </p:nvSpPr>
        <p:spPr>
          <a:xfrm>
            <a:off x="1174680" y="4867200"/>
            <a:ext cx="42840" cy="319320"/>
          </a:xfrm>
          <a:custGeom>
            <a:avLst/>
            <a:gdLst>
              <a:gd name="textAreaLeft" fmla="*/ 0 w 42840"/>
              <a:gd name="textAreaRight" fmla="*/ 43200 w 42840"/>
              <a:gd name="textAreaTop" fmla="*/ 0 h 319320"/>
              <a:gd name="textAreaBottom" fmla="*/ 319680 h 319320"/>
            </a:gdLst>
            <a:ahLst/>
            <a:rect l="textAreaLeft" t="textAreaTop" r="textAreaRight" b="textAreaBottom"/>
            <a:pathLst>
              <a:path w="27" h="201">
                <a:moveTo>
                  <a:pt x="26" y="200"/>
                </a:moveTo>
                <a:lnTo>
                  <a:pt x="26" y="0"/>
                </a:lnTo>
                <a:lnTo>
                  <a:pt x="0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7" name="Line 23"/>
          <p:cNvSpPr/>
          <p:nvPr/>
        </p:nvSpPr>
        <p:spPr>
          <a:xfrm>
            <a:off x="1041480" y="4794120"/>
            <a:ext cx="127476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8" name="Freeform 24"/>
          <p:cNvSpPr/>
          <p:nvPr/>
        </p:nvSpPr>
        <p:spPr>
          <a:xfrm>
            <a:off x="396720" y="5634000"/>
            <a:ext cx="641520" cy="66600"/>
          </a:xfrm>
          <a:custGeom>
            <a:avLst/>
            <a:gdLst>
              <a:gd name="textAreaLeft" fmla="*/ 0 w 641520"/>
              <a:gd name="textAreaRight" fmla="*/ 641520 w 641520"/>
              <a:gd name="textAreaTop" fmla="*/ 0 h 66600"/>
              <a:gd name="textAreaBottom" fmla="*/ 66960 h 66600"/>
            </a:gdLst>
            <a:ahLst/>
            <a:rect l="textAreaLeft" t="textAreaTop" r="textAreaRight" b="textAreaBottom"/>
            <a:pathLst>
              <a:path w="404" h="42">
                <a:moveTo>
                  <a:pt x="403" y="0"/>
                </a:moveTo>
                <a:lnTo>
                  <a:pt x="403" y="41"/>
                </a:lnTo>
                <a:lnTo>
                  <a:pt x="0" y="41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9" name="Freeform 25"/>
          <p:cNvSpPr/>
          <p:nvPr/>
        </p:nvSpPr>
        <p:spPr>
          <a:xfrm>
            <a:off x="395280" y="1989000"/>
            <a:ext cx="1339920" cy="3702240"/>
          </a:xfrm>
          <a:custGeom>
            <a:avLst/>
            <a:gdLst>
              <a:gd name="textAreaLeft" fmla="*/ 0 w 1339920"/>
              <a:gd name="textAreaRight" fmla="*/ 1340280 w 1339920"/>
              <a:gd name="textAreaTop" fmla="*/ 0 h 3702240"/>
              <a:gd name="textAreaBottom" fmla="*/ 3702600 h 3702240"/>
            </a:gdLst>
            <a:ahLst/>
            <a:rect l="textAreaLeft" t="textAreaTop" r="textAreaRight" b="textAreaBottom"/>
            <a:pathLst>
              <a:path w="844" h="2332">
                <a:moveTo>
                  <a:pt x="0" y="2331"/>
                </a:moveTo>
                <a:lnTo>
                  <a:pt x="0" y="0"/>
                </a:lnTo>
                <a:lnTo>
                  <a:pt x="84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0" name="Oval 26"/>
          <p:cNvSpPr/>
          <p:nvPr/>
        </p:nvSpPr>
        <p:spPr>
          <a:xfrm>
            <a:off x="2197080" y="4676760"/>
            <a:ext cx="446040" cy="4507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1" name="Freeform 27"/>
          <p:cNvSpPr/>
          <p:nvPr/>
        </p:nvSpPr>
        <p:spPr>
          <a:xfrm>
            <a:off x="1965240" y="4454640"/>
            <a:ext cx="689040" cy="644400"/>
          </a:xfrm>
          <a:custGeom>
            <a:avLst/>
            <a:gdLst>
              <a:gd name="textAreaLeft" fmla="*/ 0 w 689040"/>
              <a:gd name="textAreaRight" fmla="*/ 689400 w 689040"/>
              <a:gd name="textAreaTop" fmla="*/ 0 h 644400"/>
              <a:gd name="textAreaBottom" fmla="*/ 644760 h 644400"/>
            </a:gdLst>
            <a:ahLst/>
            <a:rect l="textAreaLeft" t="textAreaTop" r="textAreaRight" b="textAreaBottom"/>
            <a:pathLst>
              <a:path w="434" h="406">
                <a:moveTo>
                  <a:pt x="351" y="216"/>
                </a:moveTo>
                <a:lnTo>
                  <a:pt x="433" y="135"/>
                </a:lnTo>
                <a:lnTo>
                  <a:pt x="297" y="0"/>
                </a:lnTo>
                <a:lnTo>
                  <a:pt x="162" y="0"/>
                </a:lnTo>
                <a:lnTo>
                  <a:pt x="0" y="162"/>
                </a:lnTo>
                <a:lnTo>
                  <a:pt x="0" y="270"/>
                </a:lnTo>
                <a:lnTo>
                  <a:pt x="135" y="405"/>
                </a:lnTo>
                <a:lnTo>
                  <a:pt x="216" y="324"/>
                </a:lnTo>
              </a:path>
            </a:pathLst>
          </a:custGeom>
          <a:noFill/>
          <a:ln cap="rnd" w="255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2" name="Line 28"/>
          <p:cNvSpPr/>
          <p:nvPr/>
        </p:nvSpPr>
        <p:spPr>
          <a:xfrm>
            <a:off x="2508120" y="4991040"/>
            <a:ext cx="571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3" name="AutoShape 29"/>
          <p:cNvSpPr/>
          <p:nvPr/>
        </p:nvSpPr>
        <p:spPr>
          <a:xfrm>
            <a:off x="3092400" y="4903920"/>
            <a:ext cx="2635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4" name="AutoShape 30"/>
          <p:cNvSpPr/>
          <p:nvPr/>
        </p:nvSpPr>
        <p:spPr>
          <a:xfrm>
            <a:off x="3666960" y="4903920"/>
            <a:ext cx="1797120" cy="168120"/>
          </a:xfrm>
          <a:prstGeom prst="roundRect">
            <a:avLst>
              <a:gd name="adj" fmla="val 12477"/>
            </a:avLst>
          </a:prstGeom>
          <a:solidFill>
            <a:srgbClr val="0066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5" name="Line 31"/>
          <p:cNvSpPr/>
          <p:nvPr/>
        </p:nvSpPr>
        <p:spPr>
          <a:xfrm>
            <a:off x="3368520" y="4991040"/>
            <a:ext cx="28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6" name="Freeform 32"/>
          <p:cNvSpPr/>
          <p:nvPr/>
        </p:nvSpPr>
        <p:spPr>
          <a:xfrm>
            <a:off x="5473800" y="4992840"/>
            <a:ext cx="411120" cy="523800"/>
          </a:xfrm>
          <a:custGeom>
            <a:avLst/>
            <a:gdLst>
              <a:gd name="textAreaLeft" fmla="*/ 0 w 411120"/>
              <a:gd name="textAreaRight" fmla="*/ 411480 w 411120"/>
              <a:gd name="textAreaTop" fmla="*/ 0 h 523800"/>
              <a:gd name="textAreaBottom" fmla="*/ 524160 h 523800"/>
            </a:gdLst>
            <a:ahLst/>
            <a:rect l="textAreaLeft" t="textAreaTop" r="textAreaRight" b="textAreaBottom"/>
            <a:pathLst>
              <a:path w="259" h="330">
                <a:moveTo>
                  <a:pt x="0" y="0"/>
                </a:moveTo>
                <a:lnTo>
                  <a:pt x="258" y="0"/>
                </a:lnTo>
                <a:lnTo>
                  <a:pt x="258" y="329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7" name="Oval 33"/>
          <p:cNvSpPr/>
          <p:nvPr/>
        </p:nvSpPr>
        <p:spPr>
          <a:xfrm>
            <a:off x="7230960" y="4611600"/>
            <a:ext cx="263520" cy="26352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8" name="Line 34"/>
          <p:cNvSpPr/>
          <p:nvPr/>
        </p:nvSpPr>
        <p:spPr>
          <a:xfrm flipV="1">
            <a:off x="728964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Line 35"/>
          <p:cNvSpPr/>
          <p:nvPr/>
        </p:nvSpPr>
        <p:spPr>
          <a:xfrm flipV="1">
            <a:off x="7434360" y="4624200"/>
            <a:ext cx="0" cy="2379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Rectangle 37"/>
          <p:cNvSpPr/>
          <p:nvPr/>
        </p:nvSpPr>
        <p:spPr>
          <a:xfrm>
            <a:off x="480600" y="5927760"/>
            <a:ext cx="92484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Pump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1" name="Rectangle 38"/>
          <p:cNvSpPr/>
          <p:nvPr/>
        </p:nvSpPr>
        <p:spPr>
          <a:xfrm>
            <a:off x="3117240" y="4367160"/>
            <a:ext cx="114120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  <a:ea typeface="MS PGothic"/>
              </a:rPr>
              <a:t>Column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2" name="Freeform 39"/>
          <p:cNvSpPr/>
          <p:nvPr/>
        </p:nvSpPr>
        <p:spPr>
          <a:xfrm>
            <a:off x="6576840" y="4906800"/>
            <a:ext cx="793800" cy="597240"/>
          </a:xfrm>
          <a:custGeom>
            <a:avLst/>
            <a:gdLst>
              <a:gd name="textAreaLeft" fmla="*/ 0 w 793800"/>
              <a:gd name="textAreaRight" fmla="*/ 794160 w 793800"/>
              <a:gd name="textAreaTop" fmla="*/ 0 h 597240"/>
              <a:gd name="textAreaBottom" fmla="*/ 597600 h 597240"/>
            </a:gdLst>
            <a:ahLst/>
            <a:rect l="textAreaLeft" t="textAreaTop" r="textAreaRight" b="textAreaBottom"/>
            <a:pathLst>
              <a:path w="500" h="376">
                <a:moveTo>
                  <a:pt x="0" y="375"/>
                </a:moveTo>
                <a:lnTo>
                  <a:pt x="0" y="250"/>
                </a:lnTo>
                <a:lnTo>
                  <a:pt x="499" y="250"/>
                </a:lnTo>
                <a:lnTo>
                  <a:pt x="499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3" name="Freeform 40"/>
          <p:cNvSpPr/>
          <p:nvPr/>
        </p:nvSpPr>
        <p:spPr>
          <a:xfrm>
            <a:off x="5089680" y="5415120"/>
            <a:ext cx="893520" cy="893520"/>
          </a:xfrm>
          <a:custGeom>
            <a:avLst/>
            <a:gdLst>
              <a:gd name="textAreaLeft" fmla="*/ 0 w 893520"/>
              <a:gd name="textAreaRight" fmla="*/ 893880 w 893520"/>
              <a:gd name="textAreaTop" fmla="*/ 0 h 893520"/>
              <a:gd name="textAreaBottom" fmla="*/ 893880 h 893520"/>
            </a:gdLst>
            <a:ahLst/>
            <a:rect l="textAreaLeft" t="textAreaTop" r="textAreaRight" b="textAreaBottom"/>
            <a:pathLst>
              <a:path w="563" h="563">
                <a:moveTo>
                  <a:pt x="562" y="62"/>
                </a:moveTo>
                <a:lnTo>
                  <a:pt x="562" y="0"/>
                </a:lnTo>
                <a:lnTo>
                  <a:pt x="0" y="0"/>
                </a:lnTo>
                <a:lnTo>
                  <a:pt x="0" y="562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4" name="Rectangle 41"/>
          <p:cNvSpPr/>
          <p:nvPr/>
        </p:nvSpPr>
        <p:spPr>
          <a:xfrm>
            <a:off x="7721640" y="409716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Line 42"/>
          <p:cNvSpPr/>
          <p:nvPr/>
        </p:nvSpPr>
        <p:spPr>
          <a:xfrm>
            <a:off x="5603760" y="4976640"/>
            <a:ext cx="14940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Line 43"/>
          <p:cNvSpPr/>
          <p:nvPr/>
        </p:nvSpPr>
        <p:spPr>
          <a:xfrm>
            <a:off x="6892920" y="528156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Freeform 44"/>
          <p:cNvSpPr/>
          <p:nvPr/>
        </p:nvSpPr>
        <p:spPr>
          <a:xfrm>
            <a:off x="7369200" y="4260960"/>
            <a:ext cx="450720" cy="328680"/>
          </a:xfrm>
          <a:custGeom>
            <a:avLst/>
            <a:gdLst>
              <a:gd name="textAreaLeft" fmla="*/ 0 w 450720"/>
              <a:gd name="textAreaRight" fmla="*/ 450720 w 450720"/>
              <a:gd name="textAreaTop" fmla="*/ 0 h 328680"/>
              <a:gd name="textAreaBottom" fmla="*/ 329040 h 328680"/>
            </a:gdLst>
            <a:ahLst/>
            <a:rect l="textAreaLeft" t="textAreaTop" r="textAreaRight" b="textAreaBottom"/>
            <a:pathLst>
              <a:path w="284" h="207">
                <a:moveTo>
                  <a:pt x="0" y="206"/>
                </a:moveTo>
                <a:lnTo>
                  <a:pt x="0" y="0"/>
                </a:lnTo>
                <a:lnTo>
                  <a:pt x="283" y="0"/>
                </a:lnTo>
              </a:path>
            </a:pathLst>
          </a:custGeom>
          <a:noFill/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Line 45"/>
          <p:cNvSpPr/>
          <p:nvPr/>
        </p:nvSpPr>
        <p:spPr>
          <a:xfrm>
            <a:off x="7601040" y="4262400"/>
            <a:ext cx="1634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Rectangle 46"/>
          <p:cNvSpPr/>
          <p:nvPr/>
        </p:nvSpPr>
        <p:spPr>
          <a:xfrm>
            <a:off x="4783320" y="6300720"/>
            <a:ext cx="88380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9160" rIns="119160" tIns="60480" bIns="604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1546200"/>
                <a:tab algn="l" pos="3092400"/>
                <a:tab algn="l" pos="4638600"/>
                <a:tab algn="l" pos="6184800"/>
                <a:tab algn="l" pos="7731000"/>
                <a:tab algn="l" pos="9277200"/>
                <a:tab algn="l" pos="10823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 Narrow"/>
                <a:ea typeface="MS PGothic"/>
              </a:rPr>
              <a:t>Waste</a:t>
            </a:r>
            <a:endParaRPr b="1" lang="en-US" sz="21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Freeform 47"/>
          <p:cNvSpPr/>
          <p:nvPr/>
        </p:nvSpPr>
        <p:spPr>
          <a:xfrm>
            <a:off x="6350040" y="2805120"/>
            <a:ext cx="503280" cy="2697120"/>
          </a:xfrm>
          <a:custGeom>
            <a:avLst/>
            <a:gdLst>
              <a:gd name="textAreaLeft" fmla="*/ 0 w 503280"/>
              <a:gd name="textAreaRight" fmla="*/ 503640 w 50328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317" h="1699">
                <a:moveTo>
                  <a:pt x="0" y="1698"/>
                </a:moveTo>
                <a:lnTo>
                  <a:pt x="0" y="0"/>
                </a:lnTo>
                <a:lnTo>
                  <a:pt x="316" y="0"/>
                </a:lnTo>
              </a:path>
            </a:pathLst>
          </a:custGeom>
          <a:noFill/>
          <a:ln cap="rnd" w="25560">
            <a:solidFill>
              <a:srgbClr val="ff00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Rectangle 48"/>
          <p:cNvSpPr/>
          <p:nvPr/>
        </p:nvSpPr>
        <p:spPr>
          <a:xfrm>
            <a:off x="6196320" y="2347920"/>
            <a:ext cx="154512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200" spc="-1" strike="noStrike">
                <a:solidFill>
                  <a:srgbClr val="ff0033"/>
                </a:solidFill>
                <a:latin typeface="Arial Narrow"/>
                <a:ea typeface="MS PGothic"/>
              </a:rPr>
              <a:t>Regenerant</a:t>
            </a:r>
            <a:endParaRPr b="1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2" name="Line 49"/>
          <p:cNvSpPr/>
          <p:nvPr/>
        </p:nvSpPr>
        <p:spPr>
          <a:xfrm>
            <a:off x="6350040" y="4827600"/>
            <a:ext cx="0" cy="149040"/>
          </a:xfrm>
          <a:prstGeom prst="line">
            <a:avLst/>
          </a:prstGeom>
          <a:ln w="25560">
            <a:solidFill>
              <a:srgbClr val="ff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3" name="Group 50"/>
          <p:cNvGrpSpPr/>
          <p:nvPr/>
        </p:nvGrpSpPr>
        <p:grpSpPr>
          <a:xfrm>
            <a:off x="6878520" y="2727360"/>
            <a:ext cx="1162080" cy="511200"/>
            <a:chOff x="6878520" y="2727360"/>
            <a:chExt cx="1162080" cy="511200"/>
          </a:xfrm>
        </p:grpSpPr>
        <p:sp>
          <p:nvSpPr>
            <p:cNvPr id="2244" name="Rectangle 51"/>
            <p:cNvSpPr/>
            <p:nvPr/>
          </p:nvSpPr>
          <p:spPr>
            <a:xfrm>
              <a:off x="7232400" y="2727360"/>
              <a:ext cx="808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6600"/>
                  </a:solidFill>
                  <a:latin typeface="Arial Narrow"/>
                  <a:ea typeface="MS Gothic"/>
                </a:rPr>
                <a:t>Pressure</a:t>
              </a:r>
              <a:endParaRPr b="1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5" name="Arc 52"/>
            <p:cNvSpPr/>
            <p:nvPr/>
          </p:nvSpPr>
          <p:spPr>
            <a:xfrm>
              <a:off x="6878520" y="2857680"/>
              <a:ext cx="404640" cy="38088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380880"/>
                <a:gd name="textAreaBottom" fmla="*/ 381240 h 380880"/>
              </a:gdLst>
              <a:ahLst/>
              <a:rect l="textAreaLeft" t="textAreaTop" r="textAreaRight" b="textAreaBottom"/>
              <a:pathLst>
                <a:path fill="none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</a:path>
                <a:path stroke="0" w="21599" h="21600">
                  <a:moveTo>
                    <a:pt x="-1" y="21419"/>
                  </a:moveTo>
                  <a:cubicBezTo>
                    <a:pt x="98" y="9594"/>
                    <a:pt x="9688" y="46"/>
                    <a:pt x="21514" y="0"/>
                  </a:cubicBezTo>
                  <a:lnTo>
                    <a:pt x="21599" y="21600"/>
                  </a:lnTo>
                  <a:lnTo>
                    <a:pt x="-1" y="21419"/>
                  </a:lnTo>
                  <a:close/>
                </a:path>
              </a:pathLst>
            </a:custGeom>
            <a:noFill/>
            <a:ln cap="rnd"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6" name="Line 53"/>
          <p:cNvSpPr/>
          <p:nvPr/>
        </p:nvSpPr>
        <p:spPr>
          <a:xfrm>
            <a:off x="1741320" y="1994040"/>
            <a:ext cx="675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7" name="Group 54"/>
          <p:cNvGrpSpPr/>
          <p:nvPr/>
        </p:nvGrpSpPr>
        <p:grpSpPr>
          <a:xfrm>
            <a:off x="826920" y="2293920"/>
            <a:ext cx="360360" cy="841320"/>
            <a:chOff x="826920" y="2293920"/>
            <a:chExt cx="360360" cy="841320"/>
          </a:xfrm>
        </p:grpSpPr>
        <p:sp>
          <p:nvSpPr>
            <p:cNvPr id="2248" name="Freeform 55"/>
            <p:cNvSpPr/>
            <p:nvPr/>
          </p:nvSpPr>
          <p:spPr>
            <a:xfrm>
              <a:off x="826920" y="2293920"/>
              <a:ext cx="270000" cy="841320"/>
            </a:xfrm>
            <a:custGeom>
              <a:avLst/>
              <a:gdLst>
                <a:gd name="textAreaLeft" fmla="*/ 0 w 270000"/>
                <a:gd name="textAreaRight" fmla="*/ 270360 w 27000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9" name="Freeform 56"/>
            <p:cNvSpPr/>
            <p:nvPr/>
          </p:nvSpPr>
          <p:spPr>
            <a:xfrm>
              <a:off x="92052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0" name="Line 57"/>
          <p:cNvSpPr/>
          <p:nvPr/>
        </p:nvSpPr>
        <p:spPr>
          <a:xfrm flipV="1">
            <a:off x="10144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1" name="Group 58"/>
          <p:cNvGrpSpPr/>
          <p:nvPr/>
        </p:nvGrpSpPr>
        <p:grpSpPr>
          <a:xfrm>
            <a:off x="2232000" y="2293920"/>
            <a:ext cx="360360" cy="841320"/>
            <a:chOff x="2232000" y="2293920"/>
            <a:chExt cx="360360" cy="841320"/>
          </a:xfrm>
        </p:grpSpPr>
        <p:sp>
          <p:nvSpPr>
            <p:cNvPr id="2252" name="Freeform 59"/>
            <p:cNvSpPr/>
            <p:nvPr/>
          </p:nvSpPr>
          <p:spPr>
            <a:xfrm>
              <a:off x="22320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3" name="Freeform 60"/>
            <p:cNvSpPr/>
            <p:nvPr/>
          </p:nvSpPr>
          <p:spPr>
            <a:xfrm>
              <a:off x="23256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4" name="Line 61"/>
          <p:cNvSpPr/>
          <p:nvPr/>
        </p:nvSpPr>
        <p:spPr>
          <a:xfrm flipV="1">
            <a:off x="24192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5" name="Group 62"/>
          <p:cNvGrpSpPr/>
          <p:nvPr/>
        </p:nvGrpSpPr>
        <p:grpSpPr>
          <a:xfrm>
            <a:off x="1290600" y="2293920"/>
            <a:ext cx="360360" cy="841320"/>
            <a:chOff x="1290600" y="2293920"/>
            <a:chExt cx="360360" cy="841320"/>
          </a:xfrm>
        </p:grpSpPr>
        <p:sp>
          <p:nvSpPr>
            <p:cNvPr id="2256" name="Freeform 63"/>
            <p:cNvSpPr/>
            <p:nvPr/>
          </p:nvSpPr>
          <p:spPr>
            <a:xfrm>
              <a:off x="129060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7" name="Freeform 64"/>
            <p:cNvSpPr/>
            <p:nvPr/>
          </p:nvSpPr>
          <p:spPr>
            <a:xfrm>
              <a:off x="138420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58" name="Line 65"/>
          <p:cNvSpPr/>
          <p:nvPr/>
        </p:nvSpPr>
        <p:spPr>
          <a:xfrm flipV="1">
            <a:off x="147780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59" name="Group 66"/>
          <p:cNvGrpSpPr/>
          <p:nvPr/>
        </p:nvGrpSpPr>
        <p:grpSpPr>
          <a:xfrm>
            <a:off x="1766880" y="2293920"/>
            <a:ext cx="360360" cy="841320"/>
            <a:chOff x="1766880" y="2293920"/>
            <a:chExt cx="360360" cy="841320"/>
          </a:xfrm>
        </p:grpSpPr>
        <p:sp>
          <p:nvSpPr>
            <p:cNvPr id="2260" name="Freeform 67"/>
            <p:cNvSpPr/>
            <p:nvPr/>
          </p:nvSpPr>
          <p:spPr>
            <a:xfrm>
              <a:off x="1766880" y="229392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Freeform 68"/>
            <p:cNvSpPr/>
            <p:nvPr/>
          </p:nvSpPr>
          <p:spPr>
            <a:xfrm>
              <a:off x="1860480" y="229392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2" name="Line 69"/>
          <p:cNvSpPr/>
          <p:nvPr/>
        </p:nvSpPr>
        <p:spPr>
          <a:xfrm flipV="1">
            <a:off x="1954080" y="2008080"/>
            <a:ext cx="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3" name="Group 70"/>
          <p:cNvGrpSpPr/>
          <p:nvPr/>
        </p:nvGrpSpPr>
        <p:grpSpPr>
          <a:xfrm>
            <a:off x="6696000" y="3209760"/>
            <a:ext cx="360360" cy="841320"/>
            <a:chOff x="6696000" y="3209760"/>
            <a:chExt cx="360360" cy="841320"/>
          </a:xfrm>
        </p:grpSpPr>
        <p:sp>
          <p:nvSpPr>
            <p:cNvPr id="2264" name="Freeform 71"/>
            <p:cNvSpPr/>
            <p:nvPr/>
          </p:nvSpPr>
          <p:spPr>
            <a:xfrm>
              <a:off x="6696000" y="3209760"/>
              <a:ext cx="269640" cy="84132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70" h="530">
                  <a:moveTo>
                    <a:pt x="79" y="0"/>
                  </a:moveTo>
                  <a:lnTo>
                    <a:pt x="79" y="25"/>
                  </a:lnTo>
                  <a:lnTo>
                    <a:pt x="59" y="25"/>
                  </a:lnTo>
                  <a:lnTo>
                    <a:pt x="0" y="100"/>
                  </a:lnTo>
                  <a:lnTo>
                    <a:pt x="0" y="516"/>
                  </a:lnTo>
                  <a:lnTo>
                    <a:pt x="9" y="529"/>
                  </a:lnTo>
                  <a:lnTo>
                    <a:pt x="169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5" name="Freeform 72"/>
            <p:cNvSpPr/>
            <p:nvPr/>
          </p:nvSpPr>
          <p:spPr>
            <a:xfrm>
              <a:off x="6789600" y="3209760"/>
              <a:ext cx="266760" cy="841320"/>
            </a:xfrm>
            <a:custGeom>
              <a:avLst/>
              <a:gdLst>
                <a:gd name="textAreaLeft" fmla="*/ 0 w 266760"/>
                <a:gd name="textAreaRight" fmla="*/ 267120 w 266760"/>
                <a:gd name="textAreaTop" fmla="*/ 0 h 841320"/>
                <a:gd name="textAreaBottom" fmla="*/ 841680 h 841320"/>
              </a:gdLst>
              <a:ahLst/>
              <a:rect l="textAreaLeft" t="textAreaTop" r="textAreaRight" b="textAreaBottom"/>
              <a:pathLst>
                <a:path w="168" h="530">
                  <a:moveTo>
                    <a:pt x="88" y="0"/>
                  </a:moveTo>
                  <a:lnTo>
                    <a:pt x="88" y="25"/>
                  </a:lnTo>
                  <a:lnTo>
                    <a:pt x="108" y="25"/>
                  </a:lnTo>
                  <a:lnTo>
                    <a:pt x="167" y="100"/>
                  </a:lnTo>
                  <a:lnTo>
                    <a:pt x="167" y="516"/>
                  </a:lnTo>
                  <a:lnTo>
                    <a:pt x="157" y="529"/>
                  </a:lnTo>
                  <a:lnTo>
                    <a:pt x="0" y="529"/>
                  </a:lnTo>
                </a:path>
              </a:pathLst>
            </a:custGeom>
            <a:noFill/>
            <a:ln cap="rnd" w="50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6" name="Line 73"/>
          <p:cNvSpPr/>
          <p:nvPr/>
        </p:nvSpPr>
        <p:spPr>
          <a:xfrm flipV="1">
            <a:off x="6858000" y="2793960"/>
            <a:ext cx="0" cy="1230480"/>
          </a:xfrm>
          <a:prstGeom prst="line">
            <a:avLst/>
          </a:prstGeom>
          <a:ln w="2556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7" name="Rectangle 74"/>
          <p:cNvSpPr/>
          <p:nvPr/>
        </p:nvSpPr>
        <p:spPr>
          <a:xfrm>
            <a:off x="5683320" y="5504040"/>
            <a:ext cx="1031760" cy="266400"/>
          </a:xfrm>
          <a:prstGeom prst="rect">
            <a:avLst/>
          </a:prstGeom>
          <a:solidFill>
            <a:srgbClr val="a2a2a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8" name="Line 75"/>
          <p:cNvSpPr/>
          <p:nvPr/>
        </p:nvSpPr>
        <p:spPr>
          <a:xfrm flipV="1">
            <a:off x="6858000" y="2804760"/>
            <a:ext cx="0" cy="121428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9" name="Line 76"/>
          <p:cNvSpPr/>
          <p:nvPr/>
        </p:nvSpPr>
        <p:spPr>
          <a:xfrm flipH="1">
            <a:off x="6347880" y="2809800"/>
            <a:ext cx="50508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0" name="Line 77"/>
          <p:cNvSpPr/>
          <p:nvPr/>
        </p:nvSpPr>
        <p:spPr>
          <a:xfrm>
            <a:off x="6350040" y="2805120"/>
            <a:ext cx="0" cy="26859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1" name="Line 78"/>
          <p:cNvSpPr/>
          <p:nvPr/>
        </p:nvSpPr>
        <p:spPr>
          <a:xfrm flipV="1">
            <a:off x="5977080" y="5415120"/>
            <a:ext cx="0" cy="8064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2" name="Line 79"/>
          <p:cNvSpPr/>
          <p:nvPr/>
        </p:nvSpPr>
        <p:spPr>
          <a:xfrm>
            <a:off x="5086440" y="5415120"/>
            <a:ext cx="880920" cy="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3" name="Line 80"/>
          <p:cNvSpPr/>
          <p:nvPr/>
        </p:nvSpPr>
        <p:spPr>
          <a:xfrm flipH="1">
            <a:off x="5090760" y="5424480"/>
            <a:ext cx="4680" cy="871560"/>
          </a:xfrm>
          <a:prstGeom prst="line">
            <a:avLst/>
          </a:prstGeom>
          <a:ln w="50760">
            <a:solidFill>
              <a:srgbClr val="3399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4" name="Rectangle 81"/>
          <p:cNvSpPr/>
          <p:nvPr/>
        </p:nvSpPr>
        <p:spPr>
          <a:xfrm>
            <a:off x="1682640" y="5207040"/>
            <a:ext cx="109872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Inj. Valv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5" name="Rectangle 82"/>
          <p:cNvSpPr/>
          <p:nvPr/>
        </p:nvSpPr>
        <p:spPr>
          <a:xfrm>
            <a:off x="5503680" y="5757840"/>
            <a:ext cx="1328760" cy="3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  <a:ea typeface="MS PGothic"/>
              </a:rPr>
              <a:t>Suppressor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6" name="Rectangle 83"/>
          <p:cNvSpPr/>
          <p:nvPr/>
        </p:nvSpPr>
        <p:spPr>
          <a:xfrm>
            <a:off x="7355160" y="4529160"/>
            <a:ext cx="1682280" cy="4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360" rIns="144360" tIns="73080" bIns="7308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2263680"/>
                <a:tab algn="l" pos="4527720"/>
                <a:tab algn="l" pos="6791400"/>
                <a:tab algn="l" pos="90550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  <a:ea typeface="MS PGothic"/>
              </a:rPr>
              <a:t>Detection Cell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77" name="Rectangle 8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7" dur="500"/>
                                        <p:tgtEl>
                                          <p:spTgt spid="2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5" dur="5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500"/>
                                        <p:tgtEl>
                                          <p:spTgt spid="2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4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7" dur="500"/>
                                        <p:tgtEl>
                                          <p:spTgt spid="2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굴림"/>
              </a:rPr>
              <a:t>What is ion chromatograph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2060280"/>
            <a:ext cx="7948440" cy="396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Chromatography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기법에 의한 </a:t>
            </a:r>
            <a:r>
              <a:rPr b="1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이온 성분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분석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An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F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P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S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22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HY중고딕"/>
              </a:rPr>
              <a:t>C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: ex.) N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  <a:ea typeface="HY중고딕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K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3+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중고딕"/>
              </a:rPr>
              <a:t>, Fe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  <a:ea typeface="HY중고딕"/>
              </a:rPr>
              <a:t>2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1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장점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7372440" cy="426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빠른 분리시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Dionex AS4A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칼럼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: 15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분 내외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높은 감도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(ppt level)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및 재연성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HY견고딕"/>
              </a:rPr>
              <a:t>/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반복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Suppressor, Conductivity Detect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발달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선택성 향상</a:t>
            </a: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다양한 종류의 칼럼 개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suppressor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기술 향상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ko-KR" sz="2000" spc="-1" strike="noStrike">
                <a:solidFill>
                  <a:srgbClr val="ff0000"/>
                </a:solidFill>
                <a:latin typeface="Tahoma"/>
                <a:ea typeface="HY견고딕"/>
              </a:rPr>
              <a:t>동시 분석 및 산화수의 차이 구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(ex. Fe(II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와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Fe(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, Cr(VI)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과</a:t>
            </a:r>
            <a:r>
              <a:rPr b="0" lang="ko-KR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r(III) </a:t>
            </a:r>
            <a:r>
              <a:rPr b="0" lang="ko-KR" sz="2000" spc="-1" strike="noStrike">
                <a:solidFill>
                  <a:srgbClr val="000000"/>
                </a:solidFill>
                <a:latin typeface="Tahoma"/>
                <a:ea typeface="HY견고딕"/>
              </a:rPr>
              <a:t>구분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)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프 과정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57080" y="2060640"/>
            <a:ext cx="223236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/reservoi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3492360" y="2060640"/>
            <a:ext cx="309564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Eluent Delivery Modu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7093080" y="2060640"/>
            <a:ext cx="1081080" cy="50472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Oval 9"/>
          <p:cNvSpPr/>
          <p:nvPr/>
        </p:nvSpPr>
        <p:spPr>
          <a:xfrm>
            <a:off x="6300720" y="3213000"/>
            <a:ext cx="2303640" cy="1008000"/>
          </a:xfrm>
          <a:prstGeom prst="ellipse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ject valv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3708360" y="3429000"/>
            <a:ext cx="13669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Guar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755640" y="3429000"/>
            <a:ext cx="1728720" cy="6494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eparatio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Column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Rectangle 13"/>
          <p:cNvSpPr/>
          <p:nvPr/>
        </p:nvSpPr>
        <p:spPr>
          <a:xfrm>
            <a:off x="755640" y="4941720"/>
            <a:ext cx="1728720" cy="649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Suppress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MMS, SRS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Rectangle 14"/>
          <p:cNvSpPr/>
          <p:nvPr/>
        </p:nvSpPr>
        <p:spPr>
          <a:xfrm>
            <a:off x="320364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CD, A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Rectangle 15"/>
          <p:cNvSpPr/>
          <p:nvPr/>
        </p:nvSpPr>
        <p:spPr>
          <a:xfrm>
            <a:off x="5580000" y="4941720"/>
            <a:ext cx="1728720" cy="649440"/>
          </a:xfrm>
          <a:prstGeom prst="rect">
            <a:avLst/>
          </a:prstGeom>
          <a:solidFill>
            <a:srgbClr val="fde19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굴림"/>
              </a:rPr>
              <a:t>(Integrato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AutoShape 16"/>
          <p:cNvSpPr/>
          <p:nvPr/>
        </p:nvSpPr>
        <p:spPr>
          <a:xfrm>
            <a:off x="31035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AutoShape 17"/>
          <p:cNvSpPr/>
          <p:nvPr/>
        </p:nvSpPr>
        <p:spPr>
          <a:xfrm>
            <a:off x="6707160" y="213372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AutoShape 18"/>
          <p:cNvSpPr/>
          <p:nvPr/>
        </p:nvSpPr>
        <p:spPr>
          <a:xfrm>
            <a:off x="7308720" y="270828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AutoShape 19"/>
          <p:cNvSpPr/>
          <p:nvPr/>
        </p:nvSpPr>
        <p:spPr>
          <a:xfrm>
            <a:off x="543564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AutoShape 20"/>
          <p:cNvSpPr/>
          <p:nvPr/>
        </p:nvSpPr>
        <p:spPr>
          <a:xfrm>
            <a:off x="2843280" y="3573360"/>
            <a:ext cx="503280" cy="360360"/>
          </a:xfrm>
          <a:prstGeom prst="leftArrow">
            <a:avLst>
              <a:gd name="adj1" fmla="val 50000"/>
              <a:gd name="adj2" fmla="val 34915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AutoShape 21"/>
          <p:cNvSpPr/>
          <p:nvPr/>
        </p:nvSpPr>
        <p:spPr>
          <a:xfrm>
            <a:off x="1403280" y="429264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AutoShape 22"/>
          <p:cNvSpPr/>
          <p:nvPr/>
        </p:nvSpPr>
        <p:spPr>
          <a:xfrm>
            <a:off x="270036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AutoShape 23"/>
          <p:cNvSpPr/>
          <p:nvPr/>
        </p:nvSpPr>
        <p:spPr>
          <a:xfrm>
            <a:off x="5076720" y="5084640"/>
            <a:ext cx="287280" cy="3603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Rectangle 2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2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3416760" y="981000"/>
            <a:ext cx="182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Eluent bottle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4" name="Picture 8" descr="DX500"/>
          <p:cNvPicPr/>
          <p:nvPr/>
        </p:nvPicPr>
        <p:blipFill>
          <a:blip r:embed="rId1"/>
          <a:stretch/>
        </p:blipFill>
        <p:spPr>
          <a:xfrm>
            <a:off x="1835280" y="1484280"/>
            <a:ext cx="5494320" cy="4172040"/>
          </a:xfrm>
          <a:prstGeom prst="rect">
            <a:avLst/>
          </a:prstGeom>
          <a:ln w="0">
            <a:noFill/>
          </a:ln>
        </p:spPr>
      </p:pic>
      <p:sp>
        <p:nvSpPr>
          <p:cNvPr id="125" name="Oval 10"/>
          <p:cNvSpPr/>
          <p:nvPr/>
        </p:nvSpPr>
        <p:spPr>
          <a:xfrm>
            <a:off x="1763640" y="1773360"/>
            <a:ext cx="2016360" cy="1150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Line 11"/>
          <p:cNvSpPr/>
          <p:nvPr/>
        </p:nvSpPr>
        <p:spPr>
          <a:xfrm flipV="1">
            <a:off x="2843280" y="1196640"/>
            <a:ext cx="57636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Oval 12"/>
          <p:cNvSpPr/>
          <p:nvPr/>
        </p:nvSpPr>
        <p:spPr>
          <a:xfrm>
            <a:off x="2771640" y="4365720"/>
            <a:ext cx="64800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Line 13"/>
          <p:cNvSpPr/>
          <p:nvPr/>
        </p:nvSpPr>
        <p:spPr>
          <a:xfrm>
            <a:off x="3132000" y="5013360"/>
            <a:ext cx="216000" cy="79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Text Box 14"/>
          <p:cNvSpPr/>
          <p:nvPr/>
        </p:nvSpPr>
        <p:spPr>
          <a:xfrm>
            <a:off x="2493000" y="5734080"/>
            <a:ext cx="17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Manual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Oval 15"/>
          <p:cNvSpPr/>
          <p:nvPr/>
        </p:nvSpPr>
        <p:spPr>
          <a:xfrm>
            <a:off x="3852720" y="3430440"/>
            <a:ext cx="1727280" cy="136692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Line 16"/>
          <p:cNvSpPr/>
          <p:nvPr/>
        </p:nvSpPr>
        <p:spPr>
          <a:xfrm>
            <a:off x="4788000" y="4797360"/>
            <a:ext cx="431640" cy="1008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Text Box 17"/>
          <p:cNvSpPr/>
          <p:nvPr/>
        </p:nvSpPr>
        <p:spPr>
          <a:xfrm>
            <a:off x="4316400" y="5734080"/>
            <a:ext cx="2082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Sample loa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uto-sampler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Line 18"/>
          <p:cNvSpPr/>
          <p:nvPr/>
        </p:nvSpPr>
        <p:spPr>
          <a:xfrm flipH="1">
            <a:off x="1403280" y="4653000"/>
            <a:ext cx="649440" cy="720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Oval 19"/>
          <p:cNvSpPr/>
          <p:nvPr/>
        </p:nvSpPr>
        <p:spPr>
          <a:xfrm>
            <a:off x="1979640" y="4149720"/>
            <a:ext cx="647640" cy="64764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Text Box 20"/>
          <p:cNvSpPr/>
          <p:nvPr/>
        </p:nvSpPr>
        <p:spPr>
          <a:xfrm>
            <a:off x="461880" y="5373720"/>
            <a:ext cx="130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Gradient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pump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Oval 21"/>
          <p:cNvSpPr/>
          <p:nvPr/>
        </p:nvSpPr>
        <p:spPr>
          <a:xfrm>
            <a:off x="1835280" y="2924280"/>
            <a:ext cx="865080" cy="115236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Line 22"/>
          <p:cNvSpPr/>
          <p:nvPr/>
        </p:nvSpPr>
        <p:spPr>
          <a:xfrm flipH="1">
            <a:off x="1332000" y="3429000"/>
            <a:ext cx="504720" cy="28728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Text Box 23"/>
          <p:cNvSpPr/>
          <p:nvPr/>
        </p:nvSpPr>
        <p:spPr>
          <a:xfrm>
            <a:off x="395640" y="3716280"/>
            <a:ext cx="1294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etecto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AD, CD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Oval 24"/>
          <p:cNvSpPr/>
          <p:nvPr/>
        </p:nvSpPr>
        <p:spPr>
          <a:xfrm>
            <a:off x="5580000" y="3141720"/>
            <a:ext cx="1800360" cy="1511280"/>
          </a:xfrm>
          <a:prstGeom prst="ellipse">
            <a:avLst/>
          </a:prstGeom>
          <a:noFill/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Line 25"/>
          <p:cNvSpPr/>
          <p:nvPr/>
        </p:nvSpPr>
        <p:spPr>
          <a:xfrm flipV="1">
            <a:off x="7381800" y="3573000"/>
            <a:ext cx="285840" cy="360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26"/>
          <p:cNvSpPr/>
          <p:nvPr/>
        </p:nvSpPr>
        <p:spPr>
          <a:xfrm>
            <a:off x="7553520" y="2997360"/>
            <a:ext cx="148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Data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logging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  <a:ea typeface="굴림"/>
              </a:rPr>
              <a:t>(software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Rectangle 31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5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8342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a 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이온크로마토그래피의 기본 원리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920" y="1844280"/>
            <a:ext cx="7283520" cy="456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시료 중의 각 이온 성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컬럼 충진제에 대한 친화력이 서로 다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용리 시간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  <a:ea typeface="HY견고딕"/>
              </a:rPr>
              <a:t>retention time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: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고유 특성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전기전도도 검출기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CD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전도도 증가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HY견고딕"/>
              </a:rPr>
              <a:t>pea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4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용리 시간의 차이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종류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성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height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 </a:t>
            </a:r>
            <a:r>
              <a:rPr b="1" lang="ko-KR" sz="2000" spc="-1" strike="noStrike" u="sng">
                <a:solidFill>
                  <a:srgbClr val="000000"/>
                </a:solidFill>
                <a:uFillTx/>
                <a:latin typeface="HY견고딕"/>
                <a:ea typeface="HY견고딕"/>
              </a:rPr>
              <a:t>또는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  <a:ea typeface="HY견고딕"/>
              </a:rPr>
              <a:t>peak area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- </a:t>
            </a:r>
            <a:r>
              <a:rPr b="0" lang="ko-KR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각 이온의 농도 파악</a:t>
            </a:r>
            <a:r>
              <a:rPr b="0" lang="en-US" sz="2000" spc="-1" strike="noStrike">
                <a:solidFill>
                  <a:srgbClr val="000000"/>
                </a:solidFill>
                <a:latin typeface="HY견고딕"/>
                <a:ea typeface="HY견고딕"/>
              </a:rPr>
              <a:t>: </a:t>
            </a:r>
            <a:r>
              <a:rPr b="0" lang="ko-KR" sz="2000" spc="-1" strike="noStrike">
                <a:solidFill>
                  <a:srgbClr val="ff0000"/>
                </a:solidFill>
                <a:latin typeface="HY견고딕"/>
                <a:ea typeface="HY견고딕"/>
              </a:rPr>
              <a:t>정량분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Rectangle 4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6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64216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3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Basis of chromatography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Oval 96"/>
          <p:cNvSpPr/>
          <p:nvPr/>
        </p:nvSpPr>
        <p:spPr>
          <a:xfrm>
            <a:off x="6078600" y="1628640"/>
            <a:ext cx="136440" cy="136800"/>
          </a:xfrm>
          <a:prstGeom prst="ellipse">
            <a:avLst/>
          </a:prstGeom>
          <a:solidFill>
            <a:srgbClr val="ff33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97"/>
          <p:cNvSpPr/>
          <p:nvPr/>
        </p:nvSpPr>
        <p:spPr>
          <a:xfrm>
            <a:off x="6081840" y="1062000"/>
            <a:ext cx="112680" cy="111240"/>
          </a:xfrm>
          <a:prstGeom prst="rect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Freeform 98"/>
          <p:cNvSpPr/>
          <p:nvPr/>
        </p:nvSpPr>
        <p:spPr>
          <a:xfrm>
            <a:off x="6086520" y="1320840"/>
            <a:ext cx="149040" cy="115920"/>
          </a:xfrm>
          <a:custGeom>
            <a:avLst/>
            <a:gdLst>
              <a:gd name="textAreaLeft" fmla="*/ 0 w 149040"/>
              <a:gd name="textAreaRight" fmla="*/ 149400 w 149040"/>
              <a:gd name="textAreaTop" fmla="*/ 0 h 115920"/>
              <a:gd name="textAreaBottom" fmla="*/ 116280 h 115920"/>
            </a:gdLst>
            <a:ahLst/>
            <a:rect l="textAreaLeft" t="textAreaTop" r="textAreaRight" b="textAreaBottom"/>
            <a:pathLst>
              <a:path w="94" h="73">
                <a:moveTo>
                  <a:pt x="0" y="72"/>
                </a:moveTo>
                <a:lnTo>
                  <a:pt x="93" y="72"/>
                </a:lnTo>
                <a:lnTo>
                  <a:pt x="40" y="0"/>
                </a:lnTo>
                <a:lnTo>
                  <a:pt x="0" y="72"/>
                </a:lnTo>
              </a:path>
            </a:pathLst>
          </a:custGeom>
          <a:solidFill>
            <a:srgbClr val="ff66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Rectangle 99"/>
          <p:cNvSpPr/>
          <p:nvPr/>
        </p:nvSpPr>
        <p:spPr>
          <a:xfrm>
            <a:off x="6193080" y="923760"/>
            <a:ext cx="2112840" cy="9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slow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with middle speed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MS PGothic"/>
              </a:rPr>
              <a:t>Eluted quickly</a:t>
            </a:r>
            <a:endParaRPr b="1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" name="Group 100"/>
          <p:cNvGrpSpPr/>
          <p:nvPr/>
        </p:nvGrpSpPr>
        <p:grpSpPr>
          <a:xfrm>
            <a:off x="923040" y="2457360"/>
            <a:ext cx="6830280" cy="3233880"/>
            <a:chOff x="923040" y="2457360"/>
            <a:chExt cx="6830280" cy="3233880"/>
          </a:xfrm>
        </p:grpSpPr>
        <p:grpSp>
          <p:nvGrpSpPr>
            <p:cNvPr id="152" name="Group 101"/>
            <p:cNvGrpSpPr/>
            <p:nvPr/>
          </p:nvGrpSpPr>
          <p:grpSpPr>
            <a:xfrm>
              <a:off x="3300480" y="2457360"/>
              <a:ext cx="1289160" cy="3233880"/>
              <a:chOff x="3300480" y="2457360"/>
              <a:chExt cx="1289160" cy="3233880"/>
            </a:xfrm>
          </p:grpSpPr>
          <p:grpSp>
            <p:nvGrpSpPr>
              <p:cNvPr id="153" name="Group 102"/>
              <p:cNvGrpSpPr/>
              <p:nvPr/>
            </p:nvGrpSpPr>
            <p:grpSpPr>
              <a:xfrm>
                <a:off x="3300480" y="2457360"/>
                <a:ext cx="1289160" cy="1629000"/>
                <a:chOff x="3300480" y="2457360"/>
                <a:chExt cx="1289160" cy="1629000"/>
              </a:xfrm>
            </p:grpSpPr>
            <p:grpSp>
              <p:nvGrpSpPr>
                <p:cNvPr id="154" name="Group 103"/>
                <p:cNvGrpSpPr/>
                <p:nvPr/>
              </p:nvGrpSpPr>
              <p:grpSpPr>
                <a:xfrm>
                  <a:off x="3300480" y="2457360"/>
                  <a:ext cx="604800" cy="1629000"/>
                  <a:chOff x="3300480" y="2457360"/>
                  <a:chExt cx="604800" cy="1629000"/>
                </a:xfrm>
              </p:grpSpPr>
              <p:sp>
                <p:nvSpPr>
                  <p:cNvPr id="155" name="Line 104"/>
                  <p:cNvSpPr/>
                  <p:nvPr/>
                </p:nvSpPr>
                <p:spPr>
                  <a:xfrm>
                    <a:off x="35352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6" name="Line 105"/>
                  <p:cNvSpPr/>
                  <p:nvPr/>
                </p:nvSpPr>
                <p:spPr>
                  <a:xfrm flipH="1">
                    <a:off x="334332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7" name="Line 106"/>
                  <p:cNvSpPr/>
                  <p:nvPr/>
                </p:nvSpPr>
                <p:spPr>
                  <a:xfrm flipV="1">
                    <a:off x="330048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8" name="Line 107"/>
                  <p:cNvSpPr/>
                  <p:nvPr/>
                </p:nvSpPr>
                <p:spPr>
                  <a:xfrm>
                    <a:off x="330192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59" name="Line 108"/>
                  <p:cNvSpPr/>
                  <p:nvPr/>
                </p:nvSpPr>
                <p:spPr>
                  <a:xfrm flipV="1">
                    <a:off x="35733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0" name="Line 109"/>
                  <p:cNvSpPr/>
                  <p:nvPr/>
                </p:nvSpPr>
                <p:spPr>
                  <a:xfrm>
                    <a:off x="359568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61" name="Group 110"/>
                <p:cNvGrpSpPr/>
                <p:nvPr/>
              </p:nvGrpSpPr>
              <p:grpSpPr>
                <a:xfrm>
                  <a:off x="3985920" y="2457360"/>
                  <a:ext cx="603720" cy="1629000"/>
                  <a:chOff x="3985920" y="2457360"/>
                  <a:chExt cx="603720" cy="1629000"/>
                </a:xfrm>
              </p:grpSpPr>
              <p:sp>
                <p:nvSpPr>
                  <p:cNvPr id="162" name="Line 111"/>
                  <p:cNvSpPr/>
                  <p:nvPr/>
                </p:nvSpPr>
                <p:spPr>
                  <a:xfrm>
                    <a:off x="43527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3" name="Line 112"/>
                  <p:cNvSpPr/>
                  <p:nvPr/>
                </p:nvSpPr>
                <p:spPr>
                  <a:xfrm>
                    <a:off x="43578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4" name="Line 113"/>
                  <p:cNvSpPr/>
                  <p:nvPr/>
                </p:nvSpPr>
                <p:spPr>
                  <a:xfrm flipV="1">
                    <a:off x="45896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5" name="Line 114"/>
                  <p:cNvSpPr/>
                  <p:nvPr/>
                </p:nvSpPr>
                <p:spPr>
                  <a:xfrm flipH="1">
                    <a:off x="433512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6" name="Line 115"/>
                  <p:cNvSpPr/>
                  <p:nvPr/>
                </p:nvSpPr>
                <p:spPr>
                  <a:xfrm flipV="1">
                    <a:off x="431316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67" name="Line 116"/>
                  <p:cNvSpPr/>
                  <p:nvPr/>
                </p:nvSpPr>
                <p:spPr>
                  <a:xfrm flipH="1">
                    <a:off x="398592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68" name="Group 117"/>
              <p:cNvGrpSpPr/>
              <p:nvPr/>
            </p:nvGrpSpPr>
            <p:grpSpPr>
              <a:xfrm>
                <a:off x="3300480" y="4062240"/>
                <a:ext cx="1289160" cy="1629000"/>
                <a:chOff x="3300480" y="4062240"/>
                <a:chExt cx="1289160" cy="1629000"/>
              </a:xfrm>
            </p:grpSpPr>
            <p:grpSp>
              <p:nvGrpSpPr>
                <p:cNvPr id="169" name="Group 118"/>
                <p:cNvGrpSpPr/>
                <p:nvPr/>
              </p:nvGrpSpPr>
              <p:grpSpPr>
                <a:xfrm>
                  <a:off x="3300480" y="4062240"/>
                  <a:ext cx="604800" cy="1629000"/>
                  <a:chOff x="3300480" y="4062240"/>
                  <a:chExt cx="604800" cy="1629000"/>
                </a:xfrm>
              </p:grpSpPr>
              <p:sp>
                <p:nvSpPr>
                  <p:cNvPr id="170" name="Line 119"/>
                  <p:cNvSpPr/>
                  <p:nvPr/>
                </p:nvSpPr>
                <p:spPr>
                  <a:xfrm flipV="1">
                    <a:off x="35352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1" name="Line 120"/>
                  <p:cNvSpPr/>
                  <p:nvPr/>
                </p:nvSpPr>
                <p:spPr>
                  <a:xfrm flipH="1">
                    <a:off x="334332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2" name="Line 121"/>
                  <p:cNvSpPr/>
                  <p:nvPr/>
                </p:nvSpPr>
                <p:spPr>
                  <a:xfrm>
                    <a:off x="330048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3" name="Line 122"/>
                  <p:cNvSpPr/>
                  <p:nvPr/>
                </p:nvSpPr>
                <p:spPr>
                  <a:xfrm>
                    <a:off x="330192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4" name="Line 123"/>
                  <p:cNvSpPr/>
                  <p:nvPr/>
                </p:nvSpPr>
                <p:spPr>
                  <a:xfrm>
                    <a:off x="35733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5" name="Line 124"/>
                  <p:cNvSpPr/>
                  <p:nvPr/>
                </p:nvSpPr>
                <p:spPr>
                  <a:xfrm>
                    <a:off x="359568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76" name="Group 125"/>
                <p:cNvGrpSpPr/>
                <p:nvPr/>
              </p:nvGrpSpPr>
              <p:grpSpPr>
                <a:xfrm>
                  <a:off x="3985920" y="4062240"/>
                  <a:ext cx="603720" cy="1629000"/>
                  <a:chOff x="3985920" y="4062240"/>
                  <a:chExt cx="603720" cy="1629000"/>
                </a:xfrm>
              </p:grpSpPr>
              <p:sp>
                <p:nvSpPr>
                  <p:cNvPr id="177" name="Line 126"/>
                  <p:cNvSpPr/>
                  <p:nvPr/>
                </p:nvSpPr>
                <p:spPr>
                  <a:xfrm flipV="1">
                    <a:off x="43527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8" name="Line 127"/>
                  <p:cNvSpPr/>
                  <p:nvPr/>
                </p:nvSpPr>
                <p:spPr>
                  <a:xfrm>
                    <a:off x="43578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79" name="Line 128"/>
                  <p:cNvSpPr/>
                  <p:nvPr/>
                </p:nvSpPr>
                <p:spPr>
                  <a:xfrm>
                    <a:off x="45896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0" name="Line 129"/>
                  <p:cNvSpPr/>
                  <p:nvPr/>
                </p:nvSpPr>
                <p:spPr>
                  <a:xfrm flipH="1">
                    <a:off x="433512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1" name="Line 130"/>
                  <p:cNvSpPr/>
                  <p:nvPr/>
                </p:nvSpPr>
                <p:spPr>
                  <a:xfrm>
                    <a:off x="431316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2" name="Line 131"/>
                  <p:cNvSpPr/>
                  <p:nvPr/>
                </p:nvSpPr>
                <p:spPr>
                  <a:xfrm flipH="1">
                    <a:off x="398592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183" name="Group 132"/>
            <p:cNvGrpSpPr/>
            <p:nvPr/>
          </p:nvGrpSpPr>
          <p:grpSpPr>
            <a:xfrm>
              <a:off x="4897440" y="2457360"/>
              <a:ext cx="1289160" cy="3233880"/>
              <a:chOff x="4897440" y="2457360"/>
              <a:chExt cx="1289160" cy="3233880"/>
            </a:xfrm>
          </p:grpSpPr>
          <p:grpSp>
            <p:nvGrpSpPr>
              <p:cNvPr id="184" name="Group 133"/>
              <p:cNvGrpSpPr/>
              <p:nvPr/>
            </p:nvGrpSpPr>
            <p:grpSpPr>
              <a:xfrm>
                <a:off x="4897440" y="2457360"/>
                <a:ext cx="1289160" cy="1629000"/>
                <a:chOff x="4897440" y="2457360"/>
                <a:chExt cx="1289160" cy="1629000"/>
              </a:xfrm>
            </p:grpSpPr>
            <p:grpSp>
              <p:nvGrpSpPr>
                <p:cNvPr id="185" name="Group 134"/>
                <p:cNvGrpSpPr/>
                <p:nvPr/>
              </p:nvGrpSpPr>
              <p:grpSpPr>
                <a:xfrm>
                  <a:off x="4897440" y="2457360"/>
                  <a:ext cx="606600" cy="1629000"/>
                  <a:chOff x="4897440" y="2457360"/>
                  <a:chExt cx="606600" cy="1629000"/>
                </a:xfrm>
              </p:grpSpPr>
              <p:sp>
                <p:nvSpPr>
                  <p:cNvPr id="186" name="Line 135"/>
                  <p:cNvSpPr/>
                  <p:nvPr/>
                </p:nvSpPr>
                <p:spPr>
                  <a:xfrm>
                    <a:off x="513396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7" name="Line 136"/>
                  <p:cNvSpPr/>
                  <p:nvPr/>
                </p:nvSpPr>
                <p:spPr>
                  <a:xfrm flipH="1">
                    <a:off x="49388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8" name="Line 137"/>
                  <p:cNvSpPr/>
                  <p:nvPr/>
                </p:nvSpPr>
                <p:spPr>
                  <a:xfrm flipV="1">
                    <a:off x="489744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89" name="Line 138"/>
                  <p:cNvSpPr/>
                  <p:nvPr/>
                </p:nvSpPr>
                <p:spPr>
                  <a:xfrm>
                    <a:off x="4902120" y="253044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0" name="Line 139"/>
                  <p:cNvSpPr/>
                  <p:nvPr/>
                </p:nvSpPr>
                <p:spPr>
                  <a:xfrm flipV="1">
                    <a:off x="51721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1" name="Line 140"/>
                  <p:cNvSpPr/>
                  <p:nvPr/>
                </p:nvSpPr>
                <p:spPr>
                  <a:xfrm>
                    <a:off x="519588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192" name="Group 141"/>
                <p:cNvGrpSpPr/>
                <p:nvPr/>
              </p:nvGrpSpPr>
              <p:grpSpPr>
                <a:xfrm>
                  <a:off x="5582880" y="2457360"/>
                  <a:ext cx="603720" cy="1629000"/>
                  <a:chOff x="5582880" y="2457360"/>
                  <a:chExt cx="603720" cy="1629000"/>
                </a:xfrm>
              </p:grpSpPr>
              <p:sp>
                <p:nvSpPr>
                  <p:cNvPr id="193" name="Line 142"/>
                  <p:cNvSpPr/>
                  <p:nvPr/>
                </p:nvSpPr>
                <p:spPr>
                  <a:xfrm>
                    <a:off x="595152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4" name="Line 143"/>
                  <p:cNvSpPr/>
                  <p:nvPr/>
                </p:nvSpPr>
                <p:spPr>
                  <a:xfrm>
                    <a:off x="5956200" y="269856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5" name="Line 144"/>
                  <p:cNvSpPr/>
                  <p:nvPr/>
                </p:nvSpPr>
                <p:spPr>
                  <a:xfrm flipV="1">
                    <a:off x="618660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6" name="Line 145"/>
                  <p:cNvSpPr/>
                  <p:nvPr/>
                </p:nvSpPr>
                <p:spPr>
                  <a:xfrm flipH="1">
                    <a:off x="5936760" y="253044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7" name="Line 146"/>
                  <p:cNvSpPr/>
                  <p:nvPr/>
                </p:nvSpPr>
                <p:spPr>
                  <a:xfrm flipV="1">
                    <a:off x="591192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198" name="Line 147"/>
                  <p:cNvSpPr/>
                  <p:nvPr/>
                </p:nvSpPr>
                <p:spPr>
                  <a:xfrm flipH="1">
                    <a:off x="5582880" y="245736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199" name="Group 148"/>
              <p:cNvGrpSpPr/>
              <p:nvPr/>
            </p:nvGrpSpPr>
            <p:grpSpPr>
              <a:xfrm>
                <a:off x="4897440" y="4062240"/>
                <a:ext cx="1289160" cy="1629000"/>
                <a:chOff x="4897440" y="4062240"/>
                <a:chExt cx="1289160" cy="1629000"/>
              </a:xfrm>
            </p:grpSpPr>
            <p:grpSp>
              <p:nvGrpSpPr>
                <p:cNvPr id="200" name="Group 149"/>
                <p:cNvGrpSpPr/>
                <p:nvPr/>
              </p:nvGrpSpPr>
              <p:grpSpPr>
                <a:xfrm>
                  <a:off x="4897440" y="4062240"/>
                  <a:ext cx="606600" cy="1629000"/>
                  <a:chOff x="4897440" y="4062240"/>
                  <a:chExt cx="606600" cy="1629000"/>
                </a:xfrm>
              </p:grpSpPr>
              <p:sp>
                <p:nvSpPr>
                  <p:cNvPr id="201" name="Line 150"/>
                  <p:cNvSpPr/>
                  <p:nvPr/>
                </p:nvSpPr>
                <p:spPr>
                  <a:xfrm flipV="1">
                    <a:off x="513396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2" name="Line 151"/>
                  <p:cNvSpPr/>
                  <p:nvPr/>
                </p:nvSpPr>
                <p:spPr>
                  <a:xfrm flipH="1">
                    <a:off x="49388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3" name="Line 152"/>
                  <p:cNvSpPr/>
                  <p:nvPr/>
                </p:nvSpPr>
                <p:spPr>
                  <a:xfrm>
                    <a:off x="489744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4" name="Line 153"/>
                  <p:cNvSpPr/>
                  <p:nvPr/>
                </p:nvSpPr>
                <p:spPr>
                  <a:xfrm>
                    <a:off x="4902120" y="5618160"/>
                    <a:ext cx="2509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5" name="Line 154"/>
                  <p:cNvSpPr/>
                  <p:nvPr/>
                </p:nvSpPr>
                <p:spPr>
                  <a:xfrm>
                    <a:off x="51721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6" name="Line 155"/>
                  <p:cNvSpPr/>
                  <p:nvPr/>
                </p:nvSpPr>
                <p:spPr>
                  <a:xfrm>
                    <a:off x="519588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07" name="Group 156"/>
                <p:cNvGrpSpPr/>
                <p:nvPr/>
              </p:nvGrpSpPr>
              <p:grpSpPr>
                <a:xfrm>
                  <a:off x="5582880" y="4062240"/>
                  <a:ext cx="603720" cy="1629000"/>
                  <a:chOff x="5582880" y="4062240"/>
                  <a:chExt cx="603720" cy="1629000"/>
                </a:xfrm>
              </p:grpSpPr>
              <p:sp>
                <p:nvSpPr>
                  <p:cNvPr id="208" name="Line 157"/>
                  <p:cNvSpPr/>
                  <p:nvPr/>
                </p:nvSpPr>
                <p:spPr>
                  <a:xfrm flipV="1">
                    <a:off x="595152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09" name="Line 158"/>
                  <p:cNvSpPr/>
                  <p:nvPr/>
                </p:nvSpPr>
                <p:spPr>
                  <a:xfrm>
                    <a:off x="5956200" y="5448240"/>
                    <a:ext cx="193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0" name="Line 159"/>
                  <p:cNvSpPr/>
                  <p:nvPr/>
                </p:nvSpPr>
                <p:spPr>
                  <a:xfrm>
                    <a:off x="618660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1" name="Line 160"/>
                  <p:cNvSpPr/>
                  <p:nvPr/>
                </p:nvSpPr>
                <p:spPr>
                  <a:xfrm flipH="1">
                    <a:off x="5936760" y="5618160"/>
                    <a:ext cx="2494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2" name="Line 161"/>
                  <p:cNvSpPr/>
                  <p:nvPr/>
                </p:nvSpPr>
                <p:spPr>
                  <a:xfrm>
                    <a:off x="591192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3" name="Line 162"/>
                  <p:cNvSpPr/>
                  <p:nvPr/>
                </p:nvSpPr>
                <p:spPr>
                  <a:xfrm flipH="1">
                    <a:off x="5582880" y="5691240"/>
                    <a:ext cx="3078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14" name="Group 163"/>
            <p:cNvGrpSpPr/>
            <p:nvPr/>
          </p:nvGrpSpPr>
          <p:grpSpPr>
            <a:xfrm>
              <a:off x="6464160" y="2457360"/>
              <a:ext cx="1289160" cy="3233880"/>
              <a:chOff x="6464160" y="2457360"/>
              <a:chExt cx="1289160" cy="3233880"/>
            </a:xfrm>
          </p:grpSpPr>
          <p:grpSp>
            <p:nvGrpSpPr>
              <p:cNvPr id="215" name="Group 164"/>
              <p:cNvGrpSpPr/>
              <p:nvPr/>
            </p:nvGrpSpPr>
            <p:grpSpPr>
              <a:xfrm>
                <a:off x="6464160" y="2457360"/>
                <a:ext cx="1289160" cy="1629000"/>
                <a:chOff x="6464160" y="2457360"/>
                <a:chExt cx="1289160" cy="1629000"/>
              </a:xfrm>
            </p:grpSpPr>
            <p:grpSp>
              <p:nvGrpSpPr>
                <p:cNvPr id="216" name="Group 165"/>
                <p:cNvGrpSpPr/>
                <p:nvPr/>
              </p:nvGrpSpPr>
              <p:grpSpPr>
                <a:xfrm>
                  <a:off x="6464160" y="2457360"/>
                  <a:ext cx="606600" cy="1629000"/>
                  <a:chOff x="6464160" y="2457360"/>
                  <a:chExt cx="606600" cy="1629000"/>
                </a:xfrm>
              </p:grpSpPr>
              <p:sp>
                <p:nvSpPr>
                  <p:cNvPr id="217" name="Line 166"/>
                  <p:cNvSpPr/>
                  <p:nvPr/>
                </p:nvSpPr>
                <p:spPr>
                  <a:xfrm>
                    <a:off x="670068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8" name="Line 167"/>
                  <p:cNvSpPr/>
                  <p:nvPr/>
                </p:nvSpPr>
                <p:spPr>
                  <a:xfrm flipH="1">
                    <a:off x="650556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19" name="Line 168"/>
                  <p:cNvSpPr/>
                  <p:nvPr/>
                </p:nvSpPr>
                <p:spPr>
                  <a:xfrm flipV="1">
                    <a:off x="646416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0" name="Line 169"/>
                  <p:cNvSpPr/>
                  <p:nvPr/>
                </p:nvSpPr>
                <p:spPr>
                  <a:xfrm>
                    <a:off x="6469200" y="253044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1" name="Line 170"/>
                  <p:cNvSpPr/>
                  <p:nvPr/>
                </p:nvSpPr>
                <p:spPr>
                  <a:xfrm flipV="1">
                    <a:off x="673884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2" name="Line 171"/>
                  <p:cNvSpPr/>
                  <p:nvPr/>
                </p:nvSpPr>
                <p:spPr>
                  <a:xfrm>
                    <a:off x="6761160" y="245736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23" name="Group 172"/>
                <p:cNvGrpSpPr/>
                <p:nvPr/>
              </p:nvGrpSpPr>
              <p:grpSpPr>
                <a:xfrm>
                  <a:off x="7149960" y="2457360"/>
                  <a:ext cx="603360" cy="1629000"/>
                  <a:chOff x="7149960" y="2457360"/>
                  <a:chExt cx="603360" cy="1629000"/>
                </a:xfrm>
              </p:grpSpPr>
              <p:sp>
                <p:nvSpPr>
                  <p:cNvPr id="224" name="Line 173"/>
                  <p:cNvSpPr/>
                  <p:nvPr/>
                </p:nvSpPr>
                <p:spPr>
                  <a:xfrm>
                    <a:off x="7516800" y="271476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5" name="Line 174"/>
                  <p:cNvSpPr/>
                  <p:nvPr/>
                </p:nvSpPr>
                <p:spPr>
                  <a:xfrm>
                    <a:off x="7520040" y="269856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6" name="Line 175"/>
                  <p:cNvSpPr/>
                  <p:nvPr/>
                </p:nvSpPr>
                <p:spPr>
                  <a:xfrm flipV="1">
                    <a:off x="7753320" y="2531880"/>
                    <a:ext cx="0" cy="152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7" name="Line 176"/>
                  <p:cNvSpPr/>
                  <p:nvPr/>
                </p:nvSpPr>
                <p:spPr>
                  <a:xfrm flipH="1">
                    <a:off x="7500600" y="253044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8" name="Line 177"/>
                  <p:cNvSpPr/>
                  <p:nvPr/>
                </p:nvSpPr>
                <p:spPr>
                  <a:xfrm flipV="1">
                    <a:off x="7477200" y="245916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29" name="Line 178"/>
                  <p:cNvSpPr/>
                  <p:nvPr/>
                </p:nvSpPr>
                <p:spPr>
                  <a:xfrm flipH="1">
                    <a:off x="7149960" y="245736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  <p:grpSp>
            <p:nvGrpSpPr>
              <p:cNvPr id="230" name="Group 179"/>
              <p:cNvGrpSpPr/>
              <p:nvPr/>
            </p:nvGrpSpPr>
            <p:grpSpPr>
              <a:xfrm>
                <a:off x="6464160" y="4062240"/>
                <a:ext cx="1289160" cy="1629000"/>
                <a:chOff x="6464160" y="4062240"/>
                <a:chExt cx="1289160" cy="1629000"/>
              </a:xfrm>
            </p:grpSpPr>
            <p:grpSp>
              <p:nvGrpSpPr>
                <p:cNvPr id="231" name="Group 180"/>
                <p:cNvGrpSpPr/>
                <p:nvPr/>
              </p:nvGrpSpPr>
              <p:grpSpPr>
                <a:xfrm>
                  <a:off x="6464160" y="4062240"/>
                  <a:ext cx="606600" cy="1629000"/>
                  <a:chOff x="6464160" y="4062240"/>
                  <a:chExt cx="606600" cy="1629000"/>
                </a:xfrm>
              </p:grpSpPr>
              <p:sp>
                <p:nvSpPr>
                  <p:cNvPr id="232" name="Line 181"/>
                  <p:cNvSpPr/>
                  <p:nvPr/>
                </p:nvSpPr>
                <p:spPr>
                  <a:xfrm flipV="1">
                    <a:off x="670068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3" name="Line 182"/>
                  <p:cNvSpPr/>
                  <p:nvPr/>
                </p:nvSpPr>
                <p:spPr>
                  <a:xfrm flipH="1">
                    <a:off x="650556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4" name="Line 183"/>
                  <p:cNvSpPr/>
                  <p:nvPr/>
                </p:nvSpPr>
                <p:spPr>
                  <a:xfrm>
                    <a:off x="646416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5" name="Line 184"/>
                  <p:cNvSpPr/>
                  <p:nvPr/>
                </p:nvSpPr>
                <p:spPr>
                  <a:xfrm>
                    <a:off x="6469200" y="5618160"/>
                    <a:ext cx="25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6" name="Line 185"/>
                  <p:cNvSpPr/>
                  <p:nvPr/>
                </p:nvSpPr>
                <p:spPr>
                  <a:xfrm>
                    <a:off x="673884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37" name="Line 186"/>
                  <p:cNvSpPr/>
                  <p:nvPr/>
                </p:nvSpPr>
                <p:spPr>
                  <a:xfrm>
                    <a:off x="6761160" y="5691240"/>
                    <a:ext cx="309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grpSp>
              <p:nvGrpSpPr>
                <p:cNvPr id="238" name="Group 187"/>
                <p:cNvGrpSpPr/>
                <p:nvPr/>
              </p:nvGrpSpPr>
              <p:grpSpPr>
                <a:xfrm>
                  <a:off x="7149960" y="4062240"/>
                  <a:ext cx="603360" cy="1629000"/>
                  <a:chOff x="7149960" y="4062240"/>
                  <a:chExt cx="603360" cy="1629000"/>
                </a:xfrm>
              </p:grpSpPr>
              <p:sp>
                <p:nvSpPr>
                  <p:cNvPr id="239" name="Line 188"/>
                  <p:cNvSpPr/>
                  <p:nvPr/>
                </p:nvSpPr>
                <p:spPr>
                  <a:xfrm flipV="1">
                    <a:off x="7516800" y="4062240"/>
                    <a:ext cx="0" cy="13716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0" name="Line 189"/>
                  <p:cNvSpPr/>
                  <p:nvPr/>
                </p:nvSpPr>
                <p:spPr>
                  <a:xfrm>
                    <a:off x="7520040" y="5448240"/>
                    <a:ext cx="19512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1" name="Line 190"/>
                  <p:cNvSpPr/>
                  <p:nvPr/>
                </p:nvSpPr>
                <p:spPr>
                  <a:xfrm>
                    <a:off x="7753320" y="5467320"/>
                    <a:ext cx="0" cy="152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2" name="Line 191"/>
                  <p:cNvSpPr/>
                  <p:nvPr/>
                </p:nvSpPr>
                <p:spPr>
                  <a:xfrm flipH="1">
                    <a:off x="7500600" y="5618160"/>
                    <a:ext cx="2523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3" name="Line 192"/>
                  <p:cNvSpPr/>
                  <p:nvPr/>
                </p:nvSpPr>
                <p:spPr>
                  <a:xfrm>
                    <a:off x="7477200" y="5621400"/>
                    <a:ext cx="0" cy="698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3040" bIns="2304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  <p:sp>
                <p:nvSpPr>
                  <p:cNvPr id="244" name="Line 193"/>
                  <p:cNvSpPr/>
                  <p:nvPr/>
                </p:nvSpPr>
                <p:spPr>
                  <a:xfrm flipH="1">
                    <a:off x="7149960" y="5691240"/>
                    <a:ext cx="308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1" lang="en-US" sz="28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</p:grpSp>
        </p:grpSp>
        <p:grpSp>
          <p:nvGrpSpPr>
            <p:cNvPr id="245" name="Group 194"/>
            <p:cNvGrpSpPr/>
            <p:nvPr/>
          </p:nvGrpSpPr>
          <p:grpSpPr>
            <a:xfrm>
              <a:off x="1689120" y="2457360"/>
              <a:ext cx="1300320" cy="3233880"/>
              <a:chOff x="1689120" y="2457360"/>
              <a:chExt cx="1300320" cy="3233880"/>
            </a:xfrm>
          </p:grpSpPr>
          <p:grpSp>
            <p:nvGrpSpPr>
              <p:cNvPr id="246" name="Group 195"/>
              <p:cNvGrpSpPr/>
              <p:nvPr/>
            </p:nvGrpSpPr>
            <p:grpSpPr>
              <a:xfrm>
                <a:off x="1700280" y="2457360"/>
                <a:ext cx="1289160" cy="3233880"/>
                <a:chOff x="1700280" y="2457360"/>
                <a:chExt cx="1289160" cy="3233880"/>
              </a:xfrm>
            </p:grpSpPr>
            <p:grpSp>
              <p:nvGrpSpPr>
                <p:cNvPr id="247" name="Group 196"/>
                <p:cNvGrpSpPr/>
                <p:nvPr/>
              </p:nvGrpSpPr>
              <p:grpSpPr>
                <a:xfrm>
                  <a:off x="1700280" y="2457360"/>
                  <a:ext cx="1289160" cy="1629000"/>
                  <a:chOff x="1700280" y="2457360"/>
                  <a:chExt cx="1289160" cy="1629000"/>
                </a:xfrm>
              </p:grpSpPr>
              <p:grpSp>
                <p:nvGrpSpPr>
                  <p:cNvPr id="248" name="Group 197"/>
                  <p:cNvGrpSpPr/>
                  <p:nvPr/>
                </p:nvGrpSpPr>
                <p:grpSpPr>
                  <a:xfrm>
                    <a:off x="1700280" y="2457360"/>
                    <a:ext cx="606240" cy="1629000"/>
                    <a:chOff x="1700280" y="2457360"/>
                    <a:chExt cx="606240" cy="1629000"/>
                  </a:xfrm>
                </p:grpSpPr>
                <p:sp>
                  <p:nvSpPr>
                    <p:cNvPr id="249" name="Line 198"/>
                    <p:cNvSpPr/>
                    <p:nvPr/>
                  </p:nvSpPr>
                  <p:spPr>
                    <a:xfrm>
                      <a:off x="193500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0" name="Line 199"/>
                    <p:cNvSpPr/>
                    <p:nvPr/>
                  </p:nvSpPr>
                  <p:spPr>
                    <a:xfrm flipH="1">
                      <a:off x="1743120" y="269856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1" name="Line 200"/>
                    <p:cNvSpPr/>
                    <p:nvPr/>
                  </p:nvSpPr>
                  <p:spPr>
                    <a:xfrm flipV="1">
                      <a:off x="170028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2" name="Line 201"/>
                    <p:cNvSpPr/>
                    <p:nvPr/>
                  </p:nvSpPr>
                  <p:spPr>
                    <a:xfrm>
                      <a:off x="1701720" y="253044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3" name="Line 202"/>
                    <p:cNvSpPr/>
                    <p:nvPr/>
                  </p:nvSpPr>
                  <p:spPr>
                    <a:xfrm flipV="1">
                      <a:off x="1974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4" name="Line 203"/>
                    <p:cNvSpPr/>
                    <p:nvPr/>
                  </p:nvSpPr>
                  <p:spPr>
                    <a:xfrm>
                      <a:off x="1996920" y="245736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55" name="Group 204"/>
                  <p:cNvGrpSpPr/>
                  <p:nvPr/>
                </p:nvGrpSpPr>
                <p:grpSpPr>
                  <a:xfrm>
                    <a:off x="2385720" y="2457360"/>
                    <a:ext cx="603720" cy="1629000"/>
                    <a:chOff x="2385720" y="2457360"/>
                    <a:chExt cx="603720" cy="1629000"/>
                  </a:xfrm>
                </p:grpSpPr>
                <p:sp>
                  <p:nvSpPr>
                    <p:cNvPr id="256" name="Line 205"/>
                    <p:cNvSpPr/>
                    <p:nvPr/>
                  </p:nvSpPr>
                  <p:spPr>
                    <a:xfrm>
                      <a:off x="2752560" y="271476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7" name="Line 206"/>
                    <p:cNvSpPr/>
                    <p:nvPr/>
                  </p:nvSpPr>
                  <p:spPr>
                    <a:xfrm>
                      <a:off x="2755800" y="269856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8" name="Line 207"/>
                    <p:cNvSpPr/>
                    <p:nvPr/>
                  </p:nvSpPr>
                  <p:spPr>
                    <a:xfrm flipV="1">
                      <a:off x="2989440" y="2531880"/>
                      <a:ext cx="0" cy="1526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59" name="Line 208"/>
                    <p:cNvSpPr/>
                    <p:nvPr/>
                  </p:nvSpPr>
                  <p:spPr>
                    <a:xfrm flipH="1">
                      <a:off x="2734920" y="253044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0" name="Line 209"/>
                    <p:cNvSpPr/>
                    <p:nvPr/>
                  </p:nvSpPr>
                  <p:spPr>
                    <a:xfrm flipV="1">
                      <a:off x="2712960" y="245916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1" name="Line 210"/>
                    <p:cNvSpPr/>
                    <p:nvPr/>
                  </p:nvSpPr>
                  <p:spPr>
                    <a:xfrm flipH="1">
                      <a:off x="2385720" y="245736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  <p:grpSp>
              <p:nvGrpSpPr>
                <p:cNvPr id="262" name="Group 211"/>
                <p:cNvGrpSpPr/>
                <p:nvPr/>
              </p:nvGrpSpPr>
              <p:grpSpPr>
                <a:xfrm>
                  <a:off x="1700280" y="4062240"/>
                  <a:ext cx="1289160" cy="1629000"/>
                  <a:chOff x="1700280" y="4062240"/>
                  <a:chExt cx="1289160" cy="1629000"/>
                </a:xfrm>
              </p:grpSpPr>
              <p:grpSp>
                <p:nvGrpSpPr>
                  <p:cNvPr id="263" name="Group 212"/>
                  <p:cNvGrpSpPr/>
                  <p:nvPr/>
                </p:nvGrpSpPr>
                <p:grpSpPr>
                  <a:xfrm>
                    <a:off x="1700280" y="4062240"/>
                    <a:ext cx="606240" cy="1629000"/>
                    <a:chOff x="1700280" y="4062240"/>
                    <a:chExt cx="606240" cy="1629000"/>
                  </a:xfrm>
                </p:grpSpPr>
                <p:sp>
                  <p:nvSpPr>
                    <p:cNvPr id="264" name="Line 213"/>
                    <p:cNvSpPr/>
                    <p:nvPr/>
                  </p:nvSpPr>
                  <p:spPr>
                    <a:xfrm flipV="1">
                      <a:off x="193500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5" name="Line 214"/>
                    <p:cNvSpPr/>
                    <p:nvPr/>
                  </p:nvSpPr>
                  <p:spPr>
                    <a:xfrm flipH="1">
                      <a:off x="1743120" y="5448240"/>
                      <a:ext cx="1936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6" name="Line 215"/>
                    <p:cNvSpPr/>
                    <p:nvPr/>
                  </p:nvSpPr>
                  <p:spPr>
                    <a:xfrm>
                      <a:off x="170028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7" name="Line 216"/>
                    <p:cNvSpPr/>
                    <p:nvPr/>
                  </p:nvSpPr>
                  <p:spPr>
                    <a:xfrm>
                      <a:off x="1701720" y="5618160"/>
                      <a:ext cx="249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8" name="Line 217"/>
                    <p:cNvSpPr/>
                    <p:nvPr/>
                  </p:nvSpPr>
                  <p:spPr>
                    <a:xfrm>
                      <a:off x="1974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69" name="Line 218"/>
                    <p:cNvSpPr/>
                    <p:nvPr/>
                  </p:nvSpPr>
                  <p:spPr>
                    <a:xfrm>
                      <a:off x="1996920" y="5691240"/>
                      <a:ext cx="3096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grpSp>
                <p:nvGrpSpPr>
                  <p:cNvPr id="270" name="Group 219"/>
                  <p:cNvGrpSpPr/>
                  <p:nvPr/>
                </p:nvGrpSpPr>
                <p:grpSpPr>
                  <a:xfrm>
                    <a:off x="2385720" y="4062240"/>
                    <a:ext cx="603720" cy="1629000"/>
                    <a:chOff x="2385720" y="4062240"/>
                    <a:chExt cx="603720" cy="1629000"/>
                  </a:xfrm>
                </p:grpSpPr>
                <p:sp>
                  <p:nvSpPr>
                    <p:cNvPr id="271" name="Line 220"/>
                    <p:cNvSpPr/>
                    <p:nvPr/>
                  </p:nvSpPr>
                  <p:spPr>
                    <a:xfrm flipV="1">
                      <a:off x="2752560" y="4062240"/>
                      <a:ext cx="0" cy="137160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2" name="Line 221"/>
                    <p:cNvSpPr/>
                    <p:nvPr/>
                  </p:nvSpPr>
                  <p:spPr>
                    <a:xfrm>
                      <a:off x="2755800" y="5448240"/>
                      <a:ext cx="19548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3" name="Line 222"/>
                    <p:cNvSpPr/>
                    <p:nvPr/>
                  </p:nvSpPr>
                  <p:spPr>
                    <a:xfrm>
                      <a:off x="2989440" y="5467320"/>
                      <a:ext cx="0" cy="15228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4" name="Line 223"/>
                    <p:cNvSpPr/>
                    <p:nvPr/>
                  </p:nvSpPr>
                  <p:spPr>
                    <a:xfrm flipH="1">
                      <a:off x="2734920" y="5618160"/>
                      <a:ext cx="25236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5" name="Line 224"/>
                    <p:cNvSpPr/>
                    <p:nvPr/>
                  </p:nvSpPr>
                  <p:spPr>
                    <a:xfrm>
                      <a:off x="2712960" y="5621400"/>
                      <a:ext cx="0" cy="6984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3040" bIns="2304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276" name="Line 225"/>
                    <p:cNvSpPr/>
                    <p:nvPr/>
                  </p:nvSpPr>
                  <p:spPr>
                    <a:xfrm flipH="1">
                      <a:off x="2385720" y="5691240"/>
                      <a:ext cx="307800" cy="0"/>
                    </a:xfrm>
                    <a:prstGeom prst="line">
                      <a:avLst/>
                    </a:prstGeom>
                    <a:ln w="255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1" lang="en-US" sz="2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277" name="Line 226"/>
              <p:cNvSpPr/>
              <p:nvPr/>
            </p:nvSpPr>
            <p:spPr>
              <a:xfrm>
                <a:off x="1689120" y="2698560"/>
                <a:ext cx="651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8" name="Line 227"/>
              <p:cNvSpPr/>
              <p:nvPr/>
            </p:nvSpPr>
            <p:spPr>
              <a:xfrm flipH="1">
                <a:off x="2936880" y="2698560"/>
                <a:ext cx="396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9" name="Line 228"/>
              <p:cNvSpPr/>
              <p:nvPr/>
            </p:nvSpPr>
            <p:spPr>
              <a:xfrm>
                <a:off x="2209680" y="2457360"/>
                <a:ext cx="3492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" name="Rectangle 229"/>
            <p:cNvSpPr/>
            <p:nvPr/>
          </p:nvSpPr>
          <p:spPr>
            <a:xfrm>
              <a:off x="923040" y="3209760"/>
              <a:ext cx="984240" cy="56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Temporal 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      </a:t>
              </a: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course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1" name="Line 230"/>
            <p:cNvSpPr/>
            <p:nvPr/>
          </p:nvSpPr>
          <p:spPr>
            <a:xfrm>
              <a:off x="1339920" y="3902040"/>
              <a:ext cx="4572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2" name="Group 231"/>
          <p:cNvGrpSpPr/>
          <p:nvPr/>
        </p:nvGrpSpPr>
        <p:grpSpPr>
          <a:xfrm>
            <a:off x="1433880" y="2048040"/>
            <a:ext cx="1334880" cy="828000"/>
            <a:chOff x="1433880" y="2048040"/>
            <a:chExt cx="1334880" cy="828000"/>
          </a:xfrm>
        </p:grpSpPr>
        <p:sp>
          <p:nvSpPr>
            <p:cNvPr id="283" name="Oval 232"/>
            <p:cNvSpPr/>
            <p:nvPr/>
          </p:nvSpPr>
          <p:spPr>
            <a:xfrm>
              <a:off x="2054160" y="2625840"/>
              <a:ext cx="1270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4" name="Oval 233"/>
            <p:cNvSpPr/>
            <p:nvPr/>
          </p:nvSpPr>
          <p:spPr>
            <a:xfrm>
              <a:off x="2166840" y="254952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5" name="Oval 234"/>
            <p:cNvSpPr/>
            <p:nvPr/>
          </p:nvSpPr>
          <p:spPr>
            <a:xfrm>
              <a:off x="2320920" y="27367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6" name="Oval 235"/>
            <p:cNvSpPr/>
            <p:nvPr/>
          </p:nvSpPr>
          <p:spPr>
            <a:xfrm>
              <a:off x="2486160" y="2625840"/>
              <a:ext cx="12528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7" name="Oval 236"/>
            <p:cNvSpPr/>
            <p:nvPr/>
          </p:nvSpPr>
          <p:spPr>
            <a:xfrm>
              <a:off x="2066760" y="272556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8" name="Rectangle 237"/>
            <p:cNvSpPr/>
            <p:nvPr/>
          </p:nvSpPr>
          <p:spPr>
            <a:xfrm>
              <a:off x="2417760" y="2548080"/>
              <a:ext cx="108000" cy="1058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9" name="Rectangle 238"/>
            <p:cNvSpPr/>
            <p:nvPr/>
          </p:nvSpPr>
          <p:spPr>
            <a:xfrm>
              <a:off x="2241720" y="2733480"/>
              <a:ext cx="10764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" name="Rectangle 239"/>
            <p:cNvSpPr/>
            <p:nvPr/>
          </p:nvSpPr>
          <p:spPr>
            <a:xfrm>
              <a:off x="2495520" y="2733480"/>
              <a:ext cx="10656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1" name="Rectangle 240"/>
            <p:cNvSpPr/>
            <p:nvPr/>
          </p:nvSpPr>
          <p:spPr>
            <a:xfrm>
              <a:off x="2076480" y="255744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2" name="Rectangle 241"/>
            <p:cNvSpPr/>
            <p:nvPr/>
          </p:nvSpPr>
          <p:spPr>
            <a:xfrm>
              <a:off x="2087640" y="271152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3" name="Freeform 242"/>
            <p:cNvSpPr/>
            <p:nvPr/>
          </p:nvSpPr>
          <p:spPr>
            <a:xfrm>
              <a:off x="2505240" y="2546280"/>
              <a:ext cx="145800" cy="11232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4" name="Freeform 243"/>
            <p:cNvSpPr/>
            <p:nvPr/>
          </p:nvSpPr>
          <p:spPr>
            <a:xfrm>
              <a:off x="2384280" y="270972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" name="Freeform 244"/>
            <p:cNvSpPr/>
            <p:nvPr/>
          </p:nvSpPr>
          <p:spPr>
            <a:xfrm>
              <a:off x="2308320" y="2546280"/>
              <a:ext cx="144360" cy="1123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" name="Freeform 245"/>
            <p:cNvSpPr/>
            <p:nvPr/>
          </p:nvSpPr>
          <p:spPr>
            <a:xfrm>
              <a:off x="2282760" y="2610000"/>
              <a:ext cx="146160" cy="1105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7" name="Freeform 246"/>
            <p:cNvSpPr/>
            <p:nvPr/>
          </p:nvSpPr>
          <p:spPr>
            <a:xfrm>
              <a:off x="2174760" y="2755800"/>
              <a:ext cx="146160" cy="11232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320"/>
                <a:gd name="textAreaBottom" fmla="*/ 112680 h 11232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" name="Freeform 247"/>
            <p:cNvSpPr/>
            <p:nvPr/>
          </p:nvSpPr>
          <p:spPr>
            <a:xfrm>
              <a:off x="2538360" y="273204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9" name="Freeform 248"/>
            <p:cNvSpPr/>
            <p:nvPr/>
          </p:nvSpPr>
          <p:spPr>
            <a:xfrm>
              <a:off x="1998720" y="27097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0" name="Rectangle 249"/>
            <p:cNvSpPr/>
            <p:nvPr/>
          </p:nvSpPr>
          <p:spPr>
            <a:xfrm>
              <a:off x="2243160" y="253692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1" name="Rectangle 250"/>
            <p:cNvSpPr/>
            <p:nvPr/>
          </p:nvSpPr>
          <p:spPr>
            <a:xfrm>
              <a:off x="2362320" y="2766960"/>
              <a:ext cx="108000" cy="10908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2" name="Oval 251"/>
            <p:cNvSpPr/>
            <p:nvPr/>
          </p:nvSpPr>
          <p:spPr>
            <a:xfrm>
              <a:off x="2155680" y="2571840"/>
              <a:ext cx="125640" cy="1249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" name="Oval 252"/>
            <p:cNvSpPr/>
            <p:nvPr/>
          </p:nvSpPr>
          <p:spPr>
            <a:xfrm>
              <a:off x="2343240" y="2712960"/>
              <a:ext cx="1270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4" name="Line 253"/>
            <p:cNvSpPr/>
            <p:nvPr/>
          </p:nvSpPr>
          <p:spPr>
            <a:xfrm>
              <a:off x="1979640" y="2457360"/>
              <a:ext cx="396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5" name="Line 254"/>
            <p:cNvSpPr/>
            <p:nvPr/>
          </p:nvSpPr>
          <p:spPr>
            <a:xfrm>
              <a:off x="2706840" y="2535120"/>
              <a:ext cx="61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6" name="Rectangle 255"/>
            <p:cNvSpPr/>
            <p:nvPr/>
          </p:nvSpPr>
          <p:spPr>
            <a:xfrm>
              <a:off x="1433880" y="2048040"/>
              <a:ext cx="653400" cy="32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1000" rIns="81000" tIns="39600" bIns="396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09560"/>
                  <a:tab algn="l" pos="1419120"/>
                  <a:tab algn="l" pos="2128680"/>
                  <a:tab algn="l" pos="2838600"/>
                  <a:tab algn="l" pos="3548160"/>
                  <a:tab algn="l" pos="4257720"/>
                  <a:tab algn="l" pos="4967280"/>
                  <a:tab algn="l" pos="5676840"/>
                  <a:tab algn="l" pos="6386400"/>
                  <a:tab algn="l" pos="7095960"/>
                  <a:tab algn="l" pos="7805880"/>
                  <a:tab algn="l" pos="8515440"/>
                  <a:tab algn="l" pos="9225000"/>
                  <a:tab algn="l" pos="9934560"/>
                  <a:tab algn="l" pos="10644120"/>
                </a:tabLst>
              </a:pPr>
              <a:r>
                <a:rPr b="1" lang="en-US" sz="1600" spc="-1" strike="noStrike">
                  <a:solidFill>
                    <a:srgbClr val="0000ff"/>
                  </a:solidFill>
                  <a:latin typeface="Arial Narrow"/>
                  <a:ea typeface="MS Gothic"/>
                </a:rPr>
                <a:t>eluent</a:t>
              </a:r>
              <a:endParaRPr b="1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07" name="Group 256"/>
            <p:cNvGrpSpPr/>
            <p:nvPr/>
          </p:nvGrpSpPr>
          <p:grpSpPr>
            <a:xfrm>
              <a:off x="2239920" y="2163600"/>
              <a:ext cx="198360" cy="250560"/>
              <a:chOff x="2239920" y="2163600"/>
              <a:chExt cx="198360" cy="250560"/>
            </a:xfrm>
          </p:grpSpPr>
          <p:sp>
            <p:nvSpPr>
              <p:cNvPr id="308" name="Line 257"/>
              <p:cNvSpPr/>
              <p:nvPr/>
            </p:nvSpPr>
            <p:spPr>
              <a:xfrm>
                <a:off x="223992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9" name="Line 258"/>
              <p:cNvSpPr/>
              <p:nvPr/>
            </p:nvSpPr>
            <p:spPr>
              <a:xfrm>
                <a:off x="234000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0" name="Line 259"/>
              <p:cNvSpPr/>
              <p:nvPr/>
            </p:nvSpPr>
            <p:spPr>
              <a:xfrm>
                <a:off x="2438280" y="2163600"/>
                <a:ext cx="0" cy="25056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11" name="Group 260"/>
          <p:cNvGrpSpPr/>
          <p:nvPr/>
        </p:nvGrpSpPr>
        <p:grpSpPr>
          <a:xfrm>
            <a:off x="2895480" y="2163600"/>
            <a:ext cx="1376640" cy="1738440"/>
            <a:chOff x="2895480" y="2163600"/>
            <a:chExt cx="1376640" cy="1738440"/>
          </a:xfrm>
        </p:grpSpPr>
        <p:sp>
          <p:nvSpPr>
            <p:cNvPr id="312" name="Rectangle 261"/>
            <p:cNvSpPr/>
            <p:nvPr/>
          </p:nvSpPr>
          <p:spPr>
            <a:xfrm>
              <a:off x="3710160" y="300996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" name="Rectangle 262"/>
            <p:cNvSpPr/>
            <p:nvPr/>
          </p:nvSpPr>
          <p:spPr>
            <a:xfrm>
              <a:off x="4118040" y="30970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" name="Rectangle 263"/>
            <p:cNvSpPr/>
            <p:nvPr/>
          </p:nvSpPr>
          <p:spPr>
            <a:xfrm>
              <a:off x="4038480" y="2989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" name="Rectangle 264"/>
            <p:cNvSpPr/>
            <p:nvPr/>
          </p:nvSpPr>
          <p:spPr>
            <a:xfrm>
              <a:off x="3863880" y="30211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6" name="Rectangle 265"/>
            <p:cNvSpPr/>
            <p:nvPr/>
          </p:nvSpPr>
          <p:spPr>
            <a:xfrm>
              <a:off x="3665520" y="3056040"/>
              <a:ext cx="10656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7" name="Rectangle 266"/>
            <p:cNvSpPr/>
            <p:nvPr/>
          </p:nvSpPr>
          <p:spPr>
            <a:xfrm>
              <a:off x="4017960" y="309096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" name="Rectangle 267"/>
            <p:cNvSpPr/>
            <p:nvPr/>
          </p:nvSpPr>
          <p:spPr>
            <a:xfrm>
              <a:off x="3897360" y="2978280"/>
              <a:ext cx="1080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9" name="Freeform 268"/>
            <p:cNvSpPr/>
            <p:nvPr/>
          </p:nvSpPr>
          <p:spPr>
            <a:xfrm>
              <a:off x="3754440" y="326232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" name="Freeform 269"/>
            <p:cNvSpPr/>
            <p:nvPr/>
          </p:nvSpPr>
          <p:spPr>
            <a:xfrm>
              <a:off x="3884760" y="3292560"/>
              <a:ext cx="144360" cy="11412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1" name="Freeform 270"/>
            <p:cNvSpPr/>
            <p:nvPr/>
          </p:nvSpPr>
          <p:spPr>
            <a:xfrm>
              <a:off x="3973680" y="3236760"/>
              <a:ext cx="144360" cy="1144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4480"/>
                <a:gd name="textAreaBottom" fmla="*/ 114840 h 114480"/>
              </a:gdLst>
              <a:ahLst/>
              <a:rect l="textAreaLeft" t="textAreaTop" r="textAreaRight" b="textAreaBottom"/>
              <a:pathLst>
                <a:path w="91" h="72">
                  <a:moveTo>
                    <a:pt x="0" y="71"/>
                  </a:moveTo>
                  <a:lnTo>
                    <a:pt x="90" y="71"/>
                  </a:lnTo>
                  <a:lnTo>
                    <a:pt x="39" y="0"/>
                  </a:lnTo>
                  <a:lnTo>
                    <a:pt x="0" y="71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2" name="Freeform 271"/>
            <p:cNvSpPr/>
            <p:nvPr/>
          </p:nvSpPr>
          <p:spPr>
            <a:xfrm>
              <a:off x="4040280" y="3306600"/>
              <a:ext cx="144360" cy="1112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3" name="Freeform 272"/>
            <p:cNvSpPr/>
            <p:nvPr/>
          </p:nvSpPr>
          <p:spPr>
            <a:xfrm>
              <a:off x="4127400" y="322884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4" name="Freeform 273"/>
            <p:cNvSpPr/>
            <p:nvPr/>
          </p:nvSpPr>
          <p:spPr>
            <a:xfrm>
              <a:off x="3830760" y="3182760"/>
              <a:ext cx="144360" cy="11304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" name="Freeform 274"/>
            <p:cNvSpPr/>
            <p:nvPr/>
          </p:nvSpPr>
          <p:spPr>
            <a:xfrm>
              <a:off x="3665520" y="331632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" name="Oval 275"/>
            <p:cNvSpPr/>
            <p:nvPr/>
          </p:nvSpPr>
          <p:spPr>
            <a:xfrm>
              <a:off x="3732120" y="351000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" name="Oval 276"/>
            <p:cNvSpPr/>
            <p:nvPr/>
          </p:nvSpPr>
          <p:spPr>
            <a:xfrm>
              <a:off x="3654360" y="3489480"/>
              <a:ext cx="125640" cy="1234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8" name="Oval 277"/>
            <p:cNvSpPr/>
            <p:nvPr/>
          </p:nvSpPr>
          <p:spPr>
            <a:xfrm>
              <a:off x="387504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9" name="Oval 278"/>
            <p:cNvSpPr/>
            <p:nvPr/>
          </p:nvSpPr>
          <p:spPr>
            <a:xfrm>
              <a:off x="4006800" y="356400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" name="Oval 279"/>
            <p:cNvSpPr/>
            <p:nvPr/>
          </p:nvSpPr>
          <p:spPr>
            <a:xfrm>
              <a:off x="4084560" y="3463920"/>
              <a:ext cx="1238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" name="Oval 280"/>
            <p:cNvSpPr/>
            <p:nvPr/>
          </p:nvSpPr>
          <p:spPr>
            <a:xfrm>
              <a:off x="3941640" y="3454200"/>
              <a:ext cx="12384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" name="Oval 281"/>
            <p:cNvSpPr/>
            <p:nvPr/>
          </p:nvSpPr>
          <p:spPr>
            <a:xfrm>
              <a:off x="3754440" y="3441600"/>
              <a:ext cx="127080" cy="1270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" name="Rectangle 282"/>
            <p:cNvSpPr/>
            <p:nvPr/>
          </p:nvSpPr>
          <p:spPr>
            <a:xfrm>
              <a:off x="3984480" y="30430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4" name="Rectangle 283"/>
            <p:cNvSpPr/>
            <p:nvPr/>
          </p:nvSpPr>
          <p:spPr>
            <a:xfrm>
              <a:off x="3741840" y="30891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" name="Line 284"/>
            <p:cNvSpPr/>
            <p:nvPr/>
          </p:nvSpPr>
          <p:spPr>
            <a:xfrm>
              <a:off x="2895480" y="3902040"/>
              <a:ext cx="46044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6" name="Group 285"/>
            <p:cNvGrpSpPr/>
            <p:nvPr/>
          </p:nvGrpSpPr>
          <p:grpSpPr>
            <a:xfrm>
              <a:off x="3862440" y="2163600"/>
              <a:ext cx="198360" cy="250920"/>
              <a:chOff x="3862440" y="2163600"/>
              <a:chExt cx="198360" cy="250920"/>
            </a:xfrm>
          </p:grpSpPr>
          <p:sp>
            <p:nvSpPr>
              <p:cNvPr id="337" name="Line 286"/>
              <p:cNvSpPr/>
              <p:nvPr/>
            </p:nvSpPr>
            <p:spPr>
              <a:xfrm>
                <a:off x="386244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8" name="Line 287"/>
              <p:cNvSpPr/>
              <p:nvPr/>
            </p:nvSpPr>
            <p:spPr>
              <a:xfrm>
                <a:off x="39625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9" name="Line 288"/>
              <p:cNvSpPr/>
              <p:nvPr/>
            </p:nvSpPr>
            <p:spPr>
              <a:xfrm>
                <a:off x="40608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40" name="Group 289"/>
          <p:cNvGrpSpPr/>
          <p:nvPr/>
        </p:nvGrpSpPr>
        <p:grpSpPr>
          <a:xfrm>
            <a:off x="4516560" y="2163600"/>
            <a:ext cx="1334880" cy="2495520"/>
            <a:chOff x="4516560" y="2163600"/>
            <a:chExt cx="1334880" cy="2495520"/>
          </a:xfrm>
        </p:grpSpPr>
        <p:sp>
          <p:nvSpPr>
            <p:cNvPr id="341" name="Rectangle 290"/>
            <p:cNvSpPr/>
            <p:nvPr/>
          </p:nvSpPr>
          <p:spPr>
            <a:xfrm>
              <a:off x="5330880" y="3384360"/>
              <a:ext cx="108000" cy="10656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" name="Rectangle 291"/>
            <p:cNvSpPr/>
            <p:nvPr/>
          </p:nvSpPr>
          <p:spPr>
            <a:xfrm>
              <a:off x="5729400" y="352728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" name="Rectangle 292"/>
            <p:cNvSpPr/>
            <p:nvPr/>
          </p:nvSpPr>
          <p:spPr>
            <a:xfrm>
              <a:off x="5651640" y="3352680"/>
              <a:ext cx="1062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" name="Rectangle 293"/>
            <p:cNvSpPr/>
            <p:nvPr/>
          </p:nvSpPr>
          <p:spPr>
            <a:xfrm>
              <a:off x="5475240" y="352908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" name="Rectangle 294"/>
            <p:cNvSpPr/>
            <p:nvPr/>
          </p:nvSpPr>
          <p:spPr>
            <a:xfrm>
              <a:off x="5275440" y="348624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6" name="Rectangle 295"/>
            <p:cNvSpPr/>
            <p:nvPr/>
          </p:nvSpPr>
          <p:spPr>
            <a:xfrm>
              <a:off x="5597640" y="348948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7" name="Rectangle 296"/>
            <p:cNvSpPr/>
            <p:nvPr/>
          </p:nvSpPr>
          <p:spPr>
            <a:xfrm>
              <a:off x="5508720" y="3373560"/>
              <a:ext cx="106200" cy="1076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8" name="Freeform 297"/>
            <p:cNvSpPr/>
            <p:nvPr/>
          </p:nvSpPr>
          <p:spPr>
            <a:xfrm>
              <a:off x="5330880" y="3935520"/>
              <a:ext cx="144360" cy="1108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" name="Freeform 298"/>
            <p:cNvSpPr/>
            <p:nvPr/>
          </p:nvSpPr>
          <p:spPr>
            <a:xfrm>
              <a:off x="5407200" y="402264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" name="Freeform 299"/>
            <p:cNvSpPr/>
            <p:nvPr/>
          </p:nvSpPr>
          <p:spPr>
            <a:xfrm>
              <a:off x="5551560" y="391320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" name="Freeform 300"/>
            <p:cNvSpPr/>
            <p:nvPr/>
          </p:nvSpPr>
          <p:spPr>
            <a:xfrm>
              <a:off x="5673600" y="4021200"/>
              <a:ext cx="144720" cy="11268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" name="Freeform 301"/>
            <p:cNvSpPr/>
            <p:nvPr/>
          </p:nvSpPr>
          <p:spPr>
            <a:xfrm>
              <a:off x="5705640" y="3903480"/>
              <a:ext cx="145800" cy="1130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3040"/>
                <a:gd name="textAreaBottom" fmla="*/ 113400 h 11304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" name="Freeform 302"/>
            <p:cNvSpPr/>
            <p:nvPr/>
          </p:nvSpPr>
          <p:spPr>
            <a:xfrm>
              <a:off x="5407200" y="3857760"/>
              <a:ext cx="145800" cy="11088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" name="Freeform 303"/>
            <p:cNvSpPr/>
            <p:nvPr/>
          </p:nvSpPr>
          <p:spPr>
            <a:xfrm>
              <a:off x="5241960" y="3990960"/>
              <a:ext cx="146160" cy="1126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2" h="71">
                  <a:moveTo>
                    <a:pt x="0" y="70"/>
                  </a:moveTo>
                  <a:lnTo>
                    <a:pt x="91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5" name="Group 304"/>
            <p:cNvGrpSpPr/>
            <p:nvPr/>
          </p:nvGrpSpPr>
          <p:grpSpPr>
            <a:xfrm>
              <a:off x="5243400" y="4413240"/>
              <a:ext cx="557280" cy="245880"/>
              <a:chOff x="5243400" y="4413240"/>
              <a:chExt cx="557280" cy="245880"/>
            </a:xfrm>
          </p:grpSpPr>
          <p:sp>
            <p:nvSpPr>
              <p:cNvPr id="356" name="Oval 305"/>
              <p:cNvSpPr/>
              <p:nvPr/>
            </p:nvSpPr>
            <p:spPr>
              <a:xfrm>
                <a:off x="5330880" y="4524480"/>
                <a:ext cx="1270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" name="Oval 306"/>
              <p:cNvSpPr/>
              <p:nvPr/>
            </p:nvSpPr>
            <p:spPr>
              <a:xfrm>
                <a:off x="5243400" y="4457520"/>
                <a:ext cx="125640" cy="1256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120" bIns="42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" name="Oval 307"/>
              <p:cNvSpPr/>
              <p:nvPr/>
            </p:nvSpPr>
            <p:spPr>
              <a:xfrm>
                <a:off x="546408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" name="Oval 308"/>
              <p:cNvSpPr/>
              <p:nvPr/>
            </p:nvSpPr>
            <p:spPr>
              <a:xfrm>
                <a:off x="5597640" y="4533840"/>
                <a:ext cx="125280" cy="1252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760" bIns="417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" name="Oval 309"/>
              <p:cNvSpPr/>
              <p:nvPr/>
            </p:nvSpPr>
            <p:spPr>
              <a:xfrm>
                <a:off x="5673600" y="4433760"/>
                <a:ext cx="12708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Oval 310"/>
              <p:cNvSpPr/>
              <p:nvPr/>
            </p:nvSpPr>
            <p:spPr>
              <a:xfrm>
                <a:off x="5452920" y="4510080"/>
                <a:ext cx="125640" cy="12708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Oval 311"/>
              <p:cNvSpPr/>
              <p:nvPr/>
            </p:nvSpPr>
            <p:spPr>
              <a:xfrm>
                <a:off x="5345280" y="4413240"/>
                <a:ext cx="125280" cy="123840"/>
              </a:xfrm>
              <a:prstGeom prst="ellipse">
                <a:avLst/>
              </a:prstGeom>
              <a:solidFill>
                <a:srgbClr val="ff33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" name="Rectangle 312"/>
            <p:cNvSpPr/>
            <p:nvPr/>
          </p:nvSpPr>
          <p:spPr>
            <a:xfrm>
              <a:off x="5340240" y="351792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4" name="Rectangle 313"/>
            <p:cNvSpPr/>
            <p:nvPr/>
          </p:nvSpPr>
          <p:spPr>
            <a:xfrm>
              <a:off x="5651640" y="3386160"/>
              <a:ext cx="1062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5" name="Freeform 314"/>
            <p:cNvSpPr/>
            <p:nvPr/>
          </p:nvSpPr>
          <p:spPr>
            <a:xfrm>
              <a:off x="5626080" y="3846600"/>
              <a:ext cx="146160" cy="110880"/>
            </a:xfrm>
            <a:custGeom>
              <a:avLst/>
              <a:gdLst>
                <a:gd name="textAreaLeft" fmla="*/ 0 w 146160"/>
                <a:gd name="textAreaRight" fmla="*/ 146520 w 146160"/>
                <a:gd name="textAreaTop" fmla="*/ 0 h 110880"/>
                <a:gd name="textAreaBottom" fmla="*/ 111240 h 11088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6" name="Freeform 315"/>
            <p:cNvSpPr/>
            <p:nvPr/>
          </p:nvSpPr>
          <p:spPr>
            <a:xfrm>
              <a:off x="5483160" y="3957480"/>
              <a:ext cx="144360" cy="11268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91" h="71">
                  <a:moveTo>
                    <a:pt x="0" y="70"/>
                  </a:moveTo>
                  <a:lnTo>
                    <a:pt x="90" y="70"/>
                  </a:lnTo>
                  <a:lnTo>
                    <a:pt x="39" y="0"/>
                  </a:lnTo>
                  <a:lnTo>
                    <a:pt x="0" y="70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7" name="Line 316"/>
            <p:cNvSpPr/>
            <p:nvPr/>
          </p:nvSpPr>
          <p:spPr>
            <a:xfrm>
              <a:off x="4516560" y="3902040"/>
              <a:ext cx="46008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8" name="Group 317"/>
            <p:cNvGrpSpPr/>
            <p:nvPr/>
          </p:nvGrpSpPr>
          <p:grpSpPr>
            <a:xfrm>
              <a:off x="5459400" y="2163600"/>
              <a:ext cx="200160" cy="250920"/>
              <a:chOff x="5459400" y="2163600"/>
              <a:chExt cx="200160" cy="250920"/>
            </a:xfrm>
          </p:grpSpPr>
          <p:sp>
            <p:nvSpPr>
              <p:cNvPr id="369" name="Line 318"/>
              <p:cNvSpPr/>
              <p:nvPr/>
            </p:nvSpPr>
            <p:spPr>
              <a:xfrm>
                <a:off x="54594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0" name="Line 319"/>
              <p:cNvSpPr/>
              <p:nvPr/>
            </p:nvSpPr>
            <p:spPr>
              <a:xfrm>
                <a:off x="55594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" name="Line 320"/>
              <p:cNvSpPr/>
              <p:nvPr/>
            </p:nvSpPr>
            <p:spPr>
              <a:xfrm>
                <a:off x="565956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72" name="Group 321"/>
          <p:cNvGrpSpPr/>
          <p:nvPr/>
        </p:nvGrpSpPr>
        <p:grpSpPr>
          <a:xfrm>
            <a:off x="6103800" y="2163600"/>
            <a:ext cx="1333800" cy="4073760"/>
            <a:chOff x="6103800" y="2163600"/>
            <a:chExt cx="1333800" cy="4073760"/>
          </a:xfrm>
        </p:grpSpPr>
        <p:sp>
          <p:nvSpPr>
            <p:cNvPr id="373" name="Oval 322"/>
            <p:cNvSpPr/>
            <p:nvPr/>
          </p:nvSpPr>
          <p:spPr>
            <a:xfrm>
              <a:off x="6951600" y="6102360"/>
              <a:ext cx="12708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4" name="Oval 323"/>
            <p:cNvSpPr/>
            <p:nvPr/>
          </p:nvSpPr>
          <p:spPr>
            <a:xfrm>
              <a:off x="6864480" y="6035760"/>
              <a:ext cx="125280" cy="12672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200" bIns="43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" name="Oval 324"/>
            <p:cNvSpPr/>
            <p:nvPr/>
          </p:nvSpPr>
          <p:spPr>
            <a:xfrm>
              <a:off x="708516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" name="Oval 325"/>
            <p:cNvSpPr/>
            <p:nvPr/>
          </p:nvSpPr>
          <p:spPr>
            <a:xfrm>
              <a:off x="7218360" y="611172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" name="Oval 326"/>
            <p:cNvSpPr/>
            <p:nvPr/>
          </p:nvSpPr>
          <p:spPr>
            <a:xfrm>
              <a:off x="7294680" y="6013440"/>
              <a:ext cx="126720" cy="1238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040" bIns="41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8" name="Oval 327"/>
            <p:cNvSpPr/>
            <p:nvPr/>
          </p:nvSpPr>
          <p:spPr>
            <a:xfrm>
              <a:off x="7074000" y="6089760"/>
              <a:ext cx="12528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9" name="Oval 328"/>
            <p:cNvSpPr/>
            <p:nvPr/>
          </p:nvSpPr>
          <p:spPr>
            <a:xfrm>
              <a:off x="6966000" y="5948280"/>
              <a:ext cx="125280" cy="12564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0" name="Group 329"/>
            <p:cNvGrpSpPr/>
            <p:nvPr/>
          </p:nvGrpSpPr>
          <p:grpSpPr>
            <a:xfrm>
              <a:off x="6829560" y="4749840"/>
              <a:ext cx="608040" cy="280800"/>
              <a:chOff x="6829560" y="4749840"/>
              <a:chExt cx="608040" cy="280800"/>
            </a:xfrm>
          </p:grpSpPr>
          <p:sp>
            <p:nvSpPr>
              <p:cNvPr id="381" name="Freeform 330"/>
              <p:cNvSpPr/>
              <p:nvPr/>
            </p:nvSpPr>
            <p:spPr>
              <a:xfrm>
                <a:off x="6918480" y="48290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" name="Freeform 331"/>
              <p:cNvSpPr/>
              <p:nvPr/>
            </p:nvSpPr>
            <p:spPr>
              <a:xfrm>
                <a:off x="699624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3" name="Freeform 332"/>
              <p:cNvSpPr/>
              <p:nvPr/>
            </p:nvSpPr>
            <p:spPr>
              <a:xfrm>
                <a:off x="7139160" y="480528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4" name="Freeform 333"/>
              <p:cNvSpPr/>
              <p:nvPr/>
            </p:nvSpPr>
            <p:spPr>
              <a:xfrm>
                <a:off x="7205760" y="491796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334"/>
              <p:cNvSpPr/>
              <p:nvPr/>
            </p:nvSpPr>
            <p:spPr>
              <a:xfrm>
                <a:off x="7292880" y="4795920"/>
                <a:ext cx="144720" cy="112680"/>
              </a:xfrm>
              <a:custGeom>
                <a:avLst/>
                <a:gdLst>
                  <a:gd name="textAreaLeft" fmla="*/ 0 w 144720"/>
                  <a:gd name="textAreaRight" fmla="*/ 145080 w 14472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335"/>
              <p:cNvSpPr/>
              <p:nvPr/>
            </p:nvSpPr>
            <p:spPr>
              <a:xfrm>
                <a:off x="6996240" y="4749840"/>
                <a:ext cx="144360" cy="112680"/>
              </a:xfrm>
              <a:custGeom>
                <a:avLst/>
                <a:gdLst>
                  <a:gd name="textAreaLeft" fmla="*/ 0 w 144360"/>
                  <a:gd name="textAreaRight" fmla="*/ 144720 w 14436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91" h="71">
                    <a:moveTo>
                      <a:pt x="0" y="70"/>
                    </a:moveTo>
                    <a:lnTo>
                      <a:pt x="90" y="70"/>
                    </a:lnTo>
                    <a:lnTo>
                      <a:pt x="39" y="0"/>
                    </a:lnTo>
                    <a:lnTo>
                      <a:pt x="0" y="70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336"/>
              <p:cNvSpPr/>
              <p:nvPr/>
            </p:nvSpPr>
            <p:spPr>
              <a:xfrm>
                <a:off x="6829560" y="4881600"/>
                <a:ext cx="145800" cy="114120"/>
              </a:xfrm>
              <a:custGeom>
                <a:avLst/>
                <a:gdLst>
                  <a:gd name="textAreaLeft" fmla="*/ 0 w 145800"/>
                  <a:gd name="textAreaRight" fmla="*/ 145800 w 145800"/>
                  <a:gd name="textAreaTop" fmla="*/ 0 h 114120"/>
                  <a:gd name="textAreaBottom" fmla="*/ 114480 h 114120"/>
                </a:gdLst>
                <a:ahLst/>
                <a:rect l="textAreaLeft" t="textAreaTop" r="textAreaRight" b="textAreaBottom"/>
                <a:pathLst>
                  <a:path w="92" h="72">
                    <a:moveTo>
                      <a:pt x="0" y="71"/>
                    </a:moveTo>
                    <a:lnTo>
                      <a:pt x="91" y="71"/>
                    </a:lnTo>
                    <a:lnTo>
                      <a:pt x="39" y="0"/>
                    </a:lnTo>
                    <a:lnTo>
                      <a:pt x="0" y="71"/>
                    </a:lnTo>
                  </a:path>
                </a:pathLst>
              </a:custGeom>
              <a:solidFill>
                <a:srgbClr val="ff66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" name="Rectangle 337"/>
            <p:cNvSpPr/>
            <p:nvPr/>
          </p:nvSpPr>
          <p:spPr>
            <a:xfrm>
              <a:off x="6931080" y="395928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" name="Rectangle 338"/>
            <p:cNvSpPr/>
            <p:nvPr/>
          </p:nvSpPr>
          <p:spPr>
            <a:xfrm>
              <a:off x="7327800" y="4102200"/>
              <a:ext cx="10656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0" name="Rectangle 339"/>
            <p:cNvSpPr/>
            <p:nvPr/>
          </p:nvSpPr>
          <p:spPr>
            <a:xfrm>
              <a:off x="7302600" y="39704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1" name="Rectangle 340"/>
            <p:cNvSpPr/>
            <p:nvPr/>
          </p:nvSpPr>
          <p:spPr>
            <a:xfrm>
              <a:off x="7072200" y="410364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" name="Rectangle 341"/>
            <p:cNvSpPr/>
            <p:nvPr/>
          </p:nvSpPr>
          <p:spPr>
            <a:xfrm>
              <a:off x="6875640" y="4060800"/>
              <a:ext cx="10764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" name="Rectangle 342"/>
            <p:cNvSpPr/>
            <p:nvPr/>
          </p:nvSpPr>
          <p:spPr>
            <a:xfrm>
              <a:off x="7227720" y="4203720"/>
              <a:ext cx="108000" cy="1062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" name="Rectangle 343"/>
            <p:cNvSpPr/>
            <p:nvPr/>
          </p:nvSpPr>
          <p:spPr>
            <a:xfrm>
              <a:off x="7105680" y="3948120"/>
              <a:ext cx="10800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" name="Rectangle 344"/>
            <p:cNvSpPr/>
            <p:nvPr/>
          </p:nvSpPr>
          <p:spPr>
            <a:xfrm>
              <a:off x="6973920" y="4179960"/>
              <a:ext cx="1062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" name="Rectangle 345"/>
            <p:cNvSpPr/>
            <p:nvPr/>
          </p:nvSpPr>
          <p:spPr>
            <a:xfrm>
              <a:off x="6829560" y="4137120"/>
              <a:ext cx="107640" cy="10800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" name="Rectangle 346"/>
            <p:cNvSpPr/>
            <p:nvPr/>
          </p:nvSpPr>
          <p:spPr>
            <a:xfrm>
              <a:off x="7161120" y="4145040"/>
              <a:ext cx="108000" cy="109440"/>
            </a:xfrm>
            <a:prstGeom prst="rect">
              <a:avLst/>
            </a:prstGeom>
            <a:solidFill>
              <a:srgbClr val="00ff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" name="Freeform 347"/>
            <p:cNvSpPr/>
            <p:nvPr/>
          </p:nvSpPr>
          <p:spPr>
            <a:xfrm>
              <a:off x="7093080" y="4994280"/>
              <a:ext cx="145800" cy="111240"/>
            </a:xfrm>
            <a:custGeom>
              <a:avLst/>
              <a:gdLst>
                <a:gd name="textAreaLeft" fmla="*/ 0 w 145800"/>
                <a:gd name="textAreaRight" fmla="*/ 145800 w 14580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2" h="70">
                  <a:moveTo>
                    <a:pt x="0" y="69"/>
                  </a:moveTo>
                  <a:lnTo>
                    <a:pt x="91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" name="Freeform 348"/>
            <p:cNvSpPr/>
            <p:nvPr/>
          </p:nvSpPr>
          <p:spPr>
            <a:xfrm>
              <a:off x="7281720" y="4971960"/>
              <a:ext cx="144720" cy="111240"/>
            </a:xfrm>
            <a:custGeom>
              <a:avLst/>
              <a:gdLst>
                <a:gd name="textAreaLeft" fmla="*/ 0 w 144720"/>
                <a:gd name="textAreaRight" fmla="*/ 145080 w 1447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91" h="70">
                  <a:moveTo>
                    <a:pt x="0" y="69"/>
                  </a:moveTo>
                  <a:lnTo>
                    <a:pt x="90" y="69"/>
                  </a:lnTo>
                  <a:lnTo>
                    <a:pt x="39" y="0"/>
                  </a:lnTo>
                  <a:lnTo>
                    <a:pt x="0" y="69"/>
                  </a:lnTo>
                </a:path>
              </a:pathLst>
            </a:custGeom>
            <a:solidFill>
              <a:srgbClr val="ff66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" name="Oval 349"/>
            <p:cNvSpPr/>
            <p:nvPr/>
          </p:nvSpPr>
          <p:spPr>
            <a:xfrm>
              <a:off x="7196040" y="5935680"/>
              <a:ext cx="125640" cy="125280"/>
            </a:xfrm>
            <a:prstGeom prst="ellipse">
              <a:avLst/>
            </a:prstGeom>
            <a:solidFill>
              <a:srgbClr val="ff33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" name="Line 350"/>
            <p:cNvSpPr/>
            <p:nvPr/>
          </p:nvSpPr>
          <p:spPr>
            <a:xfrm>
              <a:off x="6103800" y="3902040"/>
              <a:ext cx="459000" cy="0"/>
            </a:xfrm>
            <a:prstGeom prst="line">
              <a:avLst/>
            </a:prstGeom>
            <a:ln w="57240">
              <a:solidFill>
                <a:srgbClr val="ffcc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" name="Group 351"/>
            <p:cNvGrpSpPr/>
            <p:nvPr/>
          </p:nvGrpSpPr>
          <p:grpSpPr>
            <a:xfrm>
              <a:off x="7026120" y="2163600"/>
              <a:ext cx="200160" cy="250920"/>
              <a:chOff x="7026120" y="2163600"/>
              <a:chExt cx="200160" cy="250920"/>
            </a:xfrm>
          </p:grpSpPr>
          <p:sp>
            <p:nvSpPr>
              <p:cNvPr id="403" name="Line 352"/>
              <p:cNvSpPr/>
              <p:nvPr/>
            </p:nvSpPr>
            <p:spPr>
              <a:xfrm>
                <a:off x="702612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4" name="Line 353"/>
              <p:cNvSpPr/>
              <p:nvPr/>
            </p:nvSpPr>
            <p:spPr>
              <a:xfrm>
                <a:off x="712620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" name="Line 354"/>
              <p:cNvSpPr/>
              <p:nvPr/>
            </p:nvSpPr>
            <p:spPr>
              <a:xfrm>
                <a:off x="7226280" y="2163600"/>
                <a:ext cx="0" cy="250920"/>
              </a:xfrm>
              <a:prstGeom prst="line">
                <a:avLst/>
              </a:prstGeom>
              <a:ln w="25560">
                <a:solidFill>
                  <a:srgbClr val="ff99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1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406" name="Rectangle 355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4"/>
          <p:cNvSpPr/>
          <p:nvPr/>
        </p:nvSpPr>
        <p:spPr>
          <a:xfrm>
            <a:off x="250920" y="476280"/>
            <a:ext cx="86421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  <a:ea typeface="굴림"/>
              </a:rPr>
              <a:t>Slide 4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  <a:ea typeface="굴림"/>
              </a:rPr>
              <a:t> Ion chromatography</a:t>
            </a:r>
            <a:r>
              <a:rPr b="0" lang="ko-KR" sz="2800" spc="-1" strike="noStrike">
                <a:solidFill>
                  <a:srgbClr val="000000"/>
                </a:solidFill>
                <a:latin typeface="HY견고딕"/>
                <a:ea typeface="HY견고딕"/>
              </a:rPr>
              <a:t>의 적용분야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08" name=""/>
          <p:cNvGraphicFramePr/>
          <p:nvPr/>
        </p:nvGraphicFramePr>
        <p:xfrm>
          <a:off x="755640" y="1844640"/>
          <a:ext cx="7632720" cy="4105440"/>
        </p:xfrm>
        <a:graphic>
          <a:graphicData uri="http://schemas.openxmlformats.org/drawingml/2006/table">
            <a:tbl>
              <a:tblPr/>
              <a:tblGrid>
                <a:gridCol w="1655640"/>
                <a:gridCol w="3432240"/>
                <a:gridCol w="2544840"/>
              </a:tblGrid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iel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pplica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nv. Pollut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Rain/River/Atmosphere/Sew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the sampl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ity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Tap/Source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, Mineral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tal/Stee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Surface treat. liquid/Cooling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scorbic acid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gricultur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ertilizer/soil/plant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Nutrients/Ions in soi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Medical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Blood/Uri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xalic acid et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smetic/Detergent/Shampo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Anions in cosmetic liqu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Electric pow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Cooling water/Condensat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mpurity 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90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Food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Liquor/Bever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Organic aci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898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aper industry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Pulp solution-treatment wat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  <a:ea typeface="굴림"/>
                        </a:rPr>
                        <a:t>Ions in paper etc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9" name="Rectangle 146"/>
          <p:cNvSpPr/>
          <p:nvPr/>
        </p:nvSpPr>
        <p:spPr>
          <a:xfrm>
            <a:off x="8459640" y="189000"/>
            <a:ext cx="61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endParaRPr b="1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8T22:06:01Z</dcterms:created>
  <dc:creator>SLC</dc:creator>
  <dc:description/>
  <dc:language>en-US</dc:language>
  <cp:lastModifiedBy>user</cp:lastModifiedBy>
  <cp:lastPrinted>2001-03-27T16:48:32Z</cp:lastPrinted>
  <dcterms:modified xsi:type="dcterms:W3CDTF">2013-05-06T03:57:19Z</dcterms:modified>
  <cp:revision>200</cp:revision>
  <dc:subject/>
  <dc:title>ATOMIC ABSORPTION SPECTROSCOPY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umd.umich.edu/casl/natsci/slc</vt:lpwstr>
  </property>
  <property fmtid="{D5CDD505-2E9C-101B-9397-08002B2CF9AE}" pid="9" name="LinkColor">
    <vt:r8>16711782</vt:r8>
  </property>
  <property fmtid="{D5CDD505-2E9C-101B-9397-08002B2CF9AE}" pid="10" name="MailAddress">
    <vt:lpwstr>rdusen@umd.umich.edu</vt:lpwstr>
  </property>
  <property fmtid="{D5CDD505-2E9C-101B-9397-08002B2CF9AE}" pid="11" name="NavBtnPos">
    <vt:r8>4</vt:r8>
  </property>
  <property fmtid="{D5CDD505-2E9C-101B-9397-08002B2CF9AE}" pid="12" name="Other">
    <vt:lpwstr>GC module</vt:lpwstr>
  </property>
  <property fmtid="{D5CDD505-2E9C-101B-9397-08002B2CF9AE}" pid="13" name="OutputDir">
    <vt:lpwstr>C:\WINDOWS\Desktop\GC module 3-01\New GC 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